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C2EE-A141-42E1-AEA9-A07C24AB2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A4B-BFCA-4EF0-BD33-186AB18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C7C-5BAF-4019-93ED-A27CBE20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41F-2051-4415-918F-06A39FF8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8AA-9020-46A5-966D-645C7AD3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79E-041C-4173-B9FC-771BDFAC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7E0-626B-4F1B-A081-279ADE23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B14-860B-49CC-88C0-BF5E8A39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1FD1-76C2-4228-AAD1-EB9E3B94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5D6-E9E7-4925-9FC5-B3775F7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AF89-2F5F-43BD-8B89-25AC3B5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E341-D47C-448A-8584-5228CF2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3240-B7B2-4CE7-888A-D34EDDB10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1200" y="1341360"/>
            <a:ext cx="82976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éminaire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déc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 DERUM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tion pédagogique pilotée par l’Objec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7960" y="1085760"/>
            <a:ext cx="557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T souffre d’une image parfois « dévalorisante »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èv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 fai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’aill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 de spécificit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en identifiée par les éc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240" y="326880"/>
            <a:ext cx="40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tuation actuelle de la filière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3645000"/>
          <a:ext cx="46180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45000"/>
                    <a:ext cx="46180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716360" y="3670200"/>
          <a:ext cx="4427640" cy="2890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3670200"/>
                    <a:ext cx="44276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532800" y="3213000"/>
            <a:ext cx="77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olution du nombre de places offertes et du nombre d’entr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9760" y="620640"/>
            <a:ext cx="579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e du besoin du produit « filière de formation PT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55800" y="1609560"/>
            <a:ext cx="1512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16520" y="1609560"/>
            <a:ext cx="151128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ud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én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6520" y="2546280"/>
            <a:ext cx="194472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ière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55800" y="3697200"/>
            <a:ext cx="3456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er aux étudiants 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ét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oi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écessaires a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ingéni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à le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è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03040" y="1177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qu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06320" y="1177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quoi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30520" y="50133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quel bu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92520" y="2257560"/>
            <a:ext cx="1584360" cy="372960"/>
          </a:xfrm>
          <a:custGeom>
            <a:avLst/>
            <a:gdLst/>
            <a:ahLst/>
            <a:rect l="l" t="t" r="r" b="b"/>
            <a:pathLst>
              <a:path w="907" h="235">
                <a:moveTo>
                  <a:pt x="0" y="46"/>
                </a:moveTo>
                <a:cubicBezTo>
                  <a:pt x="151" y="140"/>
                  <a:pt x="303" y="235"/>
                  <a:pt x="454" y="227"/>
                </a:cubicBezTo>
                <a:cubicBezTo>
                  <a:pt x="605" y="219"/>
                  <a:pt x="824" y="30"/>
                  <a:pt x="907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43440" y="2330280"/>
            <a:ext cx="576000" cy="1366920"/>
          </a:xfrm>
          <a:custGeom>
            <a:avLst/>
            <a:gdLst/>
            <a:ahLst/>
            <a:rect l="l" t="t" r="r" b="b"/>
            <a:pathLst>
              <a:path w="363" h="861">
                <a:moveTo>
                  <a:pt x="363" y="0"/>
                </a:moveTo>
                <a:cubicBezTo>
                  <a:pt x="257" y="154"/>
                  <a:pt x="152" y="309"/>
                  <a:pt x="91" y="453"/>
                </a:cubicBezTo>
                <a:cubicBezTo>
                  <a:pt x="30" y="597"/>
                  <a:pt x="7" y="800"/>
                  <a:pt x="0" y="861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340000" y="981000"/>
            <a:ext cx="4104720" cy="2808360"/>
            <a:chOff x="2340000" y="981000"/>
            <a:chExt cx="4104720" cy="2808360"/>
          </a:xfrm>
        </p:grpSpPr>
        <p:sp>
          <p:nvSpPr>
            <p:cNvPr id="60" name=""/>
            <p:cNvSpPr/>
            <p:nvPr/>
          </p:nvSpPr>
          <p:spPr>
            <a:xfrm>
              <a:off x="3347640" y="1916280"/>
              <a:ext cx="2160360" cy="863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ière 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932000" y="981000"/>
              <a:ext cx="15127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co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11280" y="981000"/>
              <a:ext cx="15109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udi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géni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40000" y="3068640"/>
              <a:ext cx="15127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co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32000" y="3068640"/>
              <a:ext cx="1510920" cy="72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ycé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3640" y="1628640"/>
              <a:ext cx="1655640" cy="432000"/>
            </a:xfrm>
            <a:custGeom>
              <a:avLst/>
              <a:gdLst/>
              <a:ahLst/>
              <a:rect l="l" t="t" r="r" b="b"/>
              <a:pathLst>
                <a:path w="998" h="272">
                  <a:moveTo>
                    <a:pt x="0" y="0"/>
                  </a:moveTo>
                  <a:cubicBezTo>
                    <a:pt x="166" y="136"/>
                    <a:pt x="333" y="272"/>
                    <a:pt x="499" y="272"/>
                  </a:cubicBezTo>
                  <a:cubicBezTo>
                    <a:pt x="665" y="272"/>
                    <a:pt x="831" y="136"/>
                    <a:pt x="998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5219640" y="1700280"/>
              <a:ext cx="215280" cy="360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76720" y="2708280"/>
              <a:ext cx="215280" cy="433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492000" y="2708280"/>
              <a:ext cx="286920" cy="433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81080" y="1484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65800" y="1773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1440" y="26370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37080" y="27813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68360" y="4581360"/>
            <a:ext cx="7940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P1 : Donner aux étudiants l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éten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oi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écessaires a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 ingéni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t à leu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iè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1 : S’adapter à la sélection par conco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2 : Attirer les bons candidats des lyc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3 : Travailler avec les écoles pour suivre leur dynam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11280" y="78408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erview des écoles à propos de la filière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coles justifient le nombre de place off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e rapport avec le nombre d’inscr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le niveau du dernier entré dans la pro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lèves de PT réussissent normalement dans toutes les éc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écoles apprécient le sens pratique des PT comme des PSI mais regrettent leurs lacunes en mathématiques et physiques contrairement aux P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ENSAM souligne fortement qu’il y a peu de bons candidats en PT, par suite des difficultés de recrutement de la fil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98160" y="404640"/>
            <a:ext cx="502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bjectifs de formation en bac+1 – bac+2 en 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4120" y="1203480"/>
            <a:ext cx="329400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pétences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igueu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ynthè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utonom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réativ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ceptual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élis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périment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verture d’espr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avoirs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alculs pour modélis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énomènes phys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èles associé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lutions techniqu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979640" y="1700280"/>
            <a:ext cx="6696000" cy="4321080"/>
            <a:chOff x="1979640" y="1700280"/>
            <a:chExt cx="6696000" cy="4321080"/>
          </a:xfrm>
        </p:grpSpPr>
        <p:sp>
          <p:nvSpPr>
            <p:cNvPr id="78" name=""/>
            <p:cNvSpPr/>
            <p:nvPr/>
          </p:nvSpPr>
          <p:spPr>
            <a:xfrm>
              <a:off x="1979640" y="1700280"/>
              <a:ext cx="66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24000" y="1989000"/>
              <a:ext cx="64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71640" y="2276280"/>
              <a:ext cx="583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40000" y="2565360"/>
              <a:ext cx="626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95640" y="2852640"/>
              <a:ext cx="640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84360" y="314172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87640" y="342900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84360" y="371772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843280" y="4003560"/>
              <a:ext cx="576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87640" y="429264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635280" y="5157720"/>
              <a:ext cx="504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635280" y="5445000"/>
              <a:ext cx="5040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87640" y="5732280"/>
              <a:ext cx="568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348000" y="602136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213440" y="981000"/>
            <a:ext cx="688320" cy="4319640"/>
            <a:chOff x="4213440" y="981000"/>
            <a:chExt cx="688320" cy="4319640"/>
          </a:xfrm>
        </p:grpSpPr>
        <p:sp>
          <p:nvSpPr>
            <p:cNvPr id="93" name=""/>
            <p:cNvSpPr/>
            <p:nvPr/>
          </p:nvSpPr>
          <p:spPr>
            <a:xfrm>
              <a:off x="4213440" y="98100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27640" y="1557360"/>
              <a:ext cx="288720" cy="287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00720" y="2492280"/>
              <a:ext cx="14256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27640" y="1846080"/>
              <a:ext cx="288720" cy="287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27640" y="2997000"/>
              <a:ext cx="288720" cy="287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27640" y="3286080"/>
              <a:ext cx="288720" cy="287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27640" y="5013360"/>
              <a:ext cx="288720" cy="2872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70160" y="836640"/>
            <a:ext cx="1055520" cy="3528720"/>
            <a:chOff x="7670160" y="836640"/>
            <a:chExt cx="1055520" cy="3528720"/>
          </a:xfrm>
        </p:grpSpPr>
        <p:sp>
          <p:nvSpPr>
            <p:cNvPr id="101" name=""/>
            <p:cNvSpPr/>
            <p:nvPr/>
          </p:nvSpPr>
          <p:spPr>
            <a:xfrm>
              <a:off x="7670160" y="836640"/>
              <a:ext cx="105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nç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ng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01080" y="2781360"/>
              <a:ext cx="14292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01080" y="2205000"/>
              <a:ext cx="14292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1080" y="4221000"/>
              <a:ext cx="14292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6694200" y="981000"/>
            <a:ext cx="397080" cy="5184720"/>
            <a:chOff x="6694200" y="981000"/>
            <a:chExt cx="397080" cy="5184720"/>
          </a:xfrm>
        </p:grpSpPr>
        <p:sp>
          <p:nvSpPr>
            <p:cNvPr id="106" name=""/>
            <p:cNvSpPr/>
            <p:nvPr/>
          </p:nvSpPr>
          <p:spPr>
            <a:xfrm>
              <a:off x="6694200" y="98100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32720" y="2708280"/>
              <a:ext cx="287280" cy="28872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04000" y="220500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32720" y="5877000"/>
              <a:ext cx="287280" cy="28872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04000" y="393372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04000" y="508464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32720" y="1844640"/>
              <a:ext cx="287280" cy="28872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32720" y="2421000"/>
              <a:ext cx="287280" cy="28728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32720" y="3573360"/>
              <a:ext cx="287280" cy="28728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04000" y="422100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04000" y="537372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04000" y="5661000"/>
              <a:ext cx="142920" cy="144360"/>
            </a:xfrm>
            <a:prstGeom prst="ellipse">
              <a:avLst/>
            </a:prstGeom>
            <a:solidFill>
              <a:srgbClr val="f32b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7002360" y="1720800"/>
            <a:ext cx="2071800" cy="4381560"/>
            <a:chOff x="7002360" y="1720800"/>
            <a:chExt cx="2071800" cy="4381560"/>
          </a:xfrm>
        </p:grpSpPr>
        <p:sp>
          <p:nvSpPr>
            <p:cNvPr id="119" name=""/>
            <p:cNvSpPr/>
            <p:nvPr/>
          </p:nvSpPr>
          <p:spPr>
            <a:xfrm>
              <a:off x="7003800" y="1720800"/>
              <a:ext cx="207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Approche systè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2360" y="229716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1080" y="255888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TP/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1440" y="3429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021440" y="37177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21080" y="40050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TP/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2440" y="4868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Cours/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12440" y="5157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Cours/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2440" y="54450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Cours/T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2080" y="573408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b1109"/>
                  </a:solidFill>
                  <a:latin typeface="Arial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977840" y="6234120"/>
            <a:ext cx="503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oi servent les SI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5151240" y="981000"/>
            <a:ext cx="1118160" cy="4896000"/>
            <a:chOff x="5151240" y="981000"/>
            <a:chExt cx="1118160" cy="4896000"/>
          </a:xfrm>
        </p:grpSpPr>
        <p:sp>
          <p:nvSpPr>
            <p:cNvPr id="131" name=""/>
            <p:cNvSpPr/>
            <p:nvPr/>
          </p:nvSpPr>
          <p:spPr>
            <a:xfrm>
              <a:off x="5151240" y="98100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ys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08720" y="2998800"/>
              <a:ext cx="287280" cy="285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0000" y="1628640"/>
              <a:ext cx="142920" cy="1447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08720" y="5303880"/>
              <a:ext cx="287280" cy="285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8720" y="5591160"/>
              <a:ext cx="287280" cy="285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0000" y="3932280"/>
              <a:ext cx="14292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0000" y="5084640"/>
              <a:ext cx="142920" cy="14472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80000" y="3645000"/>
              <a:ext cx="142920" cy="14436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8720" y="4149720"/>
              <a:ext cx="287280" cy="285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71640" y="1916280"/>
            <a:ext cx="7435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flexion sur les enseignements en SII doit être une occasion privilégiée d’échanger avec les éco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organisation pédagogique peut se bâtir solidement sur les objectifs globaux de la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11:44:13Z</dcterms:created>
  <dc:creator>Marc DERUMAUX</dc:creator>
  <dc:description/>
  <dc:language>en-US</dc:language>
  <cp:lastModifiedBy>Marc DERUMAUX</cp:lastModifiedBy>
  <dcterms:modified xsi:type="dcterms:W3CDTF">2006-12-15T13:00:27Z</dcterms:modified>
  <cp:revision>11</cp:revision>
  <dc:subject/>
  <dc:title>Diapositive 1</dc:title>
</cp:coreProperties>
</file>