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3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media/image56.wmf" ContentType="image/x-wmf"/>
  <Override PartName="/ppt/media/image58.jpeg" ContentType="image/jpeg"/>
  <Override PartName="/ppt/media/image73.png" ContentType="image/png"/>
  <Override PartName="/ppt/media/image53.png" ContentType="image/png"/>
  <Override PartName="/ppt/media/image52.png" ContentType="image/png"/>
  <Override PartName="/ppt/media/image46.jpeg" ContentType="image/jpeg"/>
  <Override PartName="/ppt/media/image15.wmf" ContentType="image/x-wmf"/>
  <Override PartName="/ppt/media/image3.wmf" ContentType="image/x-wmf"/>
  <Override PartName="/ppt/media/image55.png" ContentType="image/png"/>
  <Override PartName="/ppt/media/image12.wmf" ContentType="image/x-wmf"/>
  <Override PartName="/ppt/media/image45.jpeg" ContentType="image/jpeg"/>
  <Override PartName="/ppt/media/image44.png" ContentType="image/png"/>
  <Override PartName="/ppt/media/image75.jpeg" ContentType="image/jpeg"/>
  <Override PartName="/ppt/media/image57.jpeg" ContentType="image/jpeg"/>
  <Override PartName="/ppt/media/image43.png" ContentType="image/png"/>
  <Override PartName="/ppt/media/image42.wmf" ContentType="image/x-wmf"/>
  <Override PartName="/ppt/media/image82.jpeg" ContentType="image/jpeg"/>
  <Override PartName="/ppt/media/image41.wmf" ContentType="image/x-wmf"/>
  <Override PartName="/ppt/media/image62.jpeg" ContentType="image/jpeg"/>
  <Override PartName="/ppt/media/image79.jpeg" ContentType="image/jpeg"/>
  <Override PartName="/ppt/media/image40.wmf" ContentType="image/x-wmf"/>
  <Override PartName="/ppt/media/image59.jpeg" ContentType="image/jpeg"/>
  <Override PartName="/ppt/media/image35.png" ContentType="image/png"/>
  <Override PartName="/ppt/media/image32.jpeg" ContentType="image/jpeg"/>
  <Override PartName="/ppt/media/image38.wmf" ContentType="image/x-wmf"/>
  <Override PartName="/ppt/media/image47.wmf" ContentType="image/x-wmf"/>
  <Override PartName="/ppt/media/image31.jpeg" ContentType="image/jpeg"/>
  <Override PartName="/ppt/media/image93.wmf" ContentType="image/x-wmf"/>
  <Override PartName="/ppt/media/image39.wmf" ContentType="image/x-wmf"/>
  <Override PartName="/ppt/media/image9.wmf" ContentType="image/x-wmf"/>
  <Override PartName="/ppt/media/image86.wmf" ContentType="image/x-wmf"/>
  <Override PartName="/ppt/media/image8.wmf" ContentType="image/x-wmf"/>
  <Override PartName="/ppt/media/image85.wmf" ContentType="image/x-wmf"/>
  <Override PartName="/ppt/media/image13.png" ContentType="image/png"/>
  <Override PartName="/ppt/media/image1.png" ContentType="image/png"/>
  <Override PartName="/ppt/media/image51.png" ContentType="image/png"/>
  <Override PartName="/ppt/media/image49.wmf" ContentType="image/x-wmf"/>
  <Override PartName="/ppt/media/image22.png" ContentType="image/png"/>
  <Override PartName="/ppt/media/image28.png" ContentType="image/png"/>
  <Override PartName="/ppt/media/image64.jpeg" ContentType="image/jpeg"/>
  <Override PartName="/ppt/media/image61.jpeg" ContentType="image/jpeg"/>
  <Override PartName="/ppt/media/image63.jpeg" ContentType="image/jpeg"/>
  <Override PartName="/ppt/media/image65.jpeg" ContentType="image/jpeg"/>
  <Override PartName="/ppt/media/image21.png" ContentType="image/png"/>
  <Override PartName="/ppt/media/image67.jpeg" ContentType="image/jpeg"/>
  <Override PartName="/ppt/media/image91.wmf" ContentType="image/x-wmf"/>
  <Override PartName="/ppt/media/image88.png" ContentType="image/png"/>
  <Override PartName="/ppt/media/image78.png" ContentType="image/png"/>
  <Override PartName="/ppt/media/image69.jpeg" ContentType="image/jpeg"/>
  <Override PartName="/ppt/media/image89.png" ContentType="image/png"/>
  <Override PartName="/ppt/media/image92.wmf" ContentType="image/x-wmf"/>
  <Override PartName="/ppt/media/image24.wmf" ContentType="image/x-wmf"/>
  <Override PartName="/ppt/media/image96.wmf" ContentType="image/x-wmf"/>
  <Override PartName="/ppt/media/image71.jpeg" ContentType="image/jpeg"/>
  <Override PartName="/ppt/media/image94.wmf" ContentType="image/x-wmf"/>
  <Override PartName="/ppt/media/image14.jpeg" ContentType="image/jpeg"/>
  <Override PartName="/ppt/media/image26.png" ContentType="image/png"/>
  <Override PartName="/ppt/media/image83.jpeg" ContentType="image/jpeg"/>
  <Override PartName="/ppt/media/image72.jpeg" ContentType="image/jpeg"/>
  <Override PartName="/ppt/media/image95.wmf" ContentType="image/x-wmf"/>
  <Override PartName="/ppt/media/image70.jpeg" ContentType="image/jpeg"/>
  <Override PartName="/ppt/media/image77.jpeg" ContentType="image/jpeg"/>
  <Override PartName="/ppt/media/image60.jpeg" ContentType="image/jpeg"/>
  <Override PartName="/ppt/media/image33.wmf" ContentType="image/x-wmf"/>
  <Override PartName="/ppt/media/image81.jpeg" ContentType="image/jpeg"/>
  <Override PartName="/ppt/media/image84.jpeg" ContentType="image/jpeg"/>
  <Override PartName="/ppt/media/image23.wmf" ContentType="image/x-wmf"/>
  <Override PartName="/ppt/media/image80.jpeg" ContentType="image/jpeg"/>
  <Override PartName="/ppt/media/image74.jpeg" ContentType="image/jpeg"/>
  <Override PartName="/ppt/media/image20.png" ContentType="image/png"/>
  <Override PartName="/ppt/media/image2.jpeg" ContentType="image/jpeg"/>
  <Override PartName="/ppt/media/image16.jpeg" ContentType="image/jpeg"/>
  <Override PartName="/ppt/media/image5.wmf" ContentType="image/x-wmf"/>
  <Override PartName="/ppt/media/image48.wmf" ContentType="image/x-wmf"/>
  <Override PartName="/ppt/media/image50.png" ContentType="image/png"/>
  <Override PartName="/ppt/media/image90.wmf" ContentType="image/x-wmf"/>
  <Override PartName="/ppt/media/image25.wmf" ContentType="image/x-wmf"/>
  <Override PartName="/ppt/media/image66.jpeg" ContentType="image/jpeg"/>
  <Override PartName="/ppt/media/image4.wmf" ContentType="image/x-wmf"/>
  <Override PartName="/ppt/media/image34.wmf" ContentType="image/x-wmf"/>
  <Override PartName="/ppt/media/image10.png" ContentType="image/png"/>
  <Override PartName="/ppt/media/image36.wmf" ContentType="image/x-wmf"/>
  <Override PartName="/ppt/media/image68.jpeg" ContentType="image/jpeg"/>
  <Override PartName="/ppt/media/image87.wmf" ContentType="image/x-wmf"/>
  <Override PartName="/ppt/media/image17.jpeg" ContentType="image/jpeg"/>
  <Override PartName="/ppt/media/image54.png" ContentType="image/png"/>
  <Override PartName="/ppt/media/image11.wmf" ContentType="image/x-wmf"/>
  <Override PartName="/ppt/media/image76.jpeg" ContentType="image/jpeg"/>
  <Override PartName="/ppt/media/image19.wmf" ContentType="image/x-wmf"/>
  <Override PartName="/ppt/media/image7.wmf" ContentType="image/x-wmf"/>
  <Override PartName="/ppt/media/image6.wmf" ContentType="image/x-wmf"/>
  <Override PartName="/ppt/media/image18.wmf" ContentType="image/x-wmf"/>
  <Override PartName="/ppt/media/image30.jpeg" ContentType="image/jpeg"/>
  <Override PartName="/ppt/media/image29.jpeg" ContentType="image/jpeg"/>
  <Override PartName="/ppt/media/image37.wmf" ContentType="image/x-wmf"/>
  <Override PartName="/ppt/media/image2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2431-5083-4ACB-ABE1-744E641D6D3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49DF3-690C-4B07-AE20-A64290677AC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216080" y="507960"/>
            <a:ext cx="4735440" cy="3551400"/>
          </a:xfrm>
          <a:prstGeom prst="rect">
            <a:avLst/>
          </a:prstGeom>
          <a:ln w="0">
            <a:noFill/>
          </a:ln>
        </p:spPr>
      </p:sp>
      <p:sp>
        <p:nvSpPr>
          <p:cNvPr id="1204" name=""/>
          <p:cNvSpPr/>
          <p:nvPr/>
        </p:nvSpPr>
        <p:spPr>
          <a:xfrm>
            <a:off x="838080" y="4348080"/>
            <a:ext cx="548640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Le schéma cinématique minimal du robot ERICC 3 montre que c ’est un robot vertébral cinq axes équipé de pince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On donne quelques caractéristiques globale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D37F2-D83A-415E-BDE6-7D3FF75A6FE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1"/>
          <p:cNvSpPr>
            <a:spLocks noGrp="1"/>
          </p:cNvSpPr>
          <p:nvPr>
            <p:ph type="sldImg"/>
          </p:nvPr>
        </p:nvSpPr>
        <p:spPr>
          <a:xfrm>
            <a:off x="1216080" y="507960"/>
            <a:ext cx="4735440" cy="3551400"/>
          </a:xfrm>
          <a:prstGeom prst="rect">
            <a:avLst/>
          </a:prstGeom>
          <a:ln w="0">
            <a:noFill/>
          </a:ln>
        </p:spPr>
      </p:sp>
      <p:sp>
        <p:nvSpPr>
          <p:cNvPr id="1210" name=""/>
          <p:cNvSpPr/>
          <p:nvPr/>
        </p:nvSpPr>
        <p:spPr>
          <a:xfrm>
            <a:off x="838080" y="4348080"/>
            <a:ext cx="5486400" cy="41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Nous focaliserons notre attention sur la conception de la partie opérative de l ’axe de lacet, c ’est à dire sur la définition de l ’entraînement de la chaise par rapport au soc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D3794-F6E5-4A8C-A12A-0C4B7FBB16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1"/>
          <p:cNvSpPr>
            <a:spLocks noGrp="1"/>
          </p:cNvSpPr>
          <p:nvPr>
            <p:ph type="sldImg"/>
          </p:nvPr>
        </p:nvSpPr>
        <p:spPr>
          <a:xfrm>
            <a:off x="1216080" y="507960"/>
            <a:ext cx="4735440" cy="3551400"/>
          </a:xfrm>
          <a:prstGeom prst="rect">
            <a:avLst/>
          </a:prstGeom>
          <a:ln w="0">
            <a:noFill/>
          </a:ln>
        </p:spPr>
      </p:sp>
      <p:sp>
        <p:nvSpPr>
          <p:cNvPr id="1216" name=""/>
          <p:cNvSpPr/>
          <p:nvPr/>
        </p:nvSpPr>
        <p:spPr>
          <a:xfrm>
            <a:off x="838080" y="4494240"/>
            <a:ext cx="548964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Il existe une logique de création ou de conception qui se matérialise à partir de l ’analyse fonctionnelle, maintenant normalisée, à l ’aide de différents outils que sont le Cahier des Charges Fonctionnel, le FAST, etc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Notre propos, aujourd’hui, n ’est pas de disserter sur tout ce qui intervient en amont du tracé d ’une maquette numérique à l ’aide de l ’outil CAO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En conséquence notre analyse fonctionnelle est outrageusement simplifiée voire caricatura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Le Fast ici décrit sommairement les fonctions techniques et les solutions globales associées choisies après une analyse fonctionnell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66A30-1F59-42DE-9F8F-BEA0BC3F808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PlaceHolder 1"/>
          <p:cNvSpPr>
            <a:spLocks noGrp="1"/>
          </p:cNvSpPr>
          <p:nvPr>
            <p:ph type="sldImg"/>
          </p:nvPr>
        </p:nvSpPr>
        <p:spPr>
          <a:xfrm>
            <a:off x="1216080" y="507960"/>
            <a:ext cx="4735440" cy="3551400"/>
          </a:xfrm>
          <a:prstGeom prst="rect">
            <a:avLst/>
          </a:prstGeom>
          <a:ln w="0">
            <a:noFill/>
          </a:ln>
        </p:spPr>
      </p:sp>
      <p:sp>
        <p:nvSpPr>
          <p:cNvPr id="1222" name=""/>
          <p:cNvSpPr/>
          <p:nvPr/>
        </p:nvSpPr>
        <p:spPr>
          <a:xfrm>
            <a:off x="838080" y="4494240"/>
            <a:ext cx="5489640" cy="38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L ’ensemble motoréducteur est donné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Son éclaté précise sa constitution. En particulier le boîtier excentrique permet le réglage manuel de la tension de la courroie à l ’aide d ’une broche puis le boîtier est immobilisé par la bride sur la chaise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BBEB-F95E-4E9F-8901-B2194F0E91CF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PlaceHolder 1"/>
          <p:cNvSpPr>
            <a:spLocks noGrp="1"/>
          </p:cNvSpPr>
          <p:nvPr>
            <p:ph type="sldImg"/>
          </p:nvPr>
        </p:nvSpPr>
        <p:spPr>
          <a:xfrm>
            <a:off x="1216080" y="507960"/>
            <a:ext cx="4735440" cy="3551400"/>
          </a:xfrm>
          <a:prstGeom prst="rect">
            <a:avLst/>
          </a:prstGeom>
          <a:ln w="0">
            <a:noFill/>
          </a:ln>
        </p:spPr>
      </p:sp>
      <p:sp>
        <p:nvSpPr>
          <p:cNvPr id="1228" name=""/>
          <p:cNvSpPr/>
          <p:nvPr/>
        </p:nvSpPr>
        <p:spPr>
          <a:xfrm>
            <a:off x="838080" y="4491000"/>
            <a:ext cx="548964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Au fil de la réflexion, et en se posant les bonnes questions 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quels roulements choisir 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montage en X ou en O, quelles bagues monter serrées 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dans quel ordre effectuer le montage des différentes pièces ?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etc;  l’analyse fonctionnelle se concrétise par diverses solutions et dispositions constructives schématisées. Il faut les analyser et les évaluer à la lumière du CdCF. Puis il faut faire un choix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Nous pensons que l’ultime étape avant de se placer sous SW est, sans doute, au moins un schéma technologique ou de construction de ce que l ’on veut représenter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Ce schéma contient l ’idée d ’une construction modulaire :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-s-e 1 : boîtier + arbre + roulements (liaison pivot du lacet)+poulie fixe ; ce sous-ensemble est relié au socle et à la chais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-s-e 2 : motoréducteur lié complètement à la chaise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Ces sous-ensembles seront éventuellement adaptables aux autres axes du robot moyennant quelques modification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770040"/>
                <a:tab algn="l" pos="1539720"/>
                <a:tab algn="l" pos="2309760"/>
                <a:tab algn="l" pos="3079800"/>
                <a:tab algn="l" pos="3849840"/>
                <a:tab algn="l" pos="4619520"/>
                <a:tab algn="l" pos="5389560"/>
                <a:tab algn="l" pos="6159600"/>
                <a:tab algn="l" pos="6929280"/>
                <a:tab algn="l" pos="7699320"/>
                <a:tab algn="l" pos="8469360"/>
                <a:tab algn="l" pos="9239400"/>
                <a:tab algn="l" pos="10009080"/>
                <a:tab algn="l" pos="10779120"/>
              </a:tabLst>
            </a:pP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ABD5-7D50-408E-9494-CA79EF5D54EA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PlaceHolder 1"/>
          <p:cNvSpPr>
            <a:spLocks noGrp="1"/>
          </p:cNvSpPr>
          <p:nvPr>
            <p:ph type="sldImg"/>
          </p:nvPr>
        </p:nvSpPr>
        <p:spPr>
          <a:xfrm>
            <a:off x="1216080" y="507960"/>
            <a:ext cx="4735440" cy="3551400"/>
          </a:xfrm>
          <a:prstGeom prst="rect">
            <a:avLst/>
          </a:prstGeom>
          <a:ln w="0">
            <a:noFill/>
          </a:ln>
        </p:spPr>
      </p:sp>
      <p:sp>
        <p:nvSpPr>
          <p:cNvPr id="1234" name=""/>
          <p:cNvSpPr/>
          <p:nvPr/>
        </p:nvSpPr>
        <p:spPr>
          <a:xfrm>
            <a:off x="838080" y="4441680"/>
            <a:ext cx="5410440" cy="40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Dans une deuxième étape il s ’agit de tracer les esquisses des différentes pièces à concevoir en s ’appuyant sur les éléments donné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Bien sûr pour tracer ces esquisses il faut savoir, comme sur la table à dessin, ce que nous voulons représenter. Selon les cas nous partirons soit d’un dessin à main levée ou soit directement du schéma technologique.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Sur ces esquisses n ’apparaîtront que les traits représentatifs des surfaces fonctionnelles des liaisons et des surfaces limites de la matière des pièces (sans aucune préoccupation du procédé d ’obtention). Les esquisses seront aussi contraintes que possible afin d ’obtenir un modèle robuste qui permettra ultérieurement les modifications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1200" spc="-1" strike="noStrike">
                <a:solidFill>
                  <a:srgbClr val="292929"/>
                </a:solidFill>
                <a:latin typeface="Arial"/>
              </a:rPr>
              <a:t>D  ’aucuns pensent que la représentation 2D est morte, pas complètement car il faut toutefois être capable de dessiner à l ’écran voire à main levée l ’esquisse de l ’ensemble à concevoir. Mais à terme la mise en plan traditionnelle disparaîtra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63AB-48C1-4F00-8984-4EDF34CBCFA2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1"/>
          <p:cNvSpPr>
            <a:spLocks noGrp="1"/>
          </p:cNvSpPr>
          <p:nvPr>
            <p:ph type="sldImg"/>
          </p:nvPr>
        </p:nvSpPr>
        <p:spPr>
          <a:xfrm>
            <a:off x="1216080" y="507960"/>
            <a:ext cx="4735440" cy="3551400"/>
          </a:xfrm>
          <a:prstGeom prst="rect">
            <a:avLst/>
          </a:prstGeom>
          <a:ln w="0">
            <a:noFill/>
          </a:ln>
        </p:spPr>
      </p:sp>
      <p:sp>
        <p:nvSpPr>
          <p:cNvPr id="1240" name="PlaceHolder 2"/>
          <p:cNvSpPr>
            <a:spLocks noGrp="1"/>
          </p:cNvSpPr>
          <p:nvPr>
            <p:ph type="body"/>
          </p:nvPr>
        </p:nvSpPr>
        <p:spPr>
          <a:xfrm>
            <a:off x="838080" y="4493880"/>
            <a:ext cx="5562720" cy="297036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euxième grande phase de l ’avant-projet :La démarche de modélisation d ’une pièce ou comment passer du squelette volumique fonctionnel à la pièce fin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e squelette volumique permet d ’obtenir le volume matière fonctionnel de base de chacune des piè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 l ’aide de modules de calcul : rdm, éléments finis, on obtiendra, après modifications éventuelles des esquisses de base, la pièce fonctionnelle optimisée. Là encore les formes de pièce doivent être simples (pas simplistes 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Il faut ensuite définir précisément les pièces finies c ’est à dire définir leur préforme et les différents usinages éventuels toujours en s ’appuyant sur des modules de calcul, des modules métiers et en compte des contraintes imposés par la relation produit-procédé-matéria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2CC2-B8EC-439B-94EA-209DAD974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F845-0780-4652-9409-B9BAD2EC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EED0-492D-47ED-8E8D-24667CD7B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39A7-926D-4D0A-9A36-AAC1D8F8C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63640" y="364320"/>
            <a:ext cx="72741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2A2F-F937-40F1-ADAC-10246463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95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9720" y="198108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4896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95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9720" y="4130640"/>
            <a:ext cx="2466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718C-2E40-4B6A-82EA-4661136D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5B1C-38FA-419D-9CB7-3FAB44B87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0587-82B3-441F-9745-4CE847C8D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63640" y="364320"/>
            <a:ext cx="727416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9A87-1573-467D-B2A7-9287694C1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F56E-DBDB-4CCA-83C4-885D828F4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74760" y="413064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D4F-E06A-4FE6-A575-40B6CA62A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489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4760" y="1981080"/>
            <a:ext cx="3738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48960" y="4130640"/>
            <a:ext cx="766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40FD-1E4F-43E1-BAED-7B0B3ECE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92360" y="369720"/>
            <a:ext cx="7451640" cy="576360"/>
          </a:xfrm>
          <a:prstGeom prst="rect">
            <a:avLst/>
          </a:prstGeom>
          <a:gradFill rotWithShape="0">
            <a:gsLst>
              <a:gs pos="0">
                <a:srgbClr val="0000aa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48960" y="1981080"/>
            <a:ext cx="7661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spcBef>
                <a:spcPts val="7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879840" indent="-434880"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280880" indent="-398880">
              <a:spcBef>
                <a:spcPts val="7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64280" indent="-381960">
              <a:spcBef>
                <a:spcPts val="799"/>
              </a:spcBef>
              <a:buClr>
                <a:srgbClr val="000099"/>
              </a:buClr>
              <a:buSzPct val="7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49120" indent="-383400">
              <a:spcBef>
                <a:spcPts val="7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49120" indent="-383400">
              <a:spcBef>
                <a:spcPts val="7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900000" y="6237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238880" y="6605280"/>
            <a:ext cx="19051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2A055-D858-4721-BC9C-60AF0AD39E1F}" type="slidenum"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34920" y="15840"/>
            <a:ext cx="2015640" cy="1972800"/>
            <a:chOff x="34920" y="15840"/>
            <a:chExt cx="2015640" cy="1972800"/>
          </a:xfrm>
        </p:grpSpPr>
        <p:sp>
          <p:nvSpPr>
            <p:cNvPr id="6" name=""/>
            <p:cNvSpPr/>
            <p:nvPr/>
          </p:nvSpPr>
          <p:spPr>
            <a:xfrm>
              <a:off x="765000" y="277920"/>
              <a:ext cx="991440" cy="913320"/>
            </a:xfrm>
            <a:prstGeom prst="rect">
              <a:avLst/>
            </a:prstGeom>
            <a:solidFill>
              <a:srgbClr val="cdcd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4920" y="644400"/>
              <a:ext cx="1091160" cy="892800"/>
            </a:xfrm>
            <a:prstGeom prst="rect">
              <a:avLst/>
            </a:prstGeom>
            <a:solidFill>
              <a:srgbClr val="dbdb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28680" y="15840"/>
              <a:ext cx="891720" cy="911880"/>
            </a:xfrm>
            <a:prstGeom prst="rect">
              <a:avLst/>
            </a:prstGeom>
            <a:solidFill>
              <a:srgbClr val="e5e5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97160" y="1254600"/>
              <a:ext cx="832680" cy="734040"/>
            </a:xfrm>
            <a:prstGeom prst="rect">
              <a:avLst/>
            </a:prstGeom>
            <a:solidFill>
              <a:srgbClr val="e1e1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059120" y="812880"/>
              <a:ext cx="991440" cy="912960"/>
            </a:xfrm>
            <a:prstGeom prst="rect">
              <a:avLst/>
            </a:prstGeom>
            <a:solidFill>
              <a:srgbClr val="bbbb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008000" cy="814320"/>
          </a:xfrm>
          <a:prstGeom prst="rect">
            <a:avLst/>
          </a:prstGeom>
          <a:ln w="0">
            <a:noFill/>
          </a:ln>
        </p:spPr>
      </p:pic>
      <p:sp>
        <p:nvSpPr>
          <p:cNvPr id="13" name=""/>
          <p:cNvSpPr/>
          <p:nvPr/>
        </p:nvSpPr>
        <p:spPr>
          <a:xfrm flipV="1">
            <a:off x="79200" y="0"/>
            <a:ext cx="317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5f5f5f"/>
                </a:solidFill>
                <a:latin typeface="Comic Sans MS"/>
              </a:rPr>
              <a:t>SEMINAIRE NATIONAL PT       Cerpet Paris - 15 décembre 2006 – L. LAUNAY J.M. REYNAUD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1773360"/>
            <a:ext cx="8604360" cy="1439640"/>
          </a:xfrm>
          <a:prstGeom prst="rect">
            <a:avLst/>
          </a:prstGeom>
          <a:gradFill rotWithShape="0">
            <a:gsLst>
              <a:gs pos="0">
                <a:srgbClr val="0000aa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title"/>
          </p:nvPr>
        </p:nvSpPr>
        <p:spPr>
          <a:xfrm>
            <a:off x="837720" y="1658520"/>
            <a:ext cx="7766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611280" y="1413000"/>
            <a:ext cx="2015640" cy="1972800"/>
            <a:chOff x="611280" y="1413000"/>
            <a:chExt cx="2015640" cy="1972800"/>
          </a:xfrm>
        </p:grpSpPr>
        <p:sp>
          <p:nvSpPr>
            <p:cNvPr id="55" name=""/>
            <p:cNvSpPr/>
            <p:nvPr/>
          </p:nvSpPr>
          <p:spPr>
            <a:xfrm>
              <a:off x="1341360" y="1675080"/>
              <a:ext cx="991440" cy="913320"/>
            </a:xfrm>
            <a:prstGeom prst="rect">
              <a:avLst/>
            </a:prstGeom>
            <a:solidFill>
              <a:srgbClr val="cdcd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11280" y="2041560"/>
              <a:ext cx="1091160" cy="892800"/>
            </a:xfrm>
            <a:prstGeom prst="rect">
              <a:avLst/>
            </a:prstGeom>
            <a:solidFill>
              <a:srgbClr val="dbdb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905040" y="1413000"/>
              <a:ext cx="891720" cy="911880"/>
            </a:xfrm>
            <a:prstGeom prst="rect">
              <a:avLst/>
            </a:prstGeom>
            <a:solidFill>
              <a:srgbClr val="e5e5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073520" y="2651760"/>
              <a:ext cx="832680" cy="734040"/>
            </a:xfrm>
            <a:prstGeom prst="rect">
              <a:avLst/>
            </a:prstGeom>
            <a:solidFill>
              <a:srgbClr val="e1e1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635480" y="2210040"/>
              <a:ext cx="991440" cy="912960"/>
            </a:xfrm>
            <a:prstGeom prst="rect">
              <a:avLst/>
            </a:prstGeom>
            <a:solidFill>
              <a:srgbClr val="bbbbff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539640" y="476280"/>
            <a:ext cx="1008000" cy="8143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238880" y="6605640"/>
            <a:ext cx="190512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1E00C-7792-416C-9ABD-000437F7C0E5}" type="slidenum">
              <a:rPr b="0" lang="fr-FR" sz="10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9200" y="0"/>
            <a:ext cx="3175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00" spc="-1" strike="noStrike">
                <a:solidFill>
                  <a:srgbClr val="5f5f5f"/>
                </a:solidFill>
                <a:latin typeface="Comic Sans MS"/>
              </a:rPr>
              <a:t>SEMINAIRE NATIONAL PT       Cerpet Paris - 15 décembre 2006</a:t>
            </a:r>
            <a:endParaRPr b="0" lang="en-US" sz="9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Tahoma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lvl="2" marL="890640" algn="ctr"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3" marL="129528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4" marL="1682640" algn="ctr">
              <a:spcBef>
                <a:spcPts val="499"/>
              </a:spcBef>
              <a:buClr>
                <a:srgbClr val="0000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jpeg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wm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9.wmf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4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8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9.wmf"/><Relationship Id="rId6" Type="http://schemas.openxmlformats.org/officeDocument/2006/relationships/image" Target="../media/image11.wmf"/><Relationship Id="rId7" Type="http://schemas.openxmlformats.org/officeDocument/2006/relationships/image" Target="../media/image12.wmf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6.wmf"/><Relationship Id="rId4" Type="http://schemas.openxmlformats.org/officeDocument/2006/relationships/image" Target="../media/image57.jpeg"/><Relationship Id="rId5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6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8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69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0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71.jpe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image" Target="../media/image74.jpe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75.jpe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7.jpeg"/><Relationship Id="rId2" Type="http://schemas.openxmlformats.org/officeDocument/2006/relationships/image" Target="../media/image7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79.jpeg"/><Relationship Id="rId2" Type="http://schemas.openxmlformats.org/officeDocument/2006/relationships/image" Target="../media/image80.jpeg"/><Relationship Id="rId3" Type="http://schemas.openxmlformats.org/officeDocument/2006/relationships/image" Target="../media/image81.jpe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82.jpeg"/><Relationship Id="rId2" Type="http://schemas.openxmlformats.org/officeDocument/2006/relationships/image" Target="../media/image83.jpeg"/><Relationship Id="rId3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5.wmf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6.wmf"/><Relationship Id="rId3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7.wmf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90.wmf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91.wmf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92.wmf"/><Relationship Id="rId2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93.wmf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94.wmf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95.wmf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96.wmf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32040" y="1901520"/>
            <a:ext cx="74959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S.I.I. </a:t>
            </a:r>
            <a:br>
              <a:rPr sz="4000"/>
            </a:br>
            <a:r>
              <a:rPr b="0" lang="fr-FR" sz="2400" spc="-1" strike="noStrike">
                <a:solidFill>
                  <a:srgbClr val="000000"/>
                </a:solidFill>
                <a:latin typeface="Tahoma"/>
              </a:rPr>
              <a:t>ET </a:t>
            </a:r>
            <a:r>
              <a:rPr b="0" lang="fr-FR" sz="4000" spc="-1" strike="noStrike">
                <a:solidFill>
                  <a:srgbClr val="000000"/>
                </a:solidFill>
                <a:latin typeface="Tahoma"/>
              </a:rPr>
              <a:t>DEMARCHE DE CONCEP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042560" y="3716280"/>
            <a:ext cx="74516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Tahoma"/>
              </a:rPr>
              <a:t>L’environnement numérique au service de l’analyse et la conception </a:t>
            </a:r>
            <a:endParaRPr b="0" lang="en-US" sz="3200" spc="-1" strike="noStrike">
              <a:solidFill>
                <a:srgbClr val="292929"/>
              </a:solidFill>
              <a:latin typeface="Tahoma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Tahoma"/>
              </a:rPr>
              <a:t>des systèmes industriels</a:t>
            </a:r>
            <a:endParaRPr b="0" lang="en-US" sz="3200" spc="-1" strike="noStrike">
              <a:solidFill>
                <a:srgbClr val="292929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966960" y="5813280"/>
            <a:ext cx="58575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Tahoma"/>
              </a:rPr>
              <a:t>Jean Marie Reynaud - Lycée Chevrollier Anger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Tahoma"/>
              </a:rPr>
              <a:t>Luc Launay - IA-IPR Académie de Nant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Une démarche générale en S.I.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9" name=""/>
          <p:cNvCxnSpPr>
            <a:stCxn id="330" idx="3"/>
            <a:endCxn id="331" idx="3"/>
          </p:cNvCxnSpPr>
          <p:nvPr/>
        </p:nvCxnSpPr>
        <p:spPr>
          <a:xfrm flipH="1">
            <a:off x="8560800" y="2519280"/>
            <a:ext cx="6840" cy="642240"/>
          </a:xfrm>
          <a:prstGeom prst="bentConnector3">
            <a:avLst>
              <a:gd name="adj1" fmla="val -3600000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cxnSp>
        <p:nvCxnSpPr>
          <p:cNvPr id="332" name=""/>
          <p:cNvCxnSpPr>
            <a:stCxn id="333" idx="3"/>
            <a:endCxn id="334" idx="3"/>
          </p:cNvCxnSpPr>
          <p:nvPr/>
        </p:nvCxnSpPr>
        <p:spPr>
          <a:xfrm>
            <a:off x="8561520" y="3363840"/>
            <a:ext cx="8640" cy="551520"/>
          </a:xfrm>
          <a:prstGeom prst="bentConnector3">
            <a:avLst>
              <a:gd name="adj1" fmla="val 2978260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cxnSp>
        <p:nvCxnSpPr>
          <p:cNvPr id="335" name=""/>
          <p:cNvCxnSpPr>
            <a:stCxn id="336" idx="3"/>
            <a:endCxn id="337" idx="3"/>
          </p:cNvCxnSpPr>
          <p:nvPr/>
        </p:nvCxnSpPr>
        <p:spPr>
          <a:xfrm flipH="1">
            <a:off x="8543160" y="4118040"/>
            <a:ext cx="26280" cy="543600"/>
          </a:xfrm>
          <a:prstGeom prst="bentConnector3">
            <a:avLst>
              <a:gd name="adj1" fmla="val -900000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cxnSp>
        <p:nvCxnSpPr>
          <p:cNvPr id="338" name=""/>
          <p:cNvCxnSpPr>
            <a:stCxn id="339" idx="3"/>
            <a:endCxn id="340" idx="3"/>
          </p:cNvCxnSpPr>
          <p:nvPr/>
        </p:nvCxnSpPr>
        <p:spPr>
          <a:xfrm>
            <a:off x="8543880" y="4863600"/>
            <a:ext cx="23040" cy="654840"/>
          </a:xfrm>
          <a:prstGeom prst="bentConnector3">
            <a:avLst>
              <a:gd name="adj1" fmla="val 1126984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sp>
        <p:nvSpPr>
          <p:cNvPr id="341" name=""/>
          <p:cNvSpPr/>
          <p:nvPr/>
        </p:nvSpPr>
        <p:spPr>
          <a:xfrm>
            <a:off x="3668760" y="5430960"/>
            <a:ext cx="966600" cy="206280"/>
          </a:xfrm>
          <a:custGeom>
            <a:avLst/>
            <a:gdLst>
              <a:gd name="textAreaLeft" fmla="*/ 150840 w 966600"/>
              <a:gd name="textAreaRight" fmla="*/ 846000 w 966600"/>
              <a:gd name="textAreaTop" fmla="*/ 51480 h 206280"/>
              <a:gd name="textAreaBottom" fmla="*/ 154800 h 206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678120" y="2417760"/>
            <a:ext cx="965160" cy="208080"/>
          </a:xfrm>
          <a:custGeom>
            <a:avLst/>
            <a:gdLst>
              <a:gd name="textAreaLeft" fmla="*/ 150840 w 965160"/>
              <a:gd name="textAreaRight" fmla="*/ 844560 w 96516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343" name=""/>
          <p:cNvCxnSpPr>
            <a:stCxn id="344" idx="0"/>
            <a:endCxn id="345" idx="1"/>
          </p:cNvCxnSpPr>
          <p:nvPr/>
        </p:nvCxnSpPr>
        <p:spPr>
          <a:xfrm flipH="1" flipV="1" rot="5400000">
            <a:off x="2413440" y="2932200"/>
            <a:ext cx="2140920" cy="2615400"/>
          </a:xfrm>
          <a:prstGeom prst="bentConnector2">
            <a:avLst/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grpSp>
        <p:nvGrpSpPr>
          <p:cNvPr id="346" name=""/>
          <p:cNvGrpSpPr/>
          <p:nvPr/>
        </p:nvGrpSpPr>
        <p:grpSpPr>
          <a:xfrm>
            <a:off x="830160" y="2313000"/>
            <a:ext cx="2695680" cy="580680"/>
            <a:chOff x="830160" y="2313000"/>
            <a:chExt cx="2695680" cy="580680"/>
          </a:xfrm>
        </p:grpSpPr>
        <p:sp>
          <p:nvSpPr>
            <p:cNvPr id="347" name=""/>
            <p:cNvSpPr/>
            <p:nvPr/>
          </p:nvSpPr>
          <p:spPr>
            <a:xfrm>
              <a:off x="830160" y="2313000"/>
              <a:ext cx="2695680" cy="580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Problématique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  </a:t>
              </a: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Industrielle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62240" y="2422440"/>
              <a:ext cx="35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1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4792680" y="2297160"/>
            <a:ext cx="3782880" cy="428400"/>
            <a:chOff x="4792680" y="2297160"/>
            <a:chExt cx="3782880" cy="428400"/>
          </a:xfrm>
        </p:grpSpPr>
        <p:sp>
          <p:nvSpPr>
            <p:cNvPr id="330" name=""/>
            <p:cNvSpPr/>
            <p:nvPr/>
          </p:nvSpPr>
          <p:spPr>
            <a:xfrm>
              <a:off x="4792680" y="2313000"/>
              <a:ext cx="3774960" cy="41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292929"/>
                  </a:solidFill>
                  <a:latin typeface="Times New Roman"/>
                  <a:ea typeface="SimSun"/>
                </a:rPr>
                <a:t>Cahier des Charges Fonctionnel, …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218440" y="2297160"/>
              <a:ext cx="3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3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4791240" y="3800520"/>
            <a:ext cx="3784320" cy="425520"/>
            <a:chOff x="4791240" y="3800520"/>
            <a:chExt cx="3784320" cy="425520"/>
          </a:xfrm>
        </p:grpSpPr>
        <p:sp>
          <p:nvSpPr>
            <p:cNvPr id="352" name=""/>
            <p:cNvSpPr/>
            <p:nvPr/>
          </p:nvSpPr>
          <p:spPr>
            <a:xfrm>
              <a:off x="4791240" y="3811680"/>
              <a:ext cx="3774960" cy="414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292929"/>
                  </a:solidFill>
                  <a:latin typeface="Times New Roman"/>
                  <a:ea typeface="SimSun"/>
                </a:rPr>
                <a:t>Simulation / Calcul / Expérimentation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8288280" y="3809880"/>
              <a:ext cx="281160" cy="410760"/>
              <a:chOff x="8288280" y="3809880"/>
              <a:chExt cx="281160" cy="410760"/>
            </a:xfrm>
          </p:grpSpPr>
          <p:sp>
            <p:nvSpPr>
              <p:cNvPr id="334" name=""/>
              <p:cNvSpPr/>
              <p:nvPr/>
            </p:nvSpPr>
            <p:spPr>
              <a:xfrm>
                <a:off x="8288280" y="3809880"/>
                <a:ext cx="28116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8288280" y="4012920"/>
                <a:ext cx="28116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354" name=""/>
            <p:cNvSpPr/>
            <p:nvPr/>
          </p:nvSpPr>
          <p:spPr>
            <a:xfrm>
              <a:off x="8218440" y="3800520"/>
              <a:ext cx="3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5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55" name=""/>
          <p:cNvGrpSpPr/>
          <p:nvPr/>
        </p:nvGrpSpPr>
        <p:grpSpPr>
          <a:xfrm>
            <a:off x="4788000" y="4556160"/>
            <a:ext cx="3774960" cy="434880"/>
            <a:chOff x="4788000" y="4556160"/>
            <a:chExt cx="3774960" cy="434880"/>
          </a:xfrm>
        </p:grpSpPr>
        <p:grpSp>
          <p:nvGrpSpPr>
            <p:cNvPr id="356" name=""/>
            <p:cNvGrpSpPr/>
            <p:nvPr/>
          </p:nvGrpSpPr>
          <p:grpSpPr>
            <a:xfrm>
              <a:off x="8263080" y="4556160"/>
              <a:ext cx="280800" cy="410760"/>
              <a:chOff x="8263080" y="4556160"/>
              <a:chExt cx="280800" cy="410760"/>
            </a:xfrm>
          </p:grpSpPr>
          <p:sp>
            <p:nvSpPr>
              <p:cNvPr id="337" name=""/>
              <p:cNvSpPr/>
              <p:nvPr/>
            </p:nvSpPr>
            <p:spPr>
              <a:xfrm>
                <a:off x="8263080" y="4556160"/>
                <a:ext cx="28080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263080" y="4759200"/>
                <a:ext cx="28080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357" name=""/>
            <p:cNvGrpSpPr/>
            <p:nvPr/>
          </p:nvGrpSpPr>
          <p:grpSpPr>
            <a:xfrm>
              <a:off x="4788000" y="4575240"/>
              <a:ext cx="3774960" cy="415800"/>
              <a:chOff x="4788000" y="4575240"/>
              <a:chExt cx="3774960" cy="415800"/>
            </a:xfrm>
          </p:grpSpPr>
          <p:sp>
            <p:nvSpPr>
              <p:cNvPr id="358" name=""/>
              <p:cNvSpPr/>
              <p:nvPr/>
            </p:nvSpPr>
            <p:spPr>
              <a:xfrm>
                <a:off x="4788000" y="4577040"/>
                <a:ext cx="3774960" cy="414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292929"/>
                    </a:solidFill>
                    <a:latin typeface="Times New Roman"/>
                    <a:ea typeface="SimSun"/>
                  </a:rPr>
                  <a:t>Interprétation des écarts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359" name=""/>
              <p:cNvGrpSpPr/>
              <p:nvPr/>
            </p:nvGrpSpPr>
            <p:grpSpPr>
              <a:xfrm>
                <a:off x="8246880" y="4575240"/>
                <a:ext cx="307800" cy="411480"/>
                <a:chOff x="8246880" y="4575240"/>
                <a:chExt cx="307800" cy="411480"/>
              </a:xfrm>
            </p:grpSpPr>
            <p:sp>
              <p:nvSpPr>
                <p:cNvPr id="360" name=""/>
                <p:cNvSpPr/>
                <p:nvPr/>
              </p:nvSpPr>
              <p:spPr>
                <a:xfrm>
                  <a:off x="8246880" y="4575240"/>
                  <a:ext cx="307800" cy="20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8246880" y="4778640"/>
                  <a:ext cx="307800" cy="20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2" name=""/>
            <p:cNvSpPr/>
            <p:nvPr/>
          </p:nvSpPr>
          <p:spPr>
            <a:xfrm>
              <a:off x="8207280" y="4559400"/>
              <a:ext cx="35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6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4791240" y="5283360"/>
            <a:ext cx="3774960" cy="441000"/>
            <a:chOff x="4791240" y="5283360"/>
            <a:chExt cx="3774960" cy="441000"/>
          </a:xfrm>
        </p:grpSpPr>
        <p:sp>
          <p:nvSpPr>
            <p:cNvPr id="340" name=""/>
            <p:cNvSpPr/>
            <p:nvPr/>
          </p:nvSpPr>
          <p:spPr>
            <a:xfrm>
              <a:off x="4791240" y="5311800"/>
              <a:ext cx="3774960" cy="41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292929"/>
                  </a:solidFill>
                  <a:latin typeface="Times New Roman"/>
                  <a:ea typeface="SimSun"/>
                </a:rPr>
                <a:t>Validation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209080" y="5283360"/>
              <a:ext cx="3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7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65" name=""/>
          <p:cNvGrpSpPr/>
          <p:nvPr/>
        </p:nvGrpSpPr>
        <p:grpSpPr>
          <a:xfrm>
            <a:off x="825480" y="5283360"/>
            <a:ext cx="2698920" cy="441000"/>
            <a:chOff x="825480" y="5283360"/>
            <a:chExt cx="2698920" cy="441000"/>
          </a:xfrm>
        </p:grpSpPr>
        <p:sp>
          <p:nvSpPr>
            <p:cNvPr id="344" name=""/>
            <p:cNvSpPr/>
            <p:nvPr/>
          </p:nvSpPr>
          <p:spPr>
            <a:xfrm>
              <a:off x="828720" y="5310360"/>
              <a:ext cx="2695680" cy="414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Support Industriel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149640" y="5283360"/>
              <a:ext cx="36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2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5480" y="5308560"/>
              <a:ext cx="4777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68" name=""/>
          <p:cNvGrpSpPr/>
          <p:nvPr/>
        </p:nvGrpSpPr>
        <p:grpSpPr>
          <a:xfrm>
            <a:off x="4791240" y="3041640"/>
            <a:ext cx="3784320" cy="434520"/>
            <a:chOff x="4791240" y="3041640"/>
            <a:chExt cx="3784320" cy="434520"/>
          </a:xfrm>
        </p:grpSpPr>
        <p:sp>
          <p:nvSpPr>
            <p:cNvPr id="369" name=""/>
            <p:cNvSpPr/>
            <p:nvPr/>
          </p:nvSpPr>
          <p:spPr>
            <a:xfrm>
              <a:off x="4791240" y="3062160"/>
              <a:ext cx="3774960" cy="412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292929"/>
                  </a:solidFill>
                  <a:latin typeface="Times New Roman"/>
                  <a:ea typeface="SimSun"/>
                </a:rPr>
                <a:t>Modélisation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8280360" y="3056040"/>
              <a:ext cx="281160" cy="412200"/>
              <a:chOff x="8280360" y="3056040"/>
              <a:chExt cx="281160" cy="412200"/>
            </a:xfrm>
          </p:grpSpPr>
          <p:sp>
            <p:nvSpPr>
              <p:cNvPr id="331" name=""/>
              <p:cNvSpPr/>
              <p:nvPr/>
            </p:nvSpPr>
            <p:spPr>
              <a:xfrm>
                <a:off x="8280360" y="3056040"/>
                <a:ext cx="28116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280360" y="3259800"/>
                <a:ext cx="28116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371" name=""/>
            <p:cNvSpPr/>
            <p:nvPr/>
          </p:nvSpPr>
          <p:spPr>
            <a:xfrm>
              <a:off x="8218440" y="3041640"/>
              <a:ext cx="3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4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372" name=""/>
            <p:cNvGrpSpPr/>
            <p:nvPr/>
          </p:nvGrpSpPr>
          <p:grpSpPr>
            <a:xfrm>
              <a:off x="4791240" y="3065400"/>
              <a:ext cx="282240" cy="410760"/>
              <a:chOff x="4791240" y="3065400"/>
              <a:chExt cx="282240" cy="410760"/>
            </a:xfrm>
          </p:grpSpPr>
          <p:sp>
            <p:nvSpPr>
              <p:cNvPr id="345" name=""/>
              <p:cNvSpPr/>
              <p:nvPr/>
            </p:nvSpPr>
            <p:spPr>
              <a:xfrm>
                <a:off x="4791240" y="3065400"/>
                <a:ext cx="2822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4791240" y="3268440"/>
                <a:ext cx="2822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cxnSp>
        <p:nvCxnSpPr>
          <p:cNvPr id="374" name=""/>
          <p:cNvCxnSpPr>
            <a:stCxn id="358" idx="1"/>
            <a:endCxn id="373" idx="1"/>
          </p:cNvCxnSpPr>
          <p:nvPr/>
        </p:nvCxnSpPr>
        <p:spPr>
          <a:xfrm flipH="1" rot="10800000">
            <a:off x="4786920" y="3372840"/>
            <a:ext cx="3960" cy="1411920"/>
          </a:xfrm>
          <a:prstGeom prst="bentConnector3">
            <a:avLst>
              <a:gd name="adj1" fmla="val -7200000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1400040" y="1930320"/>
            <a:ext cx="15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292929"/>
                </a:solidFill>
                <a:latin typeface="Times New Roman"/>
                <a:ea typeface="SimSun"/>
              </a:rPr>
              <a:t>Authentiqu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363680" y="575784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292929"/>
                </a:solidFill>
                <a:latin typeface="Times New Roman"/>
                <a:ea typeface="SimSun"/>
              </a:rPr>
              <a:t>Contemporai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028880" y="2955960"/>
            <a:ext cx="520560" cy="2301840"/>
            <a:chOff x="1028880" y="2955960"/>
            <a:chExt cx="520560" cy="2301840"/>
          </a:xfrm>
        </p:grpSpPr>
        <p:sp>
          <p:nvSpPr>
            <p:cNvPr id="378" name=""/>
            <p:cNvSpPr/>
            <p:nvPr/>
          </p:nvSpPr>
          <p:spPr>
            <a:xfrm>
              <a:off x="1104840" y="2955960"/>
              <a:ext cx="366840" cy="23018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028880" y="4737240"/>
              <a:ext cx="520560" cy="520560"/>
            </a:xfrm>
            <a:prstGeom prst="smileyFace">
              <a:avLst>
                <a:gd name="adj" fmla="val -4652"/>
              </a:avLst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1359000" y="2945880"/>
            <a:ext cx="520560" cy="2302200"/>
            <a:chOff x="1359000" y="2945880"/>
            <a:chExt cx="520560" cy="2302200"/>
          </a:xfrm>
        </p:grpSpPr>
        <p:sp>
          <p:nvSpPr>
            <p:cNvPr id="381" name=""/>
            <p:cNvSpPr/>
            <p:nvPr/>
          </p:nvSpPr>
          <p:spPr>
            <a:xfrm flipV="1">
              <a:off x="1434960" y="2945520"/>
              <a:ext cx="366840" cy="23022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359000" y="2946240"/>
              <a:ext cx="520560" cy="520920"/>
            </a:xfrm>
            <a:prstGeom prst="smileyFace">
              <a:avLst>
                <a:gd name="adj" fmla="val 9282"/>
              </a:avLst>
            </a:prstGeom>
            <a:solidFill>
              <a:srgbClr val="babb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817560" y="2306520"/>
            <a:ext cx="2680920" cy="595080"/>
            <a:chOff x="817560" y="2306520"/>
            <a:chExt cx="2680920" cy="595080"/>
          </a:xfrm>
        </p:grpSpPr>
        <p:sp>
          <p:nvSpPr>
            <p:cNvPr id="384" name=""/>
            <p:cNvSpPr/>
            <p:nvPr/>
          </p:nvSpPr>
          <p:spPr>
            <a:xfrm>
              <a:off x="817560" y="2328480"/>
              <a:ext cx="2675520" cy="57312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Situation problème 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industrielle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246840" y="2306520"/>
              <a:ext cx="25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292929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Proposition pédagogiqu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6EAE-BB13-4D8C-8508-1287A508685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949320" y="1866960"/>
            <a:ext cx="7661160" cy="31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98520" indent="-39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Le support industriel est exploité pédagogiquement au travers d’une situation problème. Un questionnement ou une problématique qui garanti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l’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authenticité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 du problème technique 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la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légitimité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 de l’étude 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la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vraisemblance</a:t>
            </a: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 des résultats obtenu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98520" indent="-3985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L’étudiant apprécie alors naturellement, l’intérêt de la démarche suivie et l’utilité des outils qui lui sont enseigné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La situation problèm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63640" y="36468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oposition pédagogiqu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002E-C1C4-44CA-9D53-12C2409EF1E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émarche générale en S.I.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92" idx="3"/>
            <a:endCxn id="393" idx="3"/>
          </p:cNvCxnSpPr>
          <p:nvPr/>
        </p:nvCxnSpPr>
        <p:spPr>
          <a:xfrm flipH="1">
            <a:off x="8560800" y="2519280"/>
            <a:ext cx="6840" cy="642240"/>
          </a:xfrm>
          <a:prstGeom prst="bentConnector3">
            <a:avLst>
              <a:gd name="adj1" fmla="val -3600000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95" idx="3"/>
            <a:endCxn id="396" idx="3"/>
          </p:cNvCxnSpPr>
          <p:nvPr/>
        </p:nvCxnSpPr>
        <p:spPr>
          <a:xfrm>
            <a:off x="8561520" y="3363840"/>
            <a:ext cx="8640" cy="551520"/>
          </a:xfrm>
          <a:prstGeom prst="bentConnector3">
            <a:avLst>
              <a:gd name="adj1" fmla="val 2978260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8" idx="3"/>
            <a:endCxn id="399" idx="3"/>
          </p:cNvCxnSpPr>
          <p:nvPr/>
        </p:nvCxnSpPr>
        <p:spPr>
          <a:xfrm flipH="1">
            <a:off x="8543160" y="4118040"/>
            <a:ext cx="26280" cy="543600"/>
          </a:xfrm>
          <a:prstGeom prst="bentConnector3">
            <a:avLst>
              <a:gd name="adj1" fmla="val -900000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cxnSp>
        <p:nvCxnSpPr>
          <p:cNvPr id="400" name=""/>
          <p:cNvCxnSpPr>
            <a:stCxn id="401" idx="3"/>
            <a:endCxn id="402" idx="3"/>
          </p:cNvCxnSpPr>
          <p:nvPr/>
        </p:nvCxnSpPr>
        <p:spPr>
          <a:xfrm>
            <a:off x="8543880" y="4863600"/>
            <a:ext cx="23040" cy="654840"/>
          </a:xfrm>
          <a:prstGeom prst="bentConnector3">
            <a:avLst>
              <a:gd name="adj1" fmla="val 1126984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sp>
        <p:nvSpPr>
          <p:cNvPr id="403" name=""/>
          <p:cNvSpPr/>
          <p:nvPr/>
        </p:nvSpPr>
        <p:spPr>
          <a:xfrm>
            <a:off x="3668760" y="5430960"/>
            <a:ext cx="966600" cy="206280"/>
          </a:xfrm>
          <a:custGeom>
            <a:avLst/>
            <a:gdLst>
              <a:gd name="textAreaLeft" fmla="*/ 150840 w 966600"/>
              <a:gd name="textAreaRight" fmla="*/ 846000 w 966600"/>
              <a:gd name="textAreaTop" fmla="*/ 51480 h 206280"/>
              <a:gd name="textAreaBottom" fmla="*/ 154800 h 206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78120" y="2417760"/>
            <a:ext cx="965160" cy="208080"/>
          </a:xfrm>
          <a:custGeom>
            <a:avLst/>
            <a:gdLst>
              <a:gd name="textAreaLeft" fmla="*/ 150840 w 965160"/>
              <a:gd name="textAreaRight" fmla="*/ 844560 w 96516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405" name=""/>
          <p:cNvCxnSpPr>
            <a:stCxn id="406" idx="0"/>
            <a:endCxn id="407" idx="1"/>
          </p:cNvCxnSpPr>
          <p:nvPr/>
        </p:nvCxnSpPr>
        <p:spPr>
          <a:xfrm flipH="1" flipV="1" rot="5400000">
            <a:off x="2413440" y="2932200"/>
            <a:ext cx="2140920" cy="2615400"/>
          </a:xfrm>
          <a:prstGeom prst="bentConnector2">
            <a:avLst/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grpSp>
        <p:nvGrpSpPr>
          <p:cNvPr id="408" name=""/>
          <p:cNvGrpSpPr/>
          <p:nvPr/>
        </p:nvGrpSpPr>
        <p:grpSpPr>
          <a:xfrm>
            <a:off x="830160" y="2313000"/>
            <a:ext cx="2695680" cy="580680"/>
            <a:chOff x="830160" y="2313000"/>
            <a:chExt cx="2695680" cy="580680"/>
          </a:xfrm>
        </p:grpSpPr>
        <p:sp>
          <p:nvSpPr>
            <p:cNvPr id="409" name=""/>
            <p:cNvSpPr/>
            <p:nvPr/>
          </p:nvSpPr>
          <p:spPr>
            <a:xfrm>
              <a:off x="830160" y="2313000"/>
              <a:ext cx="2695680" cy="580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Problématique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  </a:t>
              </a: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Industrielle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62240" y="2422440"/>
              <a:ext cx="35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1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4792680" y="2297160"/>
            <a:ext cx="3782880" cy="428400"/>
            <a:chOff x="4792680" y="2297160"/>
            <a:chExt cx="3782880" cy="428400"/>
          </a:xfrm>
        </p:grpSpPr>
        <p:sp>
          <p:nvSpPr>
            <p:cNvPr id="392" name=""/>
            <p:cNvSpPr/>
            <p:nvPr/>
          </p:nvSpPr>
          <p:spPr>
            <a:xfrm>
              <a:off x="4792680" y="2313000"/>
              <a:ext cx="3774960" cy="41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292929"/>
                  </a:solidFill>
                  <a:latin typeface="Times New Roman"/>
                  <a:ea typeface="SimSun"/>
                </a:rPr>
                <a:t>Cahier des Charges Fonctionnel, …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18440" y="2297160"/>
              <a:ext cx="3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3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413" name=""/>
          <p:cNvGrpSpPr/>
          <p:nvPr/>
        </p:nvGrpSpPr>
        <p:grpSpPr>
          <a:xfrm>
            <a:off x="4791240" y="3800520"/>
            <a:ext cx="3784320" cy="425520"/>
            <a:chOff x="4791240" y="3800520"/>
            <a:chExt cx="3784320" cy="425520"/>
          </a:xfrm>
        </p:grpSpPr>
        <p:sp>
          <p:nvSpPr>
            <p:cNvPr id="414" name=""/>
            <p:cNvSpPr/>
            <p:nvPr/>
          </p:nvSpPr>
          <p:spPr>
            <a:xfrm>
              <a:off x="4791240" y="3811680"/>
              <a:ext cx="3774960" cy="414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292929"/>
                  </a:solidFill>
                  <a:latin typeface="Times New Roman"/>
                  <a:ea typeface="SimSun"/>
                </a:rPr>
                <a:t>Simulation / Calcul / Expérimentation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8288280" y="3809880"/>
              <a:ext cx="281160" cy="410760"/>
              <a:chOff x="8288280" y="3809880"/>
              <a:chExt cx="281160" cy="410760"/>
            </a:xfrm>
          </p:grpSpPr>
          <p:sp>
            <p:nvSpPr>
              <p:cNvPr id="396" name=""/>
              <p:cNvSpPr/>
              <p:nvPr/>
            </p:nvSpPr>
            <p:spPr>
              <a:xfrm>
                <a:off x="8288280" y="3809880"/>
                <a:ext cx="28116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288280" y="4012920"/>
                <a:ext cx="28116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416" name=""/>
            <p:cNvSpPr/>
            <p:nvPr/>
          </p:nvSpPr>
          <p:spPr>
            <a:xfrm>
              <a:off x="8218440" y="3800520"/>
              <a:ext cx="3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5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417" name=""/>
          <p:cNvGrpSpPr/>
          <p:nvPr/>
        </p:nvGrpSpPr>
        <p:grpSpPr>
          <a:xfrm>
            <a:off x="4788000" y="4556160"/>
            <a:ext cx="3774960" cy="434880"/>
            <a:chOff x="4788000" y="4556160"/>
            <a:chExt cx="3774960" cy="434880"/>
          </a:xfrm>
        </p:grpSpPr>
        <p:grpSp>
          <p:nvGrpSpPr>
            <p:cNvPr id="418" name=""/>
            <p:cNvGrpSpPr/>
            <p:nvPr/>
          </p:nvGrpSpPr>
          <p:grpSpPr>
            <a:xfrm>
              <a:off x="8263080" y="4556160"/>
              <a:ext cx="280800" cy="410760"/>
              <a:chOff x="8263080" y="4556160"/>
              <a:chExt cx="280800" cy="410760"/>
            </a:xfrm>
          </p:grpSpPr>
          <p:sp>
            <p:nvSpPr>
              <p:cNvPr id="399" name=""/>
              <p:cNvSpPr/>
              <p:nvPr/>
            </p:nvSpPr>
            <p:spPr>
              <a:xfrm>
                <a:off x="8263080" y="4556160"/>
                <a:ext cx="28080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263080" y="4759200"/>
                <a:ext cx="28080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4788000" y="4575240"/>
              <a:ext cx="3774960" cy="415800"/>
              <a:chOff x="4788000" y="4575240"/>
              <a:chExt cx="3774960" cy="415800"/>
            </a:xfrm>
          </p:grpSpPr>
          <p:sp>
            <p:nvSpPr>
              <p:cNvPr id="420" name=""/>
              <p:cNvSpPr/>
              <p:nvPr/>
            </p:nvSpPr>
            <p:spPr>
              <a:xfrm>
                <a:off x="4788000" y="4577040"/>
                <a:ext cx="3774960" cy="414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292929"/>
                    </a:solidFill>
                    <a:latin typeface="Times New Roman"/>
                    <a:ea typeface="SimSun"/>
                  </a:rPr>
                  <a:t>Interprétation des écarts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421" name=""/>
              <p:cNvGrpSpPr/>
              <p:nvPr/>
            </p:nvGrpSpPr>
            <p:grpSpPr>
              <a:xfrm>
                <a:off x="8246880" y="4575240"/>
                <a:ext cx="307800" cy="411480"/>
                <a:chOff x="8246880" y="4575240"/>
                <a:chExt cx="307800" cy="411480"/>
              </a:xfrm>
            </p:grpSpPr>
            <p:sp>
              <p:nvSpPr>
                <p:cNvPr id="422" name=""/>
                <p:cNvSpPr/>
                <p:nvPr/>
              </p:nvSpPr>
              <p:spPr>
                <a:xfrm>
                  <a:off x="8246880" y="4575240"/>
                  <a:ext cx="307800" cy="20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23" name=""/>
                <p:cNvSpPr/>
                <p:nvPr/>
              </p:nvSpPr>
              <p:spPr>
                <a:xfrm>
                  <a:off x="8246880" y="4778640"/>
                  <a:ext cx="307800" cy="20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24" name=""/>
            <p:cNvSpPr/>
            <p:nvPr/>
          </p:nvSpPr>
          <p:spPr>
            <a:xfrm>
              <a:off x="8207280" y="4559400"/>
              <a:ext cx="35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6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4791240" y="5283360"/>
            <a:ext cx="3774960" cy="441000"/>
            <a:chOff x="4791240" y="5283360"/>
            <a:chExt cx="3774960" cy="441000"/>
          </a:xfrm>
        </p:grpSpPr>
        <p:sp>
          <p:nvSpPr>
            <p:cNvPr id="402" name=""/>
            <p:cNvSpPr/>
            <p:nvPr/>
          </p:nvSpPr>
          <p:spPr>
            <a:xfrm>
              <a:off x="4791240" y="5311800"/>
              <a:ext cx="3774960" cy="41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292929"/>
                  </a:solidFill>
                  <a:latin typeface="Times New Roman"/>
                  <a:ea typeface="SimSun"/>
                </a:rPr>
                <a:t>Validation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209080" y="5283360"/>
              <a:ext cx="3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7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825480" y="5283360"/>
            <a:ext cx="2698920" cy="441000"/>
            <a:chOff x="825480" y="5283360"/>
            <a:chExt cx="2698920" cy="441000"/>
          </a:xfrm>
        </p:grpSpPr>
        <p:sp>
          <p:nvSpPr>
            <p:cNvPr id="406" name=""/>
            <p:cNvSpPr/>
            <p:nvPr/>
          </p:nvSpPr>
          <p:spPr>
            <a:xfrm>
              <a:off x="828720" y="5310360"/>
              <a:ext cx="2695680" cy="414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Support Industriel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49640" y="5283360"/>
              <a:ext cx="36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2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25480" y="5308560"/>
              <a:ext cx="4777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4791240" y="3041640"/>
            <a:ext cx="3784320" cy="434520"/>
            <a:chOff x="4791240" y="3041640"/>
            <a:chExt cx="3784320" cy="434520"/>
          </a:xfrm>
        </p:grpSpPr>
        <p:sp>
          <p:nvSpPr>
            <p:cNvPr id="431" name=""/>
            <p:cNvSpPr/>
            <p:nvPr/>
          </p:nvSpPr>
          <p:spPr>
            <a:xfrm>
              <a:off x="4791240" y="3062160"/>
              <a:ext cx="3774960" cy="412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292929"/>
                  </a:solidFill>
                  <a:latin typeface="Times New Roman"/>
                  <a:ea typeface="SimSun"/>
                </a:rPr>
                <a:t>Modélisation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432" name=""/>
            <p:cNvGrpSpPr/>
            <p:nvPr/>
          </p:nvGrpSpPr>
          <p:grpSpPr>
            <a:xfrm>
              <a:off x="8280360" y="3056040"/>
              <a:ext cx="281160" cy="412200"/>
              <a:chOff x="8280360" y="3056040"/>
              <a:chExt cx="281160" cy="412200"/>
            </a:xfrm>
          </p:grpSpPr>
          <p:sp>
            <p:nvSpPr>
              <p:cNvPr id="393" name=""/>
              <p:cNvSpPr/>
              <p:nvPr/>
            </p:nvSpPr>
            <p:spPr>
              <a:xfrm>
                <a:off x="8280360" y="3056040"/>
                <a:ext cx="28116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280360" y="3259800"/>
                <a:ext cx="28116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433" name=""/>
            <p:cNvSpPr/>
            <p:nvPr/>
          </p:nvSpPr>
          <p:spPr>
            <a:xfrm>
              <a:off x="8218440" y="3041640"/>
              <a:ext cx="3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4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4791240" y="3065400"/>
              <a:ext cx="282240" cy="410760"/>
              <a:chOff x="4791240" y="3065400"/>
              <a:chExt cx="282240" cy="410760"/>
            </a:xfrm>
          </p:grpSpPr>
          <p:sp>
            <p:nvSpPr>
              <p:cNvPr id="407" name=""/>
              <p:cNvSpPr/>
              <p:nvPr/>
            </p:nvSpPr>
            <p:spPr>
              <a:xfrm>
                <a:off x="4791240" y="3065400"/>
                <a:ext cx="2822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4791240" y="3268440"/>
                <a:ext cx="2822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cxnSp>
        <p:nvCxnSpPr>
          <p:cNvPr id="436" name=""/>
          <p:cNvCxnSpPr>
            <a:stCxn id="420" idx="1"/>
            <a:endCxn id="435" idx="1"/>
          </p:cNvCxnSpPr>
          <p:nvPr/>
        </p:nvCxnSpPr>
        <p:spPr>
          <a:xfrm flipH="1" rot="10800000">
            <a:off x="4786920" y="3372840"/>
            <a:ext cx="3960" cy="1411920"/>
          </a:xfrm>
          <a:prstGeom prst="bentConnector3">
            <a:avLst>
              <a:gd name="adj1" fmla="val -7200000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sp>
        <p:nvSpPr>
          <p:cNvPr id="437" name=""/>
          <p:cNvSpPr/>
          <p:nvPr/>
        </p:nvSpPr>
        <p:spPr>
          <a:xfrm>
            <a:off x="1400040" y="1930320"/>
            <a:ext cx="15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292929"/>
                </a:solidFill>
                <a:latin typeface="Times New Roman"/>
                <a:ea typeface="SimSun"/>
              </a:rPr>
              <a:t>Authentiqu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363680" y="575784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292929"/>
                </a:solidFill>
                <a:latin typeface="Times New Roman"/>
                <a:ea typeface="SimSun"/>
              </a:rPr>
              <a:t>Contemporai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439" name=""/>
          <p:cNvGrpSpPr/>
          <p:nvPr/>
        </p:nvGrpSpPr>
        <p:grpSpPr>
          <a:xfrm>
            <a:off x="1028880" y="2955960"/>
            <a:ext cx="520560" cy="2301840"/>
            <a:chOff x="1028880" y="2955960"/>
            <a:chExt cx="520560" cy="2301840"/>
          </a:xfrm>
        </p:grpSpPr>
        <p:sp>
          <p:nvSpPr>
            <p:cNvPr id="440" name=""/>
            <p:cNvSpPr/>
            <p:nvPr/>
          </p:nvSpPr>
          <p:spPr>
            <a:xfrm>
              <a:off x="1104840" y="2955960"/>
              <a:ext cx="366840" cy="23018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028880" y="4737240"/>
              <a:ext cx="520560" cy="520560"/>
            </a:xfrm>
            <a:prstGeom prst="smileyFace">
              <a:avLst>
                <a:gd name="adj" fmla="val -4652"/>
              </a:avLst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1359000" y="2945880"/>
            <a:ext cx="520560" cy="2302200"/>
            <a:chOff x="1359000" y="2945880"/>
            <a:chExt cx="520560" cy="2302200"/>
          </a:xfrm>
        </p:grpSpPr>
        <p:sp>
          <p:nvSpPr>
            <p:cNvPr id="443" name=""/>
            <p:cNvSpPr/>
            <p:nvPr/>
          </p:nvSpPr>
          <p:spPr>
            <a:xfrm flipV="1">
              <a:off x="1434960" y="2945520"/>
              <a:ext cx="366840" cy="23022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1359000" y="2946240"/>
              <a:ext cx="520560" cy="520920"/>
            </a:xfrm>
            <a:prstGeom prst="smileyFace">
              <a:avLst>
                <a:gd name="adj" fmla="val 9282"/>
              </a:avLst>
            </a:prstGeom>
            <a:solidFill>
              <a:srgbClr val="babb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445" name=""/>
          <p:cNvGrpSpPr/>
          <p:nvPr/>
        </p:nvGrpSpPr>
        <p:grpSpPr>
          <a:xfrm>
            <a:off x="4792680" y="2297160"/>
            <a:ext cx="3782880" cy="428400"/>
            <a:chOff x="4792680" y="2297160"/>
            <a:chExt cx="3782880" cy="428400"/>
          </a:xfrm>
        </p:grpSpPr>
        <p:sp>
          <p:nvSpPr>
            <p:cNvPr id="446" name=""/>
            <p:cNvSpPr/>
            <p:nvPr/>
          </p:nvSpPr>
          <p:spPr>
            <a:xfrm>
              <a:off x="4792680" y="2313000"/>
              <a:ext cx="3774960" cy="4125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Cahier des Charges Fonctionnel, …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218440" y="2297160"/>
              <a:ext cx="3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3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Proposition pédagogiqu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8F29-A1B5-4759-854E-0F17CAA24FB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3429000" y="37800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Analyse Fonctionnelle en S.I.I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86080" y="1004760"/>
            <a:ext cx="74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dérives à proscrir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51" name="fourchette%20à%20escargot%20rogné" descr=""/>
          <p:cNvPicPr/>
          <p:nvPr/>
        </p:nvPicPr>
        <p:blipFill>
          <a:blip r:embed="rId1"/>
          <a:stretch/>
        </p:blipFill>
        <p:spPr>
          <a:xfrm>
            <a:off x="2362320" y="1523880"/>
            <a:ext cx="6230880" cy="528012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 txBox="1"/>
          <p:nvPr/>
        </p:nvSpPr>
        <p:spPr>
          <a:xfrm rot="19714800">
            <a:off x="2895120" y="2895120"/>
            <a:ext cx="4422960" cy="16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Ne pas inventer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Arial Black"/>
              </a:rPr>
              <a:t>le fonctionnel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Arial Black"/>
              <a:ea typeface="Arial Black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2"/>
          <a:stretch/>
        </p:blipFill>
        <p:spPr>
          <a:xfrm>
            <a:off x="2590920" y="1752480"/>
            <a:ext cx="971280" cy="1619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3BF5-DCB0-4CA0-9FDB-41786F730C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émarche générale en S.I.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"/>
          <p:cNvCxnSpPr>
            <a:stCxn id="456" idx="3"/>
            <a:endCxn id="457" idx="3"/>
          </p:cNvCxnSpPr>
          <p:nvPr/>
        </p:nvCxnSpPr>
        <p:spPr>
          <a:xfrm flipH="1">
            <a:off x="8560800" y="2519280"/>
            <a:ext cx="6840" cy="642240"/>
          </a:xfrm>
          <a:prstGeom prst="bentConnector3">
            <a:avLst>
              <a:gd name="adj1" fmla="val -3600000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cxnSp>
        <p:nvCxnSpPr>
          <p:cNvPr id="458" name=""/>
          <p:cNvCxnSpPr>
            <a:stCxn id="459" idx="3"/>
            <a:endCxn id="460" idx="3"/>
          </p:cNvCxnSpPr>
          <p:nvPr/>
        </p:nvCxnSpPr>
        <p:spPr>
          <a:xfrm>
            <a:off x="8561520" y="3363840"/>
            <a:ext cx="8640" cy="551520"/>
          </a:xfrm>
          <a:prstGeom prst="bentConnector3">
            <a:avLst>
              <a:gd name="adj1" fmla="val 2978260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62" idx="3"/>
            <a:endCxn id="463" idx="3"/>
          </p:cNvCxnSpPr>
          <p:nvPr/>
        </p:nvCxnSpPr>
        <p:spPr>
          <a:xfrm flipH="1">
            <a:off x="8543160" y="4118040"/>
            <a:ext cx="26280" cy="543600"/>
          </a:xfrm>
          <a:prstGeom prst="bentConnector3">
            <a:avLst>
              <a:gd name="adj1" fmla="val -900000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65" idx="3"/>
            <a:endCxn id="466" idx="3"/>
          </p:cNvCxnSpPr>
          <p:nvPr/>
        </p:nvCxnSpPr>
        <p:spPr>
          <a:xfrm>
            <a:off x="8543880" y="4863600"/>
            <a:ext cx="23040" cy="654840"/>
          </a:xfrm>
          <a:prstGeom prst="bentConnector3">
            <a:avLst>
              <a:gd name="adj1" fmla="val 1126984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sp>
        <p:nvSpPr>
          <p:cNvPr id="467" name=""/>
          <p:cNvSpPr/>
          <p:nvPr/>
        </p:nvSpPr>
        <p:spPr>
          <a:xfrm>
            <a:off x="3668760" y="5430960"/>
            <a:ext cx="966600" cy="206280"/>
          </a:xfrm>
          <a:custGeom>
            <a:avLst/>
            <a:gdLst>
              <a:gd name="textAreaLeft" fmla="*/ 150840 w 966600"/>
              <a:gd name="textAreaRight" fmla="*/ 846000 w 966600"/>
              <a:gd name="textAreaTop" fmla="*/ 51480 h 206280"/>
              <a:gd name="textAreaBottom" fmla="*/ 154800 h 206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678120" y="2417760"/>
            <a:ext cx="965160" cy="208080"/>
          </a:xfrm>
          <a:custGeom>
            <a:avLst/>
            <a:gdLst>
              <a:gd name="textAreaLeft" fmla="*/ 150840 w 965160"/>
              <a:gd name="textAreaRight" fmla="*/ 844560 w 96516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469" name=""/>
          <p:cNvCxnSpPr>
            <a:stCxn id="470" idx="0"/>
            <a:endCxn id="471" idx="1"/>
          </p:cNvCxnSpPr>
          <p:nvPr/>
        </p:nvCxnSpPr>
        <p:spPr>
          <a:xfrm flipH="1" flipV="1" rot="5400000">
            <a:off x="2413440" y="2932200"/>
            <a:ext cx="2140920" cy="2615400"/>
          </a:xfrm>
          <a:prstGeom prst="bentConnector2">
            <a:avLst/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grpSp>
        <p:nvGrpSpPr>
          <p:cNvPr id="472" name=""/>
          <p:cNvGrpSpPr/>
          <p:nvPr/>
        </p:nvGrpSpPr>
        <p:grpSpPr>
          <a:xfrm>
            <a:off x="830160" y="2313000"/>
            <a:ext cx="2695680" cy="580680"/>
            <a:chOff x="830160" y="2313000"/>
            <a:chExt cx="2695680" cy="580680"/>
          </a:xfrm>
        </p:grpSpPr>
        <p:sp>
          <p:nvSpPr>
            <p:cNvPr id="473" name=""/>
            <p:cNvSpPr/>
            <p:nvPr/>
          </p:nvSpPr>
          <p:spPr>
            <a:xfrm>
              <a:off x="830160" y="2313000"/>
              <a:ext cx="2695680" cy="580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Problématique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  </a:t>
              </a: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Industrielle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62240" y="2422440"/>
              <a:ext cx="35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1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792680" y="2297160"/>
            <a:ext cx="3782880" cy="428400"/>
            <a:chOff x="4792680" y="2297160"/>
            <a:chExt cx="3782880" cy="428400"/>
          </a:xfrm>
        </p:grpSpPr>
        <p:sp>
          <p:nvSpPr>
            <p:cNvPr id="456" name=""/>
            <p:cNvSpPr/>
            <p:nvPr/>
          </p:nvSpPr>
          <p:spPr>
            <a:xfrm>
              <a:off x="4792680" y="2313000"/>
              <a:ext cx="3774960" cy="41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292929"/>
                  </a:solidFill>
                  <a:latin typeface="Times New Roman"/>
                  <a:ea typeface="SimSun"/>
                </a:rPr>
                <a:t>Cahier des Charges Fonctionnel, …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18440" y="2297160"/>
              <a:ext cx="3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3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477" name=""/>
          <p:cNvGrpSpPr/>
          <p:nvPr/>
        </p:nvGrpSpPr>
        <p:grpSpPr>
          <a:xfrm>
            <a:off x="4791240" y="3800520"/>
            <a:ext cx="3784320" cy="425520"/>
            <a:chOff x="4791240" y="3800520"/>
            <a:chExt cx="3784320" cy="425520"/>
          </a:xfrm>
        </p:grpSpPr>
        <p:sp>
          <p:nvSpPr>
            <p:cNvPr id="478" name=""/>
            <p:cNvSpPr/>
            <p:nvPr/>
          </p:nvSpPr>
          <p:spPr>
            <a:xfrm>
              <a:off x="4791240" y="3811680"/>
              <a:ext cx="3774960" cy="414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292929"/>
                  </a:solidFill>
                  <a:latin typeface="Times New Roman"/>
                  <a:ea typeface="SimSun"/>
                </a:rPr>
                <a:t>Simulation / Calcul / Expérimentation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479" name=""/>
            <p:cNvGrpSpPr/>
            <p:nvPr/>
          </p:nvGrpSpPr>
          <p:grpSpPr>
            <a:xfrm>
              <a:off x="8288280" y="3809880"/>
              <a:ext cx="281160" cy="410760"/>
              <a:chOff x="8288280" y="3809880"/>
              <a:chExt cx="281160" cy="410760"/>
            </a:xfrm>
          </p:grpSpPr>
          <p:sp>
            <p:nvSpPr>
              <p:cNvPr id="460" name=""/>
              <p:cNvSpPr/>
              <p:nvPr/>
            </p:nvSpPr>
            <p:spPr>
              <a:xfrm>
                <a:off x="8288280" y="3809880"/>
                <a:ext cx="28116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8288280" y="4012920"/>
                <a:ext cx="28116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8218440" y="3800520"/>
              <a:ext cx="3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5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4788000" y="4556160"/>
            <a:ext cx="3774960" cy="434880"/>
            <a:chOff x="4788000" y="4556160"/>
            <a:chExt cx="3774960" cy="434880"/>
          </a:xfrm>
        </p:grpSpPr>
        <p:grpSp>
          <p:nvGrpSpPr>
            <p:cNvPr id="482" name=""/>
            <p:cNvGrpSpPr/>
            <p:nvPr/>
          </p:nvGrpSpPr>
          <p:grpSpPr>
            <a:xfrm>
              <a:off x="8263080" y="4556160"/>
              <a:ext cx="280800" cy="410760"/>
              <a:chOff x="8263080" y="4556160"/>
              <a:chExt cx="280800" cy="410760"/>
            </a:xfrm>
          </p:grpSpPr>
          <p:sp>
            <p:nvSpPr>
              <p:cNvPr id="463" name=""/>
              <p:cNvSpPr/>
              <p:nvPr/>
            </p:nvSpPr>
            <p:spPr>
              <a:xfrm>
                <a:off x="8263080" y="4556160"/>
                <a:ext cx="28080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8263080" y="4759200"/>
                <a:ext cx="28080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483" name=""/>
            <p:cNvGrpSpPr/>
            <p:nvPr/>
          </p:nvGrpSpPr>
          <p:grpSpPr>
            <a:xfrm>
              <a:off x="4788000" y="4575240"/>
              <a:ext cx="3774960" cy="415800"/>
              <a:chOff x="4788000" y="4575240"/>
              <a:chExt cx="3774960" cy="415800"/>
            </a:xfrm>
          </p:grpSpPr>
          <p:sp>
            <p:nvSpPr>
              <p:cNvPr id="484" name=""/>
              <p:cNvSpPr/>
              <p:nvPr/>
            </p:nvSpPr>
            <p:spPr>
              <a:xfrm>
                <a:off x="4788000" y="4577040"/>
                <a:ext cx="3774960" cy="414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292929"/>
                    </a:solidFill>
                    <a:latin typeface="Times New Roman"/>
                    <a:ea typeface="SimSun"/>
                  </a:rPr>
                  <a:t>Interprétation des écarts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485" name=""/>
              <p:cNvGrpSpPr/>
              <p:nvPr/>
            </p:nvGrpSpPr>
            <p:grpSpPr>
              <a:xfrm>
                <a:off x="8246880" y="4575240"/>
                <a:ext cx="307800" cy="411480"/>
                <a:chOff x="8246880" y="4575240"/>
                <a:chExt cx="307800" cy="4114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8246880" y="4575240"/>
                  <a:ext cx="307800" cy="20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8246880" y="4778640"/>
                  <a:ext cx="307800" cy="20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8" name=""/>
            <p:cNvSpPr/>
            <p:nvPr/>
          </p:nvSpPr>
          <p:spPr>
            <a:xfrm>
              <a:off x="8207280" y="4559400"/>
              <a:ext cx="35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6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489" name=""/>
          <p:cNvGrpSpPr/>
          <p:nvPr/>
        </p:nvGrpSpPr>
        <p:grpSpPr>
          <a:xfrm>
            <a:off x="4791240" y="5283360"/>
            <a:ext cx="3774960" cy="441000"/>
            <a:chOff x="4791240" y="5283360"/>
            <a:chExt cx="3774960" cy="441000"/>
          </a:xfrm>
        </p:grpSpPr>
        <p:sp>
          <p:nvSpPr>
            <p:cNvPr id="466" name=""/>
            <p:cNvSpPr/>
            <p:nvPr/>
          </p:nvSpPr>
          <p:spPr>
            <a:xfrm>
              <a:off x="4791240" y="5311800"/>
              <a:ext cx="3774960" cy="41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292929"/>
                  </a:solidFill>
                  <a:latin typeface="Times New Roman"/>
                  <a:ea typeface="SimSun"/>
                </a:rPr>
                <a:t>Validation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209080" y="5283360"/>
              <a:ext cx="3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7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491" name=""/>
          <p:cNvGrpSpPr/>
          <p:nvPr/>
        </p:nvGrpSpPr>
        <p:grpSpPr>
          <a:xfrm>
            <a:off x="825480" y="5283360"/>
            <a:ext cx="2698920" cy="441000"/>
            <a:chOff x="825480" y="5283360"/>
            <a:chExt cx="2698920" cy="441000"/>
          </a:xfrm>
        </p:grpSpPr>
        <p:sp>
          <p:nvSpPr>
            <p:cNvPr id="470" name=""/>
            <p:cNvSpPr/>
            <p:nvPr/>
          </p:nvSpPr>
          <p:spPr>
            <a:xfrm>
              <a:off x="828720" y="5310360"/>
              <a:ext cx="2695680" cy="414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Support Industriel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149640" y="5283360"/>
              <a:ext cx="36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2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25480" y="5308560"/>
              <a:ext cx="4777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494" name=""/>
          <p:cNvGrpSpPr/>
          <p:nvPr/>
        </p:nvGrpSpPr>
        <p:grpSpPr>
          <a:xfrm>
            <a:off x="4791240" y="3041640"/>
            <a:ext cx="3784320" cy="434520"/>
            <a:chOff x="4791240" y="3041640"/>
            <a:chExt cx="3784320" cy="434520"/>
          </a:xfrm>
        </p:grpSpPr>
        <p:sp>
          <p:nvSpPr>
            <p:cNvPr id="495" name=""/>
            <p:cNvSpPr/>
            <p:nvPr/>
          </p:nvSpPr>
          <p:spPr>
            <a:xfrm>
              <a:off x="4791240" y="3062160"/>
              <a:ext cx="3774960" cy="412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292929"/>
                  </a:solidFill>
                  <a:latin typeface="Times New Roman"/>
                  <a:ea typeface="SimSun"/>
                </a:rPr>
                <a:t>Modélisation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496" name=""/>
            <p:cNvGrpSpPr/>
            <p:nvPr/>
          </p:nvGrpSpPr>
          <p:grpSpPr>
            <a:xfrm>
              <a:off x="8280360" y="3056040"/>
              <a:ext cx="281160" cy="412200"/>
              <a:chOff x="8280360" y="3056040"/>
              <a:chExt cx="281160" cy="412200"/>
            </a:xfrm>
          </p:grpSpPr>
          <p:sp>
            <p:nvSpPr>
              <p:cNvPr id="457" name=""/>
              <p:cNvSpPr/>
              <p:nvPr/>
            </p:nvSpPr>
            <p:spPr>
              <a:xfrm>
                <a:off x="8280360" y="3056040"/>
                <a:ext cx="28116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8280360" y="3259800"/>
                <a:ext cx="28116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497" name=""/>
            <p:cNvSpPr/>
            <p:nvPr/>
          </p:nvSpPr>
          <p:spPr>
            <a:xfrm>
              <a:off x="8218440" y="3041640"/>
              <a:ext cx="3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4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498" name=""/>
            <p:cNvGrpSpPr/>
            <p:nvPr/>
          </p:nvGrpSpPr>
          <p:grpSpPr>
            <a:xfrm>
              <a:off x="4791240" y="3065400"/>
              <a:ext cx="282240" cy="410760"/>
              <a:chOff x="4791240" y="3065400"/>
              <a:chExt cx="282240" cy="410760"/>
            </a:xfrm>
          </p:grpSpPr>
          <p:sp>
            <p:nvSpPr>
              <p:cNvPr id="471" name=""/>
              <p:cNvSpPr/>
              <p:nvPr/>
            </p:nvSpPr>
            <p:spPr>
              <a:xfrm>
                <a:off x="4791240" y="3065400"/>
                <a:ext cx="2822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791240" y="3268440"/>
                <a:ext cx="2822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cxnSp>
        <p:nvCxnSpPr>
          <p:cNvPr id="500" name=""/>
          <p:cNvCxnSpPr>
            <a:stCxn id="484" idx="1"/>
            <a:endCxn id="499" idx="1"/>
          </p:cNvCxnSpPr>
          <p:nvPr/>
        </p:nvCxnSpPr>
        <p:spPr>
          <a:xfrm flipH="1" rot="10800000">
            <a:off x="4786920" y="3372840"/>
            <a:ext cx="3960" cy="1411920"/>
          </a:xfrm>
          <a:prstGeom prst="bentConnector3">
            <a:avLst>
              <a:gd name="adj1" fmla="val -7200000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sp>
        <p:nvSpPr>
          <p:cNvPr id="501" name=""/>
          <p:cNvSpPr/>
          <p:nvPr/>
        </p:nvSpPr>
        <p:spPr>
          <a:xfrm>
            <a:off x="1400040" y="1930320"/>
            <a:ext cx="15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292929"/>
                </a:solidFill>
                <a:latin typeface="Times New Roman"/>
                <a:ea typeface="SimSun"/>
              </a:rPr>
              <a:t>Authentiqu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363680" y="575784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292929"/>
                </a:solidFill>
                <a:latin typeface="Times New Roman"/>
                <a:ea typeface="SimSun"/>
              </a:rPr>
              <a:t>Contemporai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1028880" y="2955960"/>
            <a:ext cx="520560" cy="2301840"/>
            <a:chOff x="1028880" y="2955960"/>
            <a:chExt cx="520560" cy="2301840"/>
          </a:xfrm>
        </p:grpSpPr>
        <p:sp>
          <p:nvSpPr>
            <p:cNvPr id="504" name=""/>
            <p:cNvSpPr/>
            <p:nvPr/>
          </p:nvSpPr>
          <p:spPr>
            <a:xfrm>
              <a:off x="1104840" y="2955960"/>
              <a:ext cx="366840" cy="23018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1028880" y="4737240"/>
              <a:ext cx="520560" cy="520560"/>
            </a:xfrm>
            <a:prstGeom prst="smileyFace">
              <a:avLst>
                <a:gd name="adj" fmla="val -4652"/>
              </a:avLst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506" name=""/>
          <p:cNvGrpSpPr/>
          <p:nvPr/>
        </p:nvGrpSpPr>
        <p:grpSpPr>
          <a:xfrm>
            <a:off x="1359000" y="2945880"/>
            <a:ext cx="520560" cy="2302200"/>
            <a:chOff x="1359000" y="2945880"/>
            <a:chExt cx="520560" cy="2302200"/>
          </a:xfrm>
        </p:grpSpPr>
        <p:sp>
          <p:nvSpPr>
            <p:cNvPr id="507" name=""/>
            <p:cNvSpPr/>
            <p:nvPr/>
          </p:nvSpPr>
          <p:spPr>
            <a:xfrm flipV="1">
              <a:off x="1434960" y="2945520"/>
              <a:ext cx="366840" cy="23022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359000" y="2946240"/>
              <a:ext cx="520560" cy="520920"/>
            </a:xfrm>
            <a:prstGeom prst="smileyFace">
              <a:avLst>
                <a:gd name="adj" fmla="val 9282"/>
              </a:avLst>
            </a:prstGeom>
            <a:solidFill>
              <a:srgbClr val="babb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509" name=""/>
          <p:cNvGrpSpPr/>
          <p:nvPr/>
        </p:nvGrpSpPr>
        <p:grpSpPr>
          <a:xfrm>
            <a:off x="4792680" y="3046320"/>
            <a:ext cx="3782880" cy="428400"/>
            <a:chOff x="4792680" y="3046320"/>
            <a:chExt cx="3782880" cy="428400"/>
          </a:xfrm>
        </p:grpSpPr>
        <p:sp>
          <p:nvSpPr>
            <p:cNvPr id="510" name=""/>
            <p:cNvSpPr/>
            <p:nvPr/>
          </p:nvSpPr>
          <p:spPr>
            <a:xfrm>
              <a:off x="4792680" y="3062160"/>
              <a:ext cx="3774960" cy="4125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Modélisation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8218440" y="3046320"/>
              <a:ext cx="3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4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512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Proposition pédagogiqu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1EB8-A821-4F8D-B027-6CCFCBD52FD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949320" y="1866960"/>
            <a:ext cx="7661160" cy="31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434160" indent="-4341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Tahoma"/>
              </a:rPr>
              <a:t>La </a:t>
            </a:r>
            <a:r>
              <a:rPr b="1" lang="fr-FR" sz="2400" spc="-1" strike="noStrike">
                <a:solidFill>
                  <a:srgbClr val="292929"/>
                </a:solidFill>
                <a:latin typeface="Tahoma"/>
              </a:rPr>
              <a:t>modélisation</a:t>
            </a:r>
            <a:r>
              <a:rPr b="0" lang="fr-FR" sz="2400" spc="-1" strike="noStrike">
                <a:solidFill>
                  <a:srgbClr val="292929"/>
                </a:solidFill>
                <a:latin typeface="Tahoma"/>
              </a:rPr>
              <a:t>, représentation simplifiée et non simpliste de la réalité, autorise les investigations théoriques au regard du </a:t>
            </a:r>
            <a:r>
              <a:rPr b="1" lang="fr-FR" sz="2400" spc="-1" strike="noStrike">
                <a:solidFill>
                  <a:srgbClr val="292929"/>
                </a:solidFill>
                <a:latin typeface="Tahoma"/>
              </a:rPr>
              <a:t>point de vue</a:t>
            </a:r>
            <a:r>
              <a:rPr b="0" lang="fr-FR" sz="2400" spc="-1" strike="noStrike">
                <a:solidFill>
                  <a:srgbClr val="292929"/>
                </a:solidFill>
                <a:latin typeface="Tahoma"/>
              </a:rPr>
              <a:t> retenu et de la </a:t>
            </a:r>
            <a:r>
              <a:rPr b="1" lang="fr-FR" sz="2400" spc="-1" strike="noStrike">
                <a:solidFill>
                  <a:srgbClr val="292929"/>
                </a:solidFill>
                <a:latin typeface="Tahoma"/>
              </a:rPr>
              <a:t>problématique</a:t>
            </a:r>
            <a:r>
              <a:rPr b="0" lang="fr-FR" sz="2400" spc="-1" strike="noStrike">
                <a:solidFill>
                  <a:srgbClr val="292929"/>
                </a:solidFill>
                <a:latin typeface="Tahoma"/>
              </a:rPr>
              <a:t> industrielle posé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34160" indent="-4341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Considérer avec prudence, les modélisations « automatiques » proposées par certains logiciels, dans la mesure ou l’objectif de l’étude et le point de vue sont ignoré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La modélis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763640" y="36468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oposition pédagogiqu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22B8-FA14-4CB4-82CF-AA1A13DC112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1447920" y="41436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Système de soudage par friction inertielle MTI 480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676760" y="2795760"/>
            <a:ext cx="4003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Arial"/>
              </a:rPr>
              <a:t>Cahier des charges fonctionn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675320" y="3614760"/>
            <a:ext cx="420192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Comic Sans MS"/>
              </a:rPr>
              <a:t>Énergie de soudage (proportionnelle à la surface à souder) = 110 J mm</a:t>
            </a:r>
            <a:r>
              <a:rPr b="0" lang="fr-FR" sz="1600" spc="-1" strike="noStrike" baseline="30000">
                <a:solidFill>
                  <a:srgbClr val="292929"/>
                </a:solidFill>
                <a:latin typeface="Comic Sans MS"/>
              </a:rPr>
              <a:t>-2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Comic Sans MS"/>
              </a:rPr>
              <a:t>Pression de</a:t>
            </a:r>
            <a:r>
              <a:rPr b="0" lang="fr-FR" sz="1600" spc="-1" strike="noStrike" baseline="30000">
                <a:solidFill>
                  <a:srgbClr val="292929"/>
                </a:solidFill>
                <a:latin typeface="Comic Sans MS"/>
              </a:rPr>
              <a:t> </a:t>
            </a:r>
            <a:r>
              <a:rPr b="0" lang="fr-FR" sz="1600" spc="-1" strike="noStrike">
                <a:solidFill>
                  <a:srgbClr val="292929"/>
                </a:solidFill>
                <a:latin typeface="Comic Sans MS"/>
              </a:rPr>
              <a:t>soudage = 360 MPa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Comic Sans MS"/>
              </a:rPr>
              <a:t>Vitesse circonférentielle = 100 m min</a:t>
            </a:r>
            <a:r>
              <a:rPr b="0" lang="fr-FR" sz="1600" spc="-1" strike="noStrike" baseline="30000">
                <a:solidFill>
                  <a:srgbClr val="292929"/>
                </a:solidFill>
                <a:latin typeface="Comic Sans MS"/>
              </a:rPr>
              <a:t>-1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6276960" y="5184720"/>
            <a:ext cx="20239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N =  150 tr/m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F = 3,6 10</a:t>
            </a:r>
            <a:r>
              <a:rPr b="1" lang="fr-FR" sz="2000" spc="-1" strike="noStrike" baseline="30000">
                <a:solidFill>
                  <a:srgbClr val="292929"/>
                </a:solidFill>
                <a:latin typeface="Arial"/>
              </a:rPr>
              <a:t>6</a:t>
            </a: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 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292929"/>
                </a:solidFill>
                <a:latin typeface="Arial"/>
              </a:rPr>
              <a:t>I =  9300 kg.m</a:t>
            </a:r>
            <a:r>
              <a:rPr b="1" lang="fr-FR" sz="2000" spc="-1" strike="noStrike" baseline="30000">
                <a:solidFill>
                  <a:srgbClr val="292929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143680" y="5178600"/>
            <a:ext cx="876240" cy="475920"/>
          </a:xfrm>
          <a:custGeom>
            <a:avLst/>
            <a:gdLst>
              <a:gd name="textAreaLeft" fmla="*/ 136800 w 876240"/>
              <a:gd name="textAreaRight" fmla="*/ 766800 w 876240"/>
              <a:gd name="textAreaTop" fmla="*/ 118800 h 475920"/>
              <a:gd name="textAreaBottom" fmla="*/ 357120 h 475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21" name="Mti480" descr=""/>
          <p:cNvPicPr/>
          <p:nvPr/>
        </p:nvPicPr>
        <p:blipFill>
          <a:blip r:embed="rId1"/>
          <a:stretch/>
        </p:blipFill>
        <p:spPr>
          <a:xfrm>
            <a:off x="1066680" y="2876400"/>
            <a:ext cx="3581640" cy="2810160"/>
          </a:xfrm>
          <a:prstGeom prst="rect">
            <a:avLst/>
          </a:prstGeom>
          <a:ln w="0">
            <a:noFill/>
          </a:ln>
        </p:spPr>
      </p:pic>
      <p:pic>
        <p:nvPicPr>
          <p:cNvPr id="522" name="Ge90-2" descr=""/>
          <p:cNvPicPr/>
          <p:nvPr/>
        </p:nvPicPr>
        <p:blipFill>
          <a:blip r:embed="rId2"/>
          <a:stretch/>
        </p:blipFill>
        <p:spPr>
          <a:xfrm>
            <a:off x="4705200" y="930240"/>
            <a:ext cx="3754440" cy="2359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4552920" y="3324240"/>
            <a:ext cx="4832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500" spc="-1" strike="noStrike">
                <a:solidFill>
                  <a:srgbClr val="292929"/>
                </a:solidFill>
                <a:latin typeface="Arial"/>
              </a:rPr>
              <a:t>Moteur SNECMA GE 90 équipant les Boeing B777</a:t>
            </a:r>
            <a:endParaRPr b="0" lang="en-US" sz="15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F1C6-570D-466F-B073-0A970C6462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447920" y="414360"/>
            <a:ext cx="769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Système de soudage par friction inertielle MTI 480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487440" y="4162320"/>
            <a:ext cx="3390480" cy="2427120"/>
            <a:chOff x="487440" y="4162320"/>
            <a:chExt cx="3390480" cy="2427120"/>
          </a:xfrm>
        </p:grpSpPr>
        <p:graphicFrame>
          <p:nvGraphicFramePr>
            <p:cNvPr id="526" name=""/>
            <p:cNvGraphicFramePr/>
            <p:nvPr/>
          </p:nvGraphicFramePr>
          <p:xfrm>
            <a:off x="487440" y="4162320"/>
            <a:ext cx="3390480" cy="24271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5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7440" y="4162320"/>
                      <a:ext cx="3390480" cy="2427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28" name=""/>
            <p:cNvSpPr/>
            <p:nvPr/>
          </p:nvSpPr>
          <p:spPr>
            <a:xfrm>
              <a:off x="524160" y="4242240"/>
              <a:ext cx="347040" cy="12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700" spc="-1" strike="noStrike">
                  <a:solidFill>
                    <a:srgbClr val="000000"/>
                  </a:solidFill>
                  <a:latin typeface="Arial"/>
                </a:rPr>
                <a:t>tr min</a:t>
              </a:r>
              <a:r>
                <a:rPr b="0" lang="fr-FR" sz="700" spc="-1" strike="noStrike" baseline="30000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7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646640" y="4181040"/>
              <a:ext cx="1092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00ff"/>
                  </a:solidFill>
                  <a:latin typeface="Arial"/>
                </a:rPr>
                <a:t>pression p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571400" y="4724280"/>
              <a:ext cx="960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0000"/>
                  </a:solidFill>
                  <a:latin typeface="Arial"/>
                </a:rPr>
                <a:t>vitesse N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753640" y="5139720"/>
              <a:ext cx="10620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008000"/>
                  </a:solidFill>
                  <a:latin typeface="Arial"/>
                </a:rPr>
                <a:t>déplacement x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419720" y="1219320"/>
            <a:ext cx="4724280" cy="5434560"/>
            <a:chOff x="4419720" y="1219320"/>
            <a:chExt cx="4724280" cy="5434560"/>
          </a:xfrm>
        </p:grpSpPr>
        <p:sp>
          <p:nvSpPr>
            <p:cNvPr id="533" name=""/>
            <p:cNvSpPr/>
            <p:nvPr/>
          </p:nvSpPr>
          <p:spPr>
            <a:xfrm>
              <a:off x="4419720" y="1219320"/>
              <a:ext cx="4724280" cy="45720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372280" y="553716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808080"/>
                  </a:solidFill>
                  <a:latin typeface="Arial Narrow"/>
                </a:rPr>
                <a:t>Schéma hydraulique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4419720" y="5791320"/>
              <a:ext cx="4724280" cy="862560"/>
            </a:xfrm>
            <a:prstGeom prst="rect">
              <a:avLst/>
            </a:pr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292929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292929"/>
                  </a:solidFill>
                  <a:latin typeface="Times New Roman"/>
                </a:rPr>
                <a:t> </a:t>
              </a:r>
              <a:r>
                <a:rPr b="0" lang="fr-FR" sz="2000" spc="-1" strike="noStrike">
                  <a:solidFill>
                    <a:srgbClr val="292929"/>
                  </a:solidFill>
                  <a:latin typeface="Times New Roman"/>
                </a:rPr>
                <a:t>Circuit de mise en accélération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buClr>
                  <a:srgbClr val="292929"/>
                </a:buClr>
                <a:buFont typeface="Times New Roman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292929"/>
                  </a:solidFill>
                  <a:latin typeface="Times New Roman"/>
                </a:rPr>
                <a:t> </a:t>
              </a:r>
              <a:r>
                <a:rPr b="0" lang="fr-FR" sz="2000" spc="-1" strike="noStrike">
                  <a:solidFill>
                    <a:srgbClr val="292929"/>
                  </a:solidFill>
                  <a:latin typeface="Times New Roman"/>
                </a:rPr>
                <a:t>Circuit d’alimentation du vérin de poussé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536" name="" descr=""/>
            <p:cNvPicPr/>
            <p:nvPr/>
          </p:nvPicPr>
          <p:blipFill>
            <a:blip r:embed="rId3"/>
            <a:stretch/>
          </p:blipFill>
          <p:spPr>
            <a:xfrm>
              <a:off x="4478400" y="1353960"/>
              <a:ext cx="4487760" cy="417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37" name=""/>
          <p:cNvGrpSpPr/>
          <p:nvPr/>
        </p:nvGrpSpPr>
        <p:grpSpPr>
          <a:xfrm>
            <a:off x="241200" y="2276640"/>
            <a:ext cx="4572000" cy="1712880"/>
            <a:chOff x="241200" y="2276640"/>
            <a:chExt cx="4572000" cy="1712880"/>
          </a:xfrm>
        </p:grpSpPr>
        <p:grpSp>
          <p:nvGrpSpPr>
            <p:cNvPr id="538" name=""/>
            <p:cNvGrpSpPr/>
            <p:nvPr/>
          </p:nvGrpSpPr>
          <p:grpSpPr>
            <a:xfrm>
              <a:off x="241200" y="2276640"/>
              <a:ext cx="4572000" cy="1712880"/>
              <a:chOff x="241200" y="2276640"/>
              <a:chExt cx="4572000" cy="1712880"/>
            </a:xfrm>
          </p:grpSpPr>
          <p:sp>
            <p:nvSpPr>
              <p:cNvPr id="539" name=""/>
              <p:cNvSpPr/>
              <p:nvPr/>
            </p:nvSpPr>
            <p:spPr>
              <a:xfrm>
                <a:off x="241200" y="2276640"/>
                <a:ext cx="4572000" cy="1712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29292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 flipH="1">
                <a:off x="4443120" y="3213360"/>
                <a:ext cx="230040" cy="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267080" y="3213360"/>
                <a:ext cx="88920" cy="0"/>
              </a:xfrm>
              <a:prstGeom prst="line">
                <a:avLst/>
              </a:prstGeom>
              <a:ln w="19080">
                <a:solidFill>
                  <a:srgbClr val="8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298440" y="2965680"/>
                <a:ext cx="954000" cy="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1243080" y="2472120"/>
                <a:ext cx="0" cy="983880"/>
              </a:xfrm>
              <a:prstGeom prst="line">
                <a:avLst/>
              </a:prstGeom>
              <a:ln w="1908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544" name=""/>
              <p:cNvGrpSpPr/>
              <p:nvPr/>
            </p:nvGrpSpPr>
            <p:grpSpPr>
              <a:xfrm>
                <a:off x="1287360" y="2558520"/>
                <a:ext cx="88920" cy="815400"/>
                <a:chOff x="1287360" y="2558520"/>
                <a:chExt cx="88920" cy="815400"/>
              </a:xfrm>
            </p:grpSpPr>
            <p:sp>
              <p:nvSpPr>
                <p:cNvPr id="545" name=""/>
                <p:cNvSpPr/>
                <p:nvPr/>
              </p:nvSpPr>
              <p:spPr>
                <a:xfrm>
                  <a:off x="1287360" y="2558520"/>
                  <a:ext cx="88920" cy="815400"/>
                </a:xfrm>
                <a:prstGeom prst="rect">
                  <a:avLst/>
                </a:prstGeom>
                <a:noFill/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1287360" y="2558520"/>
                  <a:ext cx="88920" cy="5256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287360" y="3321360"/>
                  <a:ext cx="88920" cy="5256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1565280" y="2558520"/>
                <a:ext cx="88920" cy="815400"/>
                <a:chOff x="1565280" y="2558520"/>
                <a:chExt cx="88920" cy="81540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1565280" y="2558520"/>
                  <a:ext cx="88920" cy="815400"/>
                </a:xfrm>
                <a:prstGeom prst="rect">
                  <a:avLst/>
                </a:prstGeom>
                <a:noFill/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565280" y="2558520"/>
                  <a:ext cx="88920" cy="52560"/>
                </a:xfrm>
                <a:prstGeom prst="rect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565280" y="3321360"/>
                  <a:ext cx="88920" cy="52560"/>
                </a:xfrm>
                <a:prstGeom prst="rect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936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1239840" y="2467440"/>
                <a:ext cx="98280" cy="92880"/>
                <a:chOff x="1239840" y="2467440"/>
                <a:chExt cx="98280" cy="9288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1239840" y="2471760"/>
                  <a:ext cx="97200" cy="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338120" y="2467440"/>
                  <a:ext cx="0" cy="9288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1239840" y="3368160"/>
                <a:ext cx="98280" cy="92880"/>
                <a:chOff x="1239840" y="3368160"/>
                <a:chExt cx="98280" cy="9288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1239840" y="3456720"/>
                  <a:ext cx="97200" cy="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 flipV="1">
                  <a:off x="1338120" y="3368160"/>
                  <a:ext cx="0" cy="9288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1609560" y="2472120"/>
                <a:ext cx="98640" cy="92880"/>
                <a:chOff x="1609560" y="2472120"/>
                <a:chExt cx="98640" cy="92880"/>
              </a:xfrm>
            </p:grpSpPr>
            <p:sp>
              <p:nvSpPr>
                <p:cNvPr id="559" name=""/>
                <p:cNvSpPr/>
                <p:nvPr/>
              </p:nvSpPr>
              <p:spPr>
                <a:xfrm flipH="1">
                  <a:off x="1610640" y="2476440"/>
                  <a:ext cx="97560" cy="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1609560" y="2472120"/>
                  <a:ext cx="0" cy="9288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1604880" y="3368160"/>
                <a:ext cx="100080" cy="92880"/>
                <a:chOff x="1604880" y="3368160"/>
                <a:chExt cx="100080" cy="92880"/>
              </a:xfrm>
            </p:grpSpPr>
            <p:sp>
              <p:nvSpPr>
                <p:cNvPr id="562" name=""/>
                <p:cNvSpPr/>
                <p:nvPr/>
              </p:nvSpPr>
              <p:spPr>
                <a:xfrm flipH="1">
                  <a:off x="1605960" y="3456720"/>
                  <a:ext cx="99000" cy="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 flipV="1">
                  <a:off x="1604880" y="3368160"/>
                  <a:ext cx="0" cy="92880"/>
                </a:xfrm>
                <a:prstGeom prst="line">
                  <a:avLst/>
                </a:prstGeom>
                <a:ln w="19080">
                  <a:solidFill>
                    <a:srgbClr val="80008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4" name=""/>
              <p:cNvSpPr/>
              <p:nvPr/>
            </p:nvSpPr>
            <p:spPr>
              <a:xfrm>
                <a:off x="1703160" y="2476800"/>
                <a:ext cx="0" cy="984240"/>
              </a:xfrm>
              <a:prstGeom prst="line">
                <a:avLst/>
              </a:prstGeom>
              <a:ln w="190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127240" y="2976840"/>
                <a:ext cx="0" cy="703440"/>
              </a:xfrm>
              <a:prstGeom prst="line">
                <a:avLst/>
              </a:prstGeom>
              <a:ln w="190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 flipH="1">
                <a:off x="627120" y="3720960"/>
                <a:ext cx="2914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1869840" y="3675240"/>
                <a:ext cx="507960" cy="1011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568" name=""/>
              <p:cNvGrpSpPr/>
              <p:nvPr/>
            </p:nvGrpSpPr>
            <p:grpSpPr>
              <a:xfrm>
                <a:off x="492120" y="2919960"/>
                <a:ext cx="279360" cy="996480"/>
                <a:chOff x="492120" y="2919960"/>
                <a:chExt cx="279360" cy="996480"/>
              </a:xfrm>
            </p:grpSpPr>
            <p:sp>
              <p:nvSpPr>
                <p:cNvPr id="569" name=""/>
                <p:cNvSpPr/>
                <p:nvPr/>
              </p:nvSpPr>
              <p:spPr>
                <a:xfrm>
                  <a:off x="492120" y="2924280"/>
                  <a:ext cx="0" cy="10512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771480" y="2919960"/>
                  <a:ext cx="0" cy="105120"/>
                </a:xfrm>
                <a:prstGeom prst="line">
                  <a:avLst/>
                </a:prstGeom>
                <a:ln w="1908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527400" y="2937240"/>
                  <a:ext cx="212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527400" y="2998800"/>
                  <a:ext cx="212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624960" y="3003120"/>
                  <a:ext cx="0" cy="829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514080" y="3832920"/>
                  <a:ext cx="2127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509760" y="3837600"/>
                  <a:ext cx="217440" cy="78840"/>
                </a:xfrm>
                <a:prstGeom prst="rect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6" name=""/>
              <p:cNvSpPr/>
              <p:nvPr/>
            </p:nvSpPr>
            <p:spPr>
              <a:xfrm>
                <a:off x="2342880" y="2919960"/>
                <a:ext cx="330480" cy="1026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577" name=""/>
              <p:cNvGrpSpPr/>
              <p:nvPr/>
            </p:nvGrpSpPr>
            <p:grpSpPr>
              <a:xfrm>
                <a:off x="2678040" y="2782800"/>
                <a:ext cx="123840" cy="160560"/>
                <a:chOff x="2678040" y="2782800"/>
                <a:chExt cx="123840" cy="16056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2678040" y="2940480"/>
                  <a:ext cx="123840" cy="0"/>
                </a:xfrm>
                <a:prstGeom prst="line">
                  <a:avLst/>
                </a:prstGeom>
                <a:ln w="1908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 flipV="1">
                  <a:off x="2801880" y="2782800"/>
                  <a:ext cx="0" cy="160560"/>
                </a:xfrm>
                <a:prstGeom prst="line">
                  <a:avLst/>
                </a:prstGeom>
                <a:ln w="1908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" name=""/>
              <p:cNvGrpSpPr/>
              <p:nvPr/>
            </p:nvGrpSpPr>
            <p:grpSpPr>
              <a:xfrm>
                <a:off x="2678040" y="3006720"/>
                <a:ext cx="123840" cy="160560"/>
                <a:chOff x="2678040" y="3006720"/>
                <a:chExt cx="123840" cy="16056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2678040" y="3009600"/>
                  <a:ext cx="123840" cy="0"/>
                </a:xfrm>
                <a:prstGeom prst="line">
                  <a:avLst/>
                </a:prstGeom>
                <a:ln w="1908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801880" y="3006720"/>
                  <a:ext cx="0" cy="160560"/>
                </a:xfrm>
                <a:prstGeom prst="line">
                  <a:avLst/>
                </a:prstGeom>
                <a:ln w="1908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3" name=""/>
              <p:cNvSpPr/>
              <p:nvPr/>
            </p:nvSpPr>
            <p:spPr>
              <a:xfrm>
                <a:off x="2806560" y="3525840"/>
                <a:ext cx="0" cy="2016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2131920" y="3464280"/>
                <a:ext cx="608040" cy="0"/>
              </a:xfrm>
              <a:prstGeom prst="line">
                <a:avLst/>
              </a:prstGeom>
              <a:ln w="190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2739960" y="3429720"/>
                <a:ext cx="0" cy="78480"/>
              </a:xfrm>
              <a:prstGeom prst="line">
                <a:avLst/>
              </a:prstGeom>
              <a:ln w="1908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2517840" y="3407400"/>
                <a:ext cx="607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2514600" y="3520800"/>
                <a:ext cx="606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3117600" y="3407400"/>
                <a:ext cx="0" cy="1180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2522520" y="3404160"/>
                <a:ext cx="0" cy="3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2522520" y="3481560"/>
                <a:ext cx="0" cy="39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V="1">
                <a:off x="3178080" y="3003480"/>
                <a:ext cx="0" cy="3592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3178080" y="3087360"/>
                <a:ext cx="37476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3549600" y="3022560"/>
                <a:ext cx="0" cy="133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594" name=""/>
              <p:cNvGrpSpPr/>
              <p:nvPr/>
            </p:nvGrpSpPr>
            <p:grpSpPr>
              <a:xfrm>
                <a:off x="3324240" y="3012840"/>
                <a:ext cx="392040" cy="157680"/>
                <a:chOff x="3324240" y="3012840"/>
                <a:chExt cx="392040" cy="157680"/>
              </a:xfrm>
            </p:grpSpPr>
            <p:sp>
              <p:nvSpPr>
                <p:cNvPr id="595" name=""/>
                <p:cNvSpPr/>
                <p:nvPr/>
              </p:nvSpPr>
              <p:spPr>
                <a:xfrm>
                  <a:off x="3328560" y="3012840"/>
                  <a:ext cx="387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3324240" y="3165840"/>
                  <a:ext cx="3877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3711960" y="3012840"/>
                  <a:ext cx="0" cy="157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3330720" y="3012840"/>
                  <a:ext cx="0" cy="5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3330720" y="3113280"/>
                  <a:ext cx="0" cy="525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3535200" y="3165840"/>
                <a:ext cx="0" cy="5547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3031560" y="3311280"/>
                <a:ext cx="150840" cy="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052800" y="3282480"/>
                <a:ext cx="114120" cy="0"/>
              </a:xfrm>
              <a:prstGeom prst="line">
                <a:avLst/>
              </a:prstGeom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3031920" y="3267000"/>
                <a:ext cx="0" cy="961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3047760" y="3334680"/>
                <a:ext cx="114480" cy="0"/>
              </a:xfrm>
              <a:prstGeom prst="line">
                <a:avLst/>
              </a:prstGeom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1697040" y="2752920"/>
                <a:ext cx="631800" cy="23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800080"/>
                    </a:solidFill>
                    <a:latin typeface="Arial"/>
                  </a:rPr>
                  <a:t>Chariot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736720" y="3508200"/>
                <a:ext cx="88596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Coulisseau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3433680" y="3120120"/>
                <a:ext cx="739800" cy="35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00"/>
                    </a:solidFill>
                    <a:latin typeface="Arial"/>
                  </a:rPr>
                  <a:t>Vérin de poussée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2457360" y="3128040"/>
                <a:ext cx="646200" cy="233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8000"/>
                    </a:solidFill>
                    <a:latin typeface="Arial"/>
                  </a:rPr>
                  <a:t>Ciseaux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3335400" y="2757600"/>
                <a:ext cx="404640" cy="151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800080"/>
                    </a:solidFill>
                    <a:latin typeface="Arial"/>
                  </a:rPr>
                  <a:t>Vis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2282760" y="2697480"/>
                <a:ext cx="536400" cy="18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0000ff"/>
                    </a:solidFill>
                    <a:latin typeface="Arial"/>
                  </a:rPr>
                  <a:t>Ecrou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4341600" y="3274560"/>
                <a:ext cx="66960" cy="6624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0986200">
                <a:off x="4213080" y="2957400"/>
                <a:ext cx="108000" cy="338760"/>
              </a:xfrm>
              <a:custGeom>
                <a:avLst/>
                <a:gdLst/>
                <a:ahLst/>
                <a:rect l="l" t="t" r="r" b="b"/>
                <a:pathLst>
                  <a:path w="360" h="1130">
                    <a:moveTo>
                      <a:pt x="330" y="1130"/>
                    </a:moveTo>
                    <a:lnTo>
                      <a:pt x="35" y="716"/>
                    </a:lnTo>
                    <a:lnTo>
                      <a:pt x="0" y="617"/>
                    </a:lnTo>
                    <a:lnTo>
                      <a:pt x="23" y="551"/>
                    </a:lnTo>
                    <a:lnTo>
                      <a:pt x="186" y="11"/>
                    </a:lnTo>
                    <a:lnTo>
                      <a:pt x="360" y="0"/>
                    </a:lnTo>
                  </a:path>
                </a:pathLst>
              </a:custGeom>
              <a:noFill/>
              <a:ln w="1908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 rot="20491200">
                <a:off x="4282200" y="2839320"/>
                <a:ext cx="193320" cy="19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998" y="1333"/>
                    </a:moveTo>
                    <a:arcTo wR="10800" hR="10800" stAng="-3673638" swAng="71419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998" y="1333"/>
                    </a:moveTo>
                    <a:arcTo wR="10800" hR="10800" stAng="-3673638" swAng="7141928"/>
                  </a:path>
                </a:pathLst>
              </a:custGeom>
              <a:noFill/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614" name=""/>
              <p:cNvGrpSpPr/>
              <p:nvPr/>
            </p:nvGrpSpPr>
            <p:grpSpPr>
              <a:xfrm>
                <a:off x="4356000" y="3178440"/>
                <a:ext cx="158400" cy="67680"/>
                <a:chOff x="4356000" y="3178440"/>
                <a:chExt cx="158400" cy="67680"/>
              </a:xfrm>
            </p:grpSpPr>
            <p:sp>
              <p:nvSpPr>
                <p:cNvPr id="615" name=""/>
                <p:cNvSpPr/>
                <p:nvPr/>
              </p:nvSpPr>
              <p:spPr>
                <a:xfrm flipH="1">
                  <a:off x="4356000" y="3178440"/>
                  <a:ext cx="156960" cy="0"/>
                </a:xfrm>
                <a:prstGeom prst="line">
                  <a:avLst/>
                </a:prstGeom>
                <a:ln w="1908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616" name=""/>
                <p:cNvSpPr/>
                <p:nvPr/>
              </p:nvSpPr>
              <p:spPr>
                <a:xfrm flipH="1">
                  <a:off x="4357440" y="3244320"/>
                  <a:ext cx="156960" cy="0"/>
                </a:xfrm>
                <a:prstGeom prst="line">
                  <a:avLst/>
                </a:prstGeom>
                <a:ln w="1908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617" name=""/>
                <p:cNvSpPr/>
                <p:nvPr/>
              </p:nvSpPr>
              <p:spPr>
                <a:xfrm>
                  <a:off x="4357440" y="3178440"/>
                  <a:ext cx="0" cy="67680"/>
                </a:xfrm>
                <a:prstGeom prst="line">
                  <a:avLst/>
                </a:prstGeom>
                <a:ln w="1908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618" name=""/>
                <p:cNvSpPr/>
                <p:nvPr/>
              </p:nvSpPr>
              <p:spPr>
                <a:xfrm>
                  <a:off x="4511880" y="3178440"/>
                  <a:ext cx="0" cy="22320"/>
                </a:xfrm>
                <a:prstGeom prst="line">
                  <a:avLst/>
                </a:prstGeom>
                <a:ln w="1908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619" name=""/>
                <p:cNvSpPr/>
                <p:nvPr/>
              </p:nvSpPr>
              <p:spPr>
                <a:xfrm>
                  <a:off x="4511880" y="3221640"/>
                  <a:ext cx="0" cy="22320"/>
                </a:xfrm>
                <a:prstGeom prst="line">
                  <a:avLst/>
                </a:prstGeom>
                <a:ln w="19080">
                  <a:solidFill>
                    <a:srgbClr val="8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" name=""/>
              <p:cNvSpPr/>
              <p:nvPr/>
            </p:nvSpPr>
            <p:spPr>
              <a:xfrm flipH="1">
                <a:off x="4539600" y="3274560"/>
                <a:ext cx="66600" cy="66240"/>
              </a:xfrm>
              <a:prstGeom prst="ellipse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 rot="748200">
                <a:off x="4628160" y="2960640"/>
                <a:ext cx="108000" cy="338760"/>
              </a:xfrm>
              <a:custGeom>
                <a:avLst/>
                <a:gdLst/>
                <a:ahLst/>
                <a:rect l="l" t="t" r="r" b="b"/>
                <a:pathLst>
                  <a:path w="360" h="1130">
                    <a:moveTo>
                      <a:pt x="330" y="1130"/>
                    </a:moveTo>
                    <a:lnTo>
                      <a:pt x="35" y="716"/>
                    </a:lnTo>
                    <a:lnTo>
                      <a:pt x="0" y="617"/>
                    </a:lnTo>
                    <a:lnTo>
                      <a:pt x="23" y="551"/>
                    </a:lnTo>
                    <a:lnTo>
                      <a:pt x="186" y="11"/>
                    </a:lnTo>
                    <a:lnTo>
                      <a:pt x="360" y="0"/>
                    </a:lnTo>
                  </a:path>
                </a:pathLst>
              </a:custGeom>
              <a:noFill/>
              <a:ln w="190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067400">
                <a:off x="4480200" y="2840040"/>
                <a:ext cx="193320" cy="191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998" y="1333"/>
                    </a:moveTo>
                    <a:arcTo wR="10800" hR="10800" stAng="-3673638" swAng="714192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998" y="1333"/>
                    </a:moveTo>
                    <a:arcTo wR="10800" hR="10800" stAng="-3673638" swAng="7141928"/>
                  </a:path>
                </a:pathLst>
              </a:custGeom>
              <a:noFill/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4444920" y="3189600"/>
                <a:ext cx="0" cy="44280"/>
              </a:xfrm>
              <a:prstGeom prst="line">
                <a:avLst/>
              </a:prstGeom>
              <a:ln w="1908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4241880" y="3189600"/>
                <a:ext cx="45720" cy="45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4653000" y="3192840"/>
                <a:ext cx="47520" cy="4572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1011240" y="2387160"/>
                <a:ext cx="149040" cy="1159200"/>
              </a:xfrm>
              <a:prstGeom prst="rect">
                <a:avLst/>
              </a:prstGeom>
              <a:solidFill>
                <a:srgbClr val="ff00ff"/>
              </a:solidFill>
              <a:ln w="936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474480" y="2296800"/>
                <a:ext cx="630360" cy="36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ff00ff"/>
                    </a:solidFill>
                    <a:latin typeface="Arial"/>
                  </a:rPr>
                  <a:t>Volants d'inertie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3111480" y="2871000"/>
                <a:ext cx="0" cy="408600"/>
              </a:xfrm>
              <a:prstGeom prst="line">
                <a:avLst/>
              </a:prstGeom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703160" y="2973600"/>
                <a:ext cx="2374920" cy="0"/>
              </a:xfrm>
              <a:prstGeom prst="line">
                <a:avLst/>
              </a:prstGeom>
              <a:ln w="28440">
                <a:solidFill>
                  <a:srgbClr val="8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2347920" y="2924280"/>
                <a:ext cx="322200" cy="93240"/>
              </a:xfrm>
              <a:prstGeom prst="line">
                <a:avLst/>
              </a:prstGeom>
              <a:ln w="1908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631" name=""/>
            <p:cNvSpPr/>
            <p:nvPr/>
          </p:nvSpPr>
          <p:spPr>
            <a:xfrm>
              <a:off x="241200" y="2707200"/>
              <a:ext cx="612720" cy="23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ff00ff"/>
                  </a:solidFill>
                  <a:latin typeface="Arial"/>
                </a:rPr>
                <a:t>Broche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0E16-5719-492F-850D-38FC165DAF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a démarche générale en S.I.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"/>
          <p:cNvCxnSpPr>
            <a:stCxn id="634" idx="3"/>
            <a:endCxn id="635" idx="3"/>
          </p:cNvCxnSpPr>
          <p:nvPr/>
        </p:nvCxnSpPr>
        <p:spPr>
          <a:xfrm flipH="1">
            <a:off x="8560800" y="2519280"/>
            <a:ext cx="6840" cy="642240"/>
          </a:xfrm>
          <a:prstGeom prst="bentConnector3">
            <a:avLst>
              <a:gd name="adj1" fmla="val -3600000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cxnSp>
        <p:nvCxnSpPr>
          <p:cNvPr id="636" name=""/>
          <p:cNvCxnSpPr>
            <a:stCxn id="637" idx="3"/>
            <a:endCxn id="638" idx="3"/>
          </p:cNvCxnSpPr>
          <p:nvPr/>
        </p:nvCxnSpPr>
        <p:spPr>
          <a:xfrm>
            <a:off x="8561520" y="3363840"/>
            <a:ext cx="8640" cy="551520"/>
          </a:xfrm>
          <a:prstGeom prst="bentConnector3">
            <a:avLst>
              <a:gd name="adj1" fmla="val 2978260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cxnSp>
        <p:nvCxnSpPr>
          <p:cNvPr id="639" name=""/>
          <p:cNvCxnSpPr>
            <a:stCxn id="640" idx="3"/>
            <a:endCxn id="641" idx="3"/>
          </p:cNvCxnSpPr>
          <p:nvPr/>
        </p:nvCxnSpPr>
        <p:spPr>
          <a:xfrm flipH="1">
            <a:off x="8543160" y="4118040"/>
            <a:ext cx="26280" cy="543600"/>
          </a:xfrm>
          <a:prstGeom prst="bentConnector3">
            <a:avLst>
              <a:gd name="adj1" fmla="val -900000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cxnSp>
        <p:nvCxnSpPr>
          <p:cNvPr id="642" name=""/>
          <p:cNvCxnSpPr>
            <a:stCxn id="643" idx="3"/>
            <a:endCxn id="644" idx="3"/>
          </p:cNvCxnSpPr>
          <p:nvPr/>
        </p:nvCxnSpPr>
        <p:spPr>
          <a:xfrm>
            <a:off x="8543880" y="4863600"/>
            <a:ext cx="23040" cy="654840"/>
          </a:xfrm>
          <a:prstGeom prst="bentConnector3">
            <a:avLst>
              <a:gd name="adj1" fmla="val 1126984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sp>
        <p:nvSpPr>
          <p:cNvPr id="645" name=""/>
          <p:cNvSpPr/>
          <p:nvPr/>
        </p:nvSpPr>
        <p:spPr>
          <a:xfrm>
            <a:off x="3668760" y="5430960"/>
            <a:ext cx="966600" cy="206280"/>
          </a:xfrm>
          <a:custGeom>
            <a:avLst/>
            <a:gdLst>
              <a:gd name="textAreaLeft" fmla="*/ 150840 w 966600"/>
              <a:gd name="textAreaRight" fmla="*/ 846000 w 966600"/>
              <a:gd name="textAreaTop" fmla="*/ 51480 h 206280"/>
              <a:gd name="textAreaBottom" fmla="*/ 154800 h 206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678120" y="2417760"/>
            <a:ext cx="965160" cy="208080"/>
          </a:xfrm>
          <a:custGeom>
            <a:avLst/>
            <a:gdLst>
              <a:gd name="textAreaLeft" fmla="*/ 150840 w 965160"/>
              <a:gd name="textAreaRight" fmla="*/ 844560 w 96516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647" name=""/>
          <p:cNvCxnSpPr>
            <a:stCxn id="648" idx="0"/>
            <a:endCxn id="649" idx="1"/>
          </p:cNvCxnSpPr>
          <p:nvPr/>
        </p:nvCxnSpPr>
        <p:spPr>
          <a:xfrm flipH="1" flipV="1" rot="5400000">
            <a:off x="2413440" y="2932200"/>
            <a:ext cx="2140920" cy="2615400"/>
          </a:xfrm>
          <a:prstGeom prst="bentConnector2">
            <a:avLst/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grpSp>
        <p:nvGrpSpPr>
          <p:cNvPr id="650" name=""/>
          <p:cNvGrpSpPr/>
          <p:nvPr/>
        </p:nvGrpSpPr>
        <p:grpSpPr>
          <a:xfrm>
            <a:off x="830160" y="2313000"/>
            <a:ext cx="2695680" cy="580680"/>
            <a:chOff x="830160" y="2313000"/>
            <a:chExt cx="2695680" cy="580680"/>
          </a:xfrm>
        </p:grpSpPr>
        <p:sp>
          <p:nvSpPr>
            <p:cNvPr id="651" name=""/>
            <p:cNvSpPr/>
            <p:nvPr/>
          </p:nvSpPr>
          <p:spPr>
            <a:xfrm>
              <a:off x="830160" y="2313000"/>
              <a:ext cx="2695680" cy="580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Problématique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  </a:t>
              </a: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Industrielle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3162240" y="2422440"/>
              <a:ext cx="35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1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4792680" y="2297160"/>
            <a:ext cx="3782880" cy="428400"/>
            <a:chOff x="4792680" y="2297160"/>
            <a:chExt cx="3782880" cy="428400"/>
          </a:xfrm>
        </p:grpSpPr>
        <p:sp>
          <p:nvSpPr>
            <p:cNvPr id="634" name=""/>
            <p:cNvSpPr/>
            <p:nvPr/>
          </p:nvSpPr>
          <p:spPr>
            <a:xfrm>
              <a:off x="4792680" y="2313000"/>
              <a:ext cx="3774960" cy="41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292929"/>
                  </a:solidFill>
                  <a:latin typeface="Times New Roman"/>
                  <a:ea typeface="SimSun"/>
                </a:rPr>
                <a:t>Cahier des Charges Fonctionnel, …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218440" y="2297160"/>
              <a:ext cx="3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3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655" name=""/>
          <p:cNvGrpSpPr/>
          <p:nvPr/>
        </p:nvGrpSpPr>
        <p:grpSpPr>
          <a:xfrm>
            <a:off x="4791240" y="3800520"/>
            <a:ext cx="3784320" cy="425520"/>
            <a:chOff x="4791240" y="3800520"/>
            <a:chExt cx="3784320" cy="425520"/>
          </a:xfrm>
        </p:grpSpPr>
        <p:sp>
          <p:nvSpPr>
            <p:cNvPr id="656" name=""/>
            <p:cNvSpPr/>
            <p:nvPr/>
          </p:nvSpPr>
          <p:spPr>
            <a:xfrm>
              <a:off x="4791240" y="3811680"/>
              <a:ext cx="3774960" cy="414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292929"/>
                  </a:solidFill>
                  <a:latin typeface="Times New Roman"/>
                  <a:ea typeface="SimSun"/>
                </a:rPr>
                <a:t>Calcul / Simulation / Expérimentation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657" name=""/>
            <p:cNvGrpSpPr/>
            <p:nvPr/>
          </p:nvGrpSpPr>
          <p:grpSpPr>
            <a:xfrm>
              <a:off x="8288280" y="3809880"/>
              <a:ext cx="281160" cy="410760"/>
              <a:chOff x="8288280" y="3809880"/>
              <a:chExt cx="281160" cy="410760"/>
            </a:xfrm>
          </p:grpSpPr>
          <p:sp>
            <p:nvSpPr>
              <p:cNvPr id="638" name=""/>
              <p:cNvSpPr/>
              <p:nvPr/>
            </p:nvSpPr>
            <p:spPr>
              <a:xfrm>
                <a:off x="8288280" y="3809880"/>
                <a:ext cx="28116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8288280" y="4012920"/>
                <a:ext cx="28116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658" name=""/>
            <p:cNvSpPr/>
            <p:nvPr/>
          </p:nvSpPr>
          <p:spPr>
            <a:xfrm>
              <a:off x="8218440" y="3800520"/>
              <a:ext cx="3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5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659" name=""/>
          <p:cNvGrpSpPr/>
          <p:nvPr/>
        </p:nvGrpSpPr>
        <p:grpSpPr>
          <a:xfrm>
            <a:off x="4788000" y="4556160"/>
            <a:ext cx="3774960" cy="434880"/>
            <a:chOff x="4788000" y="4556160"/>
            <a:chExt cx="3774960" cy="434880"/>
          </a:xfrm>
        </p:grpSpPr>
        <p:grpSp>
          <p:nvGrpSpPr>
            <p:cNvPr id="660" name=""/>
            <p:cNvGrpSpPr/>
            <p:nvPr/>
          </p:nvGrpSpPr>
          <p:grpSpPr>
            <a:xfrm>
              <a:off x="8263080" y="4556160"/>
              <a:ext cx="280800" cy="410760"/>
              <a:chOff x="8263080" y="4556160"/>
              <a:chExt cx="280800" cy="410760"/>
            </a:xfrm>
          </p:grpSpPr>
          <p:sp>
            <p:nvSpPr>
              <p:cNvPr id="641" name=""/>
              <p:cNvSpPr/>
              <p:nvPr/>
            </p:nvSpPr>
            <p:spPr>
              <a:xfrm>
                <a:off x="8263080" y="4556160"/>
                <a:ext cx="28080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263080" y="4759200"/>
                <a:ext cx="28080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661" name=""/>
            <p:cNvGrpSpPr/>
            <p:nvPr/>
          </p:nvGrpSpPr>
          <p:grpSpPr>
            <a:xfrm>
              <a:off x="4788000" y="4575240"/>
              <a:ext cx="3774960" cy="415800"/>
              <a:chOff x="4788000" y="4575240"/>
              <a:chExt cx="3774960" cy="415800"/>
            </a:xfrm>
          </p:grpSpPr>
          <p:sp>
            <p:nvSpPr>
              <p:cNvPr id="662" name=""/>
              <p:cNvSpPr/>
              <p:nvPr/>
            </p:nvSpPr>
            <p:spPr>
              <a:xfrm>
                <a:off x="4788000" y="4577040"/>
                <a:ext cx="3774960" cy="414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292929"/>
                    </a:solidFill>
                    <a:latin typeface="Times New Roman"/>
                    <a:ea typeface="SimSun"/>
                  </a:rPr>
                  <a:t>Interprétation des écarts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663" name=""/>
              <p:cNvGrpSpPr/>
              <p:nvPr/>
            </p:nvGrpSpPr>
            <p:grpSpPr>
              <a:xfrm>
                <a:off x="8246880" y="4575240"/>
                <a:ext cx="307800" cy="411480"/>
                <a:chOff x="8246880" y="4575240"/>
                <a:chExt cx="307800" cy="411480"/>
              </a:xfrm>
            </p:grpSpPr>
            <p:sp>
              <p:nvSpPr>
                <p:cNvPr id="664" name=""/>
                <p:cNvSpPr/>
                <p:nvPr/>
              </p:nvSpPr>
              <p:spPr>
                <a:xfrm>
                  <a:off x="8246880" y="4575240"/>
                  <a:ext cx="307800" cy="20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665" name=""/>
                <p:cNvSpPr/>
                <p:nvPr/>
              </p:nvSpPr>
              <p:spPr>
                <a:xfrm>
                  <a:off x="8246880" y="4778640"/>
                  <a:ext cx="307800" cy="20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6" name=""/>
            <p:cNvSpPr/>
            <p:nvPr/>
          </p:nvSpPr>
          <p:spPr>
            <a:xfrm>
              <a:off x="8207280" y="4559400"/>
              <a:ext cx="35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6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667" name=""/>
          <p:cNvGrpSpPr/>
          <p:nvPr/>
        </p:nvGrpSpPr>
        <p:grpSpPr>
          <a:xfrm>
            <a:off x="4791240" y="5283360"/>
            <a:ext cx="3774960" cy="441000"/>
            <a:chOff x="4791240" y="5283360"/>
            <a:chExt cx="3774960" cy="441000"/>
          </a:xfrm>
        </p:grpSpPr>
        <p:sp>
          <p:nvSpPr>
            <p:cNvPr id="644" name=""/>
            <p:cNvSpPr/>
            <p:nvPr/>
          </p:nvSpPr>
          <p:spPr>
            <a:xfrm>
              <a:off x="4791240" y="5311800"/>
              <a:ext cx="3774960" cy="41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292929"/>
                  </a:solidFill>
                  <a:latin typeface="Times New Roman"/>
                  <a:ea typeface="SimSun"/>
                </a:rPr>
                <a:t>Validation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209080" y="5283360"/>
              <a:ext cx="3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7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669" name=""/>
          <p:cNvGrpSpPr/>
          <p:nvPr/>
        </p:nvGrpSpPr>
        <p:grpSpPr>
          <a:xfrm>
            <a:off x="825480" y="5283360"/>
            <a:ext cx="2698920" cy="441000"/>
            <a:chOff x="825480" y="5283360"/>
            <a:chExt cx="2698920" cy="441000"/>
          </a:xfrm>
        </p:grpSpPr>
        <p:sp>
          <p:nvSpPr>
            <p:cNvPr id="648" name=""/>
            <p:cNvSpPr/>
            <p:nvPr/>
          </p:nvSpPr>
          <p:spPr>
            <a:xfrm>
              <a:off x="828720" y="5310360"/>
              <a:ext cx="2695680" cy="414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Support Industriel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149640" y="5283360"/>
              <a:ext cx="36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2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25480" y="5308560"/>
              <a:ext cx="4777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672" name=""/>
          <p:cNvGrpSpPr/>
          <p:nvPr/>
        </p:nvGrpSpPr>
        <p:grpSpPr>
          <a:xfrm>
            <a:off x="4791240" y="3041640"/>
            <a:ext cx="3784320" cy="434520"/>
            <a:chOff x="4791240" y="3041640"/>
            <a:chExt cx="3784320" cy="434520"/>
          </a:xfrm>
        </p:grpSpPr>
        <p:sp>
          <p:nvSpPr>
            <p:cNvPr id="673" name=""/>
            <p:cNvSpPr/>
            <p:nvPr/>
          </p:nvSpPr>
          <p:spPr>
            <a:xfrm>
              <a:off x="4791240" y="3062160"/>
              <a:ext cx="3774960" cy="412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292929"/>
                  </a:solidFill>
                  <a:latin typeface="Times New Roman"/>
                  <a:ea typeface="SimSun"/>
                </a:rPr>
                <a:t>Modélisation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674" name=""/>
            <p:cNvGrpSpPr/>
            <p:nvPr/>
          </p:nvGrpSpPr>
          <p:grpSpPr>
            <a:xfrm>
              <a:off x="8280360" y="3056040"/>
              <a:ext cx="281160" cy="412200"/>
              <a:chOff x="8280360" y="3056040"/>
              <a:chExt cx="281160" cy="412200"/>
            </a:xfrm>
          </p:grpSpPr>
          <p:sp>
            <p:nvSpPr>
              <p:cNvPr id="635" name=""/>
              <p:cNvSpPr/>
              <p:nvPr/>
            </p:nvSpPr>
            <p:spPr>
              <a:xfrm>
                <a:off x="8280360" y="3056040"/>
                <a:ext cx="28116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280360" y="3259800"/>
                <a:ext cx="28116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675" name=""/>
            <p:cNvSpPr/>
            <p:nvPr/>
          </p:nvSpPr>
          <p:spPr>
            <a:xfrm>
              <a:off x="8218440" y="3041640"/>
              <a:ext cx="3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4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676" name=""/>
            <p:cNvGrpSpPr/>
            <p:nvPr/>
          </p:nvGrpSpPr>
          <p:grpSpPr>
            <a:xfrm>
              <a:off x="4791240" y="3065400"/>
              <a:ext cx="282240" cy="410760"/>
              <a:chOff x="4791240" y="3065400"/>
              <a:chExt cx="282240" cy="410760"/>
            </a:xfrm>
          </p:grpSpPr>
          <p:sp>
            <p:nvSpPr>
              <p:cNvPr id="649" name=""/>
              <p:cNvSpPr/>
              <p:nvPr/>
            </p:nvSpPr>
            <p:spPr>
              <a:xfrm>
                <a:off x="4791240" y="3065400"/>
                <a:ext cx="2822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4791240" y="3268440"/>
                <a:ext cx="2822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cxnSp>
        <p:nvCxnSpPr>
          <p:cNvPr id="678" name=""/>
          <p:cNvCxnSpPr>
            <a:stCxn id="662" idx="1"/>
            <a:endCxn id="677" idx="1"/>
          </p:cNvCxnSpPr>
          <p:nvPr/>
        </p:nvCxnSpPr>
        <p:spPr>
          <a:xfrm flipH="1" rot="10800000">
            <a:off x="4786920" y="3372840"/>
            <a:ext cx="3960" cy="1411920"/>
          </a:xfrm>
          <a:prstGeom prst="bentConnector3">
            <a:avLst>
              <a:gd name="adj1" fmla="val -7200000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sp>
        <p:nvSpPr>
          <p:cNvPr id="679" name=""/>
          <p:cNvSpPr/>
          <p:nvPr/>
        </p:nvSpPr>
        <p:spPr>
          <a:xfrm>
            <a:off x="1400040" y="1930320"/>
            <a:ext cx="15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292929"/>
                </a:solidFill>
                <a:latin typeface="Times New Roman"/>
                <a:ea typeface="SimSun"/>
              </a:rPr>
              <a:t>Authentiqu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1363680" y="575784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292929"/>
                </a:solidFill>
                <a:latin typeface="Times New Roman"/>
                <a:ea typeface="SimSun"/>
              </a:rPr>
              <a:t>Contemporai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1028880" y="2955960"/>
            <a:ext cx="520560" cy="2301840"/>
            <a:chOff x="1028880" y="2955960"/>
            <a:chExt cx="520560" cy="2301840"/>
          </a:xfrm>
        </p:grpSpPr>
        <p:sp>
          <p:nvSpPr>
            <p:cNvPr id="682" name=""/>
            <p:cNvSpPr/>
            <p:nvPr/>
          </p:nvSpPr>
          <p:spPr>
            <a:xfrm>
              <a:off x="1104840" y="2955960"/>
              <a:ext cx="366840" cy="23018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1028880" y="4737240"/>
              <a:ext cx="520560" cy="520560"/>
            </a:xfrm>
            <a:prstGeom prst="smileyFace">
              <a:avLst>
                <a:gd name="adj" fmla="val -4652"/>
              </a:avLst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684" name=""/>
          <p:cNvGrpSpPr/>
          <p:nvPr/>
        </p:nvGrpSpPr>
        <p:grpSpPr>
          <a:xfrm>
            <a:off x="1359000" y="2945880"/>
            <a:ext cx="520560" cy="2302200"/>
            <a:chOff x="1359000" y="2945880"/>
            <a:chExt cx="520560" cy="2302200"/>
          </a:xfrm>
        </p:grpSpPr>
        <p:sp>
          <p:nvSpPr>
            <p:cNvPr id="685" name=""/>
            <p:cNvSpPr/>
            <p:nvPr/>
          </p:nvSpPr>
          <p:spPr>
            <a:xfrm flipV="1">
              <a:off x="1434960" y="2945520"/>
              <a:ext cx="366840" cy="23022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359000" y="2946240"/>
              <a:ext cx="520560" cy="520920"/>
            </a:xfrm>
            <a:prstGeom prst="smileyFace">
              <a:avLst>
                <a:gd name="adj" fmla="val 9282"/>
              </a:avLst>
            </a:prstGeom>
            <a:solidFill>
              <a:srgbClr val="babb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4780080" y="3795840"/>
            <a:ext cx="3782880" cy="428400"/>
            <a:chOff x="4780080" y="3795840"/>
            <a:chExt cx="3782880" cy="428400"/>
          </a:xfrm>
        </p:grpSpPr>
        <p:sp>
          <p:nvSpPr>
            <p:cNvPr id="688" name=""/>
            <p:cNvSpPr/>
            <p:nvPr/>
          </p:nvSpPr>
          <p:spPr>
            <a:xfrm>
              <a:off x="4780080" y="3811680"/>
              <a:ext cx="3774960" cy="4125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Simulation / Calcul / Expérimentation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05840" y="3795840"/>
              <a:ext cx="3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5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690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Proposition pédagogiqu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FC3F-E902-42F3-8454-06D8A37113D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949320" y="1866960"/>
            <a:ext cx="8021520" cy="427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429840" indent="-42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1) Le modèle de connaissance établi sera confronté avec intérêt aux résultats observés dans le cadre des TP, afin de développer une culture des ordres de grandeur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2) L’exploitation numérique itérative, servie par la robustesse de la maquette, permettra de 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visualiser l’influence relative des différents paramètres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d’étudier une configuration particulière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d’optimiser, de rechercher une situation critique,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29840" indent="-429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et dans le cadre d’une confrontation avec les TP d’effectuer un recalage des modèles. </a:t>
            </a:r>
            <a:r>
              <a:rPr b="1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 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3 activités essentiel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1763640" y="36468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oposition pédagogiqu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A1E8-1409-4877-912A-55BA388F975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28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contexte du professe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48960" y="2171880"/>
            <a:ext cx="766116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L’enseignement des S.I.I. en P.T.S.I. et P.T. s’intéresse aux </a:t>
            </a:r>
            <a:r>
              <a:rPr b="1" lang="fr-FR" sz="2800" spc="-1" strike="noStrike">
                <a:solidFill>
                  <a:srgbClr val="292929"/>
                </a:solidFill>
                <a:latin typeface="Tahoma"/>
              </a:rPr>
              <a:t>outils</a:t>
            </a: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 et </a:t>
            </a:r>
            <a:r>
              <a:rPr b="1" lang="fr-FR" sz="2800" spc="-1" strike="noStrike">
                <a:solidFill>
                  <a:srgbClr val="292929"/>
                </a:solidFill>
                <a:latin typeface="Tahoma"/>
              </a:rPr>
              <a:t>méthodes</a:t>
            </a: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 d’</a:t>
            </a:r>
            <a:r>
              <a:rPr b="1" lang="fr-FR" sz="2800" spc="-1" strike="noStrike">
                <a:solidFill>
                  <a:srgbClr val="292929"/>
                </a:solidFill>
                <a:latin typeface="Tahoma"/>
              </a:rPr>
              <a:t>analyse </a:t>
            </a: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et</a:t>
            </a:r>
            <a:r>
              <a:rPr b="1" lang="fr-FR" sz="2800" spc="-1" strike="noStrike">
                <a:solidFill>
                  <a:srgbClr val="292929"/>
                </a:solidFill>
                <a:latin typeface="Tahoma"/>
              </a:rPr>
              <a:t> </a:t>
            </a: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de</a:t>
            </a:r>
            <a:r>
              <a:rPr b="1" lang="fr-FR" sz="2800" spc="-1" strike="noStrike">
                <a:solidFill>
                  <a:srgbClr val="292929"/>
                </a:solidFill>
                <a:latin typeface="Tahoma"/>
              </a:rPr>
              <a:t> conception</a:t>
            </a: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, au </a:t>
            </a:r>
            <a:r>
              <a:rPr b="1" lang="fr-FR" sz="2800" spc="-1" strike="noStrike">
                <a:solidFill>
                  <a:srgbClr val="292929"/>
                </a:solidFill>
                <a:latin typeface="Tahoma"/>
              </a:rPr>
              <a:t>comportement</a:t>
            </a: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 et à la </a:t>
            </a:r>
            <a:r>
              <a:rPr b="1" lang="fr-FR" sz="2800" spc="-1" strike="noStrike">
                <a:solidFill>
                  <a:srgbClr val="292929"/>
                </a:solidFill>
                <a:latin typeface="Tahoma"/>
              </a:rPr>
              <a:t>réalisation</a:t>
            </a: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 de systèmes industriels pluritechniques… répondant à un besoin exprimé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93760" y="907920"/>
            <a:ext cx="7050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En référence aux textes du programme …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1128-CDDC-4757-B43B-AF4293024A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/>
          <p:nvPr/>
        </p:nvSpPr>
        <p:spPr>
          <a:xfrm>
            <a:off x="949320" y="1866960"/>
            <a:ext cx="7661160" cy="39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3) Les travaux pratiques, la manipulation et l’observation permettront de construire des modèles et d’identifier les termes caractéristiques associés à des comportements.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L’environnement numérique n’apparaît plus comme une boîte d’outils sophistiqués, mais comme un vecteur d’apprentissage essentiel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Dans ce cadre, plus de virtuel ne peut engager qu’à mieux appréhender le réel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1763640" y="36468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oposition pédagogiqu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3 activités essentiell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2FFD-DFAC-4775-A8DA-7844D251D9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7" name=""/>
          <p:cNvGraphicFramePr/>
          <p:nvPr/>
        </p:nvGraphicFramePr>
        <p:xfrm>
          <a:off x="987480" y="1535040"/>
          <a:ext cx="6858000" cy="285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7480" y="1535040"/>
                    <a:ext cx="6858000" cy="28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9" name=""/>
          <p:cNvSpPr/>
          <p:nvPr/>
        </p:nvSpPr>
        <p:spPr>
          <a:xfrm>
            <a:off x="1558440" y="4570560"/>
            <a:ext cx="5783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FP1 : Déplacer et orienter une pièc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FC1 : Se fixer au suppor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FC2 : permettre la commande manuelle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FC3 : permettre la commande par programm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FC4 : utiliser l'énergie disponible dans un atelier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Arial"/>
              </a:rPr>
              <a:t>FC5 : ne pas perturber.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Tahoma"/>
              </a:rPr>
              <a:t>Analyse fonctionnelle extern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4284720" y="907920"/>
            <a:ext cx="48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Diagramme des inter-acteur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6566040" y="1332720"/>
            <a:ext cx="24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Times New Roman"/>
              </a:rPr>
              <a:t>En phase d ’utilisatio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98AA-4D35-4670-A8CB-CB0C2079E4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3" name=""/>
          <p:cNvGraphicFramePr/>
          <p:nvPr/>
        </p:nvGraphicFramePr>
        <p:xfrm>
          <a:off x="739800" y="2239920"/>
          <a:ext cx="7848720" cy="35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9800" y="2239920"/>
                    <a:ext cx="7848720" cy="35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5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Tahoma"/>
              </a:rPr>
              <a:t>Analyse fonctionnelle extern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4284720" y="907920"/>
            <a:ext cx="48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Caractérisation des fonction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DB75-B494-4DFD-AAD0-DCF2289C4AD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7" name=""/>
          <p:cNvGraphicFramePr/>
          <p:nvPr/>
        </p:nvGraphicFramePr>
        <p:xfrm>
          <a:off x="3040200" y="1436760"/>
          <a:ext cx="6027480" cy="499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0200" y="1436760"/>
                    <a:ext cx="6027480" cy="499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9" name=""/>
          <p:cNvSpPr/>
          <p:nvPr/>
        </p:nvSpPr>
        <p:spPr>
          <a:xfrm>
            <a:off x="606240" y="2952720"/>
            <a:ext cx="276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Solutions envisageables :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05160" y="3565440"/>
            <a:ext cx="301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Combinaison de rotati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05520" y="4098960"/>
            <a:ext cx="33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Combinaison de translations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05880" y="4662360"/>
            <a:ext cx="449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29292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Combinaison de rotations et translation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chéma cinématique spatial du robo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4529-1736-4884-84D5-C265CDEDEA9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4" name=""/>
          <p:cNvGrpSpPr/>
          <p:nvPr/>
        </p:nvGrpSpPr>
        <p:grpSpPr>
          <a:xfrm>
            <a:off x="768240" y="3020040"/>
            <a:ext cx="3008520" cy="1110240"/>
            <a:chOff x="768240" y="3020040"/>
            <a:chExt cx="3008520" cy="1110240"/>
          </a:xfrm>
        </p:grpSpPr>
        <p:sp>
          <p:nvSpPr>
            <p:cNvPr id="715" name=""/>
            <p:cNvSpPr/>
            <p:nvPr/>
          </p:nvSpPr>
          <p:spPr>
            <a:xfrm>
              <a:off x="768240" y="3020040"/>
              <a:ext cx="3008520" cy="111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292929"/>
                  </a:solidFill>
                  <a:latin typeface="Arial"/>
                </a:rPr>
                <a:t>Course 270° :       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292929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292929"/>
                  </a:solidFill>
                  <a:latin typeface="Arial"/>
                </a:rPr>
                <a:t>  </a:t>
              </a:r>
              <a:r>
                <a:rPr b="1" lang="fr-FR" sz="1200" spc="-1" strike="noStrike">
                  <a:solidFill>
                    <a:srgbClr val="292929"/>
                  </a:solidFill>
                  <a:latin typeface="Arial"/>
                </a:rPr>
                <a:t>Vitesse maxi : 90°. s</a:t>
              </a:r>
              <a:r>
                <a:rPr b="1" lang="fr-FR" sz="1200" spc="-1" strike="noStrike" baseline="30000">
                  <a:solidFill>
                    <a:srgbClr val="292929"/>
                  </a:solidFill>
                  <a:latin typeface="Arial"/>
                </a:rPr>
                <a:t>-1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292929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292929"/>
                  </a:solidFill>
                  <a:latin typeface="Arial"/>
                </a:rPr>
                <a:t>  </a:t>
              </a:r>
              <a:r>
                <a:rPr b="1" lang="fr-FR" sz="1200" spc="-1" strike="noStrike">
                  <a:solidFill>
                    <a:srgbClr val="292929"/>
                  </a:solidFill>
                  <a:latin typeface="Arial"/>
                </a:rPr>
                <a:t>Accélération maxi : 324 °.s</a:t>
              </a:r>
              <a:r>
                <a:rPr b="1" lang="fr-FR" sz="1200" spc="-1" strike="noStrike" baseline="30000">
                  <a:solidFill>
                    <a:srgbClr val="292929"/>
                  </a:solidFill>
                  <a:latin typeface="Arial"/>
                </a:rPr>
                <a:t>-2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292929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292929"/>
                  </a:solidFill>
                  <a:latin typeface="Arial"/>
                </a:rPr>
                <a:t>  </a:t>
              </a:r>
              <a:r>
                <a:rPr b="1" lang="fr-FR" sz="1200" spc="-1" strike="noStrike">
                  <a:solidFill>
                    <a:srgbClr val="292929"/>
                  </a:solidFill>
                  <a:latin typeface="Arial"/>
                </a:rPr>
                <a:t>Temps d ’accélération mini : 355 ms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16" name=""/>
                <p:cNvSpPr txBox="1"/>
                <p:nvPr/>
              </p:nvSpPr>
              <p:spPr>
                <a:xfrm>
                  <a:off x="1905120" y="3065400"/>
                  <a:ext cx="1127160" cy="23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35</m:t>
                      </m:r>
                      <m:r>
                        <m:t xml:space="preserve">°</m:t>
                      </m:r>
                      <m:r>
                        <m:t xml:space="preserve">≤</m:t>
                      </m:r>
                      <m:sSub>
                        <m:e>
                          <m:r>
                            <m:t xml:space="preserve">θ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≤</m:t>
                      </m:r>
                      <m:r>
                        <m:rPr>
                          <m:lit/>
                          <m:nor/>
                        </m:rPr>
                        <m:t xml:space="preserve">135</m:t>
                      </m:r>
                      <m:r>
                        <m:t xml:space="preserve">°</m:t>
                      </m:r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717" name=""/>
          <p:cNvGraphicFramePr/>
          <p:nvPr/>
        </p:nvGraphicFramePr>
        <p:xfrm>
          <a:off x="3171960" y="1279440"/>
          <a:ext cx="5564160" cy="521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1960" y="1279440"/>
                    <a:ext cx="5564160" cy="521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19" name=""/>
          <p:cNvGrpSpPr/>
          <p:nvPr/>
        </p:nvGrpSpPr>
        <p:grpSpPr>
          <a:xfrm>
            <a:off x="2681280" y="3873600"/>
            <a:ext cx="4093920" cy="1561680"/>
            <a:chOff x="2681280" y="3873600"/>
            <a:chExt cx="4093920" cy="1561680"/>
          </a:xfrm>
        </p:grpSpPr>
        <p:sp>
          <p:nvSpPr>
            <p:cNvPr id="720" name=""/>
            <p:cNvSpPr/>
            <p:nvPr/>
          </p:nvSpPr>
          <p:spPr>
            <a:xfrm>
              <a:off x="6011280" y="3873600"/>
              <a:ext cx="763920" cy="15616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708280" y="4682880"/>
              <a:ext cx="3327480" cy="525240"/>
            </a:xfrm>
            <a:prstGeom prst="rightArrowCallout">
              <a:avLst>
                <a:gd name="adj1" fmla="val 25002"/>
                <a:gd name="adj2" fmla="val 25000"/>
                <a:gd name="adj3" fmla="val 105586"/>
                <a:gd name="adj4" fmla="val 66667"/>
              </a:avLst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681280" y="4764960"/>
              <a:ext cx="2276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800" spc="-1" strike="noStrike">
                  <a:solidFill>
                    <a:srgbClr val="ff0000"/>
                  </a:solidFill>
                  <a:latin typeface="Arial"/>
                </a:rPr>
                <a:t>ZONE DE L ’ETUDE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rformances de l ’axe de lace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5E871-CD2C-4FB7-A6B1-8EF8B8EB9EE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1576440" y="4836960"/>
            <a:ext cx="279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1576440" y="6208560"/>
            <a:ext cx="27936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Tahoma"/>
              </a:rPr>
              <a:t>Analyse fonctionnelle intern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821640" y="2195640"/>
            <a:ext cx="170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fr-FR" sz="1200" spc="-1" strike="noStrike">
                <a:solidFill>
                  <a:srgbClr val="0000ff"/>
                </a:solidFill>
                <a:latin typeface="Arial"/>
              </a:rPr>
              <a:t>Solutions  associées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6821640" y="2825640"/>
            <a:ext cx="170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200" spc="-1" strike="noStrike">
                <a:solidFill>
                  <a:srgbClr val="0000ff"/>
                </a:solidFill>
                <a:latin typeface="Arial"/>
              </a:rPr>
              <a:t>Moteur à courant continu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6814440" y="4197240"/>
            <a:ext cx="1852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200" spc="-1" strike="noStrike">
                <a:solidFill>
                  <a:srgbClr val="0000ff"/>
                </a:solidFill>
                <a:latin typeface="Arial"/>
              </a:rPr>
              <a:t>Poulies-courroie synchron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6821640" y="5114880"/>
            <a:ext cx="1733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200" spc="-1" strike="noStrike">
                <a:solidFill>
                  <a:srgbClr val="0000ff"/>
                </a:solidFill>
                <a:latin typeface="Arial"/>
              </a:rPr>
              <a:t>Capteur inductif TOR et codeur incrémental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6817680" y="4740120"/>
            <a:ext cx="927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200" spc="-1" strike="noStrike">
                <a:solidFill>
                  <a:srgbClr val="0000ff"/>
                </a:solidFill>
                <a:latin typeface="Arial"/>
              </a:rPr>
              <a:t>Liaisons pivot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576440" y="5322960"/>
            <a:ext cx="279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573200" y="1893960"/>
            <a:ext cx="0" cy="4305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1574640" y="2952720"/>
            <a:ext cx="28764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566720" y="3621240"/>
            <a:ext cx="29052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1747800" y="2711880"/>
            <a:ext cx="4527720" cy="520200"/>
          </a:xfrm>
          <a:prstGeom prst="rect">
            <a:avLst/>
          </a:prstGeom>
          <a:solidFill>
            <a:srgbClr val="d7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10000"/>
                </a:solidFill>
                <a:latin typeface="Arial"/>
              </a:rPr>
              <a:t>Transformer l’énergie électrique en énergie mécaniqu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1747800" y="3372120"/>
            <a:ext cx="4510080" cy="520200"/>
          </a:xfrm>
          <a:prstGeom prst="rect">
            <a:avLst/>
          </a:prstGeom>
          <a:solidFill>
            <a:srgbClr val="d7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10000"/>
                </a:solidFill>
                <a:latin typeface="Arial"/>
              </a:rPr>
              <a:t>Réduire la vitesse de rotation et augmenter le coup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1747800" y="5140800"/>
            <a:ext cx="4527720" cy="307080"/>
          </a:xfrm>
          <a:prstGeom prst="rect">
            <a:avLst/>
          </a:prstGeom>
          <a:solidFill>
            <a:srgbClr val="d7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10000"/>
                </a:solidFill>
                <a:latin typeface="Arial"/>
              </a:rPr>
              <a:t>Capter la position de la chaise par rapport au soc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441440" y="1863000"/>
            <a:ext cx="4950000" cy="642600"/>
          </a:xfrm>
          <a:prstGeom prst="rect">
            <a:avLst/>
          </a:prstGeom>
          <a:solidFill>
            <a:srgbClr val="d7d8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800" spc="-1" strike="noStrike">
                <a:solidFill>
                  <a:srgbClr val="010000"/>
                </a:solidFill>
                <a:latin typeface="Arial"/>
              </a:rPr>
              <a:t>FT1 : Tourner la chaise 1 par rapport au socle 0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747800" y="4693320"/>
            <a:ext cx="4510080" cy="307080"/>
          </a:xfrm>
          <a:prstGeom prst="rect">
            <a:avLst/>
          </a:prstGeom>
          <a:solidFill>
            <a:srgbClr val="d7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10000"/>
                </a:solidFill>
                <a:latin typeface="Arial"/>
              </a:rPr>
              <a:t>Guider les mouvements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6621480" y="1474920"/>
            <a:ext cx="0" cy="4860720"/>
          </a:xfrm>
          <a:prstGeom prst="line">
            <a:avLst/>
          </a:prstGeom>
          <a:ln w="64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6815880" y="3511440"/>
            <a:ext cx="1344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200" spc="-1" strike="noStrike">
                <a:solidFill>
                  <a:srgbClr val="0000ff"/>
                </a:solidFill>
                <a:latin typeface="Arial"/>
              </a:rPr>
              <a:t>Réducteur standard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576440" y="4299120"/>
            <a:ext cx="29052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747800" y="4032720"/>
            <a:ext cx="4510080" cy="520200"/>
          </a:xfrm>
          <a:prstGeom prst="rect">
            <a:avLst/>
          </a:prstGeom>
          <a:solidFill>
            <a:srgbClr val="d7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10000"/>
                </a:solidFill>
                <a:latin typeface="Arial"/>
              </a:rPr>
              <a:t>Adapter et transmettre intégralement le mouvement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FAST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747800" y="6037920"/>
            <a:ext cx="4510080" cy="307080"/>
          </a:xfrm>
          <a:prstGeom prst="rect">
            <a:avLst/>
          </a:prstGeom>
          <a:solidFill>
            <a:srgbClr val="d7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10000"/>
                </a:solidFill>
                <a:latin typeface="Arial"/>
              </a:rPr>
              <a:t>Asservir la position, la vitesse et l ’accélération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823080" y="6102360"/>
            <a:ext cx="1459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200" spc="-1" strike="noStrike">
                <a:solidFill>
                  <a:srgbClr val="0000ff"/>
                </a:solidFill>
                <a:latin typeface="Arial"/>
              </a:rPr>
              <a:t>Carte de commande</a:t>
            </a:r>
            <a:r>
              <a:rPr b="0" i="1" lang="fr-FR" sz="1200" spc="-1" strike="noStrike" baseline="1000">
                <a:solidFill>
                  <a:srgbClr val="0000ff"/>
                </a:solidFill>
                <a:latin typeface="Arial"/>
              </a:rPr>
              <a:t>...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576440" y="5753160"/>
            <a:ext cx="27936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747800" y="5588640"/>
            <a:ext cx="4527720" cy="307080"/>
          </a:xfrm>
          <a:prstGeom prst="rect">
            <a:avLst/>
          </a:prstGeom>
          <a:solidFill>
            <a:srgbClr val="d7d8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>
                <a:solidFill>
                  <a:srgbClr val="010000"/>
                </a:solidFill>
                <a:latin typeface="Arial"/>
              </a:rPr>
              <a:t>Capter la vitesse de la chaise par rapport au socle</a:t>
            </a:r>
            <a:endParaRPr b="0" lang="en-US" sz="1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6821640" y="5689440"/>
            <a:ext cx="1904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1200" spc="-1" strike="noStrike">
                <a:solidFill>
                  <a:srgbClr val="0000ff"/>
                </a:solidFill>
                <a:latin typeface="Arial"/>
              </a:rPr>
              <a:t>Génératrice tachymétrique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B9C0-9364-40DD-B83E-F97F89D64EB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cherche d ’une solution cinématiqu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Moto-réducteur lié au soc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"/>
          <a:stretch/>
        </p:blipFill>
        <p:spPr>
          <a:xfrm>
            <a:off x="2125800" y="1581120"/>
            <a:ext cx="5867280" cy="5016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AF97-71FF-4868-8FA4-06AA5900F69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cherche d ’une solution cinématiqu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284720" y="907920"/>
            <a:ext cx="48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Moto-réducteur lié à la chais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1"/>
          <a:stretch/>
        </p:blipFill>
        <p:spPr>
          <a:xfrm>
            <a:off x="1854360" y="1407960"/>
            <a:ext cx="6391080" cy="5464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2868-04E4-43B6-B771-891447DF50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chaise%20fixe%20moteur%20haut" descr=""/>
          <p:cNvPicPr/>
          <p:nvPr/>
        </p:nvPicPr>
        <p:blipFill>
          <a:blip r:embed="rId1"/>
          <a:srcRect l="24531" t="0" r="24531" b="6883"/>
          <a:stretch/>
        </p:blipFill>
        <p:spPr>
          <a:xfrm>
            <a:off x="5767560" y="993600"/>
            <a:ext cx="2057400" cy="3200400"/>
          </a:xfrm>
          <a:prstGeom prst="rect">
            <a:avLst/>
          </a:prstGeom>
          <a:ln w="0">
            <a:noFill/>
          </a:ln>
        </p:spPr>
      </p:pic>
      <p:pic>
        <p:nvPicPr>
          <p:cNvPr id="758" name="chaise%20fixe%20moteur%20bas" descr=""/>
          <p:cNvPicPr/>
          <p:nvPr/>
        </p:nvPicPr>
        <p:blipFill>
          <a:blip r:embed="rId2"/>
          <a:srcRect l="25000" t="13184" r="25000" b="14220"/>
          <a:stretch/>
        </p:blipFill>
        <p:spPr>
          <a:xfrm>
            <a:off x="5986440" y="4254480"/>
            <a:ext cx="1981080" cy="2448000"/>
          </a:xfrm>
          <a:prstGeom prst="rect">
            <a:avLst/>
          </a:prstGeom>
          <a:ln w="0">
            <a:noFill/>
          </a:ln>
        </p:spPr>
      </p:pic>
      <p:pic>
        <p:nvPicPr>
          <p:cNvPr id="759" name="socle%20fixe%20moteur%20bas" descr=""/>
          <p:cNvPicPr/>
          <p:nvPr/>
        </p:nvPicPr>
        <p:blipFill>
          <a:blip r:embed="rId3"/>
          <a:srcRect l="17309" t="15820" r="34617" b="0"/>
          <a:stretch/>
        </p:blipFill>
        <p:spPr>
          <a:xfrm>
            <a:off x="1722600" y="1060560"/>
            <a:ext cx="2109600" cy="3143160"/>
          </a:xfrm>
          <a:prstGeom prst="rect">
            <a:avLst/>
          </a:prstGeom>
          <a:ln w="0">
            <a:noFill/>
          </a:ln>
        </p:spPr>
      </p:pic>
      <p:pic>
        <p:nvPicPr>
          <p:cNvPr id="760" name="socle%20fixe%20moteur%20haut" descr=""/>
          <p:cNvPicPr/>
          <p:nvPr/>
        </p:nvPicPr>
        <p:blipFill>
          <a:blip r:embed="rId4"/>
          <a:srcRect l="18519" t="6532" r="33335" b="6394"/>
          <a:stretch/>
        </p:blipFill>
        <p:spPr>
          <a:xfrm>
            <a:off x="1846440" y="3559320"/>
            <a:ext cx="1981080" cy="3047760"/>
          </a:xfrm>
          <a:prstGeom prst="rect">
            <a:avLst/>
          </a:prstGeom>
          <a:ln w="0">
            <a:noFill/>
          </a:ln>
        </p:spPr>
      </p:pic>
      <p:pic>
        <p:nvPicPr>
          <p:cNvPr id="761" name="CONFUS" descr=""/>
          <p:cNvPicPr/>
          <p:nvPr/>
        </p:nvPicPr>
        <p:blipFill>
          <a:blip r:embed="rId5"/>
          <a:stretch/>
        </p:blipFill>
        <p:spPr>
          <a:xfrm>
            <a:off x="4419720" y="2133720"/>
            <a:ext cx="698400" cy="162540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cherche d ’une solution cinématiqu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17E3D-D558-43F1-8ED8-236005853C0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3" name=""/>
          <p:cNvGraphicFramePr/>
          <p:nvPr/>
        </p:nvGraphicFramePr>
        <p:xfrm>
          <a:off x="884160" y="2305080"/>
          <a:ext cx="9296640" cy="2763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4160" y="2305080"/>
                    <a:ext cx="9296640" cy="27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5" name=""/>
          <p:cNvSpPr/>
          <p:nvPr/>
        </p:nvSpPr>
        <p:spPr>
          <a:xfrm>
            <a:off x="739800" y="4421160"/>
            <a:ext cx="8229600" cy="533520"/>
          </a:xfrm>
          <a:prstGeom prst="ellipse">
            <a:avLst/>
          </a:prstGeom>
          <a:noFill/>
          <a:ln w="2844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cherche d ’une solution cinématiqu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Choix d ’une solu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0A04-4DFD-4075-84C2-E57B46DA60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6328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e contexte de la déma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907920"/>
            <a:ext cx="53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Faire juste du premier coup !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130720" y="5689440"/>
            <a:ext cx="1778040" cy="1016280"/>
            <a:chOff x="5130720" y="5689440"/>
            <a:chExt cx="1778040" cy="1016280"/>
          </a:xfrm>
        </p:grpSpPr>
        <p:sp>
          <p:nvSpPr>
            <p:cNvPr id="116" name=""/>
            <p:cNvSpPr/>
            <p:nvPr/>
          </p:nvSpPr>
          <p:spPr>
            <a:xfrm>
              <a:off x="5130720" y="5689440"/>
              <a:ext cx="1778040" cy="101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181480" y="5740560"/>
              <a:ext cx="1692360" cy="936360"/>
            </a:xfrm>
            <a:prstGeom prst="rect">
              <a:avLst/>
            </a:prstGeom>
            <a:ln w="9360">
              <a:solidFill>
                <a:srgbClr val="000080"/>
              </a:solidFill>
              <a:miter/>
            </a:ln>
          </p:spPr>
        </p:pic>
      </p:grpSp>
      <p:sp>
        <p:nvSpPr>
          <p:cNvPr id="118" name=""/>
          <p:cNvSpPr/>
          <p:nvPr/>
        </p:nvSpPr>
        <p:spPr>
          <a:xfrm>
            <a:off x="4343400" y="1778040"/>
            <a:ext cx="3376440" cy="11224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15000" y="5608800"/>
            <a:ext cx="609480" cy="2840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6314760" y="2389320"/>
            <a:ext cx="1400040" cy="337824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2387520"/>
            <a:ext cx="1376280" cy="3380040"/>
          </a:xfrm>
          <a:prstGeom prst="line">
            <a:avLst/>
          </a:prstGeom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351400" y="1501920"/>
            <a:ext cx="1201680" cy="75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28880" y="189216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ahoma"/>
              </a:rPr>
              <a:t>Context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28880" y="2959200"/>
            <a:ext cx="213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ahoma"/>
              </a:rPr>
              <a:t>Contraintes : suite d ’étap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438800" y="2092320"/>
            <a:ext cx="1465200" cy="689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028880" y="6006960"/>
            <a:ext cx="34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ahoma"/>
              </a:rPr>
              <a:t>Résultat : « le produit »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6553080" y="2006640"/>
            <a:ext cx="609480" cy="685800"/>
            <a:chOff x="6553080" y="2006640"/>
            <a:chExt cx="609480" cy="685800"/>
          </a:xfrm>
        </p:grpSpPr>
        <p:sp>
          <p:nvSpPr>
            <p:cNvPr id="128" name=""/>
            <p:cNvSpPr/>
            <p:nvPr/>
          </p:nvSpPr>
          <p:spPr>
            <a:xfrm>
              <a:off x="6553080" y="2006640"/>
              <a:ext cx="609480" cy="685800"/>
            </a:xfrm>
            <a:prstGeom prst="flowChartMultidocument">
              <a:avLst/>
            </a:prstGeom>
            <a:solidFill>
              <a:srgbClr val="ffffff"/>
            </a:solidFill>
            <a:ln w="648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4"/>
            <a:stretch/>
          </p:blipFill>
          <p:spPr>
            <a:xfrm>
              <a:off x="6619680" y="2158920"/>
              <a:ext cx="466560" cy="466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 flipH="1">
            <a:off x="7862400" y="4826160"/>
            <a:ext cx="1047960" cy="93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7569360" y="2921040"/>
            <a:ext cx="1341360" cy="733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7"/>
          <a:stretch/>
        </p:blipFill>
        <p:spPr>
          <a:xfrm>
            <a:off x="7737480" y="3759120"/>
            <a:ext cx="1173240" cy="962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8"/>
          <a:stretch/>
        </p:blipFill>
        <p:spPr>
          <a:xfrm flipH="1">
            <a:off x="3467160" y="3108240"/>
            <a:ext cx="882720" cy="7984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1143000" y="4000680"/>
            <a:ext cx="380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ahoma"/>
              </a:rPr>
              <a:t>Seul ce qui va poser problème doit être regardé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00600" y="3225960"/>
            <a:ext cx="2457360" cy="45720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99080" y="2997360"/>
            <a:ext cx="2662200" cy="45720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49920" y="3378240"/>
            <a:ext cx="2349360" cy="45720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952880" y="3606840"/>
            <a:ext cx="2140200" cy="457200"/>
          </a:xfrm>
          <a:prstGeom prst="ellipse">
            <a:avLst/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2387520"/>
            <a:ext cx="3378240" cy="3492720"/>
          </a:xfrm>
          <a:custGeom>
            <a:avLst/>
            <a:gdLst/>
            <a:ahLst/>
            <a:rect l="l" t="t" r="r" b="b"/>
            <a:pathLst>
              <a:path w="2128" h="2200">
                <a:moveTo>
                  <a:pt x="864" y="2112"/>
                </a:moveTo>
                <a:lnTo>
                  <a:pt x="0" y="8"/>
                </a:lnTo>
                <a:lnTo>
                  <a:pt x="112" y="136"/>
                </a:lnTo>
                <a:lnTo>
                  <a:pt x="232" y="192"/>
                </a:lnTo>
                <a:lnTo>
                  <a:pt x="384" y="240"/>
                </a:lnTo>
                <a:lnTo>
                  <a:pt x="664" y="296"/>
                </a:lnTo>
                <a:lnTo>
                  <a:pt x="856" y="312"/>
                </a:lnTo>
                <a:lnTo>
                  <a:pt x="1184" y="320"/>
                </a:lnTo>
                <a:lnTo>
                  <a:pt x="1456" y="296"/>
                </a:lnTo>
                <a:lnTo>
                  <a:pt x="1720" y="248"/>
                </a:lnTo>
                <a:lnTo>
                  <a:pt x="1928" y="176"/>
                </a:lnTo>
                <a:lnTo>
                  <a:pt x="2056" y="88"/>
                </a:lnTo>
                <a:lnTo>
                  <a:pt x="2128" y="0"/>
                </a:lnTo>
                <a:lnTo>
                  <a:pt x="1264" y="2088"/>
                </a:lnTo>
                <a:lnTo>
                  <a:pt x="1208" y="2160"/>
                </a:lnTo>
                <a:lnTo>
                  <a:pt x="1112" y="2200"/>
                </a:lnTo>
                <a:lnTo>
                  <a:pt x="968" y="2200"/>
                </a:lnTo>
                <a:lnTo>
                  <a:pt x="896" y="2160"/>
                </a:lnTo>
                <a:lnTo>
                  <a:pt x="864" y="2112"/>
                </a:lnTo>
                <a:close/>
              </a:path>
            </a:pathLst>
          </a:custGeom>
          <a:solidFill>
            <a:srgbClr val="c0c0c0">
              <a:alpha val="4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5715000" y="2463840"/>
            <a:ext cx="533520" cy="3276720"/>
            <a:chOff x="5715000" y="2463840"/>
            <a:chExt cx="533520" cy="3276720"/>
          </a:xfrm>
        </p:grpSpPr>
        <p:sp>
          <p:nvSpPr>
            <p:cNvPr id="141" name=""/>
            <p:cNvSpPr/>
            <p:nvPr/>
          </p:nvSpPr>
          <p:spPr>
            <a:xfrm>
              <a:off x="5715000" y="2463840"/>
              <a:ext cx="533520" cy="3276720"/>
            </a:xfrm>
            <a:prstGeom prst="downArrow">
              <a:avLst>
                <a:gd name="adj1" fmla="val 66667"/>
                <a:gd name="adj2" fmla="val 102362"/>
              </a:avLst>
            </a:prstGeom>
            <a:solidFill>
              <a:srgbClr val="00008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29480" y="2463840"/>
              <a:ext cx="30456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 Narrow"/>
                </a:rPr>
                <a:t>CONC-IND-PROD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A2DD-D54B-4143-AF70-0D691DA5DC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socle%20fixe%20moteur%20haut" descr=""/>
          <p:cNvPicPr/>
          <p:nvPr/>
        </p:nvPicPr>
        <p:blipFill>
          <a:blip r:embed="rId1"/>
          <a:srcRect l="18519" t="6532" r="33335" b="6394"/>
          <a:stretch/>
        </p:blipFill>
        <p:spPr>
          <a:xfrm>
            <a:off x="2735280" y="1160640"/>
            <a:ext cx="3541680" cy="544968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cherche d ’une solution cinématiqu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Solution retenu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891040" y="2006640"/>
            <a:ext cx="3124440" cy="825480"/>
          </a:xfrm>
          <a:prstGeom prst="rect">
            <a:avLst/>
          </a:prstGeom>
          <a:solidFill>
            <a:srgbClr val="99c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A - Rechercher et choisir une solution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F0B4-CE01-4614-8D37-0DE56786865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é-dimensionne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Essai avec inertie estimé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4898880" y="1344960"/>
            <a:ext cx="408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Times New Roman"/>
              </a:rPr>
              <a:t>Influence de la densité matéria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6510240" y="4708440"/>
            <a:ext cx="2633760" cy="825480"/>
          </a:xfrm>
          <a:prstGeom prst="rect">
            <a:avLst/>
          </a:prstGeom>
          <a:solidFill>
            <a:srgbClr val="99c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B - Pré-dimensionner des composa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374760" y="1832040"/>
            <a:ext cx="5879880" cy="502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B939-0861-4969-AC3A-90ADB1DDBB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é-dimensionne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Essai avec inertie estimé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779" name=""/>
          <p:cNvGraphicFramePr/>
          <p:nvPr/>
        </p:nvGraphicFramePr>
        <p:xfrm>
          <a:off x="1447920" y="1768320"/>
          <a:ext cx="7283160" cy="4503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768320"/>
                    <a:ext cx="7283160" cy="45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81" name=""/>
          <p:cNvGrpSpPr/>
          <p:nvPr/>
        </p:nvGrpSpPr>
        <p:grpSpPr>
          <a:xfrm>
            <a:off x="3045960" y="3171960"/>
            <a:ext cx="2157840" cy="793440"/>
            <a:chOff x="3045960" y="3171960"/>
            <a:chExt cx="2157840" cy="793440"/>
          </a:xfrm>
        </p:grpSpPr>
        <mc:AlternateContent>
          <mc:Choice xmlns:a14="http://schemas.microsoft.com/office/drawing/2010/main" Requires="a14">
            <p:sp>
              <p:nvSpPr>
                <p:cNvPr id="782" name=""/>
                <p:cNvSpPr txBox="1"/>
                <p:nvPr/>
              </p:nvSpPr>
              <p:spPr>
                <a:xfrm>
                  <a:off x="3719520" y="3171960"/>
                  <a:ext cx="1484280" cy="752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J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equ</m:t>
                          </m:r>
                        </m:sub>
                      </m:sSub>
                      <m:r>
                        <m:rPr>
                          <m:lit/>
                          <m:nor/>
                        </m:rPr>
                        <m:t xml:space="preserve">.</m:t>
                      </m:r>
                      <m:f>
                        <m:num>
                          <m:r>
                            <m:t xml:space="preserve">dω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783" name=""/>
            <p:cNvSpPr/>
            <p:nvPr/>
          </p:nvSpPr>
          <p:spPr>
            <a:xfrm flipH="1">
              <a:off x="3045960" y="3587760"/>
              <a:ext cx="600120" cy="3776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A10B-8E74-4D44-A696-85E8905616C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é-dimensionne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785" name=""/>
          <p:cNvGraphicFramePr/>
          <p:nvPr/>
        </p:nvGraphicFramePr>
        <p:xfrm>
          <a:off x="706320" y="2523960"/>
          <a:ext cx="8609040" cy="287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2523960"/>
                    <a:ext cx="860904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7" name=""/>
          <p:cNvSpPr/>
          <p:nvPr/>
        </p:nvSpPr>
        <p:spPr>
          <a:xfrm>
            <a:off x="2150280" y="1942560"/>
            <a:ext cx="268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D’après document PAVEX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330960" y="194256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Calculs complémentair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6226200" y="1982880"/>
            <a:ext cx="2719440" cy="332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3735360" y="907920"/>
            <a:ext cx="540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Moteur à courant continu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1C6B-85DE-437D-8AC0-CCC5BDA718D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é-dimensionne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3735360" y="907920"/>
            <a:ext cx="540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Moteur à courant continu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793" name=""/>
          <p:cNvGraphicFramePr/>
          <p:nvPr/>
        </p:nvGraphicFramePr>
        <p:xfrm>
          <a:off x="706320" y="2523960"/>
          <a:ext cx="8609040" cy="2878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6320" y="2523960"/>
                    <a:ext cx="8609040" cy="28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5" name=""/>
          <p:cNvSpPr/>
          <p:nvPr/>
        </p:nvSpPr>
        <p:spPr>
          <a:xfrm>
            <a:off x="693720" y="3749760"/>
            <a:ext cx="8161200" cy="46332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073960" y="194256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D’après document PARVEX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6330960" y="194256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Calculs complémentaire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73480" y="5540400"/>
            <a:ext cx="8152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Le couple nécessaire en entraînement direct est de 17 Nm pour un bras en acie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Soit une puissance maximale de 26 W à l'instant où la vitesse de rotation  atteint 90°. s</a:t>
            </a:r>
            <a:r>
              <a:rPr b="0" lang="fr-FR" sz="1600" spc="-1" strike="noStrike" baseline="30000">
                <a:solidFill>
                  <a:srgbClr val="292929"/>
                </a:solidFill>
                <a:latin typeface="Arial"/>
              </a:rPr>
              <a:t>-1</a:t>
            </a: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F6A7-4835-4948-BF57-5C204854986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é-dimensionne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Réducteur harmonic Driv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188440" y="1813680"/>
            <a:ext cx="319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D’après document GAMMATIC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802" name=""/>
          <p:cNvGraphicFramePr/>
          <p:nvPr/>
        </p:nvGraphicFramePr>
        <p:xfrm>
          <a:off x="1265400" y="2417760"/>
          <a:ext cx="6875280" cy="2965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5400" y="2417760"/>
                    <a:ext cx="6875280" cy="296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4" name=""/>
          <p:cNvSpPr/>
          <p:nvPr/>
        </p:nvSpPr>
        <p:spPr>
          <a:xfrm>
            <a:off x="6391440" y="4624560"/>
            <a:ext cx="839520" cy="36828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1233360" y="5310720"/>
            <a:ext cx="697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292929"/>
                </a:solidFill>
                <a:latin typeface="Times New Roman"/>
              </a:rPr>
              <a:t>Vitesse maximale d’entrée (lubrification à la graisse) : 5000 tr/min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4807080" y="133452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« Sous carter »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3EC-6D86-415A-810C-26387776780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7" name=""/>
          <p:cNvGraphicFramePr/>
          <p:nvPr/>
        </p:nvGraphicFramePr>
        <p:xfrm>
          <a:off x="1527120" y="2462040"/>
          <a:ext cx="5364360" cy="298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2462040"/>
                    <a:ext cx="5364360" cy="29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9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é-dimensionne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284720" y="907920"/>
            <a:ext cx="48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Poulies courroie synchrone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108080" y="1813680"/>
            <a:ext cx="70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La transmission poulie-courroie doit avoir une réduction de 3,3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533600" y="4564080"/>
            <a:ext cx="5352840" cy="633240"/>
          </a:xfrm>
          <a:prstGeom prst="rect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7CB2-7AD4-4565-81AE-BCEAEA8270CF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3" name="" descr=""/>
          <p:cNvPicPr/>
          <p:nvPr/>
        </p:nvPicPr>
        <p:blipFill>
          <a:blip r:embed="rId1"/>
          <a:stretch/>
        </p:blipFill>
        <p:spPr>
          <a:xfrm>
            <a:off x="1003320" y="1255680"/>
            <a:ext cx="7672320" cy="475452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é-dimensionne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178080" y="907920"/>
            <a:ext cx="596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Limites d ’utilisation d ’un moteur CC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1716120" y="4510080"/>
            <a:ext cx="4290840" cy="849240"/>
            <a:chOff x="1716120" y="4510080"/>
            <a:chExt cx="4290840" cy="849240"/>
          </a:xfrm>
        </p:grpSpPr>
        <p:sp>
          <p:nvSpPr>
            <p:cNvPr id="817" name=""/>
            <p:cNvSpPr/>
            <p:nvPr/>
          </p:nvSpPr>
          <p:spPr>
            <a:xfrm>
              <a:off x="1716120" y="4510080"/>
              <a:ext cx="4290840" cy="849240"/>
            </a:xfrm>
            <a:custGeom>
              <a:avLst/>
              <a:gdLst/>
              <a:ahLst/>
              <a:rect l="l" t="t" r="r" b="b"/>
              <a:pathLst>
                <a:path w="2703" h="535">
                  <a:moveTo>
                    <a:pt x="5" y="0"/>
                  </a:moveTo>
                  <a:lnTo>
                    <a:pt x="2308" y="0"/>
                  </a:lnTo>
                  <a:lnTo>
                    <a:pt x="2703" y="535"/>
                  </a:lnTo>
                  <a:lnTo>
                    <a:pt x="0" y="53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cff66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025720" y="4767840"/>
              <a:ext cx="34480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292929"/>
                  </a:solidFill>
                  <a:latin typeface="Times New Roman"/>
                </a:rPr>
                <a:t>Zone de fonctionnement permanent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819" name=""/>
          <p:cNvGrpSpPr/>
          <p:nvPr/>
        </p:nvGrpSpPr>
        <p:grpSpPr>
          <a:xfrm>
            <a:off x="1716120" y="2313000"/>
            <a:ext cx="3620880" cy="2144880"/>
            <a:chOff x="1716120" y="2313000"/>
            <a:chExt cx="3620880" cy="2144880"/>
          </a:xfrm>
        </p:grpSpPr>
        <p:sp>
          <p:nvSpPr>
            <p:cNvPr id="820" name=""/>
            <p:cNvSpPr/>
            <p:nvPr/>
          </p:nvSpPr>
          <p:spPr>
            <a:xfrm>
              <a:off x="1716120" y="2313000"/>
              <a:ext cx="3620880" cy="2144880"/>
            </a:xfrm>
            <a:custGeom>
              <a:avLst/>
              <a:gdLst/>
              <a:ahLst/>
              <a:rect l="l" t="t" r="r" b="b"/>
              <a:pathLst>
                <a:path w="2281" h="1351">
                  <a:moveTo>
                    <a:pt x="5" y="0"/>
                  </a:moveTo>
                  <a:lnTo>
                    <a:pt x="1286" y="0"/>
                  </a:lnTo>
                  <a:lnTo>
                    <a:pt x="2281" y="1351"/>
                  </a:lnTo>
                  <a:lnTo>
                    <a:pt x="0" y="1351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2b36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798560" y="3376080"/>
              <a:ext cx="266868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292929"/>
                  </a:solidFill>
                  <a:latin typeface="Times New Roman"/>
                </a:rPr>
                <a:t>Zone de fonctionnement intermittent</a:t>
              </a:r>
              <a:endParaRPr b="0" lang="en-US" sz="18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4427640" y="2036880"/>
            <a:ext cx="2770200" cy="1100160"/>
            <a:chOff x="4427640" y="2036880"/>
            <a:chExt cx="2770200" cy="1100160"/>
          </a:xfrm>
        </p:grpSpPr>
        <mc:AlternateContent>
          <mc:Choice xmlns:a14="http://schemas.microsoft.com/office/drawing/2010/main" Requires="a14">
            <p:sp>
              <p:nvSpPr>
                <p:cNvPr id="823" name=""/>
                <p:cNvSpPr txBox="1"/>
                <p:nvPr/>
              </p:nvSpPr>
              <p:spPr>
                <a:xfrm>
                  <a:off x="4884840" y="2036880"/>
                  <a:ext cx="2313000" cy="8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Uk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den>
                      </m:f>
                      <m:r>
                        <m:t xml:space="preserve">−</m:t>
                      </m:r>
                      <m:f>
                        <m:num>
                          <m:sSubSup>
                            <m:e>
                              <m:r>
                                <m:t xml:space="preserve">k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den>
                      </m:f>
                      <m:r>
                        <m:t xml:space="preserve">ω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24" name=""/>
            <p:cNvSpPr/>
            <p:nvPr/>
          </p:nvSpPr>
          <p:spPr>
            <a:xfrm flipH="1">
              <a:off x="4427640" y="2784600"/>
              <a:ext cx="480960" cy="3524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2D1-C6EA-4C64-8830-D336232D962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é-dimensionne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598920" y="907920"/>
            <a:ext cx="554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Limites d ’utilisation d ’un moteu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827" name=""/>
          <p:cNvGrpSpPr/>
          <p:nvPr/>
        </p:nvGrpSpPr>
        <p:grpSpPr>
          <a:xfrm>
            <a:off x="870120" y="2084760"/>
            <a:ext cx="7611840" cy="1539360"/>
            <a:chOff x="870120" y="2084760"/>
            <a:chExt cx="7611840" cy="1539360"/>
          </a:xfrm>
        </p:grpSpPr>
        <p:sp>
          <p:nvSpPr>
            <p:cNvPr id="828" name=""/>
            <p:cNvSpPr/>
            <p:nvPr/>
          </p:nvSpPr>
          <p:spPr>
            <a:xfrm>
              <a:off x="870120" y="2084760"/>
              <a:ext cx="7611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292929"/>
                  </a:solidFill>
                  <a:latin typeface="Arial"/>
                </a:rPr>
                <a:t>Le moteur s'échauffe à cause des pertes par effet joule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29" name=""/>
                <p:cNvSpPr txBox="1"/>
                <p:nvPr/>
              </p:nvSpPr>
              <p:spPr>
                <a:xfrm>
                  <a:off x="2860560" y="2503440"/>
                  <a:ext cx="3276720" cy="1120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m</m:t>
                          </m:r>
                        </m:sub>
                      </m:sSub>
                      <m:sSup>
                        <m:e>
                          <m:r>
                            <m:t xml:space="preserve">I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m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0" name=""/>
          <p:cNvGrpSpPr/>
          <p:nvPr/>
        </p:nvGrpSpPr>
        <p:grpSpPr>
          <a:xfrm>
            <a:off x="871200" y="3543840"/>
            <a:ext cx="7061400" cy="1599840"/>
            <a:chOff x="871200" y="3543840"/>
            <a:chExt cx="7061400" cy="1599840"/>
          </a:xfrm>
        </p:grpSpPr>
        <p:sp>
          <p:nvSpPr>
            <p:cNvPr id="831" name=""/>
            <p:cNvSpPr/>
            <p:nvPr/>
          </p:nvSpPr>
          <p:spPr>
            <a:xfrm>
              <a:off x="871200" y="3543840"/>
              <a:ext cx="5686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292929"/>
                  </a:solidFill>
                  <a:latin typeface="Arial"/>
                </a:rPr>
                <a:t>La puissance moyenne sur un cycle est :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2" name=""/>
                <p:cNvSpPr txBox="1"/>
                <p:nvPr/>
              </p:nvSpPr>
              <p:spPr>
                <a:xfrm>
                  <a:off x="2259000" y="4013280"/>
                  <a:ext cx="5673600" cy="1130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j</m:t>
                          </m:r>
                          <m:r>
                            <m:t xml:space="preserve"> </m:t>
                          </m:r>
                          <m:r>
                            <m:rPr>
                              <m:lit/>
                              <m:nor/>
                            </m:rPr>
                            <m:t xml:space="preserve">moy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m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T</m:t>
                          </m:r>
                        </m:den>
                      </m:f>
                      <m:nary>
                        <m:naryPr>
                          <m:chr m:val="∫"/>
                          <m:subHide m:val="1"/>
                          <m:supHide m:val="1"/>
                        </m:naryPr>
                        <m:sub/>
                        <m:sup/>
                        <m:e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m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e>
                      </m:nary>
                      <m:r>
                        <m:t xml:space="preserve">=</m:t>
                      </m:r>
                      <m:f>
                        <m:num>
                          <m:sSub>
                            <m:e>
                              <m:r>
                                <m:t xml:space="preserve">R</m:t>
                              </m:r>
                            </m:e>
                            <m:sub>
                              <m:r>
                                <m:t xml:space="preserve">m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k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m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den>
                      </m:f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ther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33" name=""/>
          <p:cNvGrpSpPr/>
          <p:nvPr/>
        </p:nvGrpSpPr>
        <p:grpSpPr>
          <a:xfrm>
            <a:off x="869760" y="5214960"/>
            <a:ext cx="7840800" cy="1216080"/>
            <a:chOff x="869760" y="5214960"/>
            <a:chExt cx="7840800" cy="1216080"/>
          </a:xfrm>
        </p:grpSpPr>
        <p:sp>
          <p:nvSpPr>
            <p:cNvPr id="834" name=""/>
            <p:cNvSpPr/>
            <p:nvPr/>
          </p:nvSpPr>
          <p:spPr>
            <a:xfrm>
              <a:off x="869760" y="5645520"/>
              <a:ext cx="942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292929"/>
                  </a:solidFill>
                  <a:latin typeface="Arial"/>
                </a:rPr>
                <a:t>Avec</a:t>
              </a:r>
              <a:r>
                <a:rPr b="0" lang="fr-FR" sz="2400" spc="-1" strike="noStrike">
                  <a:solidFill>
                    <a:srgbClr val="292929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35" name=""/>
                <p:cNvSpPr txBox="1"/>
                <p:nvPr/>
              </p:nvSpPr>
              <p:spPr>
                <a:xfrm>
                  <a:off x="1969920" y="5214960"/>
                  <a:ext cx="3556080" cy="1216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C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therm</m:t>
                          </m:r>
                        </m:sub>
                      </m:sSub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T</m:t>
                              </m:r>
                            </m:den>
                          </m:f>
                          <m:nary>
                            <m:naryPr>
                              <m:chr m:val="∫"/>
                              <m:subHide m:val="1"/>
                              <m:supHide m:val="1"/>
                            </m:naryPr>
                            <m:sub/>
                            <m:sup/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sSup>
                                    <m:e>
                                      <m:r>
                                        <m:t xml:space="preserve">m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b>
                              </m:sSub>
                              <m:r>
                                <m:rPr>
                                  <m:lit/>
                                  <m:nor/>
                                </m:rPr>
                                <m:t xml:space="preserve">dt</m:t>
                              </m:r>
                            </m:e>
                          </m:nary>
                        </m:e>
                      </m:rad>
                    </m:oMath>
                  </a14:m>
                </a:p>
              </p:txBody>
            </p:sp>
          </mc:Choice>
          <mc:Fallback/>
        </mc:AlternateContent>
        <p:sp>
          <p:nvSpPr>
            <p:cNvPr id="836" name=""/>
            <p:cNvSpPr/>
            <p:nvPr/>
          </p:nvSpPr>
          <p:spPr>
            <a:xfrm>
              <a:off x="5772240" y="5438880"/>
              <a:ext cx="293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400" spc="-1" strike="noStrike">
                  <a:solidFill>
                    <a:srgbClr val="292929"/>
                  </a:solidFill>
                  <a:latin typeface="Arial"/>
                </a:rPr>
                <a:t>le couple thermique équivalent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B019-3CC7-4034-9DC9-03F5526DA71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é-dimensionne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Vérification moteu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39" name="" descr=""/>
          <p:cNvPicPr/>
          <p:nvPr/>
        </p:nvPicPr>
        <p:blipFill>
          <a:blip r:embed="rId1"/>
          <a:srcRect l="1013" t="2660" r="23560" b="2553"/>
          <a:stretch/>
        </p:blipFill>
        <p:spPr>
          <a:xfrm>
            <a:off x="1003320" y="1265400"/>
            <a:ext cx="6967440" cy="5425920"/>
          </a:xfrm>
          <a:prstGeom prst="rect">
            <a:avLst/>
          </a:prstGeom>
          <a:ln w="0">
            <a:noFill/>
          </a:ln>
        </p:spPr>
      </p:pic>
      <p:grpSp>
        <p:nvGrpSpPr>
          <p:cNvPr id="840" name=""/>
          <p:cNvGrpSpPr/>
          <p:nvPr/>
        </p:nvGrpSpPr>
        <p:grpSpPr>
          <a:xfrm>
            <a:off x="1852560" y="3079800"/>
            <a:ext cx="3861000" cy="2900160"/>
            <a:chOff x="1852560" y="3079800"/>
            <a:chExt cx="3861000" cy="2900160"/>
          </a:xfrm>
        </p:grpSpPr>
        <p:sp>
          <p:nvSpPr>
            <p:cNvPr id="841" name=""/>
            <p:cNvSpPr/>
            <p:nvPr/>
          </p:nvSpPr>
          <p:spPr>
            <a:xfrm>
              <a:off x="1852560" y="5551560"/>
              <a:ext cx="2908440" cy="428400"/>
            </a:xfrm>
            <a:custGeom>
              <a:avLst/>
              <a:gdLst/>
              <a:ahLst/>
              <a:rect l="l" t="t" r="r" b="b"/>
              <a:pathLst>
                <a:path w="1832" h="270">
                  <a:moveTo>
                    <a:pt x="0" y="0"/>
                  </a:moveTo>
                  <a:lnTo>
                    <a:pt x="1827" y="0"/>
                  </a:lnTo>
                  <a:lnTo>
                    <a:pt x="1832" y="270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361120" y="3079800"/>
              <a:ext cx="352440" cy="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843" name=""/>
          <p:cNvGrpSpPr/>
          <p:nvPr/>
        </p:nvGrpSpPr>
        <p:grpSpPr>
          <a:xfrm>
            <a:off x="1852560" y="3328920"/>
            <a:ext cx="3868920" cy="2684520"/>
            <a:chOff x="1852560" y="3328920"/>
            <a:chExt cx="3868920" cy="2684520"/>
          </a:xfrm>
        </p:grpSpPr>
        <p:sp>
          <p:nvSpPr>
            <p:cNvPr id="844" name=""/>
            <p:cNvSpPr/>
            <p:nvPr/>
          </p:nvSpPr>
          <p:spPr>
            <a:xfrm>
              <a:off x="1852560" y="4727520"/>
              <a:ext cx="2908440" cy="1285920"/>
            </a:xfrm>
            <a:custGeom>
              <a:avLst/>
              <a:gdLst/>
              <a:ahLst/>
              <a:rect l="l" t="t" r="r" b="b"/>
              <a:pathLst>
                <a:path w="1832" h="270">
                  <a:moveTo>
                    <a:pt x="0" y="0"/>
                  </a:moveTo>
                  <a:lnTo>
                    <a:pt x="1827" y="0"/>
                  </a:lnTo>
                  <a:lnTo>
                    <a:pt x="1832" y="27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371920" y="3328920"/>
              <a:ext cx="349560" cy="0"/>
            </a:xfrm>
            <a:prstGeom prst="line">
              <a:avLst/>
            </a:prstGeom>
            <a:ln w="3816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846" name=""/>
          <p:cNvGrpSpPr/>
          <p:nvPr/>
        </p:nvGrpSpPr>
        <p:grpSpPr>
          <a:xfrm>
            <a:off x="1852560" y="3578400"/>
            <a:ext cx="3884760" cy="2411280"/>
            <a:chOff x="1852560" y="3578400"/>
            <a:chExt cx="3884760" cy="2411280"/>
          </a:xfrm>
        </p:grpSpPr>
        <p:sp>
          <p:nvSpPr>
            <p:cNvPr id="847" name=""/>
            <p:cNvSpPr/>
            <p:nvPr/>
          </p:nvSpPr>
          <p:spPr>
            <a:xfrm>
              <a:off x="1852560" y="5243400"/>
              <a:ext cx="1749600" cy="746280"/>
            </a:xfrm>
            <a:custGeom>
              <a:avLst/>
              <a:gdLst/>
              <a:ahLst/>
              <a:rect l="l" t="t" r="r" b="b"/>
              <a:pathLst>
                <a:path w="1832" h="270">
                  <a:moveTo>
                    <a:pt x="0" y="0"/>
                  </a:moveTo>
                  <a:lnTo>
                    <a:pt x="1827" y="0"/>
                  </a:lnTo>
                  <a:lnTo>
                    <a:pt x="1832" y="270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413320" y="3578400"/>
              <a:ext cx="324000" cy="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E551-99F9-4D18-8E26-6F38847BF86D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015920" y="3772080"/>
            <a:ext cx="393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ahoma"/>
              </a:rPr>
              <a:t>Organiser un enchaînement d ’étapes dédiées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6328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’enjeu de la déma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780000" y="907920"/>
            <a:ext cx="53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Rendre utile chaque étap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130720" y="5689440"/>
            <a:ext cx="1778040" cy="1016280"/>
            <a:chOff x="5130720" y="5689440"/>
            <a:chExt cx="1778040" cy="1016280"/>
          </a:xfrm>
        </p:grpSpPr>
        <p:sp>
          <p:nvSpPr>
            <p:cNvPr id="147" name=""/>
            <p:cNvSpPr/>
            <p:nvPr/>
          </p:nvSpPr>
          <p:spPr>
            <a:xfrm>
              <a:off x="5130720" y="5689440"/>
              <a:ext cx="1778040" cy="101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148" name="" descr=""/>
            <p:cNvPicPr/>
            <p:nvPr/>
          </p:nvPicPr>
          <p:blipFill>
            <a:blip r:embed="rId1"/>
            <a:stretch/>
          </p:blipFill>
          <p:spPr>
            <a:xfrm>
              <a:off x="5181480" y="5740560"/>
              <a:ext cx="1692360" cy="936360"/>
            </a:xfrm>
            <a:prstGeom prst="rect">
              <a:avLst/>
            </a:prstGeom>
            <a:ln w="9360">
              <a:solidFill>
                <a:srgbClr val="000080"/>
              </a:solidFill>
              <a:miter/>
            </a:ln>
          </p:spPr>
        </p:pic>
      </p:grpSp>
      <p:sp>
        <p:nvSpPr>
          <p:cNvPr id="149" name=""/>
          <p:cNvSpPr/>
          <p:nvPr/>
        </p:nvSpPr>
        <p:spPr>
          <a:xfrm>
            <a:off x="4343400" y="1778040"/>
            <a:ext cx="3376440" cy="11224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5351400" y="1501920"/>
            <a:ext cx="1201680" cy="7524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028880" y="295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ahoma"/>
              </a:rPr>
              <a:t>Contraint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438800" y="2092320"/>
            <a:ext cx="1465200" cy="68904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6553080" y="2006640"/>
            <a:ext cx="609480" cy="685800"/>
            <a:chOff x="6553080" y="2006640"/>
            <a:chExt cx="609480" cy="685800"/>
          </a:xfrm>
        </p:grpSpPr>
        <p:sp>
          <p:nvSpPr>
            <p:cNvPr id="154" name=""/>
            <p:cNvSpPr/>
            <p:nvPr/>
          </p:nvSpPr>
          <p:spPr>
            <a:xfrm>
              <a:off x="6553080" y="2006640"/>
              <a:ext cx="609480" cy="685800"/>
            </a:xfrm>
            <a:prstGeom prst="flowChartMultidocument">
              <a:avLst/>
            </a:prstGeom>
            <a:solidFill>
              <a:srgbClr val="ffffff"/>
            </a:solidFill>
            <a:ln w="648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4"/>
            <a:stretch/>
          </p:blipFill>
          <p:spPr>
            <a:xfrm>
              <a:off x="6619680" y="2158920"/>
              <a:ext cx="466560" cy="466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 flipH="1">
            <a:off x="3467160" y="3108240"/>
            <a:ext cx="882720" cy="79848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4813200" y="3301920"/>
            <a:ext cx="2438280" cy="609480"/>
            <a:chOff x="4813200" y="3301920"/>
            <a:chExt cx="2438280" cy="609480"/>
          </a:xfrm>
        </p:grpSpPr>
        <p:sp>
          <p:nvSpPr>
            <p:cNvPr id="158" name=""/>
            <p:cNvSpPr/>
            <p:nvPr/>
          </p:nvSpPr>
          <p:spPr>
            <a:xfrm>
              <a:off x="4813200" y="3301920"/>
              <a:ext cx="2438280" cy="45720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89520" y="3454200"/>
              <a:ext cx="2286000" cy="457200"/>
            </a:xfrm>
            <a:prstGeom prst="ellipse">
              <a:avLst/>
            </a:prstGeom>
            <a:noFill/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7175160" y="3530520"/>
              <a:ext cx="75960" cy="15228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813200" y="3530520"/>
              <a:ext cx="76320" cy="171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62" name=""/>
          <p:cNvGrpSpPr/>
          <p:nvPr/>
        </p:nvGrpSpPr>
        <p:grpSpPr>
          <a:xfrm>
            <a:off x="5715000" y="2463840"/>
            <a:ext cx="533520" cy="3276720"/>
            <a:chOff x="5715000" y="2463840"/>
            <a:chExt cx="533520" cy="3276720"/>
          </a:xfrm>
        </p:grpSpPr>
        <p:sp>
          <p:nvSpPr>
            <p:cNvPr id="163" name=""/>
            <p:cNvSpPr/>
            <p:nvPr/>
          </p:nvSpPr>
          <p:spPr>
            <a:xfrm>
              <a:off x="5715000" y="2463840"/>
              <a:ext cx="533520" cy="3276720"/>
            </a:xfrm>
            <a:prstGeom prst="downArrow">
              <a:avLst>
                <a:gd name="adj1" fmla="val 66667"/>
                <a:gd name="adj2" fmla="val 102362"/>
              </a:avLst>
            </a:prstGeom>
            <a:solidFill>
              <a:srgbClr val="00008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829480" y="2463840"/>
              <a:ext cx="30456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 Narrow"/>
                </a:rPr>
                <a:t>CONC-IND-PROD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A898-1882-4C09-AC06-110DFCE143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é-dimensionne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Vérification moteu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1"/>
          <a:srcRect l="2319" t="3440" r="20349" b="2994"/>
          <a:stretch/>
        </p:blipFill>
        <p:spPr>
          <a:xfrm>
            <a:off x="1131840" y="1285920"/>
            <a:ext cx="7143840" cy="5356080"/>
          </a:xfrm>
          <a:prstGeom prst="rect">
            <a:avLst/>
          </a:prstGeom>
          <a:ln w="0">
            <a:noFill/>
          </a:ln>
        </p:spPr>
      </p:pic>
      <p:grpSp>
        <p:nvGrpSpPr>
          <p:cNvPr id="852" name=""/>
          <p:cNvGrpSpPr/>
          <p:nvPr/>
        </p:nvGrpSpPr>
        <p:grpSpPr>
          <a:xfrm>
            <a:off x="1800360" y="3079800"/>
            <a:ext cx="4384440" cy="2917800"/>
            <a:chOff x="1800360" y="3079800"/>
            <a:chExt cx="4384440" cy="2917800"/>
          </a:xfrm>
        </p:grpSpPr>
        <p:sp>
          <p:nvSpPr>
            <p:cNvPr id="853" name=""/>
            <p:cNvSpPr/>
            <p:nvPr/>
          </p:nvSpPr>
          <p:spPr>
            <a:xfrm>
              <a:off x="1800360" y="5783400"/>
              <a:ext cx="3709800" cy="214200"/>
            </a:xfrm>
            <a:custGeom>
              <a:avLst/>
              <a:gdLst/>
              <a:ahLst/>
              <a:rect l="l" t="t" r="r" b="b"/>
              <a:pathLst>
                <a:path w="1832" h="270">
                  <a:moveTo>
                    <a:pt x="0" y="0"/>
                  </a:moveTo>
                  <a:lnTo>
                    <a:pt x="1827" y="0"/>
                  </a:lnTo>
                  <a:lnTo>
                    <a:pt x="1832" y="270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5789520" y="3079800"/>
              <a:ext cx="395280" cy="0"/>
            </a:xfrm>
            <a:prstGeom prst="line">
              <a:avLst/>
            </a:prstGeom>
            <a:ln w="3816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855" name=""/>
          <p:cNvGrpSpPr/>
          <p:nvPr/>
        </p:nvGrpSpPr>
        <p:grpSpPr>
          <a:xfrm>
            <a:off x="1809720" y="3328920"/>
            <a:ext cx="4357800" cy="2675160"/>
            <a:chOff x="1809720" y="3328920"/>
            <a:chExt cx="4357800" cy="2675160"/>
          </a:xfrm>
        </p:grpSpPr>
        <p:sp>
          <p:nvSpPr>
            <p:cNvPr id="856" name=""/>
            <p:cNvSpPr/>
            <p:nvPr/>
          </p:nvSpPr>
          <p:spPr>
            <a:xfrm>
              <a:off x="1809720" y="5327640"/>
              <a:ext cx="3714840" cy="676440"/>
            </a:xfrm>
            <a:custGeom>
              <a:avLst/>
              <a:gdLst/>
              <a:ahLst/>
              <a:rect l="l" t="t" r="r" b="b"/>
              <a:pathLst>
                <a:path w="1832" h="270">
                  <a:moveTo>
                    <a:pt x="0" y="0"/>
                  </a:moveTo>
                  <a:lnTo>
                    <a:pt x="1827" y="0"/>
                  </a:lnTo>
                  <a:lnTo>
                    <a:pt x="1832" y="270"/>
                  </a:lnTo>
                </a:path>
              </a:pathLst>
            </a:custGeom>
            <a:noFill/>
            <a:ln w="38160">
              <a:solidFill>
                <a:srgbClr val="0066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5778360" y="3328920"/>
              <a:ext cx="389160" cy="0"/>
            </a:xfrm>
            <a:prstGeom prst="line">
              <a:avLst/>
            </a:prstGeom>
            <a:ln w="38160">
              <a:solidFill>
                <a:srgbClr val="0066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1809720" y="3578400"/>
            <a:ext cx="4381560" cy="2454120"/>
            <a:chOff x="1809720" y="3578400"/>
            <a:chExt cx="4381560" cy="2454120"/>
          </a:xfrm>
        </p:grpSpPr>
        <p:sp>
          <p:nvSpPr>
            <p:cNvPr id="859" name=""/>
            <p:cNvSpPr/>
            <p:nvPr/>
          </p:nvSpPr>
          <p:spPr>
            <a:xfrm>
              <a:off x="1809720" y="5611680"/>
              <a:ext cx="2211480" cy="420840"/>
            </a:xfrm>
            <a:custGeom>
              <a:avLst/>
              <a:gdLst/>
              <a:ahLst/>
              <a:rect l="l" t="t" r="r" b="b"/>
              <a:pathLst>
                <a:path w="1832" h="270">
                  <a:moveTo>
                    <a:pt x="0" y="0"/>
                  </a:moveTo>
                  <a:lnTo>
                    <a:pt x="1827" y="0"/>
                  </a:lnTo>
                  <a:lnTo>
                    <a:pt x="1832" y="270"/>
                  </a:lnTo>
                </a:path>
              </a:pathLst>
            </a:custGeom>
            <a:noFill/>
            <a:ln w="19080">
              <a:solidFill>
                <a:srgbClr val="008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829480" y="3578400"/>
              <a:ext cx="361800" cy="0"/>
            </a:xfrm>
            <a:prstGeom prst="line">
              <a:avLst/>
            </a:prstGeom>
            <a:ln w="19080">
              <a:solidFill>
                <a:srgbClr val="008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B6D9-F4A4-4F2D-AB28-76D4DC369D6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"/>
          <p:cNvSpPr/>
          <p:nvPr/>
        </p:nvSpPr>
        <p:spPr>
          <a:xfrm>
            <a:off x="3598920" y="114156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fr-FR" sz="2400" spc="-1" strike="noStrike">
                <a:solidFill>
                  <a:srgbClr val="292929"/>
                </a:solidFill>
                <a:latin typeface="Arial"/>
              </a:rPr>
              <a:t>Moto-réducteur de lace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862" name=""/>
          <p:cNvGrpSpPr/>
          <p:nvPr/>
        </p:nvGrpSpPr>
        <p:grpSpPr>
          <a:xfrm>
            <a:off x="909720" y="1738440"/>
            <a:ext cx="7538400" cy="4685400"/>
            <a:chOff x="909720" y="1738440"/>
            <a:chExt cx="7538400" cy="4685400"/>
          </a:xfrm>
        </p:grpSpPr>
        <p:grpSp>
          <p:nvGrpSpPr>
            <p:cNvPr id="863" name=""/>
            <p:cNvGrpSpPr/>
            <p:nvPr/>
          </p:nvGrpSpPr>
          <p:grpSpPr>
            <a:xfrm>
              <a:off x="909720" y="1738440"/>
              <a:ext cx="7538400" cy="4685400"/>
              <a:chOff x="909720" y="1738440"/>
              <a:chExt cx="7538400" cy="4685400"/>
            </a:xfrm>
          </p:grpSpPr>
          <p:sp>
            <p:nvSpPr>
              <p:cNvPr id="864" name=""/>
              <p:cNvSpPr/>
              <p:nvPr/>
            </p:nvSpPr>
            <p:spPr>
              <a:xfrm>
                <a:off x="909720" y="1810440"/>
                <a:ext cx="1134360" cy="276480"/>
              </a:xfrm>
              <a:noFill/>
              <a:ln w="6480">
                <a:solidFill>
                  <a:srgbClr val="0000ff"/>
                </a:solidFill>
                <a:miter/>
                <a:head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r"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0" lang="fr-FR" sz="1200" spc="-1" strike="noStrike">
                    <a:solidFill>
                      <a:srgbClr val="292929"/>
                    </a:solidFill>
                    <a:latin typeface="Arial"/>
                  </a:rPr>
                  <a:t>Bride</a:t>
                </a:r>
                <a:endParaRPr b="0" lang="en-US" sz="12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865" name=""/>
              <p:cNvGrpSpPr/>
              <p:nvPr/>
            </p:nvGrpSpPr>
            <p:grpSpPr>
              <a:xfrm>
                <a:off x="1183680" y="1738440"/>
                <a:ext cx="7264440" cy="4685400"/>
                <a:chOff x="1183680" y="1738440"/>
                <a:chExt cx="7264440" cy="4685400"/>
              </a:xfrm>
            </p:grpSpPr>
            <p:grpSp>
              <p:nvGrpSpPr>
                <p:cNvPr id="866" name=""/>
                <p:cNvGrpSpPr/>
                <p:nvPr/>
              </p:nvGrpSpPr>
              <p:grpSpPr>
                <a:xfrm>
                  <a:off x="1429920" y="1738440"/>
                  <a:ext cx="6698880" cy="4685400"/>
                  <a:chOff x="1429920" y="1738440"/>
                  <a:chExt cx="6698880" cy="4685400"/>
                </a:xfrm>
              </p:grpSpPr>
              <p:pic>
                <p:nvPicPr>
                  <p:cNvPr id="867" name="Moto-réducteur%20lacet" descr=""/>
                  <p:cNvPicPr/>
                  <p:nvPr/>
                </p:nvPicPr>
                <p:blipFill>
                  <a:blip r:embed="rId1"/>
                  <a:srcRect l="8885" t="18461" r="6498" b="13031"/>
                  <a:stretch/>
                </p:blipFill>
                <p:spPr>
                  <a:xfrm>
                    <a:off x="1429920" y="1738440"/>
                    <a:ext cx="6698880" cy="440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868" name=""/>
                  <p:cNvSpPr/>
                  <p:nvPr/>
                </p:nvSpPr>
                <p:spPr>
                  <a:xfrm>
                    <a:off x="4560120" y="2620080"/>
                    <a:ext cx="1293840" cy="459000"/>
                  </a:xfrm>
                  <a:noFill/>
                  <a:ln w="6480">
                    <a:solidFill>
                      <a:srgbClr val="0000ff"/>
                    </a:solidFill>
                    <a:miter/>
                    <a:headEnd len="med" type="arrow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fr-FR" sz="1200" spc="-1" strike="noStrike">
                        <a:solidFill>
                          <a:srgbClr val="292929"/>
                        </a:solidFill>
                        <a:latin typeface="Arial"/>
                      </a:rPr>
                      <a:t>Boîtier excentrique</a:t>
                    </a:r>
                    <a:endParaRPr b="0" lang="en-US" sz="12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2043720" y="3717000"/>
                    <a:ext cx="1134000" cy="459000"/>
                  </a:xfrm>
                  <a:noFill/>
                  <a:ln w="6480">
                    <a:solidFill>
                      <a:srgbClr val="0000ff"/>
                    </a:solidFill>
                    <a:miter/>
                    <a:headEnd len="med" type="arrow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fr-FR" sz="1200" spc="-1" strike="noStrike">
                        <a:solidFill>
                          <a:srgbClr val="292929"/>
                        </a:solidFill>
                        <a:latin typeface="Arial"/>
                      </a:rPr>
                      <a:t>Poulie motrice</a:t>
                    </a:r>
                    <a:endParaRPr b="0" lang="en-US" sz="12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4744800" y="5750640"/>
                    <a:ext cx="1134000" cy="276480"/>
                  </a:xfrm>
                  <a:noFill/>
                  <a:ln w="6480">
                    <a:solidFill>
                      <a:srgbClr val="0000ff"/>
                    </a:solidFill>
                    <a:miter/>
                    <a:headEnd len="med" type="arrow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fr-FR" sz="1200" spc="-1" strike="noStrike">
                        <a:solidFill>
                          <a:srgbClr val="292929"/>
                        </a:solidFill>
                        <a:latin typeface="Arial"/>
                      </a:rPr>
                      <a:t>Roulement</a:t>
                    </a:r>
                    <a:endParaRPr b="0" lang="en-US" sz="12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6994440" y="3717000"/>
                    <a:ext cx="1134000" cy="459000"/>
                  </a:xfrm>
                  <a:noFill/>
                  <a:ln w="6480">
                    <a:solidFill>
                      <a:srgbClr val="0000ff"/>
                    </a:solidFill>
                    <a:miter/>
                    <a:headEnd len="med" type="arrow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fr-FR" sz="1200" spc="-1" strike="noStrike">
                        <a:solidFill>
                          <a:srgbClr val="292929"/>
                        </a:solidFill>
                        <a:latin typeface="Arial"/>
                      </a:rPr>
                      <a:t>Moteur Parvex</a:t>
                    </a:r>
                    <a:endParaRPr b="0" lang="en-US" sz="12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"/>
                  <p:cNvSpPr/>
                  <p:nvPr/>
                </p:nvSpPr>
                <p:spPr>
                  <a:xfrm>
                    <a:off x="4744800" y="6147360"/>
                    <a:ext cx="1134000" cy="276480"/>
                  </a:xfrm>
                  <a:noFill/>
                  <a:ln w="6480">
                    <a:solidFill>
                      <a:srgbClr val="0000ff"/>
                    </a:solidFill>
                    <a:miter/>
                    <a:headEnd len="med" type="arrow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fr-FR" sz="1200" spc="-1" strike="noStrike">
                        <a:solidFill>
                          <a:srgbClr val="292929"/>
                        </a:solidFill>
                        <a:latin typeface="Arial"/>
                      </a:rPr>
                      <a:t>Arbre moteur</a:t>
                    </a:r>
                    <a:endParaRPr b="0" lang="en-US" sz="12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"/>
                  <p:cNvSpPr/>
                  <p:nvPr/>
                </p:nvSpPr>
                <p:spPr>
                  <a:xfrm>
                    <a:off x="4560120" y="1810440"/>
                    <a:ext cx="1431360" cy="459000"/>
                  </a:xfrm>
                  <a:noFill/>
                  <a:ln w="6480">
                    <a:solidFill>
                      <a:srgbClr val="0000ff"/>
                    </a:solidFill>
                    <a:miter/>
                    <a:headEnd len="med" type="arrow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spAutoFit/>
                  </a:bodyPr>
                  <a:p>
                    <a:pPr>
                      <a:tabLst>
                        <a:tab algn="l" pos="0"/>
                        <a:tab algn="l" pos="762120"/>
                        <a:tab algn="l" pos="1523880"/>
                        <a:tab algn="l" pos="2286000"/>
                        <a:tab algn="l" pos="3048120"/>
                        <a:tab algn="l" pos="3809880"/>
                        <a:tab algn="l" pos="4572000"/>
                        <a:tab algn="l" pos="5334120"/>
                        <a:tab algn="l" pos="6095880"/>
                        <a:tab algn="l" pos="6858000"/>
                        <a:tab algn="l" pos="7620120"/>
                        <a:tab algn="l" pos="8381880"/>
                        <a:tab algn="l" pos="9144000"/>
                        <a:tab algn="l" pos="9906120"/>
                        <a:tab algn="l" pos="10667880"/>
                      </a:tabLst>
                    </a:pPr>
                    <a:r>
                      <a:rPr b="0" lang="fr-FR" sz="1200" spc="-1" strike="noStrike">
                        <a:solidFill>
                          <a:srgbClr val="292929"/>
                        </a:solidFill>
                        <a:latin typeface="Arial"/>
                      </a:rPr>
                      <a:t>Rondelle d ’adaptation</a:t>
                    </a:r>
                    <a:endParaRPr b="0" lang="en-US" sz="1200" spc="-1" strike="noStrike">
                      <a:solidFill>
                        <a:srgbClr val="29292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4" name=""/>
                <p:cNvSpPr/>
                <p:nvPr/>
              </p:nvSpPr>
              <p:spPr>
                <a:xfrm>
                  <a:off x="6242400" y="4280400"/>
                  <a:ext cx="2205720" cy="276480"/>
                </a:xfrm>
                <a:noFill/>
                <a:ln w="6480">
                  <a:solidFill>
                    <a:srgbClr val="0000ff"/>
                  </a:solidFill>
                  <a:miter/>
                  <a:head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fr-FR" sz="1200" spc="-1" strike="noStrike">
                      <a:solidFill>
                        <a:srgbClr val="292929"/>
                      </a:solidFill>
                      <a:latin typeface="Arial"/>
                    </a:rPr>
                    <a:t>Réducteur Harmonic Drive</a:t>
                  </a:r>
                  <a:endParaRPr b="0" lang="en-US" sz="12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875" name=""/>
                <p:cNvSpPr/>
                <p:nvPr/>
              </p:nvSpPr>
              <p:spPr>
                <a:xfrm>
                  <a:off x="1183680" y="2620080"/>
                  <a:ext cx="860400" cy="276480"/>
                </a:xfrm>
                <a:noFill/>
                <a:ln w="6480">
                  <a:solidFill>
                    <a:srgbClr val="0000ff"/>
                  </a:solidFill>
                  <a:miter/>
                  <a:headEnd len="med" type="arrow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fr-FR" sz="1200" spc="-1" strike="noStrike">
                      <a:solidFill>
                        <a:srgbClr val="292929"/>
                      </a:solidFill>
                      <a:latin typeface="Arial"/>
                    </a:rPr>
                    <a:t>Circlips</a:t>
                  </a:r>
                  <a:endParaRPr b="0" lang="en-US" sz="12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76" name=""/>
            <p:cNvSpPr/>
            <p:nvPr/>
          </p:nvSpPr>
          <p:spPr>
            <a:xfrm>
              <a:off x="1172160" y="3226320"/>
              <a:ext cx="843840" cy="276480"/>
            </a:xfrm>
            <a:noFill/>
            <a:ln w="6480">
              <a:solidFill>
                <a:srgbClr val="cccc99"/>
              </a:solidFill>
              <a:miter/>
              <a:head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1200" spc="-1" strike="noStrike">
                  <a:solidFill>
                    <a:srgbClr val="292929"/>
                  </a:solidFill>
                  <a:latin typeface="Arial"/>
                </a:rPr>
                <a:t>Bride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877" name=""/>
          <p:cNvGrpSpPr/>
          <p:nvPr/>
        </p:nvGrpSpPr>
        <p:grpSpPr>
          <a:xfrm>
            <a:off x="5991120" y="4637160"/>
            <a:ext cx="2917800" cy="1751040"/>
            <a:chOff x="5991120" y="4637160"/>
            <a:chExt cx="2917800" cy="1751040"/>
          </a:xfrm>
        </p:grpSpPr>
        <p:pic>
          <p:nvPicPr>
            <p:cNvPr id="878" name="Moto-réducteur%20lacet" descr=""/>
            <p:cNvPicPr/>
            <p:nvPr/>
          </p:nvPicPr>
          <p:blipFill>
            <a:blip r:embed="rId2"/>
            <a:srcRect l="19996" t="27483" r="23116" b="26490"/>
            <a:stretch/>
          </p:blipFill>
          <p:spPr>
            <a:xfrm>
              <a:off x="6241680" y="4637160"/>
              <a:ext cx="266724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5991120" y="4637160"/>
              <a:ext cx="2917800" cy="1751040"/>
            </a:xfrm>
            <a:prstGeom prst="rect">
              <a:avLst/>
            </a:prstGeom>
            <a:noFill/>
            <a:ln w="7632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é-dimensionne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4779D-8966-439A-9ADD-4610D3BC6DF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é-dimensionne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Poulie réceptric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83" name="poulie%20lacet" descr=""/>
          <p:cNvPicPr/>
          <p:nvPr/>
        </p:nvPicPr>
        <p:blipFill>
          <a:blip r:embed="rId1"/>
          <a:stretch/>
        </p:blipFill>
        <p:spPr>
          <a:xfrm>
            <a:off x="2389320" y="1657440"/>
            <a:ext cx="5095800" cy="433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AC22-B09D-4336-A3A9-C9F4868C5EF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ré-dimensionnemen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Éléments pré-dimensionné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86" name="eléments%20donnés" descr=""/>
          <p:cNvPicPr/>
          <p:nvPr/>
        </p:nvPicPr>
        <p:blipFill>
          <a:blip r:embed="rId1"/>
          <a:stretch/>
        </p:blipFill>
        <p:spPr>
          <a:xfrm>
            <a:off x="2060640" y="1338120"/>
            <a:ext cx="5911920" cy="5031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234F-76F1-4D35-A172-50902355D818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7" name="CONFUS" descr=""/>
          <p:cNvPicPr/>
          <p:nvPr/>
        </p:nvPicPr>
        <p:blipFill>
          <a:blip r:embed="rId1"/>
          <a:stretch/>
        </p:blipFill>
        <p:spPr>
          <a:xfrm>
            <a:off x="2809800" y="3381480"/>
            <a:ext cx="698400" cy="1625400"/>
          </a:xfrm>
          <a:prstGeom prst="rect">
            <a:avLst/>
          </a:prstGeom>
          <a:ln w="0">
            <a:noFill/>
          </a:ln>
        </p:spPr>
      </p:pic>
      <p:grpSp>
        <p:nvGrpSpPr>
          <p:cNvPr id="888" name=""/>
          <p:cNvGrpSpPr/>
          <p:nvPr/>
        </p:nvGrpSpPr>
        <p:grpSpPr>
          <a:xfrm>
            <a:off x="3930480" y="1739880"/>
            <a:ext cx="2329200" cy="3505320"/>
            <a:chOff x="3930480" y="1739880"/>
            <a:chExt cx="2329200" cy="3505320"/>
          </a:xfrm>
        </p:grpSpPr>
        <p:sp>
          <p:nvSpPr>
            <p:cNvPr id="889" name=""/>
            <p:cNvSpPr/>
            <p:nvPr/>
          </p:nvSpPr>
          <p:spPr>
            <a:xfrm>
              <a:off x="3930480" y="1739880"/>
              <a:ext cx="1907280" cy="3048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070880" y="1892160"/>
              <a:ext cx="1907280" cy="3048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211640" y="2044800"/>
              <a:ext cx="1907280" cy="30477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352400" y="2197080"/>
              <a:ext cx="1907280" cy="304812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aphicFrame>
          <p:nvGraphicFramePr>
            <p:cNvPr id="893" name=""/>
            <p:cNvGraphicFramePr/>
            <p:nvPr/>
          </p:nvGraphicFramePr>
          <p:xfrm>
            <a:off x="4478040" y="2593800"/>
            <a:ext cx="1640520" cy="1901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478040" y="2593800"/>
                      <a:ext cx="1640520" cy="1901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895" name=""/>
          <p:cNvGrpSpPr/>
          <p:nvPr/>
        </p:nvGrpSpPr>
        <p:grpSpPr>
          <a:xfrm>
            <a:off x="1981080" y="1698480"/>
            <a:ext cx="5607000" cy="4637160"/>
            <a:chOff x="1981080" y="1698480"/>
            <a:chExt cx="5607000" cy="4637160"/>
          </a:xfrm>
        </p:grpSpPr>
        <p:sp>
          <p:nvSpPr>
            <p:cNvPr id="896" name=""/>
            <p:cNvSpPr/>
            <p:nvPr/>
          </p:nvSpPr>
          <p:spPr>
            <a:xfrm>
              <a:off x="1981080" y="1698480"/>
              <a:ext cx="5607000" cy="463716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aphicFrame>
          <p:nvGraphicFramePr>
            <p:cNvPr id="897" name=""/>
            <p:cNvGraphicFramePr/>
            <p:nvPr/>
          </p:nvGraphicFramePr>
          <p:xfrm>
            <a:off x="2098080" y="1736640"/>
            <a:ext cx="5466240" cy="4457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89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098080" y="1736640"/>
                      <a:ext cx="5466240" cy="445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99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cherche d ’une solution constructiv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4284720" y="90792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Schémas technologiqu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6364440" y="1450440"/>
            <a:ext cx="230004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Ces schémas peuvent bien sur être tracés à main levé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504720" y="4667400"/>
            <a:ext cx="3124440" cy="1922760"/>
          </a:xfrm>
          <a:prstGeom prst="rect">
            <a:avLst/>
          </a:prstGeom>
          <a:solidFill>
            <a:srgbClr val="99c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C - Rendre possible la comparaison entre différentes solutions techniques à une même fonction techniqu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2392-F9EC-4C40-90EE-B0772381A40A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3" name=""/>
          <p:cNvGrpSpPr/>
          <p:nvPr/>
        </p:nvGrpSpPr>
        <p:grpSpPr>
          <a:xfrm>
            <a:off x="965160" y="4343400"/>
            <a:ext cx="3117600" cy="1065600"/>
            <a:chOff x="965160" y="4343400"/>
            <a:chExt cx="3117600" cy="1065600"/>
          </a:xfrm>
        </p:grpSpPr>
        <p:sp>
          <p:nvSpPr>
            <p:cNvPr id="904" name=""/>
            <p:cNvSpPr/>
            <p:nvPr/>
          </p:nvSpPr>
          <p:spPr>
            <a:xfrm>
              <a:off x="1993680" y="4343400"/>
              <a:ext cx="158760" cy="475920"/>
            </a:xfrm>
            <a:prstGeom prst="downArrow">
              <a:avLst>
                <a:gd name="adj1" fmla="val 50000"/>
                <a:gd name="adj2" fmla="val 74943"/>
              </a:avLst>
            </a:prstGeom>
            <a:solidFill>
              <a:srgbClr val="cc99f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965160" y="4854600"/>
              <a:ext cx="3117600" cy="55440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buClr>
                  <a:srgbClr val="292929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292929"/>
                  </a:solidFill>
                  <a:latin typeface="Arial"/>
                </a:rPr>
                <a:t>éléments standards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292929"/>
                </a:buClr>
                <a:buFont typeface="Arial"/>
                <a:buChar char="•"/>
                <a:tabLst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292929"/>
                  </a:solidFill>
                  <a:latin typeface="Arial"/>
                </a:rPr>
                <a:t>pièces ou sous-ensembles existants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906" name=""/>
          <p:cNvGrpSpPr/>
          <p:nvPr/>
        </p:nvGrpSpPr>
        <p:grpSpPr>
          <a:xfrm>
            <a:off x="6550200" y="3890880"/>
            <a:ext cx="2311200" cy="599760"/>
            <a:chOff x="6550200" y="3890880"/>
            <a:chExt cx="2311200" cy="599760"/>
          </a:xfrm>
        </p:grpSpPr>
        <p:sp>
          <p:nvSpPr>
            <p:cNvPr id="907" name=""/>
            <p:cNvSpPr/>
            <p:nvPr/>
          </p:nvSpPr>
          <p:spPr>
            <a:xfrm>
              <a:off x="6550200" y="4096440"/>
              <a:ext cx="366480" cy="132480"/>
            </a:xfrm>
            <a:prstGeom prst="rightArrow">
              <a:avLst>
                <a:gd name="adj1" fmla="val 50000"/>
                <a:gd name="adj2" fmla="val 69158"/>
              </a:avLst>
            </a:prstGeom>
            <a:solidFill>
              <a:srgbClr val="00ccff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sp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983640" y="3890880"/>
              <a:ext cx="1877760" cy="59976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292929"/>
                  </a:solidFill>
                  <a:latin typeface="Arial"/>
                </a:rPr>
                <a:t>Squelette volumique fonctionnel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292929"/>
                  </a:solidFill>
                  <a:latin typeface="Arial"/>
                </a:rPr>
                <a:t>optimisé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909" name=""/>
          <p:cNvGrpSpPr/>
          <p:nvPr/>
        </p:nvGrpSpPr>
        <p:grpSpPr>
          <a:xfrm>
            <a:off x="5759280" y="2260440"/>
            <a:ext cx="1771920" cy="819360"/>
            <a:chOff x="5759280" y="2260440"/>
            <a:chExt cx="1771920" cy="819360"/>
          </a:xfrm>
        </p:grpSpPr>
        <p:sp>
          <p:nvSpPr>
            <p:cNvPr id="910" name=""/>
            <p:cNvSpPr/>
            <p:nvPr/>
          </p:nvSpPr>
          <p:spPr>
            <a:xfrm>
              <a:off x="5776200" y="2260440"/>
              <a:ext cx="1752840" cy="819360"/>
            </a:xfrm>
            <a:prstGeom prst="ellipse">
              <a:avLst/>
            </a:prstGeom>
            <a:solidFill>
              <a:srgbClr val="cc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759280" y="2260440"/>
              <a:ext cx="177192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292929"/>
                  </a:solidFill>
                  <a:latin typeface="Arial"/>
                </a:rPr>
                <a:t>Etape 3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292929"/>
                  </a:solidFill>
                  <a:latin typeface="Arial"/>
                </a:rPr>
                <a:t>Squelette volumique fonctionnel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883120" y="2479680"/>
              <a:ext cx="15433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913" name=""/>
          <p:cNvSpPr/>
          <p:nvPr/>
        </p:nvSpPr>
        <p:spPr>
          <a:xfrm>
            <a:off x="1279440" y="1612800"/>
            <a:ext cx="1494000" cy="960480"/>
          </a:xfrm>
          <a:prstGeom prst="rect">
            <a:avLst/>
          </a:prstGeom>
          <a:solidFill>
            <a:srgbClr val="ff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292929"/>
                </a:solidFill>
                <a:latin typeface="Arial"/>
              </a:rPr>
              <a:t>Schéma technologique, croquis à main levée ;  …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5730840" y="4708440"/>
            <a:ext cx="1771560" cy="819360"/>
            <a:chOff x="5730840" y="4708440"/>
            <a:chExt cx="1771560" cy="819360"/>
          </a:xfrm>
        </p:grpSpPr>
        <p:sp>
          <p:nvSpPr>
            <p:cNvPr id="915" name=""/>
            <p:cNvSpPr/>
            <p:nvPr/>
          </p:nvSpPr>
          <p:spPr>
            <a:xfrm>
              <a:off x="5747760" y="4708440"/>
              <a:ext cx="1752480" cy="819360"/>
            </a:xfrm>
            <a:prstGeom prst="ellipse">
              <a:avLst/>
            </a:prstGeom>
            <a:solidFill>
              <a:srgbClr val="cc99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5730840" y="4708440"/>
              <a:ext cx="1771560" cy="81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000" spc="-1" strike="noStrike">
                  <a:solidFill>
                    <a:srgbClr val="292929"/>
                  </a:solidFill>
                  <a:latin typeface="Arial"/>
                </a:rPr>
                <a:t>Etape 4</a:t>
              </a:r>
              <a:endParaRPr b="0" lang="en-US" sz="1000" spc="-1" strike="noStrike">
                <a:solidFill>
                  <a:srgbClr val="292929"/>
                </a:solidFill>
                <a:latin typeface="Arial"/>
              </a:endParaRPr>
            </a:p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292929"/>
                  </a:solidFill>
                  <a:latin typeface="Arial"/>
                </a:rPr>
                <a:t>Simulations numérique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5854320" y="4927680"/>
              <a:ext cx="154296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918" name=""/>
          <p:cNvGrpSpPr/>
          <p:nvPr/>
        </p:nvGrpSpPr>
        <p:grpSpPr>
          <a:xfrm>
            <a:off x="1141560" y="2629080"/>
            <a:ext cx="1809720" cy="1695240"/>
            <a:chOff x="1141560" y="2629080"/>
            <a:chExt cx="1809720" cy="1695240"/>
          </a:xfrm>
        </p:grpSpPr>
        <p:grpSp>
          <p:nvGrpSpPr>
            <p:cNvPr id="919" name=""/>
            <p:cNvGrpSpPr/>
            <p:nvPr/>
          </p:nvGrpSpPr>
          <p:grpSpPr>
            <a:xfrm>
              <a:off x="1141560" y="3505320"/>
              <a:ext cx="1809720" cy="819000"/>
              <a:chOff x="1141560" y="3505320"/>
              <a:chExt cx="1809720" cy="819000"/>
            </a:xfrm>
          </p:grpSpPr>
          <p:sp>
            <p:nvSpPr>
              <p:cNvPr id="920" name=""/>
              <p:cNvSpPr/>
              <p:nvPr/>
            </p:nvSpPr>
            <p:spPr>
              <a:xfrm>
                <a:off x="1196640" y="3505320"/>
                <a:ext cx="1752840" cy="819000"/>
              </a:xfrm>
              <a:prstGeom prst="ellipse">
                <a:avLst/>
              </a:prstGeom>
              <a:solidFill>
                <a:srgbClr val="cc99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141560" y="3505320"/>
                <a:ext cx="1809720" cy="81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292929"/>
                    </a:solidFill>
                    <a:latin typeface="Arial"/>
                  </a:rPr>
                  <a:t>Etape 1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292929"/>
                    </a:solidFill>
                    <a:latin typeface="Arial"/>
                  </a:rPr>
                  <a:t>Mise en place des éléments connus</a:t>
                </a:r>
                <a:endParaRPr b="0" lang="en-US" sz="12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1303200" y="3724200"/>
                <a:ext cx="15433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923" name=""/>
            <p:cNvSpPr/>
            <p:nvPr/>
          </p:nvSpPr>
          <p:spPr>
            <a:xfrm>
              <a:off x="2006640" y="2629080"/>
              <a:ext cx="158760" cy="842760"/>
            </a:xfrm>
            <a:prstGeom prst="downArrow">
              <a:avLst>
                <a:gd name="adj1" fmla="val 50000"/>
                <a:gd name="adj2" fmla="val 132710"/>
              </a:avLst>
            </a:prstGeom>
            <a:solidFill>
              <a:srgbClr val="00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924" name=""/>
          <p:cNvGrpSpPr/>
          <p:nvPr/>
        </p:nvGrpSpPr>
        <p:grpSpPr>
          <a:xfrm>
            <a:off x="2976480" y="3503520"/>
            <a:ext cx="2455560" cy="819360"/>
            <a:chOff x="2976480" y="3503520"/>
            <a:chExt cx="2455560" cy="819360"/>
          </a:xfrm>
        </p:grpSpPr>
        <p:grpSp>
          <p:nvGrpSpPr>
            <p:cNvPr id="925" name=""/>
            <p:cNvGrpSpPr/>
            <p:nvPr/>
          </p:nvGrpSpPr>
          <p:grpSpPr>
            <a:xfrm>
              <a:off x="3622320" y="3503520"/>
              <a:ext cx="1809720" cy="819360"/>
              <a:chOff x="3622320" y="3503520"/>
              <a:chExt cx="1809720" cy="819360"/>
            </a:xfrm>
          </p:grpSpPr>
          <p:sp>
            <p:nvSpPr>
              <p:cNvPr id="926" name=""/>
              <p:cNvSpPr/>
              <p:nvPr/>
            </p:nvSpPr>
            <p:spPr>
              <a:xfrm>
                <a:off x="3677400" y="3503520"/>
                <a:ext cx="1752840" cy="819360"/>
              </a:xfrm>
              <a:prstGeom prst="ellipse">
                <a:avLst/>
              </a:prstGeom>
              <a:solidFill>
                <a:srgbClr val="cc99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3622320" y="3503520"/>
                <a:ext cx="1809720" cy="81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292929"/>
                    </a:solidFill>
                    <a:latin typeface="Arial"/>
                  </a:rPr>
                  <a:t>Etape 2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292929"/>
                    </a:solidFill>
                    <a:latin typeface="Arial"/>
                  </a:rPr>
                  <a:t>Esquisses contraintes</a:t>
                </a:r>
                <a:r>
                  <a:rPr b="0" lang="fr-FR" sz="1000" spc="-1" strike="noStrike">
                    <a:solidFill>
                      <a:srgbClr val="292929"/>
                    </a:solidFill>
                    <a:latin typeface="Arial"/>
                  </a:rPr>
                  <a:t> (contours 2D)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783960" y="3722760"/>
                <a:ext cx="15433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929" name=""/>
            <p:cNvSpPr/>
            <p:nvPr/>
          </p:nvSpPr>
          <p:spPr>
            <a:xfrm rot="16200000">
              <a:off x="3232800" y="3578760"/>
              <a:ext cx="158760" cy="671400"/>
            </a:xfrm>
            <a:prstGeom prst="downArrow">
              <a:avLst>
                <a:gd name="adj1" fmla="val 50000"/>
                <a:gd name="adj2" fmla="val 105726"/>
              </a:avLst>
            </a:prstGeom>
            <a:solidFill>
              <a:srgbClr val="00cc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930" name=""/>
          <p:cNvSpPr/>
          <p:nvPr/>
        </p:nvSpPr>
        <p:spPr>
          <a:xfrm rot="19245000">
            <a:off x="5003640" y="3158640"/>
            <a:ext cx="1079640" cy="198720"/>
          </a:xfrm>
          <a:prstGeom prst="leftRightArrow">
            <a:avLst>
              <a:gd name="adj1" fmla="val 50000"/>
              <a:gd name="adj2" fmla="val 10815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 rot="20334000">
            <a:off x="6356160" y="3846600"/>
            <a:ext cx="190440" cy="888840"/>
          </a:xfrm>
          <a:prstGeom prst="upDownArrow">
            <a:avLst>
              <a:gd name="adj1" fmla="val 50000"/>
              <a:gd name="adj2" fmla="val 92913"/>
            </a:avLst>
          </a:prstGeom>
          <a:solidFill>
            <a:srgbClr val="00c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2192400" y="2383920"/>
            <a:ext cx="1743480" cy="1021680"/>
            <a:chOff x="2192400" y="2383920"/>
            <a:chExt cx="1743480" cy="1021680"/>
          </a:xfrm>
        </p:grpSpPr>
        <p:sp>
          <p:nvSpPr>
            <p:cNvPr id="933" name=""/>
            <p:cNvSpPr/>
            <p:nvPr/>
          </p:nvSpPr>
          <p:spPr>
            <a:xfrm flipH="1" rot="2355000">
              <a:off x="2626920" y="2814120"/>
              <a:ext cx="1418040" cy="160560"/>
            </a:xfrm>
            <a:prstGeom prst="leftArrow">
              <a:avLst>
                <a:gd name="adj1" fmla="val 50000"/>
                <a:gd name="adj2" fmla="val 220796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92400" y="2738520"/>
              <a:ext cx="78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Arial"/>
                </a:rPr>
                <a:t>ou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935" name=""/>
          <p:cNvGrpSpPr/>
          <p:nvPr/>
        </p:nvGrpSpPr>
        <p:grpSpPr>
          <a:xfrm>
            <a:off x="130320" y="4960800"/>
            <a:ext cx="1349280" cy="1199880"/>
            <a:chOff x="130320" y="4960800"/>
            <a:chExt cx="1349280" cy="1199880"/>
          </a:xfrm>
        </p:grpSpPr>
        <p:sp>
          <p:nvSpPr>
            <p:cNvPr id="936" name=""/>
            <p:cNvSpPr/>
            <p:nvPr/>
          </p:nvSpPr>
          <p:spPr>
            <a:xfrm>
              <a:off x="130320" y="5573520"/>
              <a:ext cx="134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fr-FR" sz="1200" spc="-1" strike="noStrike">
                  <a:solidFill>
                    <a:srgbClr val="292929"/>
                  </a:solidFill>
                  <a:latin typeface="Arial"/>
                </a:rPr>
                <a:t>conception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842040" y="4960800"/>
              <a:ext cx="419040" cy="1199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64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-5400000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2773440" y="4937040"/>
            <a:ext cx="2469600" cy="1474560"/>
            <a:chOff x="2773440" y="4937040"/>
            <a:chExt cx="2469600" cy="1474560"/>
          </a:xfrm>
        </p:grpSpPr>
        <p:grpSp>
          <p:nvGrpSpPr>
            <p:cNvPr id="939" name=""/>
            <p:cNvGrpSpPr/>
            <p:nvPr/>
          </p:nvGrpSpPr>
          <p:grpSpPr>
            <a:xfrm>
              <a:off x="3530520" y="4937040"/>
              <a:ext cx="1712520" cy="1474560"/>
              <a:chOff x="3530520" y="4937040"/>
              <a:chExt cx="1712520" cy="1474560"/>
            </a:xfrm>
          </p:grpSpPr>
          <p:sp>
            <p:nvSpPr>
              <p:cNvPr id="940" name=""/>
              <p:cNvSpPr/>
              <p:nvPr/>
            </p:nvSpPr>
            <p:spPr>
              <a:xfrm>
                <a:off x="3571560" y="5629320"/>
                <a:ext cx="1671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-5400000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fr-FR" sz="1200" spc="-1" strike="noStrike">
                    <a:solidFill>
                      <a:srgbClr val="292929"/>
                    </a:solidFill>
                    <a:latin typeface="Arial"/>
                  </a:rPr>
                  <a:t>reconception</a:t>
                </a:r>
                <a:endParaRPr b="0" lang="en-US" sz="12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3530520" y="4937040"/>
                <a:ext cx="1128960" cy="119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608607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6086074"/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3645720" y="5211720"/>
                <a:ext cx="456840" cy="1199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44708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4470891"/>
                  </a:path>
                </a:pathLst>
              </a:custGeom>
              <a:noFill/>
              <a:ln w="648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-5400000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943" name=""/>
            <p:cNvSpPr/>
            <p:nvPr/>
          </p:nvSpPr>
          <p:spPr>
            <a:xfrm flipH="1">
              <a:off x="2773440" y="4937040"/>
              <a:ext cx="13219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944" name=""/>
          <p:cNvSpPr/>
          <p:nvPr/>
        </p:nvSpPr>
        <p:spPr>
          <a:xfrm>
            <a:off x="1905120" y="98748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000066"/>
                </a:solidFill>
                <a:latin typeface="Arial Narrow"/>
              </a:rPr>
              <a:t>Du principe de solution optimisée au squelette volumique fonctionnel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 rot="20446200">
            <a:off x="3559320" y="2448000"/>
            <a:ext cx="4059000" cy="1665360"/>
          </a:xfrm>
          <a:prstGeom prst="ellipse">
            <a:avLst/>
          </a:prstGeom>
          <a:noFill/>
          <a:ln w="1908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B7AE8-A703-4DD8-8886-645B5404F850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7" name=""/>
          <p:cNvGrpSpPr/>
          <p:nvPr/>
        </p:nvGrpSpPr>
        <p:grpSpPr>
          <a:xfrm>
            <a:off x="2824200" y="1523880"/>
            <a:ext cx="3639600" cy="3608280"/>
            <a:chOff x="2824200" y="1523880"/>
            <a:chExt cx="3639600" cy="3608280"/>
          </a:xfrm>
        </p:grpSpPr>
        <p:pic>
          <p:nvPicPr>
            <p:cNvPr id="948" name="" descr=""/>
            <p:cNvPicPr/>
            <p:nvPr/>
          </p:nvPicPr>
          <p:blipFill>
            <a:blip r:embed="rId1"/>
            <a:stretch/>
          </p:blipFill>
          <p:spPr>
            <a:xfrm>
              <a:off x="2824200" y="1886040"/>
              <a:ext cx="3495600" cy="308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49" name=""/>
            <p:cNvGrpSpPr/>
            <p:nvPr/>
          </p:nvGrpSpPr>
          <p:grpSpPr>
            <a:xfrm>
              <a:off x="3962520" y="1523880"/>
              <a:ext cx="2501280" cy="3608280"/>
              <a:chOff x="3962520" y="1523880"/>
              <a:chExt cx="2501280" cy="3608280"/>
            </a:xfrm>
          </p:grpSpPr>
          <p:sp>
            <p:nvSpPr>
              <p:cNvPr id="950" name=""/>
              <p:cNvSpPr/>
              <p:nvPr/>
            </p:nvSpPr>
            <p:spPr>
              <a:xfrm>
                <a:off x="3962520" y="1523880"/>
                <a:ext cx="2501280" cy="3608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951" name=""/>
              <p:cNvGrpSpPr/>
              <p:nvPr/>
            </p:nvGrpSpPr>
            <p:grpSpPr>
              <a:xfrm>
                <a:off x="4218480" y="1790280"/>
                <a:ext cx="2063160" cy="2651400"/>
                <a:chOff x="4218480" y="1790280"/>
                <a:chExt cx="2063160" cy="2651400"/>
              </a:xfrm>
            </p:grpSpPr>
            <p:graphicFrame>
              <p:nvGraphicFramePr>
                <p:cNvPr id="952" name=""/>
                <p:cNvGraphicFramePr/>
                <p:nvPr/>
              </p:nvGraphicFramePr>
              <p:xfrm>
                <a:off x="4218480" y="1790280"/>
                <a:ext cx="2063160" cy="2651400"/>
              </p:xfrm>
              <a:graphic>
                <a:graphicData uri="http://schemas.openxmlformats.org/presentationml/2006/ole">
                  <p:oleObj r:id="rId2" spid="">
                    <p:embed/>
                    <p:pic>
                      <p:nvPicPr>
                        <p:cNvPr id="953" name="" descr=""/>
                        <p:cNvPicPr/>
                        <p:nvPr/>
                      </p:nvPicPr>
                      <p:blipFill>
                        <a:blip r:embed="rId3"/>
                        <a:stretch/>
                      </p:blipFill>
                      <p:spPr>
                        <a:xfrm>
                          <a:off x="4218480" y="1790280"/>
                          <a:ext cx="2063160" cy="2651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954" name=""/>
                <p:cNvSpPr/>
                <p:nvPr/>
              </p:nvSpPr>
              <p:spPr>
                <a:xfrm>
                  <a:off x="4431240" y="1866960"/>
                  <a:ext cx="1577520" cy="1596600"/>
                </a:xfrm>
                <a:custGeom>
                  <a:avLst/>
                  <a:gdLst/>
                  <a:ahLst/>
                  <a:rect l="l" t="t" r="r" b="b"/>
                  <a:pathLst>
                    <a:path w="4178" h="3420">
                      <a:moveTo>
                        <a:pt x="25" y="12"/>
                      </a:moveTo>
                      <a:lnTo>
                        <a:pt x="4153" y="0"/>
                      </a:lnTo>
                      <a:lnTo>
                        <a:pt x="4178" y="3420"/>
                      </a:lnTo>
                      <a:lnTo>
                        <a:pt x="3767" y="3407"/>
                      </a:lnTo>
                      <a:lnTo>
                        <a:pt x="3754" y="655"/>
                      </a:lnTo>
                      <a:lnTo>
                        <a:pt x="2545" y="630"/>
                      </a:lnTo>
                      <a:lnTo>
                        <a:pt x="2533" y="437"/>
                      </a:lnTo>
                      <a:lnTo>
                        <a:pt x="0" y="450"/>
                      </a:lnTo>
                      <a:lnTo>
                        <a:pt x="25" y="12"/>
                      </a:lnTo>
                      <a:close/>
                    </a:path>
                  </a:pathLst>
                </a:cu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955" name=""/>
                <p:cNvSpPr/>
                <p:nvPr/>
              </p:nvSpPr>
              <p:spPr>
                <a:xfrm>
                  <a:off x="4445640" y="2107080"/>
                  <a:ext cx="912600" cy="1548360"/>
                </a:xfrm>
                <a:custGeom>
                  <a:avLst/>
                  <a:gdLst/>
                  <a:ahLst/>
                  <a:rect l="l" t="t" r="r" b="b"/>
                  <a:pathLst>
                    <a:path w="2417" h="3317">
                      <a:moveTo>
                        <a:pt x="13" y="38"/>
                      </a:moveTo>
                      <a:lnTo>
                        <a:pt x="2417" y="0"/>
                      </a:lnTo>
                      <a:lnTo>
                        <a:pt x="2417" y="398"/>
                      </a:lnTo>
                      <a:lnTo>
                        <a:pt x="617" y="437"/>
                      </a:lnTo>
                      <a:lnTo>
                        <a:pt x="630" y="656"/>
                      </a:lnTo>
                      <a:lnTo>
                        <a:pt x="386" y="720"/>
                      </a:lnTo>
                      <a:lnTo>
                        <a:pt x="425" y="3317"/>
                      </a:lnTo>
                      <a:lnTo>
                        <a:pt x="0" y="3304"/>
                      </a:lnTo>
                      <a:lnTo>
                        <a:pt x="13" y="38"/>
                      </a:lnTo>
                      <a:close/>
                    </a:path>
                  </a:pathLst>
                </a:custGeom>
                <a:solidFill>
                  <a:srgbClr val="ffe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956" name=""/>
                <p:cNvSpPr/>
                <p:nvPr/>
              </p:nvSpPr>
              <p:spPr>
                <a:xfrm>
                  <a:off x="5115960" y="2563200"/>
                  <a:ext cx="538560" cy="540000"/>
                </a:xfrm>
                <a:custGeom>
                  <a:avLst/>
                  <a:gdLst/>
                  <a:ahLst/>
                  <a:rect l="l" t="t" r="r" b="b"/>
                  <a:pathLst>
                    <a:path w="1427" h="1157">
                      <a:moveTo>
                        <a:pt x="25" y="13"/>
                      </a:moveTo>
                      <a:lnTo>
                        <a:pt x="1401" y="0"/>
                      </a:lnTo>
                      <a:lnTo>
                        <a:pt x="1427" y="1131"/>
                      </a:lnTo>
                      <a:lnTo>
                        <a:pt x="0" y="1157"/>
                      </a:lnTo>
                      <a:lnTo>
                        <a:pt x="25" y="13"/>
                      </a:lnTo>
                      <a:close/>
                    </a:path>
                  </a:pathLst>
                </a:custGeom>
                <a:solidFill>
                  <a:srgbClr val="ffff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957" name=""/>
                <p:cNvSpPr/>
                <p:nvPr/>
              </p:nvSpPr>
              <p:spPr>
                <a:xfrm>
                  <a:off x="4834080" y="2387520"/>
                  <a:ext cx="504720" cy="1284480"/>
                </a:xfrm>
                <a:custGeom>
                  <a:avLst/>
                  <a:gdLst/>
                  <a:ahLst/>
                  <a:rect l="l" t="t" r="r" b="b"/>
                  <a:pathLst>
                    <a:path w="1337" h="2752">
                      <a:moveTo>
                        <a:pt x="0" y="13"/>
                      </a:moveTo>
                      <a:lnTo>
                        <a:pt x="707" y="0"/>
                      </a:lnTo>
                      <a:lnTo>
                        <a:pt x="681" y="1594"/>
                      </a:lnTo>
                      <a:lnTo>
                        <a:pt x="1324" y="1582"/>
                      </a:lnTo>
                      <a:lnTo>
                        <a:pt x="1337" y="2713"/>
                      </a:lnTo>
                      <a:lnTo>
                        <a:pt x="116" y="2752"/>
                      </a:lnTo>
                      <a:lnTo>
                        <a:pt x="90" y="193"/>
                      </a:lnTo>
                      <a:lnTo>
                        <a:pt x="0" y="193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958" name=""/>
                <p:cNvSpPr/>
                <p:nvPr/>
              </p:nvSpPr>
              <p:spPr>
                <a:xfrm>
                  <a:off x="4431240" y="3529440"/>
                  <a:ext cx="640800" cy="270360"/>
                </a:xfrm>
                <a:custGeom>
                  <a:avLst/>
                  <a:gdLst/>
                  <a:ahLst/>
                  <a:rect l="l" t="t" r="r" b="b"/>
                  <a:pathLst>
                    <a:path w="1697" h="579">
                      <a:moveTo>
                        <a:pt x="1041" y="0"/>
                      </a:moveTo>
                      <a:lnTo>
                        <a:pt x="1041" y="424"/>
                      </a:lnTo>
                      <a:lnTo>
                        <a:pt x="0" y="501"/>
                      </a:lnTo>
                      <a:lnTo>
                        <a:pt x="0" y="579"/>
                      </a:lnTo>
                      <a:lnTo>
                        <a:pt x="1697" y="514"/>
                      </a:lnTo>
                      <a:lnTo>
                        <a:pt x="1697" y="360"/>
                      </a:lnTo>
                      <a:lnTo>
                        <a:pt x="1144" y="334"/>
                      </a:lnTo>
                      <a:lnTo>
                        <a:pt x="1118" y="26"/>
                      </a:lnTo>
                      <a:lnTo>
                        <a:pt x="1041" y="0"/>
                      </a:lnTo>
                      <a:close/>
                    </a:path>
                  </a:pathLst>
                </a:custGeom>
                <a:solidFill>
                  <a:srgbClr val="ffd1d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959" name=""/>
                <p:cNvSpPr/>
                <p:nvPr/>
              </p:nvSpPr>
              <p:spPr>
                <a:xfrm>
                  <a:off x="4810680" y="2747520"/>
                  <a:ext cx="42120" cy="500400"/>
                </a:xfrm>
                <a:custGeom>
                  <a:avLst/>
                  <a:gdLst/>
                  <a:ahLst/>
                  <a:rect l="l" t="t" r="r" b="b"/>
                  <a:pathLst>
                    <a:path w="112" h="1072">
                      <a:moveTo>
                        <a:pt x="0" y="0"/>
                      </a:moveTo>
                      <a:lnTo>
                        <a:pt x="112" y="7"/>
                      </a:lnTo>
                      <a:lnTo>
                        <a:pt x="112" y="1072"/>
                      </a:lnTo>
                      <a:lnTo>
                        <a:pt x="7" y="106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ad5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4609440" y="3568320"/>
                  <a:ext cx="65160" cy="105120"/>
                </a:xfrm>
                <a:custGeom>
                  <a:avLst/>
                  <a:gdLst/>
                  <a:ahLst/>
                  <a:rect l="l" t="t" r="r" b="b"/>
                  <a:pathLst>
                    <a:path w="173" h="225">
                      <a:moveTo>
                        <a:pt x="8" y="7"/>
                      </a:moveTo>
                      <a:lnTo>
                        <a:pt x="173" y="0"/>
                      </a:lnTo>
                      <a:lnTo>
                        <a:pt x="173" y="217"/>
                      </a:lnTo>
                      <a:lnTo>
                        <a:pt x="0" y="225"/>
                      </a:lnTo>
                      <a:lnTo>
                        <a:pt x="8" y="7"/>
                      </a:lnTo>
                      <a:close/>
                    </a:path>
                  </a:pathLst>
                </a:custGeom>
                <a:solidFill>
                  <a:srgbClr val="f6ffd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961" name=""/>
                <p:cNvSpPr/>
                <p:nvPr/>
              </p:nvSpPr>
              <p:spPr>
                <a:xfrm>
                  <a:off x="5157720" y="3592440"/>
                  <a:ext cx="872280" cy="738720"/>
                </a:xfrm>
                <a:custGeom>
                  <a:avLst/>
                  <a:gdLst/>
                  <a:ahLst/>
                  <a:rect l="l" t="t" r="r" b="b"/>
                  <a:pathLst>
                    <a:path w="2310" h="1583">
                      <a:moveTo>
                        <a:pt x="0" y="225"/>
                      </a:moveTo>
                      <a:lnTo>
                        <a:pt x="690" y="210"/>
                      </a:lnTo>
                      <a:lnTo>
                        <a:pt x="683" y="60"/>
                      </a:lnTo>
                      <a:lnTo>
                        <a:pt x="1230" y="68"/>
                      </a:lnTo>
                      <a:lnTo>
                        <a:pt x="1913" y="30"/>
                      </a:lnTo>
                      <a:lnTo>
                        <a:pt x="2243" y="0"/>
                      </a:lnTo>
                      <a:lnTo>
                        <a:pt x="2310" y="1583"/>
                      </a:lnTo>
                      <a:lnTo>
                        <a:pt x="1575" y="1575"/>
                      </a:lnTo>
                      <a:lnTo>
                        <a:pt x="1538" y="915"/>
                      </a:lnTo>
                      <a:lnTo>
                        <a:pt x="1373" y="900"/>
                      </a:lnTo>
                      <a:lnTo>
                        <a:pt x="15" y="945"/>
                      </a:lnTo>
                      <a:lnTo>
                        <a:pt x="0" y="225"/>
                      </a:lnTo>
                      <a:close/>
                    </a:path>
                  </a:pathLst>
                </a:custGeom>
                <a:solidFill>
                  <a:srgbClr val="ffdaa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62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3624120" y="907920"/>
            <a:ext cx="551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Esquisse de conception à main levé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5452920" y="5259240"/>
            <a:ext cx="3124440" cy="825480"/>
          </a:xfrm>
          <a:prstGeom prst="rect">
            <a:avLst/>
          </a:prstGeom>
          <a:solidFill>
            <a:srgbClr val="99c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D - Proposer une solution constructiv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8EC7-BAA4-4C75-B51F-610D98643F1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6" name="Puzzle3"/>
          <p:cNvSpPr/>
          <p:nvPr/>
        </p:nvSpPr>
        <p:spPr>
          <a:xfrm>
            <a:off x="4500720" y="1905120"/>
            <a:ext cx="1170000" cy="1590480"/>
          </a:xfrm>
          <a:prstGeom prst="pie">
            <a:avLst/>
          </a:prstGeom>
          <a:gradFill rotWithShape="0">
            <a:gsLst>
              <a:gs pos="0">
                <a:srgbClr val="cc9900"/>
              </a:gs>
              <a:gs pos="100000">
                <a:srgbClr val="d5d5ff"/>
              </a:gs>
            </a:gsLst>
            <a:lin ang="81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7" name="Puzzle2"/>
          <p:cNvSpPr/>
          <p:nvPr/>
        </p:nvSpPr>
        <p:spPr>
          <a:xfrm>
            <a:off x="4157640" y="3063960"/>
            <a:ext cx="1870200" cy="144936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8" name="Puzzle4"/>
          <p:cNvSpPr/>
          <p:nvPr/>
        </p:nvSpPr>
        <p:spPr>
          <a:xfrm>
            <a:off x="3435480" y="3044880"/>
            <a:ext cx="1127160" cy="1852560"/>
          </a:xfrm>
          <a:prstGeom prst="pie">
            <a:avLst/>
          </a:prstGeom>
          <a:gradFill rotWithShape="0">
            <a:gsLst>
              <a:gs pos="0">
                <a:srgbClr val="993366"/>
              </a:gs>
              <a:gs pos="100000">
                <a:srgbClr val="d5d5ff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9" name="Puzzle1"/>
          <p:cNvSpPr/>
          <p:nvPr/>
        </p:nvSpPr>
        <p:spPr>
          <a:xfrm>
            <a:off x="3048120" y="2386080"/>
            <a:ext cx="1892160" cy="110484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0033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0" name="Puzzle3"/>
          <p:cNvSpPr/>
          <p:nvPr/>
        </p:nvSpPr>
        <p:spPr>
          <a:xfrm rot="19478400">
            <a:off x="5235120" y="2643120"/>
            <a:ext cx="1170000" cy="1590840"/>
          </a:xfrm>
          <a:prstGeom prst="pie">
            <a:avLst/>
          </a:prstGeom>
          <a:gradFill rotWithShape="0">
            <a:gsLst>
              <a:gs pos="0">
                <a:srgbClr val="cc9900"/>
              </a:gs>
              <a:gs pos="100000">
                <a:srgbClr val="d5d5ff"/>
              </a:gs>
            </a:gsLst>
            <a:lin ang="81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1" name="Puzzle2"/>
          <p:cNvSpPr/>
          <p:nvPr/>
        </p:nvSpPr>
        <p:spPr>
          <a:xfrm rot="1683600">
            <a:off x="6856200" y="2643120"/>
            <a:ext cx="1869840" cy="144936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2" name="Puzzle4"/>
          <p:cNvSpPr/>
          <p:nvPr/>
        </p:nvSpPr>
        <p:spPr>
          <a:xfrm rot="1763400">
            <a:off x="3503160" y="2567160"/>
            <a:ext cx="1127160" cy="1852560"/>
          </a:xfrm>
          <a:prstGeom prst="pie">
            <a:avLst/>
          </a:prstGeom>
          <a:gradFill rotWithShape="0">
            <a:gsLst>
              <a:gs pos="0">
                <a:srgbClr val="993366"/>
              </a:gs>
              <a:gs pos="100000">
                <a:srgbClr val="d5d5ff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3" name="Puzzle1"/>
          <p:cNvSpPr/>
          <p:nvPr/>
        </p:nvSpPr>
        <p:spPr>
          <a:xfrm rot="19365000">
            <a:off x="1217520" y="2871360"/>
            <a:ext cx="1892520" cy="110484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0033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3624120" y="907920"/>
            <a:ext cx="551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La conception hors assemblag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C98C-56EA-4C84-93C1-D6D41EE6F36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2774880" y="2376360"/>
            <a:ext cx="2300400" cy="1697040"/>
          </a:xfrm>
          <a:custGeom>
            <a:avLst/>
            <a:gdLst/>
            <a:ahLst/>
            <a:rect l="l" t="t" r="r" b="b"/>
            <a:pathLst>
              <a:path w="1449" h="1069">
                <a:moveTo>
                  <a:pt x="0" y="1025"/>
                </a:moveTo>
                <a:lnTo>
                  <a:pt x="112" y="1035"/>
                </a:lnTo>
                <a:lnTo>
                  <a:pt x="227" y="1032"/>
                </a:lnTo>
                <a:lnTo>
                  <a:pt x="362" y="1025"/>
                </a:lnTo>
                <a:lnTo>
                  <a:pt x="440" y="1017"/>
                </a:lnTo>
                <a:lnTo>
                  <a:pt x="466" y="975"/>
                </a:lnTo>
                <a:lnTo>
                  <a:pt x="454" y="925"/>
                </a:lnTo>
                <a:lnTo>
                  <a:pt x="408" y="875"/>
                </a:lnTo>
                <a:lnTo>
                  <a:pt x="370" y="789"/>
                </a:lnTo>
                <a:lnTo>
                  <a:pt x="403" y="693"/>
                </a:lnTo>
                <a:lnTo>
                  <a:pt x="516" y="627"/>
                </a:lnTo>
                <a:lnTo>
                  <a:pt x="601" y="636"/>
                </a:lnTo>
                <a:lnTo>
                  <a:pt x="679" y="705"/>
                </a:lnTo>
                <a:lnTo>
                  <a:pt x="700" y="809"/>
                </a:lnTo>
                <a:lnTo>
                  <a:pt x="620" y="915"/>
                </a:lnTo>
                <a:lnTo>
                  <a:pt x="602" y="931"/>
                </a:lnTo>
                <a:lnTo>
                  <a:pt x="590" y="967"/>
                </a:lnTo>
                <a:lnTo>
                  <a:pt x="612" y="1019"/>
                </a:lnTo>
                <a:lnTo>
                  <a:pt x="668" y="1045"/>
                </a:lnTo>
                <a:lnTo>
                  <a:pt x="788" y="1069"/>
                </a:lnTo>
                <a:lnTo>
                  <a:pt x="912" y="1069"/>
                </a:lnTo>
                <a:lnTo>
                  <a:pt x="1058" y="1027"/>
                </a:lnTo>
                <a:lnTo>
                  <a:pt x="1070" y="965"/>
                </a:lnTo>
                <a:lnTo>
                  <a:pt x="1064" y="861"/>
                </a:lnTo>
                <a:lnTo>
                  <a:pt x="1038" y="729"/>
                </a:lnTo>
                <a:lnTo>
                  <a:pt x="1026" y="645"/>
                </a:lnTo>
                <a:lnTo>
                  <a:pt x="1058" y="579"/>
                </a:lnTo>
                <a:lnTo>
                  <a:pt x="1111" y="536"/>
                </a:lnTo>
                <a:lnTo>
                  <a:pt x="1158" y="527"/>
                </a:lnTo>
                <a:lnTo>
                  <a:pt x="1231" y="554"/>
                </a:lnTo>
                <a:lnTo>
                  <a:pt x="1276" y="593"/>
                </a:lnTo>
                <a:lnTo>
                  <a:pt x="1350" y="596"/>
                </a:lnTo>
                <a:lnTo>
                  <a:pt x="1416" y="552"/>
                </a:lnTo>
                <a:lnTo>
                  <a:pt x="1449" y="489"/>
                </a:lnTo>
                <a:lnTo>
                  <a:pt x="1434" y="425"/>
                </a:lnTo>
                <a:lnTo>
                  <a:pt x="1381" y="357"/>
                </a:lnTo>
                <a:lnTo>
                  <a:pt x="1275" y="342"/>
                </a:lnTo>
                <a:lnTo>
                  <a:pt x="1185" y="395"/>
                </a:lnTo>
                <a:lnTo>
                  <a:pt x="1083" y="386"/>
                </a:lnTo>
                <a:lnTo>
                  <a:pt x="1029" y="347"/>
                </a:lnTo>
                <a:lnTo>
                  <a:pt x="1024" y="248"/>
                </a:lnTo>
                <a:lnTo>
                  <a:pt x="1030" y="165"/>
                </a:lnTo>
                <a:lnTo>
                  <a:pt x="1041" y="78"/>
                </a:lnTo>
                <a:lnTo>
                  <a:pt x="1054" y="0"/>
                </a:lnTo>
              </a:path>
            </a:pathLst>
          </a:custGeom>
          <a:solidFill>
            <a:srgbClr val="c0c0c0"/>
          </a:solidFill>
          <a:ln w="19080">
            <a:solidFill>
              <a:srgbClr val="3333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8" name="Puzzle1"/>
          <p:cNvSpPr/>
          <p:nvPr/>
        </p:nvSpPr>
        <p:spPr>
          <a:xfrm>
            <a:off x="2135160" y="2346480"/>
            <a:ext cx="2938320" cy="171756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0033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9" name="Puzzle3"/>
          <p:cNvSpPr/>
          <p:nvPr/>
        </p:nvSpPr>
        <p:spPr>
          <a:xfrm>
            <a:off x="4389480" y="1600200"/>
            <a:ext cx="1817640" cy="2470320"/>
          </a:xfrm>
          <a:prstGeom prst="pie">
            <a:avLst/>
          </a:prstGeom>
          <a:gradFill rotWithShape="0">
            <a:gsLst>
              <a:gs pos="0">
                <a:srgbClr val="cc9900"/>
              </a:gs>
              <a:gs pos="100000">
                <a:srgbClr val="d5d5ff"/>
              </a:gs>
            </a:gsLst>
            <a:lin ang="81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0" name="Puzzle2"/>
          <p:cNvSpPr/>
          <p:nvPr/>
        </p:nvSpPr>
        <p:spPr>
          <a:xfrm>
            <a:off x="3857760" y="3400560"/>
            <a:ext cx="2904840" cy="225108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1" name="Puzzle4"/>
          <p:cNvSpPr/>
          <p:nvPr/>
        </p:nvSpPr>
        <p:spPr>
          <a:xfrm>
            <a:off x="2736720" y="3371760"/>
            <a:ext cx="1751040" cy="2876760"/>
          </a:xfrm>
          <a:prstGeom prst="pie">
            <a:avLst/>
          </a:prstGeom>
          <a:gradFill rotWithShape="0">
            <a:gsLst>
              <a:gs pos="0">
                <a:srgbClr val="993366"/>
              </a:gs>
              <a:gs pos="100000">
                <a:srgbClr val="d5d5ff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3624120" y="907920"/>
            <a:ext cx="551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La conception dans l’assemblag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F2A8F-9F4C-4F08-9374-229172B1285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/>
          <p:nvPr/>
        </p:nvSpPr>
        <p:spPr>
          <a:xfrm>
            <a:off x="0" y="2057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1706400" y="2376360"/>
            <a:ext cx="2300400" cy="1697040"/>
          </a:xfrm>
          <a:custGeom>
            <a:avLst/>
            <a:gdLst/>
            <a:ahLst/>
            <a:rect l="l" t="t" r="r" b="b"/>
            <a:pathLst>
              <a:path w="1449" h="1069">
                <a:moveTo>
                  <a:pt x="0" y="1025"/>
                </a:moveTo>
                <a:lnTo>
                  <a:pt x="112" y="1035"/>
                </a:lnTo>
                <a:lnTo>
                  <a:pt x="227" y="1032"/>
                </a:lnTo>
                <a:lnTo>
                  <a:pt x="362" y="1025"/>
                </a:lnTo>
                <a:lnTo>
                  <a:pt x="440" y="1017"/>
                </a:lnTo>
                <a:lnTo>
                  <a:pt x="466" y="975"/>
                </a:lnTo>
                <a:lnTo>
                  <a:pt x="454" y="925"/>
                </a:lnTo>
                <a:lnTo>
                  <a:pt x="408" y="875"/>
                </a:lnTo>
                <a:lnTo>
                  <a:pt x="370" y="789"/>
                </a:lnTo>
                <a:lnTo>
                  <a:pt x="403" y="693"/>
                </a:lnTo>
                <a:lnTo>
                  <a:pt x="516" y="627"/>
                </a:lnTo>
                <a:lnTo>
                  <a:pt x="601" y="636"/>
                </a:lnTo>
                <a:lnTo>
                  <a:pt x="679" y="705"/>
                </a:lnTo>
                <a:lnTo>
                  <a:pt x="700" y="809"/>
                </a:lnTo>
                <a:lnTo>
                  <a:pt x="620" y="915"/>
                </a:lnTo>
                <a:lnTo>
                  <a:pt x="602" y="931"/>
                </a:lnTo>
                <a:lnTo>
                  <a:pt x="590" y="967"/>
                </a:lnTo>
                <a:lnTo>
                  <a:pt x="612" y="1019"/>
                </a:lnTo>
                <a:lnTo>
                  <a:pt x="668" y="1045"/>
                </a:lnTo>
                <a:lnTo>
                  <a:pt x="788" y="1069"/>
                </a:lnTo>
                <a:lnTo>
                  <a:pt x="912" y="1069"/>
                </a:lnTo>
                <a:lnTo>
                  <a:pt x="1058" y="1027"/>
                </a:lnTo>
                <a:lnTo>
                  <a:pt x="1070" y="965"/>
                </a:lnTo>
                <a:lnTo>
                  <a:pt x="1064" y="861"/>
                </a:lnTo>
                <a:lnTo>
                  <a:pt x="1038" y="729"/>
                </a:lnTo>
                <a:lnTo>
                  <a:pt x="1026" y="645"/>
                </a:lnTo>
                <a:lnTo>
                  <a:pt x="1058" y="579"/>
                </a:lnTo>
                <a:lnTo>
                  <a:pt x="1111" y="536"/>
                </a:lnTo>
                <a:lnTo>
                  <a:pt x="1158" y="527"/>
                </a:lnTo>
                <a:lnTo>
                  <a:pt x="1231" y="554"/>
                </a:lnTo>
                <a:lnTo>
                  <a:pt x="1276" y="593"/>
                </a:lnTo>
                <a:lnTo>
                  <a:pt x="1350" y="596"/>
                </a:lnTo>
                <a:lnTo>
                  <a:pt x="1416" y="552"/>
                </a:lnTo>
                <a:lnTo>
                  <a:pt x="1449" y="489"/>
                </a:lnTo>
                <a:lnTo>
                  <a:pt x="1434" y="425"/>
                </a:lnTo>
                <a:lnTo>
                  <a:pt x="1381" y="357"/>
                </a:lnTo>
                <a:lnTo>
                  <a:pt x="1275" y="342"/>
                </a:lnTo>
                <a:lnTo>
                  <a:pt x="1185" y="395"/>
                </a:lnTo>
                <a:lnTo>
                  <a:pt x="1083" y="386"/>
                </a:lnTo>
                <a:lnTo>
                  <a:pt x="1029" y="347"/>
                </a:lnTo>
                <a:lnTo>
                  <a:pt x="1024" y="248"/>
                </a:lnTo>
                <a:lnTo>
                  <a:pt x="1030" y="165"/>
                </a:lnTo>
                <a:lnTo>
                  <a:pt x="1041" y="78"/>
                </a:lnTo>
                <a:lnTo>
                  <a:pt x="1054" y="0"/>
                </a:lnTo>
              </a:path>
            </a:pathLst>
          </a:custGeom>
          <a:solidFill>
            <a:srgbClr val="c0c0c0"/>
          </a:solidFill>
          <a:ln w="19080">
            <a:solidFill>
              <a:srgbClr val="333333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6" name="Puzzle1"/>
          <p:cNvSpPr/>
          <p:nvPr/>
        </p:nvSpPr>
        <p:spPr>
          <a:xfrm>
            <a:off x="1066680" y="2346480"/>
            <a:ext cx="2938680" cy="1717560"/>
          </a:xfrm>
          <a:prstGeom prst="pie">
            <a:avLst/>
          </a:prstGeom>
          <a:gradFill rotWithShape="0">
            <a:gsLst>
              <a:gs pos="0">
                <a:srgbClr val="ccccff"/>
              </a:gs>
              <a:gs pos="100000">
                <a:srgbClr val="0033cc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7" name="Puzzle3"/>
          <p:cNvSpPr/>
          <p:nvPr/>
        </p:nvSpPr>
        <p:spPr>
          <a:xfrm>
            <a:off x="3321000" y="1600200"/>
            <a:ext cx="1817640" cy="2470320"/>
          </a:xfrm>
          <a:prstGeom prst="pie">
            <a:avLst/>
          </a:prstGeom>
          <a:gradFill rotWithShape="0">
            <a:gsLst>
              <a:gs pos="0">
                <a:srgbClr val="cc9900"/>
              </a:gs>
              <a:gs pos="100000">
                <a:srgbClr val="d5d5ff"/>
              </a:gs>
            </a:gsLst>
            <a:lin ang="81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8" name="Puzzle2"/>
          <p:cNvSpPr/>
          <p:nvPr/>
        </p:nvSpPr>
        <p:spPr>
          <a:xfrm>
            <a:off x="2789280" y="3400560"/>
            <a:ext cx="2905200" cy="2251080"/>
          </a:xfrm>
          <a:prstGeom prst="pie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9" name="Puzzle4"/>
          <p:cNvSpPr/>
          <p:nvPr/>
        </p:nvSpPr>
        <p:spPr>
          <a:xfrm>
            <a:off x="1668600" y="3371760"/>
            <a:ext cx="1751040" cy="2876760"/>
          </a:xfrm>
          <a:prstGeom prst="pie">
            <a:avLst/>
          </a:prstGeom>
          <a:gradFill rotWithShape="0">
            <a:gsLst>
              <a:gs pos="0">
                <a:srgbClr val="993366"/>
              </a:gs>
              <a:gs pos="100000">
                <a:srgbClr val="d5d5ff"/>
              </a:gs>
            </a:gsLst>
            <a:lin ang="135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0" name="Puzzle2"/>
          <p:cNvSpPr/>
          <p:nvPr/>
        </p:nvSpPr>
        <p:spPr>
          <a:xfrm rot="19572600">
            <a:off x="5486400" y="2666520"/>
            <a:ext cx="2905200" cy="2251080"/>
          </a:xfrm>
          <a:prstGeom prst="pi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1658880" y="907920"/>
            <a:ext cx="748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Combinaison des modes ascendant et descenda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A8A36-67FB-4972-9CAB-F83D3DF1811D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76328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’enjeu de la déma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40040" y="907920"/>
            <a:ext cx="63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Le juste nécessaire à chaque étap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5130720" y="5689440"/>
            <a:ext cx="1778040" cy="1016280"/>
            <a:chOff x="5130720" y="5689440"/>
            <a:chExt cx="1778040" cy="1016280"/>
          </a:xfrm>
        </p:grpSpPr>
        <p:sp>
          <p:nvSpPr>
            <p:cNvPr id="168" name=""/>
            <p:cNvSpPr/>
            <p:nvPr/>
          </p:nvSpPr>
          <p:spPr>
            <a:xfrm>
              <a:off x="5130720" y="5689440"/>
              <a:ext cx="1778040" cy="101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1"/>
            <a:stretch/>
          </p:blipFill>
          <p:spPr>
            <a:xfrm>
              <a:off x="5181480" y="5740560"/>
              <a:ext cx="1692360" cy="936360"/>
            </a:xfrm>
            <a:prstGeom prst="rect">
              <a:avLst/>
            </a:prstGeom>
            <a:ln w="9360">
              <a:solidFill>
                <a:srgbClr val="000080"/>
              </a:solidFill>
              <a:miter/>
            </a:ln>
          </p:spPr>
        </p:pic>
      </p:grpSp>
      <p:sp>
        <p:nvSpPr>
          <p:cNvPr id="170" name=""/>
          <p:cNvSpPr/>
          <p:nvPr/>
        </p:nvSpPr>
        <p:spPr>
          <a:xfrm>
            <a:off x="4343400" y="1778040"/>
            <a:ext cx="3376440" cy="112248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5351400" y="1501920"/>
            <a:ext cx="1201680" cy="7524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028880" y="295920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ahoma"/>
              </a:rPr>
              <a:t>Contraint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4438800" y="2092320"/>
            <a:ext cx="1465200" cy="68904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6553080" y="2006640"/>
            <a:ext cx="609480" cy="685800"/>
            <a:chOff x="6553080" y="2006640"/>
            <a:chExt cx="609480" cy="685800"/>
          </a:xfrm>
        </p:grpSpPr>
        <p:sp>
          <p:nvSpPr>
            <p:cNvPr id="175" name=""/>
            <p:cNvSpPr/>
            <p:nvPr/>
          </p:nvSpPr>
          <p:spPr>
            <a:xfrm>
              <a:off x="6553080" y="2006640"/>
              <a:ext cx="609480" cy="685800"/>
            </a:xfrm>
            <a:prstGeom prst="flowChartMultidocument">
              <a:avLst/>
            </a:prstGeom>
            <a:solidFill>
              <a:srgbClr val="ffffff"/>
            </a:solidFill>
            <a:ln w="648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176" name="" descr=""/>
            <p:cNvPicPr/>
            <p:nvPr/>
          </p:nvPicPr>
          <p:blipFill>
            <a:blip r:embed="rId4"/>
            <a:stretch/>
          </p:blipFill>
          <p:spPr>
            <a:xfrm>
              <a:off x="6619680" y="2158920"/>
              <a:ext cx="466560" cy="466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7" name="" descr=""/>
          <p:cNvPicPr/>
          <p:nvPr/>
        </p:nvPicPr>
        <p:blipFill>
          <a:blip r:embed="rId5"/>
          <a:stretch/>
        </p:blipFill>
        <p:spPr>
          <a:xfrm flipH="1">
            <a:off x="3467160" y="3108240"/>
            <a:ext cx="882720" cy="79848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825480" y="3962520"/>
            <a:ext cx="412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66"/>
                </a:solidFill>
                <a:latin typeface="Tahoma"/>
              </a:rPr>
              <a:t>Adapter l ’exigence au degré de progression du projet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45320" y="2971800"/>
            <a:ext cx="381240" cy="30492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6"/>
          <a:stretch/>
        </p:blipFill>
        <p:spPr>
          <a:xfrm>
            <a:off x="7238880" y="5892840"/>
            <a:ext cx="1295640" cy="43812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772400" y="3657600"/>
            <a:ext cx="76320" cy="1600200"/>
          </a:xfrm>
          <a:custGeom>
            <a:avLst/>
            <a:gdLst>
              <a:gd name="textAreaLeft" fmla="*/ 11880 w 76320"/>
              <a:gd name="textAreaRight" fmla="*/ 66960 w 76320"/>
              <a:gd name="textAreaTop" fmla="*/ 399960 h 1600200"/>
              <a:gd name="textAreaBottom" fmla="*/ 1200240 h 1600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5105520" y="4025880"/>
            <a:ext cx="1676160" cy="228600"/>
            <a:chOff x="5105520" y="4025880"/>
            <a:chExt cx="1676160" cy="228600"/>
          </a:xfrm>
        </p:grpSpPr>
        <p:sp>
          <p:nvSpPr>
            <p:cNvPr id="183" name=""/>
            <p:cNvSpPr/>
            <p:nvPr/>
          </p:nvSpPr>
          <p:spPr>
            <a:xfrm>
              <a:off x="6400800" y="4178520"/>
              <a:ext cx="76320" cy="7596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05720" y="4102200"/>
              <a:ext cx="75960" cy="7632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48520" y="4102200"/>
              <a:ext cx="75960" cy="7632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105520" y="4025880"/>
              <a:ext cx="75960" cy="7632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57800" y="4102200"/>
              <a:ext cx="76320" cy="7632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410080" y="4025880"/>
              <a:ext cx="76320" cy="7632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638680" y="4102200"/>
              <a:ext cx="76320" cy="76320"/>
            </a:xfrm>
            <a:prstGeom prst="flowChartConnector">
              <a:avLst/>
            </a:prstGeom>
            <a:solidFill>
              <a:srgbClr val="00ff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pic>
        <p:nvPicPr>
          <p:cNvPr id="190" name="" descr=""/>
          <p:cNvPicPr/>
          <p:nvPr/>
        </p:nvPicPr>
        <p:blipFill>
          <a:blip r:embed="rId7"/>
          <a:stretch/>
        </p:blipFill>
        <p:spPr>
          <a:xfrm>
            <a:off x="7315200" y="3429000"/>
            <a:ext cx="988920" cy="12193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696080" y="3429000"/>
            <a:ext cx="228600" cy="2057400"/>
          </a:xfrm>
          <a:prstGeom prst="downArrow">
            <a:avLst>
              <a:gd name="adj1" fmla="val 50000"/>
              <a:gd name="adj2" fmla="val 225000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4813200" y="3301920"/>
            <a:ext cx="2438280" cy="609480"/>
            <a:chOff x="4813200" y="3301920"/>
            <a:chExt cx="2438280" cy="609480"/>
          </a:xfrm>
        </p:grpSpPr>
        <p:sp>
          <p:nvSpPr>
            <p:cNvPr id="193" name=""/>
            <p:cNvSpPr/>
            <p:nvPr/>
          </p:nvSpPr>
          <p:spPr>
            <a:xfrm>
              <a:off x="4813200" y="3301920"/>
              <a:ext cx="2438280" cy="45720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89520" y="3454200"/>
              <a:ext cx="2286000" cy="457200"/>
            </a:xfrm>
            <a:prstGeom prst="ellipse">
              <a:avLst/>
            </a:prstGeom>
            <a:blipFill rotWithShape="0">
              <a:blip r:embed="rId9">
                <a:alphaModFix amt="39000"/>
              </a:blip>
              <a:srcRect/>
              <a:tile tx="0" ty="0" sx="100000" sy="100000" algn="ctr"/>
            </a:blip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175160" y="3530520"/>
              <a:ext cx="75960" cy="15228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813200" y="3530520"/>
              <a:ext cx="76320" cy="171360"/>
            </a:xfrm>
            <a:prstGeom prst="line">
              <a:avLst/>
            </a:prstGeom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6375240" y="3149640"/>
            <a:ext cx="381240" cy="380880"/>
          </a:xfrm>
          <a:prstGeom prst="irregularSeal2">
            <a:avLst/>
          </a:prstGeom>
          <a:solidFill>
            <a:srgbClr val="ff6600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5715000" y="2463840"/>
            <a:ext cx="533520" cy="3276720"/>
            <a:chOff x="5715000" y="2463840"/>
            <a:chExt cx="533520" cy="3276720"/>
          </a:xfrm>
        </p:grpSpPr>
        <p:sp>
          <p:nvSpPr>
            <p:cNvPr id="199" name=""/>
            <p:cNvSpPr/>
            <p:nvPr/>
          </p:nvSpPr>
          <p:spPr>
            <a:xfrm>
              <a:off x="5715000" y="2463840"/>
              <a:ext cx="533520" cy="3276720"/>
            </a:xfrm>
            <a:prstGeom prst="downArrow">
              <a:avLst>
                <a:gd name="adj1" fmla="val 66667"/>
                <a:gd name="adj2" fmla="val 102362"/>
              </a:avLst>
            </a:prstGeom>
            <a:solidFill>
              <a:srgbClr val="00008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829480" y="2463840"/>
              <a:ext cx="304560" cy="286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ffff"/>
                  </a:solidFill>
                  <a:latin typeface="Arial Narrow"/>
                </a:rPr>
                <a:t>CONC-IND-PROD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2074-ABDB-4A77-ABCD-DD7A8A71E80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" name=""/>
          <p:cNvGrpSpPr/>
          <p:nvPr/>
        </p:nvGrpSpPr>
        <p:grpSpPr>
          <a:xfrm>
            <a:off x="806760" y="1944720"/>
            <a:ext cx="2474280" cy="3200400"/>
            <a:chOff x="806760" y="1944720"/>
            <a:chExt cx="2474280" cy="3200400"/>
          </a:xfrm>
        </p:grpSpPr>
        <p:pic>
          <p:nvPicPr>
            <p:cNvPr id="994" name="" descr=""/>
            <p:cNvPicPr/>
            <p:nvPr/>
          </p:nvPicPr>
          <p:blipFill>
            <a:blip r:embed="rId1"/>
            <a:stretch/>
          </p:blipFill>
          <p:spPr>
            <a:xfrm>
              <a:off x="960480" y="2478240"/>
              <a:ext cx="224136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"/>
            <p:cNvSpPr/>
            <p:nvPr/>
          </p:nvSpPr>
          <p:spPr>
            <a:xfrm>
              <a:off x="806760" y="1944720"/>
              <a:ext cx="2474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292929"/>
                  </a:solidFill>
                  <a:latin typeface="Arial"/>
                  <a:ea typeface="Times New Roman"/>
                </a:rPr>
                <a:t>Dessin à main levé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996" name=""/>
          <p:cNvGrpSpPr/>
          <p:nvPr/>
        </p:nvGrpSpPr>
        <p:grpSpPr>
          <a:xfrm>
            <a:off x="3322800" y="1944720"/>
            <a:ext cx="3036600" cy="2819520"/>
            <a:chOff x="3322800" y="1944720"/>
            <a:chExt cx="3036600" cy="2819520"/>
          </a:xfrm>
        </p:grpSpPr>
        <p:graphicFrame>
          <p:nvGraphicFramePr>
            <p:cNvPr id="997" name=""/>
            <p:cNvGraphicFramePr/>
            <p:nvPr/>
          </p:nvGraphicFramePr>
          <p:xfrm>
            <a:off x="3551400" y="2782800"/>
            <a:ext cx="1904760" cy="1981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99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551400" y="2782800"/>
                      <a:ext cx="1904760" cy="198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9" name=""/>
            <p:cNvSpPr/>
            <p:nvPr/>
          </p:nvSpPr>
          <p:spPr>
            <a:xfrm>
              <a:off x="3473640" y="1944720"/>
              <a:ext cx="288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292929"/>
                  </a:solidFill>
                  <a:latin typeface="Arial"/>
                  <a:ea typeface="Times New Roman"/>
                </a:rPr>
                <a:t>Esquisse sur logiciel 3D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3322800" y="362124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001" name=""/>
          <p:cNvGrpSpPr/>
          <p:nvPr/>
        </p:nvGrpSpPr>
        <p:grpSpPr>
          <a:xfrm>
            <a:off x="5532480" y="1944720"/>
            <a:ext cx="3200400" cy="3019320"/>
            <a:chOff x="5532480" y="1944720"/>
            <a:chExt cx="3200400" cy="3019320"/>
          </a:xfrm>
        </p:grpSpPr>
        <p:pic>
          <p:nvPicPr>
            <p:cNvPr id="1002" name="boîtier lacet-1 volume fonctionnel" descr=""/>
            <p:cNvPicPr/>
            <p:nvPr/>
          </p:nvPicPr>
          <p:blipFill>
            <a:blip r:embed="rId4"/>
            <a:srcRect l="5488" t="0" r="6096" b="0"/>
            <a:stretch/>
          </p:blipFill>
          <p:spPr>
            <a:xfrm>
              <a:off x="6218280" y="2630520"/>
              <a:ext cx="2514600" cy="23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3" name=""/>
            <p:cNvSpPr/>
            <p:nvPr/>
          </p:nvSpPr>
          <p:spPr>
            <a:xfrm>
              <a:off x="6827760" y="1944720"/>
              <a:ext cx="12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292929"/>
                  </a:solidFill>
                  <a:latin typeface="Arial"/>
                  <a:ea typeface="Times New Roman"/>
                </a:rPr>
                <a:t>Résultats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5532480" y="3621240"/>
              <a:ext cx="685800" cy="457200"/>
            </a:xfrm>
            <a:prstGeom prst="rightArrow">
              <a:avLst>
                <a:gd name="adj1" fmla="val 50000"/>
                <a:gd name="adj2" fmla="val 37500"/>
              </a:avLst>
            </a:prstGeom>
            <a:solidFill>
              <a:srgbClr val="cc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005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4429080" y="90792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Modélisation d ’une pièce isolé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EF09-E2D9-40CA-BE09-7A399F4ED6A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7" name="début%20conception" descr=""/>
          <p:cNvPicPr/>
          <p:nvPr/>
        </p:nvPicPr>
        <p:blipFill>
          <a:blip r:embed="rId1"/>
          <a:srcRect l="0" t="15798" r="0" b="7648"/>
          <a:stretch/>
        </p:blipFill>
        <p:spPr>
          <a:xfrm>
            <a:off x="441360" y="1042920"/>
            <a:ext cx="8488440" cy="5529240"/>
          </a:xfrm>
          <a:prstGeom prst="rect">
            <a:avLst/>
          </a:prstGeom>
          <a:ln w="0">
            <a:noFill/>
          </a:ln>
        </p:spPr>
      </p:pic>
      <p:sp>
        <p:nvSpPr>
          <p:cNvPr id="1008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633240" y="3859200"/>
            <a:ext cx="3124440" cy="825480"/>
          </a:xfrm>
          <a:prstGeom prst="rect">
            <a:avLst/>
          </a:prstGeom>
          <a:solidFill>
            <a:srgbClr val="99c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E - Mettre en place les éléments donné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4429080" y="907920"/>
            <a:ext cx="47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Arial"/>
              </a:rPr>
              <a:t>Modélisation dans l ’assemblag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177E-946B-4DA6-84C6-E449B72FBC84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1" name="tracé%20boitier" descr=""/>
          <p:cNvPicPr/>
          <p:nvPr/>
        </p:nvPicPr>
        <p:blipFill>
          <a:blip r:embed="rId1"/>
          <a:srcRect l="5959" t="20196" r="4355" b="11414"/>
          <a:stretch/>
        </p:blipFill>
        <p:spPr>
          <a:xfrm>
            <a:off x="380880" y="1015920"/>
            <a:ext cx="8534520" cy="5537160"/>
          </a:xfrm>
          <a:prstGeom prst="rect">
            <a:avLst/>
          </a:prstGeom>
          <a:ln w="0">
            <a:noFill/>
          </a:ln>
        </p:spPr>
      </p:pic>
      <p:sp>
        <p:nvSpPr>
          <p:cNvPr id="1012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94D7-E9B1-491F-BAF6-A6D9274EF470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tracé%20boitier%20vol" descr=""/>
          <p:cNvPicPr/>
          <p:nvPr/>
        </p:nvPicPr>
        <p:blipFill>
          <a:blip r:embed="rId1"/>
          <a:srcRect l="4355" t="19982" r="3553" b="11334"/>
          <a:stretch/>
        </p:blipFill>
        <p:spPr>
          <a:xfrm>
            <a:off x="228600" y="998640"/>
            <a:ext cx="8763120" cy="5560920"/>
          </a:xfrm>
          <a:prstGeom prst="rect">
            <a:avLst/>
          </a:prstGeom>
          <a:ln w="0">
            <a:noFill/>
          </a:ln>
        </p:spPr>
      </p:pic>
      <p:sp>
        <p:nvSpPr>
          <p:cNvPr id="1014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F635-D36B-4C5C-82CB-68820B90C3BB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5" name="usinage%20poulie" descr=""/>
          <p:cNvPicPr/>
          <p:nvPr/>
        </p:nvPicPr>
        <p:blipFill>
          <a:blip r:embed="rId1"/>
          <a:srcRect l="4355" t="20080" r="3553" b="11414"/>
          <a:stretch/>
        </p:blipFill>
        <p:spPr>
          <a:xfrm>
            <a:off x="228600" y="1006560"/>
            <a:ext cx="8763120" cy="5546520"/>
          </a:xfrm>
          <a:prstGeom prst="rect">
            <a:avLst/>
          </a:prstGeom>
          <a:ln w="0">
            <a:noFill/>
          </a:ln>
        </p:spPr>
      </p:pic>
      <p:sp>
        <p:nvSpPr>
          <p:cNvPr id="1016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670B-6A59-4032-822B-32E652ADBD8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7" name="tracé%20arbre" descr=""/>
          <p:cNvPicPr/>
          <p:nvPr/>
        </p:nvPicPr>
        <p:blipFill>
          <a:blip r:embed="rId1"/>
          <a:srcRect l="3553" t="19902" r="3553" b="10805"/>
          <a:stretch/>
        </p:blipFill>
        <p:spPr>
          <a:xfrm>
            <a:off x="152280" y="992160"/>
            <a:ext cx="8839440" cy="5610240"/>
          </a:xfrm>
          <a:prstGeom prst="rect">
            <a:avLst/>
          </a:prstGeom>
          <a:ln w="0">
            <a:noFill/>
          </a:ln>
        </p:spPr>
      </p:pic>
      <p:sp>
        <p:nvSpPr>
          <p:cNvPr id="1018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E1D3-4D61-43F4-95F4-B496B18A690A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9" name="tracé%20arbre%20vol" descr=""/>
          <p:cNvPicPr/>
          <p:nvPr/>
        </p:nvPicPr>
        <p:blipFill>
          <a:blip r:embed="rId1"/>
          <a:srcRect l="4355" t="20098" r="3553" b="11414"/>
          <a:stretch/>
        </p:blipFill>
        <p:spPr>
          <a:xfrm>
            <a:off x="228600" y="1008000"/>
            <a:ext cx="8763120" cy="5545080"/>
          </a:xfrm>
          <a:prstGeom prst="rect">
            <a:avLst/>
          </a:prstGeom>
          <a:ln w="0">
            <a:noFill/>
          </a:ln>
        </p:spPr>
      </p:pic>
      <p:sp>
        <p:nvSpPr>
          <p:cNvPr id="1020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401C-87A1-459C-A16C-CEE3A45175B3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tracé%20entretoise%20vol" descr=""/>
          <p:cNvPicPr/>
          <p:nvPr/>
        </p:nvPicPr>
        <p:blipFill>
          <a:blip r:embed="rId1"/>
          <a:srcRect l="4355" t="20196" r="4355" b="11294"/>
          <a:stretch/>
        </p:blipFill>
        <p:spPr>
          <a:xfrm>
            <a:off x="228600" y="1015920"/>
            <a:ext cx="8686800" cy="5546880"/>
          </a:xfrm>
          <a:prstGeom prst="rect">
            <a:avLst/>
          </a:prstGeom>
          <a:ln w="0">
            <a:noFill/>
          </a:ln>
        </p:spPr>
      </p:pic>
      <p:sp>
        <p:nvSpPr>
          <p:cNvPr id="1022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1772-7712-4AD6-B5E8-26E17786674A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tracé%20chapeau%20vol" descr=""/>
          <p:cNvPicPr/>
          <p:nvPr/>
        </p:nvPicPr>
        <p:blipFill>
          <a:blip r:embed="rId1"/>
          <a:srcRect l="4355" t="20414" r="3553" b="11414"/>
          <a:stretch/>
        </p:blipFill>
        <p:spPr>
          <a:xfrm>
            <a:off x="228600" y="1033560"/>
            <a:ext cx="8763120" cy="5519520"/>
          </a:xfrm>
          <a:prstGeom prst="rect">
            <a:avLst/>
          </a:prstGeom>
          <a:ln w="0">
            <a:noFill/>
          </a:ln>
        </p:spPr>
      </p:pic>
      <p:sp>
        <p:nvSpPr>
          <p:cNvPr id="1024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978E-C0C3-497A-BF6C-3D5302978953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tracé%20chaise" descr=""/>
          <p:cNvPicPr/>
          <p:nvPr/>
        </p:nvPicPr>
        <p:blipFill>
          <a:blip r:embed="rId1"/>
          <a:srcRect l="4355" t="19787" r="3553" b="11650"/>
          <a:stretch/>
        </p:blipFill>
        <p:spPr>
          <a:xfrm>
            <a:off x="228600" y="982800"/>
            <a:ext cx="8763120" cy="5551200"/>
          </a:xfrm>
          <a:prstGeom prst="rect">
            <a:avLst/>
          </a:prstGeom>
          <a:ln w="0">
            <a:noFill/>
          </a:ln>
        </p:spPr>
      </p:pic>
      <p:sp>
        <p:nvSpPr>
          <p:cNvPr id="1026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CE17-D0CE-4AC3-B4D8-D6E788B1299C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883800" y="2224080"/>
            <a:ext cx="8053560" cy="333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Tahoma"/>
              </a:rPr>
              <a:t>Le souci constant de l’ingénieur est donc de conduire son étude à un </a:t>
            </a:r>
            <a:r>
              <a:rPr b="1" lang="fr-FR" sz="2400" spc="-1" strike="noStrike">
                <a:solidFill>
                  <a:srgbClr val="292929"/>
                </a:solidFill>
                <a:latin typeface="Tahoma"/>
              </a:rPr>
              <a:t>résultat maîtrisé</a:t>
            </a:r>
            <a:r>
              <a:rPr b="0" lang="fr-FR" sz="2400" spc="-1" strike="noStrike">
                <a:solidFill>
                  <a:srgbClr val="292929"/>
                </a:solidFill>
                <a:latin typeface="Tahoma"/>
              </a:rPr>
              <a:t>, adapté en terme de </a:t>
            </a:r>
            <a:r>
              <a:rPr b="1" lang="fr-FR" sz="2400" spc="-1" strike="noStrike">
                <a:solidFill>
                  <a:srgbClr val="292929"/>
                </a:solidFill>
                <a:latin typeface="Tahoma"/>
              </a:rPr>
              <a:t>finesse d’investigation</a:t>
            </a:r>
            <a:r>
              <a:rPr b="0" lang="fr-FR" sz="2400" spc="-1" strike="noStrike">
                <a:solidFill>
                  <a:srgbClr val="292929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Tahoma"/>
              </a:rPr>
              <a:t>L’aptitude de l’ingénieur doit être grande en terme 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Tahoma"/>
              </a:rPr>
              <a:t>d’innovation 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Tahoma"/>
              </a:rPr>
              <a:t>de complexité 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Tahoma"/>
              </a:rPr>
              <a:t>d’écarts 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-4395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292929"/>
                </a:solidFill>
                <a:latin typeface="Tahoma"/>
              </a:rPr>
              <a:t>de compromis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lvl="1" marL="888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093760" y="907920"/>
            <a:ext cx="705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En résumé …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title"/>
          </p:nvPr>
        </p:nvSpPr>
        <p:spPr>
          <a:xfrm>
            <a:off x="176328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L’enjeu de la démar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40CF-26C1-4E36-B4FD-6A8A70E797B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tracé%20chaise%203d" descr=""/>
          <p:cNvPicPr/>
          <p:nvPr/>
        </p:nvPicPr>
        <p:blipFill>
          <a:blip r:embed="rId1"/>
          <a:srcRect l="4355" t="7648" r="5153" b="0"/>
          <a:stretch/>
        </p:blipFill>
        <p:spPr>
          <a:xfrm>
            <a:off x="1739880" y="1001880"/>
            <a:ext cx="6489720" cy="5635440"/>
          </a:xfrm>
          <a:prstGeom prst="rect">
            <a:avLst/>
          </a:prstGeom>
          <a:ln w="0">
            <a:noFill/>
          </a:ln>
        </p:spPr>
      </p:pic>
      <p:sp>
        <p:nvSpPr>
          <p:cNvPr id="1028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8561-8357-44CC-A5B0-97ACCF33A231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tracé%20chaise%20vol1" descr=""/>
          <p:cNvPicPr/>
          <p:nvPr/>
        </p:nvPicPr>
        <p:blipFill>
          <a:blip r:embed="rId1"/>
          <a:srcRect l="16367" t="27412" r="15564" b="14237"/>
          <a:stretch/>
        </p:blipFill>
        <p:spPr>
          <a:xfrm>
            <a:off x="1371600" y="1600200"/>
            <a:ext cx="6477120" cy="4724280"/>
          </a:xfrm>
          <a:prstGeom prst="rect">
            <a:avLst/>
          </a:prstGeom>
          <a:ln w="0">
            <a:noFill/>
          </a:ln>
        </p:spPr>
      </p:pic>
      <p:sp>
        <p:nvSpPr>
          <p:cNvPr id="1030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6475-F173-4E20-95C4-603AD484C48D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tracé%20chaise%20vol2" descr=""/>
          <p:cNvPicPr/>
          <p:nvPr/>
        </p:nvPicPr>
        <p:blipFill>
          <a:blip r:embed="rId1"/>
          <a:srcRect l="18769" t="24589" r="14766" b="16118"/>
          <a:stretch/>
        </p:blipFill>
        <p:spPr>
          <a:xfrm>
            <a:off x="1600200" y="1371600"/>
            <a:ext cx="6324480" cy="4800600"/>
          </a:xfrm>
          <a:prstGeom prst="rect">
            <a:avLst/>
          </a:prstGeom>
          <a:ln w="0">
            <a:noFill/>
          </a:ln>
        </p:spPr>
      </p:pic>
      <p:sp>
        <p:nvSpPr>
          <p:cNvPr id="1032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BC97-3D52-47D2-81E6-8A6FD0E3F418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3" name="tracé%20chaise%20vol3" descr=""/>
          <p:cNvPicPr/>
          <p:nvPr/>
        </p:nvPicPr>
        <p:blipFill>
          <a:blip r:embed="rId1"/>
          <a:srcRect l="4355" t="19689" r="4355" b="11414"/>
          <a:stretch/>
        </p:blipFill>
        <p:spPr>
          <a:xfrm>
            <a:off x="228600" y="974880"/>
            <a:ext cx="8686800" cy="5578200"/>
          </a:xfrm>
          <a:prstGeom prst="rect">
            <a:avLst/>
          </a:prstGeom>
          <a:ln w="0">
            <a:noFill/>
          </a:ln>
        </p:spPr>
      </p:pic>
      <p:sp>
        <p:nvSpPr>
          <p:cNvPr id="1034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B29A-9096-4E14-9C6B-CB92996D864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usinage%20socle" descr=""/>
          <p:cNvPicPr/>
          <p:nvPr/>
        </p:nvPicPr>
        <p:blipFill>
          <a:blip r:embed="rId1"/>
          <a:srcRect l="5153" t="19569" r="4355" b="17061"/>
          <a:stretch/>
        </p:blipFill>
        <p:spPr>
          <a:xfrm>
            <a:off x="304920" y="965160"/>
            <a:ext cx="8610480" cy="5130720"/>
          </a:xfrm>
          <a:prstGeom prst="rect">
            <a:avLst/>
          </a:prstGeom>
          <a:ln w="0">
            <a:noFill/>
          </a:ln>
        </p:spPr>
      </p:pic>
      <p:sp>
        <p:nvSpPr>
          <p:cNvPr id="1036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AC0C-E708-4AC3-84BF-EADB49FF0DA9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volumes%20fonctionnels%20finis%203d" descr=""/>
          <p:cNvPicPr/>
          <p:nvPr/>
        </p:nvPicPr>
        <p:blipFill>
          <a:blip r:embed="rId1"/>
          <a:srcRect l="13593" t="0" r="17282" b="0"/>
          <a:stretch/>
        </p:blipFill>
        <p:spPr>
          <a:xfrm>
            <a:off x="2670120" y="1122480"/>
            <a:ext cx="4395960" cy="5410080"/>
          </a:xfrm>
          <a:prstGeom prst="rect">
            <a:avLst/>
          </a:prstGeom>
          <a:ln w="0">
            <a:noFill/>
          </a:ln>
        </p:spPr>
      </p:pic>
      <p:sp>
        <p:nvSpPr>
          <p:cNvPr id="1038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569880" y="3868560"/>
            <a:ext cx="3124080" cy="825480"/>
          </a:xfrm>
          <a:prstGeom prst="rect">
            <a:avLst/>
          </a:prstGeom>
          <a:solidFill>
            <a:srgbClr val="99c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F - Tracer le squelette volumique fonctionnel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32D8-1260-4750-8C00-855AC09A22AC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Lacetesquisse.bmp" descr=""/>
          <p:cNvPicPr/>
          <p:nvPr/>
        </p:nvPicPr>
        <p:blipFill>
          <a:blip r:embed="rId1"/>
          <a:srcRect l="4738" t="6705" r="11317" b="0"/>
          <a:stretch/>
        </p:blipFill>
        <p:spPr>
          <a:xfrm>
            <a:off x="1503360" y="1731960"/>
            <a:ext cx="4722840" cy="2535120"/>
          </a:xfrm>
          <a:prstGeom prst="rect">
            <a:avLst/>
          </a:prstGeom>
          <a:ln w="0">
            <a:noFill/>
          </a:ln>
        </p:spPr>
      </p:pic>
      <p:pic>
        <p:nvPicPr>
          <p:cNvPr id="1041" name="esquisses" descr=""/>
          <p:cNvPicPr/>
          <p:nvPr/>
        </p:nvPicPr>
        <p:blipFill>
          <a:blip r:embed="rId2"/>
          <a:srcRect l="46728" t="12156" r="30598" b="11024"/>
          <a:stretch/>
        </p:blipFill>
        <p:spPr>
          <a:xfrm flipH="1">
            <a:off x="6554880" y="1155600"/>
            <a:ext cx="1960560" cy="4981680"/>
          </a:xfrm>
          <a:prstGeom prst="rect">
            <a:avLst/>
          </a:prstGeom>
          <a:ln w="9360">
            <a:solidFill>
              <a:srgbClr val="cccc99"/>
            </a:solidFill>
            <a:miter/>
          </a:ln>
        </p:spPr>
      </p:pic>
      <p:sp>
        <p:nvSpPr>
          <p:cNvPr id="1042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808200" y="42364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2929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Il est possible de tracer l ’ensemble des esquisses sans générer de volume mais la lecture du résultat est difficil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808200" y="476532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2929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La compréhension est aisée si on génère les volumes dès que c’est possibl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808200" y="529380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2929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Dans tous les cas, les esquisses doivent être complètement contraintes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808200" y="5822640"/>
            <a:ext cx="532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29292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La robustesse de la maquette numérique est améliorée si les contraintes sont placées entre entités de construction (esquisses, axes…)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34B-BCA8-4D56-B951-971E0F042157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Simul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49" name="classes%20d'équivalences" descr=""/>
          <p:cNvPicPr/>
          <p:nvPr/>
        </p:nvPicPr>
        <p:blipFill>
          <a:blip r:embed="rId1"/>
          <a:srcRect l="15776" t="2655" r="18008" b="0"/>
          <a:stretch/>
        </p:blipFill>
        <p:spPr>
          <a:xfrm>
            <a:off x="2338560" y="1274760"/>
            <a:ext cx="4203360" cy="5257800"/>
          </a:xfrm>
          <a:prstGeom prst="rect">
            <a:avLst/>
          </a:prstGeom>
          <a:ln w="0">
            <a:noFill/>
          </a:ln>
        </p:spPr>
      </p:pic>
      <p:sp>
        <p:nvSpPr>
          <p:cNvPr id="1050" name=""/>
          <p:cNvSpPr/>
          <p:nvPr/>
        </p:nvSpPr>
        <p:spPr>
          <a:xfrm>
            <a:off x="5119560" y="1973160"/>
            <a:ext cx="3403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Si l ’assemblage a été structuré en sous ensembles cinématiquement équivalents, alors le ré-assemblage pour faire une simulation mécanique est simple et rapid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477720" y="5095800"/>
            <a:ext cx="3124440" cy="1557000"/>
          </a:xfrm>
          <a:prstGeom prst="rect">
            <a:avLst/>
          </a:prstGeom>
          <a:solidFill>
            <a:srgbClr val="99c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G - Vérifier les performances et le dimensionnement des composant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0C57-71F4-4760-84D6-74F7AFD5CDD3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Simul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520560" y="2395440"/>
            <a:ext cx="2897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La modélisation peut être faite en utilisant les liaisons cinématique minimales si on ne s ’intéresse qu ’à la transmission de puissance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55" name="robot%20(schéma%20minimal%20lacet)" descr=""/>
          <p:cNvPicPr/>
          <p:nvPr/>
        </p:nvPicPr>
        <p:blipFill>
          <a:blip r:embed="rId1"/>
          <a:srcRect l="27429" t="4135" r="29018" b="9960"/>
          <a:stretch/>
        </p:blipFill>
        <p:spPr>
          <a:xfrm>
            <a:off x="3719520" y="1798560"/>
            <a:ext cx="2857320" cy="4797360"/>
          </a:xfrm>
          <a:prstGeom prst="rect">
            <a:avLst/>
          </a:prstGeom>
          <a:ln w="0">
            <a:noFill/>
          </a:ln>
        </p:spPr>
      </p:pic>
      <p:pic>
        <p:nvPicPr>
          <p:cNvPr id="1056" name="classes%20d'équivalences" descr=""/>
          <p:cNvPicPr/>
          <p:nvPr/>
        </p:nvPicPr>
        <p:blipFill>
          <a:blip r:embed="rId2"/>
          <a:srcRect l="15776" t="2655" r="18008" b="0"/>
          <a:stretch/>
        </p:blipFill>
        <p:spPr>
          <a:xfrm>
            <a:off x="6283440" y="1541520"/>
            <a:ext cx="2720880" cy="340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CD5E-2A69-4A04-A443-CFE13BEDCBAA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Simul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50880" y="2039760"/>
            <a:ext cx="2809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On choisira une modélisation plus détaillée si l ’on souhaite en plus calculer les charges dans les roulements..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76440" y="3571920"/>
            <a:ext cx="280980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92929"/>
                </a:solidFill>
                <a:latin typeface="Times New Roman"/>
              </a:rPr>
              <a:t>Attention : modélisation hyperstatique. Il faut rendre la solution isostatique ou imposer une inconnue pour rendre le calcul possible.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292929"/>
                </a:solidFill>
                <a:latin typeface="Times New Roman"/>
              </a:rPr>
              <a:t>L ’utilisation d ’une méthode appropriée est alors nécessaire pour trouver les charges axiales dans les roulements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61" name="robot%20(schéma%20structure%20lacet)" descr=""/>
          <p:cNvPicPr/>
          <p:nvPr/>
        </p:nvPicPr>
        <p:blipFill>
          <a:blip r:embed="rId1"/>
          <a:srcRect l="27769" t="4891" r="28564" b="12406"/>
          <a:stretch/>
        </p:blipFill>
        <p:spPr>
          <a:xfrm>
            <a:off x="3735360" y="1838160"/>
            <a:ext cx="2876400" cy="4633920"/>
          </a:xfrm>
          <a:prstGeom prst="rect">
            <a:avLst/>
          </a:prstGeom>
          <a:ln w="0">
            <a:noFill/>
          </a:ln>
        </p:spPr>
      </p:pic>
      <p:pic>
        <p:nvPicPr>
          <p:cNvPr id="1062" name="classes%20d'équivalences" descr=""/>
          <p:cNvPicPr/>
          <p:nvPr/>
        </p:nvPicPr>
        <p:blipFill>
          <a:blip r:embed="rId2"/>
          <a:srcRect l="15776" t="2655" r="18008" b="0"/>
          <a:stretch/>
        </p:blipFill>
        <p:spPr>
          <a:xfrm>
            <a:off x="6283440" y="1541520"/>
            <a:ext cx="2720880" cy="3403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5731-9330-4434-AF56-A7C2AAAC52F8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4" name=""/>
          <p:cNvGrpSpPr/>
          <p:nvPr/>
        </p:nvGrpSpPr>
        <p:grpSpPr>
          <a:xfrm>
            <a:off x="2868480" y="1981080"/>
            <a:ext cx="3998520" cy="4741560"/>
            <a:chOff x="2868480" y="1981080"/>
            <a:chExt cx="3998520" cy="4741560"/>
          </a:xfrm>
        </p:grpSpPr>
        <p:sp>
          <p:nvSpPr>
            <p:cNvPr id="205" name=""/>
            <p:cNvSpPr/>
            <p:nvPr/>
          </p:nvSpPr>
          <p:spPr>
            <a:xfrm>
              <a:off x="6278400" y="4362480"/>
              <a:ext cx="263520" cy="436680"/>
            </a:xfrm>
            <a:prstGeom prst="line">
              <a:avLst/>
            </a:prstGeom>
            <a:ln w="572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130560" y="5324400"/>
              <a:ext cx="809640" cy="741600"/>
            </a:xfrm>
            <a:prstGeom prst="ellipse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207" name=""/>
            <p:cNvGrpSpPr/>
            <p:nvPr/>
          </p:nvGrpSpPr>
          <p:grpSpPr>
            <a:xfrm>
              <a:off x="4211640" y="4867200"/>
              <a:ext cx="1978920" cy="1855440"/>
              <a:chOff x="4211640" y="4867200"/>
              <a:chExt cx="1978920" cy="1855440"/>
            </a:xfrm>
          </p:grpSpPr>
          <p:sp>
            <p:nvSpPr>
              <p:cNvPr id="208" name=""/>
              <p:cNvSpPr/>
              <p:nvPr/>
            </p:nvSpPr>
            <p:spPr>
              <a:xfrm>
                <a:off x="4211640" y="4867200"/>
                <a:ext cx="1977840" cy="185364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714200" y="5018040"/>
                <a:ext cx="970560" cy="1585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714200" y="4972320"/>
                <a:ext cx="950760" cy="16261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236480" y="5788800"/>
                <a:ext cx="195408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351320" y="5337000"/>
                <a:ext cx="1724400" cy="915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>
                <a:off x="5183280" y="4930920"/>
                <a:ext cx="14760" cy="1791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V="1">
                <a:off x="4387680" y="5331240"/>
                <a:ext cx="1637280" cy="9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V="1">
                <a:off x="5000040" y="5742720"/>
                <a:ext cx="351360" cy="964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535640" y="5156640"/>
                <a:ext cx="1370880" cy="130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956120" y="4903200"/>
                <a:ext cx="488160" cy="1773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5103720" y="5533560"/>
                <a:ext cx="127440" cy="46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>
                <a:off x="4562640" y="5123880"/>
                <a:ext cx="1281960" cy="1301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278960" y="5572080"/>
                <a:ext cx="1893960" cy="4348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029200" y="5624640"/>
                <a:ext cx="305280" cy="302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05520" y="5701320"/>
                <a:ext cx="158040" cy="156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36480" y="5750280"/>
                <a:ext cx="94320" cy="87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4466160" y="5569920"/>
                <a:ext cx="94320" cy="276840"/>
              </a:xfrm>
              <a:prstGeom prst="rect">
                <a:avLst/>
              </a:prstGeom>
              <a:solidFill>
                <a:srgbClr val="e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77720" y="5375520"/>
                <a:ext cx="92880" cy="276480"/>
              </a:xfrm>
              <a:prstGeom prst="rect">
                <a:avLst/>
              </a:prstGeom>
              <a:solidFill>
                <a:srgbClr val="e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4560840" y="1981080"/>
              <a:ext cx="1980720" cy="1855440"/>
              <a:chOff x="4560840" y="1981080"/>
              <a:chExt cx="1980720" cy="1855440"/>
            </a:xfrm>
          </p:grpSpPr>
          <p:sp>
            <p:nvSpPr>
              <p:cNvPr id="227" name=""/>
              <p:cNvSpPr/>
              <p:nvPr/>
            </p:nvSpPr>
            <p:spPr>
              <a:xfrm>
                <a:off x="4560840" y="1981080"/>
                <a:ext cx="1975320" cy="1851840"/>
              </a:xfrm>
              <a:prstGeom prst="ellipse">
                <a:avLst/>
              </a:prstGeom>
              <a:noFill/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063760" y="2130120"/>
                <a:ext cx="973080" cy="1586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flipV="1">
                <a:off x="5065200" y="2086200"/>
                <a:ext cx="951120" cy="1619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4586040" y="2902320"/>
                <a:ext cx="195552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00880" y="2450520"/>
                <a:ext cx="1725840" cy="91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5535720" y="2044440"/>
                <a:ext cx="14400" cy="17920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V="1">
                <a:off x="4737240" y="2444760"/>
                <a:ext cx="1638720" cy="924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V="1">
                <a:off x="5362560" y="2865960"/>
                <a:ext cx="351720" cy="94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883040" y="2270520"/>
                <a:ext cx="1374120" cy="1303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306040" y="2017080"/>
                <a:ext cx="488520" cy="1773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5468040" y="2649240"/>
                <a:ext cx="127080" cy="464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4912200" y="2237400"/>
                <a:ext cx="1279080" cy="1300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628160" y="2685600"/>
                <a:ext cx="1893240" cy="4352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393520" y="2747520"/>
                <a:ext cx="306000" cy="30204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469840" y="2822400"/>
                <a:ext cx="158400" cy="1584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790160" y="2867760"/>
                <a:ext cx="95040" cy="278640"/>
              </a:xfrm>
              <a:prstGeom prst="rect">
                <a:avLst/>
              </a:prstGeom>
              <a:solidFill>
                <a:srgbClr val="e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202800" y="2672640"/>
                <a:ext cx="94320" cy="275040"/>
              </a:xfrm>
              <a:prstGeom prst="rect">
                <a:avLst/>
              </a:prstGeom>
              <a:solidFill>
                <a:srgbClr val="e08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99360" y="2873160"/>
                <a:ext cx="96120" cy="8748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245" name=""/>
            <p:cNvSpPr/>
            <p:nvPr/>
          </p:nvSpPr>
          <p:spPr>
            <a:xfrm>
              <a:off x="4900680" y="5549760"/>
              <a:ext cx="504720" cy="473040"/>
            </a:xfrm>
            <a:prstGeom prst="ellipse">
              <a:avLst/>
            </a:prstGeom>
            <a:solidFill>
              <a:srgbClr val="80808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656160" y="5324400"/>
              <a:ext cx="1603080" cy="270000"/>
            </a:xfrm>
            <a:prstGeom prst="line">
              <a:avLst/>
            </a:prstGeom>
            <a:ln w="12600">
              <a:solidFill>
                <a:srgbClr val="7275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568680" y="6013440"/>
              <a:ext cx="1592280" cy="9360"/>
            </a:xfrm>
            <a:prstGeom prst="line">
              <a:avLst/>
            </a:prstGeom>
            <a:ln w="12600">
              <a:solidFill>
                <a:srgbClr val="7275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868480" y="5889600"/>
              <a:ext cx="414360" cy="133200"/>
            </a:xfrm>
            <a:prstGeom prst="roundRect">
              <a:avLst>
                <a:gd name="adj" fmla="val 49384"/>
              </a:avLst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249" name=""/>
            <p:cNvGrpSpPr/>
            <p:nvPr/>
          </p:nvGrpSpPr>
          <p:grpSpPr>
            <a:xfrm>
              <a:off x="3505320" y="2876760"/>
              <a:ext cx="2838960" cy="2913480"/>
              <a:chOff x="3505320" y="2876760"/>
              <a:chExt cx="2838960" cy="2913480"/>
            </a:xfrm>
          </p:grpSpPr>
          <p:sp>
            <p:nvSpPr>
              <p:cNvPr id="250" name=""/>
              <p:cNvSpPr/>
              <p:nvPr/>
            </p:nvSpPr>
            <p:spPr>
              <a:xfrm flipV="1">
                <a:off x="3505680" y="5682600"/>
                <a:ext cx="1557360" cy="576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flipV="1">
                <a:off x="4173840" y="4546800"/>
                <a:ext cx="1026720" cy="124344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3505320" y="4546440"/>
                <a:ext cx="668520" cy="114156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4174200" y="4057920"/>
                <a:ext cx="1933200" cy="4885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5116680" y="4288320"/>
                <a:ext cx="1143360" cy="132552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flipV="1">
                <a:off x="5616720" y="3121920"/>
                <a:ext cx="727560" cy="1342800"/>
              </a:xfrm>
              <a:prstGeom prst="line">
                <a:avLst/>
              </a:prstGeom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7675800">
                <a:off x="5514480" y="2911680"/>
                <a:ext cx="174600" cy="174240"/>
              </a:xfrm>
              <a:custGeom>
                <a:avLst/>
                <a:gdLst/>
                <a:ahLst/>
                <a:rect l="l" t="t" r="r" b="b"/>
                <a:pathLst>
                  <a:path w="96" h="96">
                    <a:moveTo>
                      <a:pt x="0" y="0"/>
                    </a:moveTo>
                    <a:cubicBezTo>
                      <a:pt x="24" y="36"/>
                      <a:pt x="48" y="72"/>
                      <a:pt x="96" y="96"/>
                    </a:cubicBezTo>
                  </a:path>
                </a:pathLst>
              </a:custGeom>
              <a:noFill/>
              <a:ln w="572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743280" y="3836880"/>
              <a:ext cx="640800" cy="393480"/>
              <a:chOff x="3743280" y="3836880"/>
              <a:chExt cx="640800" cy="393480"/>
            </a:xfrm>
          </p:grpSpPr>
          <p:sp>
            <p:nvSpPr>
              <p:cNvPr id="258" name=""/>
              <p:cNvSpPr/>
              <p:nvPr/>
            </p:nvSpPr>
            <p:spPr>
              <a:xfrm flipH="1" flipV="1">
                <a:off x="3743280" y="3967920"/>
                <a:ext cx="87120" cy="174960"/>
              </a:xfrm>
              <a:prstGeom prst="line">
                <a:avLst/>
              </a:prstGeom>
              <a:ln w="57240">
                <a:solidFill>
                  <a:srgbClr val="0e13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3743280" y="3879720"/>
                <a:ext cx="349560" cy="87480"/>
              </a:xfrm>
              <a:prstGeom prst="line">
                <a:avLst/>
              </a:prstGeom>
              <a:ln w="57240">
                <a:solidFill>
                  <a:srgbClr val="0e13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063680" y="3836880"/>
                <a:ext cx="320400" cy="393480"/>
              </a:xfrm>
              <a:custGeom>
                <a:avLst/>
                <a:gdLst/>
                <a:ahLst/>
                <a:rect l="l" t="t" r="r" b="b"/>
                <a:pathLst>
                  <a:path w="176" h="216">
                    <a:moveTo>
                      <a:pt x="16" y="24"/>
                    </a:moveTo>
                    <a:cubicBezTo>
                      <a:pt x="52" y="12"/>
                      <a:pt x="88" y="0"/>
                      <a:pt x="112" y="24"/>
                    </a:cubicBezTo>
                    <a:cubicBezTo>
                      <a:pt x="136" y="48"/>
                      <a:pt x="176" y="136"/>
                      <a:pt x="160" y="168"/>
                    </a:cubicBezTo>
                    <a:cubicBezTo>
                      <a:pt x="144" y="200"/>
                      <a:pt x="0" y="200"/>
                      <a:pt x="16" y="216"/>
                    </a:cubicBezTo>
                  </a:path>
                </a:pathLst>
              </a:custGeom>
              <a:noFill/>
              <a:ln w="57240">
                <a:solidFill>
                  <a:srgbClr val="0e13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 rot="8943600">
              <a:off x="6090480" y="4841640"/>
              <a:ext cx="787320" cy="174600"/>
            </a:xfrm>
            <a:prstGeom prst="rtTriangle">
              <a:avLst/>
            </a:prstGeom>
            <a:solidFill>
              <a:srgbClr val="cc9900"/>
            </a:solidFill>
            <a:ln w="93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043080" y="5673600"/>
              <a:ext cx="438480" cy="262080"/>
            </a:xfrm>
            <a:prstGeom prst="line">
              <a:avLst/>
            </a:prstGeom>
            <a:ln w="3816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 flipV="1">
              <a:off x="3830760" y="4100040"/>
              <a:ext cx="349200" cy="436680"/>
            </a:xfrm>
            <a:prstGeom prst="line">
              <a:avLst/>
            </a:prstGeom>
            <a:ln w="57240">
              <a:solidFill>
                <a:srgbClr val="2929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763640" y="-122760"/>
            <a:ext cx="7274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4346c"/>
                </a:solidFill>
                <a:latin typeface="Tahoma"/>
              </a:rPr>
              <a:t>Optimiser la conception d’un systèm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112840" y="907920"/>
            <a:ext cx="7031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« La réunion de sous-ensembles optimaux ne constitue pas un ensemble optimal »</a:t>
            </a:r>
            <a:r>
              <a:rPr b="0" lang="fr-FR" sz="1800" spc="-1" strike="noStrike">
                <a:solidFill>
                  <a:srgbClr val="292929"/>
                </a:solidFill>
                <a:latin typeface="Arial"/>
              </a:rPr>
              <a:t> (</a:t>
            </a:r>
            <a:r>
              <a:rPr b="0" i="1" lang="fr-FR" sz="1800" spc="-1" strike="noStrike">
                <a:solidFill>
                  <a:srgbClr val="292929"/>
                </a:solidFill>
                <a:latin typeface="Arial"/>
              </a:rPr>
              <a:t>Théorème de Bellmann)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26C-9D0F-4B84-BFC1-13B9C557B6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"/>
          <p:cNvSpPr/>
          <p:nvPr/>
        </p:nvSpPr>
        <p:spPr>
          <a:xfrm>
            <a:off x="1496880" y="427320"/>
            <a:ext cx="764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Simulation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65" name="" descr=""/>
          <p:cNvPicPr/>
          <p:nvPr/>
        </p:nvPicPr>
        <p:blipFill>
          <a:blip r:embed="rId1"/>
          <a:stretch/>
        </p:blipFill>
        <p:spPr>
          <a:xfrm>
            <a:off x="2141640" y="1585800"/>
            <a:ext cx="6167160" cy="5272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DE0F-29BC-4441-BC09-77C864B1C57E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6" name=""/>
          <p:cNvGrpSpPr/>
          <p:nvPr/>
        </p:nvGrpSpPr>
        <p:grpSpPr>
          <a:xfrm>
            <a:off x="3465360" y="3216240"/>
            <a:ext cx="2128680" cy="819360"/>
            <a:chOff x="3465360" y="3216240"/>
            <a:chExt cx="2128680" cy="819360"/>
          </a:xfrm>
        </p:grpSpPr>
        <p:grpSp>
          <p:nvGrpSpPr>
            <p:cNvPr id="1067" name=""/>
            <p:cNvGrpSpPr/>
            <p:nvPr/>
          </p:nvGrpSpPr>
          <p:grpSpPr>
            <a:xfrm>
              <a:off x="3957840" y="3216240"/>
              <a:ext cx="1636200" cy="819360"/>
              <a:chOff x="3957840" y="3216240"/>
              <a:chExt cx="1636200" cy="819360"/>
            </a:xfrm>
          </p:grpSpPr>
          <p:sp>
            <p:nvSpPr>
              <p:cNvPr id="1068" name=""/>
              <p:cNvSpPr/>
              <p:nvPr/>
            </p:nvSpPr>
            <p:spPr>
              <a:xfrm>
                <a:off x="3973320" y="3216240"/>
                <a:ext cx="1618560" cy="819360"/>
              </a:xfrm>
              <a:prstGeom prst="ellipse">
                <a:avLst/>
              </a:prstGeom>
              <a:solidFill>
                <a:srgbClr val="cc99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3957840" y="3216240"/>
                <a:ext cx="1636200" cy="81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292929"/>
                    </a:solidFill>
                    <a:latin typeface="Arial"/>
                  </a:rPr>
                  <a:t>Etape 2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292929"/>
                    </a:solidFill>
                    <a:latin typeface="Arial"/>
                  </a:rPr>
                  <a:t>Pièce fonctionnelle optimisée</a:t>
                </a:r>
                <a:endParaRPr b="0" lang="en-US" sz="12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4071960" y="3435480"/>
                <a:ext cx="1425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1071" name=""/>
            <p:cNvSpPr/>
            <p:nvPr/>
          </p:nvSpPr>
          <p:spPr>
            <a:xfrm>
              <a:off x="3465360" y="3529080"/>
              <a:ext cx="479160" cy="193680"/>
            </a:xfrm>
            <a:prstGeom prst="rightArrow">
              <a:avLst>
                <a:gd name="adj1" fmla="val 50000"/>
                <a:gd name="adj2" fmla="val 61849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072" name=""/>
          <p:cNvGrpSpPr/>
          <p:nvPr/>
        </p:nvGrpSpPr>
        <p:grpSpPr>
          <a:xfrm>
            <a:off x="5637240" y="3216240"/>
            <a:ext cx="2115720" cy="819360"/>
            <a:chOff x="5637240" y="3216240"/>
            <a:chExt cx="2115720" cy="819360"/>
          </a:xfrm>
        </p:grpSpPr>
        <p:grpSp>
          <p:nvGrpSpPr>
            <p:cNvPr id="1073" name=""/>
            <p:cNvGrpSpPr/>
            <p:nvPr/>
          </p:nvGrpSpPr>
          <p:grpSpPr>
            <a:xfrm>
              <a:off x="6117480" y="3216240"/>
              <a:ext cx="1635480" cy="819360"/>
              <a:chOff x="6117480" y="3216240"/>
              <a:chExt cx="1635480" cy="819360"/>
            </a:xfrm>
          </p:grpSpPr>
          <p:sp>
            <p:nvSpPr>
              <p:cNvPr id="1074" name=""/>
              <p:cNvSpPr/>
              <p:nvPr/>
            </p:nvSpPr>
            <p:spPr>
              <a:xfrm>
                <a:off x="6132960" y="3216240"/>
                <a:ext cx="1617840" cy="819360"/>
              </a:xfrm>
              <a:prstGeom prst="ellipse">
                <a:avLst/>
              </a:prstGeom>
              <a:solidFill>
                <a:srgbClr val="cc99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6117480" y="3216240"/>
                <a:ext cx="1635480" cy="81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292929"/>
                    </a:solidFill>
                    <a:latin typeface="Arial"/>
                  </a:rPr>
                  <a:t>Etape 3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292929"/>
                    </a:solidFill>
                    <a:latin typeface="Arial"/>
                  </a:rPr>
                  <a:t>Formes du brut</a:t>
                </a:r>
                <a:endParaRPr b="0" lang="en-US" sz="12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231600" y="3435480"/>
                <a:ext cx="14245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5637240" y="3529080"/>
              <a:ext cx="479160" cy="193680"/>
            </a:xfrm>
            <a:prstGeom prst="rightArrow">
              <a:avLst>
                <a:gd name="adj1" fmla="val 50000"/>
                <a:gd name="adj2" fmla="val 61849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078" name=""/>
          <p:cNvGrpSpPr/>
          <p:nvPr/>
        </p:nvGrpSpPr>
        <p:grpSpPr>
          <a:xfrm>
            <a:off x="1735200" y="2679840"/>
            <a:ext cx="1671480" cy="1412640"/>
            <a:chOff x="1735200" y="2679840"/>
            <a:chExt cx="1671480" cy="1412640"/>
          </a:xfrm>
        </p:grpSpPr>
        <p:grpSp>
          <p:nvGrpSpPr>
            <p:cNvPr id="1079" name=""/>
            <p:cNvGrpSpPr/>
            <p:nvPr/>
          </p:nvGrpSpPr>
          <p:grpSpPr>
            <a:xfrm>
              <a:off x="1735200" y="3273480"/>
              <a:ext cx="1671480" cy="819000"/>
              <a:chOff x="1735200" y="3273480"/>
              <a:chExt cx="1671480" cy="819000"/>
            </a:xfrm>
          </p:grpSpPr>
          <p:sp>
            <p:nvSpPr>
              <p:cNvPr id="1080" name=""/>
              <p:cNvSpPr/>
              <p:nvPr/>
            </p:nvSpPr>
            <p:spPr>
              <a:xfrm>
                <a:off x="1785960" y="3273480"/>
                <a:ext cx="1618920" cy="819000"/>
              </a:xfrm>
              <a:prstGeom prst="ellipse">
                <a:avLst/>
              </a:prstGeom>
              <a:solidFill>
                <a:srgbClr val="cc99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1735200" y="3273480"/>
                <a:ext cx="1671480" cy="81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000" spc="-1" strike="noStrike">
                    <a:solidFill>
                      <a:srgbClr val="292929"/>
                    </a:solidFill>
                    <a:latin typeface="Arial"/>
                  </a:rPr>
                  <a:t>Etape 1</a:t>
                </a:r>
                <a:endParaRPr b="0" lang="en-US" sz="1000" spc="-1" strike="noStrike">
                  <a:solidFill>
                    <a:srgbClr val="292929"/>
                  </a:solidFill>
                  <a:latin typeface="Arial"/>
                </a:endParaRPr>
              </a:p>
              <a:p>
                <a:pPr algn="ctr">
                  <a:spcBef>
                    <a:spcPts val="3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292929"/>
                    </a:solidFill>
                    <a:latin typeface="Arial"/>
                  </a:rPr>
                  <a:t>Volume matière fonctionnel de base</a:t>
                </a:r>
                <a:endParaRPr b="0" lang="en-US" sz="12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1884600" y="3492360"/>
                <a:ext cx="1425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1083" name=""/>
            <p:cNvSpPr/>
            <p:nvPr/>
          </p:nvSpPr>
          <p:spPr>
            <a:xfrm flipH="1" rot="16200000">
              <a:off x="2325600" y="2850120"/>
              <a:ext cx="519120" cy="178560"/>
            </a:xfrm>
            <a:prstGeom prst="rightArrow">
              <a:avLst>
                <a:gd name="adj1" fmla="val 50000"/>
                <a:gd name="adj2" fmla="val 72681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084" name=""/>
          <p:cNvGrpSpPr/>
          <p:nvPr/>
        </p:nvGrpSpPr>
        <p:grpSpPr>
          <a:xfrm>
            <a:off x="2060640" y="1919160"/>
            <a:ext cx="5328720" cy="665280"/>
            <a:chOff x="2060640" y="1919160"/>
            <a:chExt cx="5328720" cy="665280"/>
          </a:xfrm>
        </p:grpSpPr>
        <p:sp>
          <p:nvSpPr>
            <p:cNvPr id="1085" name=""/>
            <p:cNvSpPr/>
            <p:nvPr/>
          </p:nvSpPr>
          <p:spPr>
            <a:xfrm>
              <a:off x="2060640" y="1919160"/>
              <a:ext cx="1048680" cy="66528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292929"/>
                  </a:solidFill>
                  <a:latin typeface="Arial"/>
                </a:rPr>
                <a:t>Squelette volumique fonctionnel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482520" y="2050920"/>
              <a:ext cx="906840" cy="401760"/>
            </a:xfrm>
            <a:prstGeom prst="rect">
              <a:avLst/>
            </a:prstGeom>
            <a:solidFill>
              <a:srgbClr val="ffcc99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292929"/>
                  </a:solidFill>
                  <a:latin typeface="Arial"/>
                </a:rPr>
                <a:t>Pièce finie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087" name=""/>
          <p:cNvGrpSpPr/>
          <p:nvPr/>
        </p:nvGrpSpPr>
        <p:grpSpPr>
          <a:xfrm>
            <a:off x="4010040" y="4129200"/>
            <a:ext cx="1509840" cy="1606320"/>
            <a:chOff x="4010040" y="4129200"/>
            <a:chExt cx="1509840" cy="1606320"/>
          </a:xfrm>
        </p:grpSpPr>
        <p:sp>
          <p:nvSpPr>
            <p:cNvPr id="1088" name=""/>
            <p:cNvSpPr/>
            <p:nvPr/>
          </p:nvSpPr>
          <p:spPr>
            <a:xfrm>
              <a:off x="4010040" y="4797360"/>
              <a:ext cx="1509840" cy="938160"/>
            </a:xfrm>
            <a:prstGeom prst="ellipse">
              <a:avLst/>
            </a:prstGeom>
            <a:solidFill>
              <a:srgbClr val="ff99cc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177080" y="5121360"/>
              <a:ext cx="1292760" cy="49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292929"/>
                  </a:solidFill>
                  <a:latin typeface="Arial"/>
                </a:rPr>
                <a:t>Modules calculs</a:t>
              </a:r>
              <a:endParaRPr b="0" lang="en-US" sz="12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 rot="5400000">
              <a:off x="4449960" y="4367520"/>
              <a:ext cx="654120" cy="177120"/>
            </a:xfrm>
            <a:prstGeom prst="leftRightArrow">
              <a:avLst>
                <a:gd name="adj1" fmla="val 50000"/>
                <a:gd name="adj2" fmla="val 7352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091" name=""/>
          <p:cNvGrpSpPr/>
          <p:nvPr/>
        </p:nvGrpSpPr>
        <p:grpSpPr>
          <a:xfrm>
            <a:off x="5311800" y="2604960"/>
            <a:ext cx="2417040" cy="3160440"/>
            <a:chOff x="5311800" y="2604960"/>
            <a:chExt cx="2417040" cy="3160440"/>
          </a:xfrm>
        </p:grpSpPr>
        <p:grpSp>
          <p:nvGrpSpPr>
            <p:cNvPr id="1092" name=""/>
            <p:cNvGrpSpPr/>
            <p:nvPr/>
          </p:nvGrpSpPr>
          <p:grpSpPr>
            <a:xfrm>
              <a:off x="6146280" y="4783320"/>
              <a:ext cx="1582560" cy="982080"/>
              <a:chOff x="6146280" y="4783320"/>
              <a:chExt cx="1582560" cy="982080"/>
            </a:xfrm>
          </p:grpSpPr>
          <p:sp>
            <p:nvSpPr>
              <p:cNvPr id="1093" name=""/>
              <p:cNvSpPr/>
              <p:nvPr/>
            </p:nvSpPr>
            <p:spPr>
              <a:xfrm>
                <a:off x="6146280" y="4783320"/>
                <a:ext cx="1582560" cy="982080"/>
              </a:xfrm>
              <a:prstGeom prst="ellipse">
                <a:avLst/>
              </a:prstGeom>
              <a:solidFill>
                <a:srgbClr val="ff99cc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291000" y="4912920"/>
                <a:ext cx="1383840" cy="84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spcBef>
                    <a:spcPts val="11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292929"/>
                    </a:solidFill>
                    <a:latin typeface="Arial"/>
                  </a:rPr>
                  <a:t>Procédé de fabrication et modules métiers</a:t>
                </a:r>
                <a:endParaRPr b="0" lang="en-US" sz="12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1095" name=""/>
            <p:cNvSpPr/>
            <p:nvPr/>
          </p:nvSpPr>
          <p:spPr>
            <a:xfrm flipV="1" rot="19067400">
              <a:off x="5204880" y="4395240"/>
              <a:ext cx="1266480" cy="171360"/>
            </a:xfrm>
            <a:prstGeom prst="leftRightArrow">
              <a:avLst>
                <a:gd name="adj1" fmla="val 50000"/>
                <a:gd name="adj2" fmla="val 14713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 rot="5400000">
              <a:off x="6584040" y="4327560"/>
              <a:ext cx="704880" cy="177480"/>
            </a:xfrm>
            <a:prstGeom prst="leftRightArrow">
              <a:avLst>
                <a:gd name="adj1" fmla="val 50000"/>
                <a:gd name="adj2" fmla="val 79064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 flipV="1" rot="16200000">
              <a:off x="6678720" y="2774520"/>
              <a:ext cx="517680" cy="178560"/>
            </a:xfrm>
            <a:prstGeom prst="rightArrow">
              <a:avLst>
                <a:gd name="adj1" fmla="val 50000"/>
                <a:gd name="adj2" fmla="val 72480"/>
              </a:avLst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098" name=""/>
          <p:cNvSpPr/>
          <p:nvPr/>
        </p:nvSpPr>
        <p:spPr>
          <a:xfrm>
            <a:off x="1496880" y="366480"/>
            <a:ext cx="76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marche de modélisation d ’une pièce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99" name=""/>
          <p:cNvSpPr/>
          <p:nvPr/>
        </p:nvSpPr>
        <p:spPr>
          <a:xfrm>
            <a:off x="3505320" y="90792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Relation produit-procédé-matériau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B157-CD27-4989-9B93-646C977A0285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"/>
          <p:cNvSpPr/>
          <p:nvPr/>
        </p:nvSpPr>
        <p:spPr>
          <a:xfrm>
            <a:off x="3505320" y="90792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Relation produit-procédé-matériau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1" name=""/>
          <p:cNvSpPr/>
          <p:nvPr/>
        </p:nvSpPr>
        <p:spPr>
          <a:xfrm>
            <a:off x="1496880" y="366480"/>
            <a:ext cx="76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marche de modélisation d’une pièce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2" name=""/>
          <p:cNvSpPr/>
          <p:nvPr/>
        </p:nvSpPr>
        <p:spPr>
          <a:xfrm>
            <a:off x="169056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103" name=""/>
          <p:cNvGrpSpPr/>
          <p:nvPr/>
        </p:nvGrpSpPr>
        <p:grpSpPr>
          <a:xfrm>
            <a:off x="297000" y="3500280"/>
            <a:ext cx="3328920" cy="2856240"/>
            <a:chOff x="297000" y="3500280"/>
            <a:chExt cx="3328920" cy="2856240"/>
          </a:xfrm>
        </p:grpSpPr>
        <p:pic>
          <p:nvPicPr>
            <p:cNvPr id="1104" name="chaise-1%20vol%20fonct" descr=""/>
            <p:cNvPicPr/>
            <p:nvPr/>
          </p:nvPicPr>
          <p:blipFill>
            <a:blip r:embed="rId1"/>
            <a:srcRect l="0" t="9426" r="1877" b="8181"/>
            <a:stretch/>
          </p:blipFill>
          <p:spPr>
            <a:xfrm>
              <a:off x="297000" y="4024440"/>
              <a:ext cx="3328920" cy="23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5" name=""/>
            <p:cNvSpPr/>
            <p:nvPr/>
          </p:nvSpPr>
          <p:spPr>
            <a:xfrm>
              <a:off x="1531800" y="3500280"/>
              <a:ext cx="1554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292929"/>
                  </a:solidFill>
                  <a:latin typeface="Arial"/>
                </a:rPr>
                <a:t>Volumes fonctionnels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2855880" y="1465200"/>
            <a:ext cx="3328920" cy="2468520"/>
            <a:chOff x="2855880" y="1465200"/>
            <a:chExt cx="3328920" cy="2468520"/>
          </a:xfrm>
        </p:grpSpPr>
        <p:pic>
          <p:nvPicPr>
            <p:cNvPr id="1107" name="chaise-1%20brut" descr=""/>
            <p:cNvPicPr/>
            <p:nvPr/>
          </p:nvPicPr>
          <p:blipFill>
            <a:blip r:embed="rId2"/>
            <a:srcRect l="0" t="9426" r="0" b="8181"/>
            <a:stretch/>
          </p:blipFill>
          <p:spPr>
            <a:xfrm>
              <a:off x="2855880" y="1601640"/>
              <a:ext cx="3328920" cy="23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"/>
            <p:cNvSpPr/>
            <p:nvPr/>
          </p:nvSpPr>
          <p:spPr>
            <a:xfrm>
              <a:off x="4081320" y="1465200"/>
              <a:ext cx="147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292929"/>
                  </a:solidFill>
                  <a:latin typeface="Arial"/>
                </a:rPr>
                <a:t>Brut moulé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109" name=""/>
          <p:cNvSpPr/>
          <p:nvPr/>
        </p:nvSpPr>
        <p:spPr>
          <a:xfrm rot="19476000">
            <a:off x="2012760" y="2599920"/>
            <a:ext cx="609480" cy="380880"/>
          </a:xfrm>
          <a:prstGeom prst="rightArrow">
            <a:avLst>
              <a:gd name="adj1" fmla="val 50000"/>
              <a:gd name="adj2" fmla="val 40005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rot="2568000">
            <a:off x="6580080" y="2734920"/>
            <a:ext cx="609840" cy="380880"/>
          </a:xfrm>
          <a:prstGeom prst="rightArrow">
            <a:avLst>
              <a:gd name="adj1" fmla="val 50000"/>
              <a:gd name="adj2" fmla="val 40028"/>
            </a:avLst>
          </a:prstGeom>
          <a:noFill/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111" name=""/>
          <p:cNvGrpSpPr/>
          <p:nvPr/>
        </p:nvGrpSpPr>
        <p:grpSpPr>
          <a:xfrm>
            <a:off x="5376960" y="3940200"/>
            <a:ext cx="3328920" cy="2529000"/>
            <a:chOff x="5376960" y="3940200"/>
            <a:chExt cx="3328920" cy="2529000"/>
          </a:xfrm>
        </p:grpSpPr>
        <p:pic>
          <p:nvPicPr>
            <p:cNvPr id="1112" name="chaise-1%20finie" descr=""/>
            <p:cNvPicPr/>
            <p:nvPr/>
          </p:nvPicPr>
          <p:blipFill>
            <a:blip r:embed="rId3"/>
            <a:srcRect l="0" t="9426" r="0" b="8181"/>
            <a:stretch/>
          </p:blipFill>
          <p:spPr>
            <a:xfrm>
              <a:off x="5376960" y="4137120"/>
              <a:ext cx="3328920" cy="23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3" name=""/>
            <p:cNvSpPr/>
            <p:nvPr/>
          </p:nvSpPr>
          <p:spPr>
            <a:xfrm>
              <a:off x="6815160" y="3940200"/>
              <a:ext cx="1486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292929"/>
                  </a:solidFill>
                  <a:latin typeface="Arial"/>
                </a:rPr>
                <a:t>Pièce finie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1174-BAE6-4B00-9C86-56998CD1DE50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chaise-1%202" descr=""/>
          <p:cNvPicPr/>
          <p:nvPr/>
        </p:nvPicPr>
        <p:blipFill>
          <a:blip r:embed="rId1"/>
          <a:srcRect l="15269" t="10720" r="13839" b="9191"/>
          <a:stretch/>
        </p:blipFill>
        <p:spPr>
          <a:xfrm>
            <a:off x="4753080" y="2379600"/>
            <a:ext cx="3781440" cy="3652920"/>
          </a:xfrm>
          <a:prstGeom prst="rect">
            <a:avLst/>
          </a:prstGeom>
          <a:ln w="0">
            <a:noFill/>
          </a:ln>
        </p:spPr>
      </p:pic>
      <p:sp>
        <p:nvSpPr>
          <p:cNvPr id="1115" name=""/>
          <p:cNvSpPr/>
          <p:nvPr/>
        </p:nvSpPr>
        <p:spPr>
          <a:xfrm>
            <a:off x="169056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16" name="chaise-1%201" descr=""/>
          <p:cNvPicPr/>
          <p:nvPr/>
        </p:nvPicPr>
        <p:blipFill>
          <a:blip r:embed="rId2">
            <a:alphaModFix amt="50000"/>
          </a:blip>
          <a:srcRect l="0" t="19520" r="4120" b="19742"/>
          <a:stretch/>
        </p:blipFill>
        <p:spPr>
          <a:xfrm>
            <a:off x="692280" y="1928880"/>
            <a:ext cx="3990960" cy="2163600"/>
          </a:xfrm>
          <a:prstGeom prst="rect">
            <a:avLst/>
          </a:prstGeom>
          <a:ln w="0">
            <a:noFill/>
          </a:ln>
        </p:spPr>
      </p:pic>
      <p:sp>
        <p:nvSpPr>
          <p:cNvPr id="1117" name=""/>
          <p:cNvSpPr/>
          <p:nvPr/>
        </p:nvSpPr>
        <p:spPr>
          <a:xfrm>
            <a:off x="1496880" y="366480"/>
            <a:ext cx="76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émarche de modélisation d’une pièce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3505320" y="90792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Relation produit-procédé-matériau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477720" y="5095800"/>
            <a:ext cx="2602080" cy="11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H - Faire intervenir la relation produit-procédé-matériau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DB42-EDC5-4437-BC9A-C2CE510BD84E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169056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1" name=""/>
          <p:cNvSpPr/>
          <p:nvPr/>
        </p:nvSpPr>
        <p:spPr>
          <a:xfrm>
            <a:off x="1690560" y="971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22" name="volumes%20fonctionnels%20++%203d" descr=""/>
          <p:cNvPicPr/>
          <p:nvPr/>
        </p:nvPicPr>
        <p:blipFill>
          <a:blip r:embed="rId1"/>
          <a:srcRect l="30875" t="6096" r="24485" b="7319"/>
          <a:stretch/>
        </p:blipFill>
        <p:spPr>
          <a:xfrm>
            <a:off x="3768840" y="1201680"/>
            <a:ext cx="3278160" cy="5410080"/>
          </a:xfrm>
          <a:prstGeom prst="rect">
            <a:avLst/>
          </a:prstGeom>
          <a:ln w="0">
            <a:noFill/>
          </a:ln>
        </p:spPr>
      </p:pic>
      <p:sp>
        <p:nvSpPr>
          <p:cNvPr id="1123" name=""/>
          <p:cNvSpPr/>
          <p:nvPr/>
        </p:nvSpPr>
        <p:spPr>
          <a:xfrm>
            <a:off x="1496880" y="366480"/>
            <a:ext cx="76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Démarche de modélisation 3D d’un ensembl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2201760" y="907920"/>
            <a:ext cx="6942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Mise en place des éléments d ’assemblag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914A-3157-4818-AC6B-F320A0083F7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"/>
          <p:cNvSpPr/>
          <p:nvPr/>
        </p:nvSpPr>
        <p:spPr>
          <a:xfrm>
            <a:off x="1496880" y="366480"/>
            <a:ext cx="76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délisation de la command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126" name=""/>
          <p:cNvGraphicFramePr/>
          <p:nvPr/>
        </p:nvGraphicFramePr>
        <p:xfrm>
          <a:off x="581040" y="2230560"/>
          <a:ext cx="837252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2230560"/>
                    <a:ext cx="837252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8" name=""/>
          <p:cNvSpPr/>
          <p:nvPr/>
        </p:nvSpPr>
        <p:spPr>
          <a:xfrm>
            <a:off x="3102120" y="907920"/>
            <a:ext cx="604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Asservissement en position de l’ax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4307760" y="1518480"/>
            <a:ext cx="35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Principe de la commande en coura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0" name=""/>
              <p:cNvSpPr txBox="1"/>
              <p:nvPr/>
            </p:nvSpPr>
            <p:spPr>
              <a:xfrm>
                <a:off x="2565360" y="4970520"/>
                <a:ext cx="27050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Lp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148E-CA0F-4109-8BC6-4E9AB71C3AAF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"/>
          <p:cNvSpPr/>
          <p:nvPr/>
        </p:nvSpPr>
        <p:spPr>
          <a:xfrm>
            <a:off x="1496880" y="366480"/>
            <a:ext cx="76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délisation de la command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132" name=""/>
          <p:cNvGraphicFramePr/>
          <p:nvPr/>
        </p:nvGraphicFramePr>
        <p:xfrm>
          <a:off x="581040" y="2230560"/>
          <a:ext cx="8372520" cy="2468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1040" y="2230560"/>
                    <a:ext cx="8372520" cy="246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4" name=""/>
          <p:cNvSpPr/>
          <p:nvPr/>
        </p:nvSpPr>
        <p:spPr>
          <a:xfrm>
            <a:off x="3102120" y="907920"/>
            <a:ext cx="604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Asservissement en position de l’ax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4307760" y="1518480"/>
            <a:ext cx="352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Principe de la commande en couran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3414-3B20-4375-9BF8-7348C129CC7B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"/>
          <p:cNvSpPr/>
          <p:nvPr/>
        </p:nvSpPr>
        <p:spPr>
          <a:xfrm>
            <a:off x="1496880" y="366480"/>
            <a:ext cx="76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délisation de la command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graphicFrame>
        <p:nvGraphicFramePr>
          <p:cNvPr id="1137" name=""/>
          <p:cNvGraphicFramePr/>
          <p:nvPr/>
        </p:nvGraphicFramePr>
        <p:xfrm>
          <a:off x="514440" y="2055960"/>
          <a:ext cx="8629560" cy="306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440" y="2055960"/>
                    <a:ext cx="8629560" cy="30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9" name=""/>
          <p:cNvSpPr/>
          <p:nvPr/>
        </p:nvSpPr>
        <p:spPr>
          <a:xfrm>
            <a:off x="3102120" y="907920"/>
            <a:ext cx="604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Asservissement en position de l’ax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3457440" y="2171880"/>
            <a:ext cx="1854360" cy="1663560"/>
          </a:xfrm>
          <a:prstGeom prst="rect">
            <a:avLst/>
          </a:prstGeom>
          <a:noFill/>
          <a:ln w="38160">
            <a:solidFill>
              <a:srgbClr val="5a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5722920" y="2549520"/>
            <a:ext cx="1673280" cy="2109960"/>
          </a:xfrm>
          <a:prstGeom prst="rect">
            <a:avLst/>
          </a:prstGeom>
          <a:noFill/>
          <a:ln w="38160">
            <a:solidFill>
              <a:srgbClr val="f2b3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893880" y="2557440"/>
            <a:ext cx="1681200" cy="1731960"/>
          </a:xfrm>
          <a:prstGeom prst="rect">
            <a:avLst/>
          </a:prstGeom>
          <a:noFill/>
          <a:ln w="38160">
            <a:solidFill>
              <a:srgbClr val="5a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763560" y="2058840"/>
            <a:ext cx="4573440" cy="2943360"/>
          </a:xfrm>
          <a:prstGeom prst="rect">
            <a:avLst/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4318200" y="1518480"/>
            <a:ext cx="35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Principe de l ’asservissement virtuel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946-C740-4860-B519-486FF9E1613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3102120" y="907920"/>
            <a:ext cx="604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Asservissement en position de l’ax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47" name="" descr=""/>
          <p:cNvPicPr/>
          <p:nvPr/>
        </p:nvPicPr>
        <p:blipFill>
          <a:blip r:embed="rId1"/>
          <a:stretch/>
        </p:blipFill>
        <p:spPr>
          <a:xfrm>
            <a:off x="2127240" y="1492200"/>
            <a:ext cx="6276960" cy="536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702C-C3B5-4A11-AEF6-19C20AF25BF1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i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3102120" y="907920"/>
            <a:ext cx="604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Asservissement en position de l’ax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50" name="" descr=""/>
          <p:cNvPicPr/>
          <p:nvPr/>
        </p:nvPicPr>
        <p:blipFill>
          <a:blip r:embed="rId1"/>
          <a:stretch/>
        </p:blipFill>
        <p:spPr>
          <a:xfrm>
            <a:off x="1886040" y="1357200"/>
            <a:ext cx="6414840" cy="548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F38C-3119-4888-BD31-2C9EE8418DA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63640" y="364320"/>
            <a:ext cx="72741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Une démarche générale en S.I.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7" name=""/>
          <p:cNvCxnSpPr>
            <a:stCxn id="268" idx="3"/>
            <a:endCxn id="269" idx="3"/>
          </p:cNvCxnSpPr>
          <p:nvPr/>
        </p:nvCxnSpPr>
        <p:spPr>
          <a:xfrm flipH="1">
            <a:off x="8560800" y="2519280"/>
            <a:ext cx="6840" cy="642240"/>
          </a:xfrm>
          <a:prstGeom prst="bentConnector3">
            <a:avLst>
              <a:gd name="adj1" fmla="val -3600000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stCxn id="271" idx="3"/>
            <a:endCxn id="272" idx="3"/>
          </p:cNvCxnSpPr>
          <p:nvPr/>
        </p:nvCxnSpPr>
        <p:spPr>
          <a:xfrm>
            <a:off x="8561520" y="3363840"/>
            <a:ext cx="8640" cy="551520"/>
          </a:xfrm>
          <a:prstGeom prst="bentConnector3">
            <a:avLst>
              <a:gd name="adj1" fmla="val 2978260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cxnSp>
        <p:nvCxnSpPr>
          <p:cNvPr id="273" name=""/>
          <p:cNvCxnSpPr>
            <a:stCxn id="274" idx="3"/>
            <a:endCxn id="275" idx="3"/>
          </p:cNvCxnSpPr>
          <p:nvPr/>
        </p:nvCxnSpPr>
        <p:spPr>
          <a:xfrm flipH="1">
            <a:off x="8543160" y="4118040"/>
            <a:ext cx="26280" cy="543600"/>
          </a:xfrm>
          <a:prstGeom prst="bentConnector3">
            <a:avLst>
              <a:gd name="adj1" fmla="val -900000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cxnSp>
        <p:nvCxnSpPr>
          <p:cNvPr id="276" name=""/>
          <p:cNvCxnSpPr>
            <a:stCxn id="277" idx="3"/>
            <a:endCxn id="278" idx="3"/>
          </p:cNvCxnSpPr>
          <p:nvPr/>
        </p:nvCxnSpPr>
        <p:spPr>
          <a:xfrm>
            <a:off x="8543880" y="4863600"/>
            <a:ext cx="23040" cy="654840"/>
          </a:xfrm>
          <a:prstGeom prst="bentConnector3">
            <a:avLst>
              <a:gd name="adj1" fmla="val 1126984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sp>
        <p:nvSpPr>
          <p:cNvPr id="279" name=""/>
          <p:cNvSpPr/>
          <p:nvPr/>
        </p:nvSpPr>
        <p:spPr>
          <a:xfrm>
            <a:off x="3668760" y="5430960"/>
            <a:ext cx="966600" cy="206280"/>
          </a:xfrm>
          <a:custGeom>
            <a:avLst/>
            <a:gdLst>
              <a:gd name="textAreaLeft" fmla="*/ 150840 w 966600"/>
              <a:gd name="textAreaRight" fmla="*/ 846000 w 966600"/>
              <a:gd name="textAreaTop" fmla="*/ 51480 h 206280"/>
              <a:gd name="textAreaBottom" fmla="*/ 154800 h 206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78120" y="2417760"/>
            <a:ext cx="965160" cy="208080"/>
          </a:xfrm>
          <a:custGeom>
            <a:avLst/>
            <a:gdLst>
              <a:gd name="textAreaLeft" fmla="*/ 150840 w 965160"/>
              <a:gd name="textAreaRight" fmla="*/ 844560 w 96516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cxnSp>
        <p:nvCxnSpPr>
          <p:cNvPr id="281" name=""/>
          <p:cNvCxnSpPr>
            <a:stCxn id="282" idx="0"/>
            <a:endCxn id="283" idx="1"/>
          </p:cNvCxnSpPr>
          <p:nvPr/>
        </p:nvCxnSpPr>
        <p:spPr>
          <a:xfrm flipH="1" flipV="1" rot="5400000">
            <a:off x="2413440" y="2932200"/>
            <a:ext cx="2140920" cy="2615400"/>
          </a:xfrm>
          <a:prstGeom prst="bentConnector2">
            <a:avLst/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grpSp>
        <p:nvGrpSpPr>
          <p:cNvPr id="284" name=""/>
          <p:cNvGrpSpPr/>
          <p:nvPr/>
        </p:nvGrpSpPr>
        <p:grpSpPr>
          <a:xfrm>
            <a:off x="830160" y="2313000"/>
            <a:ext cx="2695680" cy="580680"/>
            <a:chOff x="830160" y="2313000"/>
            <a:chExt cx="2695680" cy="580680"/>
          </a:xfrm>
        </p:grpSpPr>
        <p:sp>
          <p:nvSpPr>
            <p:cNvPr id="285" name=""/>
            <p:cNvSpPr/>
            <p:nvPr/>
          </p:nvSpPr>
          <p:spPr>
            <a:xfrm>
              <a:off x="830160" y="2313000"/>
              <a:ext cx="2695680" cy="580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c0c0c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Problématique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  </a:t>
              </a: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Industrielle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162240" y="2422440"/>
              <a:ext cx="35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1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792680" y="2297160"/>
            <a:ext cx="3782880" cy="428400"/>
            <a:chOff x="4792680" y="2297160"/>
            <a:chExt cx="3782880" cy="428400"/>
          </a:xfrm>
        </p:grpSpPr>
        <p:sp>
          <p:nvSpPr>
            <p:cNvPr id="268" name=""/>
            <p:cNvSpPr/>
            <p:nvPr/>
          </p:nvSpPr>
          <p:spPr>
            <a:xfrm>
              <a:off x="4792680" y="2313000"/>
              <a:ext cx="3774960" cy="41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292929"/>
                  </a:solidFill>
                  <a:latin typeface="Times New Roman"/>
                  <a:ea typeface="SimSun"/>
                </a:rPr>
                <a:t>Cahier des Charges Fonctionnel, …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18440" y="2297160"/>
              <a:ext cx="3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3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4791240" y="3800520"/>
            <a:ext cx="3784320" cy="425520"/>
            <a:chOff x="4791240" y="3800520"/>
            <a:chExt cx="3784320" cy="425520"/>
          </a:xfrm>
        </p:grpSpPr>
        <p:sp>
          <p:nvSpPr>
            <p:cNvPr id="290" name=""/>
            <p:cNvSpPr/>
            <p:nvPr/>
          </p:nvSpPr>
          <p:spPr>
            <a:xfrm>
              <a:off x="4791240" y="3811680"/>
              <a:ext cx="3774960" cy="4143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292929"/>
                  </a:solidFill>
                  <a:latin typeface="Times New Roman"/>
                  <a:ea typeface="SimSun"/>
                </a:rPr>
                <a:t>Simulation / Calcul / Expérimentation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291" name=""/>
            <p:cNvGrpSpPr/>
            <p:nvPr/>
          </p:nvGrpSpPr>
          <p:grpSpPr>
            <a:xfrm>
              <a:off x="8288280" y="3809880"/>
              <a:ext cx="281160" cy="410760"/>
              <a:chOff x="8288280" y="3809880"/>
              <a:chExt cx="281160" cy="410760"/>
            </a:xfrm>
          </p:grpSpPr>
          <p:sp>
            <p:nvSpPr>
              <p:cNvPr id="272" name=""/>
              <p:cNvSpPr/>
              <p:nvPr/>
            </p:nvSpPr>
            <p:spPr>
              <a:xfrm>
                <a:off x="8288280" y="3809880"/>
                <a:ext cx="28116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8288280" y="4012920"/>
                <a:ext cx="28116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292" name=""/>
            <p:cNvSpPr/>
            <p:nvPr/>
          </p:nvSpPr>
          <p:spPr>
            <a:xfrm>
              <a:off x="8218440" y="3800520"/>
              <a:ext cx="3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5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4788000" y="4556160"/>
            <a:ext cx="3774960" cy="434880"/>
            <a:chOff x="4788000" y="4556160"/>
            <a:chExt cx="3774960" cy="434880"/>
          </a:xfrm>
        </p:grpSpPr>
        <p:grpSp>
          <p:nvGrpSpPr>
            <p:cNvPr id="294" name=""/>
            <p:cNvGrpSpPr/>
            <p:nvPr/>
          </p:nvGrpSpPr>
          <p:grpSpPr>
            <a:xfrm>
              <a:off x="8263080" y="4556160"/>
              <a:ext cx="280800" cy="410760"/>
              <a:chOff x="8263080" y="4556160"/>
              <a:chExt cx="280800" cy="410760"/>
            </a:xfrm>
          </p:grpSpPr>
          <p:sp>
            <p:nvSpPr>
              <p:cNvPr id="275" name=""/>
              <p:cNvSpPr/>
              <p:nvPr/>
            </p:nvSpPr>
            <p:spPr>
              <a:xfrm>
                <a:off x="8263080" y="4556160"/>
                <a:ext cx="28080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8263080" y="4759200"/>
                <a:ext cx="28080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grpSp>
          <p:nvGrpSpPr>
            <p:cNvPr id="295" name=""/>
            <p:cNvGrpSpPr/>
            <p:nvPr/>
          </p:nvGrpSpPr>
          <p:grpSpPr>
            <a:xfrm>
              <a:off x="4788000" y="4575240"/>
              <a:ext cx="3774960" cy="415800"/>
              <a:chOff x="4788000" y="4575240"/>
              <a:chExt cx="3774960" cy="415800"/>
            </a:xfrm>
          </p:grpSpPr>
          <p:sp>
            <p:nvSpPr>
              <p:cNvPr id="296" name=""/>
              <p:cNvSpPr/>
              <p:nvPr/>
            </p:nvSpPr>
            <p:spPr>
              <a:xfrm>
                <a:off x="4788000" y="4577040"/>
                <a:ext cx="3774960" cy="414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292929"/>
                    </a:solidFill>
                    <a:latin typeface="Times New Roman"/>
                    <a:ea typeface="SimSun"/>
                  </a:rPr>
                  <a:t>Interprétation des écarts</a:t>
                </a:r>
                <a:endParaRPr b="0" lang="en-US" sz="16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246880" y="4575240"/>
                <a:ext cx="307800" cy="411480"/>
                <a:chOff x="8246880" y="4575240"/>
                <a:chExt cx="307800" cy="4114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8246880" y="4575240"/>
                  <a:ext cx="307800" cy="20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8246880" y="4778640"/>
                  <a:ext cx="307800" cy="20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292929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00" name=""/>
            <p:cNvSpPr/>
            <p:nvPr/>
          </p:nvSpPr>
          <p:spPr>
            <a:xfrm>
              <a:off x="8207280" y="4559400"/>
              <a:ext cx="355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6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791240" y="5283360"/>
            <a:ext cx="3774960" cy="441000"/>
            <a:chOff x="4791240" y="5283360"/>
            <a:chExt cx="3774960" cy="441000"/>
          </a:xfrm>
        </p:grpSpPr>
        <p:sp>
          <p:nvSpPr>
            <p:cNvPr id="278" name=""/>
            <p:cNvSpPr/>
            <p:nvPr/>
          </p:nvSpPr>
          <p:spPr>
            <a:xfrm>
              <a:off x="4791240" y="5311800"/>
              <a:ext cx="3774960" cy="41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292929"/>
                  </a:solidFill>
                  <a:latin typeface="Times New Roman"/>
                  <a:ea typeface="SimSun"/>
                </a:rPr>
                <a:t>Validation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8209080" y="5283360"/>
              <a:ext cx="35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7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825480" y="5283360"/>
            <a:ext cx="2698920" cy="441000"/>
            <a:chOff x="825480" y="5283360"/>
            <a:chExt cx="2698920" cy="441000"/>
          </a:xfrm>
        </p:grpSpPr>
        <p:sp>
          <p:nvSpPr>
            <p:cNvPr id="282" name=""/>
            <p:cNvSpPr/>
            <p:nvPr/>
          </p:nvSpPr>
          <p:spPr>
            <a:xfrm>
              <a:off x="828720" y="5310360"/>
              <a:ext cx="2695680" cy="414000"/>
            </a:xfrm>
            <a:prstGeom prst="rect">
              <a:avLst/>
            </a:prstGeom>
            <a:gradFill rotWithShape="0">
              <a:gsLst>
                <a:gs pos="0">
                  <a:srgbClr val="c0c0c0"/>
                </a:gs>
                <a:gs pos="100000">
                  <a:srgbClr val="808080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Support Industriel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149640" y="5283360"/>
              <a:ext cx="36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2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825480" y="5308560"/>
              <a:ext cx="4777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791240" y="3041640"/>
            <a:ext cx="3784320" cy="434520"/>
            <a:chOff x="4791240" y="3041640"/>
            <a:chExt cx="3784320" cy="434520"/>
          </a:xfrm>
        </p:grpSpPr>
        <p:sp>
          <p:nvSpPr>
            <p:cNvPr id="307" name=""/>
            <p:cNvSpPr/>
            <p:nvPr/>
          </p:nvSpPr>
          <p:spPr>
            <a:xfrm>
              <a:off x="4791240" y="3062160"/>
              <a:ext cx="3774960" cy="4129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292929"/>
                  </a:solidFill>
                  <a:latin typeface="Times New Roman"/>
                  <a:ea typeface="SimSun"/>
                </a:rPr>
                <a:t>Modélisation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8280360" y="3056040"/>
              <a:ext cx="281160" cy="412200"/>
              <a:chOff x="8280360" y="3056040"/>
              <a:chExt cx="281160" cy="412200"/>
            </a:xfrm>
          </p:grpSpPr>
          <p:sp>
            <p:nvSpPr>
              <p:cNvPr id="269" name=""/>
              <p:cNvSpPr/>
              <p:nvPr/>
            </p:nvSpPr>
            <p:spPr>
              <a:xfrm>
                <a:off x="8280360" y="3056040"/>
                <a:ext cx="28116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8280360" y="3259800"/>
                <a:ext cx="281160" cy="20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  <p:sp>
          <p:nvSpPr>
            <p:cNvPr id="309" name=""/>
            <p:cNvSpPr/>
            <p:nvPr/>
          </p:nvSpPr>
          <p:spPr>
            <a:xfrm>
              <a:off x="8218440" y="3041640"/>
              <a:ext cx="357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4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  <p:grpSp>
          <p:nvGrpSpPr>
            <p:cNvPr id="310" name=""/>
            <p:cNvGrpSpPr/>
            <p:nvPr/>
          </p:nvGrpSpPr>
          <p:grpSpPr>
            <a:xfrm>
              <a:off x="4791240" y="3065400"/>
              <a:ext cx="282240" cy="410760"/>
              <a:chOff x="4791240" y="3065400"/>
              <a:chExt cx="282240" cy="410760"/>
            </a:xfrm>
          </p:grpSpPr>
          <p:sp>
            <p:nvSpPr>
              <p:cNvPr id="283" name=""/>
              <p:cNvSpPr/>
              <p:nvPr/>
            </p:nvSpPr>
            <p:spPr>
              <a:xfrm>
                <a:off x="4791240" y="3065400"/>
                <a:ext cx="2822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91240" y="3268440"/>
                <a:ext cx="2822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292929"/>
                  </a:solidFill>
                  <a:latin typeface="Arial"/>
                </a:endParaRPr>
              </a:p>
            </p:txBody>
          </p:sp>
        </p:grpSp>
      </p:grpSp>
      <p:cxnSp>
        <p:nvCxnSpPr>
          <p:cNvPr id="312" name=""/>
          <p:cNvCxnSpPr>
            <a:stCxn id="296" idx="1"/>
            <a:endCxn id="311" idx="1"/>
          </p:cNvCxnSpPr>
          <p:nvPr/>
        </p:nvCxnSpPr>
        <p:spPr>
          <a:xfrm flipH="1" rot="10800000">
            <a:off x="4786920" y="3372840"/>
            <a:ext cx="3960" cy="1411920"/>
          </a:xfrm>
          <a:prstGeom prst="bentConnector3">
            <a:avLst>
              <a:gd name="adj1" fmla="val -7200000"/>
            </a:avLst>
          </a:prstGeom>
          <a:ln w="31680">
            <a:solidFill>
              <a:srgbClr val="333333"/>
            </a:solidFill>
            <a:miter/>
            <a:tailEnd len="med" type="triangle" w="med"/>
          </a:ln>
        </p:spPr>
      </p:cxnSp>
      <p:sp>
        <p:nvSpPr>
          <p:cNvPr id="313" name=""/>
          <p:cNvSpPr/>
          <p:nvPr/>
        </p:nvSpPr>
        <p:spPr>
          <a:xfrm>
            <a:off x="1400040" y="1930320"/>
            <a:ext cx="15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292929"/>
                </a:solidFill>
                <a:latin typeface="Times New Roman"/>
                <a:ea typeface="SimSun"/>
              </a:rPr>
              <a:t>Authentiqu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63680" y="5757840"/>
            <a:ext cx="166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292929"/>
                </a:solidFill>
                <a:latin typeface="Times New Roman"/>
                <a:ea typeface="SimSun"/>
              </a:rPr>
              <a:t>Contemporain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1028880" y="2955960"/>
            <a:ext cx="520560" cy="2301840"/>
            <a:chOff x="1028880" y="2955960"/>
            <a:chExt cx="520560" cy="2301840"/>
          </a:xfrm>
        </p:grpSpPr>
        <p:sp>
          <p:nvSpPr>
            <p:cNvPr id="316" name=""/>
            <p:cNvSpPr/>
            <p:nvPr/>
          </p:nvSpPr>
          <p:spPr>
            <a:xfrm>
              <a:off x="1104840" y="2955960"/>
              <a:ext cx="366840" cy="230184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880" y="4737240"/>
              <a:ext cx="520560" cy="520560"/>
            </a:xfrm>
            <a:prstGeom prst="smileyFace">
              <a:avLst>
                <a:gd name="adj" fmla="val -4652"/>
              </a:avLst>
            </a:prstGeom>
            <a:solidFill>
              <a:srgbClr val="80808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1359000" y="2945880"/>
            <a:ext cx="520560" cy="2302200"/>
            <a:chOff x="1359000" y="2945880"/>
            <a:chExt cx="520560" cy="2302200"/>
          </a:xfrm>
        </p:grpSpPr>
        <p:sp>
          <p:nvSpPr>
            <p:cNvPr id="319" name=""/>
            <p:cNvSpPr/>
            <p:nvPr/>
          </p:nvSpPr>
          <p:spPr>
            <a:xfrm flipV="1">
              <a:off x="1434960" y="2945520"/>
              <a:ext cx="366840" cy="2302200"/>
            </a:xfrm>
            <a:prstGeom prst="triangle">
              <a:avLst>
                <a:gd name="adj" fmla="val 5000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59000" y="2946240"/>
              <a:ext cx="520560" cy="520920"/>
            </a:xfrm>
            <a:prstGeom prst="smileyFace">
              <a:avLst>
                <a:gd name="adj" fmla="val 9282"/>
              </a:avLst>
            </a:prstGeom>
            <a:solidFill>
              <a:srgbClr val="babbff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830160" y="5295960"/>
            <a:ext cx="2681280" cy="428400"/>
            <a:chOff x="830160" y="5295960"/>
            <a:chExt cx="2681280" cy="428400"/>
          </a:xfrm>
        </p:grpSpPr>
        <p:sp>
          <p:nvSpPr>
            <p:cNvPr id="322" name=""/>
            <p:cNvSpPr/>
            <p:nvPr/>
          </p:nvSpPr>
          <p:spPr>
            <a:xfrm>
              <a:off x="830160" y="5311800"/>
              <a:ext cx="2675520" cy="412560"/>
            </a:xfrm>
            <a:prstGeom prst="rect">
              <a:avLst/>
            </a:prstGeom>
            <a:solidFill>
              <a:srgbClr val="0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ffff"/>
                  </a:solidFill>
                  <a:latin typeface="Times New Roman"/>
                  <a:ea typeface="SimSun"/>
                </a:rPr>
                <a:t>Support Industriel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258360" y="5295960"/>
              <a:ext cx="25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Times New Roman"/>
                  <a:ea typeface="SimSun"/>
                </a:rPr>
                <a:t>2</a:t>
              </a:r>
              <a:endParaRPr b="0" lang="en-US" sz="20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Proposition pédagogiqu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5BAE-E3F0-478D-9513-E1D1BD01114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1496880" y="366480"/>
            <a:ext cx="76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imulation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52" name="" descr=""/>
          <p:cNvPicPr/>
          <p:nvPr/>
        </p:nvPicPr>
        <p:blipFill>
          <a:blip r:embed="rId1"/>
          <a:srcRect l="0" t="0" r="17649" b="0"/>
          <a:stretch/>
        </p:blipFill>
        <p:spPr>
          <a:xfrm>
            <a:off x="1047600" y="1525680"/>
            <a:ext cx="6867720" cy="5167080"/>
          </a:xfrm>
          <a:prstGeom prst="rect">
            <a:avLst/>
          </a:prstGeom>
          <a:ln w="0">
            <a:noFill/>
          </a:ln>
        </p:spPr>
      </p:pic>
      <p:sp>
        <p:nvSpPr>
          <p:cNvPr id="1153" name=""/>
          <p:cNvSpPr/>
          <p:nvPr/>
        </p:nvSpPr>
        <p:spPr>
          <a:xfrm>
            <a:off x="6192720" y="1635120"/>
            <a:ext cx="2951280" cy="11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I - Vérifier les performances attendues. Valider les choix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3102120" y="907920"/>
            <a:ext cx="604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Asservissement en position de l’axe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07C7-E609-47DD-BDC1-C17CA917D319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"/>
          <p:cNvSpPr/>
          <p:nvPr/>
        </p:nvSpPr>
        <p:spPr>
          <a:xfrm>
            <a:off x="1496880" y="366480"/>
            <a:ext cx="76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Simulation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1"/>
          <a:srcRect l="1855" t="3302" r="17925" b="3025"/>
          <a:stretch/>
        </p:blipFill>
        <p:spPr>
          <a:xfrm>
            <a:off x="1200240" y="1411200"/>
            <a:ext cx="7273800" cy="5264280"/>
          </a:xfrm>
          <a:prstGeom prst="rect">
            <a:avLst/>
          </a:prstGeom>
          <a:ln w="0">
            <a:noFill/>
          </a:ln>
        </p:spPr>
      </p:pic>
      <p:sp>
        <p:nvSpPr>
          <p:cNvPr id="1157" name=""/>
          <p:cNvSpPr/>
          <p:nvPr/>
        </p:nvSpPr>
        <p:spPr>
          <a:xfrm>
            <a:off x="3102120" y="907920"/>
            <a:ext cx="60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Zone d ’utilisation du moteur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A135-D48B-4BCF-8936-91E2AADDDC78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/>
          <p:nvPr/>
        </p:nvSpPr>
        <p:spPr>
          <a:xfrm>
            <a:off x="1496880" y="366480"/>
            <a:ext cx="76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tour au réel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3102120" y="907920"/>
            <a:ext cx="604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Mesures sur le robot ERICC3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1432800" y="1636920"/>
            <a:ext cx="43243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;--------------------------------------------------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;Programme..…10. :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;Auteur .....…JMR :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;Fonction ..…Vérification performances lacet 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;Dernière mise a jour : 15-12-2006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;--------------------------------------------------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CLOS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DELETE GATHE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OPEN PROG 10 CLEAR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;Paramétrage de l'accélération --------------------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TS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TA355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;Paramétrage de la vitesse ------------------------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F9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x0y0z-90u0a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x90y0z-90u0a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x0y0z-90u0a0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292929"/>
                </a:solidFill>
                <a:latin typeface="Arial"/>
              </a:rPr>
              <a:t>CLOSE</a:t>
            </a:r>
            <a:endParaRPr b="0" lang="en-US" sz="16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5322960" y="3003480"/>
            <a:ext cx="2916000" cy="825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3362" y="37212"/>
                </a:moveTo>
                <a:lnTo>
                  <a:pt x="-564" y="2934"/>
                </a:lnTo>
              </a:path>
              <a:path w="21600" h="21600">
                <a:moveTo>
                  <a:pt x="-564" y="0"/>
                </a:moveTo>
                <a:lnTo>
                  <a:pt x="-564" y="21600"/>
                </a:lnTo>
              </a:path>
            </a:pathLst>
          </a:custGeom>
          <a:noFill/>
          <a:ln w="19080">
            <a:solidFill>
              <a:srgbClr val="00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Times New Roman"/>
              </a:rPr>
              <a:t>Temps d ’accélération en m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4807080" y="5005440"/>
            <a:ext cx="3571920" cy="1241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1165" y="5798"/>
                </a:moveTo>
                <a:lnTo>
                  <a:pt x="-461" y="1571"/>
                </a:lnTo>
              </a:path>
              <a:path w="21600" h="21600">
                <a:moveTo>
                  <a:pt x="-461" y="0"/>
                </a:moveTo>
                <a:lnTo>
                  <a:pt x="-461" y="21600"/>
                </a:lnTo>
              </a:path>
            </a:pathLst>
          </a:custGeom>
          <a:noFill/>
          <a:ln w="19080">
            <a:solidFill>
              <a:srgbClr val="00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Times New Roman"/>
              </a:rPr>
              <a:t>Commande position en coordonnées articulaires (</a:t>
            </a:r>
            <a:r>
              <a:rPr b="0" lang="fr-FR" sz="2400" spc="-1" strike="noStrike">
                <a:solidFill>
                  <a:srgbClr val="0066ff"/>
                </a:solidFill>
                <a:latin typeface="Symbol"/>
                <a:ea typeface="Symbol"/>
              </a:rPr>
              <a:t></a:t>
            </a:r>
            <a:r>
              <a:rPr b="0" lang="fr-FR" sz="2400" spc="-1" strike="noStrike" baseline="-25000">
                <a:solidFill>
                  <a:srgbClr val="0066ff"/>
                </a:solidFill>
                <a:latin typeface="Times New Roman"/>
              </a:rPr>
              <a:t>1</a:t>
            </a:r>
            <a:r>
              <a:rPr b="0" lang="fr-FR" sz="2400" spc="-1" strike="noStrike">
                <a:solidFill>
                  <a:srgbClr val="0066ff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66ff"/>
                </a:solidFill>
                <a:latin typeface="Symbol"/>
                <a:ea typeface="Symbol"/>
              </a:rPr>
              <a:t></a:t>
            </a:r>
            <a:r>
              <a:rPr b="0" lang="fr-FR" sz="2400" spc="-1" strike="noStrike" baseline="-25000">
                <a:solidFill>
                  <a:srgbClr val="0066ff"/>
                </a:solidFill>
                <a:latin typeface="Times New Roman"/>
              </a:rPr>
              <a:t>2</a:t>
            </a:r>
            <a:r>
              <a:rPr b="0" lang="fr-FR" sz="2400" spc="-1" strike="noStrike">
                <a:solidFill>
                  <a:srgbClr val="0066ff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66ff"/>
                </a:solidFill>
                <a:latin typeface="Symbol"/>
                <a:ea typeface="Symbol"/>
              </a:rPr>
              <a:t></a:t>
            </a:r>
            <a:r>
              <a:rPr b="0" lang="fr-FR" sz="2400" spc="-1" strike="noStrike" baseline="-25000">
                <a:solidFill>
                  <a:srgbClr val="0066ff"/>
                </a:solidFill>
                <a:latin typeface="Times New Roman"/>
              </a:rPr>
              <a:t>3</a:t>
            </a:r>
            <a:r>
              <a:rPr b="0" lang="fr-FR" sz="2400" spc="-1" strike="noStrike">
                <a:solidFill>
                  <a:srgbClr val="0066ff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66ff"/>
                </a:solidFill>
                <a:latin typeface="Symbol"/>
                <a:ea typeface="Symbol"/>
              </a:rPr>
              <a:t></a:t>
            </a:r>
            <a:r>
              <a:rPr b="0" lang="fr-FR" sz="2400" spc="-1" strike="noStrike" baseline="-25000">
                <a:solidFill>
                  <a:srgbClr val="0066ff"/>
                </a:solidFill>
                <a:latin typeface="Times New Roman"/>
              </a:rPr>
              <a:t>4</a:t>
            </a:r>
            <a:r>
              <a:rPr b="0" lang="fr-FR" sz="2400" spc="-1" strike="noStrike">
                <a:solidFill>
                  <a:srgbClr val="0066ff"/>
                </a:solidFill>
                <a:latin typeface="Times New Roman"/>
              </a:rPr>
              <a:t>, </a:t>
            </a:r>
            <a:r>
              <a:rPr b="0" lang="fr-FR" sz="2400" spc="-1" strike="noStrike">
                <a:solidFill>
                  <a:srgbClr val="0066ff"/>
                </a:solidFill>
                <a:latin typeface="Symbol"/>
                <a:ea typeface="Symbol"/>
              </a:rPr>
              <a:t></a:t>
            </a:r>
            <a:r>
              <a:rPr b="0" lang="fr-FR" sz="2400" spc="-1" strike="noStrike" baseline="-25000">
                <a:solidFill>
                  <a:srgbClr val="0066ff"/>
                </a:solidFill>
                <a:latin typeface="Times New Roman"/>
              </a:rPr>
              <a:t>5</a:t>
            </a:r>
            <a:r>
              <a:rPr b="0" lang="fr-FR" sz="2400" spc="-1" strike="noStrike">
                <a:solidFill>
                  <a:srgbClr val="0066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5692320" y="4245120"/>
            <a:ext cx="312804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25490" y="33482"/>
                </a:moveTo>
                <a:lnTo>
                  <a:pt x="-524" y="5184"/>
                </a:lnTo>
              </a:path>
              <a:path w="21600" h="21600">
                <a:moveTo>
                  <a:pt x="-524" y="0"/>
                </a:moveTo>
                <a:lnTo>
                  <a:pt x="-524" y="21600"/>
                </a:lnTo>
              </a:path>
            </a:pathLst>
          </a:custGeom>
          <a:noFill/>
          <a:ln w="19080">
            <a:solidFill>
              <a:srgbClr val="0066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66ff"/>
                </a:solidFill>
                <a:latin typeface="Times New Roman"/>
              </a:rPr>
              <a:t>Vitesse maximale en °/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6018120" y="1395000"/>
            <a:ext cx="293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Times New Roman"/>
              </a:rPr>
              <a:t>Bras tendu et perpendiculaire à l ’axe du lacet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2AFCE-49BE-444B-A0AC-F2BE76118A9C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"/>
          <p:cNvSpPr/>
          <p:nvPr/>
        </p:nvSpPr>
        <p:spPr>
          <a:xfrm>
            <a:off x="1496880" y="366480"/>
            <a:ext cx="76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tour au réel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3102120" y="907920"/>
            <a:ext cx="604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Mesures sur le robot ERICC3 : 90°/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67" name="" descr=""/>
          <p:cNvPicPr/>
          <p:nvPr/>
        </p:nvPicPr>
        <p:blipFill>
          <a:blip r:embed="rId1"/>
          <a:srcRect l="1391" t="5849" r="24523" b="2553"/>
          <a:stretch/>
        </p:blipFill>
        <p:spPr>
          <a:xfrm>
            <a:off x="654120" y="1362240"/>
            <a:ext cx="6843600" cy="5243400"/>
          </a:xfrm>
          <a:prstGeom prst="rect">
            <a:avLst/>
          </a:prstGeom>
          <a:ln w="0">
            <a:noFill/>
          </a:ln>
        </p:spPr>
      </p:pic>
      <p:sp>
        <p:nvSpPr>
          <p:cNvPr id="1168" name=""/>
          <p:cNvSpPr/>
          <p:nvPr/>
        </p:nvSpPr>
        <p:spPr>
          <a:xfrm>
            <a:off x="6292800" y="2452320"/>
            <a:ext cx="285120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La consigne de position n’est pas respecté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97FF-3A37-4471-BA21-09379C41B62C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"/>
          <p:cNvSpPr/>
          <p:nvPr/>
        </p:nvSpPr>
        <p:spPr>
          <a:xfrm>
            <a:off x="1496880" y="366480"/>
            <a:ext cx="76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tour au réel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3102120" y="907920"/>
            <a:ext cx="604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Mesures sur le robot ERICC3 : 90°/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71" name="" descr=""/>
          <p:cNvPicPr/>
          <p:nvPr/>
        </p:nvPicPr>
        <p:blipFill>
          <a:blip r:embed="rId1"/>
          <a:stretch/>
        </p:blipFill>
        <p:spPr>
          <a:xfrm>
            <a:off x="488880" y="1328760"/>
            <a:ext cx="8655120" cy="5364000"/>
          </a:xfrm>
          <a:prstGeom prst="rect">
            <a:avLst/>
          </a:prstGeom>
          <a:ln w="0">
            <a:noFill/>
          </a:ln>
        </p:spPr>
      </p:pic>
      <p:sp>
        <p:nvSpPr>
          <p:cNvPr id="1172" name=""/>
          <p:cNvSpPr/>
          <p:nvPr/>
        </p:nvSpPr>
        <p:spPr>
          <a:xfrm>
            <a:off x="6141960" y="1531440"/>
            <a:ext cx="285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Le courant sature à 1,7A et le robot n ’arrive pas à suivre la vitesse souhaité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AFE3-E815-47CD-972F-0438C8403BAB}" type="slidenum">
              <a:t>8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"/>
          <p:cNvSpPr/>
          <p:nvPr/>
        </p:nvSpPr>
        <p:spPr>
          <a:xfrm>
            <a:off x="1496880" y="366480"/>
            <a:ext cx="76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tour au réel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3102120" y="907920"/>
            <a:ext cx="604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Mesures sur le robot ERICC3 : 90°/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75" name="" descr=""/>
          <p:cNvPicPr/>
          <p:nvPr/>
        </p:nvPicPr>
        <p:blipFill>
          <a:blip r:embed="rId1"/>
          <a:srcRect l="1941" t="3912" r="22582" b="3164"/>
          <a:stretch/>
        </p:blipFill>
        <p:spPr>
          <a:xfrm>
            <a:off x="782640" y="1384200"/>
            <a:ext cx="6972120" cy="5319720"/>
          </a:xfrm>
          <a:prstGeom prst="rect">
            <a:avLst/>
          </a:prstGeom>
          <a:ln w="0">
            <a:noFill/>
          </a:ln>
        </p:spPr>
      </p:pic>
      <p:sp>
        <p:nvSpPr>
          <p:cNvPr id="1176" name=""/>
          <p:cNvSpPr/>
          <p:nvPr/>
        </p:nvSpPr>
        <p:spPr>
          <a:xfrm>
            <a:off x="6081840" y="3592080"/>
            <a:ext cx="3062160" cy="1557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c0000"/>
                </a:solidFill>
                <a:latin typeface="Times New Roman"/>
              </a:rPr>
              <a:t>Le moteur est utilisé seulement dans la zone de fonctionnement permanent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4061-B1A8-4E96-AB4A-B3DCDC611DF5}" type="slidenum">
              <a:t>8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"/>
          <p:cNvSpPr/>
          <p:nvPr/>
        </p:nvSpPr>
        <p:spPr>
          <a:xfrm>
            <a:off x="1496880" y="366480"/>
            <a:ext cx="76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tour au réel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3102120" y="907920"/>
            <a:ext cx="604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Mesures sur le robot ERICC3 : 40°/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79" name="" descr=""/>
          <p:cNvPicPr/>
          <p:nvPr/>
        </p:nvPicPr>
        <p:blipFill>
          <a:blip r:embed="rId1"/>
          <a:stretch/>
        </p:blipFill>
        <p:spPr>
          <a:xfrm>
            <a:off x="909720" y="1689120"/>
            <a:ext cx="7715160" cy="4781520"/>
          </a:xfrm>
          <a:prstGeom prst="rect">
            <a:avLst/>
          </a:prstGeom>
          <a:ln w="0">
            <a:noFill/>
          </a:ln>
        </p:spPr>
      </p:pic>
      <p:sp>
        <p:nvSpPr>
          <p:cNvPr id="1180" name=""/>
          <p:cNvSpPr/>
          <p:nvPr/>
        </p:nvSpPr>
        <p:spPr>
          <a:xfrm>
            <a:off x="5402160" y="2389320"/>
            <a:ext cx="2452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imes New Roman"/>
              </a:rPr>
              <a:t>La consigne est respectée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181" name=""/>
          <p:cNvGrpSpPr/>
          <p:nvPr/>
        </p:nvGrpSpPr>
        <p:grpSpPr>
          <a:xfrm>
            <a:off x="1636560" y="3021120"/>
            <a:ext cx="2505240" cy="2968920"/>
            <a:chOff x="1636560" y="3021120"/>
            <a:chExt cx="2505240" cy="2968920"/>
          </a:xfrm>
        </p:grpSpPr>
        <p:sp>
          <p:nvSpPr>
            <p:cNvPr id="1182" name=""/>
            <p:cNvSpPr/>
            <p:nvPr/>
          </p:nvSpPr>
          <p:spPr>
            <a:xfrm flipH="1">
              <a:off x="2711520" y="3021120"/>
              <a:ext cx="542880" cy="177624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1636560" y="4433040"/>
              <a:ext cx="2505240" cy="1557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8000"/>
                  </a:solidFill>
                  <a:latin typeface="Times New Roman"/>
                </a:rPr>
                <a:t>Les liaisons ne sont pas parfaites : courant dû aux frottements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88FEE-D203-4960-9D31-41F721D85D73}" type="slidenum">
              <a:t>8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4" name="" descr=""/>
          <p:cNvPicPr/>
          <p:nvPr/>
        </p:nvPicPr>
        <p:blipFill>
          <a:blip r:embed="rId1"/>
          <a:stretch/>
        </p:blipFill>
        <p:spPr>
          <a:xfrm>
            <a:off x="758880" y="1741320"/>
            <a:ext cx="8020080" cy="4970520"/>
          </a:xfrm>
          <a:prstGeom prst="rect">
            <a:avLst/>
          </a:prstGeom>
          <a:ln w="0">
            <a:noFill/>
          </a:ln>
        </p:spPr>
      </p:pic>
      <p:sp>
        <p:nvSpPr>
          <p:cNvPr id="1185" name=""/>
          <p:cNvSpPr/>
          <p:nvPr/>
        </p:nvSpPr>
        <p:spPr>
          <a:xfrm>
            <a:off x="1496880" y="366480"/>
            <a:ext cx="764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Retour au réel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3102120" y="907920"/>
            <a:ext cx="6041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Mesures sur le robot ERICC3 : 40°/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3456000" y="3021120"/>
            <a:ext cx="2505240" cy="2282400"/>
            <a:chOff x="3456000" y="3021120"/>
            <a:chExt cx="2505240" cy="2282400"/>
          </a:xfrm>
        </p:grpSpPr>
        <p:sp>
          <p:nvSpPr>
            <p:cNvPr id="1188" name=""/>
            <p:cNvSpPr/>
            <p:nvPr/>
          </p:nvSpPr>
          <p:spPr>
            <a:xfrm flipH="1">
              <a:off x="4530600" y="3021120"/>
              <a:ext cx="192240" cy="7459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456000" y="3402720"/>
              <a:ext cx="2505240" cy="1557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8000"/>
                  </a:solidFill>
                  <a:latin typeface="Times New Roman"/>
                </a:rPr>
                <a:t>Les liaisons ne sont pas parfaites : courant dû aux frottements</a:t>
              </a:r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 flipH="1" flipV="1">
              <a:off x="4736880" y="4968360"/>
              <a:ext cx="20520" cy="33516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  <p:sp>
        <p:nvSpPr>
          <p:cNvPr id="1191" name=""/>
          <p:cNvSpPr/>
          <p:nvPr/>
        </p:nvSpPr>
        <p:spPr>
          <a:xfrm>
            <a:off x="6192720" y="1895400"/>
            <a:ext cx="2951280" cy="825480"/>
          </a:xfrm>
          <a:prstGeom prst="rect">
            <a:avLst/>
          </a:prstGeom>
          <a:solidFill>
            <a:srgbClr val="99ccff"/>
          </a:solidFill>
          <a:ln w="9360">
            <a:solidFill>
              <a:srgbClr val="2929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J - Identifier les écarts et recaler les modèles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B396-7442-4273-92B7-069D2DAF320F}" type="slidenum">
              <a:t>8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176328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Tahoma"/>
              </a:rPr>
              <a:t>Éléments de 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782280" y="2333520"/>
            <a:ext cx="8232840" cy="297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L’</a:t>
            </a:r>
            <a:r>
              <a:rPr b="1" lang="fr-FR" sz="2800" spc="-1" strike="noStrike">
                <a:solidFill>
                  <a:srgbClr val="292929"/>
                </a:solidFill>
                <a:latin typeface="Tahoma"/>
              </a:rPr>
              <a:t>automatique</a:t>
            </a: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 et la </a:t>
            </a:r>
            <a:r>
              <a:rPr b="1" lang="fr-FR" sz="2800" spc="-1" strike="noStrike">
                <a:solidFill>
                  <a:srgbClr val="292929"/>
                </a:solidFill>
                <a:latin typeface="Tahoma"/>
              </a:rPr>
              <a:t>mécanique</a:t>
            </a: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 au </a:t>
            </a:r>
            <a:r>
              <a:rPr b="1" lang="fr-FR" sz="2800" spc="-1" strike="noStrike">
                <a:solidFill>
                  <a:srgbClr val="292929"/>
                </a:solidFill>
                <a:latin typeface="Tahoma"/>
              </a:rPr>
              <a:t>service</a:t>
            </a: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 de la </a:t>
            </a:r>
            <a:r>
              <a:rPr b="1" lang="fr-FR" sz="2800" spc="-1" strike="noStrike">
                <a:solidFill>
                  <a:srgbClr val="292929"/>
                </a:solidFill>
                <a:latin typeface="Tahoma"/>
              </a:rPr>
              <a:t>conception des systèmes industriels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La </a:t>
            </a:r>
            <a:r>
              <a:rPr b="1" lang="fr-FR" sz="2800" spc="-1" strike="noStrike">
                <a:solidFill>
                  <a:srgbClr val="292929"/>
                </a:solidFill>
                <a:latin typeface="Tahoma"/>
              </a:rPr>
              <a:t>modélisation</a:t>
            </a: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 fonction du </a:t>
            </a:r>
            <a:r>
              <a:rPr b="1" lang="fr-FR" sz="2800" spc="-1" strike="noStrike">
                <a:solidFill>
                  <a:srgbClr val="292929"/>
                </a:solidFill>
                <a:latin typeface="Tahoma"/>
              </a:rPr>
              <a:t>point de vue</a:t>
            </a: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 et du </a:t>
            </a:r>
            <a:r>
              <a:rPr b="1" lang="fr-FR" sz="2800" spc="-1" strike="noStrike">
                <a:solidFill>
                  <a:srgbClr val="292929"/>
                </a:solidFill>
                <a:latin typeface="Tahoma"/>
              </a:rPr>
              <a:t>problème posé</a:t>
            </a: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La </a:t>
            </a:r>
            <a:r>
              <a:rPr b="1" lang="fr-FR" sz="2800" spc="-1" strike="noStrike">
                <a:solidFill>
                  <a:srgbClr val="292929"/>
                </a:solidFill>
                <a:latin typeface="Tahoma"/>
              </a:rPr>
              <a:t>simulation</a:t>
            </a: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 numérique encadrée par une </a:t>
            </a:r>
            <a:r>
              <a:rPr b="1" lang="fr-FR" sz="2800" spc="-1" strike="noStrike">
                <a:solidFill>
                  <a:srgbClr val="292929"/>
                </a:solidFill>
                <a:latin typeface="Tahoma"/>
              </a:rPr>
              <a:t>analyse préalable</a:t>
            </a: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  du problème et une </a:t>
            </a:r>
            <a:r>
              <a:rPr b="1" lang="fr-FR" sz="2800" spc="-1" strike="noStrike">
                <a:solidFill>
                  <a:srgbClr val="292929"/>
                </a:solidFill>
                <a:latin typeface="Tahoma"/>
              </a:rPr>
              <a:t>validation terminale</a:t>
            </a: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 des résultats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2840040" y="907920"/>
            <a:ext cx="630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Un support industriel riche et contemporain pour enseigner …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0A01-FE24-4AFB-8269-244AB39FF557}" type="slidenum">
              <a:t>8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"/>
          <p:cNvSpPr/>
          <p:nvPr/>
        </p:nvSpPr>
        <p:spPr>
          <a:xfrm>
            <a:off x="717480" y="4865760"/>
            <a:ext cx="821844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292929"/>
                </a:solidFill>
                <a:latin typeface="Tahoma"/>
              </a:rPr>
              <a:t>« Les excès novateurs de la veille étonnent toujours par leur timidité. »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292929"/>
                </a:solidFill>
                <a:latin typeface="Tahoma"/>
              </a:rPr>
              <a:t>Paul Valéry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1763640" y="331560"/>
            <a:ext cx="73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292929"/>
                </a:solidFill>
                <a:latin typeface="Tahoma"/>
              </a:rPr>
              <a:t>Bibliographi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81160" y="3146400"/>
            <a:ext cx="88628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Tahoma"/>
              </a:rPr>
              <a:t>Séminaire du nouveau référentiel BTS CPI - Albi décembre 2004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Tahoma"/>
              </a:rPr>
              <a:t>Séminaire des corps d’inspection - Clermont Ferrand avril 2003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Tahoma"/>
              </a:rPr>
              <a:t>Stage Liesse - Angers mai 2003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292929"/>
                </a:solidFill>
                <a:latin typeface="Tahoma"/>
              </a:rPr>
              <a:t>Stage Liesse - Clermont Ferrand mai 2001 </a:t>
            </a:r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2352600" y="1000080"/>
            <a:ext cx="66708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Avec la collaboration précieuse et complice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Arial"/>
              </a:rPr>
              <a:t>de Jacques DURAND.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12CA-F713-406D-B5BE-F8B1E3A63657}" type="slidenum">
              <a:t>8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949320" y="2108160"/>
            <a:ext cx="7661160" cy="31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7840" indent="-447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L'actualité du support industriel conditionne la réalité du problème technique proposé 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bonne connaissance du système, des évolutions et modifications techniques qui ont déterminé les choix constructifs au sein du support ;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ahoma"/>
                <a:ea typeface="Tahoma"/>
              </a:rPr>
              <a:t>CdCF élément essentiel de la dimension industrielle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447840" indent="-447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763640" y="364680"/>
            <a:ext cx="727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ahoma"/>
              </a:rPr>
              <a:t>Proposition pédagogique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284720" y="907920"/>
            <a:ext cx="485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292929"/>
                </a:solidFill>
                <a:latin typeface="Tahoma"/>
              </a:rPr>
              <a:t>Le support industriel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EC22-76FB-4F92-B62B-C331227E2DC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08:55:42Z</dcterms:created>
  <dc:creator>Jean-Marie REYNAUD - Luc LAUNAY</dc:creator>
  <dc:description/>
  <dc:language>en-US</dc:language>
  <cp:lastModifiedBy>CPGE</cp:lastModifiedBy>
  <dcterms:modified xsi:type="dcterms:W3CDTF">2006-12-15T10:47:54Z</dcterms:modified>
  <cp:revision>157</cp:revision>
  <dc:subject/>
  <dc:title>Démarche de concep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