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2FA-28B6-4FCF-95CE-7CF14FBD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A54-25E3-44C9-A881-D877FE57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AE0-5614-4253-A5C6-8F1151F1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5F8-571E-4D2B-8286-3521A717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DC4-4004-4DAC-A974-3437747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0A8-B35D-4704-AC22-B7F3794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15D-6105-4E63-A9B5-D26E1B7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899-D13E-45B4-B0C7-8A37578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464-BDD2-41F8-A841-5D299E5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271-CCFE-4657-B88E-E1D6C473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941-6EB1-473D-AB6A-C06B144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085-BBD5-4E29-B842-E653CDD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8AF-69F6-4BFF-93D6-CE001EC56D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3120" y="1125360"/>
            <a:ext cx="594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ECO-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E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NALYSE CAR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40360" y="404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01840" y="2730600"/>
            <a:ext cx="4819680" cy="247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40720" y="558972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5508720" y="2421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66960" y="595440"/>
            <a:ext cx="72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647280" y="3031920"/>
            <a:ext cx="33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ECO-CON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DEVELOPPEMENT D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ANALYSE CAR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4583160" cy="374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0" t="0" r="72086" b="81880"/>
          <a:stretch/>
        </p:blipFill>
        <p:spPr>
          <a:xfrm>
            <a:off x="1368360" y="1197000"/>
            <a:ext cx="140328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227640" y="1557360"/>
            <a:ext cx="2627280" cy="167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27640" y="3068640"/>
            <a:ext cx="2625840" cy="27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Verdana"/>
              </a:rPr>
              <a:t>Graphe de répartition de l’Analyse Carbone suivant les étapes du cycle de vie du Rotor STA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rcRect l="3507" t="0" r="61616" b="63352"/>
          <a:stretch/>
        </p:blipFill>
        <p:spPr>
          <a:xfrm>
            <a:off x="1403280" y="4724280"/>
            <a:ext cx="149868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0" t="38124" r="88302" b="0"/>
          <a:stretch/>
        </p:blipFill>
        <p:spPr>
          <a:xfrm>
            <a:off x="1835280" y="5445000"/>
            <a:ext cx="62856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rcRect l="1268" t="4159" r="0" b="3000"/>
          <a:stretch/>
        </p:blipFill>
        <p:spPr>
          <a:xfrm>
            <a:off x="2843280" y="5373720"/>
            <a:ext cx="46814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659640" y="3573360"/>
            <a:ext cx="1944360" cy="1512720"/>
            <a:chOff x="6659640" y="3573360"/>
            <a:chExt cx="1944360" cy="1512720"/>
          </a:xfrm>
        </p:grpSpPr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6659640" y="3573360"/>
              <a:ext cx="19443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208720" y="4714560"/>
              <a:ext cx="371160" cy="351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539720"/>
            <a:ext cx="820260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1. Insertion de la notion d’éco-conception à différents moments de la formation STI Génie Électro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’analyse fonctionnelle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, 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complète (encastrement)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glissière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pivot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Choix des composants électroniques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, physique appliquée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Choix du process de réalisation des cartes électroniques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4560" y="4562640"/>
            <a:ext cx="82026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. Fiches explicatives sur les démarches d’éco-conce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Fiche 1 : Développement Durable – Eco-co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(fichier PDF ou pages 2 à 5 du Manuel Utilisateur Tableur Analyse Carb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Fiche 2 : L’exemple de la méthode Bilan Carbone : Analyse Car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(fichier PDF ou pages 6 à 8 du Manuel Utilisateur Tableur Analyse Carb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852560"/>
            <a:ext cx="820260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. Visionnage de petites vidéos en lien avec le développement durable et/ou l’éco-conce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Exemple de la vidéo sur Internet sur les G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9900"/>
                </a:solidFill>
                <a:uFillTx/>
                <a:latin typeface="Verdana"/>
              </a:rPr>
              <a:t>Résumé :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 Vous pouvez encore sauver la planète des gaz à effet de serr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C'est ce que vous montre ce film qui a reçu le coup de cœur du jury lors du Festival Européen de la communication responsable. Film réalisé sur demande du Conseil général des Hauts-de-Seine (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Émissions (DVD) « C’est pas Sorcier » sur L’Effet de Serre 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(coup de chaud sur la planète)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; sur les Nouvelles Énergies 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(La planète carbure au vert)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Autr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00280"/>
            <a:ext cx="8202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produits ou systèmes de nos lab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1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Utilisation d’un tableur Excel approprié pour faire l’</a:t>
            </a:r>
            <a:r>
              <a:rPr b="1" lang="fr-FR" sz="1700" spc="-1" strike="noStrike">
                <a:solidFill>
                  <a:srgbClr val="009900"/>
                </a:solidFill>
                <a:latin typeface="Verdana"/>
              </a:rPr>
              <a:t>Analyse Carbone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d’un produit sur l’ensemble de son Cycle de Vie ou sur une étape précise de son cycle de v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: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TP sur une étude comparative possible entre deux systèmes ayant la mêm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2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Documents disponibl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Tableur Excel Analyse Carbone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Manuel Utilisateur Tableur Analyse Carbone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Données sur les 2 systèmes à étudier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s Excel et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Sujet du TP de sensibilisation à l’éco-conception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Maquettes numériques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s SolidWor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628640"/>
            <a:ext cx="81374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produits ou systèmes de nos labos (suite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3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Systèmes étudiés ayant la même fonction pour l’étude comparativ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669900"/>
                </a:solidFill>
                <a:uFillTx/>
                <a:latin typeface="Verdana"/>
              </a:rPr>
              <a:t>Fonction similaire :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motorisation d’antenne parabo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669900"/>
                </a:solidFill>
                <a:uFillTx/>
                <a:latin typeface="Verdana"/>
              </a:rPr>
              <a:t>Systè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00"/>
                </a:solidFill>
                <a:latin typeface="Verdana"/>
              </a:rPr>
              <a:t>Rotor STAB HH-100</a:t>
            </a:r>
            <a:r>
              <a:rPr b="1" lang="fr-FR" sz="1600" spc="-1" strike="noStrike">
                <a:solidFill>
                  <a:srgbClr val="99cc00"/>
                </a:solidFill>
                <a:latin typeface="Verdana"/>
              </a:rPr>
              <a:t>   </a:t>
            </a:r>
            <a:r>
              <a:rPr b="1" i="1" lang="fr-FR" sz="1600" spc="-1" strike="noStrike">
                <a:solidFill>
                  <a:srgbClr val="003300"/>
                </a:solidFill>
                <a:latin typeface="Verdana"/>
              </a:rPr>
              <a:t>vs</a:t>
            </a:r>
            <a:r>
              <a:rPr b="1" lang="fr-FR" sz="1600" spc="-1" strike="noStrike">
                <a:solidFill>
                  <a:srgbClr val="99cc00"/>
                </a:solidFill>
                <a:latin typeface="Verdana"/>
              </a:rPr>
              <a:t>   </a:t>
            </a:r>
            <a:r>
              <a:rPr b="1" lang="fr-FR" sz="1600" spc="-1" strike="noStrike">
                <a:solidFill>
                  <a:srgbClr val="808000"/>
                </a:solidFill>
                <a:latin typeface="Verdana"/>
              </a:rPr>
              <a:t>Positionneur JAEGER SuperJack 361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>
            <a:lum bright="42000"/>
          </a:blip>
          <a:srcRect l="6713" t="10579" r="3047" b="4248"/>
          <a:stretch/>
        </p:blipFill>
        <p:spPr>
          <a:xfrm>
            <a:off x="1360440" y="4005360"/>
            <a:ext cx="19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3593" t="0" r="0" b="0"/>
          <a:stretch/>
        </p:blipFill>
        <p:spPr>
          <a:xfrm>
            <a:off x="4067280" y="4221000"/>
            <a:ext cx="2813040" cy="207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120960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9760"/>
            <a:ext cx="82026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duits ou systèmes de nos labos (suite et fin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Verdana"/>
              </a:rPr>
              <a:t>4-4.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Exemples d’autres systèmes pouvant être étudiés :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9900"/>
                </a:solidFill>
                <a:uFillTx/>
                <a:latin typeface="Verdana"/>
              </a:rPr>
              <a:t>Systè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Ouvre portail SOMFY PASS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Ouvre portail FA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Lecteur D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Volants à retour de force FERRARI THRUSTMASTER F1 et 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(JPG)"/>
          <p:cNvPicPr/>
          <p:nvPr/>
        </p:nvPicPr>
        <p:blipFill>
          <a:blip r:embed="rId3"/>
          <a:stretch/>
        </p:blipFill>
        <p:spPr>
          <a:xfrm>
            <a:off x="6032520" y="1181160"/>
            <a:ext cx="2440080" cy="140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>
            <a:lum bright="6000"/>
          </a:blip>
          <a:srcRect l="0" t="1743" r="0" b="0"/>
          <a:stretch/>
        </p:blipFill>
        <p:spPr>
          <a:xfrm>
            <a:off x="6481800" y="29494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193760"/>
            <a:ext cx="1842840" cy="130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0" t="6977" r="0" b="7252"/>
          <a:stretch/>
        </p:blipFill>
        <p:spPr>
          <a:xfrm>
            <a:off x="1403280" y="2565360"/>
            <a:ext cx="2124000" cy="141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(JPG)"/>
          <p:cNvPicPr/>
          <p:nvPr/>
        </p:nvPicPr>
        <p:blipFill>
          <a:blip r:embed="rId7"/>
          <a:stretch/>
        </p:blipFill>
        <p:spPr>
          <a:xfrm>
            <a:off x="4356000" y="3068640"/>
            <a:ext cx="17416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559560" y="44798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699000" y="4459320"/>
            <a:ext cx="1449360" cy="127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rcRect l="4135" t="0" r="0" b="0"/>
          <a:stretch/>
        </p:blipFill>
        <p:spPr>
          <a:xfrm>
            <a:off x="5008680" y="5200560"/>
            <a:ext cx="1650960" cy="143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1407960" y="472428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21:19Z</dcterms:created>
  <dc:creator>TRAISSARD</dc:creator>
  <dc:description/>
  <dc:language>en-US</dc:language>
  <cp:lastModifiedBy>TRAISSARD</cp:lastModifiedBy>
  <dcterms:modified xsi:type="dcterms:W3CDTF">2008-10-21T17:32:35Z</dcterms:modified>
  <cp:revision>40</cp:revision>
  <dc:subject/>
  <dc:title>Diapositive 1</dc:title>
</cp:coreProperties>
</file>