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2.png" ContentType="image/png"/>
  <Override PartName="/ppt/media/image21.jpeg" ContentType="image/jpeg"/>
  <Override PartName="/ppt/media/image4.jpeg" ContentType="image/jpeg"/>
  <Override PartName="/ppt/media/image25.jpeg" ContentType="image/jpeg"/>
  <Override PartName="/ppt/media/image6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32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2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542C-E329-4AE5-A6B8-F6487CDEB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9B22-D0C2-4950-8107-D2B3F40F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DA68-9D1A-47BA-A93B-F495848D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DF62-9B85-4BA2-B6DE-E25C04EAE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6C22-4163-4EAB-A836-CB77511C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8CFA-8884-4936-96E3-508B5E30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85FC-5044-4CC8-BCB0-4DD2711D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4F1A-BF77-48AC-8A41-5123DF9F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4EF0-3006-4006-9C33-799E243B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544C-E3F7-40FB-AA64-A3C37362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94E5-749F-420E-903F-6636AC75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736D-961A-4311-AE3C-67A89CE4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5E69-9A94-4F7F-9068-E5F3331C6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35.xm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jpeg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slide" Target="slide16.xm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2.jpeg"/><Relationship Id="rId3" Type="http://schemas.openxmlformats.org/officeDocument/2006/relationships/slide" Target="slide17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4.jpeg"/><Relationship Id="rId3" Type="http://schemas.openxmlformats.org/officeDocument/2006/relationships/slide" Target="slide21.xm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" Target="slide14.xm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7.jpeg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8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4.xml"/><Relationship Id="rId6" Type="http://schemas.openxmlformats.org/officeDocument/2006/relationships/slide" Target="slide13.xml"/><Relationship Id="rId7" Type="http://schemas.openxmlformats.org/officeDocument/2006/relationships/slide" Target="slide9.xml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22.png"/><Relationship Id="rId3" Type="http://schemas.openxmlformats.org/officeDocument/2006/relationships/slide" Target="slide3.xml"/><Relationship Id="rId4" Type="http://schemas.openxmlformats.org/officeDocument/2006/relationships/slide" Target="slide29.xml"/><Relationship Id="rId5" Type="http://schemas.openxmlformats.org/officeDocument/2006/relationships/image" Target="../media/image23.png"/><Relationship Id="rId6" Type="http://schemas.openxmlformats.org/officeDocument/2006/relationships/slide" Target="slide30.xml"/><Relationship Id="rId7" Type="http://schemas.openxmlformats.org/officeDocument/2006/relationships/image" Target="../media/image24.png"/><Relationship Id="rId8" Type="http://schemas.openxmlformats.org/officeDocument/2006/relationships/slide" Target="slide28.xml"/><Relationship Id="rId9" Type="http://schemas.openxmlformats.org/officeDocument/2006/relationships/image" Target="../media/image25.jpe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26.png"/><Relationship Id="rId3" Type="http://schemas.openxmlformats.org/officeDocument/2006/relationships/slide" Target="slide26.xml"/><Relationship Id="rId4" Type="http://schemas.openxmlformats.org/officeDocument/2006/relationships/image" Target="../media/image27.png"/><Relationship Id="rId5" Type="http://schemas.openxmlformats.org/officeDocument/2006/relationships/slide" Target="slide3.xml"/><Relationship Id="rId6" Type="http://schemas.openxmlformats.org/officeDocument/2006/relationships/slide" Target="slide32.xml"/><Relationship Id="rId7" Type="http://schemas.openxmlformats.org/officeDocument/2006/relationships/image" Target="../media/image28.jpeg"/><Relationship Id="rId8" Type="http://schemas.openxmlformats.org/officeDocument/2006/relationships/slide" Target="slide31.xml"/><Relationship Id="rId9" Type="http://schemas.openxmlformats.org/officeDocument/2006/relationships/image" Target="../media/image29.jpeg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25.jpeg"/><Relationship Id="rId3" Type="http://schemas.openxmlformats.org/officeDocument/2006/relationships/slide" Target="slide34.xml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3.xml"/><Relationship Id="rId3" Type="http://schemas.openxmlformats.org/officeDocument/2006/relationships/slide" Target="slide33.xm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retscreen.net/" TargetMode="External"/><Relationship Id="rId2" Type="http://schemas.openxmlformats.org/officeDocument/2006/relationships/hyperlink" Target="http://www.stellarium.org/fr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" Target="slide7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jpeg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2381040" y="2484360"/>
            <a:ext cx="3362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iner Hand ITC"/>
              </a:rPr>
              <a:t>Constitution matéri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28480" y="3924360"/>
            <a:ext cx="2248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iner Hand ITC"/>
              </a:rPr>
              <a:t>Tarifs indicat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2242080" y="3205080"/>
            <a:ext cx="3998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iner Hand ITC"/>
              </a:rPr>
              <a:t>Exploitations pédagog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2432880" y="4599000"/>
            <a:ext cx="1629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iner Hand ITC"/>
              </a:rPr>
              <a:t>Liens u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50920" y="5229360"/>
            <a:ext cx="1077840" cy="1268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5800" y="6491160"/>
            <a:ext cx="39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ycée Technique Jolimont Toul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15160" y="6491160"/>
            <a:ext cx="231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aymond PORT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49360"/>
            <a:ext cx="9144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Viner Hand ITC"/>
              </a:rPr>
              <a:t>Systèmes photovoltaïqu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3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0" fill="hold">
                                          <p:stCondLst>
                                            <p:cond delay="13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920"/>
                            </p:stCondLst>
                            <p:childTnLst>
                              <p:par>
                                <p:cTn id="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960"/>
                            </p:stCondLst>
                            <p:childTnLst>
                              <p:par>
                                <p:cTn id="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640"/>
                            </p:stCondLst>
                            <p:childTnLst>
                              <p:par>
                                <p:cTn id="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371600" y="77760"/>
            <a:ext cx="6399360" cy="678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11480" y="326880"/>
            <a:ext cx="4719600" cy="629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>
            <a:hlinkClick r:id="rId1" action="ppaction://hlinksldjump"/>
          </p:cNvPr>
          <p:cNvPicPr/>
          <p:nvPr/>
        </p:nvPicPr>
        <p:blipFill>
          <a:blip r:embed="rId2"/>
          <a:srcRect l="0" t="0" r="4762" b="0"/>
          <a:stretch/>
        </p:blipFill>
        <p:spPr>
          <a:xfrm>
            <a:off x="1827360" y="-63360"/>
            <a:ext cx="4859280" cy="707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3357720" y="3159000"/>
            <a:ext cx="180000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4751280" y="0"/>
            <a:ext cx="1260720" cy="17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rId5" action="ppaction://hlinksldjump"/>
          </p:cNvPr>
          <p:cNvSpPr/>
          <p:nvPr/>
        </p:nvSpPr>
        <p:spPr>
          <a:xfrm>
            <a:off x="5292720" y="2708280"/>
            <a:ext cx="80964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52760" y="0"/>
            <a:ext cx="398772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311640" y="279360"/>
            <a:ext cx="1439640" cy="1393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3" action="ppaction://hlinksldjump"/>
          </p:cNvPr>
          <p:cNvSpPr/>
          <p:nvPr/>
        </p:nvSpPr>
        <p:spPr>
          <a:xfrm>
            <a:off x="3267000" y="233280"/>
            <a:ext cx="1484280" cy="54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96704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56000" y="341280"/>
            <a:ext cx="4032000" cy="6262560"/>
          </a:xfrm>
          <a:prstGeom prst="rect">
            <a:avLst/>
          </a:prstGeom>
          <a:ln w="0">
            <a:noFill/>
          </a:ln>
        </p:spPr>
      </p:pic>
      <p:sp>
        <p:nvSpPr>
          <p:cNvPr id="301" name="">
            <a:hlinkClick r:id="rId3" action="ppaction://hlinksldjump"/>
          </p:cNvPr>
          <p:cNvSpPr/>
          <p:nvPr/>
        </p:nvSpPr>
        <p:spPr>
          <a:xfrm>
            <a:off x="3716280" y="3473280"/>
            <a:ext cx="1260360" cy="20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rcRect l="4054" t="0" r="0" b="2847"/>
          <a:stretch/>
        </p:blipFill>
        <p:spPr>
          <a:xfrm>
            <a:off x="4857840" y="0"/>
            <a:ext cx="4286160" cy="42750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4442" r="3142" b="0"/>
          <a:stretch/>
        </p:blipFill>
        <p:spPr>
          <a:xfrm>
            <a:off x="-198360" y="2259000"/>
            <a:ext cx="4995720" cy="4851360"/>
          </a:xfrm>
          <a:prstGeom prst="rect">
            <a:avLst/>
          </a:prstGeom>
          <a:ln w="0">
            <a:noFill/>
          </a:ln>
        </p:spPr>
      </p:pic>
      <p:sp>
        <p:nvSpPr>
          <p:cNvPr id="304" name="">
            <a:hlinkClick r:id="rId3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">
            <a:hlinkClick r:id="rId3" action="ppaction://hlinksldjump"/>
          </p:cNvPr>
          <p:cNvSpPr/>
          <p:nvPr/>
        </p:nvSpPr>
        <p:spPr>
          <a:xfrm>
            <a:off x="1916280" y="2214720"/>
            <a:ext cx="2655720" cy="17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rId4" action="ppaction://hlinksldjump"/>
          </p:cNvPr>
          <p:cNvSpPr/>
          <p:nvPr/>
        </p:nvSpPr>
        <p:spPr>
          <a:xfrm>
            <a:off x="4842000" y="3473280"/>
            <a:ext cx="2835000" cy="24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07960" y="1673280"/>
            <a:ext cx="8126280" cy="3189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71520" y="1362240"/>
            <a:ext cx="101520" cy="1804680"/>
          </a:xfrm>
          <a:prstGeom prst="rect">
            <a:avLst/>
          </a:prstGeom>
          <a:solidFill>
            <a:srgbClr val="c0c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24480" y="911160"/>
            <a:ext cx="396000" cy="45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22400" y="911160"/>
            <a:ext cx="100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22640" y="1362240"/>
            <a:ext cx="1401480" cy="1128600"/>
          </a:xfrm>
          <a:prstGeom prst="rect">
            <a:avLst/>
          </a:prstGeom>
          <a:solidFill>
            <a:srgbClr val="80808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73920" y="1362240"/>
            <a:ext cx="900000" cy="1128600"/>
          </a:xfrm>
          <a:prstGeom prst="rect">
            <a:avLst/>
          </a:prstGeom>
          <a:solidFill>
            <a:srgbClr val="80808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523680" y="2490840"/>
            <a:ext cx="400320" cy="564840"/>
            <a:chOff x="3523680" y="2490840"/>
            <a:chExt cx="400320" cy="564840"/>
          </a:xfrm>
        </p:grpSpPr>
        <p:sp>
          <p:nvSpPr>
            <p:cNvPr id="55" name=""/>
            <p:cNvSpPr/>
            <p:nvPr/>
          </p:nvSpPr>
          <p:spPr>
            <a:xfrm>
              <a:off x="3523680" y="2490840"/>
              <a:ext cx="398160" cy="45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24120" y="2490840"/>
              <a:ext cx="98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24000" y="2717640"/>
              <a:ext cx="0" cy="3380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7773480" y="2490840"/>
            <a:ext cx="400320" cy="564840"/>
            <a:chOff x="7773480" y="2490840"/>
            <a:chExt cx="400320" cy="564840"/>
          </a:xfrm>
        </p:grpSpPr>
        <p:sp>
          <p:nvSpPr>
            <p:cNvPr id="59" name=""/>
            <p:cNvSpPr/>
            <p:nvPr/>
          </p:nvSpPr>
          <p:spPr>
            <a:xfrm>
              <a:off x="7773480" y="2490840"/>
              <a:ext cx="398160" cy="45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873920" y="2490840"/>
              <a:ext cx="98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173800" y="2717640"/>
              <a:ext cx="0" cy="3380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222640" y="1136520"/>
            <a:ext cx="0" cy="225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624120" y="1587600"/>
            <a:ext cx="3349080" cy="564840"/>
            <a:chOff x="3624120" y="1587600"/>
            <a:chExt cx="3349080" cy="564840"/>
          </a:xfrm>
        </p:grpSpPr>
        <p:sp>
          <p:nvSpPr>
            <p:cNvPr id="64" name=""/>
            <p:cNvSpPr/>
            <p:nvPr/>
          </p:nvSpPr>
          <p:spPr>
            <a:xfrm>
              <a:off x="3624120" y="1587600"/>
              <a:ext cx="33490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24120" y="1869840"/>
              <a:ext cx="33490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24120" y="2152440"/>
              <a:ext cx="334908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2973240" y="1589040"/>
            <a:ext cx="498600" cy="563400"/>
            <a:chOff x="2973240" y="1589040"/>
            <a:chExt cx="498600" cy="563400"/>
          </a:xfrm>
        </p:grpSpPr>
        <p:sp>
          <p:nvSpPr>
            <p:cNvPr id="68" name=""/>
            <p:cNvSpPr/>
            <p:nvPr/>
          </p:nvSpPr>
          <p:spPr>
            <a:xfrm flipV="1">
              <a:off x="3078360" y="1589040"/>
              <a:ext cx="261720" cy="278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78360" y="1869840"/>
              <a:ext cx="26172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78360" y="1869840"/>
              <a:ext cx="261720" cy="28260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2973240" y="1869840"/>
              <a:ext cx="1051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340440" y="1589040"/>
              <a:ext cx="131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40440" y="1869840"/>
              <a:ext cx="131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340440" y="2152440"/>
              <a:ext cx="131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 flipH="1">
            <a:off x="2471400" y="1700280"/>
            <a:ext cx="299880" cy="338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47120" y="1589040"/>
            <a:ext cx="45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2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98760" y="1870200"/>
            <a:ext cx="45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4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125120" y="1589040"/>
            <a:ext cx="497880" cy="563400"/>
            <a:chOff x="7125120" y="1589040"/>
            <a:chExt cx="497880" cy="563400"/>
          </a:xfrm>
        </p:grpSpPr>
        <p:sp>
          <p:nvSpPr>
            <p:cNvPr id="79" name=""/>
            <p:cNvSpPr/>
            <p:nvPr/>
          </p:nvSpPr>
          <p:spPr>
            <a:xfrm flipH="1" flipV="1">
              <a:off x="7256160" y="1589040"/>
              <a:ext cx="261720" cy="278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7256160" y="1869840"/>
              <a:ext cx="2617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7256160" y="1869840"/>
              <a:ext cx="261720" cy="282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517880" y="1869840"/>
              <a:ext cx="1051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125120" y="1589040"/>
              <a:ext cx="131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7125120" y="1869840"/>
              <a:ext cx="131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7125120" y="2152440"/>
              <a:ext cx="1310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873600" y="3654360"/>
            <a:ext cx="1395000" cy="1665000"/>
            <a:chOff x="3873600" y="3654360"/>
            <a:chExt cx="1395000" cy="1665000"/>
          </a:xfrm>
        </p:grpSpPr>
        <p:sp>
          <p:nvSpPr>
            <p:cNvPr id="87" name=""/>
            <p:cNvSpPr/>
            <p:nvPr/>
          </p:nvSpPr>
          <p:spPr>
            <a:xfrm>
              <a:off x="3873600" y="5207760"/>
              <a:ext cx="121320" cy="1116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661640" y="5207760"/>
              <a:ext cx="122040" cy="1116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46560" y="4986720"/>
              <a:ext cx="122040" cy="1112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73600" y="4986720"/>
              <a:ext cx="1333080" cy="222840"/>
            </a:xfrm>
            <a:prstGeom prst="parallelogram">
              <a:avLst>
                <a:gd name="adj" fmla="val 188855"/>
              </a:avLst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16960" y="4319280"/>
              <a:ext cx="0" cy="778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24880" y="4319280"/>
              <a:ext cx="0" cy="778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06680" y="3654360"/>
              <a:ext cx="0" cy="133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024880" y="4319280"/>
              <a:ext cx="0" cy="778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298760" y="3654360"/>
              <a:ext cx="0" cy="133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298760" y="3654360"/>
              <a:ext cx="907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79840" y="4542480"/>
              <a:ext cx="301320" cy="54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79840" y="4929840"/>
              <a:ext cx="301320" cy="543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79840" y="4597200"/>
              <a:ext cx="0" cy="33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81160" y="4597200"/>
              <a:ext cx="0" cy="33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39960" y="3987000"/>
              <a:ext cx="121320" cy="11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39960" y="3820680"/>
              <a:ext cx="121320" cy="11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01880" y="3931920"/>
              <a:ext cx="0" cy="54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4599720" y="4098240"/>
              <a:ext cx="2160" cy="498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61640" y="3875040"/>
              <a:ext cx="597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21760" y="3875040"/>
              <a:ext cx="0" cy="72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73600" y="4208040"/>
              <a:ext cx="1333080" cy="222840"/>
            </a:xfrm>
            <a:prstGeom prst="parallelogram">
              <a:avLst>
                <a:gd name="adj" fmla="val 188855"/>
              </a:avLst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0800000">
              <a:off x="3931560" y="3764880"/>
              <a:ext cx="48168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4174920" y="4209840"/>
              <a:ext cx="1195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33000" y="3736440"/>
              <a:ext cx="0" cy="84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33000" y="3763080"/>
              <a:ext cx="0" cy="222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777360" y="3833640"/>
            <a:ext cx="1394640" cy="1483920"/>
            <a:chOff x="6777360" y="3833640"/>
            <a:chExt cx="1394640" cy="1483920"/>
          </a:xfrm>
        </p:grpSpPr>
        <p:sp>
          <p:nvSpPr>
            <p:cNvPr id="113" name=""/>
            <p:cNvSpPr/>
            <p:nvPr/>
          </p:nvSpPr>
          <p:spPr>
            <a:xfrm>
              <a:off x="6937560" y="5204160"/>
              <a:ext cx="108000" cy="1134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34880" y="5204160"/>
              <a:ext cx="108000" cy="1134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064000" y="4979520"/>
              <a:ext cx="108000" cy="1130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37560" y="4979520"/>
              <a:ext cx="1179360" cy="226800"/>
            </a:xfrm>
            <a:prstGeom prst="parallelogram">
              <a:avLst>
                <a:gd name="adj" fmla="val 164161"/>
              </a:avLst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37560" y="4412520"/>
              <a:ext cx="0" cy="79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15480" y="4187520"/>
              <a:ext cx="1440" cy="789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740720" y="4412520"/>
              <a:ext cx="0" cy="79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11960" y="4187520"/>
              <a:ext cx="1800" cy="789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7560" y="4187520"/>
              <a:ext cx="1179360" cy="226800"/>
            </a:xfrm>
            <a:prstGeom prst="parallelogram">
              <a:avLst>
                <a:gd name="adj" fmla="val 164161"/>
              </a:avLst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777360" y="3833640"/>
              <a:ext cx="426960" cy="480960"/>
              <a:chOff x="6777360" y="3833640"/>
              <a:chExt cx="426960" cy="480960"/>
            </a:xfrm>
          </p:grpSpPr>
          <p:sp>
            <p:nvSpPr>
              <p:cNvPr id="123" name=""/>
              <p:cNvSpPr/>
              <p:nvPr/>
            </p:nvSpPr>
            <p:spPr>
              <a:xfrm rot="10800000">
                <a:off x="6777360" y="3862440"/>
                <a:ext cx="426960" cy="45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992280" y="4314600"/>
                <a:ext cx="1058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778800" y="3833640"/>
                <a:ext cx="0" cy="856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778800" y="3861360"/>
                <a:ext cx="0" cy="2268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>
            <a:hlinkClick r:id="rId1" action="ppaction://hlinksldjump"/>
          </p:cNvPr>
          <p:cNvSpPr/>
          <p:nvPr/>
        </p:nvSpPr>
        <p:spPr>
          <a:xfrm>
            <a:off x="3828960" y="5545080"/>
            <a:ext cx="1398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Systè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Pompage au fil du sole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6327720" y="5543640"/>
            <a:ext cx="218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Systè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écepteurs/sto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71640" y="503280"/>
            <a:ext cx="51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Installation Photovoltaïque fi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255560" y="1494000"/>
            <a:ext cx="181080" cy="2235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390560" y="1494000"/>
            <a:ext cx="181080" cy="2235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202360" y="1763640"/>
            <a:ext cx="180720" cy="223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336640" y="1763640"/>
            <a:ext cx="181080" cy="223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058080" y="2033640"/>
            <a:ext cx="180720" cy="223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192360" y="2033640"/>
            <a:ext cx="181080" cy="223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87000" y="131436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,5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22360" y="158436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07880" y="185436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0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22360" y="458640"/>
            <a:ext cx="1600200" cy="903600"/>
            <a:chOff x="522360" y="458640"/>
            <a:chExt cx="1600200" cy="903600"/>
          </a:xfrm>
        </p:grpSpPr>
        <p:sp>
          <p:nvSpPr>
            <p:cNvPr id="140" name=""/>
            <p:cNvSpPr/>
            <p:nvPr/>
          </p:nvSpPr>
          <p:spPr>
            <a:xfrm>
              <a:off x="522360" y="458640"/>
              <a:ext cx="1600200" cy="903600"/>
            </a:xfrm>
            <a:prstGeom prst="parallelogram">
              <a:avLst>
                <a:gd name="adj" fmla="val 44273"/>
              </a:avLst>
            </a:prstGeom>
            <a:solidFill>
              <a:srgbClr val="0000e2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2160" y="911160"/>
              <a:ext cx="1200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57360" y="458640"/>
              <a:ext cx="398160" cy="8906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792000" y="458640"/>
              <a:ext cx="398520" cy="8906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927000" y="458640"/>
              <a:ext cx="398520" cy="8906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1062000" y="458640"/>
              <a:ext cx="398520" cy="8906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1197000" y="458640"/>
              <a:ext cx="398520" cy="8906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1332000" y="458640"/>
              <a:ext cx="398520" cy="8906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467000" y="458640"/>
              <a:ext cx="398160" cy="8906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1601640" y="458640"/>
              <a:ext cx="398520" cy="8906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1280" y="1133640"/>
              <a:ext cx="121608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9600" y="1243080"/>
              <a:ext cx="12157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9960" y="1033560"/>
              <a:ext cx="121608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4040" y="663480"/>
              <a:ext cx="12157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92000" y="773280"/>
              <a:ext cx="121608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82720" y="563400"/>
              <a:ext cx="121608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71640" y="5545080"/>
            <a:ext cx="139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Générate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Photovoltaï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mob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927000" y="3789000"/>
            <a:ext cx="1753920" cy="1575000"/>
            <a:chOff x="927000" y="3789000"/>
            <a:chExt cx="1753920" cy="1575000"/>
          </a:xfrm>
        </p:grpSpPr>
        <p:sp>
          <p:nvSpPr>
            <p:cNvPr id="158" name=""/>
            <p:cNvSpPr/>
            <p:nvPr/>
          </p:nvSpPr>
          <p:spPr>
            <a:xfrm>
              <a:off x="927000" y="5251320"/>
              <a:ext cx="103320" cy="1126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62080" y="5251320"/>
              <a:ext cx="104760" cy="1126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75000" y="5027760"/>
              <a:ext cx="104760" cy="1126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27000" y="5027760"/>
              <a:ext cx="1650960" cy="225360"/>
            </a:xfrm>
            <a:prstGeom prst="parallelogram">
              <a:avLst>
                <a:gd name="adj" fmla="val 183350"/>
              </a:avLst>
            </a:prstGeom>
            <a:solidFill>
              <a:srgbClr val="c0c0c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71680" y="4240080"/>
              <a:ext cx="0" cy="90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35080" y="4689360"/>
              <a:ext cx="0" cy="451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268360" y="4240080"/>
              <a:ext cx="412560" cy="561600"/>
              <a:chOff x="2268360" y="4240080"/>
              <a:chExt cx="412560" cy="561600"/>
            </a:xfrm>
          </p:grpSpPr>
          <p:sp>
            <p:nvSpPr>
              <p:cNvPr id="165" name=""/>
              <p:cNvSpPr/>
              <p:nvPr/>
            </p:nvSpPr>
            <p:spPr>
              <a:xfrm>
                <a:off x="2268360" y="4240080"/>
                <a:ext cx="410400" cy="45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371680" y="4240080"/>
                <a:ext cx="10188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680920" y="4465440"/>
                <a:ext cx="0" cy="336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971640" y="3789000"/>
              <a:ext cx="1600200" cy="903600"/>
              <a:chOff x="971640" y="3789000"/>
              <a:chExt cx="1600200" cy="903600"/>
            </a:xfrm>
          </p:grpSpPr>
          <p:sp>
            <p:nvSpPr>
              <p:cNvPr id="169" name=""/>
              <p:cNvSpPr/>
              <p:nvPr/>
            </p:nvSpPr>
            <p:spPr>
              <a:xfrm>
                <a:off x="971640" y="3789360"/>
                <a:ext cx="1600200" cy="903240"/>
              </a:xfrm>
              <a:prstGeom prst="parallelogram">
                <a:avLst>
                  <a:gd name="adj" fmla="val 44291"/>
                </a:avLst>
              </a:prstGeom>
              <a:solidFill>
                <a:srgbClr val="0000e2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71440" y="4241520"/>
                <a:ext cx="12002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1106640" y="3789000"/>
                <a:ext cx="398160" cy="8902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1241280" y="3789000"/>
                <a:ext cx="398520" cy="8902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1376280" y="3789000"/>
                <a:ext cx="398520" cy="8902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1511280" y="3789000"/>
                <a:ext cx="398520" cy="8902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1646280" y="3789000"/>
                <a:ext cx="398520" cy="8902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1781280" y="3789000"/>
                <a:ext cx="398520" cy="8902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1916280" y="3789000"/>
                <a:ext cx="398160" cy="8902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2050920" y="3789000"/>
                <a:ext cx="398520" cy="8902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060560" y="4464000"/>
                <a:ext cx="121608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028880" y="4573440"/>
                <a:ext cx="121572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119240" y="4363920"/>
                <a:ext cx="121608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273320" y="3993840"/>
                <a:ext cx="121572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241280" y="4103640"/>
                <a:ext cx="121608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332000" y="3893760"/>
                <a:ext cx="121608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">
            <a:hlinkClick r:id="rId3" action="ppaction://hlinksldjump"/>
          </p:cNvPr>
          <p:cNvSpPr/>
          <p:nvPr/>
        </p:nvSpPr>
        <p:spPr>
          <a:xfrm>
            <a:off x="3581280" y="1359000"/>
            <a:ext cx="33768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4" action="ppaction://hlinksldjump"/>
          </p:cNvPr>
          <p:cNvSpPr/>
          <p:nvPr/>
        </p:nvSpPr>
        <p:spPr>
          <a:xfrm>
            <a:off x="6821640" y="1224000"/>
            <a:ext cx="126036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5" action="ppaction://hlinksldjump"/>
          </p:cNvPr>
          <p:cNvSpPr/>
          <p:nvPr/>
        </p:nvSpPr>
        <p:spPr>
          <a:xfrm>
            <a:off x="476280" y="324000"/>
            <a:ext cx="166536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6" action="ppaction://hlinksldjump"/>
          </p:cNvPr>
          <p:cNvSpPr/>
          <p:nvPr/>
        </p:nvSpPr>
        <p:spPr>
          <a:xfrm>
            <a:off x="3672000" y="3473280"/>
            <a:ext cx="184464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8469360" y="6308640"/>
            <a:ext cx="674640" cy="549360"/>
          </a:xfrm>
          <a:custGeom>
            <a:avLst/>
            <a:gdLst>
              <a:gd name="textAreaLeft" fmla="*/ 35280 w 674640"/>
              <a:gd name="textAreaRight" fmla="*/ 639360 w 674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523" h="21600">
                <a:moveTo>
                  <a:pt x="0" y="0"/>
                </a:moveTo>
                <a:lnTo>
                  <a:pt x="26523" y="0"/>
                </a:lnTo>
                <a:lnTo>
                  <a:pt x="26523" y="21600"/>
                </a:lnTo>
                <a:lnTo>
                  <a:pt x="0" y="21600"/>
                </a:lnTo>
                <a:close/>
              </a:path>
              <a:path fill="lightenLess" w="26523" h="21600">
                <a:moveTo>
                  <a:pt x="0" y="0"/>
                </a:moveTo>
                <a:lnTo>
                  <a:pt x="26523" y="0"/>
                </a:lnTo>
                <a:lnTo>
                  <a:pt x="25123" y="1400"/>
                </a:lnTo>
                <a:lnTo>
                  <a:pt x="1400" y="1400"/>
                </a:lnTo>
                <a:close/>
              </a:path>
              <a:path fill="darken" w="26523" h="21600">
                <a:moveTo>
                  <a:pt x="26523" y="0"/>
                </a:moveTo>
                <a:lnTo>
                  <a:pt x="26523" y="21600"/>
                </a:lnTo>
                <a:lnTo>
                  <a:pt x="25123" y="20200"/>
                </a:lnTo>
                <a:lnTo>
                  <a:pt x="25123" y="1400"/>
                </a:lnTo>
                <a:close/>
              </a:path>
              <a:path fill="darkenLess" w="26523" h="21600">
                <a:moveTo>
                  <a:pt x="26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23" y="20200"/>
                </a:lnTo>
                <a:close/>
              </a:path>
              <a:path fill="lighten" w="26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23" h="21600">
                <a:moveTo>
                  <a:pt x="13261" y="3837"/>
                </a:moveTo>
                <a:lnTo>
                  <a:pt x="15838" y="6448"/>
                </a:lnTo>
                <a:lnTo>
                  <a:pt x="15838" y="4707"/>
                </a:lnTo>
                <a:lnTo>
                  <a:pt x="17613" y="4707"/>
                </a:lnTo>
                <a:lnTo>
                  <a:pt x="17613" y="8224"/>
                </a:lnTo>
                <a:lnTo>
                  <a:pt x="20224" y="10800"/>
                </a:lnTo>
                <a:lnTo>
                  <a:pt x="18571" y="10800"/>
                </a:lnTo>
                <a:lnTo>
                  <a:pt x="18571" y="17989"/>
                </a:lnTo>
                <a:lnTo>
                  <a:pt x="7952" y="17989"/>
                </a:lnTo>
                <a:lnTo>
                  <a:pt x="7952" y="10800"/>
                </a:lnTo>
                <a:lnTo>
                  <a:pt x="6298" y="10800"/>
                </a:lnTo>
                <a:close/>
              </a:path>
              <a:path fill="darkenLess" w="26523" h="21600">
                <a:moveTo>
                  <a:pt x="15838" y="6448"/>
                </a:moveTo>
                <a:lnTo>
                  <a:pt x="15838" y="4707"/>
                </a:lnTo>
                <a:lnTo>
                  <a:pt x="17613" y="4707"/>
                </a:lnTo>
                <a:lnTo>
                  <a:pt x="17613" y="8224"/>
                </a:lnTo>
                <a:close/>
              </a:path>
              <a:path fill="darkenLess" w="26523" h="21600">
                <a:moveTo>
                  <a:pt x="12339" y="14299"/>
                </a:moveTo>
                <a:lnTo>
                  <a:pt x="14184" y="14299"/>
                </a:lnTo>
                <a:lnTo>
                  <a:pt x="14184" y="17989"/>
                </a:lnTo>
                <a:lnTo>
                  <a:pt x="18571" y="17989"/>
                </a:lnTo>
                <a:lnTo>
                  <a:pt x="18571" y="10800"/>
                </a:lnTo>
                <a:lnTo>
                  <a:pt x="7952" y="10800"/>
                </a:lnTo>
                <a:lnTo>
                  <a:pt x="7952" y="17989"/>
                </a:lnTo>
                <a:lnTo>
                  <a:pt x="12339" y="17989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7" action="ppaction://hlinksldjump"/>
          </p:cNvPr>
          <p:cNvSpPr/>
          <p:nvPr/>
        </p:nvSpPr>
        <p:spPr>
          <a:xfrm>
            <a:off x="522360" y="3473280"/>
            <a:ext cx="243036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1109520"/>
            <a:ext cx="7619760" cy="4638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2681280"/>
            <a:ext cx="7619760" cy="149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243000" y="673200"/>
            <a:ext cx="9630000" cy="551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62000" y="279360"/>
            <a:ext cx="4317840" cy="3002040"/>
          </a:xfrm>
          <a:prstGeom prst="rect">
            <a:avLst/>
          </a:prstGeom>
          <a:ln w="0">
            <a:noFill/>
          </a:ln>
        </p:spPr>
      </p:pic>
      <p:sp>
        <p:nvSpPr>
          <p:cNvPr id="313" name="">
            <a:hlinkClick r:id="rId3" action="ppaction://hlinksldjump"/>
          </p:cNvPr>
          <p:cNvSpPr/>
          <p:nvPr/>
        </p:nvSpPr>
        <p:spPr>
          <a:xfrm>
            <a:off x="8469360" y="6308640"/>
            <a:ext cx="674640" cy="549360"/>
          </a:xfrm>
          <a:custGeom>
            <a:avLst/>
            <a:gdLst>
              <a:gd name="textAreaLeft" fmla="*/ 35280 w 674640"/>
              <a:gd name="textAreaRight" fmla="*/ 639360 w 674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523" h="21600">
                <a:moveTo>
                  <a:pt x="0" y="0"/>
                </a:moveTo>
                <a:lnTo>
                  <a:pt x="26523" y="0"/>
                </a:lnTo>
                <a:lnTo>
                  <a:pt x="26523" y="21600"/>
                </a:lnTo>
                <a:lnTo>
                  <a:pt x="0" y="21600"/>
                </a:lnTo>
                <a:close/>
              </a:path>
              <a:path fill="lightenLess" w="26523" h="21600">
                <a:moveTo>
                  <a:pt x="0" y="0"/>
                </a:moveTo>
                <a:lnTo>
                  <a:pt x="26523" y="0"/>
                </a:lnTo>
                <a:lnTo>
                  <a:pt x="25123" y="1400"/>
                </a:lnTo>
                <a:lnTo>
                  <a:pt x="1400" y="1400"/>
                </a:lnTo>
                <a:close/>
              </a:path>
              <a:path fill="darken" w="26523" h="21600">
                <a:moveTo>
                  <a:pt x="26523" y="0"/>
                </a:moveTo>
                <a:lnTo>
                  <a:pt x="26523" y="21600"/>
                </a:lnTo>
                <a:lnTo>
                  <a:pt x="25123" y="20200"/>
                </a:lnTo>
                <a:lnTo>
                  <a:pt x="25123" y="1400"/>
                </a:lnTo>
                <a:close/>
              </a:path>
              <a:path fill="darkenLess" w="26523" h="21600">
                <a:moveTo>
                  <a:pt x="26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23" y="20200"/>
                </a:lnTo>
                <a:close/>
              </a:path>
              <a:path fill="lighten" w="26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23" h="21600">
                <a:moveTo>
                  <a:pt x="13261" y="3837"/>
                </a:moveTo>
                <a:lnTo>
                  <a:pt x="15838" y="6448"/>
                </a:lnTo>
                <a:lnTo>
                  <a:pt x="15838" y="4707"/>
                </a:lnTo>
                <a:lnTo>
                  <a:pt x="17613" y="4707"/>
                </a:lnTo>
                <a:lnTo>
                  <a:pt x="17613" y="8224"/>
                </a:lnTo>
                <a:lnTo>
                  <a:pt x="20224" y="10800"/>
                </a:lnTo>
                <a:lnTo>
                  <a:pt x="18571" y="10800"/>
                </a:lnTo>
                <a:lnTo>
                  <a:pt x="18571" y="17989"/>
                </a:lnTo>
                <a:lnTo>
                  <a:pt x="7952" y="17989"/>
                </a:lnTo>
                <a:lnTo>
                  <a:pt x="7952" y="10800"/>
                </a:lnTo>
                <a:lnTo>
                  <a:pt x="6298" y="10800"/>
                </a:lnTo>
                <a:close/>
              </a:path>
              <a:path fill="darkenLess" w="26523" h="21600">
                <a:moveTo>
                  <a:pt x="15838" y="6448"/>
                </a:moveTo>
                <a:lnTo>
                  <a:pt x="15838" y="4707"/>
                </a:lnTo>
                <a:lnTo>
                  <a:pt x="17613" y="4707"/>
                </a:lnTo>
                <a:lnTo>
                  <a:pt x="17613" y="8224"/>
                </a:lnTo>
                <a:close/>
              </a:path>
              <a:path fill="darkenLess" w="26523" h="21600">
                <a:moveTo>
                  <a:pt x="12339" y="14299"/>
                </a:moveTo>
                <a:lnTo>
                  <a:pt x="14184" y="14299"/>
                </a:lnTo>
                <a:lnTo>
                  <a:pt x="14184" y="17989"/>
                </a:lnTo>
                <a:lnTo>
                  <a:pt x="18571" y="17989"/>
                </a:lnTo>
                <a:lnTo>
                  <a:pt x="18571" y="10800"/>
                </a:lnTo>
                <a:lnTo>
                  <a:pt x="7952" y="10800"/>
                </a:lnTo>
                <a:lnTo>
                  <a:pt x="7952" y="17989"/>
                </a:lnTo>
                <a:lnTo>
                  <a:pt x="12339" y="17989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50920" y="3654360"/>
            <a:ext cx="3598920" cy="26989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572000" y="3654360"/>
            <a:ext cx="3598920" cy="26989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976640" y="414360"/>
            <a:ext cx="3702240" cy="2776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31640" y="593640"/>
            <a:ext cx="4724640" cy="25369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446640" y="3338640"/>
            <a:ext cx="4319280" cy="3240000"/>
          </a:xfrm>
          <a:prstGeom prst="rect">
            <a:avLst/>
          </a:prstGeom>
          <a:ln w="0">
            <a:noFill/>
          </a:ln>
        </p:spPr>
      </p:pic>
      <p:sp>
        <p:nvSpPr>
          <p:cNvPr id="319" name="">
            <a:hlinkClick r:id="rId5" action="ppaction://hlinksldjump"/>
          </p:cNvPr>
          <p:cNvSpPr/>
          <p:nvPr/>
        </p:nvSpPr>
        <p:spPr>
          <a:xfrm>
            <a:off x="8469360" y="6308640"/>
            <a:ext cx="674640" cy="549360"/>
          </a:xfrm>
          <a:custGeom>
            <a:avLst/>
            <a:gdLst>
              <a:gd name="textAreaLeft" fmla="*/ 35280 w 674640"/>
              <a:gd name="textAreaRight" fmla="*/ 639360 w 674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523" h="21600">
                <a:moveTo>
                  <a:pt x="0" y="0"/>
                </a:moveTo>
                <a:lnTo>
                  <a:pt x="26523" y="0"/>
                </a:lnTo>
                <a:lnTo>
                  <a:pt x="26523" y="21600"/>
                </a:lnTo>
                <a:lnTo>
                  <a:pt x="0" y="21600"/>
                </a:lnTo>
                <a:close/>
              </a:path>
              <a:path fill="lightenLess" w="26523" h="21600">
                <a:moveTo>
                  <a:pt x="0" y="0"/>
                </a:moveTo>
                <a:lnTo>
                  <a:pt x="26523" y="0"/>
                </a:lnTo>
                <a:lnTo>
                  <a:pt x="25123" y="1400"/>
                </a:lnTo>
                <a:lnTo>
                  <a:pt x="1400" y="1400"/>
                </a:lnTo>
                <a:close/>
              </a:path>
              <a:path fill="darken" w="26523" h="21600">
                <a:moveTo>
                  <a:pt x="26523" y="0"/>
                </a:moveTo>
                <a:lnTo>
                  <a:pt x="26523" y="21600"/>
                </a:lnTo>
                <a:lnTo>
                  <a:pt x="25123" y="20200"/>
                </a:lnTo>
                <a:lnTo>
                  <a:pt x="25123" y="1400"/>
                </a:lnTo>
                <a:close/>
              </a:path>
              <a:path fill="darkenLess" w="26523" h="21600">
                <a:moveTo>
                  <a:pt x="26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23" y="20200"/>
                </a:lnTo>
                <a:close/>
              </a:path>
              <a:path fill="lighten" w="26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23" h="21600">
                <a:moveTo>
                  <a:pt x="13261" y="3837"/>
                </a:moveTo>
                <a:lnTo>
                  <a:pt x="15838" y="6448"/>
                </a:lnTo>
                <a:lnTo>
                  <a:pt x="15838" y="4707"/>
                </a:lnTo>
                <a:lnTo>
                  <a:pt x="17613" y="4707"/>
                </a:lnTo>
                <a:lnTo>
                  <a:pt x="17613" y="8224"/>
                </a:lnTo>
                <a:lnTo>
                  <a:pt x="20224" y="10800"/>
                </a:lnTo>
                <a:lnTo>
                  <a:pt x="18571" y="10800"/>
                </a:lnTo>
                <a:lnTo>
                  <a:pt x="18571" y="17989"/>
                </a:lnTo>
                <a:lnTo>
                  <a:pt x="7952" y="17989"/>
                </a:lnTo>
                <a:lnTo>
                  <a:pt x="7952" y="10800"/>
                </a:lnTo>
                <a:lnTo>
                  <a:pt x="6298" y="10800"/>
                </a:lnTo>
                <a:close/>
              </a:path>
              <a:path fill="darkenLess" w="26523" h="21600">
                <a:moveTo>
                  <a:pt x="15838" y="6448"/>
                </a:moveTo>
                <a:lnTo>
                  <a:pt x="15838" y="4707"/>
                </a:lnTo>
                <a:lnTo>
                  <a:pt x="17613" y="4707"/>
                </a:lnTo>
                <a:lnTo>
                  <a:pt x="17613" y="8224"/>
                </a:lnTo>
                <a:close/>
              </a:path>
              <a:path fill="darkenLess" w="26523" h="21600">
                <a:moveTo>
                  <a:pt x="12339" y="14299"/>
                </a:moveTo>
                <a:lnTo>
                  <a:pt x="14184" y="14299"/>
                </a:lnTo>
                <a:lnTo>
                  <a:pt x="14184" y="17989"/>
                </a:lnTo>
                <a:lnTo>
                  <a:pt x="18571" y="17989"/>
                </a:lnTo>
                <a:lnTo>
                  <a:pt x="18571" y="10800"/>
                </a:lnTo>
                <a:lnTo>
                  <a:pt x="7952" y="10800"/>
                </a:lnTo>
                <a:lnTo>
                  <a:pt x="7952" y="17989"/>
                </a:lnTo>
                <a:lnTo>
                  <a:pt x="12339" y="17989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427720" y="414360"/>
            <a:ext cx="3554280" cy="25020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50920" y="3878280"/>
            <a:ext cx="2562120" cy="2744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57240" y="942840"/>
            <a:ext cx="9258480" cy="497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6360" y="27000"/>
            <a:ext cx="9107640" cy="683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279360"/>
            <a:ext cx="9144000" cy="635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298080" cy="6973920"/>
          </a:xfrm>
          <a:prstGeom prst="rect">
            <a:avLst/>
          </a:prstGeom>
          <a:ln w="0">
            <a:noFill/>
          </a:ln>
        </p:spPr>
      </p:pic>
      <p:sp>
        <p:nvSpPr>
          <p:cNvPr id="326" name="">
            <a:hlinkClick r:id="rId3" action="ppaction://hlinksldjump"/>
          </p:cNvPr>
          <p:cNvSpPr/>
          <p:nvPr/>
        </p:nvSpPr>
        <p:spPr>
          <a:xfrm>
            <a:off x="8693280" y="6362640"/>
            <a:ext cx="450720" cy="495360"/>
          </a:xfrm>
          <a:prstGeom prst="sun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342360" cy="700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8469360" y="6308640"/>
            <a:ext cx="674640" cy="549360"/>
          </a:xfrm>
          <a:custGeom>
            <a:avLst/>
            <a:gdLst>
              <a:gd name="textAreaLeft" fmla="*/ 35280 w 674640"/>
              <a:gd name="textAreaRight" fmla="*/ 639360 w 674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523" h="21600">
                <a:moveTo>
                  <a:pt x="0" y="0"/>
                </a:moveTo>
                <a:lnTo>
                  <a:pt x="26523" y="0"/>
                </a:lnTo>
                <a:lnTo>
                  <a:pt x="26523" y="21600"/>
                </a:lnTo>
                <a:lnTo>
                  <a:pt x="0" y="21600"/>
                </a:lnTo>
                <a:close/>
              </a:path>
              <a:path fill="lightenLess" w="26523" h="21600">
                <a:moveTo>
                  <a:pt x="0" y="0"/>
                </a:moveTo>
                <a:lnTo>
                  <a:pt x="26523" y="0"/>
                </a:lnTo>
                <a:lnTo>
                  <a:pt x="25123" y="1400"/>
                </a:lnTo>
                <a:lnTo>
                  <a:pt x="1400" y="1400"/>
                </a:lnTo>
                <a:close/>
              </a:path>
              <a:path fill="darken" w="26523" h="21600">
                <a:moveTo>
                  <a:pt x="26523" y="0"/>
                </a:moveTo>
                <a:lnTo>
                  <a:pt x="26523" y="21600"/>
                </a:lnTo>
                <a:lnTo>
                  <a:pt x="25123" y="20200"/>
                </a:lnTo>
                <a:lnTo>
                  <a:pt x="25123" y="1400"/>
                </a:lnTo>
                <a:close/>
              </a:path>
              <a:path fill="darkenLess" w="26523" h="21600">
                <a:moveTo>
                  <a:pt x="26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23" y="20200"/>
                </a:lnTo>
                <a:close/>
              </a:path>
              <a:path fill="lighten" w="26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23" h="21600">
                <a:moveTo>
                  <a:pt x="13261" y="3837"/>
                </a:moveTo>
                <a:lnTo>
                  <a:pt x="15838" y="6448"/>
                </a:lnTo>
                <a:lnTo>
                  <a:pt x="15838" y="4707"/>
                </a:lnTo>
                <a:lnTo>
                  <a:pt x="17613" y="4707"/>
                </a:lnTo>
                <a:lnTo>
                  <a:pt x="17613" y="8224"/>
                </a:lnTo>
                <a:lnTo>
                  <a:pt x="20224" y="10800"/>
                </a:lnTo>
                <a:lnTo>
                  <a:pt x="18571" y="10800"/>
                </a:lnTo>
                <a:lnTo>
                  <a:pt x="18571" y="17989"/>
                </a:lnTo>
                <a:lnTo>
                  <a:pt x="7952" y="17989"/>
                </a:lnTo>
                <a:lnTo>
                  <a:pt x="7952" y="10800"/>
                </a:lnTo>
                <a:lnTo>
                  <a:pt x="6298" y="10800"/>
                </a:lnTo>
                <a:close/>
              </a:path>
              <a:path fill="darkenLess" w="26523" h="21600">
                <a:moveTo>
                  <a:pt x="15838" y="6448"/>
                </a:moveTo>
                <a:lnTo>
                  <a:pt x="15838" y="4707"/>
                </a:lnTo>
                <a:lnTo>
                  <a:pt x="17613" y="4707"/>
                </a:lnTo>
                <a:lnTo>
                  <a:pt x="17613" y="8224"/>
                </a:lnTo>
                <a:close/>
              </a:path>
              <a:path fill="darkenLess" w="26523" h="21600">
                <a:moveTo>
                  <a:pt x="12339" y="14299"/>
                </a:moveTo>
                <a:lnTo>
                  <a:pt x="14184" y="14299"/>
                </a:lnTo>
                <a:lnTo>
                  <a:pt x="14184" y="17989"/>
                </a:lnTo>
                <a:lnTo>
                  <a:pt x="18571" y="17989"/>
                </a:lnTo>
                <a:lnTo>
                  <a:pt x="18571" y="10800"/>
                </a:lnTo>
                <a:lnTo>
                  <a:pt x="7952" y="10800"/>
                </a:lnTo>
                <a:lnTo>
                  <a:pt x="7952" y="17989"/>
                </a:lnTo>
                <a:lnTo>
                  <a:pt x="12339" y="17989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11280" y="636480"/>
            <a:ext cx="360360" cy="1801080"/>
            <a:chOff x="611280" y="636480"/>
            <a:chExt cx="360360" cy="1801080"/>
          </a:xfrm>
        </p:grpSpPr>
        <p:sp>
          <p:nvSpPr>
            <p:cNvPr id="193" name=""/>
            <p:cNvSpPr/>
            <p:nvPr/>
          </p:nvSpPr>
          <p:spPr>
            <a:xfrm flipH="1" flipV="1">
              <a:off x="611280" y="2075400"/>
              <a:ext cx="35784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611280" y="636480"/>
              <a:ext cx="0" cy="1620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92000" y="2436480"/>
              <a:ext cx="179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>
            <a:hlinkClick r:id="rId1" action="ppaction://hlinksldjump"/>
          </p:cNvPr>
          <p:cNvSpPr/>
          <p:nvPr/>
        </p:nvSpPr>
        <p:spPr>
          <a:xfrm>
            <a:off x="431640" y="279360"/>
            <a:ext cx="18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nergie sol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211640" y="2527200"/>
            <a:ext cx="1124280" cy="1621080"/>
            <a:chOff x="4211640" y="2527200"/>
            <a:chExt cx="1124280" cy="1621080"/>
          </a:xfrm>
        </p:grpSpPr>
        <p:sp>
          <p:nvSpPr>
            <p:cNvPr id="198" name=""/>
            <p:cNvSpPr/>
            <p:nvPr/>
          </p:nvSpPr>
          <p:spPr>
            <a:xfrm>
              <a:off x="4483080" y="3159000"/>
              <a:ext cx="35856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flipV="1">
              <a:off x="4842000" y="3785400"/>
              <a:ext cx="35784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11640" y="3159000"/>
              <a:ext cx="450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42000" y="3338640"/>
              <a:ext cx="0" cy="628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22720" y="4148280"/>
              <a:ext cx="179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55720" y="2527200"/>
              <a:ext cx="88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00"/>
                  </a:solidFill>
                  <a:latin typeface="Arial"/>
                </a:rPr>
                <a:t>W éle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00"/>
                  </a:solidFill>
                  <a:latin typeface="Arial"/>
                </a:rPr>
                <a:t>ut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 flipH="1">
            <a:off x="4841280" y="3067200"/>
            <a:ext cx="539640" cy="269640"/>
          </a:xfrm>
          <a:prstGeom prst="lightningBolt">
            <a:avLst/>
          </a:prstGeom>
          <a:solidFill>
            <a:srgbClr val="ff3232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232000" y="1808280"/>
            <a:ext cx="993240" cy="1351800"/>
            <a:chOff x="2232000" y="1808280"/>
            <a:chExt cx="993240" cy="1351800"/>
          </a:xfrm>
        </p:grpSpPr>
        <p:sp>
          <p:nvSpPr>
            <p:cNvPr id="206" name=""/>
            <p:cNvSpPr/>
            <p:nvPr/>
          </p:nvSpPr>
          <p:spPr>
            <a:xfrm>
              <a:off x="2232000" y="2438280"/>
              <a:ext cx="1792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32000" y="2438280"/>
              <a:ext cx="35856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2592360" y="2797920"/>
              <a:ext cx="35784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92360" y="2619360"/>
              <a:ext cx="0" cy="360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71640" y="3159000"/>
              <a:ext cx="179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235240" y="1808280"/>
              <a:ext cx="99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00"/>
                  </a:solidFill>
                  <a:latin typeface="Arial"/>
                </a:rPr>
                <a:t>W éle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00"/>
                  </a:solidFill>
                  <a:latin typeface="Arial"/>
                </a:rPr>
                <a:t>produ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 flipH="1">
            <a:off x="2591640" y="2347920"/>
            <a:ext cx="539640" cy="270000"/>
          </a:xfrm>
          <a:prstGeom prst="lightningBolt">
            <a:avLst/>
          </a:prstGeom>
          <a:solidFill>
            <a:srgbClr val="ff3232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0" y="3792600"/>
            <a:ext cx="5202360" cy="716040"/>
            <a:chOff x="0" y="3792600"/>
            <a:chExt cx="5202360" cy="716040"/>
          </a:xfrm>
        </p:grpSpPr>
        <p:sp>
          <p:nvSpPr>
            <p:cNvPr id="214" name=""/>
            <p:cNvSpPr/>
            <p:nvPr/>
          </p:nvSpPr>
          <p:spPr>
            <a:xfrm>
              <a:off x="26280" y="3792600"/>
              <a:ext cx="154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Site isol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non desserv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4508640"/>
              <a:ext cx="5202360" cy="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462720" y="3608280"/>
            <a:ext cx="2681280" cy="719280"/>
            <a:chOff x="6462720" y="3608280"/>
            <a:chExt cx="2681280" cy="719280"/>
          </a:xfrm>
        </p:grpSpPr>
        <p:sp>
          <p:nvSpPr>
            <p:cNvPr id="217" name=""/>
            <p:cNvSpPr/>
            <p:nvPr/>
          </p:nvSpPr>
          <p:spPr>
            <a:xfrm>
              <a:off x="7419600" y="3608280"/>
              <a:ext cx="1291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Site isol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omic Sans MS"/>
                </a:rPr>
                <a:t>auton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62720" y="4327560"/>
              <a:ext cx="2681280" cy="0"/>
            </a:xfrm>
            <a:prstGeom prst="line">
              <a:avLst/>
            </a:prstGeom>
            <a:ln w="11448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969840" y="1987560"/>
            <a:ext cx="1260720" cy="90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rId2" action="ppaction://hlinksldjump"/>
          </p:cNvPr>
          <p:cNvSpPr/>
          <p:nvPr/>
        </p:nvSpPr>
        <p:spPr>
          <a:xfrm>
            <a:off x="971640" y="225756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ver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80920" y="2889360"/>
            <a:ext cx="1398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ha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photovoltaï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51280" y="2887560"/>
            <a:ext cx="1260360" cy="900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rId3" action="ppaction://hlinksldjump"/>
          </p:cNvPr>
          <p:cNvSpPr/>
          <p:nvPr/>
        </p:nvSpPr>
        <p:spPr>
          <a:xfrm>
            <a:off x="2951280" y="2979720"/>
            <a:ext cx="126036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é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é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84400" y="3789360"/>
            <a:ext cx="122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égulate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Adaptate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202360" y="3787920"/>
            <a:ext cx="1260360" cy="1421640"/>
            <a:chOff x="5202360" y="3787920"/>
            <a:chExt cx="1260360" cy="1421640"/>
          </a:xfrm>
        </p:grpSpPr>
        <p:sp>
          <p:nvSpPr>
            <p:cNvPr id="226" name=""/>
            <p:cNvSpPr/>
            <p:nvPr/>
          </p:nvSpPr>
          <p:spPr>
            <a:xfrm>
              <a:off x="5202360" y="3787920"/>
              <a:ext cx="1260360" cy="9000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02360" y="3878280"/>
              <a:ext cx="126036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stribu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’énerg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02360" y="4689360"/>
              <a:ext cx="1252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omic Sans MS"/>
                </a:rPr>
                <a:t>Installation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omic Sans MS"/>
                </a:rPr>
                <a:t>câ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211280" y="3519360"/>
            <a:ext cx="2521440" cy="2336400"/>
            <a:chOff x="4211280" y="3519360"/>
            <a:chExt cx="2521440" cy="2336400"/>
          </a:xfrm>
        </p:grpSpPr>
        <p:sp>
          <p:nvSpPr>
            <p:cNvPr id="230" name=""/>
            <p:cNvSpPr/>
            <p:nvPr/>
          </p:nvSpPr>
          <p:spPr>
            <a:xfrm>
              <a:off x="4213800" y="3519360"/>
              <a:ext cx="35784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4572000" y="4823280"/>
              <a:ext cx="35784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211280" y="3519360"/>
              <a:ext cx="1810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0" y="3698640"/>
              <a:ext cx="0" cy="1308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51280" y="5184720"/>
              <a:ext cx="1981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04520" y="527508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00"/>
                  </a:solidFill>
                  <a:latin typeface="Arial"/>
                </a:rPr>
                <a:t>W éle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00"/>
                  </a:solidFill>
                  <a:latin typeface="Arial"/>
                </a:rPr>
                <a:t>stocké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 rot="10677000">
            <a:off x="4751280" y="5184720"/>
            <a:ext cx="540000" cy="270000"/>
          </a:xfrm>
          <a:prstGeom prst="lightningBolt">
            <a:avLst/>
          </a:prstGeom>
          <a:solidFill>
            <a:srgbClr val="ff3232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6732720" y="4687920"/>
            <a:ext cx="1260360" cy="1208880"/>
            <a:chOff x="6732720" y="4687920"/>
            <a:chExt cx="1260360" cy="1208880"/>
          </a:xfrm>
        </p:grpSpPr>
        <p:sp>
          <p:nvSpPr>
            <p:cNvPr id="238" name=""/>
            <p:cNvSpPr/>
            <p:nvPr/>
          </p:nvSpPr>
          <p:spPr>
            <a:xfrm>
              <a:off x="6732720" y="4687920"/>
              <a:ext cx="1260360" cy="9000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32720" y="4957920"/>
              <a:ext cx="12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ock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32720" y="5589720"/>
              <a:ext cx="126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omic Sans MS"/>
                </a:rPr>
                <a:t>Batte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592360" y="3564000"/>
            <a:ext cx="5851080" cy="2475000"/>
            <a:chOff x="2592360" y="3564000"/>
            <a:chExt cx="5851080" cy="2475000"/>
          </a:xfrm>
        </p:grpSpPr>
        <p:sp>
          <p:nvSpPr>
            <p:cNvPr id="242" name=""/>
            <p:cNvSpPr/>
            <p:nvPr/>
          </p:nvSpPr>
          <p:spPr>
            <a:xfrm flipH="1">
              <a:off x="2592360" y="3564000"/>
              <a:ext cx="35784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084160" y="5227560"/>
              <a:ext cx="35784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8082720" y="5677920"/>
              <a:ext cx="36072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2592360" y="5676120"/>
              <a:ext cx="35784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93080" y="5227560"/>
              <a:ext cx="2700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442360" y="5408640"/>
              <a:ext cx="0" cy="449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771640" y="6039000"/>
              <a:ext cx="5491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2592360" y="3743280"/>
              <a:ext cx="0" cy="2114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71640" y="3564000"/>
              <a:ext cx="179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75240" y="5227560"/>
              <a:ext cx="1024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00"/>
                  </a:solidFill>
                  <a:latin typeface="Arial"/>
                </a:rPr>
                <a:t>W éle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00"/>
                  </a:solidFill>
                  <a:latin typeface="Arial"/>
                </a:rPr>
                <a:t>restitué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657600" y="5745240"/>
            <a:ext cx="539640" cy="269640"/>
          </a:xfrm>
          <a:prstGeom prst="lightningBolt">
            <a:avLst/>
          </a:prstGeom>
          <a:solidFill>
            <a:srgbClr val="ff3232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14160" y="1447920"/>
            <a:ext cx="357840" cy="36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311640" y="636480"/>
            <a:ext cx="0" cy="2251080"/>
          </a:xfrm>
          <a:prstGeom prst="line">
            <a:avLst/>
          </a:prstGeom>
          <a:ln w="2844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11280" y="1627200"/>
            <a:ext cx="0" cy="360360"/>
          </a:xfrm>
          <a:prstGeom prst="line">
            <a:avLst/>
          </a:prstGeom>
          <a:ln w="2844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62720" y="1627200"/>
            <a:ext cx="0" cy="2160720"/>
          </a:xfrm>
          <a:prstGeom prst="line">
            <a:avLst/>
          </a:prstGeom>
          <a:ln w="2844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272360" y="1627200"/>
            <a:ext cx="0" cy="3060720"/>
          </a:xfrm>
          <a:prstGeom prst="line">
            <a:avLst/>
          </a:prstGeom>
          <a:ln w="2844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202720" y="1447920"/>
            <a:ext cx="357840" cy="36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1511280" y="1447920"/>
            <a:ext cx="357840" cy="35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92360" y="1447920"/>
            <a:ext cx="1439640" cy="0"/>
          </a:xfrm>
          <a:prstGeom prst="line">
            <a:avLst/>
          </a:prstGeom>
          <a:ln w="284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3311640" y="1085040"/>
            <a:ext cx="357840" cy="36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949840" y="1086840"/>
            <a:ext cx="361440" cy="358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92360" y="1447920"/>
            <a:ext cx="1889280" cy="0"/>
          </a:xfrm>
          <a:prstGeom prst="line">
            <a:avLst/>
          </a:prstGeom>
          <a:ln w="284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86280" y="279360"/>
            <a:ext cx="22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Dimensi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81640" y="1447920"/>
            <a:ext cx="1711440" cy="0"/>
          </a:xfrm>
          <a:prstGeom prst="line">
            <a:avLst/>
          </a:prstGeom>
          <a:ln w="284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851280" y="1763640"/>
            <a:ext cx="4515120" cy="3194280"/>
            <a:chOff x="3851280" y="1763640"/>
            <a:chExt cx="4515120" cy="3194280"/>
          </a:xfrm>
        </p:grpSpPr>
        <p:sp>
          <p:nvSpPr>
            <p:cNvPr id="267" name=""/>
            <p:cNvSpPr/>
            <p:nvPr/>
          </p:nvSpPr>
          <p:spPr>
            <a:xfrm flipH="1">
              <a:off x="3851280" y="2347920"/>
              <a:ext cx="357840" cy="35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7991640" y="4597920"/>
              <a:ext cx="361440" cy="35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993080" y="2347920"/>
              <a:ext cx="358560" cy="36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993080" y="4957920"/>
              <a:ext cx="17928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52000" y="2527200"/>
              <a:ext cx="0" cy="117180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4032360" y="2347920"/>
              <a:ext cx="414000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51280" y="2527200"/>
              <a:ext cx="0" cy="36036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409880" y="1763640"/>
              <a:ext cx="956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ff33"/>
                  </a:solidFill>
                  <a:latin typeface="Arial"/>
                </a:rPr>
                <a:t>T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66ff33"/>
                  </a:solidFill>
                  <a:latin typeface="Arial"/>
                </a:rPr>
                <a:t>batteri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352000" y="4194000"/>
              <a:ext cx="0" cy="58428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352000" y="3924360"/>
              <a:ext cx="0" cy="9036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298080" cy="697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373040" y="0"/>
            <a:ext cx="63979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209520"/>
            <a:ext cx="9144000" cy="6438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762120"/>
            <a:ext cx="9144000" cy="5302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1962000" y="1449360"/>
            <a:ext cx="4815000" cy="3691080"/>
            <a:chOff x="1962000" y="1449360"/>
            <a:chExt cx="4815000" cy="3691080"/>
          </a:xfrm>
        </p:grpSpPr>
        <p:sp>
          <p:nvSpPr>
            <p:cNvPr id="333" name=""/>
            <p:cNvSpPr/>
            <p:nvPr/>
          </p:nvSpPr>
          <p:spPr>
            <a:xfrm>
              <a:off x="1962000" y="2190600"/>
              <a:ext cx="1187640" cy="2214720"/>
            </a:xfrm>
            <a:prstGeom prst="rect">
              <a:avLst/>
            </a:prstGeom>
            <a:noFill/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62000" y="2190600"/>
              <a:ext cx="594000" cy="5526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2556000" y="2190240"/>
              <a:ext cx="593640" cy="5526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2556000" y="1452600"/>
              <a:ext cx="0" cy="738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556000" y="4405320"/>
              <a:ext cx="0" cy="7351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556000" y="1452600"/>
              <a:ext cx="236988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556000" y="5140440"/>
              <a:ext cx="236988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4332240" y="3664080"/>
              <a:ext cx="0" cy="14731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32240" y="1449360"/>
              <a:ext cx="0" cy="18432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037040" y="3292560"/>
              <a:ext cx="59220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40040" y="3664080"/>
              <a:ext cx="118584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3740040" y="3292560"/>
              <a:ext cx="0" cy="3715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925880" y="3292560"/>
              <a:ext cx="0" cy="3715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630840" y="3019320"/>
              <a:ext cx="146160" cy="185760"/>
            </a:xfrm>
            <a:prstGeom prst="ellipse">
              <a:avLst/>
            </a:prstGeom>
            <a:noFill/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flipV="1">
              <a:off x="6408360" y="3111120"/>
              <a:ext cx="298440" cy="9241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59680" y="3297240"/>
              <a:ext cx="0" cy="5526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59680" y="3573360"/>
              <a:ext cx="29844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925880" y="5140440"/>
              <a:ext cx="177804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703920" y="4035240"/>
              <a:ext cx="0" cy="11048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6703920" y="1452600"/>
              <a:ext cx="0" cy="15667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4925520" y="1452600"/>
              <a:ext cx="177804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332240" y="2001960"/>
              <a:ext cx="0" cy="4618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14400" y="2033640"/>
              <a:ext cx="19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Viner Hand ITC"/>
                </a:rPr>
                <a:t>i = C dv/d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>
            <a:hlinkClick r:id="rId1" action="ppaction://hlinksldjump"/>
          </p:cNvPr>
          <p:cNvSpPr/>
          <p:nvPr/>
        </p:nvSpPr>
        <p:spPr>
          <a:xfrm>
            <a:off x="206280" y="0"/>
            <a:ext cx="8937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954000"/>
            <a:ext cx="9144000" cy="58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Quelques liens uti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ffff00"/>
                </a:solidFill>
                <a:uFillTx/>
                <a:latin typeface="Comic Sans MS"/>
                <a:hlinkClick r:id="rId1"/>
              </a:rPr>
              <a:t>http://www.retscreen.net/</a:t>
            </a:r>
            <a:r>
              <a:rPr b="1" lang="fr-FR" sz="1400" spc="-1" strike="noStrike">
                <a:solidFill>
                  <a:srgbClr val="ffffff"/>
                </a:solidFill>
                <a:latin typeface="Comic Sans MS"/>
              </a:rPr>
              <a:t> Site Canadien : une mine de cours, de documents et d’outils logici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ffff00"/>
                </a:solidFill>
                <a:uFillTx/>
                <a:latin typeface="Comic Sans MS"/>
                <a:hlinkClick r:id="rId2"/>
              </a:rPr>
              <a:t>http://www.stellarium.org/fr/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ffffff"/>
                </a:solidFill>
                <a:latin typeface="Comic Sans MS"/>
              </a:rPr>
              <a:t>Véritable planétarium, donne les coordonnées du soleil avec préc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</a:rPr>
              <a:t>http://www.ines-solaire.fr/calsol/ </a:t>
            </a:r>
            <a:r>
              <a:rPr b="1" lang="fr-FR" sz="1400" spc="-1" strike="noStrike">
                <a:solidFill>
                  <a:srgbClr val="ffffff"/>
                </a:solidFill>
                <a:latin typeface="Comic Sans MS"/>
              </a:rPr>
              <a:t>Logiciel CALSOL, gisement solaire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mic Sans MS"/>
              </a:rPr>
              <a:t>http://www.energies-renouvelables.org Une foule d’infos, les fiches pédagogiques de l’Observ’ER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mic Sans MS"/>
              </a:rPr>
              <a:t>http://www.cler.org </a:t>
            </a:r>
            <a:r>
              <a:rPr b="1" lang="fr-FR" sz="1400" spc="-1" strike="noStrike">
                <a:solidFill>
                  <a:srgbClr val="ffffff"/>
                </a:solidFill>
                <a:latin typeface="Comic Sans MS"/>
              </a:rPr>
              <a:t>Comité de Liaison Energies Renouvel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mic Sans MS"/>
              </a:rPr>
              <a:t>http://www.ademe.fr/ : Agence de l'Environnement et de la Maîtrise de l'Energie http://ged.tenesol.com/ L'application de gestion documentaire de Tenes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mic Sans MS"/>
              </a:rPr>
              <a:t>http://www.smde30.com/TempSite/17426.asp?rang Exemples dans le G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mic Sans MS"/>
              </a:rPr>
              <a:t>http://www.sehv.fr/indexElec.htm Tarifs extension réseau en Haute Vien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mic Sans MS"/>
              </a:rPr>
              <a:t>http://www.cg66.fr/environnement/solaire/photovoltaique/index.html#Cout Coût de l’électrification sites isolés en Pyrénées Orien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mic Sans MS"/>
              </a:rPr>
              <a:t>http://www.edf.fr/72009i/Accueil-fr/Les-energies-EDF/Les-energies-renouvelables/Solaire.html Le solaire sur le site E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1" lang="fr-FR" sz="1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" action="ppaction://hlinkshowjump?jump=firstslide"/>
          </p:cNvPr>
          <p:cNvSpPr/>
          <p:nvPr/>
        </p:nvSpPr>
        <p:spPr>
          <a:xfrm>
            <a:off x="8469360" y="6308640"/>
            <a:ext cx="674640" cy="549360"/>
          </a:xfrm>
          <a:custGeom>
            <a:avLst/>
            <a:gdLst>
              <a:gd name="textAreaLeft" fmla="*/ 35280 w 674640"/>
              <a:gd name="textAreaRight" fmla="*/ 639360 w 674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523" h="21600">
                <a:moveTo>
                  <a:pt x="0" y="0"/>
                </a:moveTo>
                <a:lnTo>
                  <a:pt x="26523" y="0"/>
                </a:lnTo>
                <a:lnTo>
                  <a:pt x="26523" y="21600"/>
                </a:lnTo>
                <a:lnTo>
                  <a:pt x="0" y="21600"/>
                </a:lnTo>
                <a:close/>
              </a:path>
              <a:path fill="lightenLess" w="26523" h="21600">
                <a:moveTo>
                  <a:pt x="0" y="0"/>
                </a:moveTo>
                <a:lnTo>
                  <a:pt x="26523" y="0"/>
                </a:lnTo>
                <a:lnTo>
                  <a:pt x="25123" y="1400"/>
                </a:lnTo>
                <a:lnTo>
                  <a:pt x="1400" y="1400"/>
                </a:lnTo>
                <a:close/>
              </a:path>
              <a:path fill="darken" w="26523" h="21600">
                <a:moveTo>
                  <a:pt x="26523" y="0"/>
                </a:moveTo>
                <a:lnTo>
                  <a:pt x="26523" y="21600"/>
                </a:lnTo>
                <a:lnTo>
                  <a:pt x="25123" y="20200"/>
                </a:lnTo>
                <a:lnTo>
                  <a:pt x="25123" y="1400"/>
                </a:lnTo>
                <a:close/>
              </a:path>
              <a:path fill="darkenLess" w="26523" h="21600">
                <a:moveTo>
                  <a:pt x="26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23" y="20200"/>
                </a:lnTo>
                <a:close/>
              </a:path>
              <a:path fill="lighten" w="26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23" h="21600">
                <a:moveTo>
                  <a:pt x="13261" y="3837"/>
                </a:moveTo>
                <a:lnTo>
                  <a:pt x="15838" y="6448"/>
                </a:lnTo>
                <a:lnTo>
                  <a:pt x="15838" y="4707"/>
                </a:lnTo>
                <a:lnTo>
                  <a:pt x="17613" y="4707"/>
                </a:lnTo>
                <a:lnTo>
                  <a:pt x="17613" y="8224"/>
                </a:lnTo>
                <a:lnTo>
                  <a:pt x="20224" y="10800"/>
                </a:lnTo>
                <a:lnTo>
                  <a:pt x="18571" y="10800"/>
                </a:lnTo>
                <a:lnTo>
                  <a:pt x="18571" y="17989"/>
                </a:lnTo>
                <a:lnTo>
                  <a:pt x="7952" y="17989"/>
                </a:lnTo>
                <a:lnTo>
                  <a:pt x="7952" y="10800"/>
                </a:lnTo>
                <a:lnTo>
                  <a:pt x="6298" y="10800"/>
                </a:lnTo>
                <a:close/>
              </a:path>
              <a:path fill="darkenLess" w="26523" h="21600">
                <a:moveTo>
                  <a:pt x="15838" y="6448"/>
                </a:moveTo>
                <a:lnTo>
                  <a:pt x="15838" y="4707"/>
                </a:lnTo>
                <a:lnTo>
                  <a:pt x="17613" y="4707"/>
                </a:lnTo>
                <a:lnTo>
                  <a:pt x="17613" y="8224"/>
                </a:lnTo>
                <a:close/>
              </a:path>
              <a:path fill="darkenLess" w="26523" h="21600">
                <a:moveTo>
                  <a:pt x="12339" y="14299"/>
                </a:moveTo>
                <a:lnTo>
                  <a:pt x="14184" y="14299"/>
                </a:lnTo>
                <a:lnTo>
                  <a:pt x="14184" y="17989"/>
                </a:lnTo>
                <a:lnTo>
                  <a:pt x="18571" y="17989"/>
                </a:lnTo>
                <a:lnTo>
                  <a:pt x="18571" y="10800"/>
                </a:lnTo>
                <a:lnTo>
                  <a:pt x="7952" y="10800"/>
                </a:lnTo>
                <a:lnTo>
                  <a:pt x="7952" y="17989"/>
                </a:lnTo>
                <a:lnTo>
                  <a:pt x="12339" y="17989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">
            <a:hlinkClick r:id="rId3" action="ppaction://hlinksldjump"/>
          </p:cNvPr>
          <p:cNvSpPr/>
          <p:nvPr/>
        </p:nvSpPr>
        <p:spPr>
          <a:xfrm>
            <a:off x="6237360" y="728640"/>
            <a:ext cx="130500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rId4" action="ppaction://hlinksldjump"/>
          </p:cNvPr>
          <p:cNvSpPr/>
          <p:nvPr/>
        </p:nvSpPr>
        <p:spPr>
          <a:xfrm>
            <a:off x="1557360" y="2664000"/>
            <a:ext cx="1484280" cy="29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747360" cy="6921360"/>
          </a:xfrm>
          <a:prstGeom prst="rect">
            <a:avLst/>
          </a:prstGeom>
          <a:ln w="0">
            <a:noFill/>
          </a:ln>
        </p:spPr>
      </p:pic>
      <p:sp>
        <p:nvSpPr>
          <p:cNvPr id="282" name="">
            <a:hlinkClick r:id="rId3" action="ppaction://hlinksldjump"/>
          </p:cNvPr>
          <p:cNvSpPr/>
          <p:nvPr/>
        </p:nvSpPr>
        <p:spPr>
          <a:xfrm>
            <a:off x="746280" y="5229360"/>
            <a:ext cx="171108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847880" y="-171360"/>
            <a:ext cx="5449680" cy="729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112840" y="195120"/>
            <a:ext cx="4916520" cy="6554880"/>
          </a:xfrm>
          <a:prstGeom prst="rect">
            <a:avLst/>
          </a:prstGeom>
          <a:ln w="0">
            <a:noFill/>
          </a:ln>
        </p:spPr>
      </p:pic>
      <p:sp>
        <p:nvSpPr>
          <p:cNvPr id="286" name="">
            <a:hlinkClick r:id="rId3" action="ppaction://hlinksldjump"/>
          </p:cNvPr>
          <p:cNvSpPr/>
          <p:nvPr/>
        </p:nvSpPr>
        <p:spPr>
          <a:xfrm>
            <a:off x="2185920" y="907920"/>
            <a:ext cx="3151080" cy="2565360"/>
          </a:xfrm>
          <a:prstGeom prst="parallelogram">
            <a:avLst>
              <a:gd name="adj" fmla="val 3070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>
            <a:hlinkClick r:id="rId4" action="ppaction://hlinksldjump"/>
          </p:cNvPr>
          <p:cNvSpPr/>
          <p:nvPr/>
        </p:nvSpPr>
        <p:spPr>
          <a:xfrm>
            <a:off x="5786280" y="2843280"/>
            <a:ext cx="76536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rId5" action="ppaction://hlinksldjump"/>
          </p:cNvPr>
          <p:cNvSpPr/>
          <p:nvPr/>
        </p:nvSpPr>
        <p:spPr>
          <a:xfrm>
            <a:off x="5337000" y="1494000"/>
            <a:ext cx="946440" cy="1395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6:10:30Z</dcterms:created>
  <dc:creator>rp</dc:creator>
  <dc:description/>
  <dc:language>en-US</dc:language>
  <cp:lastModifiedBy>RESELEC</cp:lastModifiedBy>
  <dcterms:modified xsi:type="dcterms:W3CDTF">2008-07-11T12:12:45Z</dcterms:modified>
  <cp:revision>57</cp:revision>
  <dc:subject/>
  <dc:title>Diapositive 1</dc:title>
</cp:coreProperties>
</file>