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8875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774960" y="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-1800" y="9373680"/>
            <a:ext cx="28875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3774960" y="9373680"/>
            <a:ext cx="288792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6EFAA7-9572-4FC3-86C7-DDBC5317C05B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887040" y="4686480"/>
            <a:ext cx="4886280" cy="437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Img"/>
          </p:nvPr>
        </p:nvSpPr>
        <p:spPr>
          <a:xfrm>
            <a:off x="1031400" y="850680"/>
            <a:ext cx="459756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774960" y="9373680"/>
            <a:ext cx="288792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3CB1E4-321D-4941-BADA-314F478A9D1E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1800" y="9373680"/>
            <a:ext cx="28875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1800" y="0"/>
            <a:ext cx="28875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774960" y="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774960" y="9373680"/>
            <a:ext cx="288792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0BA7C8-7FCC-4C41-BE51-683003C3FDE9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1800" y="9373680"/>
            <a:ext cx="28875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1800" y="0"/>
            <a:ext cx="28875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774960" y="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213440"/>
            <a:ext cx="7924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6240" y="42134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4920" y="190512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90512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21344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64920" y="421344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421344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A1F-426A-4C3B-A6F4-3AB2BEB9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5AF-BDD6-47E6-B158-DDB6F9FD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78D-696B-4A29-9390-E992B373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8C4-6854-4553-A298-EE9E731C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535-21DE-437B-8B91-665E165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666880" y="108000"/>
            <a:ext cx="64771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300-7A7B-45A7-A280-38DC6C6E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8F1-0F49-4644-A632-AA3CE980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6240" y="42134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6A7-7D89-4BD6-811C-7E7BC97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7924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4C7-A73D-4207-AAFB-D95422FB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4213440"/>
            <a:ext cx="7924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679-8449-462F-A939-57152B3B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6240" y="42134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52E-DC36-4C6B-80CA-DAB44A03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4920" y="190512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90512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421344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4920" y="421344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4213440"/>
            <a:ext cx="2551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3D4-6448-4410-8BDB-238899AA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6880" y="108000"/>
            <a:ext cx="64771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6240" y="421344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905120"/>
            <a:ext cx="3867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792468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2" name="logo_eprp" descr=""/>
          <p:cNvPicPr/>
          <p:nvPr/>
        </p:nvPicPr>
        <p:blipFill>
          <a:blip r:embed="rId2"/>
          <a:stretch/>
        </p:blipFill>
        <p:spPr>
          <a:xfrm>
            <a:off x="0" y="0"/>
            <a:ext cx="2598840" cy="11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81A4-D077-49B7-81EA-EAAA51CDDD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n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3086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380520" y="236232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45720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2" marL="914400" algn="ctr">
              <a:spcBef>
                <a:spcPts val="624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33520" y="1905120"/>
            <a:ext cx="7381800" cy="34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GINORME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1593720"/>
            <a:ext cx="3962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Narrow"/>
              </a:rPr>
              <a:t>Menu: A propos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62120" y="2548080"/>
            <a:ext cx="4219560" cy="3914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16280" cy="819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6477120" y="1600200"/>
            <a:ext cx="1295280" cy="1295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447920"/>
            <a:ext cx="495324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 logos du tableau de bor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6392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1523520" y="2362320"/>
            <a:ext cx="5410800" cy="1371600"/>
            <a:chOff x="1523520" y="2362320"/>
            <a:chExt cx="5410800" cy="1371600"/>
          </a:xfrm>
        </p:grpSpPr>
        <p:sp>
          <p:nvSpPr>
            <p:cNvPr id="163" name=""/>
            <p:cNvSpPr/>
            <p:nvPr/>
          </p:nvSpPr>
          <p:spPr>
            <a:xfrm>
              <a:off x="4419720" y="2362320"/>
              <a:ext cx="251460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Liste de no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523520" y="2666880"/>
              <a:ext cx="3048120" cy="10670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914040" y="2438280"/>
            <a:ext cx="6248520" cy="1295280"/>
            <a:chOff x="914040" y="2438280"/>
            <a:chExt cx="6248520" cy="1295280"/>
          </a:xfrm>
        </p:grpSpPr>
        <p:sp>
          <p:nvSpPr>
            <p:cNvPr id="166" name=""/>
            <p:cNvSpPr/>
            <p:nvPr/>
          </p:nvSpPr>
          <p:spPr>
            <a:xfrm>
              <a:off x="5079960" y="2438280"/>
              <a:ext cx="208260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Impress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914040" y="2742840"/>
              <a:ext cx="4165560" cy="9907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057040" y="2438280"/>
            <a:ext cx="5181480" cy="1371600"/>
            <a:chOff x="2057040" y="2438280"/>
            <a:chExt cx="5181480" cy="1371600"/>
          </a:xfrm>
        </p:grpSpPr>
        <p:sp>
          <p:nvSpPr>
            <p:cNvPr id="169" name=""/>
            <p:cNvSpPr/>
            <p:nvPr/>
          </p:nvSpPr>
          <p:spPr>
            <a:xfrm>
              <a:off x="4495680" y="2438280"/>
              <a:ext cx="274284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Bloc note person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057040" y="2742840"/>
              <a:ext cx="2438280" cy="10670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638680" y="2666880"/>
            <a:ext cx="1752840" cy="990720"/>
            <a:chOff x="5638680" y="2666880"/>
            <a:chExt cx="1752840" cy="990720"/>
          </a:xfrm>
        </p:grpSpPr>
        <p:sp>
          <p:nvSpPr>
            <p:cNvPr id="172" name=""/>
            <p:cNvSpPr/>
            <p:nvPr/>
          </p:nvSpPr>
          <p:spPr>
            <a:xfrm>
              <a:off x="5638680" y="2666880"/>
              <a:ext cx="99072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Ai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2895480"/>
              <a:ext cx="914400" cy="7621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43200" y="2362320"/>
            <a:ext cx="4419720" cy="1371600"/>
            <a:chOff x="2743200" y="2362320"/>
            <a:chExt cx="4419720" cy="1371600"/>
          </a:xfrm>
        </p:grpSpPr>
        <p:sp>
          <p:nvSpPr>
            <p:cNvPr id="175" name=""/>
            <p:cNvSpPr/>
            <p:nvPr/>
          </p:nvSpPr>
          <p:spPr>
            <a:xfrm>
              <a:off x="4419720" y="2362320"/>
              <a:ext cx="274320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Boite à messag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743200" y="2666880"/>
              <a:ext cx="1905120" cy="10670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76720" y="2514600"/>
            <a:ext cx="3962160" cy="1294920"/>
            <a:chOff x="3276720" y="2514600"/>
            <a:chExt cx="3962160" cy="1294920"/>
          </a:xfrm>
        </p:grpSpPr>
        <p:sp>
          <p:nvSpPr>
            <p:cNvPr id="178" name=""/>
            <p:cNvSpPr/>
            <p:nvPr/>
          </p:nvSpPr>
          <p:spPr>
            <a:xfrm>
              <a:off x="4495680" y="2514600"/>
              <a:ext cx="274320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Notes de corr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276720" y="2742840"/>
              <a:ext cx="1295280" cy="10666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885840" y="2514600"/>
            <a:ext cx="2895840" cy="1294920"/>
            <a:chOff x="3885840" y="2514600"/>
            <a:chExt cx="2895840" cy="1294920"/>
          </a:xfrm>
        </p:grpSpPr>
        <p:sp>
          <p:nvSpPr>
            <p:cNvPr id="181" name=""/>
            <p:cNvSpPr/>
            <p:nvPr/>
          </p:nvSpPr>
          <p:spPr>
            <a:xfrm>
              <a:off x="4038480" y="2514600"/>
              <a:ext cx="274320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Dictionnai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885840" y="2742840"/>
              <a:ext cx="685800" cy="10666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05320" y="2438280"/>
            <a:ext cx="3200400" cy="1295640"/>
            <a:chOff x="3505320" y="2438280"/>
            <a:chExt cx="3200400" cy="1295640"/>
          </a:xfrm>
        </p:grpSpPr>
        <p:sp>
          <p:nvSpPr>
            <p:cNvPr id="184" name=""/>
            <p:cNvSpPr/>
            <p:nvPr/>
          </p:nvSpPr>
          <p:spPr>
            <a:xfrm>
              <a:off x="3505320" y="2438280"/>
              <a:ext cx="3200400" cy="7038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Localisation des notes de corr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280" y="2971800"/>
              <a:ext cx="228600" cy="7621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505320" y="2438280"/>
            <a:ext cx="3276360" cy="1295640"/>
            <a:chOff x="3505320" y="2438280"/>
            <a:chExt cx="3276360" cy="1295640"/>
          </a:xfrm>
        </p:grpSpPr>
        <p:sp>
          <p:nvSpPr>
            <p:cNvPr id="187" name=""/>
            <p:cNvSpPr/>
            <p:nvPr/>
          </p:nvSpPr>
          <p:spPr>
            <a:xfrm>
              <a:off x="3505320" y="2438280"/>
              <a:ext cx="3200400" cy="7038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Visualisation des risques engendr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7280" y="2971800"/>
              <a:ext cx="914400" cy="7621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Impressio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715000" cy="4095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775280" cy="1249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14400" y="1676520"/>
            <a:ext cx="1219320" cy="16002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Narrow"/>
              </a:rPr>
              <a:t>Iiste de nor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876640" cy="3962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775280" cy="1249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600200" y="1752480"/>
            <a:ext cx="609480" cy="16765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Narrow"/>
              </a:rPr>
              <a:t>Bloc no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715000" cy="3056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775280" cy="1249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057400" y="1676520"/>
            <a:ext cx="685800" cy="16761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Narrow"/>
              </a:rPr>
              <a:t>Boite à mess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5562720" cy="3168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775280" cy="1249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90920" y="1676520"/>
            <a:ext cx="990360" cy="17524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Narrow"/>
              </a:rPr>
              <a:t>Notes de corr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876920" cy="1976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775280" cy="1249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H="1">
            <a:off x="2819520" y="1752480"/>
            <a:ext cx="457200" cy="13716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Narrow"/>
              </a:rPr>
              <a:t>Dictionnai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5191200" cy="281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775280" cy="1249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62520" y="1676520"/>
            <a:ext cx="228600" cy="16002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0512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Narrow"/>
              </a:rPr>
              <a:t>Lien risque engendr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7791480" cy="2238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775280" cy="1249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H="1">
            <a:off x="4723920" y="1676520"/>
            <a:ext cx="2133720" cy="20574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5333760" cy="4445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371600" y="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Narrow"/>
              </a:rPr>
              <a:t>A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775280" cy="1249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4952880" y="1676520"/>
            <a:ext cx="2362320" cy="17524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16208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Tableau de bo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Narrow"/>
              </a:rPr>
              <a:t>A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775280" cy="124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H="1">
            <a:off x="4800240" y="1752480"/>
            <a:ext cx="2514600" cy="28195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1447920"/>
            <a:ext cx="533412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 différents modes de travail</a:t>
            </a:r>
            <a:r>
              <a:rPr b="1" lang="en-US" sz="2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914400" y="4419720"/>
            <a:ext cx="7543800" cy="2133000"/>
            <a:chOff x="914400" y="4419720"/>
            <a:chExt cx="7543800" cy="213300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914400" y="5015520"/>
              <a:ext cx="7543800" cy="1537200"/>
            </a:xfrm>
            <a:prstGeom prst="rect">
              <a:avLst/>
            </a:prstGeom>
            <a:ln w="9360">
              <a:solidFill>
                <a:srgbClr val="0000cc"/>
              </a:solidFill>
              <a:miter/>
            </a:ln>
          </p:spPr>
        </p:pic>
        <p:sp>
          <p:nvSpPr>
            <p:cNvPr id="229" name=""/>
            <p:cNvSpPr/>
            <p:nvPr/>
          </p:nvSpPr>
          <p:spPr>
            <a:xfrm>
              <a:off x="3709080" y="4419720"/>
              <a:ext cx="317232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Mode superviseu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219640" y="4791960"/>
              <a:ext cx="75600" cy="521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990720" y="1981080"/>
            <a:ext cx="7467480" cy="2209680"/>
            <a:chOff x="990720" y="1981080"/>
            <a:chExt cx="7467480" cy="220968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990720" y="2583720"/>
              <a:ext cx="7467480" cy="1607040"/>
            </a:xfrm>
            <a:prstGeom prst="rect">
              <a:avLst/>
            </a:prstGeom>
            <a:ln w="9360">
              <a:solidFill>
                <a:srgbClr val="0000cc"/>
              </a:solidFill>
              <a:miter/>
            </a:ln>
          </p:spPr>
        </p:pic>
        <p:sp>
          <p:nvSpPr>
            <p:cNvPr id="233" name=""/>
            <p:cNvSpPr/>
            <p:nvPr/>
          </p:nvSpPr>
          <p:spPr>
            <a:xfrm>
              <a:off x="3597480" y="1981080"/>
              <a:ext cx="312840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Mode concep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087520" y="2315880"/>
              <a:ext cx="74160" cy="468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7591320" cy="2790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09480" y="1447920"/>
            <a:ext cx="312444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Mode supervi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962520" y="4495680"/>
            <a:ext cx="2685960" cy="14860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1294920" y="1523880"/>
            <a:ext cx="7849080" cy="3353040"/>
            <a:chOff x="1294920" y="1523880"/>
            <a:chExt cx="7849080" cy="3353040"/>
          </a:xfrm>
        </p:grpSpPr>
        <p:sp>
          <p:nvSpPr>
            <p:cNvPr id="240" name=""/>
            <p:cNvSpPr/>
            <p:nvPr/>
          </p:nvSpPr>
          <p:spPr>
            <a:xfrm>
              <a:off x="4876920" y="1523880"/>
              <a:ext cx="4267080" cy="13262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1 - Menu fich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2 - Accès mode superviseu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3 - Code « DIAX 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294920" y="1752480"/>
              <a:ext cx="3505320" cy="13716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209320" y="2209680"/>
              <a:ext cx="2590920" cy="2667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743200"/>
              <a:ext cx="0" cy="16765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581960" cy="2886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447920"/>
            <a:ext cx="312444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Mode supervi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7543800" cy="230508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2819520" y="2362320"/>
            <a:ext cx="4952880" cy="1600200"/>
            <a:chOff x="2819520" y="2362320"/>
            <a:chExt cx="4952880" cy="1600200"/>
          </a:xfrm>
        </p:grpSpPr>
        <p:sp>
          <p:nvSpPr>
            <p:cNvPr id="250" name=""/>
            <p:cNvSpPr/>
            <p:nvPr/>
          </p:nvSpPr>
          <p:spPr>
            <a:xfrm>
              <a:off x="4648320" y="2362320"/>
              <a:ext cx="312408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- Gestion des verr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819520" y="2666880"/>
              <a:ext cx="1828800" cy="12956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447920"/>
            <a:ext cx="312444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Mode supervi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9480" y="1447920"/>
            <a:ext cx="464832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Retour au mode concep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7533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1523520" y="1981080"/>
            <a:ext cx="7315200" cy="3352680"/>
            <a:chOff x="1523520" y="1981080"/>
            <a:chExt cx="7315200" cy="3352680"/>
          </a:xfrm>
        </p:grpSpPr>
        <p:sp>
          <p:nvSpPr>
            <p:cNvPr id="257" name=""/>
            <p:cNvSpPr/>
            <p:nvPr/>
          </p:nvSpPr>
          <p:spPr>
            <a:xfrm>
              <a:off x="4861800" y="1981080"/>
              <a:ext cx="3976920" cy="8625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1 - Menu fich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2 - Accès mode conception élè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523520" y="2204280"/>
              <a:ext cx="3267000" cy="1117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162520" y="2726280"/>
              <a:ext cx="2698920" cy="26074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858000" cy="4686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Tableau de bord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447920"/>
            <a:ext cx="464832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Retour au mode concep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34120" cy="10857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grpSp>
        <p:nvGrpSpPr>
          <p:cNvPr id="265" name=""/>
          <p:cNvGrpSpPr/>
          <p:nvPr/>
        </p:nvGrpSpPr>
        <p:grpSpPr>
          <a:xfrm>
            <a:off x="228600" y="4495680"/>
            <a:ext cx="4267080" cy="1694520"/>
            <a:chOff x="228600" y="4495680"/>
            <a:chExt cx="4267080" cy="1694520"/>
          </a:xfrm>
        </p:grpSpPr>
        <p:sp>
          <p:nvSpPr>
            <p:cNvPr id="266" name=""/>
            <p:cNvSpPr/>
            <p:nvPr/>
          </p:nvSpPr>
          <p:spPr>
            <a:xfrm>
              <a:off x="228600" y="5486400"/>
              <a:ext cx="4267080" cy="7038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Contraintes initiales du point de vue sélectionné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1447560" y="4495680"/>
              <a:ext cx="609480" cy="10670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343400" y="2133720"/>
            <a:ext cx="4267080" cy="1904760"/>
            <a:chOff x="4343400" y="2133720"/>
            <a:chExt cx="4267080" cy="1904760"/>
          </a:xfrm>
        </p:grpSpPr>
        <p:sp>
          <p:nvSpPr>
            <p:cNvPr id="269" name=""/>
            <p:cNvSpPr/>
            <p:nvPr/>
          </p:nvSpPr>
          <p:spPr>
            <a:xfrm>
              <a:off x="4343400" y="2133720"/>
              <a:ext cx="4267080" cy="7038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Contraintes émises vers un point de vue suiva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791320" y="2819520"/>
              <a:ext cx="380880" cy="12189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572000" y="4495680"/>
            <a:ext cx="4267080" cy="1694520"/>
            <a:chOff x="4572000" y="4495680"/>
            <a:chExt cx="4267080" cy="1694520"/>
          </a:xfrm>
        </p:grpSpPr>
        <p:sp>
          <p:nvSpPr>
            <p:cNvPr id="272" name=""/>
            <p:cNvSpPr/>
            <p:nvPr/>
          </p:nvSpPr>
          <p:spPr>
            <a:xfrm>
              <a:off x="4572000" y="5486400"/>
              <a:ext cx="4267080" cy="7038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Contraintes induites par un point de vue précéd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5790960" y="4495680"/>
              <a:ext cx="609480" cy="10670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447920"/>
            <a:ext cx="464832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 contrain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438280" y="2666880"/>
            <a:ext cx="41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omment insérer un nouveau phénomène dangere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639200" cy="1828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grpSp>
        <p:nvGrpSpPr>
          <p:cNvPr id="279" name=""/>
          <p:cNvGrpSpPr/>
          <p:nvPr/>
        </p:nvGrpSpPr>
        <p:grpSpPr>
          <a:xfrm>
            <a:off x="457200" y="4495680"/>
            <a:ext cx="4267080" cy="1999440"/>
            <a:chOff x="457200" y="4495680"/>
            <a:chExt cx="4267080" cy="1999440"/>
          </a:xfrm>
        </p:grpSpPr>
        <p:sp>
          <p:nvSpPr>
            <p:cNvPr id="280" name=""/>
            <p:cNvSpPr/>
            <p:nvPr/>
          </p:nvSpPr>
          <p:spPr>
            <a:xfrm>
              <a:off x="457200" y="5486400"/>
              <a:ext cx="4267080" cy="10087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Pour un nouveau phénomène dangereux non associé à un point de vue, cliquez dans cette c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1676160" y="4495680"/>
              <a:ext cx="609480" cy="10670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504960" y="1523880"/>
            <a:ext cx="5105520" cy="3047760"/>
            <a:chOff x="3504960" y="1523880"/>
            <a:chExt cx="5105520" cy="3047760"/>
          </a:xfrm>
        </p:grpSpPr>
        <p:sp>
          <p:nvSpPr>
            <p:cNvPr id="283" name=""/>
            <p:cNvSpPr/>
            <p:nvPr/>
          </p:nvSpPr>
          <p:spPr>
            <a:xfrm>
              <a:off x="4343400" y="1523880"/>
              <a:ext cx="4267080" cy="13136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Pour un nouveau phénomène dangereux associé à une limite d ’un point de vue, cliquez dans  la case de la limite corresponda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504960" y="2095200"/>
              <a:ext cx="1066680" cy="2476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57200" y="1600200"/>
            <a:ext cx="37339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Nouveau phénomène dangereu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3886200" cy="3809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57800" y="5257800"/>
            <a:ext cx="363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hoix possib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Choix de la lan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8229600" cy="1854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1523880"/>
            <a:ext cx="533160" cy="3581640"/>
          </a:xfrm>
          <a:prstGeom prst="line">
            <a:avLst/>
          </a:prstGeom>
          <a:ln cap="sq"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429000" y="2055960"/>
            <a:ext cx="5457960" cy="4182840"/>
            <a:chOff x="3429000" y="2055960"/>
            <a:chExt cx="5457960" cy="418284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3429000" y="2819520"/>
              <a:ext cx="5457960" cy="3419280"/>
            </a:xfrm>
            <a:prstGeom prst="rect">
              <a:avLst/>
            </a:prstGeom>
            <a:ln w="9360">
              <a:solidFill>
                <a:srgbClr val="0000cc"/>
              </a:solidFill>
              <a:miter/>
            </a:ln>
          </p:spPr>
        </p:pic>
        <p:sp>
          <p:nvSpPr>
            <p:cNvPr id="289" name=""/>
            <p:cNvSpPr/>
            <p:nvPr/>
          </p:nvSpPr>
          <p:spPr>
            <a:xfrm>
              <a:off x="5670720" y="2055960"/>
              <a:ext cx="257328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Cliquez sur le bou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2438280"/>
              <a:ext cx="1143000" cy="1143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91880" y="2743200"/>
            <a:ext cx="8632800" cy="3781440"/>
            <a:chOff x="191880" y="2743200"/>
            <a:chExt cx="8632800" cy="3781440"/>
          </a:xfrm>
        </p:grpSpPr>
        <p:sp>
          <p:nvSpPr>
            <p:cNvPr id="292" name=""/>
            <p:cNvSpPr/>
            <p:nvPr/>
          </p:nvSpPr>
          <p:spPr>
            <a:xfrm>
              <a:off x="191880" y="4113360"/>
              <a:ext cx="3082320" cy="8625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Sélectionnez</a:t>
              </a:r>
              <a:r>
                <a:rPr b="0" lang="en-US" sz="2000" spc="-1" strike="noStrike">
                  <a:solidFill>
                    <a:srgbClr val="0000cc"/>
                  </a:solidFill>
                  <a:latin typeface="DomCasual BT"/>
                </a:rPr>
                <a:t> </a:t>
              </a: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u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phénomène dangereu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3634560" y="2743200"/>
              <a:ext cx="5190120" cy="3781440"/>
            </a:xfrm>
            <a:prstGeom prst="rect">
              <a:avLst/>
            </a:prstGeom>
            <a:ln w="9360">
              <a:solidFill>
                <a:srgbClr val="0000cc"/>
              </a:solidFill>
              <a:miter/>
            </a:ln>
          </p:spPr>
        </p:pic>
        <p:sp>
          <p:nvSpPr>
            <p:cNvPr id="294" name=""/>
            <p:cNvSpPr/>
            <p:nvPr/>
          </p:nvSpPr>
          <p:spPr>
            <a:xfrm flipV="1">
              <a:off x="2743560" y="3657240"/>
              <a:ext cx="1262880" cy="685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04920" y="1523880"/>
            <a:ext cx="3733560" cy="884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Nouveau phénomène dangereu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20560" y="2819520"/>
            <a:ext cx="8194680" cy="3409920"/>
            <a:chOff x="520560" y="2819520"/>
            <a:chExt cx="8194680" cy="3409920"/>
          </a:xfrm>
        </p:grpSpPr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3276360" y="2819520"/>
              <a:ext cx="5438880" cy="3409920"/>
            </a:xfrm>
            <a:prstGeom prst="rect">
              <a:avLst/>
            </a:prstGeom>
            <a:ln w="9360">
              <a:solidFill>
                <a:srgbClr val="0000cc"/>
              </a:solidFill>
              <a:miter/>
            </a:ln>
          </p:spPr>
        </p:pic>
        <p:sp>
          <p:nvSpPr>
            <p:cNvPr id="298" name=""/>
            <p:cNvSpPr/>
            <p:nvPr/>
          </p:nvSpPr>
          <p:spPr>
            <a:xfrm>
              <a:off x="520560" y="4722840"/>
              <a:ext cx="2503440" cy="8625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Complétez l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différentes rubriqu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895480" y="4572000"/>
              <a:ext cx="1143000" cy="5335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95480" y="5105520"/>
              <a:ext cx="1447920" cy="2286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895480" y="4572000"/>
              <a:ext cx="4343400" cy="5335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7775640" cy="1828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666880" y="260280"/>
            <a:ext cx="64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1523880"/>
            <a:ext cx="3733560" cy="884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Nouveau phénomène dangereu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324840" cy="45115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85800" y="1523880"/>
            <a:ext cx="563868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Choix de la situation dangere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1523880"/>
            <a:ext cx="655344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Choix de l’événements déclencheu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324840" cy="44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1523880"/>
            <a:ext cx="373392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Choix du domm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2485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35812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ener l ’analyse complète d ’un phénomène dangere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210440" cy="1000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1600200" y="495288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our ce phénomène dangereux, l ’analyse peut commencer pour le point de vue choisi avec la limite « production normale 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666520" y="2817720"/>
            <a:ext cx="6020640" cy="1220760"/>
            <a:chOff x="2666520" y="2817720"/>
            <a:chExt cx="6020640" cy="1220760"/>
          </a:xfrm>
        </p:grpSpPr>
        <p:sp>
          <p:nvSpPr>
            <p:cNvPr id="321" name=""/>
            <p:cNvSpPr/>
            <p:nvPr/>
          </p:nvSpPr>
          <p:spPr>
            <a:xfrm flipH="1">
              <a:off x="2666520" y="3200400"/>
              <a:ext cx="1295640" cy="8380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95560" y="2817720"/>
              <a:ext cx="569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Cliquez sur la case que vous voulez sélection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80880" y="1371600"/>
            <a:ext cx="1981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Analy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848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295280"/>
            <a:ext cx="731520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Étude de la situation dangere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52280" y="2362320"/>
            <a:ext cx="5410440" cy="3276360"/>
            <a:chOff x="152280" y="2362320"/>
            <a:chExt cx="5410440" cy="3276360"/>
          </a:xfrm>
        </p:grpSpPr>
        <p:sp>
          <p:nvSpPr>
            <p:cNvPr id="328" name=""/>
            <p:cNvSpPr/>
            <p:nvPr/>
          </p:nvSpPr>
          <p:spPr>
            <a:xfrm>
              <a:off x="152280" y="2362320"/>
              <a:ext cx="2362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Décrivez la situation dangereu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33720" y="3200400"/>
              <a:ext cx="342900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3720" y="3200400"/>
              <a:ext cx="990360" cy="24382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57200" y="5334120"/>
            <a:ext cx="4038480" cy="1008720"/>
            <a:chOff x="457200" y="5334120"/>
            <a:chExt cx="4038480" cy="1008720"/>
          </a:xfrm>
        </p:grpSpPr>
        <p:sp>
          <p:nvSpPr>
            <p:cNvPr id="332" name=""/>
            <p:cNvSpPr/>
            <p:nvPr/>
          </p:nvSpPr>
          <p:spPr>
            <a:xfrm>
              <a:off x="457200" y="5334120"/>
              <a:ext cx="2362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Complétez les limites si nécessai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62320" y="5943600"/>
              <a:ext cx="2133360" cy="228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6076800" cy="48765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52280" y="2362320"/>
            <a:ext cx="4648320" cy="1600200"/>
            <a:chOff x="152280" y="2362320"/>
            <a:chExt cx="4648320" cy="1600200"/>
          </a:xfrm>
        </p:grpSpPr>
        <p:sp>
          <p:nvSpPr>
            <p:cNvPr id="337" name=""/>
            <p:cNvSpPr/>
            <p:nvPr/>
          </p:nvSpPr>
          <p:spPr>
            <a:xfrm>
              <a:off x="152280" y="2362320"/>
              <a:ext cx="2362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Précisez l ’événement déclencheu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33720" y="2514600"/>
              <a:ext cx="2666880" cy="5335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3720" y="3048120"/>
              <a:ext cx="1295280" cy="9144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52280" y="4038480"/>
            <a:ext cx="4572000" cy="1219320"/>
            <a:chOff x="152280" y="4038480"/>
            <a:chExt cx="4572000" cy="1219320"/>
          </a:xfrm>
        </p:grpSpPr>
        <p:sp>
          <p:nvSpPr>
            <p:cNvPr id="341" name=""/>
            <p:cNvSpPr/>
            <p:nvPr/>
          </p:nvSpPr>
          <p:spPr>
            <a:xfrm>
              <a:off x="152280" y="4038480"/>
              <a:ext cx="23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Importez les images associé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0" y="4419720"/>
              <a:ext cx="2438280" cy="838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80880" y="1295280"/>
            <a:ext cx="731520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Étude de l’événement déclencheu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520" y="236232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a phase d’analyse du risqu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219320"/>
            <a:ext cx="502920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 points de v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76392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266720" y="2133720"/>
            <a:ext cx="4343760" cy="2057400"/>
            <a:chOff x="4266720" y="2133720"/>
            <a:chExt cx="4343760" cy="2057400"/>
          </a:xfrm>
        </p:grpSpPr>
        <p:sp>
          <p:nvSpPr>
            <p:cNvPr id="99" name=""/>
            <p:cNvSpPr/>
            <p:nvPr/>
          </p:nvSpPr>
          <p:spPr>
            <a:xfrm>
              <a:off x="4343400" y="2133720"/>
              <a:ext cx="4267080" cy="39888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Point de vue sélectionné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266720" y="2514600"/>
              <a:ext cx="1676520" cy="16765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78600" y="54086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dui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25640" y="540864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ductio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23880" y="54086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édé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0400" y="540864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ocessu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64880" y="540864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rtie opérativ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800" y="578952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artie command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5840" y="579132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utillage spécifiqu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47400" y="6170760"/>
            <a:ext cx="41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chine dans  son environn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590920"/>
            <a:ext cx="762012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tière d ’œuvre sur laquelle la machine à étudier apporte une valeur ajout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590920"/>
            <a:ext cx="762012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Ensemble des contraintes de temps, de cadence, de mode de production, de fléxibilité, de qualité et d ’organisation du trav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590920"/>
            <a:ext cx="762012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rincipe d’élaboration d’un produit ou d’accomplissement d’un service préalablement défin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286000"/>
            <a:ext cx="7696440" cy="1008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semble des moyens (humains, matériels et organisationnels) et des procédures permettant de réaliser le procédé conformément aux objectifs de produ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438280"/>
            <a:ext cx="769644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semble des moyens matériels opérant physiquement sur les matières d’œuvre en vue d’assurer la produ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762012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semble des constituants et composants de traitement de l ’inform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514600"/>
            <a:ext cx="762012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semble des outillages conçus spécifiquement pour cette mach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514600"/>
            <a:ext cx="762012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semble des contraintes dues à la mise en œuvre de la machine dans son environn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65720" cy="49658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Première étape: suppression du PH.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6080" y="114300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évention intrinsè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46640" cy="4937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26080" y="114300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évention intrinsè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Première étape: suppression du PH.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88320" cy="4995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6080" y="114300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évention intrinsè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Première étape: Réduction du PH.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95280" y="1498680"/>
            <a:ext cx="7010640" cy="5148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26080" y="114300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évention intrinsè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Première étape: Réduction du PH.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65720" cy="49561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Deuxième étape: Réduction du risque par prot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84800" cy="4975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5892840" cy="23414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666880" y="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Deuxième étape: Réduction du risque par prot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194160" cy="4984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057040" y="1080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Troisième étape: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Réduction par information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215040" cy="43513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108000"/>
            <a:ext cx="7467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Troisième étape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Réduction par inform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756560" cy="20192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06360" y="5029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O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5257800"/>
            <a:ext cx="2666880" cy="0"/>
          </a:xfrm>
          <a:prstGeom prst="line">
            <a:avLst/>
          </a:prstGeom>
          <a:ln cap="sq"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215040" cy="4370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981080" y="108000"/>
            <a:ext cx="7467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Troisième étape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Réduction par inform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215040" cy="43513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55706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6392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200040" y="2133720"/>
            <a:ext cx="5105520" cy="2438280"/>
            <a:chOff x="3200040" y="2133720"/>
            <a:chExt cx="5105520" cy="2438280"/>
          </a:xfrm>
        </p:grpSpPr>
        <p:sp>
          <p:nvSpPr>
            <p:cNvPr id="120" name=""/>
            <p:cNvSpPr/>
            <p:nvPr/>
          </p:nvSpPr>
          <p:spPr>
            <a:xfrm>
              <a:off x="4038480" y="2133720"/>
              <a:ext cx="426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Limites du point de vue sélectionné                      (situations de travail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200040" y="2590920"/>
              <a:ext cx="1066680" cy="198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35560" y="2438280"/>
            <a:ext cx="3355200" cy="3369240"/>
            <a:chOff x="835560" y="2438280"/>
            <a:chExt cx="3355200" cy="3369240"/>
          </a:xfrm>
        </p:grpSpPr>
        <p:sp>
          <p:nvSpPr>
            <p:cNvPr id="124" name=""/>
            <p:cNvSpPr/>
            <p:nvPr/>
          </p:nvSpPr>
          <p:spPr>
            <a:xfrm>
              <a:off x="835560" y="5408640"/>
              <a:ext cx="28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1 - Production normale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590560" y="2438280"/>
              <a:ext cx="1600200" cy="1828800"/>
            </a:xfrm>
            <a:prstGeom prst="line">
              <a:avLst/>
            </a:prstGeom>
            <a:ln cap="sq" w="1260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819520" y="2438280"/>
            <a:ext cx="5276520" cy="3369240"/>
            <a:chOff x="2819520" y="2438280"/>
            <a:chExt cx="5276520" cy="3369240"/>
          </a:xfrm>
        </p:grpSpPr>
        <p:sp>
          <p:nvSpPr>
            <p:cNvPr id="127" name=""/>
            <p:cNvSpPr/>
            <p:nvPr/>
          </p:nvSpPr>
          <p:spPr>
            <a:xfrm>
              <a:off x="4137480" y="5408640"/>
              <a:ext cx="395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2 - Réglage / Dysfonctionnement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819520" y="2438280"/>
              <a:ext cx="1371600" cy="1828800"/>
            </a:xfrm>
            <a:prstGeom prst="line">
              <a:avLst/>
            </a:prstGeom>
            <a:ln cap="sq" w="1260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211400" y="2438280"/>
            <a:ext cx="2979360" cy="3978720"/>
            <a:chOff x="1211400" y="2438280"/>
            <a:chExt cx="2979360" cy="3978720"/>
          </a:xfrm>
        </p:grpSpPr>
        <p:sp>
          <p:nvSpPr>
            <p:cNvPr id="130" name=""/>
            <p:cNvSpPr/>
            <p:nvPr/>
          </p:nvSpPr>
          <p:spPr>
            <a:xfrm>
              <a:off x="1211400" y="6018120"/>
              <a:ext cx="20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3 - Maintenance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71440" y="2438280"/>
              <a:ext cx="1219320" cy="1828800"/>
            </a:xfrm>
            <a:prstGeom prst="line">
              <a:avLst/>
            </a:prstGeom>
            <a:ln cap="sq" w="1260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200400" y="2438280"/>
            <a:ext cx="5128200" cy="3978720"/>
            <a:chOff x="3200400" y="2438280"/>
            <a:chExt cx="5128200" cy="3978720"/>
          </a:xfrm>
        </p:grpSpPr>
        <p:sp>
          <p:nvSpPr>
            <p:cNvPr id="133" name=""/>
            <p:cNvSpPr/>
            <p:nvPr/>
          </p:nvSpPr>
          <p:spPr>
            <a:xfrm>
              <a:off x="3760200" y="6018120"/>
              <a:ext cx="456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4 - Assemblage / Mise en hors service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00400" y="2438280"/>
              <a:ext cx="990720" cy="1905120"/>
            </a:xfrm>
            <a:prstGeom prst="line">
              <a:avLst/>
            </a:prstGeom>
            <a:ln cap="sq" w="1260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529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358128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réation de contraintes vers un point de vue suiv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228600" y="2057400"/>
            <a:ext cx="8724960" cy="4248000"/>
            <a:chOff x="228600" y="2057400"/>
            <a:chExt cx="8724960" cy="4248000"/>
          </a:xfrm>
        </p:grpSpPr>
        <p:pic>
          <p:nvPicPr>
            <p:cNvPr id="379" name="" descr="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605808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28600" y="2743200"/>
              <a:ext cx="259092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Les mesures de protection retenues entraînent des contraintes vers la partie commande pour les mêmes lim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43200" y="3657600"/>
              <a:ext cx="2514600" cy="685800"/>
            </a:xfrm>
            <a:prstGeom prst="line">
              <a:avLst/>
            </a:prstGeom>
            <a:ln w="9360">
              <a:solidFill>
                <a:srgbClr val="f98d4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>
            <a:off x="380880" y="1371600"/>
            <a:ext cx="198144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Analy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990720" y="2057400"/>
            <a:ext cx="7467480" cy="3523320"/>
            <a:chOff x="990720" y="2057400"/>
            <a:chExt cx="7467480" cy="3523320"/>
          </a:xfrm>
        </p:grpSpPr>
        <p:grpSp>
          <p:nvGrpSpPr>
            <p:cNvPr id="385" name=""/>
            <p:cNvGrpSpPr/>
            <p:nvPr/>
          </p:nvGrpSpPr>
          <p:grpSpPr>
            <a:xfrm>
              <a:off x="990720" y="2057400"/>
              <a:ext cx="7248240" cy="2228760"/>
              <a:chOff x="990720" y="2057400"/>
              <a:chExt cx="7248240" cy="2228760"/>
            </a:xfrm>
          </p:grpSpPr>
          <p:pic>
            <p:nvPicPr>
              <p:cNvPr id="3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3276720"/>
                <a:ext cx="7248240" cy="100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3352680" y="2057400"/>
                <a:ext cx="4079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cc"/>
                    </a:solidFill>
                    <a:latin typeface="Arial"/>
                  </a:rPr>
                  <a:t>Procédé retenu: perçage avec foret sur unité de perçag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2743200"/>
                <a:ext cx="228600" cy="685800"/>
              </a:xfrm>
              <a:prstGeom prst="line">
                <a:avLst/>
              </a:prstGeom>
              <a:ln w="9360">
                <a:solidFill>
                  <a:srgbClr val="f98d4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1066680" y="4572000"/>
              <a:ext cx="7391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Situation dangereuse: risque de happement de la main gantée de l ’opérateur en production normale et en réglage lors du chargement/déchargement de la pièc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04920" y="2057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1371600"/>
            <a:ext cx="198144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Analy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2057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traintes indu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45812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1447920" y="3733560"/>
            <a:ext cx="6229080" cy="2266200"/>
            <a:chOff x="1447920" y="3733560"/>
            <a:chExt cx="6229080" cy="2266200"/>
          </a:xfrm>
        </p:grpSpPr>
        <p:sp>
          <p:nvSpPr>
            <p:cNvPr id="396" name=""/>
            <p:cNvSpPr/>
            <p:nvPr/>
          </p:nvSpPr>
          <p:spPr>
            <a:xfrm>
              <a:off x="1447920" y="5295960"/>
              <a:ext cx="62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Écriture d ’une contrainte vers la limite L1 du point de vue partie command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867280" y="3733560"/>
              <a:ext cx="304200" cy="1562040"/>
            </a:xfrm>
            <a:prstGeom prst="line">
              <a:avLst/>
            </a:prstGeom>
            <a:ln w="9360">
              <a:solidFill>
                <a:srgbClr val="f98d4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34290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es pictogrammes du tableau de b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7210440" cy="11908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80880" y="1371600"/>
            <a:ext cx="198144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Analy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2209680"/>
            <a:ext cx="3124440" cy="3904560"/>
            <a:chOff x="5410080" y="2209680"/>
            <a:chExt cx="3124440" cy="3904560"/>
          </a:xfrm>
        </p:grpSpPr>
        <p:sp>
          <p:nvSpPr>
            <p:cNvPr id="404" name=""/>
            <p:cNvSpPr/>
            <p:nvPr/>
          </p:nvSpPr>
          <p:spPr>
            <a:xfrm>
              <a:off x="5715000" y="2209680"/>
              <a:ext cx="220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Contraintes indu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0080" y="5105520"/>
              <a:ext cx="3124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Les contraintes induites ont créé une nouvelle analyse en cou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6400440" y="4114800"/>
              <a:ext cx="228600" cy="914400"/>
            </a:xfrm>
            <a:prstGeom prst="line">
              <a:avLst/>
            </a:prstGeom>
            <a:ln w="9360">
              <a:solidFill>
                <a:srgbClr val="f98d4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76520" y="2133720"/>
            <a:ext cx="3809880" cy="3980160"/>
            <a:chOff x="1676520" y="2133720"/>
            <a:chExt cx="3809880" cy="3980160"/>
          </a:xfrm>
        </p:grpSpPr>
        <p:sp>
          <p:nvSpPr>
            <p:cNvPr id="408" name=""/>
            <p:cNvSpPr/>
            <p:nvPr/>
          </p:nvSpPr>
          <p:spPr>
            <a:xfrm>
              <a:off x="2895480" y="2133720"/>
              <a:ext cx="259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Nouveaux risques engendr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76520" y="5105160"/>
              <a:ext cx="31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La solution retenue a engendré un nouveau phénomène dangereu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505320" y="4114800"/>
              <a:ext cx="838080" cy="990000"/>
            </a:xfrm>
            <a:prstGeom prst="line">
              <a:avLst/>
            </a:prstGeom>
            <a:ln w="9360">
              <a:solidFill>
                <a:srgbClr val="f98d4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34290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Le mode suppression de cell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610400" cy="1791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619760" cy="1562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80880" y="1371600"/>
            <a:ext cx="1981440" cy="488520"/>
          </a:xfrm>
          <a:prstGeom prst="rect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Analy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23623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uppression de cell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52578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n mode suppression de cellules, il suffit de cliquer sur une cellule quelconque pour supprimer son conten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800600" y="4495320"/>
            <a:ext cx="1219320" cy="685800"/>
          </a:xfrm>
          <a:prstGeom prst="line">
            <a:avLst/>
          </a:prstGeom>
          <a:ln w="9360">
            <a:solidFill>
              <a:srgbClr val="f98d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4267080" y="4571640"/>
            <a:ext cx="533520" cy="609480"/>
          </a:xfrm>
          <a:prstGeom prst="line">
            <a:avLst/>
          </a:prstGeom>
          <a:ln w="9360">
            <a:solidFill>
              <a:srgbClr val="f98d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2666520" y="4571640"/>
            <a:ext cx="2133720" cy="609480"/>
          </a:xfrm>
          <a:prstGeom prst="line">
            <a:avLst/>
          </a:prstGeom>
          <a:ln w="9360">
            <a:solidFill>
              <a:srgbClr val="f98d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666880" y="3429000"/>
            <a:ext cx="3429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Fin du</a:t>
            </a:r>
            <a:r>
              <a:rPr b="0" lang="en-US" sz="2800" spc="-1" strike="noStrike">
                <a:solidFill>
                  <a:srgbClr val="0000cc"/>
                </a:solidFill>
                <a:latin typeface="DomCasual BT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hapi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2557440"/>
            <a:ext cx="5334120" cy="3710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3429000" y="1523880"/>
            <a:ext cx="1447920" cy="21337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00200"/>
            <a:ext cx="3962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Narrow"/>
              </a:rPr>
              <a:t>Menu : fich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1628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6400800" cy="1425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1600200"/>
            <a:ext cx="3962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Narrow"/>
              </a:rPr>
              <a:t>Menu: tableau de b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16280" cy="819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4343040" y="1600200"/>
            <a:ext cx="1219320" cy="30481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57440" y="2593800"/>
            <a:ext cx="5886360" cy="422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1600200"/>
            <a:ext cx="3962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Narrow"/>
              </a:rPr>
              <a:t>Menu: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16280" cy="819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5105520" y="1600200"/>
            <a:ext cx="1295280" cy="19051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600200"/>
            <a:ext cx="3962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Narrow"/>
              </a:rPr>
              <a:t>Menu: norme EN 29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2654280"/>
            <a:ext cx="5848560" cy="4203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666880" y="1080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Loginor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16280" cy="81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5638680" y="1600200"/>
            <a:ext cx="1447920" cy="14479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8T12:21:42Z</dcterms:created>
  <dc:creator>Daniel Guyonvarch</dc:creator>
  <dc:description/>
  <dc:language>en-US</dc:language>
  <cp:lastModifiedBy>Korbas</cp:lastModifiedBy>
  <cp:lastPrinted>1999-09-29T08:30:32Z</cp:lastPrinted>
  <dcterms:modified xsi:type="dcterms:W3CDTF">2002-04-15T19:20:30Z</dcterms:modified>
  <cp:revision>216</cp:revision>
  <dc:subject/>
  <dc:title>Prise en main de Loginorme</dc:title>
</cp:coreProperties>
</file>