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463-B030-4022-99B3-84802DBC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4FC-19DF-431C-9B78-D7BBAED9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A7D-617D-41FD-98E9-9FFFFDB6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162-D68D-41E2-9CF5-01A96378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B1C-2DEE-4D81-9F08-DD9E50D9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C6E-BFFC-4082-B68E-4492BFD5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743-2E07-43FD-B8EF-A1BC8C63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A85-17B4-4C4A-84B1-615ECAE4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C65-F54F-418F-8FAB-4320F9F5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4FA-0C8D-4480-AA8C-BCB15C2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D9D-9B93-4B9D-82D3-C5714CA2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689-255B-4131-B1CD-380237FF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CFDF-FAEF-42A8-AE42-325EECE38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8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22.xml"/><Relationship Id="rId6" Type="http://schemas.openxmlformats.org/officeDocument/2006/relationships/slide" Target="slide16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9514" r="1623" b="2561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906120" cy="53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653000"/>
            <a:ext cx="99061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1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pport des Outils Informat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ns les méthodes de conce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42200" y="22860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www.knowllenc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24120" y="1066680"/>
          <a:ext cx="4375080" cy="914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4120" y="1066680"/>
                    <a:ext cx="4375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8160" y="6249960"/>
            <a:ext cx="99061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erry BEAUJON - Dir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>
            <a:hlinkClick r:id="rId1" action="ppaction://hlinksldjump"/>
          </p:cNvPr>
          <p:cNvSpPr/>
          <p:nvPr/>
        </p:nvSpPr>
        <p:spPr>
          <a:xfrm>
            <a:off x="0" y="0"/>
            <a:ext cx="9906120" cy="6885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94880" y="120600"/>
            <a:ext cx="76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xemple d’enchaînement méthod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r une fonction du siège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4480" y="2247840"/>
            <a:ext cx="1568160" cy="3812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1 : Assurer la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4827600">
            <a:off x="2360880" y="908640"/>
            <a:ext cx="5688000" cy="5832360"/>
          </a:xfrm>
          <a:custGeom>
            <a:avLst/>
            <a:gdLst>
              <a:gd name="textAreaLeft" fmla="*/ 995400 w 5688000"/>
              <a:gd name="textAreaRight" fmla="*/ 4123800 w 5688000"/>
              <a:gd name="textAreaTop" fmla="*/ 781200 h 5832360"/>
              <a:gd name="textAreaBottom" fmla="*/ 505116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95560" y="194328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fro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95560" y="255276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latér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82640" y="2476440"/>
            <a:ext cx="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47880" y="2095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4788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47880" y="2781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30320" y="1714680"/>
            <a:ext cx="1486080" cy="1371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93960" y="23065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81280" y="140976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e conducteu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poste de cond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94328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colon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tébrale 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2476440"/>
            <a:ext cx="1692360" cy="38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tê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up du lap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5116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98840" y="1562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98840" y="1562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98840" y="209556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98840" y="2705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95560" y="3467160"/>
            <a:ext cx="198108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érer les effo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r la structure du véhic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65440" y="24004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65440" y="240048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5440" y="36194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66880" y="31622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60600" y="4149720"/>
            <a:ext cx="28112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Need : Fonctions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62720" y="1257480"/>
            <a:ext cx="255888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15000" y="2476440"/>
            <a:ext cx="66024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27600" y="1409760"/>
            <a:ext cx="74304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int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15040" y="1177920"/>
            <a:ext cx="743040" cy="49536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27600" y="1866960"/>
            <a:ext cx="1073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sature doss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966000" y="1486080"/>
            <a:ext cx="907920" cy="38088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sup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130880" y="2095560"/>
            <a:ext cx="6606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29400" y="2476440"/>
            <a:ext cx="99072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1790640"/>
            <a:ext cx="577800" cy="34308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57800" y="1177920"/>
            <a:ext cx="1955880" cy="1371600"/>
          </a:xfrm>
          <a:custGeom>
            <a:avLst/>
            <a:gdLst/>
            <a:ahLst/>
            <a:rect l="l" t="t" r="r" b="b"/>
            <a:pathLst>
              <a:path w="1157" h="853">
                <a:moveTo>
                  <a:pt x="0" y="824"/>
                </a:moveTo>
                <a:cubicBezTo>
                  <a:pt x="60" y="836"/>
                  <a:pt x="114" y="825"/>
                  <a:pt x="192" y="824"/>
                </a:cubicBezTo>
                <a:cubicBezTo>
                  <a:pt x="270" y="823"/>
                  <a:pt x="341" y="819"/>
                  <a:pt x="468" y="820"/>
                </a:cubicBezTo>
                <a:cubicBezTo>
                  <a:pt x="595" y="821"/>
                  <a:pt x="840" y="853"/>
                  <a:pt x="952" y="828"/>
                </a:cubicBezTo>
                <a:cubicBezTo>
                  <a:pt x="1064" y="803"/>
                  <a:pt x="1123" y="736"/>
                  <a:pt x="1140" y="668"/>
                </a:cubicBezTo>
                <a:cubicBezTo>
                  <a:pt x="1157" y="600"/>
                  <a:pt x="1097" y="531"/>
                  <a:pt x="1056" y="420"/>
                </a:cubicBezTo>
                <a:lnTo>
                  <a:pt x="892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13960" y="605808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blème de fabr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tu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ction insuffisante : aplan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98000" y="3505320"/>
            <a:ext cx="18266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Structure : B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873920" y="1485720"/>
            <a:ext cx="412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04040" y="125748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duit du tube sur une autre fo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782200" y="1806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121600" y="224784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cess opération de poinçonn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709040" y="2171880"/>
            <a:ext cx="536400" cy="2590560"/>
          </a:xfrm>
          <a:custGeom>
            <a:avLst/>
            <a:gdLst/>
            <a:ahLst/>
            <a:rect l="l" t="t" r="r" b="b"/>
            <a:pathLst>
              <a:path w="744" h="1650">
                <a:moveTo>
                  <a:pt x="0" y="0"/>
                </a:moveTo>
                <a:lnTo>
                  <a:pt x="744" y="1650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1360" y="4762440"/>
            <a:ext cx="206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l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Assembler tube support avec la dou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69280" y="5219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96120" y="5753160"/>
            <a:ext cx="206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961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262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9567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2868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61696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8646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123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36000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71080" y="55245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55200" y="5226120"/>
            <a:ext cx="196524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dance et S/Ch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22800" y="5219640"/>
            <a:ext cx="1308600" cy="45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CreaTRIZ: B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Assembles So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7191720" y="5837760"/>
            <a:ext cx="9122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30880" y="5905440"/>
            <a:ext cx="3304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305040" y="6438960"/>
            <a:ext cx="825480" cy="152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02120" y="6058080"/>
            <a:ext cx="18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dage des tubes nécessitant la réalisation de plats sur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32396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34288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92280" y="6058080"/>
            <a:ext cx="173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 d ’une matrice interne mais qui raye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3680" y="5226120"/>
            <a:ext cx="123228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tra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86920" y="38307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, parce 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78560" y="1790640"/>
            <a:ext cx="330480" cy="3812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96" y="0"/>
                </a:moveTo>
                <a:lnTo>
                  <a:pt x="0" y="192"/>
                </a:lnTo>
                <a:lnTo>
                  <a:pt x="192" y="240"/>
                </a:lnTo>
                <a:lnTo>
                  <a:pt x="96" y="0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782200" y="2797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121600" y="323856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Moy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23560" y="5743440"/>
            <a:ext cx="27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sin du graphe de potentiel d ’é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7658640" y="2598480"/>
            <a:ext cx="396936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TDC FMEA: AMDEC Produit, Process et mo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9906120" cy="6858000"/>
          </a:xfrm>
          <a:custGeom>
            <a:avLst/>
            <a:gdLst>
              <a:gd name="textAreaLeft" fmla="*/ 444240 w 9906120"/>
              <a:gd name="textAreaRight" fmla="*/ 9461880 w 99061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31200" h="21600">
                <a:moveTo>
                  <a:pt x="0" y="0"/>
                </a:moveTo>
                <a:lnTo>
                  <a:pt x="31200" y="0"/>
                </a:lnTo>
                <a:lnTo>
                  <a:pt x="31200" y="21600"/>
                </a:lnTo>
                <a:lnTo>
                  <a:pt x="0" y="21600"/>
                </a:lnTo>
                <a:close/>
              </a:path>
              <a:path fill="lightenLess" w="31200" h="21600">
                <a:moveTo>
                  <a:pt x="0" y="0"/>
                </a:moveTo>
                <a:lnTo>
                  <a:pt x="31200" y="0"/>
                </a:lnTo>
                <a:lnTo>
                  <a:pt x="29800" y="1400"/>
                </a:lnTo>
                <a:lnTo>
                  <a:pt x="1400" y="1400"/>
                </a:lnTo>
                <a:close/>
              </a:path>
              <a:path fill="darken" w="31200" h="21600">
                <a:moveTo>
                  <a:pt x="31200" y="0"/>
                </a:moveTo>
                <a:lnTo>
                  <a:pt x="31200" y="21600"/>
                </a:lnTo>
                <a:lnTo>
                  <a:pt x="29800" y="20200"/>
                </a:lnTo>
                <a:lnTo>
                  <a:pt x="29800" y="1400"/>
                </a:lnTo>
                <a:close/>
              </a:path>
              <a:path fill="darkenLess" w="31200" h="21600">
                <a:moveTo>
                  <a:pt x="3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00" y="20200"/>
                </a:lnTo>
                <a:close/>
              </a:path>
              <a:path fill="lighten" w="3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20880" y="4149720"/>
            <a:ext cx="504720" cy="289080"/>
          </a:xfrm>
          <a:custGeom>
            <a:avLst/>
            <a:gdLst>
              <a:gd name="textAreaLeft" fmla="*/ 78840 w 504720"/>
              <a:gd name="textAreaRight" fmla="*/ 441720 w 50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rId2" action="ppaction://hlinksldjump"/>
          </p:cNvPr>
          <p:cNvSpPr/>
          <p:nvPr/>
        </p:nvSpPr>
        <p:spPr>
          <a:xfrm>
            <a:off x="1496880" y="4149720"/>
            <a:ext cx="2808360" cy="360360"/>
          </a:xfrm>
          <a:custGeom>
            <a:avLst/>
            <a:gdLst>
              <a:gd name="textAreaLeft" fmla="*/ 23040 w 2808360"/>
              <a:gd name="textAreaRight" fmla="*/ 2785320 w 280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8187" h="21600">
                <a:moveTo>
                  <a:pt x="0" y="0"/>
                </a:moveTo>
                <a:lnTo>
                  <a:pt x="168187" y="0"/>
                </a:lnTo>
                <a:lnTo>
                  <a:pt x="168187" y="21600"/>
                </a:lnTo>
                <a:lnTo>
                  <a:pt x="0" y="21600"/>
                </a:lnTo>
                <a:close/>
              </a:path>
              <a:path fill="lightenLess" w="168187" h="21600">
                <a:moveTo>
                  <a:pt x="0" y="0"/>
                </a:moveTo>
                <a:lnTo>
                  <a:pt x="168187" y="0"/>
                </a:lnTo>
                <a:lnTo>
                  <a:pt x="166787" y="1400"/>
                </a:lnTo>
                <a:lnTo>
                  <a:pt x="1400" y="1400"/>
                </a:lnTo>
                <a:close/>
              </a:path>
              <a:path fill="darken" w="168187" h="21600">
                <a:moveTo>
                  <a:pt x="168187" y="0"/>
                </a:moveTo>
                <a:lnTo>
                  <a:pt x="168187" y="21600"/>
                </a:lnTo>
                <a:lnTo>
                  <a:pt x="166787" y="20200"/>
                </a:lnTo>
                <a:lnTo>
                  <a:pt x="166787" y="1400"/>
                </a:lnTo>
                <a:close/>
              </a:path>
              <a:path fill="darkenLess" w="168187" h="21600">
                <a:moveTo>
                  <a:pt x="168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787" y="20200"/>
                </a:lnTo>
                <a:close/>
              </a:path>
              <a:path fill="lighten" w="168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4880" y="120600"/>
            <a:ext cx="76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xemple d’enchaînement méthod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r une fonction du siège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4480" y="2247840"/>
            <a:ext cx="1568160" cy="3812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1 : Assurer la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4827600">
            <a:off x="2596320" y="1034280"/>
            <a:ext cx="5688000" cy="5832720"/>
          </a:xfrm>
          <a:custGeom>
            <a:avLst/>
            <a:gdLst>
              <a:gd name="textAreaLeft" fmla="*/ 995400 w 5688000"/>
              <a:gd name="textAreaRight" fmla="*/ 4123800 w 5688000"/>
              <a:gd name="textAreaTop" fmla="*/ 781200 h 5832720"/>
              <a:gd name="textAreaBottom" fmla="*/ 5051520 h 583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95560" y="194328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fro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95560" y="255276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latér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82640" y="2476440"/>
            <a:ext cx="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47880" y="2095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4788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47880" y="2781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30320" y="1714680"/>
            <a:ext cx="1486080" cy="1371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93960" y="23065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81280" y="140976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e conducteu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poste de cond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194328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colon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tébrale 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2476440"/>
            <a:ext cx="1692360" cy="38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tê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up du lap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25116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98840" y="1562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98840" y="1562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98840" y="209556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98840" y="2705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95560" y="3467160"/>
            <a:ext cx="198108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érer les effo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r la structure du véhic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65440" y="24004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765440" y="240048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65440" y="36194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66880" y="31622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60600" y="4149720"/>
            <a:ext cx="28112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Need : Fonctions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62720" y="1257480"/>
            <a:ext cx="255888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15000" y="2476440"/>
            <a:ext cx="66024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27600" y="1409760"/>
            <a:ext cx="74304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int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15040" y="1177920"/>
            <a:ext cx="743040" cy="49536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7600" y="1866960"/>
            <a:ext cx="1073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sature doss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966000" y="1486080"/>
            <a:ext cx="907920" cy="38088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sup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30880" y="2095560"/>
            <a:ext cx="6606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2476440"/>
            <a:ext cx="99072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15040" y="1790640"/>
            <a:ext cx="577800" cy="34308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7800" y="1177920"/>
            <a:ext cx="1955880" cy="1371600"/>
          </a:xfrm>
          <a:custGeom>
            <a:avLst/>
            <a:gdLst/>
            <a:ahLst/>
            <a:rect l="l" t="t" r="r" b="b"/>
            <a:pathLst>
              <a:path w="1157" h="853">
                <a:moveTo>
                  <a:pt x="0" y="824"/>
                </a:moveTo>
                <a:cubicBezTo>
                  <a:pt x="60" y="836"/>
                  <a:pt x="114" y="825"/>
                  <a:pt x="192" y="824"/>
                </a:cubicBezTo>
                <a:cubicBezTo>
                  <a:pt x="270" y="823"/>
                  <a:pt x="341" y="819"/>
                  <a:pt x="468" y="820"/>
                </a:cubicBezTo>
                <a:cubicBezTo>
                  <a:pt x="595" y="821"/>
                  <a:pt x="840" y="853"/>
                  <a:pt x="952" y="828"/>
                </a:cubicBezTo>
                <a:cubicBezTo>
                  <a:pt x="1064" y="803"/>
                  <a:pt x="1123" y="736"/>
                  <a:pt x="1140" y="668"/>
                </a:cubicBezTo>
                <a:cubicBezTo>
                  <a:pt x="1157" y="600"/>
                  <a:pt x="1097" y="531"/>
                  <a:pt x="1056" y="420"/>
                </a:cubicBezTo>
                <a:lnTo>
                  <a:pt x="892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13960" y="605808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blème de fabr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tu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ction insuffisante : aplan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98000" y="3505320"/>
            <a:ext cx="18266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Structure : B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873920" y="1485720"/>
            <a:ext cx="412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04040" y="125748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duit du tube sur une autre fo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782200" y="1806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21600" y="224784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cess opération de poinçonn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709040" y="2171880"/>
            <a:ext cx="536400" cy="2590560"/>
          </a:xfrm>
          <a:custGeom>
            <a:avLst/>
            <a:gdLst/>
            <a:ahLst/>
            <a:rect l="l" t="t" r="r" b="b"/>
            <a:pathLst>
              <a:path w="744" h="1650">
                <a:moveTo>
                  <a:pt x="0" y="0"/>
                </a:moveTo>
                <a:lnTo>
                  <a:pt x="744" y="1650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461360" y="4762440"/>
            <a:ext cx="206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l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Assembler tube support avec la dou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69280" y="5219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96120" y="5753160"/>
            <a:ext cx="206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961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62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9567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2868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61696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8646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1123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36000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71080" y="55245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55200" y="5226120"/>
            <a:ext cx="196524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dance et S/Ch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22800" y="5219640"/>
            <a:ext cx="1308600" cy="45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CreaTRIZ: B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Assembles So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6200000">
            <a:off x="7191720" y="5839560"/>
            <a:ext cx="9122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hés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130880" y="5905440"/>
            <a:ext cx="3304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305040" y="6438960"/>
            <a:ext cx="825480" cy="152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02120" y="6058080"/>
            <a:ext cx="18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dage des tubes nécessitant la réalisation de plats sur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32396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34288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2280" y="6058080"/>
            <a:ext cx="173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 d ’une matrice interne mais qui raye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23680" y="5226120"/>
            <a:ext cx="123228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tra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86920" y="38307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, parce 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78560" y="1790640"/>
            <a:ext cx="330480" cy="3812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96" y="0"/>
                </a:moveTo>
                <a:lnTo>
                  <a:pt x="0" y="192"/>
                </a:lnTo>
                <a:lnTo>
                  <a:pt x="192" y="240"/>
                </a:lnTo>
                <a:lnTo>
                  <a:pt x="96" y="0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782200" y="2797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121600" y="323856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Moy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23560" y="5743440"/>
            <a:ext cx="27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sin du graphe de potentiel d ’é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7658640" y="2598480"/>
            <a:ext cx="396936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TDC FMEA: AMDEC Produit, Process et mo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2" action="ppaction://hlinksldjump"/>
          </p:cNvPr>
          <p:cNvSpPr/>
          <p:nvPr/>
        </p:nvSpPr>
        <p:spPr>
          <a:xfrm>
            <a:off x="5600880" y="3500280"/>
            <a:ext cx="1800000" cy="360360"/>
          </a:xfrm>
          <a:custGeom>
            <a:avLst/>
            <a:gdLst>
              <a:gd name="textAreaLeft" fmla="*/ 23040 w 1800000"/>
              <a:gd name="textAreaRight" fmla="*/ 1776960 w 18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7806" h="21600">
                <a:moveTo>
                  <a:pt x="0" y="0"/>
                </a:moveTo>
                <a:lnTo>
                  <a:pt x="107806" y="0"/>
                </a:lnTo>
                <a:lnTo>
                  <a:pt x="107806" y="21600"/>
                </a:lnTo>
                <a:lnTo>
                  <a:pt x="0" y="21600"/>
                </a:lnTo>
                <a:close/>
              </a:path>
              <a:path fill="lightenLess" w="107806" h="21600">
                <a:moveTo>
                  <a:pt x="0" y="0"/>
                </a:moveTo>
                <a:lnTo>
                  <a:pt x="107806" y="0"/>
                </a:lnTo>
                <a:lnTo>
                  <a:pt x="106406" y="1400"/>
                </a:lnTo>
                <a:lnTo>
                  <a:pt x="1400" y="1400"/>
                </a:lnTo>
                <a:close/>
              </a:path>
              <a:path fill="darken" w="107806" h="21600">
                <a:moveTo>
                  <a:pt x="107806" y="0"/>
                </a:moveTo>
                <a:lnTo>
                  <a:pt x="107806" y="21600"/>
                </a:lnTo>
                <a:lnTo>
                  <a:pt x="106406" y="20200"/>
                </a:lnTo>
                <a:lnTo>
                  <a:pt x="106406" y="1400"/>
                </a:lnTo>
                <a:close/>
              </a:path>
              <a:path fill="darkenLess" w="107806" h="21600">
                <a:moveTo>
                  <a:pt x="107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06" y="20200"/>
                </a:lnTo>
                <a:close/>
              </a:path>
              <a:path fill="lighten" w="107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24520" y="3500280"/>
            <a:ext cx="504720" cy="289080"/>
          </a:xfrm>
          <a:custGeom>
            <a:avLst/>
            <a:gdLst>
              <a:gd name="textAreaLeft" fmla="*/ 78840 w 504720"/>
              <a:gd name="textAreaRight" fmla="*/ 441720 w 50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272880" y="189000"/>
            <a:ext cx="1513080" cy="13320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3508200" y="262080"/>
            <a:ext cx="44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cc"/>
                </a:solidFill>
                <a:latin typeface="Comic Sans MS"/>
              </a:rPr>
              <a:t>TDC Struc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992160" y="1292400"/>
            <a:ext cx="8785080" cy="5449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200160" y="6021360"/>
            <a:ext cx="360360" cy="620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20640"/>
              <a:gd name="textAreaBottom" fmla="*/ 597600 h 620640"/>
            </a:gdLst>
            <a:ahLst/>
            <a:rect l="textAreaLeft" t="textAreaTop" r="textAreaRight" b="textAreaBottom"/>
            <a:pathLst>
              <a:path w="21600" h="37186">
                <a:moveTo>
                  <a:pt x="0" y="0"/>
                </a:moveTo>
                <a:lnTo>
                  <a:pt x="21600" y="0"/>
                </a:lnTo>
                <a:lnTo>
                  <a:pt x="21600" y="37186"/>
                </a:lnTo>
                <a:lnTo>
                  <a:pt x="0" y="37186"/>
                </a:lnTo>
                <a:close/>
              </a:path>
              <a:path fill="lightenLess" w="21600" h="37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186">
                <a:moveTo>
                  <a:pt x="21600" y="0"/>
                </a:moveTo>
                <a:lnTo>
                  <a:pt x="21600" y="37186"/>
                </a:lnTo>
                <a:lnTo>
                  <a:pt x="20200" y="35786"/>
                </a:lnTo>
                <a:lnTo>
                  <a:pt x="20200" y="1400"/>
                </a:lnTo>
                <a:close/>
              </a:path>
              <a:path fill="darkenLess" w="21600" h="37186">
                <a:moveTo>
                  <a:pt x="21600" y="37186"/>
                </a:moveTo>
                <a:lnTo>
                  <a:pt x="0" y="37186"/>
                </a:lnTo>
                <a:lnTo>
                  <a:pt x="1400" y="35786"/>
                </a:lnTo>
                <a:lnTo>
                  <a:pt x="20200" y="35786"/>
                </a:lnTo>
                <a:close/>
              </a:path>
              <a:path fill="lighten" w="21600" h="37186">
                <a:moveTo>
                  <a:pt x="0" y="37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35786"/>
                </a:lnTo>
                <a:close/>
              </a:path>
              <a:path fill="darken" w="21600" h="37186">
                <a:moveTo>
                  <a:pt x="3794" y="11586"/>
                </a:moveTo>
                <a:lnTo>
                  <a:pt x="17806" y="18593"/>
                </a:lnTo>
                <a:lnTo>
                  <a:pt x="3794" y="2559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>
            <a:hlinkClick r:id="rId1" action="ppaction://hlinksldjump"/>
          </p:cNvPr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94880" y="120600"/>
            <a:ext cx="76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xemple d’enchaînement méthod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r une fonction du siège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4480" y="2247840"/>
            <a:ext cx="1568160" cy="3812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1 : Assurer la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4827600">
            <a:off x="2721240" y="1097640"/>
            <a:ext cx="5688000" cy="5832360"/>
          </a:xfrm>
          <a:custGeom>
            <a:avLst/>
            <a:gdLst>
              <a:gd name="textAreaLeft" fmla="*/ 995400 w 5688000"/>
              <a:gd name="textAreaRight" fmla="*/ 4123800 w 5688000"/>
              <a:gd name="textAreaTop" fmla="*/ 781200 h 5832360"/>
              <a:gd name="textAreaBottom" fmla="*/ 505116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95560" y="194328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fro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95560" y="255276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latér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82640" y="2476440"/>
            <a:ext cx="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47880" y="2095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4788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47880" y="2781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30320" y="1714680"/>
            <a:ext cx="1486080" cy="1371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93960" y="23065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581280" y="140976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e conducteu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poste de cond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1280" y="194328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colon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tébrale 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81280" y="2476440"/>
            <a:ext cx="1692360" cy="38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tê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up du lap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5116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98840" y="1562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98840" y="1562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98840" y="209556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98840" y="2705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95560" y="3467160"/>
            <a:ext cx="198108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érer les effo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r la structure du véhic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65440" y="24004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65440" y="240048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65440" y="36194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66880" y="31622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60600" y="4149720"/>
            <a:ext cx="28112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Need : Fonctions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62720" y="1257480"/>
            <a:ext cx="255888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2476440"/>
            <a:ext cx="66024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27600" y="1409760"/>
            <a:ext cx="74304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int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15040" y="1177920"/>
            <a:ext cx="743040" cy="49536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27600" y="1866960"/>
            <a:ext cx="1073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sature doss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66000" y="1486080"/>
            <a:ext cx="907920" cy="38088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sup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130880" y="2095560"/>
            <a:ext cx="6606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29400" y="2476440"/>
            <a:ext cx="99072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15040" y="1790640"/>
            <a:ext cx="577800" cy="34308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57800" y="1177920"/>
            <a:ext cx="1955880" cy="1371600"/>
          </a:xfrm>
          <a:custGeom>
            <a:avLst/>
            <a:gdLst/>
            <a:ahLst/>
            <a:rect l="l" t="t" r="r" b="b"/>
            <a:pathLst>
              <a:path w="1157" h="853">
                <a:moveTo>
                  <a:pt x="0" y="824"/>
                </a:moveTo>
                <a:cubicBezTo>
                  <a:pt x="60" y="836"/>
                  <a:pt x="114" y="825"/>
                  <a:pt x="192" y="824"/>
                </a:cubicBezTo>
                <a:cubicBezTo>
                  <a:pt x="270" y="823"/>
                  <a:pt x="341" y="819"/>
                  <a:pt x="468" y="820"/>
                </a:cubicBezTo>
                <a:cubicBezTo>
                  <a:pt x="595" y="821"/>
                  <a:pt x="840" y="853"/>
                  <a:pt x="952" y="828"/>
                </a:cubicBezTo>
                <a:cubicBezTo>
                  <a:pt x="1064" y="803"/>
                  <a:pt x="1123" y="736"/>
                  <a:pt x="1140" y="668"/>
                </a:cubicBezTo>
                <a:cubicBezTo>
                  <a:pt x="1157" y="600"/>
                  <a:pt x="1097" y="531"/>
                  <a:pt x="1056" y="420"/>
                </a:cubicBezTo>
                <a:lnTo>
                  <a:pt x="892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613960" y="605808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blème de fabr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tu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ction insuffisante : aplan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598000" y="3505320"/>
            <a:ext cx="18266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Structure : B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7873920" y="1485720"/>
            <a:ext cx="412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204040" y="125748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duit du tube sur une autre fo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782200" y="1806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121600" y="224784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cess opération de poinçonn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09040" y="2171880"/>
            <a:ext cx="536400" cy="2590560"/>
          </a:xfrm>
          <a:custGeom>
            <a:avLst/>
            <a:gdLst/>
            <a:ahLst/>
            <a:rect l="l" t="t" r="r" b="b"/>
            <a:pathLst>
              <a:path w="744" h="1650">
                <a:moveTo>
                  <a:pt x="0" y="0"/>
                </a:moveTo>
                <a:lnTo>
                  <a:pt x="744" y="1650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461360" y="4762440"/>
            <a:ext cx="206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l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Assembler tube support avec la dou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369280" y="5219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96120" y="5753160"/>
            <a:ext cx="206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2961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262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9567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2868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61696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8646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1123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36000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71080" y="55245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55200" y="5226120"/>
            <a:ext cx="196524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dance et S/Ch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922800" y="5219640"/>
            <a:ext cx="1308600" cy="45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CreaTRIZ: B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Assembles So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6200000">
            <a:off x="7191720" y="5839560"/>
            <a:ext cx="9122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hés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30880" y="5905440"/>
            <a:ext cx="3304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6305040" y="6438960"/>
            <a:ext cx="825480" cy="152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902120" y="6058080"/>
            <a:ext cx="18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dage des tubes nécessitant la réalisation de plats sur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432396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34288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92280" y="6058080"/>
            <a:ext cx="173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 d ’une matrice interne mais qui raye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23680" y="5226120"/>
            <a:ext cx="123228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tra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6920" y="38307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, parce 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378560" y="1790640"/>
            <a:ext cx="330480" cy="3812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96" y="0"/>
                </a:moveTo>
                <a:lnTo>
                  <a:pt x="0" y="192"/>
                </a:lnTo>
                <a:lnTo>
                  <a:pt x="192" y="240"/>
                </a:lnTo>
                <a:lnTo>
                  <a:pt x="96" y="0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782200" y="2797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121600" y="323856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Moy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23560" y="5743440"/>
            <a:ext cx="27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sin du graphe de potentiel d ’é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16200000">
            <a:off x="7658640" y="2598480"/>
            <a:ext cx="396936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TDC FMEA: AMDEC Produit, Process et mo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3789000">
            <a:off x="7005240" y="1088640"/>
            <a:ext cx="505080" cy="289080"/>
          </a:xfrm>
          <a:custGeom>
            <a:avLst/>
            <a:gdLst>
              <a:gd name="textAreaLeft" fmla="*/ 78840 w 505080"/>
              <a:gd name="textAreaRight" fmla="*/ 442080 w 50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0"/>
            <a:ext cx="9906120" cy="6858000"/>
          </a:xfrm>
          <a:custGeom>
            <a:avLst/>
            <a:gdLst>
              <a:gd name="textAreaLeft" fmla="*/ 444240 w 9906120"/>
              <a:gd name="textAreaRight" fmla="*/ 9461880 w 99061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31200" h="21600">
                <a:moveTo>
                  <a:pt x="0" y="0"/>
                </a:moveTo>
                <a:lnTo>
                  <a:pt x="31200" y="0"/>
                </a:lnTo>
                <a:lnTo>
                  <a:pt x="31200" y="21600"/>
                </a:lnTo>
                <a:lnTo>
                  <a:pt x="0" y="21600"/>
                </a:lnTo>
                <a:close/>
              </a:path>
              <a:path fill="lightenLess" w="31200" h="21600">
                <a:moveTo>
                  <a:pt x="0" y="0"/>
                </a:moveTo>
                <a:lnTo>
                  <a:pt x="31200" y="0"/>
                </a:lnTo>
                <a:lnTo>
                  <a:pt x="29800" y="1400"/>
                </a:lnTo>
                <a:lnTo>
                  <a:pt x="1400" y="1400"/>
                </a:lnTo>
                <a:close/>
              </a:path>
              <a:path fill="darken" w="31200" h="21600">
                <a:moveTo>
                  <a:pt x="31200" y="0"/>
                </a:moveTo>
                <a:lnTo>
                  <a:pt x="31200" y="21600"/>
                </a:lnTo>
                <a:lnTo>
                  <a:pt x="29800" y="20200"/>
                </a:lnTo>
                <a:lnTo>
                  <a:pt x="29800" y="1400"/>
                </a:lnTo>
                <a:close/>
              </a:path>
              <a:path fill="darkenLess" w="31200" h="21600">
                <a:moveTo>
                  <a:pt x="3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00" y="20200"/>
                </a:lnTo>
                <a:close/>
              </a:path>
              <a:path fill="lighten" w="3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>
            <a:hlinkClick r:id="rId2" action="ppaction://hlinksldjump"/>
          </p:cNvPr>
          <p:cNvSpPr/>
          <p:nvPr/>
        </p:nvSpPr>
        <p:spPr>
          <a:xfrm>
            <a:off x="6969240" y="148428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200160" y="6021360"/>
            <a:ext cx="360360" cy="620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20640"/>
              <a:gd name="textAreaBottom" fmla="*/ 597600 h 620640"/>
            </a:gdLst>
            <a:ahLst/>
            <a:rect l="textAreaLeft" t="textAreaTop" r="textAreaRight" b="textAreaBottom"/>
            <a:pathLst>
              <a:path w="21600" h="37186">
                <a:moveTo>
                  <a:pt x="0" y="0"/>
                </a:moveTo>
                <a:lnTo>
                  <a:pt x="21600" y="0"/>
                </a:lnTo>
                <a:lnTo>
                  <a:pt x="21600" y="37186"/>
                </a:lnTo>
                <a:lnTo>
                  <a:pt x="0" y="37186"/>
                </a:lnTo>
                <a:close/>
              </a:path>
              <a:path fill="lightenLess" w="21600" h="37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186">
                <a:moveTo>
                  <a:pt x="21600" y="0"/>
                </a:moveTo>
                <a:lnTo>
                  <a:pt x="21600" y="37186"/>
                </a:lnTo>
                <a:lnTo>
                  <a:pt x="20200" y="35786"/>
                </a:lnTo>
                <a:lnTo>
                  <a:pt x="20200" y="1400"/>
                </a:lnTo>
                <a:close/>
              </a:path>
              <a:path fill="darkenLess" w="21600" h="37186">
                <a:moveTo>
                  <a:pt x="21600" y="37186"/>
                </a:moveTo>
                <a:lnTo>
                  <a:pt x="0" y="37186"/>
                </a:lnTo>
                <a:lnTo>
                  <a:pt x="1400" y="35786"/>
                </a:lnTo>
                <a:lnTo>
                  <a:pt x="20200" y="35786"/>
                </a:lnTo>
                <a:close/>
              </a:path>
              <a:path fill="lighten" w="21600" h="37186">
                <a:moveTo>
                  <a:pt x="0" y="37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35786"/>
                </a:lnTo>
                <a:close/>
              </a:path>
              <a:path fill="darken" w="21600" h="37186">
                <a:moveTo>
                  <a:pt x="3794" y="11586"/>
                </a:moveTo>
                <a:lnTo>
                  <a:pt x="17806" y="18593"/>
                </a:lnTo>
                <a:lnTo>
                  <a:pt x="3794" y="2559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>
            <a:hlinkClick r:id="rId1" action="ppaction://hlinksldjump"/>
          </p:cNvPr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94880" y="120600"/>
            <a:ext cx="76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xemple d’enchaînement méthod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r une fonction du siège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4480" y="2247840"/>
            <a:ext cx="1568160" cy="3812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1 : Assurer la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4827600">
            <a:off x="2596320" y="1034280"/>
            <a:ext cx="5688000" cy="5832720"/>
          </a:xfrm>
          <a:custGeom>
            <a:avLst/>
            <a:gdLst>
              <a:gd name="textAreaLeft" fmla="*/ 995400 w 5688000"/>
              <a:gd name="textAreaRight" fmla="*/ 4123800 w 5688000"/>
              <a:gd name="textAreaTop" fmla="*/ 781200 h 5832720"/>
              <a:gd name="textAreaBottom" fmla="*/ 5051520 h 583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95560" y="194328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fro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95560" y="255276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latér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82640" y="2476440"/>
            <a:ext cx="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47880" y="2095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4788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47880" y="2781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30320" y="1714680"/>
            <a:ext cx="1486080" cy="1371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93960" y="23065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40976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e conducteu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poste de cond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81280" y="194328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colon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tébrale 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81280" y="2476440"/>
            <a:ext cx="1692360" cy="38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tê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up du lap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5116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498840" y="1562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498840" y="1562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498840" y="209556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98840" y="2705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095560" y="3467160"/>
            <a:ext cx="198108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érer les effo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r la structure du véhic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65440" y="24004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65440" y="240048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65440" y="36194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66880" y="31622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60600" y="4149720"/>
            <a:ext cx="28112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Need : Fonctions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62720" y="1257480"/>
            <a:ext cx="255888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15000" y="2476440"/>
            <a:ext cx="66024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27600" y="1409760"/>
            <a:ext cx="74304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int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15040" y="1177920"/>
            <a:ext cx="743040" cy="49536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727600" y="1866960"/>
            <a:ext cx="1073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sature doss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966000" y="1486080"/>
            <a:ext cx="907920" cy="38088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sup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30880" y="2095560"/>
            <a:ext cx="6606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629400" y="2476440"/>
            <a:ext cx="99072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15040" y="1790640"/>
            <a:ext cx="577800" cy="34308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257800" y="1177920"/>
            <a:ext cx="1955880" cy="1371600"/>
          </a:xfrm>
          <a:custGeom>
            <a:avLst/>
            <a:gdLst/>
            <a:ahLst/>
            <a:rect l="l" t="t" r="r" b="b"/>
            <a:pathLst>
              <a:path w="1157" h="853">
                <a:moveTo>
                  <a:pt x="0" y="824"/>
                </a:moveTo>
                <a:cubicBezTo>
                  <a:pt x="60" y="836"/>
                  <a:pt x="114" y="825"/>
                  <a:pt x="192" y="824"/>
                </a:cubicBezTo>
                <a:cubicBezTo>
                  <a:pt x="270" y="823"/>
                  <a:pt x="341" y="819"/>
                  <a:pt x="468" y="820"/>
                </a:cubicBezTo>
                <a:cubicBezTo>
                  <a:pt x="595" y="821"/>
                  <a:pt x="840" y="853"/>
                  <a:pt x="952" y="828"/>
                </a:cubicBezTo>
                <a:cubicBezTo>
                  <a:pt x="1064" y="803"/>
                  <a:pt x="1123" y="736"/>
                  <a:pt x="1140" y="668"/>
                </a:cubicBezTo>
                <a:cubicBezTo>
                  <a:pt x="1157" y="600"/>
                  <a:pt x="1097" y="531"/>
                  <a:pt x="1056" y="420"/>
                </a:cubicBezTo>
                <a:lnTo>
                  <a:pt x="892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13960" y="605808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blème de fabr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tu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ction insuffisante : aplan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98000" y="3505320"/>
            <a:ext cx="18266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Structure : B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7873920" y="1485720"/>
            <a:ext cx="412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04040" y="125748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duit du tube sur une autre fo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782200" y="1806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121600" y="224784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cess opération de poinçonn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709040" y="2171880"/>
            <a:ext cx="536400" cy="2590560"/>
          </a:xfrm>
          <a:custGeom>
            <a:avLst/>
            <a:gdLst/>
            <a:ahLst/>
            <a:rect l="l" t="t" r="r" b="b"/>
            <a:pathLst>
              <a:path w="744" h="1650">
                <a:moveTo>
                  <a:pt x="0" y="0"/>
                </a:moveTo>
                <a:lnTo>
                  <a:pt x="744" y="1650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1360" y="4762440"/>
            <a:ext cx="206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l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Assembler tube support avec la dou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369280" y="5219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96120" y="5753160"/>
            <a:ext cx="206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2961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6262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2868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61696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8646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1123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36000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371080" y="55245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55200" y="5226120"/>
            <a:ext cx="196524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dance et S/Ch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922800" y="5219640"/>
            <a:ext cx="1308600" cy="45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CreaTRIZ: B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Assembles So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7191720" y="5839560"/>
            <a:ext cx="9122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hés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130880" y="5905440"/>
            <a:ext cx="3304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6305040" y="6438960"/>
            <a:ext cx="825480" cy="152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902120" y="6058080"/>
            <a:ext cx="18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dage des tubes nécessitant la réalisation de plats sur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32396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34288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92280" y="6058080"/>
            <a:ext cx="173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 d ’une matrice interne mais qui raye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23680" y="5226120"/>
            <a:ext cx="123228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tra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986920" y="38307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, parce 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378560" y="1790640"/>
            <a:ext cx="330480" cy="3812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96" y="0"/>
                </a:moveTo>
                <a:lnTo>
                  <a:pt x="0" y="192"/>
                </a:lnTo>
                <a:lnTo>
                  <a:pt x="192" y="240"/>
                </a:lnTo>
                <a:lnTo>
                  <a:pt x="96" y="0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782200" y="2797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121600" y="323856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Moy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23560" y="5743440"/>
            <a:ext cx="27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sin du graphe de potentiel d ’é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16200000">
            <a:off x="7658640" y="2598480"/>
            <a:ext cx="396936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TDC FMEA: AMDEC Produit, Process et mo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913960" y="3789360"/>
            <a:ext cx="504720" cy="289080"/>
          </a:xfrm>
          <a:custGeom>
            <a:avLst/>
            <a:gdLst>
              <a:gd name="textAreaLeft" fmla="*/ 78840 w 504720"/>
              <a:gd name="textAreaRight" fmla="*/ 441720 w 50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0"/>
            <a:ext cx="9906120" cy="6858000"/>
          </a:xfrm>
          <a:custGeom>
            <a:avLst/>
            <a:gdLst>
              <a:gd name="textAreaLeft" fmla="*/ 444240 w 9906120"/>
              <a:gd name="textAreaRight" fmla="*/ 9461880 w 99061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31200" h="21600">
                <a:moveTo>
                  <a:pt x="0" y="0"/>
                </a:moveTo>
                <a:lnTo>
                  <a:pt x="31200" y="0"/>
                </a:lnTo>
                <a:lnTo>
                  <a:pt x="31200" y="21600"/>
                </a:lnTo>
                <a:lnTo>
                  <a:pt x="0" y="21600"/>
                </a:lnTo>
                <a:close/>
              </a:path>
              <a:path fill="lightenLess" w="31200" h="21600">
                <a:moveTo>
                  <a:pt x="0" y="0"/>
                </a:moveTo>
                <a:lnTo>
                  <a:pt x="31200" y="0"/>
                </a:lnTo>
                <a:lnTo>
                  <a:pt x="29800" y="1400"/>
                </a:lnTo>
                <a:lnTo>
                  <a:pt x="1400" y="1400"/>
                </a:lnTo>
                <a:close/>
              </a:path>
              <a:path fill="darken" w="31200" h="21600">
                <a:moveTo>
                  <a:pt x="31200" y="0"/>
                </a:moveTo>
                <a:lnTo>
                  <a:pt x="31200" y="21600"/>
                </a:lnTo>
                <a:lnTo>
                  <a:pt x="29800" y="20200"/>
                </a:lnTo>
                <a:lnTo>
                  <a:pt x="29800" y="1400"/>
                </a:lnTo>
                <a:close/>
              </a:path>
              <a:path fill="darkenLess" w="31200" h="21600">
                <a:moveTo>
                  <a:pt x="3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00" y="20200"/>
                </a:lnTo>
                <a:close/>
              </a:path>
              <a:path fill="lighten" w="3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rId2" action="ppaction://hlinksldjump"/>
          </p:cNvPr>
          <p:cNvSpPr/>
          <p:nvPr/>
        </p:nvSpPr>
        <p:spPr>
          <a:xfrm>
            <a:off x="9416880" y="765000"/>
            <a:ext cx="489240" cy="3959280"/>
          </a:xfrm>
          <a:custGeom>
            <a:avLst/>
            <a:gdLst>
              <a:gd name="textAreaLeft" fmla="*/ 31680 w 489240"/>
              <a:gd name="textAreaRight" fmla="*/ 457560 w 489240"/>
              <a:gd name="textAreaTop" fmla="*/ 31680 h 3959280"/>
              <a:gd name="textAreaBottom" fmla="*/ 3927600 h 3959280"/>
            </a:gdLst>
            <a:ahLst/>
            <a:rect l="textAreaLeft" t="textAreaTop" r="textAreaRight" b="textAreaBottom"/>
            <a:pathLst>
              <a:path w="21600" h="174690">
                <a:moveTo>
                  <a:pt x="0" y="0"/>
                </a:moveTo>
                <a:lnTo>
                  <a:pt x="21600" y="0"/>
                </a:lnTo>
                <a:lnTo>
                  <a:pt x="21600" y="174690"/>
                </a:lnTo>
                <a:lnTo>
                  <a:pt x="0" y="174690"/>
                </a:lnTo>
                <a:close/>
              </a:path>
              <a:path fill="lightenLess" w="21600" h="17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74690">
                <a:moveTo>
                  <a:pt x="21600" y="0"/>
                </a:moveTo>
                <a:lnTo>
                  <a:pt x="21600" y="174690"/>
                </a:lnTo>
                <a:lnTo>
                  <a:pt x="20200" y="173290"/>
                </a:lnTo>
                <a:lnTo>
                  <a:pt x="20200" y="1400"/>
                </a:lnTo>
                <a:close/>
              </a:path>
              <a:path fill="darkenLess" w="21600" h="174690">
                <a:moveTo>
                  <a:pt x="21600" y="174690"/>
                </a:moveTo>
                <a:lnTo>
                  <a:pt x="0" y="174690"/>
                </a:lnTo>
                <a:lnTo>
                  <a:pt x="1400" y="173290"/>
                </a:lnTo>
                <a:lnTo>
                  <a:pt x="20200" y="173290"/>
                </a:lnTo>
                <a:close/>
              </a:path>
              <a:path fill="lighten" w="21600" h="174690">
                <a:moveTo>
                  <a:pt x="0" y="17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17329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1857240" y="1052640"/>
            <a:ext cx="5964480" cy="561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27" name=""/>
          <p:cNvSpPr/>
          <p:nvPr/>
        </p:nvSpPr>
        <p:spPr>
          <a:xfrm>
            <a:off x="3550680" y="262080"/>
            <a:ext cx="32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TDC FM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415800" y="1989000"/>
            <a:ext cx="92394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2073240" y="1052640"/>
            <a:ext cx="5759640" cy="5805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68320" cy="1768320"/>
          </a:xfrm>
          <a:prstGeom prst="rect">
            <a:avLst/>
          </a:prstGeom>
          <a:ln w="0">
            <a:noFill/>
          </a:ln>
        </p:spPr>
      </p:pic>
      <p:sp>
        <p:nvSpPr>
          <p:cNvPr id="731" name="">
            <a:hlinkClick r:id="" action="ppaction://hlinkshowjump?jump=nextslide"/>
          </p:cNvPr>
          <p:cNvSpPr/>
          <p:nvPr/>
        </p:nvSpPr>
        <p:spPr>
          <a:xfrm>
            <a:off x="200160" y="6021360"/>
            <a:ext cx="360360" cy="620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20640"/>
              <a:gd name="textAreaBottom" fmla="*/ 597600 h 620640"/>
            </a:gdLst>
            <a:ahLst/>
            <a:rect l="textAreaLeft" t="textAreaTop" r="textAreaRight" b="textAreaBottom"/>
            <a:pathLst>
              <a:path w="21600" h="37186">
                <a:moveTo>
                  <a:pt x="0" y="0"/>
                </a:moveTo>
                <a:lnTo>
                  <a:pt x="21600" y="0"/>
                </a:lnTo>
                <a:lnTo>
                  <a:pt x="21600" y="37186"/>
                </a:lnTo>
                <a:lnTo>
                  <a:pt x="0" y="37186"/>
                </a:lnTo>
                <a:close/>
              </a:path>
              <a:path fill="lightenLess" w="21600" h="37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186">
                <a:moveTo>
                  <a:pt x="21600" y="0"/>
                </a:moveTo>
                <a:lnTo>
                  <a:pt x="21600" y="37186"/>
                </a:lnTo>
                <a:lnTo>
                  <a:pt x="20200" y="35786"/>
                </a:lnTo>
                <a:lnTo>
                  <a:pt x="20200" y="1400"/>
                </a:lnTo>
                <a:close/>
              </a:path>
              <a:path fill="darkenLess" w="21600" h="37186">
                <a:moveTo>
                  <a:pt x="21600" y="37186"/>
                </a:moveTo>
                <a:lnTo>
                  <a:pt x="0" y="37186"/>
                </a:lnTo>
                <a:lnTo>
                  <a:pt x="1400" y="35786"/>
                </a:lnTo>
                <a:lnTo>
                  <a:pt x="20200" y="35786"/>
                </a:lnTo>
                <a:close/>
              </a:path>
              <a:path fill="lighten" w="21600" h="37186">
                <a:moveTo>
                  <a:pt x="0" y="37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35786"/>
                </a:lnTo>
                <a:close/>
              </a:path>
              <a:path fill="darken" w="21600" h="37186">
                <a:moveTo>
                  <a:pt x="3794" y="11586"/>
                </a:moveTo>
                <a:lnTo>
                  <a:pt x="17806" y="18593"/>
                </a:lnTo>
                <a:lnTo>
                  <a:pt x="3794" y="2559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>
            <a:hlinkClick r:id="rId1" action="ppaction://hlinksldjump"/>
          </p:cNvPr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94880" y="120600"/>
            <a:ext cx="76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xemple d’enchaînement méthod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r une fonction du siège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4480" y="2247840"/>
            <a:ext cx="1568160" cy="3812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1 : Assurer la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4827600">
            <a:off x="2596320" y="1034280"/>
            <a:ext cx="5688000" cy="5832720"/>
          </a:xfrm>
          <a:custGeom>
            <a:avLst/>
            <a:gdLst>
              <a:gd name="textAreaLeft" fmla="*/ 995400 w 5688000"/>
              <a:gd name="textAreaRight" fmla="*/ 4123800 w 5688000"/>
              <a:gd name="textAreaTop" fmla="*/ 781200 h 5832720"/>
              <a:gd name="textAreaBottom" fmla="*/ 5051520 h 583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95560" y="194328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fro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95560" y="255276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latér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82640" y="2476440"/>
            <a:ext cx="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847880" y="2095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4788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47880" y="2781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930320" y="1714680"/>
            <a:ext cx="1486080" cy="1371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93960" y="23065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81280" y="140976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e conducteu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poste de cond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194328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colon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tébrale 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2476440"/>
            <a:ext cx="1692360" cy="38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tê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up du lap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5116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98840" y="1562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98840" y="1562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498840" y="209556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98840" y="2705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095560" y="3467160"/>
            <a:ext cx="198108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érer les effo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r la structure du véhic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65440" y="24004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65440" y="240048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65440" y="36194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66880" y="31622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560600" y="4149720"/>
            <a:ext cx="28112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Need : Fonctions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62720" y="1257480"/>
            <a:ext cx="255888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2476440"/>
            <a:ext cx="66024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27600" y="1409760"/>
            <a:ext cx="74304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int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15040" y="1177920"/>
            <a:ext cx="743040" cy="49536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727600" y="1866960"/>
            <a:ext cx="1073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sature doss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66000" y="1486080"/>
            <a:ext cx="907920" cy="38088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sup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30880" y="2095560"/>
            <a:ext cx="6606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2476440"/>
            <a:ext cx="99072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15040" y="1790640"/>
            <a:ext cx="577800" cy="34308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257800" y="1177920"/>
            <a:ext cx="1955880" cy="1371600"/>
          </a:xfrm>
          <a:custGeom>
            <a:avLst/>
            <a:gdLst/>
            <a:ahLst/>
            <a:rect l="l" t="t" r="r" b="b"/>
            <a:pathLst>
              <a:path w="1157" h="853">
                <a:moveTo>
                  <a:pt x="0" y="824"/>
                </a:moveTo>
                <a:cubicBezTo>
                  <a:pt x="60" y="836"/>
                  <a:pt x="114" y="825"/>
                  <a:pt x="192" y="824"/>
                </a:cubicBezTo>
                <a:cubicBezTo>
                  <a:pt x="270" y="823"/>
                  <a:pt x="341" y="819"/>
                  <a:pt x="468" y="820"/>
                </a:cubicBezTo>
                <a:cubicBezTo>
                  <a:pt x="595" y="821"/>
                  <a:pt x="840" y="853"/>
                  <a:pt x="952" y="828"/>
                </a:cubicBezTo>
                <a:cubicBezTo>
                  <a:pt x="1064" y="803"/>
                  <a:pt x="1123" y="736"/>
                  <a:pt x="1140" y="668"/>
                </a:cubicBezTo>
                <a:cubicBezTo>
                  <a:pt x="1157" y="600"/>
                  <a:pt x="1097" y="531"/>
                  <a:pt x="1056" y="420"/>
                </a:cubicBezTo>
                <a:lnTo>
                  <a:pt x="892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613960" y="605808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blème de fabr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tu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ction insuffisante : aplan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98000" y="3505320"/>
            <a:ext cx="18266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Structure : B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7873920" y="1485720"/>
            <a:ext cx="412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204040" y="125748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duit du tube sur une autre fo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782200" y="1806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121600" y="224784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cess opération de poinçonn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709040" y="2171880"/>
            <a:ext cx="536400" cy="2590560"/>
          </a:xfrm>
          <a:custGeom>
            <a:avLst/>
            <a:gdLst/>
            <a:ahLst/>
            <a:rect l="l" t="t" r="r" b="b"/>
            <a:pathLst>
              <a:path w="744" h="1650">
                <a:moveTo>
                  <a:pt x="0" y="0"/>
                </a:moveTo>
                <a:lnTo>
                  <a:pt x="744" y="1650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461360" y="4762440"/>
            <a:ext cx="206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l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Assembler tube support avec la dou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369280" y="5219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96120" y="5753160"/>
            <a:ext cx="206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961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6262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9567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2868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61696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46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91123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36000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371080" y="55245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455200" y="5226120"/>
            <a:ext cx="196524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dance et S/Ch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922800" y="5219640"/>
            <a:ext cx="1308600" cy="45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CreaTRIZ: B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Assembles So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7191720" y="5839560"/>
            <a:ext cx="9122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hés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30880" y="5905440"/>
            <a:ext cx="3304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6305040" y="6438960"/>
            <a:ext cx="825480" cy="152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02120" y="6058080"/>
            <a:ext cx="18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dage des tubes nécessitant la réalisation de plats sur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432396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234288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2280" y="6058080"/>
            <a:ext cx="173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 d ’une matrice interne mais qui raye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23680" y="5226120"/>
            <a:ext cx="123228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tra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986920" y="38307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, parce 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378560" y="1790640"/>
            <a:ext cx="330480" cy="3812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96" y="0"/>
                </a:moveTo>
                <a:lnTo>
                  <a:pt x="0" y="192"/>
                </a:lnTo>
                <a:lnTo>
                  <a:pt x="192" y="240"/>
                </a:lnTo>
                <a:lnTo>
                  <a:pt x="96" y="0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782200" y="2797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121600" y="323856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Moy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23560" y="5743440"/>
            <a:ext cx="27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sin du graphe de potentiel d ’é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16200000">
            <a:off x="7658640" y="2598480"/>
            <a:ext cx="396936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TDC FMEA: AMDEC Produit, Process et mo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21600" y="5300640"/>
            <a:ext cx="504720" cy="289080"/>
          </a:xfrm>
          <a:custGeom>
            <a:avLst/>
            <a:gdLst>
              <a:gd name="textAreaLeft" fmla="*/ 78840 w 504720"/>
              <a:gd name="textAreaRight" fmla="*/ 441720 w 50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0"/>
            <a:ext cx="9906120" cy="6858000"/>
          </a:xfrm>
          <a:custGeom>
            <a:avLst/>
            <a:gdLst>
              <a:gd name="textAreaLeft" fmla="*/ 444240 w 9906120"/>
              <a:gd name="textAreaRight" fmla="*/ 9461880 w 99061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31200" h="21600">
                <a:moveTo>
                  <a:pt x="0" y="0"/>
                </a:moveTo>
                <a:lnTo>
                  <a:pt x="31200" y="0"/>
                </a:lnTo>
                <a:lnTo>
                  <a:pt x="31200" y="21600"/>
                </a:lnTo>
                <a:lnTo>
                  <a:pt x="0" y="21600"/>
                </a:lnTo>
                <a:close/>
              </a:path>
              <a:path fill="lightenLess" w="31200" h="21600">
                <a:moveTo>
                  <a:pt x="0" y="0"/>
                </a:moveTo>
                <a:lnTo>
                  <a:pt x="31200" y="0"/>
                </a:lnTo>
                <a:lnTo>
                  <a:pt x="29800" y="1400"/>
                </a:lnTo>
                <a:lnTo>
                  <a:pt x="1400" y="1400"/>
                </a:lnTo>
                <a:close/>
              </a:path>
              <a:path fill="darken" w="31200" h="21600">
                <a:moveTo>
                  <a:pt x="31200" y="0"/>
                </a:moveTo>
                <a:lnTo>
                  <a:pt x="31200" y="21600"/>
                </a:lnTo>
                <a:lnTo>
                  <a:pt x="29800" y="20200"/>
                </a:lnTo>
                <a:lnTo>
                  <a:pt x="29800" y="1400"/>
                </a:lnTo>
                <a:close/>
              </a:path>
              <a:path fill="darkenLess" w="31200" h="21600">
                <a:moveTo>
                  <a:pt x="3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00" y="20200"/>
                </a:lnTo>
                <a:close/>
              </a:path>
              <a:path fill="lighten" w="3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>
            <a:hlinkClick r:id="rId2" action="ppaction://hlinksldjump"/>
          </p:cNvPr>
          <p:cNvSpPr/>
          <p:nvPr/>
        </p:nvSpPr>
        <p:spPr>
          <a:xfrm>
            <a:off x="6897600" y="5232240"/>
            <a:ext cx="1368360" cy="5050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92" h="21600">
                <a:moveTo>
                  <a:pt x="0" y="0"/>
                </a:moveTo>
                <a:lnTo>
                  <a:pt x="58492" y="0"/>
                </a:lnTo>
                <a:lnTo>
                  <a:pt x="58492" y="21600"/>
                </a:lnTo>
                <a:lnTo>
                  <a:pt x="0" y="21600"/>
                </a:lnTo>
                <a:close/>
              </a:path>
              <a:path fill="lightenLess" w="58492" h="21600">
                <a:moveTo>
                  <a:pt x="0" y="0"/>
                </a:moveTo>
                <a:lnTo>
                  <a:pt x="58492" y="0"/>
                </a:lnTo>
                <a:lnTo>
                  <a:pt x="57092" y="1400"/>
                </a:lnTo>
                <a:lnTo>
                  <a:pt x="1400" y="1400"/>
                </a:lnTo>
                <a:close/>
              </a:path>
              <a:path fill="darken" w="58492" h="21600">
                <a:moveTo>
                  <a:pt x="58492" y="0"/>
                </a:moveTo>
                <a:lnTo>
                  <a:pt x="58492" y="21600"/>
                </a:lnTo>
                <a:lnTo>
                  <a:pt x="57092" y="20200"/>
                </a:lnTo>
                <a:lnTo>
                  <a:pt x="57092" y="1400"/>
                </a:lnTo>
                <a:close/>
              </a:path>
              <a:path fill="darkenLess" w="58492" h="21600">
                <a:moveTo>
                  <a:pt x="58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92" y="20200"/>
                </a:lnTo>
                <a:close/>
              </a:path>
              <a:path fill="lighten" w="58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71280" y="2205000"/>
            <a:ext cx="9705960" cy="3389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3606840" y="404640"/>
            <a:ext cx="2376360" cy="752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1" name=""/>
          <p:cNvSpPr/>
          <p:nvPr/>
        </p:nvSpPr>
        <p:spPr>
          <a:xfrm>
            <a:off x="2354040" y="1341360"/>
            <a:ext cx="48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Comic Sans MS"/>
              </a:rPr>
              <a:t>Function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200160" y="6021360"/>
            <a:ext cx="360360" cy="620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20640"/>
              <a:gd name="textAreaBottom" fmla="*/ 597600 h 620640"/>
            </a:gdLst>
            <a:ahLst/>
            <a:rect l="textAreaLeft" t="textAreaTop" r="textAreaRight" b="textAreaBottom"/>
            <a:pathLst>
              <a:path w="21600" h="37186">
                <a:moveTo>
                  <a:pt x="0" y="0"/>
                </a:moveTo>
                <a:lnTo>
                  <a:pt x="21600" y="0"/>
                </a:lnTo>
                <a:lnTo>
                  <a:pt x="21600" y="37186"/>
                </a:lnTo>
                <a:lnTo>
                  <a:pt x="0" y="37186"/>
                </a:lnTo>
                <a:close/>
              </a:path>
              <a:path fill="lightenLess" w="21600" h="37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186">
                <a:moveTo>
                  <a:pt x="21600" y="0"/>
                </a:moveTo>
                <a:lnTo>
                  <a:pt x="21600" y="37186"/>
                </a:lnTo>
                <a:lnTo>
                  <a:pt x="20200" y="35786"/>
                </a:lnTo>
                <a:lnTo>
                  <a:pt x="20200" y="1400"/>
                </a:lnTo>
                <a:close/>
              </a:path>
              <a:path fill="darkenLess" w="21600" h="37186">
                <a:moveTo>
                  <a:pt x="21600" y="37186"/>
                </a:moveTo>
                <a:lnTo>
                  <a:pt x="0" y="37186"/>
                </a:lnTo>
                <a:lnTo>
                  <a:pt x="1400" y="35786"/>
                </a:lnTo>
                <a:lnTo>
                  <a:pt x="20200" y="35786"/>
                </a:lnTo>
                <a:close/>
              </a:path>
              <a:path fill="lighten" w="21600" h="37186">
                <a:moveTo>
                  <a:pt x="0" y="37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35786"/>
                </a:lnTo>
                <a:close/>
              </a:path>
              <a:path fill="darken" w="21600" h="37186">
                <a:moveTo>
                  <a:pt x="3794" y="11586"/>
                </a:moveTo>
                <a:lnTo>
                  <a:pt x="17806" y="18593"/>
                </a:lnTo>
                <a:lnTo>
                  <a:pt x="3794" y="2559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>
            <a:hlinkClick r:id="rId1" action="ppaction://hlinksldjump"/>
          </p:cNvPr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94880" y="120600"/>
            <a:ext cx="76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xemple d’enchaînement méthod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r une fonction du siège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4480" y="2247840"/>
            <a:ext cx="1568160" cy="3812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1 : Assurer la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4827600">
            <a:off x="2596320" y="1034280"/>
            <a:ext cx="5688000" cy="5832720"/>
          </a:xfrm>
          <a:custGeom>
            <a:avLst/>
            <a:gdLst>
              <a:gd name="textAreaLeft" fmla="*/ 995400 w 5688000"/>
              <a:gd name="textAreaRight" fmla="*/ 4123800 w 5688000"/>
              <a:gd name="textAreaTop" fmla="*/ 781200 h 5832720"/>
              <a:gd name="textAreaBottom" fmla="*/ 5051520 h 583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95560" y="194328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fro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095560" y="255276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latér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682640" y="2476440"/>
            <a:ext cx="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47880" y="2095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84788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847880" y="2781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30320" y="1714680"/>
            <a:ext cx="1486080" cy="1371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93960" y="23065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581280" y="140976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e conducteu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poste de cond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581280" y="194328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colon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tébrale 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81280" y="2476440"/>
            <a:ext cx="1692360" cy="38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tê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up du lap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5116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98840" y="1562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98840" y="1562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498840" y="209556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498840" y="2705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095560" y="3467160"/>
            <a:ext cx="198108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érer les effo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r la structure du véhic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765440" y="24004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65440" y="240048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65440" y="36194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66880" y="31622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560600" y="4149720"/>
            <a:ext cx="28112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Need : Fonctions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562720" y="1257480"/>
            <a:ext cx="255888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15000" y="2476440"/>
            <a:ext cx="66024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27600" y="1409760"/>
            <a:ext cx="74304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int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15040" y="1177920"/>
            <a:ext cx="743040" cy="49536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27600" y="1866960"/>
            <a:ext cx="1073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sature doss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966000" y="1486080"/>
            <a:ext cx="907920" cy="38088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sup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30880" y="2095560"/>
            <a:ext cx="6606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629400" y="2476440"/>
            <a:ext cx="99072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15040" y="1790640"/>
            <a:ext cx="577800" cy="34308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57800" y="1177920"/>
            <a:ext cx="1955880" cy="1371600"/>
          </a:xfrm>
          <a:custGeom>
            <a:avLst/>
            <a:gdLst/>
            <a:ahLst/>
            <a:rect l="l" t="t" r="r" b="b"/>
            <a:pathLst>
              <a:path w="1157" h="853">
                <a:moveTo>
                  <a:pt x="0" y="824"/>
                </a:moveTo>
                <a:cubicBezTo>
                  <a:pt x="60" y="836"/>
                  <a:pt x="114" y="825"/>
                  <a:pt x="192" y="824"/>
                </a:cubicBezTo>
                <a:cubicBezTo>
                  <a:pt x="270" y="823"/>
                  <a:pt x="341" y="819"/>
                  <a:pt x="468" y="820"/>
                </a:cubicBezTo>
                <a:cubicBezTo>
                  <a:pt x="595" y="821"/>
                  <a:pt x="840" y="853"/>
                  <a:pt x="952" y="828"/>
                </a:cubicBezTo>
                <a:cubicBezTo>
                  <a:pt x="1064" y="803"/>
                  <a:pt x="1123" y="736"/>
                  <a:pt x="1140" y="668"/>
                </a:cubicBezTo>
                <a:cubicBezTo>
                  <a:pt x="1157" y="600"/>
                  <a:pt x="1097" y="531"/>
                  <a:pt x="1056" y="420"/>
                </a:cubicBezTo>
                <a:lnTo>
                  <a:pt x="892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613960" y="605808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blème de fabr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tu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ction insuffisante : aplan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98000" y="3505320"/>
            <a:ext cx="18266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Structure : B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873920" y="1485720"/>
            <a:ext cx="412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04040" y="125748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duit du tube sur une autre fo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782200" y="1806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121600" y="224784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cess opération de poinçonn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09040" y="2171880"/>
            <a:ext cx="536400" cy="2590560"/>
          </a:xfrm>
          <a:custGeom>
            <a:avLst/>
            <a:gdLst/>
            <a:ahLst/>
            <a:rect l="l" t="t" r="r" b="b"/>
            <a:pathLst>
              <a:path w="744" h="1650">
                <a:moveTo>
                  <a:pt x="0" y="0"/>
                </a:moveTo>
                <a:lnTo>
                  <a:pt x="744" y="1650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461360" y="4762440"/>
            <a:ext cx="206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l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Assembler tube support avec la dou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369280" y="5219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96120" y="5753160"/>
            <a:ext cx="206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2961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6262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9567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2868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61696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8646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91123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36000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371080" y="55245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55200" y="5226120"/>
            <a:ext cx="196524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dance et S/Ch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22800" y="5219640"/>
            <a:ext cx="1308600" cy="45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CreaTRIZ: B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Assembles So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rot="16200000">
            <a:off x="7191720" y="5839560"/>
            <a:ext cx="9122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hés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130880" y="5905440"/>
            <a:ext cx="3304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6305040" y="6438960"/>
            <a:ext cx="825480" cy="152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902120" y="6058080"/>
            <a:ext cx="18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dage des tubes nécessitant la réalisation de plats sur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432396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234288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92280" y="6058080"/>
            <a:ext cx="173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 d ’une matrice interne mais qui raye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23680" y="5226120"/>
            <a:ext cx="123228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tra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986920" y="38307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, parce 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378560" y="1790640"/>
            <a:ext cx="330480" cy="3812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96" y="0"/>
                </a:moveTo>
                <a:lnTo>
                  <a:pt x="0" y="192"/>
                </a:lnTo>
                <a:lnTo>
                  <a:pt x="192" y="240"/>
                </a:lnTo>
                <a:lnTo>
                  <a:pt x="96" y="0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782200" y="2797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121600" y="323856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Moy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023560" y="5743440"/>
            <a:ext cx="27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sin du graphe de potentiel d ’é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16200000">
            <a:off x="7658640" y="2598480"/>
            <a:ext cx="396936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TDC FMEA: AMDEC Produit, Process et mo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rot="2726400">
            <a:off x="2936520" y="4797360"/>
            <a:ext cx="505080" cy="288720"/>
          </a:xfrm>
          <a:custGeom>
            <a:avLst/>
            <a:gdLst>
              <a:gd name="textAreaLeft" fmla="*/ 78840 w 505080"/>
              <a:gd name="textAreaRight" fmla="*/ 442080 w 5050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>
            <a:hlinkClick r:id="rId2" action="ppaction://hlinksldjump"/>
          </p:cNvPr>
          <p:cNvSpPr/>
          <p:nvPr/>
        </p:nvSpPr>
        <p:spPr>
          <a:xfrm>
            <a:off x="2432160" y="5229360"/>
            <a:ext cx="2016000" cy="57456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75756" h="21600">
                <a:moveTo>
                  <a:pt x="0" y="0"/>
                </a:moveTo>
                <a:lnTo>
                  <a:pt x="75756" y="0"/>
                </a:lnTo>
                <a:lnTo>
                  <a:pt x="75756" y="21600"/>
                </a:lnTo>
                <a:lnTo>
                  <a:pt x="0" y="21600"/>
                </a:lnTo>
                <a:close/>
              </a:path>
              <a:path fill="lightenLess" w="75756" h="21600">
                <a:moveTo>
                  <a:pt x="0" y="0"/>
                </a:moveTo>
                <a:lnTo>
                  <a:pt x="75756" y="0"/>
                </a:lnTo>
                <a:lnTo>
                  <a:pt x="74356" y="1400"/>
                </a:lnTo>
                <a:lnTo>
                  <a:pt x="1400" y="1400"/>
                </a:lnTo>
                <a:close/>
              </a:path>
              <a:path fill="darken" w="75756" h="21600">
                <a:moveTo>
                  <a:pt x="75756" y="0"/>
                </a:moveTo>
                <a:lnTo>
                  <a:pt x="75756" y="21600"/>
                </a:lnTo>
                <a:lnTo>
                  <a:pt x="74356" y="20200"/>
                </a:lnTo>
                <a:lnTo>
                  <a:pt x="74356" y="1400"/>
                </a:lnTo>
                <a:close/>
              </a:path>
              <a:path fill="darkenLess" w="75756" h="21600">
                <a:moveTo>
                  <a:pt x="75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56" y="20200"/>
                </a:lnTo>
                <a:close/>
              </a:path>
              <a:path fill="lighten" w="75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0"/>
            <a:ext cx="9906120" cy="6858000"/>
          </a:xfrm>
          <a:custGeom>
            <a:avLst/>
            <a:gdLst>
              <a:gd name="textAreaLeft" fmla="*/ 444240 w 9906120"/>
              <a:gd name="textAreaRight" fmla="*/ 9461880 w 99061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31200" h="21600">
                <a:moveTo>
                  <a:pt x="0" y="0"/>
                </a:moveTo>
                <a:lnTo>
                  <a:pt x="31200" y="0"/>
                </a:lnTo>
                <a:lnTo>
                  <a:pt x="31200" y="21600"/>
                </a:lnTo>
                <a:lnTo>
                  <a:pt x="0" y="21600"/>
                </a:lnTo>
                <a:close/>
              </a:path>
              <a:path fill="lightenLess" w="31200" h="21600">
                <a:moveTo>
                  <a:pt x="0" y="0"/>
                </a:moveTo>
                <a:lnTo>
                  <a:pt x="31200" y="0"/>
                </a:lnTo>
                <a:lnTo>
                  <a:pt x="29800" y="1400"/>
                </a:lnTo>
                <a:lnTo>
                  <a:pt x="1400" y="1400"/>
                </a:lnTo>
                <a:close/>
              </a:path>
              <a:path fill="darken" w="31200" h="21600">
                <a:moveTo>
                  <a:pt x="31200" y="0"/>
                </a:moveTo>
                <a:lnTo>
                  <a:pt x="31200" y="21600"/>
                </a:lnTo>
                <a:lnTo>
                  <a:pt x="29800" y="20200"/>
                </a:lnTo>
                <a:lnTo>
                  <a:pt x="29800" y="1400"/>
                </a:lnTo>
                <a:close/>
              </a:path>
              <a:path fill="darkenLess" w="31200" h="21600">
                <a:moveTo>
                  <a:pt x="3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00" y="20200"/>
                </a:lnTo>
                <a:close/>
              </a:path>
              <a:path fill="lighten" w="3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2432160" y="5229360"/>
            <a:ext cx="2016000" cy="57456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75756" h="21600">
                <a:moveTo>
                  <a:pt x="0" y="0"/>
                </a:moveTo>
                <a:lnTo>
                  <a:pt x="75756" y="0"/>
                </a:lnTo>
                <a:lnTo>
                  <a:pt x="75756" y="21600"/>
                </a:lnTo>
                <a:lnTo>
                  <a:pt x="0" y="21600"/>
                </a:lnTo>
                <a:close/>
              </a:path>
              <a:path fill="lightenLess" w="75756" h="21600">
                <a:moveTo>
                  <a:pt x="0" y="0"/>
                </a:moveTo>
                <a:lnTo>
                  <a:pt x="75756" y="0"/>
                </a:lnTo>
                <a:lnTo>
                  <a:pt x="74356" y="1400"/>
                </a:lnTo>
                <a:lnTo>
                  <a:pt x="1400" y="1400"/>
                </a:lnTo>
                <a:close/>
              </a:path>
              <a:path fill="darken" w="75756" h="21600">
                <a:moveTo>
                  <a:pt x="75756" y="0"/>
                </a:moveTo>
                <a:lnTo>
                  <a:pt x="75756" y="21600"/>
                </a:lnTo>
                <a:lnTo>
                  <a:pt x="74356" y="20200"/>
                </a:lnTo>
                <a:lnTo>
                  <a:pt x="74356" y="1400"/>
                </a:lnTo>
                <a:close/>
              </a:path>
              <a:path fill="darkenLess" w="75756" h="21600">
                <a:moveTo>
                  <a:pt x="75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56" y="20200"/>
                </a:lnTo>
                <a:close/>
              </a:path>
              <a:path fill="lighten" w="75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432160" y="5157720"/>
            <a:ext cx="2016000" cy="57492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75708" h="21600">
                <a:moveTo>
                  <a:pt x="0" y="0"/>
                </a:moveTo>
                <a:lnTo>
                  <a:pt x="75708" y="0"/>
                </a:lnTo>
                <a:lnTo>
                  <a:pt x="75708" y="21600"/>
                </a:lnTo>
                <a:lnTo>
                  <a:pt x="0" y="21600"/>
                </a:lnTo>
                <a:close/>
              </a:path>
              <a:path fill="lightenLess" w="75708" h="21600">
                <a:moveTo>
                  <a:pt x="0" y="0"/>
                </a:moveTo>
                <a:lnTo>
                  <a:pt x="75708" y="0"/>
                </a:lnTo>
                <a:lnTo>
                  <a:pt x="74308" y="1400"/>
                </a:lnTo>
                <a:lnTo>
                  <a:pt x="1400" y="1400"/>
                </a:lnTo>
                <a:close/>
              </a:path>
              <a:path fill="darken" w="75708" h="21600">
                <a:moveTo>
                  <a:pt x="75708" y="0"/>
                </a:moveTo>
                <a:lnTo>
                  <a:pt x="75708" y="21600"/>
                </a:lnTo>
                <a:lnTo>
                  <a:pt x="74308" y="20200"/>
                </a:lnTo>
                <a:lnTo>
                  <a:pt x="74308" y="1400"/>
                </a:lnTo>
                <a:close/>
              </a:path>
              <a:path fill="darkenLess" w="75708" h="21600">
                <a:moveTo>
                  <a:pt x="75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08" y="20200"/>
                </a:lnTo>
                <a:close/>
              </a:path>
              <a:path fill="lighten" w="75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32160" y="5229360"/>
            <a:ext cx="2016000" cy="57456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75756" h="21600">
                <a:moveTo>
                  <a:pt x="0" y="0"/>
                </a:moveTo>
                <a:lnTo>
                  <a:pt x="75756" y="0"/>
                </a:lnTo>
                <a:lnTo>
                  <a:pt x="75756" y="21600"/>
                </a:lnTo>
                <a:lnTo>
                  <a:pt x="0" y="21600"/>
                </a:lnTo>
                <a:close/>
              </a:path>
              <a:path fill="lightenLess" w="75756" h="21600">
                <a:moveTo>
                  <a:pt x="0" y="0"/>
                </a:moveTo>
                <a:lnTo>
                  <a:pt x="75756" y="0"/>
                </a:lnTo>
                <a:lnTo>
                  <a:pt x="74356" y="1400"/>
                </a:lnTo>
                <a:lnTo>
                  <a:pt x="1400" y="1400"/>
                </a:lnTo>
                <a:close/>
              </a:path>
              <a:path fill="darken" w="75756" h="21600">
                <a:moveTo>
                  <a:pt x="75756" y="0"/>
                </a:moveTo>
                <a:lnTo>
                  <a:pt x="75756" y="21600"/>
                </a:lnTo>
                <a:lnTo>
                  <a:pt x="74356" y="20200"/>
                </a:lnTo>
                <a:lnTo>
                  <a:pt x="74356" y="1400"/>
                </a:lnTo>
                <a:close/>
              </a:path>
              <a:path fill="darkenLess" w="75756" h="21600">
                <a:moveTo>
                  <a:pt x="75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56" y="20200"/>
                </a:lnTo>
                <a:close/>
              </a:path>
              <a:path fill="lighten" w="75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grpSp>
          <p:nvGrpSpPr>
            <p:cNvPr id="51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0" y="0"/>
                <a:ext cx="9905040" cy="6858000"/>
                <a:chOff x="0" y="0"/>
                <a:chExt cx="9905040" cy="68580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36400" y="0"/>
                  <a:ext cx="936864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4" name="" descr=""/>
                <p:cNvPicPr/>
                <p:nvPr/>
              </p:nvPicPr>
              <p:blipFill>
                <a:blip r:embed="rId1"/>
                <a:srcRect l="0" t="0" r="0" b="14284"/>
                <a:stretch/>
              </p:blipFill>
              <p:spPr>
                <a:xfrm>
                  <a:off x="0" y="0"/>
                  <a:ext cx="120708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5" name="" descr=""/>
              <p:cNvPicPr/>
              <p:nvPr/>
            </p:nvPicPr>
            <p:blipFill>
              <a:blip r:embed="rId2">
                <a:lum bright="-2000"/>
              </a:blip>
              <a:srcRect l="41685" t="0" r="0" b="0"/>
              <a:stretch/>
            </p:blipFill>
            <p:spPr>
              <a:xfrm>
                <a:off x="3240" y="152280"/>
                <a:ext cx="9902160" cy="76212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56" name=""/>
            <p:cNvGraphicFramePr/>
            <p:nvPr/>
          </p:nvGraphicFramePr>
          <p:xfrm>
            <a:off x="7512120" y="6357960"/>
            <a:ext cx="2393640" cy="5000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12120" y="6357960"/>
                      <a:ext cx="23936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" name=""/>
          <p:cNvSpPr/>
          <p:nvPr/>
        </p:nvSpPr>
        <p:spPr>
          <a:xfrm>
            <a:off x="1155600" y="257040"/>
            <a:ext cx="87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es points clés des outils informa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673280" y="1413000"/>
            <a:ext cx="622080" cy="684000"/>
            <a:chOff x="1673280" y="1413000"/>
            <a:chExt cx="622080" cy="684000"/>
          </a:xfrm>
        </p:grpSpPr>
        <p:sp>
          <p:nvSpPr>
            <p:cNvPr id="60" name=""/>
            <p:cNvSpPr/>
            <p:nvPr/>
          </p:nvSpPr>
          <p:spPr>
            <a:xfrm rot="16200000">
              <a:off x="1764000" y="1875960"/>
              <a:ext cx="285840" cy="155880"/>
            </a:xfrm>
            <a:prstGeom prst="parallelogram">
              <a:avLst>
                <a:gd name="adj" fmla="val 458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5400000">
              <a:off x="1919880" y="1875960"/>
              <a:ext cx="285840" cy="155880"/>
            </a:xfrm>
            <a:prstGeom prst="parallelogram">
              <a:avLst>
                <a:gd name="adj" fmla="val 458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1614600" y="1811880"/>
              <a:ext cx="273240" cy="155880"/>
            </a:xfrm>
            <a:prstGeom prst="parallelogram">
              <a:avLst>
                <a:gd name="adj" fmla="val 4382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6200000">
              <a:off x="1609920" y="1605240"/>
              <a:ext cx="282240" cy="153720"/>
            </a:xfrm>
            <a:prstGeom prst="parallelogram">
              <a:avLst>
                <a:gd name="adj" fmla="val 4590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673640" y="1479600"/>
              <a:ext cx="311400" cy="131400"/>
              <a:chOff x="1673640" y="1479600"/>
              <a:chExt cx="311400" cy="131400"/>
            </a:xfrm>
          </p:grpSpPr>
          <p:sp>
            <p:nvSpPr>
              <p:cNvPr id="65" name=""/>
              <p:cNvSpPr/>
              <p:nvPr/>
            </p:nvSpPr>
            <p:spPr>
              <a:xfrm>
                <a:off x="1673640" y="1479600"/>
                <a:ext cx="31140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1673640" y="1544760"/>
                <a:ext cx="31140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829160" y="1413000"/>
              <a:ext cx="311760" cy="131400"/>
              <a:chOff x="1829160" y="1413000"/>
              <a:chExt cx="311760" cy="131400"/>
            </a:xfrm>
          </p:grpSpPr>
          <p:sp>
            <p:nvSpPr>
              <p:cNvPr id="68" name=""/>
              <p:cNvSpPr/>
              <p:nvPr/>
            </p:nvSpPr>
            <p:spPr>
              <a:xfrm>
                <a:off x="1829160" y="1413000"/>
                <a:ext cx="31176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1829160" y="1478160"/>
                <a:ext cx="31176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 rot="5400000">
              <a:off x="2075400" y="1805400"/>
              <a:ext cx="285840" cy="152640"/>
            </a:xfrm>
            <a:prstGeom prst="parallelogram">
              <a:avLst>
                <a:gd name="adj" fmla="val 46816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5400000">
              <a:off x="2076480" y="1604520"/>
              <a:ext cx="282600" cy="153720"/>
            </a:xfrm>
            <a:prstGeom prst="parallelogram">
              <a:avLst>
                <a:gd name="adj" fmla="val 4596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6480" y="1476720"/>
              <a:ext cx="308880" cy="68400"/>
            </a:xfrm>
            <a:custGeom>
              <a:avLst/>
              <a:gdLst/>
              <a:ahLst/>
              <a:rect l="l" t="t" r="r" b="b"/>
              <a:pathLst>
                <a:path w="1189" h="234">
                  <a:moveTo>
                    <a:pt x="0" y="234"/>
                  </a:moveTo>
                  <a:lnTo>
                    <a:pt x="590" y="0"/>
                  </a:lnTo>
                  <a:lnTo>
                    <a:pt x="1189" y="225"/>
                  </a:lnTo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5400" y="1542600"/>
              <a:ext cx="309960" cy="70920"/>
            </a:xfrm>
            <a:custGeom>
              <a:avLst/>
              <a:gdLst/>
              <a:ahLst/>
              <a:rect l="l" t="t" r="r" b="b"/>
              <a:pathLst>
                <a:path w="1192" h="234">
                  <a:moveTo>
                    <a:pt x="0" y="9"/>
                  </a:moveTo>
                  <a:lnTo>
                    <a:pt x="594" y="234"/>
                  </a:lnTo>
                  <a:lnTo>
                    <a:pt x="1192" y="0"/>
                  </a:lnTo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 rot="5400000">
              <a:off x="1764000" y="1607040"/>
              <a:ext cx="282600" cy="153360"/>
            </a:xfrm>
            <a:prstGeom prst="parallelogram">
              <a:avLst>
                <a:gd name="adj" fmla="val 46068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827360" y="1758960"/>
              <a:ext cx="311400" cy="131400"/>
              <a:chOff x="1827360" y="1758960"/>
              <a:chExt cx="311400" cy="131400"/>
            </a:xfrm>
          </p:grpSpPr>
          <p:sp>
            <p:nvSpPr>
              <p:cNvPr id="76" name=""/>
              <p:cNvSpPr/>
              <p:nvPr/>
            </p:nvSpPr>
            <p:spPr>
              <a:xfrm>
                <a:off x="1827360" y="1758960"/>
                <a:ext cx="31140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1827360" y="1824120"/>
                <a:ext cx="31140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 rot="16200000">
              <a:off x="1920240" y="1608480"/>
              <a:ext cx="285840" cy="156240"/>
            </a:xfrm>
            <a:prstGeom prst="parallelogram">
              <a:avLst>
                <a:gd name="adj" fmla="val 4573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741320" y="4292640"/>
            <a:ext cx="623880" cy="684000"/>
            <a:chOff x="1741320" y="4292640"/>
            <a:chExt cx="623880" cy="684000"/>
          </a:xfrm>
        </p:grpSpPr>
        <p:sp>
          <p:nvSpPr>
            <p:cNvPr id="80" name=""/>
            <p:cNvSpPr/>
            <p:nvPr/>
          </p:nvSpPr>
          <p:spPr>
            <a:xfrm rot="16200000">
              <a:off x="1832760" y="4755600"/>
              <a:ext cx="285840" cy="156240"/>
            </a:xfrm>
            <a:prstGeom prst="parallelogram">
              <a:avLst>
                <a:gd name="adj" fmla="val 4573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5400000">
              <a:off x="1989360" y="4755600"/>
              <a:ext cx="285840" cy="156240"/>
            </a:xfrm>
            <a:prstGeom prst="parallelogram">
              <a:avLst>
                <a:gd name="adj" fmla="val 4573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682640" y="4691160"/>
              <a:ext cx="273240" cy="156240"/>
            </a:xfrm>
            <a:prstGeom prst="parallelogram">
              <a:avLst>
                <a:gd name="adj" fmla="val 43721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678320" y="4484520"/>
              <a:ext cx="282240" cy="154440"/>
            </a:xfrm>
            <a:prstGeom prst="parallelogram">
              <a:avLst>
                <a:gd name="adj" fmla="val 45688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741680" y="4359240"/>
              <a:ext cx="312480" cy="131400"/>
              <a:chOff x="1741680" y="4359240"/>
              <a:chExt cx="312480" cy="131400"/>
            </a:xfrm>
          </p:grpSpPr>
          <p:sp>
            <p:nvSpPr>
              <p:cNvPr id="85" name=""/>
              <p:cNvSpPr/>
              <p:nvPr/>
            </p:nvSpPr>
            <p:spPr>
              <a:xfrm>
                <a:off x="1741680" y="4359240"/>
                <a:ext cx="31248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741680" y="4424400"/>
                <a:ext cx="31248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897560" y="4292640"/>
              <a:ext cx="312840" cy="131400"/>
              <a:chOff x="1897560" y="4292640"/>
              <a:chExt cx="312840" cy="131400"/>
            </a:xfrm>
          </p:grpSpPr>
          <p:sp>
            <p:nvSpPr>
              <p:cNvPr id="88" name=""/>
              <p:cNvSpPr/>
              <p:nvPr/>
            </p:nvSpPr>
            <p:spPr>
              <a:xfrm>
                <a:off x="1897560" y="4292640"/>
                <a:ext cx="31284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897560" y="4357800"/>
                <a:ext cx="31284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V="1" rot="5400000">
              <a:off x="2144880" y="4684680"/>
              <a:ext cx="285840" cy="153000"/>
            </a:xfrm>
            <a:prstGeom prst="parallelogram">
              <a:avLst>
                <a:gd name="adj" fmla="val 46706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 rot="5400000">
              <a:off x="2145600" y="4483800"/>
              <a:ext cx="282600" cy="154080"/>
            </a:xfrm>
            <a:prstGeom prst="parallelogram">
              <a:avLst>
                <a:gd name="adj" fmla="val 45853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5240" y="4356360"/>
              <a:ext cx="309960" cy="68400"/>
            </a:xfrm>
            <a:custGeom>
              <a:avLst/>
              <a:gdLst/>
              <a:ahLst/>
              <a:rect l="l" t="t" r="r" b="b"/>
              <a:pathLst>
                <a:path w="1189" h="234">
                  <a:moveTo>
                    <a:pt x="0" y="234"/>
                  </a:moveTo>
                  <a:lnTo>
                    <a:pt x="590" y="0"/>
                  </a:lnTo>
                  <a:lnTo>
                    <a:pt x="1189" y="225"/>
                  </a:lnTo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4520" y="4422240"/>
              <a:ext cx="310680" cy="70920"/>
            </a:xfrm>
            <a:custGeom>
              <a:avLst/>
              <a:gdLst/>
              <a:ahLst/>
              <a:rect l="l" t="t" r="r" b="b"/>
              <a:pathLst>
                <a:path w="1192" h="234">
                  <a:moveTo>
                    <a:pt x="0" y="9"/>
                  </a:moveTo>
                  <a:lnTo>
                    <a:pt x="594" y="234"/>
                  </a:lnTo>
                  <a:lnTo>
                    <a:pt x="1192" y="0"/>
                  </a:lnTo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5400000">
              <a:off x="1832760" y="4486320"/>
              <a:ext cx="282600" cy="154080"/>
            </a:xfrm>
            <a:prstGeom prst="parallelogram">
              <a:avLst>
                <a:gd name="adj" fmla="val 4585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896120" y="4638600"/>
              <a:ext cx="312480" cy="131400"/>
              <a:chOff x="1896120" y="4638600"/>
              <a:chExt cx="312480" cy="131400"/>
            </a:xfrm>
          </p:grpSpPr>
          <p:sp>
            <p:nvSpPr>
              <p:cNvPr id="96" name=""/>
              <p:cNvSpPr/>
              <p:nvPr/>
            </p:nvSpPr>
            <p:spPr>
              <a:xfrm>
                <a:off x="1896120" y="4638600"/>
                <a:ext cx="31248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1896120" y="4703760"/>
                <a:ext cx="31248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rot="16200000">
              <a:off x="1989360" y="4487760"/>
              <a:ext cx="285840" cy="156600"/>
            </a:xfrm>
            <a:prstGeom prst="parallelogram">
              <a:avLst>
                <a:gd name="adj" fmla="val 45632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755720" y="5265720"/>
            <a:ext cx="622440" cy="684000"/>
            <a:chOff x="1755720" y="5265720"/>
            <a:chExt cx="622440" cy="684000"/>
          </a:xfrm>
        </p:grpSpPr>
        <p:sp>
          <p:nvSpPr>
            <p:cNvPr id="100" name=""/>
            <p:cNvSpPr/>
            <p:nvPr/>
          </p:nvSpPr>
          <p:spPr>
            <a:xfrm rot="16200000">
              <a:off x="1846440" y="5728680"/>
              <a:ext cx="285840" cy="155880"/>
            </a:xfrm>
            <a:prstGeom prst="parallelogram">
              <a:avLst>
                <a:gd name="adj" fmla="val 458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5400000">
              <a:off x="2002680" y="5728680"/>
              <a:ext cx="285840" cy="155880"/>
            </a:xfrm>
            <a:prstGeom prst="parallelogram">
              <a:avLst>
                <a:gd name="adj" fmla="val 458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1697040" y="5664960"/>
              <a:ext cx="273240" cy="155880"/>
            </a:xfrm>
            <a:prstGeom prst="parallelogram">
              <a:avLst>
                <a:gd name="adj" fmla="val 4382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1692720" y="5457960"/>
              <a:ext cx="282240" cy="154080"/>
            </a:xfrm>
            <a:prstGeom prst="parallelogram">
              <a:avLst>
                <a:gd name="adj" fmla="val 45794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756080" y="5332320"/>
              <a:ext cx="311760" cy="131400"/>
              <a:chOff x="1756080" y="5332320"/>
              <a:chExt cx="311760" cy="131400"/>
            </a:xfrm>
          </p:grpSpPr>
          <p:sp>
            <p:nvSpPr>
              <p:cNvPr id="105" name=""/>
              <p:cNvSpPr/>
              <p:nvPr/>
            </p:nvSpPr>
            <p:spPr>
              <a:xfrm>
                <a:off x="1756080" y="5332320"/>
                <a:ext cx="31176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1756080" y="5397480"/>
                <a:ext cx="31176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911600" y="5265720"/>
              <a:ext cx="312120" cy="131400"/>
              <a:chOff x="1911600" y="5265720"/>
              <a:chExt cx="312120" cy="13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911600" y="5265720"/>
                <a:ext cx="31212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1911600" y="5330880"/>
                <a:ext cx="31212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V="1" rot="5400000">
              <a:off x="2158200" y="5658480"/>
              <a:ext cx="285840" cy="152640"/>
            </a:xfrm>
            <a:prstGeom prst="parallelogram">
              <a:avLst>
                <a:gd name="adj" fmla="val 46816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5400000">
              <a:off x="2158920" y="5457240"/>
              <a:ext cx="282600" cy="153720"/>
            </a:xfrm>
            <a:prstGeom prst="parallelogram">
              <a:avLst>
                <a:gd name="adj" fmla="val 4596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68920" y="5329440"/>
              <a:ext cx="309240" cy="68400"/>
            </a:xfrm>
            <a:custGeom>
              <a:avLst/>
              <a:gdLst/>
              <a:ahLst/>
              <a:rect l="l" t="t" r="r" b="b"/>
              <a:pathLst>
                <a:path w="1189" h="234">
                  <a:moveTo>
                    <a:pt x="0" y="234"/>
                  </a:moveTo>
                  <a:lnTo>
                    <a:pt x="590" y="0"/>
                  </a:lnTo>
                  <a:lnTo>
                    <a:pt x="1189" y="225"/>
                  </a:lnTo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68200" y="5395320"/>
              <a:ext cx="309960" cy="70920"/>
            </a:xfrm>
            <a:custGeom>
              <a:avLst/>
              <a:gdLst/>
              <a:ahLst/>
              <a:rect l="l" t="t" r="r" b="b"/>
              <a:pathLst>
                <a:path w="1192" h="234">
                  <a:moveTo>
                    <a:pt x="0" y="9"/>
                  </a:moveTo>
                  <a:lnTo>
                    <a:pt x="594" y="234"/>
                  </a:lnTo>
                  <a:lnTo>
                    <a:pt x="1192" y="0"/>
                  </a:lnTo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5400000">
              <a:off x="1846800" y="5459760"/>
              <a:ext cx="282600" cy="153720"/>
            </a:xfrm>
            <a:prstGeom prst="parallelogram">
              <a:avLst>
                <a:gd name="adj" fmla="val 4596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910160" y="5611680"/>
              <a:ext cx="311760" cy="131400"/>
              <a:chOff x="1910160" y="5611680"/>
              <a:chExt cx="311760" cy="131400"/>
            </a:xfrm>
          </p:grpSpPr>
          <p:sp>
            <p:nvSpPr>
              <p:cNvPr id="116" name=""/>
              <p:cNvSpPr/>
              <p:nvPr/>
            </p:nvSpPr>
            <p:spPr>
              <a:xfrm>
                <a:off x="1910160" y="5611680"/>
                <a:ext cx="31176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910160" y="5676840"/>
                <a:ext cx="31176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rot="16200000">
              <a:off x="2003040" y="5461200"/>
              <a:ext cx="285840" cy="156240"/>
            </a:xfrm>
            <a:prstGeom prst="parallelogram">
              <a:avLst>
                <a:gd name="adj" fmla="val 4573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714680" y="2349360"/>
            <a:ext cx="622080" cy="684000"/>
            <a:chOff x="1714680" y="2349360"/>
            <a:chExt cx="622080" cy="684000"/>
          </a:xfrm>
        </p:grpSpPr>
        <p:sp>
          <p:nvSpPr>
            <p:cNvPr id="120" name=""/>
            <p:cNvSpPr/>
            <p:nvPr/>
          </p:nvSpPr>
          <p:spPr>
            <a:xfrm rot="16200000">
              <a:off x="1805400" y="2812320"/>
              <a:ext cx="285840" cy="155880"/>
            </a:xfrm>
            <a:prstGeom prst="parallelogram">
              <a:avLst>
                <a:gd name="adj" fmla="val 458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5400000">
              <a:off x="1961280" y="2812320"/>
              <a:ext cx="285840" cy="155880"/>
            </a:xfrm>
            <a:prstGeom prst="parallelogram">
              <a:avLst>
                <a:gd name="adj" fmla="val 458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1656000" y="2748600"/>
              <a:ext cx="273240" cy="155880"/>
            </a:xfrm>
            <a:prstGeom prst="parallelogram">
              <a:avLst>
                <a:gd name="adj" fmla="val 4382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1651320" y="2541600"/>
              <a:ext cx="282240" cy="153720"/>
            </a:xfrm>
            <a:prstGeom prst="parallelogram">
              <a:avLst>
                <a:gd name="adj" fmla="val 4590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15040" y="2415960"/>
              <a:ext cx="311400" cy="131400"/>
              <a:chOff x="1715040" y="2415960"/>
              <a:chExt cx="311400" cy="131400"/>
            </a:xfrm>
          </p:grpSpPr>
          <p:sp>
            <p:nvSpPr>
              <p:cNvPr id="125" name=""/>
              <p:cNvSpPr/>
              <p:nvPr/>
            </p:nvSpPr>
            <p:spPr>
              <a:xfrm>
                <a:off x="1715040" y="2415960"/>
                <a:ext cx="31140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715040" y="2481120"/>
                <a:ext cx="31140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870560" y="2349360"/>
              <a:ext cx="311760" cy="131400"/>
              <a:chOff x="1870560" y="2349360"/>
              <a:chExt cx="311760" cy="131400"/>
            </a:xfrm>
          </p:grpSpPr>
          <p:sp>
            <p:nvSpPr>
              <p:cNvPr id="128" name=""/>
              <p:cNvSpPr/>
              <p:nvPr/>
            </p:nvSpPr>
            <p:spPr>
              <a:xfrm>
                <a:off x="1870560" y="2349360"/>
                <a:ext cx="31176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870560" y="2414520"/>
                <a:ext cx="31176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flipV="1" rot="5400000">
              <a:off x="2116800" y="2742120"/>
              <a:ext cx="285840" cy="152640"/>
            </a:xfrm>
            <a:prstGeom prst="parallelogram">
              <a:avLst>
                <a:gd name="adj" fmla="val 46816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5400000">
              <a:off x="2117880" y="2540880"/>
              <a:ext cx="282600" cy="153720"/>
            </a:xfrm>
            <a:prstGeom prst="parallelogram">
              <a:avLst>
                <a:gd name="adj" fmla="val 4596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7880" y="2413080"/>
              <a:ext cx="308880" cy="68400"/>
            </a:xfrm>
            <a:custGeom>
              <a:avLst/>
              <a:gdLst/>
              <a:ahLst/>
              <a:rect l="l" t="t" r="r" b="b"/>
              <a:pathLst>
                <a:path w="1189" h="234">
                  <a:moveTo>
                    <a:pt x="0" y="234"/>
                  </a:moveTo>
                  <a:lnTo>
                    <a:pt x="590" y="0"/>
                  </a:lnTo>
                  <a:lnTo>
                    <a:pt x="1189" y="225"/>
                  </a:lnTo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26800" y="2478960"/>
              <a:ext cx="309960" cy="70920"/>
            </a:xfrm>
            <a:custGeom>
              <a:avLst/>
              <a:gdLst/>
              <a:ahLst/>
              <a:rect l="l" t="t" r="r" b="b"/>
              <a:pathLst>
                <a:path w="1192" h="234">
                  <a:moveTo>
                    <a:pt x="0" y="9"/>
                  </a:moveTo>
                  <a:lnTo>
                    <a:pt x="594" y="234"/>
                  </a:lnTo>
                  <a:lnTo>
                    <a:pt x="1192" y="0"/>
                  </a:lnTo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5400000">
              <a:off x="1805400" y="2543400"/>
              <a:ext cx="282600" cy="153360"/>
            </a:xfrm>
            <a:prstGeom prst="parallelogram">
              <a:avLst>
                <a:gd name="adj" fmla="val 46068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868760" y="2695320"/>
              <a:ext cx="311400" cy="131400"/>
              <a:chOff x="1868760" y="2695320"/>
              <a:chExt cx="311400" cy="131400"/>
            </a:xfrm>
          </p:grpSpPr>
          <p:sp>
            <p:nvSpPr>
              <p:cNvPr id="136" name=""/>
              <p:cNvSpPr/>
              <p:nvPr/>
            </p:nvSpPr>
            <p:spPr>
              <a:xfrm>
                <a:off x="1868760" y="2695320"/>
                <a:ext cx="31140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1868760" y="2760480"/>
                <a:ext cx="31140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rot="16200000">
              <a:off x="1961640" y="2544840"/>
              <a:ext cx="285840" cy="156240"/>
            </a:xfrm>
            <a:prstGeom prst="parallelogram">
              <a:avLst>
                <a:gd name="adj" fmla="val 4573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41320" y="3357720"/>
            <a:ext cx="623880" cy="684000"/>
            <a:chOff x="1741320" y="3357720"/>
            <a:chExt cx="623880" cy="684000"/>
          </a:xfrm>
        </p:grpSpPr>
        <p:sp>
          <p:nvSpPr>
            <p:cNvPr id="140" name=""/>
            <p:cNvSpPr/>
            <p:nvPr/>
          </p:nvSpPr>
          <p:spPr>
            <a:xfrm rot="16200000">
              <a:off x="1832760" y="3820680"/>
              <a:ext cx="285840" cy="156240"/>
            </a:xfrm>
            <a:prstGeom prst="parallelogram">
              <a:avLst>
                <a:gd name="adj" fmla="val 4573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 rot="5400000">
              <a:off x="1989360" y="3820680"/>
              <a:ext cx="285840" cy="156240"/>
            </a:xfrm>
            <a:prstGeom prst="parallelogram">
              <a:avLst>
                <a:gd name="adj" fmla="val 4573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1682640" y="3756240"/>
              <a:ext cx="273240" cy="156240"/>
            </a:xfrm>
            <a:prstGeom prst="parallelogram">
              <a:avLst>
                <a:gd name="adj" fmla="val 43721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1678320" y="3549600"/>
              <a:ext cx="282240" cy="154440"/>
            </a:xfrm>
            <a:prstGeom prst="parallelogram">
              <a:avLst>
                <a:gd name="adj" fmla="val 45688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741680" y="3424320"/>
              <a:ext cx="312480" cy="131400"/>
              <a:chOff x="1741680" y="3424320"/>
              <a:chExt cx="312480" cy="131400"/>
            </a:xfrm>
          </p:grpSpPr>
          <p:sp>
            <p:nvSpPr>
              <p:cNvPr id="145" name=""/>
              <p:cNvSpPr/>
              <p:nvPr/>
            </p:nvSpPr>
            <p:spPr>
              <a:xfrm>
                <a:off x="1741680" y="3424320"/>
                <a:ext cx="31248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741680" y="3489480"/>
                <a:ext cx="31248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897560" y="3357720"/>
              <a:ext cx="312840" cy="131400"/>
              <a:chOff x="1897560" y="3357720"/>
              <a:chExt cx="312840" cy="131400"/>
            </a:xfrm>
          </p:grpSpPr>
          <p:sp>
            <p:nvSpPr>
              <p:cNvPr id="148" name=""/>
              <p:cNvSpPr/>
              <p:nvPr/>
            </p:nvSpPr>
            <p:spPr>
              <a:xfrm>
                <a:off x="1897560" y="3357720"/>
                <a:ext cx="31284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1897560" y="3422880"/>
                <a:ext cx="31284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V="1" rot="5400000">
              <a:off x="2144880" y="3749760"/>
              <a:ext cx="285840" cy="153000"/>
            </a:xfrm>
            <a:prstGeom prst="parallelogram">
              <a:avLst>
                <a:gd name="adj" fmla="val 46706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 rot="5400000">
              <a:off x="2145600" y="3548880"/>
              <a:ext cx="282600" cy="154080"/>
            </a:xfrm>
            <a:prstGeom prst="parallelogram">
              <a:avLst>
                <a:gd name="adj" fmla="val 45853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55240" y="3421440"/>
              <a:ext cx="309960" cy="68400"/>
            </a:xfrm>
            <a:custGeom>
              <a:avLst/>
              <a:gdLst/>
              <a:ahLst/>
              <a:rect l="l" t="t" r="r" b="b"/>
              <a:pathLst>
                <a:path w="1189" h="234">
                  <a:moveTo>
                    <a:pt x="0" y="234"/>
                  </a:moveTo>
                  <a:lnTo>
                    <a:pt x="590" y="0"/>
                  </a:lnTo>
                  <a:lnTo>
                    <a:pt x="1189" y="225"/>
                  </a:lnTo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4520" y="3487320"/>
              <a:ext cx="310680" cy="70920"/>
            </a:xfrm>
            <a:custGeom>
              <a:avLst/>
              <a:gdLst/>
              <a:ahLst/>
              <a:rect l="l" t="t" r="r" b="b"/>
              <a:pathLst>
                <a:path w="1192" h="234">
                  <a:moveTo>
                    <a:pt x="0" y="9"/>
                  </a:moveTo>
                  <a:lnTo>
                    <a:pt x="594" y="234"/>
                  </a:lnTo>
                  <a:lnTo>
                    <a:pt x="1192" y="0"/>
                  </a:lnTo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 rot="5400000">
              <a:off x="1832760" y="3551400"/>
              <a:ext cx="282600" cy="154080"/>
            </a:xfrm>
            <a:prstGeom prst="parallelogram">
              <a:avLst>
                <a:gd name="adj" fmla="val 4585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896120" y="3703680"/>
              <a:ext cx="312480" cy="131400"/>
              <a:chOff x="1896120" y="3703680"/>
              <a:chExt cx="312480" cy="131400"/>
            </a:xfrm>
          </p:grpSpPr>
          <p:sp>
            <p:nvSpPr>
              <p:cNvPr id="156" name=""/>
              <p:cNvSpPr/>
              <p:nvPr/>
            </p:nvSpPr>
            <p:spPr>
              <a:xfrm>
                <a:off x="1896120" y="3703680"/>
                <a:ext cx="31248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1896120" y="3768840"/>
                <a:ext cx="312480" cy="6588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lnTo>
                      <a:pt x="384" y="0"/>
                    </a:lnTo>
                    <a:lnTo>
                      <a:pt x="768" y="144"/>
                    </a:lnTo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rot="16200000">
              <a:off x="1989360" y="3552840"/>
              <a:ext cx="285840" cy="156600"/>
            </a:xfrm>
            <a:prstGeom prst="parallelogram">
              <a:avLst>
                <a:gd name="adj" fmla="val 45632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982600" y="1392120"/>
            <a:ext cx="6261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Comic Sans MS"/>
              </a:rPr>
              <a:t>Guide 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Comic Sans MS"/>
              </a:rPr>
              <a:t>Enchaînements des méth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Comic Sans MS"/>
              </a:rPr>
              <a:t>Cohérence des donn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Comic Sans MS"/>
              </a:rPr>
              <a:t>Traçabilité / Histo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Comic Sans MS"/>
              </a:rPr>
              <a:t>Capit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3606840" y="404640"/>
            <a:ext cx="2376360" cy="752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896" name=""/>
          <p:cNvGrpSpPr/>
          <p:nvPr/>
        </p:nvGrpSpPr>
        <p:grpSpPr>
          <a:xfrm>
            <a:off x="2073240" y="1773360"/>
            <a:ext cx="5191200" cy="4219560"/>
            <a:chOff x="2073240" y="1773360"/>
            <a:chExt cx="5191200" cy="4219560"/>
          </a:xfrm>
        </p:grpSpPr>
        <p:sp>
          <p:nvSpPr>
            <p:cNvPr id="897" name=""/>
            <p:cNvSpPr/>
            <p:nvPr/>
          </p:nvSpPr>
          <p:spPr>
            <a:xfrm>
              <a:off x="2126520" y="1773360"/>
              <a:ext cx="5085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Comic Sans MS"/>
                </a:rPr>
                <a:t>Modèle du systèm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8" name="" descr=""/>
            <p:cNvPicPr/>
            <p:nvPr/>
          </p:nvPicPr>
          <p:blipFill>
            <a:blip r:embed="rId2"/>
            <a:stretch/>
          </p:blipFill>
          <p:spPr>
            <a:xfrm>
              <a:off x="2073240" y="2421000"/>
              <a:ext cx="5191200" cy="35719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776160" y="1557360"/>
            <a:ext cx="8136000" cy="509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0" name="">
            <a:hlinkClick r:id="" action="ppaction://hlinkshowjump?jump=nextslide"/>
          </p:cNvPr>
          <p:cNvSpPr/>
          <p:nvPr/>
        </p:nvSpPr>
        <p:spPr>
          <a:xfrm>
            <a:off x="200160" y="6021360"/>
            <a:ext cx="360360" cy="620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20640"/>
              <a:gd name="textAreaBottom" fmla="*/ 597600 h 620640"/>
            </a:gdLst>
            <a:ahLst/>
            <a:rect l="textAreaLeft" t="textAreaTop" r="textAreaRight" b="textAreaBottom"/>
            <a:pathLst>
              <a:path w="21600" h="37186">
                <a:moveTo>
                  <a:pt x="0" y="0"/>
                </a:moveTo>
                <a:lnTo>
                  <a:pt x="21600" y="0"/>
                </a:lnTo>
                <a:lnTo>
                  <a:pt x="21600" y="37186"/>
                </a:lnTo>
                <a:lnTo>
                  <a:pt x="0" y="37186"/>
                </a:lnTo>
                <a:close/>
              </a:path>
              <a:path fill="lightenLess" w="21600" h="37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186">
                <a:moveTo>
                  <a:pt x="21600" y="0"/>
                </a:moveTo>
                <a:lnTo>
                  <a:pt x="21600" y="37186"/>
                </a:lnTo>
                <a:lnTo>
                  <a:pt x="20200" y="35786"/>
                </a:lnTo>
                <a:lnTo>
                  <a:pt x="20200" y="1400"/>
                </a:lnTo>
                <a:close/>
              </a:path>
              <a:path fill="darkenLess" w="21600" h="37186">
                <a:moveTo>
                  <a:pt x="21600" y="37186"/>
                </a:moveTo>
                <a:lnTo>
                  <a:pt x="0" y="37186"/>
                </a:lnTo>
                <a:lnTo>
                  <a:pt x="1400" y="35786"/>
                </a:lnTo>
                <a:lnTo>
                  <a:pt x="20200" y="35786"/>
                </a:lnTo>
                <a:close/>
              </a:path>
              <a:path fill="lighten" w="21600" h="37186">
                <a:moveTo>
                  <a:pt x="0" y="37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35786"/>
                </a:lnTo>
                <a:close/>
              </a:path>
              <a:path fill="darken" w="21600" h="37186">
                <a:moveTo>
                  <a:pt x="3794" y="11586"/>
                </a:moveTo>
                <a:lnTo>
                  <a:pt x="17806" y="18593"/>
                </a:lnTo>
                <a:lnTo>
                  <a:pt x="3794" y="2559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>
            <a:hlinkClick r:id="rId1" action="ppaction://hlinksldjump"/>
          </p:cNvPr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94880" y="120600"/>
            <a:ext cx="76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xemple d’enchaînement méthod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r une fonction du siège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14480" y="2247840"/>
            <a:ext cx="1568160" cy="3812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1 : Assurer la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4827600">
            <a:off x="2596320" y="1034280"/>
            <a:ext cx="5688000" cy="5832720"/>
          </a:xfrm>
          <a:custGeom>
            <a:avLst/>
            <a:gdLst>
              <a:gd name="textAreaLeft" fmla="*/ 995400 w 5688000"/>
              <a:gd name="textAreaRight" fmla="*/ 4123800 w 5688000"/>
              <a:gd name="textAreaTop" fmla="*/ 781200 h 5832720"/>
              <a:gd name="textAreaBottom" fmla="*/ 5051520 h 583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95560" y="194328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fro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095560" y="255276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latér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82640" y="2476440"/>
            <a:ext cx="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847880" y="2095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84788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847880" y="2781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30320" y="1714680"/>
            <a:ext cx="1486080" cy="1371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893960" y="23065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581280" y="140976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e conducteu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poste de cond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581280" y="194328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colon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tébrale 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581280" y="2476440"/>
            <a:ext cx="1692360" cy="38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tê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up du lap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25116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498840" y="1562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498840" y="1562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498840" y="209556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498840" y="2705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095560" y="3467160"/>
            <a:ext cx="198108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érer les effo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r la structure du véhic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65440" y="24004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765440" y="240048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5440" y="36194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66880" y="31622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560600" y="4149720"/>
            <a:ext cx="28112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Need : Fonctions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62720" y="1257480"/>
            <a:ext cx="255888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715000" y="2476440"/>
            <a:ext cx="66024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727600" y="1409760"/>
            <a:ext cx="74304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int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15040" y="1177920"/>
            <a:ext cx="743040" cy="49536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27600" y="1866960"/>
            <a:ext cx="1073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sature doss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966000" y="1486080"/>
            <a:ext cx="907920" cy="38088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sup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130880" y="2095560"/>
            <a:ext cx="6606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629400" y="2476440"/>
            <a:ext cx="99072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315040" y="1790640"/>
            <a:ext cx="577800" cy="34308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57800" y="1177920"/>
            <a:ext cx="1955880" cy="1371600"/>
          </a:xfrm>
          <a:custGeom>
            <a:avLst/>
            <a:gdLst/>
            <a:ahLst/>
            <a:rect l="l" t="t" r="r" b="b"/>
            <a:pathLst>
              <a:path w="1157" h="853">
                <a:moveTo>
                  <a:pt x="0" y="824"/>
                </a:moveTo>
                <a:cubicBezTo>
                  <a:pt x="60" y="836"/>
                  <a:pt x="114" y="825"/>
                  <a:pt x="192" y="824"/>
                </a:cubicBezTo>
                <a:cubicBezTo>
                  <a:pt x="270" y="823"/>
                  <a:pt x="341" y="819"/>
                  <a:pt x="468" y="820"/>
                </a:cubicBezTo>
                <a:cubicBezTo>
                  <a:pt x="595" y="821"/>
                  <a:pt x="840" y="853"/>
                  <a:pt x="952" y="828"/>
                </a:cubicBezTo>
                <a:cubicBezTo>
                  <a:pt x="1064" y="803"/>
                  <a:pt x="1123" y="736"/>
                  <a:pt x="1140" y="668"/>
                </a:cubicBezTo>
                <a:cubicBezTo>
                  <a:pt x="1157" y="600"/>
                  <a:pt x="1097" y="531"/>
                  <a:pt x="1056" y="420"/>
                </a:cubicBezTo>
                <a:lnTo>
                  <a:pt x="892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613960" y="605808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blème de fabr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tu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ction insuffisante : aplan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98000" y="3505320"/>
            <a:ext cx="18266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Structure : B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7873920" y="1485720"/>
            <a:ext cx="412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204040" y="125748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duit du tube sur une autre fo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782200" y="1806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121600" y="224784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cess opération de poinçonn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709040" y="2171880"/>
            <a:ext cx="536400" cy="2590560"/>
          </a:xfrm>
          <a:custGeom>
            <a:avLst/>
            <a:gdLst/>
            <a:ahLst/>
            <a:rect l="l" t="t" r="r" b="b"/>
            <a:pathLst>
              <a:path w="744" h="1650">
                <a:moveTo>
                  <a:pt x="0" y="0"/>
                </a:moveTo>
                <a:lnTo>
                  <a:pt x="744" y="1650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61360" y="4762440"/>
            <a:ext cx="206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l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Assembler tube support avec la dou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369280" y="5219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296120" y="5753160"/>
            <a:ext cx="206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2961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262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9567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2868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61696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8646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1123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36000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71080" y="55245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455200" y="5226120"/>
            <a:ext cx="196524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dance et S/Ch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922800" y="5219640"/>
            <a:ext cx="1308600" cy="45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CreaTRIZ: B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Assembles So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6200000">
            <a:off x="7191720" y="5839560"/>
            <a:ext cx="9122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hés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130880" y="5905440"/>
            <a:ext cx="3304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05040" y="6438960"/>
            <a:ext cx="825480" cy="152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902120" y="6058080"/>
            <a:ext cx="18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dage des tubes nécessitant la réalisation de plats sur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432396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234288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92280" y="6058080"/>
            <a:ext cx="173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 d ’une matrice interne mais qui raye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74360" y="5229360"/>
            <a:ext cx="123228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tra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86920" y="38307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, parce 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378560" y="1790640"/>
            <a:ext cx="330480" cy="3812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96" y="0"/>
                </a:moveTo>
                <a:lnTo>
                  <a:pt x="0" y="192"/>
                </a:lnTo>
                <a:lnTo>
                  <a:pt x="192" y="240"/>
                </a:lnTo>
                <a:lnTo>
                  <a:pt x="96" y="0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782200" y="2797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121600" y="323856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Moy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23560" y="5743440"/>
            <a:ext cx="27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sin du graphe de potentiel d ’é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rot="16200000">
            <a:off x="7658640" y="2598480"/>
            <a:ext cx="396936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TDC FMEA: AMDEC Produit, Process et mo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rot="2939400">
            <a:off x="1028160" y="4832280"/>
            <a:ext cx="505080" cy="289080"/>
          </a:xfrm>
          <a:custGeom>
            <a:avLst/>
            <a:gdLst>
              <a:gd name="textAreaLeft" fmla="*/ 78840 w 505080"/>
              <a:gd name="textAreaRight" fmla="*/ 442080 w 50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9906120" cy="6858000"/>
          </a:xfrm>
          <a:custGeom>
            <a:avLst/>
            <a:gdLst>
              <a:gd name="textAreaLeft" fmla="*/ 444240 w 9906120"/>
              <a:gd name="textAreaRight" fmla="*/ 9461880 w 99061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31200" h="21600">
                <a:moveTo>
                  <a:pt x="0" y="0"/>
                </a:moveTo>
                <a:lnTo>
                  <a:pt x="31200" y="0"/>
                </a:lnTo>
                <a:lnTo>
                  <a:pt x="31200" y="21600"/>
                </a:lnTo>
                <a:lnTo>
                  <a:pt x="0" y="21600"/>
                </a:lnTo>
                <a:close/>
              </a:path>
              <a:path fill="lightenLess" w="31200" h="21600">
                <a:moveTo>
                  <a:pt x="0" y="0"/>
                </a:moveTo>
                <a:lnTo>
                  <a:pt x="31200" y="0"/>
                </a:lnTo>
                <a:lnTo>
                  <a:pt x="29800" y="1400"/>
                </a:lnTo>
                <a:lnTo>
                  <a:pt x="1400" y="1400"/>
                </a:lnTo>
                <a:close/>
              </a:path>
              <a:path fill="darken" w="31200" h="21600">
                <a:moveTo>
                  <a:pt x="31200" y="0"/>
                </a:moveTo>
                <a:lnTo>
                  <a:pt x="31200" y="21600"/>
                </a:lnTo>
                <a:lnTo>
                  <a:pt x="29800" y="20200"/>
                </a:lnTo>
                <a:lnTo>
                  <a:pt x="29800" y="1400"/>
                </a:lnTo>
                <a:close/>
              </a:path>
              <a:path fill="darkenLess" w="31200" h="21600">
                <a:moveTo>
                  <a:pt x="3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00" y="20200"/>
                </a:lnTo>
                <a:close/>
              </a:path>
              <a:path fill="lighten" w="3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>
            <a:hlinkClick r:id="rId2" action="ppaction://hlinksldjump"/>
          </p:cNvPr>
          <p:cNvSpPr/>
          <p:nvPr/>
        </p:nvSpPr>
        <p:spPr>
          <a:xfrm>
            <a:off x="849240" y="5229360"/>
            <a:ext cx="1224000" cy="50328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2510" h="21600">
                <a:moveTo>
                  <a:pt x="0" y="0"/>
                </a:moveTo>
                <a:lnTo>
                  <a:pt x="52510" y="0"/>
                </a:lnTo>
                <a:lnTo>
                  <a:pt x="52510" y="21600"/>
                </a:lnTo>
                <a:lnTo>
                  <a:pt x="0" y="21600"/>
                </a:lnTo>
                <a:close/>
              </a:path>
              <a:path fill="lightenLess" w="52510" h="21600">
                <a:moveTo>
                  <a:pt x="0" y="0"/>
                </a:moveTo>
                <a:lnTo>
                  <a:pt x="52510" y="0"/>
                </a:lnTo>
                <a:lnTo>
                  <a:pt x="51110" y="1400"/>
                </a:lnTo>
                <a:lnTo>
                  <a:pt x="1400" y="1400"/>
                </a:lnTo>
                <a:close/>
              </a:path>
              <a:path fill="darken" w="52510" h="21600">
                <a:moveTo>
                  <a:pt x="52510" y="0"/>
                </a:moveTo>
                <a:lnTo>
                  <a:pt x="52510" y="21600"/>
                </a:lnTo>
                <a:lnTo>
                  <a:pt x="51110" y="20200"/>
                </a:lnTo>
                <a:lnTo>
                  <a:pt x="51110" y="1400"/>
                </a:lnTo>
                <a:close/>
              </a:path>
              <a:path fill="darkenLess" w="52510" h="21600">
                <a:moveTo>
                  <a:pt x="52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10" y="20200"/>
                </a:lnTo>
                <a:close/>
              </a:path>
              <a:path fill="lighten" w="52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>
            <a:hlinkClick r:id="" action="ppaction://hlinkshowjump?jump=nextslide"/>
          </p:cNvPr>
          <p:cNvSpPr/>
          <p:nvPr/>
        </p:nvSpPr>
        <p:spPr>
          <a:xfrm>
            <a:off x="776160" y="5229360"/>
            <a:ext cx="1224000" cy="50472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2360" h="21600">
                <a:moveTo>
                  <a:pt x="0" y="0"/>
                </a:moveTo>
                <a:lnTo>
                  <a:pt x="52360" y="0"/>
                </a:lnTo>
                <a:lnTo>
                  <a:pt x="52360" y="21600"/>
                </a:lnTo>
                <a:lnTo>
                  <a:pt x="0" y="21600"/>
                </a:lnTo>
                <a:close/>
              </a:path>
              <a:path fill="lightenLess" w="52360" h="21600">
                <a:moveTo>
                  <a:pt x="0" y="0"/>
                </a:moveTo>
                <a:lnTo>
                  <a:pt x="52360" y="0"/>
                </a:lnTo>
                <a:lnTo>
                  <a:pt x="50960" y="1400"/>
                </a:lnTo>
                <a:lnTo>
                  <a:pt x="1400" y="1400"/>
                </a:lnTo>
                <a:close/>
              </a:path>
              <a:path fill="darken" w="52360" h="21600">
                <a:moveTo>
                  <a:pt x="52360" y="0"/>
                </a:moveTo>
                <a:lnTo>
                  <a:pt x="52360" y="21600"/>
                </a:lnTo>
                <a:lnTo>
                  <a:pt x="50960" y="20200"/>
                </a:lnTo>
                <a:lnTo>
                  <a:pt x="50960" y="1400"/>
                </a:lnTo>
                <a:close/>
              </a:path>
              <a:path fill="darkenLess" w="52360" h="21600">
                <a:moveTo>
                  <a:pt x="5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60" y="20200"/>
                </a:lnTo>
                <a:close/>
              </a:path>
              <a:path fill="lighten" w="5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3606840" y="333360"/>
            <a:ext cx="2376360" cy="752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982" name=""/>
          <p:cNvGrpSpPr/>
          <p:nvPr/>
        </p:nvGrpSpPr>
        <p:grpSpPr>
          <a:xfrm>
            <a:off x="2289240" y="1531800"/>
            <a:ext cx="5377680" cy="4886640"/>
            <a:chOff x="2289240" y="1531800"/>
            <a:chExt cx="5377680" cy="4886640"/>
          </a:xfrm>
        </p:grpSpPr>
        <p:pic>
          <p:nvPicPr>
            <p:cNvPr id="983" name="" descr=""/>
            <p:cNvPicPr/>
            <p:nvPr/>
          </p:nvPicPr>
          <p:blipFill>
            <a:blip r:embed="rId2"/>
            <a:stretch/>
          </p:blipFill>
          <p:spPr>
            <a:xfrm>
              <a:off x="2289240" y="1989000"/>
              <a:ext cx="5352840" cy="4429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4" name=""/>
            <p:cNvSpPr/>
            <p:nvPr/>
          </p:nvSpPr>
          <p:spPr>
            <a:xfrm>
              <a:off x="2347200" y="1531800"/>
              <a:ext cx="53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Comic Sans MS"/>
                </a:rPr>
                <a:t>Nouveau modèle du systè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5" name="" descr=""/>
          <p:cNvPicPr/>
          <p:nvPr/>
        </p:nvPicPr>
        <p:blipFill>
          <a:blip r:embed="rId3"/>
          <a:stretch/>
        </p:blipFill>
        <p:spPr>
          <a:xfrm>
            <a:off x="304920" y="1235160"/>
            <a:ext cx="9401040" cy="516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6" name="">
            <a:hlinkClick r:id="" action="ppaction://hlinkshowjump?jump=nextslide"/>
          </p:cNvPr>
          <p:cNvSpPr/>
          <p:nvPr/>
        </p:nvSpPr>
        <p:spPr>
          <a:xfrm>
            <a:off x="57240" y="6121440"/>
            <a:ext cx="360360" cy="620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20640"/>
              <a:gd name="textAreaBottom" fmla="*/ 597600 h 620640"/>
            </a:gdLst>
            <a:ahLst/>
            <a:rect l="textAreaLeft" t="textAreaTop" r="textAreaRight" b="textAreaBottom"/>
            <a:pathLst>
              <a:path w="21600" h="37186">
                <a:moveTo>
                  <a:pt x="0" y="0"/>
                </a:moveTo>
                <a:lnTo>
                  <a:pt x="21600" y="0"/>
                </a:lnTo>
                <a:lnTo>
                  <a:pt x="21600" y="37186"/>
                </a:lnTo>
                <a:lnTo>
                  <a:pt x="0" y="37186"/>
                </a:lnTo>
                <a:close/>
              </a:path>
              <a:path fill="lightenLess" w="21600" h="37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186">
                <a:moveTo>
                  <a:pt x="21600" y="0"/>
                </a:moveTo>
                <a:lnTo>
                  <a:pt x="21600" y="37186"/>
                </a:lnTo>
                <a:lnTo>
                  <a:pt x="20200" y="35786"/>
                </a:lnTo>
                <a:lnTo>
                  <a:pt x="20200" y="1400"/>
                </a:lnTo>
                <a:close/>
              </a:path>
              <a:path fill="darkenLess" w="21600" h="37186">
                <a:moveTo>
                  <a:pt x="21600" y="37186"/>
                </a:moveTo>
                <a:lnTo>
                  <a:pt x="0" y="37186"/>
                </a:lnTo>
                <a:lnTo>
                  <a:pt x="1400" y="35786"/>
                </a:lnTo>
                <a:lnTo>
                  <a:pt x="20200" y="35786"/>
                </a:lnTo>
                <a:close/>
              </a:path>
              <a:path fill="lighten" w="21600" h="37186">
                <a:moveTo>
                  <a:pt x="0" y="37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35786"/>
                </a:lnTo>
                <a:close/>
              </a:path>
              <a:path fill="darken" w="21600" h="37186">
                <a:moveTo>
                  <a:pt x="3794" y="11586"/>
                </a:moveTo>
                <a:lnTo>
                  <a:pt x="17806" y="18593"/>
                </a:lnTo>
                <a:lnTo>
                  <a:pt x="3794" y="2559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>
            <a:hlinkClick r:id="rId1" action="ppaction://hlinksldjump"/>
          </p:cNvPr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4880" y="120600"/>
            <a:ext cx="76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xemple d’enchaînement méthod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r une fonction du siège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4480" y="2247840"/>
            <a:ext cx="1568160" cy="3812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1 : Assurer la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rot="4827600">
            <a:off x="2596320" y="1034280"/>
            <a:ext cx="5688000" cy="5832720"/>
          </a:xfrm>
          <a:custGeom>
            <a:avLst/>
            <a:gdLst>
              <a:gd name="textAreaLeft" fmla="*/ 995400 w 5688000"/>
              <a:gd name="textAreaRight" fmla="*/ 4123800 w 5688000"/>
              <a:gd name="textAreaTop" fmla="*/ 781200 h 5832720"/>
              <a:gd name="textAreaBottom" fmla="*/ 5051520 h 583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095560" y="194328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front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095560" y="2552760"/>
            <a:ext cx="115560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orption 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cs latéra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682640" y="2476440"/>
            <a:ext cx="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847880" y="2095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4788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847880" y="2781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930320" y="1714680"/>
            <a:ext cx="1486080" cy="1371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893960" y="23065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581280" y="140976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e conducteu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poste de cond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581280" y="1943280"/>
            <a:ext cx="1692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colon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tébrale du condu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581280" y="2476440"/>
            <a:ext cx="1692360" cy="38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éger la tê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coup du lap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251160" y="20955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498840" y="1562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498840" y="1562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98840" y="209556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498840" y="270504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95560" y="3467160"/>
            <a:ext cx="1981080" cy="38088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érer les effo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r la structure du véhic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765440" y="24004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765440" y="240048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765440" y="36194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766880" y="31622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2095560" y="346716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60600" y="4149720"/>
            <a:ext cx="28112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Need : Fonctions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562720" y="1257480"/>
            <a:ext cx="255888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15000" y="2476440"/>
            <a:ext cx="66024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27600" y="1409760"/>
            <a:ext cx="74304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int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sécur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315040" y="1177920"/>
            <a:ext cx="743040" cy="49536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7600" y="1866960"/>
            <a:ext cx="1073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sature doss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966000" y="1486080"/>
            <a:ext cx="907920" cy="38088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sup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130880" y="2095560"/>
            <a:ext cx="6606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29400" y="2476440"/>
            <a:ext cx="990720" cy="3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 appui tê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315040" y="1790640"/>
            <a:ext cx="577800" cy="34308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0" y="288"/>
                </a:moveTo>
                <a:cubicBezTo>
                  <a:pt x="60" y="300"/>
                  <a:pt x="120" y="312"/>
                  <a:pt x="192" y="288"/>
                </a:cubicBezTo>
                <a:cubicBezTo>
                  <a:pt x="264" y="264"/>
                  <a:pt x="360" y="192"/>
                  <a:pt x="432" y="144"/>
                </a:cubicBezTo>
                <a:cubicBezTo>
                  <a:pt x="504" y="96"/>
                  <a:pt x="564" y="48"/>
                  <a:pt x="624" y="0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7800" y="1177920"/>
            <a:ext cx="1955880" cy="1371600"/>
          </a:xfrm>
          <a:custGeom>
            <a:avLst/>
            <a:gdLst/>
            <a:ahLst/>
            <a:rect l="l" t="t" r="r" b="b"/>
            <a:pathLst>
              <a:path w="1157" h="853">
                <a:moveTo>
                  <a:pt x="0" y="824"/>
                </a:moveTo>
                <a:cubicBezTo>
                  <a:pt x="60" y="836"/>
                  <a:pt x="114" y="825"/>
                  <a:pt x="192" y="824"/>
                </a:cubicBezTo>
                <a:cubicBezTo>
                  <a:pt x="270" y="823"/>
                  <a:pt x="341" y="819"/>
                  <a:pt x="468" y="820"/>
                </a:cubicBezTo>
                <a:cubicBezTo>
                  <a:pt x="595" y="821"/>
                  <a:pt x="840" y="853"/>
                  <a:pt x="952" y="828"/>
                </a:cubicBezTo>
                <a:cubicBezTo>
                  <a:pt x="1064" y="803"/>
                  <a:pt x="1123" y="736"/>
                  <a:pt x="1140" y="668"/>
                </a:cubicBezTo>
                <a:cubicBezTo>
                  <a:pt x="1157" y="600"/>
                  <a:pt x="1097" y="531"/>
                  <a:pt x="1056" y="420"/>
                </a:cubicBezTo>
                <a:lnTo>
                  <a:pt x="892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13960" y="605808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blème de fabr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 tu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ction insuffisante : aplan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598000" y="3505320"/>
            <a:ext cx="182664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DC Structure : B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7873920" y="1485720"/>
            <a:ext cx="412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204040" y="125748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duit du tube sur une autre fo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782200" y="1806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121600" y="224784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Process opération de poinçonn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709040" y="2171880"/>
            <a:ext cx="536400" cy="2590560"/>
          </a:xfrm>
          <a:custGeom>
            <a:avLst/>
            <a:gdLst/>
            <a:ahLst/>
            <a:rect l="l" t="t" r="r" b="b"/>
            <a:pathLst>
              <a:path w="744" h="1650">
                <a:moveTo>
                  <a:pt x="0" y="0"/>
                </a:moveTo>
                <a:lnTo>
                  <a:pt x="744" y="1650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461360" y="4762440"/>
            <a:ext cx="206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él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 Assembler tube support avec la dou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369280" y="5219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96120" y="5753160"/>
            <a:ext cx="206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961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62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9567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2868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61696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86464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911232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360000" y="575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71080" y="55245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455200" y="5226120"/>
            <a:ext cx="196524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dance et S/Ch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922800" y="5219640"/>
            <a:ext cx="1308600" cy="45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CreaTRIZ: B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Assembles So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6200000">
            <a:off x="7191720" y="5839560"/>
            <a:ext cx="9122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hés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130880" y="5905440"/>
            <a:ext cx="3304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6305040" y="6438960"/>
            <a:ext cx="825480" cy="152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902120" y="6058080"/>
            <a:ext cx="18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dage des tubes nécessitant la réalisation de plats sur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432396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2342880" y="636264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92280" y="6058080"/>
            <a:ext cx="173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 d ’une matrice interne mais qui raye le tu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23680" y="5226120"/>
            <a:ext cx="1232280" cy="52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TRIZ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tra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986920" y="38307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, parce 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378560" y="1790640"/>
            <a:ext cx="330480" cy="3812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96" y="0"/>
                </a:moveTo>
                <a:lnTo>
                  <a:pt x="0" y="192"/>
                </a:lnTo>
                <a:lnTo>
                  <a:pt x="192" y="240"/>
                </a:lnTo>
                <a:lnTo>
                  <a:pt x="96" y="0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782200" y="2797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121600" y="323856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DEC Moy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023560" y="5743440"/>
            <a:ext cx="27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sin du graphe de potentiel d ’é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16200000">
            <a:off x="7658640" y="2598480"/>
            <a:ext cx="396936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TDC FMEA: AMDEC Produit, Process et mo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>
            <a:hlinkClick r:id="rId2" action="ppaction://hlinksldjump"/>
          </p:cNvPr>
          <p:cNvSpPr/>
          <p:nvPr/>
        </p:nvSpPr>
        <p:spPr>
          <a:xfrm>
            <a:off x="6897600" y="5232240"/>
            <a:ext cx="1368360" cy="5050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92" h="21600">
                <a:moveTo>
                  <a:pt x="0" y="0"/>
                </a:moveTo>
                <a:lnTo>
                  <a:pt x="58492" y="0"/>
                </a:lnTo>
                <a:lnTo>
                  <a:pt x="58492" y="21600"/>
                </a:lnTo>
                <a:lnTo>
                  <a:pt x="0" y="21600"/>
                </a:lnTo>
                <a:close/>
              </a:path>
              <a:path fill="lightenLess" w="58492" h="21600">
                <a:moveTo>
                  <a:pt x="0" y="0"/>
                </a:moveTo>
                <a:lnTo>
                  <a:pt x="58492" y="0"/>
                </a:lnTo>
                <a:lnTo>
                  <a:pt x="57092" y="1400"/>
                </a:lnTo>
                <a:lnTo>
                  <a:pt x="1400" y="1400"/>
                </a:lnTo>
                <a:close/>
              </a:path>
              <a:path fill="darken" w="58492" h="21600">
                <a:moveTo>
                  <a:pt x="58492" y="0"/>
                </a:moveTo>
                <a:lnTo>
                  <a:pt x="58492" y="21600"/>
                </a:lnTo>
                <a:lnTo>
                  <a:pt x="57092" y="20200"/>
                </a:lnTo>
                <a:lnTo>
                  <a:pt x="57092" y="1400"/>
                </a:lnTo>
                <a:close/>
              </a:path>
              <a:path fill="darkenLess" w="58492" h="21600">
                <a:moveTo>
                  <a:pt x="58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92" y="20200"/>
                </a:lnTo>
                <a:close/>
              </a:path>
              <a:path fill="lighten" w="58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>
            <a:hlinkClick r:id="rId3" action="ppaction://hlinksldjump"/>
          </p:cNvPr>
          <p:cNvSpPr/>
          <p:nvPr/>
        </p:nvSpPr>
        <p:spPr>
          <a:xfrm>
            <a:off x="1568520" y="4149720"/>
            <a:ext cx="2808360" cy="360360"/>
          </a:xfrm>
          <a:custGeom>
            <a:avLst/>
            <a:gdLst>
              <a:gd name="textAreaLeft" fmla="*/ 23040 w 2808360"/>
              <a:gd name="textAreaRight" fmla="*/ 2785320 w 280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8187" h="21600">
                <a:moveTo>
                  <a:pt x="0" y="0"/>
                </a:moveTo>
                <a:lnTo>
                  <a:pt x="168187" y="0"/>
                </a:lnTo>
                <a:lnTo>
                  <a:pt x="168187" y="21600"/>
                </a:lnTo>
                <a:lnTo>
                  <a:pt x="0" y="21600"/>
                </a:lnTo>
                <a:close/>
              </a:path>
              <a:path fill="lightenLess" w="168187" h="21600">
                <a:moveTo>
                  <a:pt x="0" y="0"/>
                </a:moveTo>
                <a:lnTo>
                  <a:pt x="168187" y="0"/>
                </a:lnTo>
                <a:lnTo>
                  <a:pt x="166787" y="1400"/>
                </a:lnTo>
                <a:lnTo>
                  <a:pt x="1400" y="1400"/>
                </a:lnTo>
                <a:close/>
              </a:path>
              <a:path fill="darken" w="168187" h="21600">
                <a:moveTo>
                  <a:pt x="168187" y="0"/>
                </a:moveTo>
                <a:lnTo>
                  <a:pt x="168187" y="21600"/>
                </a:lnTo>
                <a:lnTo>
                  <a:pt x="166787" y="20200"/>
                </a:lnTo>
                <a:lnTo>
                  <a:pt x="166787" y="1400"/>
                </a:lnTo>
                <a:close/>
              </a:path>
              <a:path fill="darkenLess" w="168187" h="21600">
                <a:moveTo>
                  <a:pt x="168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787" y="20200"/>
                </a:lnTo>
                <a:close/>
              </a:path>
              <a:path fill="lighten" w="168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>
            <a:hlinkClick r:id="rId4" action="ppaction://hlinksldjump"/>
          </p:cNvPr>
          <p:cNvSpPr/>
          <p:nvPr/>
        </p:nvSpPr>
        <p:spPr>
          <a:xfrm>
            <a:off x="5600880" y="3500280"/>
            <a:ext cx="1800000" cy="360360"/>
          </a:xfrm>
          <a:custGeom>
            <a:avLst/>
            <a:gdLst>
              <a:gd name="textAreaLeft" fmla="*/ 23040 w 1800000"/>
              <a:gd name="textAreaRight" fmla="*/ 1776960 w 18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7806" h="21600">
                <a:moveTo>
                  <a:pt x="0" y="0"/>
                </a:moveTo>
                <a:lnTo>
                  <a:pt x="107806" y="0"/>
                </a:lnTo>
                <a:lnTo>
                  <a:pt x="107806" y="21600"/>
                </a:lnTo>
                <a:lnTo>
                  <a:pt x="0" y="21600"/>
                </a:lnTo>
                <a:close/>
              </a:path>
              <a:path fill="lightenLess" w="107806" h="21600">
                <a:moveTo>
                  <a:pt x="0" y="0"/>
                </a:moveTo>
                <a:lnTo>
                  <a:pt x="107806" y="0"/>
                </a:lnTo>
                <a:lnTo>
                  <a:pt x="106406" y="1400"/>
                </a:lnTo>
                <a:lnTo>
                  <a:pt x="1400" y="1400"/>
                </a:lnTo>
                <a:close/>
              </a:path>
              <a:path fill="darken" w="107806" h="21600">
                <a:moveTo>
                  <a:pt x="107806" y="0"/>
                </a:moveTo>
                <a:lnTo>
                  <a:pt x="107806" y="21600"/>
                </a:lnTo>
                <a:lnTo>
                  <a:pt x="106406" y="20200"/>
                </a:lnTo>
                <a:lnTo>
                  <a:pt x="106406" y="1400"/>
                </a:lnTo>
                <a:close/>
              </a:path>
              <a:path fill="darkenLess" w="107806" h="21600">
                <a:moveTo>
                  <a:pt x="107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06" y="20200"/>
                </a:lnTo>
                <a:close/>
              </a:path>
              <a:path fill="lighten" w="107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432160" y="5232240"/>
            <a:ext cx="2016000" cy="57492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75708" h="21600">
                <a:moveTo>
                  <a:pt x="0" y="0"/>
                </a:moveTo>
                <a:lnTo>
                  <a:pt x="75708" y="0"/>
                </a:lnTo>
                <a:lnTo>
                  <a:pt x="75708" y="21600"/>
                </a:lnTo>
                <a:lnTo>
                  <a:pt x="0" y="21600"/>
                </a:lnTo>
                <a:close/>
              </a:path>
              <a:path fill="lightenLess" w="75708" h="21600">
                <a:moveTo>
                  <a:pt x="0" y="0"/>
                </a:moveTo>
                <a:lnTo>
                  <a:pt x="75708" y="0"/>
                </a:lnTo>
                <a:lnTo>
                  <a:pt x="74308" y="1400"/>
                </a:lnTo>
                <a:lnTo>
                  <a:pt x="1400" y="1400"/>
                </a:lnTo>
                <a:close/>
              </a:path>
              <a:path fill="darken" w="75708" h="21600">
                <a:moveTo>
                  <a:pt x="75708" y="0"/>
                </a:moveTo>
                <a:lnTo>
                  <a:pt x="75708" y="21600"/>
                </a:lnTo>
                <a:lnTo>
                  <a:pt x="74308" y="20200"/>
                </a:lnTo>
                <a:lnTo>
                  <a:pt x="74308" y="1400"/>
                </a:lnTo>
                <a:close/>
              </a:path>
              <a:path fill="darkenLess" w="75708" h="21600">
                <a:moveTo>
                  <a:pt x="75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08" y="20200"/>
                </a:lnTo>
                <a:close/>
              </a:path>
              <a:path fill="lighten" w="75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rId5" action="ppaction://hlinksldjump"/>
          </p:cNvPr>
          <p:cNvSpPr/>
          <p:nvPr/>
        </p:nvSpPr>
        <p:spPr>
          <a:xfrm>
            <a:off x="847800" y="5232240"/>
            <a:ext cx="1224000" cy="50328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2510" h="21600">
                <a:moveTo>
                  <a:pt x="0" y="0"/>
                </a:moveTo>
                <a:lnTo>
                  <a:pt x="52510" y="0"/>
                </a:lnTo>
                <a:lnTo>
                  <a:pt x="52510" y="21600"/>
                </a:lnTo>
                <a:lnTo>
                  <a:pt x="0" y="21600"/>
                </a:lnTo>
                <a:close/>
              </a:path>
              <a:path fill="lightenLess" w="52510" h="21600">
                <a:moveTo>
                  <a:pt x="0" y="0"/>
                </a:moveTo>
                <a:lnTo>
                  <a:pt x="52510" y="0"/>
                </a:lnTo>
                <a:lnTo>
                  <a:pt x="51110" y="1400"/>
                </a:lnTo>
                <a:lnTo>
                  <a:pt x="1400" y="1400"/>
                </a:lnTo>
                <a:close/>
              </a:path>
              <a:path fill="darken" w="52510" h="21600">
                <a:moveTo>
                  <a:pt x="52510" y="0"/>
                </a:moveTo>
                <a:lnTo>
                  <a:pt x="52510" y="21600"/>
                </a:lnTo>
                <a:lnTo>
                  <a:pt x="51110" y="20200"/>
                </a:lnTo>
                <a:lnTo>
                  <a:pt x="51110" y="1400"/>
                </a:lnTo>
                <a:close/>
              </a:path>
              <a:path fill="darkenLess" w="52510" h="21600">
                <a:moveTo>
                  <a:pt x="52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10" y="20200"/>
                </a:lnTo>
                <a:close/>
              </a:path>
              <a:path fill="lighten" w="52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>
            <a:hlinkClick r:id="rId6" action="ppaction://hlinksldjump"/>
          </p:cNvPr>
          <p:cNvSpPr/>
          <p:nvPr/>
        </p:nvSpPr>
        <p:spPr>
          <a:xfrm>
            <a:off x="9416880" y="765000"/>
            <a:ext cx="489240" cy="3959280"/>
          </a:xfrm>
          <a:custGeom>
            <a:avLst/>
            <a:gdLst>
              <a:gd name="textAreaLeft" fmla="*/ 31680 w 489240"/>
              <a:gd name="textAreaRight" fmla="*/ 457560 w 489240"/>
              <a:gd name="textAreaTop" fmla="*/ 31680 h 3959280"/>
              <a:gd name="textAreaBottom" fmla="*/ 3927600 h 3959280"/>
            </a:gdLst>
            <a:ahLst/>
            <a:rect l="textAreaLeft" t="textAreaTop" r="textAreaRight" b="textAreaBottom"/>
            <a:pathLst>
              <a:path w="21600" h="174690">
                <a:moveTo>
                  <a:pt x="0" y="0"/>
                </a:moveTo>
                <a:lnTo>
                  <a:pt x="21600" y="0"/>
                </a:lnTo>
                <a:lnTo>
                  <a:pt x="21600" y="174690"/>
                </a:lnTo>
                <a:lnTo>
                  <a:pt x="0" y="174690"/>
                </a:lnTo>
                <a:close/>
              </a:path>
              <a:path fill="lightenLess" w="21600" h="17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74690">
                <a:moveTo>
                  <a:pt x="21600" y="0"/>
                </a:moveTo>
                <a:lnTo>
                  <a:pt x="21600" y="174690"/>
                </a:lnTo>
                <a:lnTo>
                  <a:pt x="20200" y="173290"/>
                </a:lnTo>
                <a:lnTo>
                  <a:pt x="20200" y="1400"/>
                </a:lnTo>
                <a:close/>
              </a:path>
              <a:path fill="darkenLess" w="21600" h="174690">
                <a:moveTo>
                  <a:pt x="21600" y="174690"/>
                </a:moveTo>
                <a:lnTo>
                  <a:pt x="0" y="174690"/>
                </a:lnTo>
                <a:lnTo>
                  <a:pt x="1400" y="173290"/>
                </a:lnTo>
                <a:lnTo>
                  <a:pt x="20200" y="173290"/>
                </a:lnTo>
                <a:close/>
              </a:path>
              <a:path fill="lighten" w="21600" h="174690">
                <a:moveTo>
                  <a:pt x="0" y="17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17329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>
            <a:hlinkClick r:id="rId7" action="ppaction://hlinksldjump"/>
          </p:cNvPr>
          <p:cNvSpPr/>
          <p:nvPr/>
        </p:nvSpPr>
        <p:spPr>
          <a:xfrm>
            <a:off x="6969240" y="148428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0"/>
            <a:ext cx="9906120" cy="6858000"/>
          </a:xfrm>
          <a:custGeom>
            <a:avLst/>
            <a:gdLst>
              <a:gd name="textAreaLeft" fmla="*/ 444240 w 9906120"/>
              <a:gd name="textAreaRight" fmla="*/ 9461880 w 99061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31200" h="21600">
                <a:moveTo>
                  <a:pt x="0" y="0"/>
                </a:moveTo>
                <a:lnTo>
                  <a:pt x="31200" y="0"/>
                </a:lnTo>
                <a:lnTo>
                  <a:pt x="31200" y="21600"/>
                </a:lnTo>
                <a:lnTo>
                  <a:pt x="0" y="21600"/>
                </a:lnTo>
                <a:close/>
              </a:path>
              <a:path fill="lightenLess" w="31200" h="21600">
                <a:moveTo>
                  <a:pt x="0" y="0"/>
                </a:moveTo>
                <a:lnTo>
                  <a:pt x="31200" y="0"/>
                </a:lnTo>
                <a:lnTo>
                  <a:pt x="29800" y="1400"/>
                </a:lnTo>
                <a:lnTo>
                  <a:pt x="1400" y="1400"/>
                </a:lnTo>
                <a:close/>
              </a:path>
              <a:path fill="darken" w="31200" h="21600">
                <a:moveTo>
                  <a:pt x="31200" y="0"/>
                </a:moveTo>
                <a:lnTo>
                  <a:pt x="31200" y="21600"/>
                </a:lnTo>
                <a:lnTo>
                  <a:pt x="29800" y="20200"/>
                </a:lnTo>
                <a:lnTo>
                  <a:pt x="29800" y="1400"/>
                </a:lnTo>
                <a:close/>
              </a:path>
              <a:path fill="darkenLess" w="31200" h="21600">
                <a:moveTo>
                  <a:pt x="3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00" y="20200"/>
                </a:lnTo>
                <a:close/>
              </a:path>
              <a:path fill="lighten" w="3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grpSp>
          <p:nvGrpSpPr>
            <p:cNvPr id="163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0" y="0"/>
                <a:ext cx="9905040" cy="6858000"/>
                <a:chOff x="0" y="0"/>
                <a:chExt cx="9905040" cy="6858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36400" y="0"/>
                  <a:ext cx="936864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6" name="" descr=""/>
                <p:cNvPicPr/>
                <p:nvPr/>
              </p:nvPicPr>
              <p:blipFill>
                <a:blip r:embed="rId1"/>
                <a:srcRect l="0" t="0" r="0" b="14284"/>
                <a:stretch/>
              </p:blipFill>
              <p:spPr>
                <a:xfrm>
                  <a:off x="0" y="0"/>
                  <a:ext cx="120708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67" name="" descr=""/>
              <p:cNvPicPr/>
              <p:nvPr/>
            </p:nvPicPr>
            <p:blipFill>
              <a:blip r:embed="rId2">
                <a:lum bright="-2000"/>
              </a:blip>
              <a:srcRect l="41685" t="0" r="0" b="0"/>
              <a:stretch/>
            </p:blipFill>
            <p:spPr>
              <a:xfrm>
                <a:off x="3240" y="152280"/>
                <a:ext cx="9902160" cy="76212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68" name=""/>
            <p:cNvGraphicFramePr/>
            <p:nvPr/>
          </p:nvGraphicFramePr>
          <p:xfrm>
            <a:off x="7512120" y="6357960"/>
            <a:ext cx="2393640" cy="5000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12120" y="6357960"/>
                      <a:ext cx="23936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0" name=""/>
          <p:cNvSpPr/>
          <p:nvPr/>
        </p:nvSpPr>
        <p:spPr>
          <a:xfrm>
            <a:off x="1155600" y="189000"/>
            <a:ext cx="87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nchaînements des méth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05120" y="2421000"/>
            <a:ext cx="2884680" cy="1871640"/>
          </a:xfrm>
          <a:custGeom>
            <a:avLst/>
            <a:gdLst>
              <a:gd name="textAreaLeft" fmla="*/ 121320 w 2884680"/>
              <a:gd name="textAreaRight" fmla="*/ 2763360 w 288468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33289" h="21600">
                <a:moveTo>
                  <a:pt x="0" y="0"/>
                </a:moveTo>
                <a:lnTo>
                  <a:pt x="33289" y="0"/>
                </a:lnTo>
                <a:lnTo>
                  <a:pt x="33289" y="21600"/>
                </a:lnTo>
                <a:lnTo>
                  <a:pt x="0" y="21600"/>
                </a:lnTo>
                <a:close/>
              </a:path>
              <a:path fill="lightenLess" w="33289" h="21600">
                <a:moveTo>
                  <a:pt x="0" y="0"/>
                </a:moveTo>
                <a:lnTo>
                  <a:pt x="33289" y="0"/>
                </a:lnTo>
                <a:lnTo>
                  <a:pt x="31889" y="1400"/>
                </a:lnTo>
                <a:lnTo>
                  <a:pt x="1400" y="1400"/>
                </a:lnTo>
                <a:close/>
              </a:path>
              <a:path fill="darken" w="33289" h="21600">
                <a:moveTo>
                  <a:pt x="33289" y="0"/>
                </a:moveTo>
                <a:lnTo>
                  <a:pt x="33289" y="21600"/>
                </a:lnTo>
                <a:lnTo>
                  <a:pt x="31889" y="20200"/>
                </a:lnTo>
                <a:lnTo>
                  <a:pt x="31889" y="1400"/>
                </a:lnTo>
                <a:close/>
              </a:path>
              <a:path fill="darkenLess" w="33289" h="21600">
                <a:moveTo>
                  <a:pt x="33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89" y="20200"/>
                </a:lnTo>
                <a:close/>
              </a:path>
              <a:path fill="lighten" w="33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89" h="21600">
                <a:moveTo>
                  <a:pt x="9638" y="7301"/>
                </a:moveTo>
                <a:lnTo>
                  <a:pt x="10552" y="7301"/>
                </a:lnTo>
                <a:lnTo>
                  <a:pt x="10935" y="7667"/>
                </a:lnTo>
                <a:lnTo>
                  <a:pt x="20143" y="7667"/>
                </a:lnTo>
                <a:lnTo>
                  <a:pt x="20700" y="8224"/>
                </a:lnTo>
                <a:lnTo>
                  <a:pt x="20700" y="8772"/>
                </a:lnTo>
                <a:lnTo>
                  <a:pt x="22546" y="8772"/>
                </a:lnTo>
                <a:lnTo>
                  <a:pt x="22911" y="8224"/>
                </a:lnTo>
                <a:lnTo>
                  <a:pt x="23651" y="8224"/>
                </a:lnTo>
                <a:lnTo>
                  <a:pt x="23651" y="13376"/>
                </a:lnTo>
                <a:lnTo>
                  <a:pt x="22911" y="13376"/>
                </a:lnTo>
                <a:lnTo>
                  <a:pt x="22546" y="12828"/>
                </a:lnTo>
                <a:lnTo>
                  <a:pt x="20700" y="12828"/>
                </a:lnTo>
                <a:lnTo>
                  <a:pt x="20700" y="14107"/>
                </a:lnTo>
                <a:lnTo>
                  <a:pt x="11118" y="14107"/>
                </a:lnTo>
                <a:lnTo>
                  <a:pt x="11118" y="9877"/>
                </a:lnTo>
                <a:lnTo>
                  <a:pt x="10935" y="9877"/>
                </a:lnTo>
                <a:lnTo>
                  <a:pt x="10552" y="10243"/>
                </a:lnTo>
                <a:lnTo>
                  <a:pt x="9638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grpSp>
          <p:nvGrpSpPr>
            <p:cNvPr id="175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0" y="0"/>
                <a:ext cx="9905040" cy="6858000"/>
                <a:chOff x="0" y="0"/>
                <a:chExt cx="9905040" cy="6858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36400" y="0"/>
                  <a:ext cx="936864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8" name="" descr=""/>
                <p:cNvPicPr/>
                <p:nvPr/>
              </p:nvPicPr>
              <p:blipFill>
                <a:blip r:embed="rId1"/>
                <a:srcRect l="0" t="0" r="0" b="14284"/>
                <a:stretch/>
              </p:blipFill>
              <p:spPr>
                <a:xfrm>
                  <a:off x="0" y="0"/>
                  <a:ext cx="120708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79" name="" descr=""/>
              <p:cNvPicPr/>
              <p:nvPr/>
            </p:nvPicPr>
            <p:blipFill>
              <a:blip r:embed="rId2">
                <a:lum bright="-2000"/>
              </a:blip>
              <a:srcRect l="41685" t="0" r="0" b="0"/>
              <a:stretch/>
            </p:blipFill>
            <p:spPr>
              <a:xfrm>
                <a:off x="3240" y="152280"/>
                <a:ext cx="9902160" cy="76212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80" name=""/>
            <p:cNvGraphicFramePr/>
            <p:nvPr/>
          </p:nvGraphicFramePr>
          <p:xfrm>
            <a:off x="7512120" y="6357960"/>
            <a:ext cx="2393640" cy="5000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12120" y="6357960"/>
                      <a:ext cx="23936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2" name=""/>
          <p:cNvSpPr/>
          <p:nvPr/>
        </p:nvSpPr>
        <p:spPr>
          <a:xfrm>
            <a:off x="1155600" y="135000"/>
            <a:ext cx="87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ohérence des donné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0680" y="1094400"/>
            <a:ext cx="915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ARTAG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des données entre les différentes méth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ns une base de données cent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583080" y="3130560"/>
            <a:ext cx="3317400" cy="3158640"/>
            <a:chOff x="3583080" y="3130560"/>
            <a:chExt cx="3317400" cy="3158640"/>
          </a:xfrm>
        </p:grpSpPr>
        <p:graphicFrame>
          <p:nvGraphicFramePr>
            <p:cNvPr id="185" name=""/>
            <p:cNvGraphicFramePr/>
            <p:nvPr/>
          </p:nvGraphicFramePr>
          <p:xfrm>
            <a:off x="3583080" y="3130560"/>
            <a:ext cx="3317400" cy="3158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3080" y="3130560"/>
                      <a:ext cx="3317400" cy="31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3970080" y="4197960"/>
              <a:ext cx="0" cy="20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0160" y="4205520"/>
              <a:ext cx="0" cy="20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2560" y="4205520"/>
              <a:ext cx="0" cy="20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33280" y="4205520"/>
              <a:ext cx="0" cy="20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9440" y="4197960"/>
              <a:ext cx="0" cy="20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970080" y="3163320"/>
              <a:ext cx="924840" cy="10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332240" y="3155760"/>
              <a:ext cx="924840" cy="10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733280" y="3163320"/>
              <a:ext cx="924480" cy="10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141520" y="3155760"/>
              <a:ext cx="924840" cy="10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534640" y="3163320"/>
              <a:ext cx="924840" cy="10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889240" y="4843440"/>
              <a:ext cx="971280" cy="10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615840" y="5922360"/>
              <a:ext cx="22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615840" y="4858560"/>
              <a:ext cx="22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615840" y="4528080"/>
              <a:ext cx="22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607920" y="5218200"/>
              <a:ext cx="22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615840" y="5585040"/>
              <a:ext cx="22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432680" y="3332160"/>
              <a:ext cx="22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247640" y="3515760"/>
              <a:ext cx="22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039560" y="3743280"/>
              <a:ext cx="22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839040" y="3963240"/>
              <a:ext cx="22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13320" y="3750120"/>
              <a:ext cx="0" cy="20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20720" y="3970440"/>
              <a:ext cx="0" cy="20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28600" y="3530160"/>
              <a:ext cx="0" cy="20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6080" y="3346560"/>
              <a:ext cx="0" cy="20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896800" y="4513320"/>
              <a:ext cx="97128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904720" y="4146480"/>
              <a:ext cx="97056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912280" y="3786840"/>
              <a:ext cx="971280" cy="10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904720" y="3456720"/>
              <a:ext cx="97056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713400" y="2059920"/>
            <a:ext cx="392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que méthode 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une vu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ur le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48360" y="3234240"/>
            <a:ext cx="2653920" cy="1399320"/>
            <a:chOff x="6948360" y="3234240"/>
            <a:chExt cx="2653920" cy="1399320"/>
          </a:xfrm>
        </p:grpSpPr>
        <p:sp>
          <p:nvSpPr>
            <p:cNvPr id="217" name=""/>
            <p:cNvSpPr/>
            <p:nvPr/>
          </p:nvSpPr>
          <p:spPr>
            <a:xfrm flipH="1" flipV="1">
              <a:off x="6948360" y="3615480"/>
              <a:ext cx="2653920" cy="571320"/>
            </a:xfrm>
            <a:custGeom>
              <a:avLst/>
              <a:gdLst>
                <a:gd name="textAreaLeft" fmla="*/ 415080 w 2653920"/>
                <a:gd name="textAreaRight" fmla="*/ 2322720 w 2653920"/>
                <a:gd name="textAreaTop" fmla="*/ 142560 h 571320"/>
                <a:gd name="textAreaBottom" fmla="*/ 42840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15960" y="323424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DC Ne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31080" y="4173840"/>
              <a:ext cx="16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Vue 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686640" y="4910760"/>
            <a:ext cx="2704320" cy="1399320"/>
            <a:chOff x="6686640" y="4910760"/>
            <a:chExt cx="2704320" cy="1399320"/>
          </a:xfrm>
        </p:grpSpPr>
        <p:sp>
          <p:nvSpPr>
            <p:cNvPr id="221" name=""/>
            <p:cNvSpPr/>
            <p:nvPr/>
          </p:nvSpPr>
          <p:spPr>
            <a:xfrm flipH="1" flipV="1">
              <a:off x="6686640" y="5292720"/>
              <a:ext cx="2655360" cy="571680"/>
            </a:xfrm>
            <a:custGeom>
              <a:avLst/>
              <a:gdLst>
                <a:gd name="textAreaLeft" fmla="*/ 414720 w 2655360"/>
                <a:gd name="textAreaRight" fmla="*/ 2323440 w 2655360"/>
                <a:gd name="textAreaTop" fmla="*/ 142920 h 571680"/>
                <a:gd name="textAreaBottom" fmla="*/ 428760 h 5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37680" y="4910760"/>
              <a:ext cx="16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DC FM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46960" y="585036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Vue ris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24720" y="3107160"/>
            <a:ext cx="3596040" cy="1208880"/>
            <a:chOff x="324720" y="3107160"/>
            <a:chExt cx="3596040" cy="1208880"/>
          </a:xfrm>
        </p:grpSpPr>
        <p:sp>
          <p:nvSpPr>
            <p:cNvPr id="225" name=""/>
            <p:cNvSpPr/>
            <p:nvPr/>
          </p:nvSpPr>
          <p:spPr>
            <a:xfrm flipV="1">
              <a:off x="494640" y="3463560"/>
              <a:ext cx="3426120" cy="571680"/>
            </a:xfrm>
            <a:custGeom>
              <a:avLst/>
              <a:gdLst>
                <a:gd name="textAreaLeft" fmla="*/ 535320 w 3426120"/>
                <a:gd name="textAreaRight" fmla="*/ 2998080 w 3426120"/>
                <a:gd name="textAreaTop" fmla="*/ 142920 h 571680"/>
                <a:gd name="textAreaBottom" fmla="*/ 428760 h 5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38800" y="310716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DC Ch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24720" y="3856320"/>
              <a:ext cx="259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Vue fourniss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12480" y="4796280"/>
            <a:ext cx="3292200" cy="1247040"/>
            <a:chOff x="312480" y="4796280"/>
            <a:chExt cx="3292200" cy="1247040"/>
          </a:xfrm>
        </p:grpSpPr>
        <p:sp>
          <p:nvSpPr>
            <p:cNvPr id="229" name=""/>
            <p:cNvSpPr/>
            <p:nvPr/>
          </p:nvSpPr>
          <p:spPr>
            <a:xfrm flipV="1">
              <a:off x="439560" y="5152320"/>
              <a:ext cx="3165120" cy="571320"/>
            </a:xfrm>
            <a:custGeom>
              <a:avLst/>
              <a:gdLst>
                <a:gd name="textAreaLeft" fmla="*/ 494280 w 3165120"/>
                <a:gd name="textAreaRight" fmla="*/ 2769480 w 3165120"/>
                <a:gd name="textAreaTop" fmla="*/ 142560 h 571320"/>
                <a:gd name="textAreaBottom" fmla="*/ 42840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69520" y="479628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DC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12120" y="5583600"/>
              <a:ext cx="256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Vue concep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505320" y="45255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s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ltidimens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grpSp>
          <p:nvGrpSpPr>
            <p:cNvPr id="236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0" y="0"/>
                <a:ext cx="9905040" cy="6858000"/>
                <a:chOff x="0" y="0"/>
                <a:chExt cx="9905040" cy="68580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36400" y="0"/>
                  <a:ext cx="936864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9" name="" descr=""/>
                <p:cNvPicPr/>
                <p:nvPr/>
              </p:nvPicPr>
              <p:blipFill>
                <a:blip r:embed="rId1"/>
                <a:srcRect l="0" t="0" r="0" b="14284"/>
                <a:stretch/>
              </p:blipFill>
              <p:spPr>
                <a:xfrm>
                  <a:off x="0" y="0"/>
                  <a:ext cx="120708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0" name="" descr=""/>
              <p:cNvPicPr/>
              <p:nvPr/>
            </p:nvPicPr>
            <p:blipFill>
              <a:blip r:embed="rId2">
                <a:lum bright="-2000"/>
              </a:blip>
              <a:srcRect l="41685" t="0" r="0" b="0"/>
              <a:stretch/>
            </p:blipFill>
            <p:spPr>
              <a:xfrm>
                <a:off x="3240" y="152280"/>
                <a:ext cx="9902160" cy="76212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41" name=""/>
            <p:cNvGraphicFramePr/>
            <p:nvPr/>
          </p:nvGraphicFramePr>
          <p:xfrm>
            <a:off x="7512120" y="6357960"/>
            <a:ext cx="2393640" cy="5000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12120" y="6357960"/>
                      <a:ext cx="23936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3" name=""/>
          <p:cNvSpPr/>
          <p:nvPr/>
        </p:nvSpPr>
        <p:spPr>
          <a:xfrm>
            <a:off x="1155600" y="257040"/>
            <a:ext cx="87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Comic Sans MS"/>
              </a:rPr>
              <a:t>Traçabilité / Histo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92000" y="189900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r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outes les donné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’un proj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8560" y="280908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37600" y="2770920"/>
            <a:ext cx="35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tère de va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30480" y="341856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97400" y="359640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ff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02280" y="424404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Cap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49040" y="393912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os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92240" y="1340280"/>
            <a:ext cx="87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cès à l’historique des données méthodolog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528480" y="639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673200" y="4506840"/>
            <a:ext cx="8835840" cy="209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254" name=""/>
          <p:cNvGrpSpPr/>
          <p:nvPr/>
        </p:nvGrpSpPr>
        <p:grpSpPr>
          <a:xfrm>
            <a:off x="1596960" y="2470680"/>
            <a:ext cx="6532560" cy="3201480"/>
            <a:chOff x="1596960" y="2470680"/>
            <a:chExt cx="6532560" cy="3201480"/>
          </a:xfrm>
        </p:grpSpPr>
        <p:sp>
          <p:nvSpPr>
            <p:cNvPr id="255" name=""/>
            <p:cNvSpPr/>
            <p:nvPr/>
          </p:nvSpPr>
          <p:spPr>
            <a:xfrm>
              <a:off x="1706400" y="2470680"/>
              <a:ext cx="642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our identifier les </a:t>
              </a: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spécificité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d’un proj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96960" y="5367240"/>
              <a:ext cx="126504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14880" y="3072240"/>
            <a:ext cx="9218880" cy="3607560"/>
            <a:chOff x="614880" y="3072240"/>
            <a:chExt cx="9218880" cy="3607560"/>
          </a:xfrm>
        </p:grpSpPr>
        <p:sp>
          <p:nvSpPr>
            <p:cNvPr id="258" name=""/>
            <p:cNvSpPr/>
            <p:nvPr/>
          </p:nvSpPr>
          <p:spPr>
            <a:xfrm>
              <a:off x="756000" y="3072240"/>
              <a:ext cx="622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our gérer les </a:t>
              </a: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modification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d’un proj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14880" y="3570120"/>
              <a:ext cx="9218880" cy="3109680"/>
              <a:chOff x="614880" y="3570120"/>
              <a:chExt cx="9218880" cy="3109680"/>
            </a:xfrm>
          </p:grpSpPr>
          <p:pic>
            <p:nvPicPr>
              <p:cNvPr id="260" name="" descr=""/>
              <p:cNvPicPr/>
              <p:nvPr/>
            </p:nvPicPr>
            <p:blipFill>
              <a:blip r:embed="rId6"/>
              <a:srcRect l="0" t="0" r="0" b="18353"/>
              <a:stretch/>
            </p:blipFill>
            <p:spPr>
              <a:xfrm>
                <a:off x="2424240" y="3570120"/>
                <a:ext cx="7409520" cy="299556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pic>
            <p:nvPicPr>
              <p:cNvPr id="26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14880" y="5206680"/>
                <a:ext cx="5497200" cy="147312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grpSp>
          <p:nvGrpSpPr>
            <p:cNvPr id="265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0" y="0"/>
                <a:ext cx="9905040" cy="6858000"/>
                <a:chOff x="0" y="0"/>
                <a:chExt cx="9905040" cy="68580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36400" y="0"/>
                  <a:ext cx="936864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8" name="" descr=""/>
                <p:cNvPicPr/>
                <p:nvPr/>
              </p:nvPicPr>
              <p:blipFill>
                <a:blip r:embed="rId1"/>
                <a:srcRect l="0" t="0" r="0" b="14284"/>
                <a:stretch/>
              </p:blipFill>
              <p:spPr>
                <a:xfrm>
                  <a:off x="0" y="0"/>
                  <a:ext cx="120708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69" name="" descr=""/>
              <p:cNvPicPr/>
              <p:nvPr/>
            </p:nvPicPr>
            <p:blipFill>
              <a:blip r:embed="rId2">
                <a:lum bright="-2000"/>
              </a:blip>
              <a:srcRect l="41685" t="0" r="0" b="0"/>
              <a:stretch/>
            </p:blipFill>
            <p:spPr>
              <a:xfrm>
                <a:off x="3240" y="152280"/>
                <a:ext cx="9902160" cy="76212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70" name=""/>
            <p:cNvGraphicFramePr/>
            <p:nvPr/>
          </p:nvGraphicFramePr>
          <p:xfrm>
            <a:off x="7512120" y="6357960"/>
            <a:ext cx="2393640" cy="5000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12120" y="6357960"/>
                      <a:ext cx="23936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2" name=""/>
          <p:cNvSpPr/>
          <p:nvPr/>
        </p:nvSpPr>
        <p:spPr>
          <a:xfrm>
            <a:off x="1155600" y="257040"/>
            <a:ext cx="87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apit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55800" y="2413080"/>
            <a:ext cx="4705560" cy="12571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éférentiel d’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7080" y="2387520"/>
            <a:ext cx="5159160" cy="19814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éférentiel d’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écificités du projet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12640" y="5372280"/>
            <a:ext cx="2682720" cy="1257120"/>
            <a:chOff x="512640" y="5372280"/>
            <a:chExt cx="2682720" cy="1257120"/>
          </a:xfrm>
        </p:grpSpPr>
        <p:sp>
          <p:nvSpPr>
            <p:cNvPr id="276" name=""/>
            <p:cNvSpPr/>
            <p:nvPr/>
          </p:nvSpPr>
          <p:spPr>
            <a:xfrm>
              <a:off x="512640" y="5372280"/>
              <a:ext cx="2682720" cy="12571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57520" y="581508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jet 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rot="1464000">
            <a:off x="555480" y="3083040"/>
            <a:ext cx="1714680" cy="1782720"/>
          </a:xfrm>
          <a:custGeom>
            <a:avLst/>
            <a:gdLst>
              <a:gd name="textAreaLeft" fmla="*/ 229680 w 1714680"/>
              <a:gd name="textAreaRight" fmla="*/ 1485000 w 1714680"/>
              <a:gd name="textAreaTop" fmla="*/ 311760 h 1782720"/>
              <a:gd name="textAreaBottom" fmla="*/ 1292400 h 178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8340800">
            <a:off x="3182760" y="4668480"/>
            <a:ext cx="2006640" cy="1457640"/>
          </a:xfrm>
          <a:custGeom>
            <a:avLst/>
            <a:gdLst>
              <a:gd name="textAreaLeft" fmla="*/ 351000 w 2006640"/>
              <a:gd name="textAreaRight" fmla="*/ 1454760 w 2006640"/>
              <a:gd name="textAreaTop" fmla="*/ 195120 h 1457640"/>
              <a:gd name="textAreaBottom" fmla="*/ 1262520 h 14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786720" y="5346720"/>
            <a:ext cx="2682360" cy="1257120"/>
            <a:chOff x="6786720" y="5346720"/>
            <a:chExt cx="2682360" cy="1257120"/>
          </a:xfrm>
        </p:grpSpPr>
        <p:sp>
          <p:nvSpPr>
            <p:cNvPr id="281" name=""/>
            <p:cNvSpPr/>
            <p:nvPr/>
          </p:nvSpPr>
          <p:spPr>
            <a:xfrm>
              <a:off x="6786720" y="5346720"/>
              <a:ext cx="2682360" cy="12571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30880" y="578952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jet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066760" y="2222640"/>
            <a:ext cx="6067440" cy="2882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éférentiel d’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pécificité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du projet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pécificité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du projet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rot="19510200">
            <a:off x="7833600" y="3349800"/>
            <a:ext cx="1714320" cy="1782720"/>
          </a:xfrm>
          <a:custGeom>
            <a:avLst/>
            <a:gdLst>
              <a:gd name="textAreaLeft" fmla="*/ 229680 w 1714320"/>
              <a:gd name="textAreaRight" fmla="*/ 1484640 w 1714320"/>
              <a:gd name="textAreaTop" fmla="*/ 311760 h 1782720"/>
              <a:gd name="textAreaBottom" fmla="*/ 1292400 h 178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rot="3259200">
            <a:off x="4778280" y="5124960"/>
            <a:ext cx="2006640" cy="1459080"/>
          </a:xfrm>
          <a:custGeom>
            <a:avLst/>
            <a:gdLst>
              <a:gd name="textAreaLeft" fmla="*/ 351000 w 2006640"/>
              <a:gd name="textAreaRight" fmla="*/ 1454760 w 2006640"/>
              <a:gd name="textAreaTop" fmla="*/ 195480 h 1459080"/>
              <a:gd name="textAreaBottom" fmla="*/ 1263600 h 14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70000" y="1036080"/>
            <a:ext cx="8697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 complément aux bases de connaissances et intranets une solution simpl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our vraiment réutilis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les connaissances et pas seulement y avoir accès :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es génériques cumula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grpSp>
          <p:nvGrpSpPr>
            <p:cNvPr id="290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0" y="0"/>
                <a:ext cx="9905040" cy="6858000"/>
                <a:chOff x="0" y="0"/>
                <a:chExt cx="9905040" cy="68580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36400" y="0"/>
                  <a:ext cx="936864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3" name="" descr=""/>
                <p:cNvPicPr/>
                <p:nvPr/>
              </p:nvPicPr>
              <p:blipFill>
                <a:blip r:embed="rId1"/>
                <a:srcRect l="0" t="0" r="0" b="14284"/>
                <a:stretch/>
              </p:blipFill>
              <p:spPr>
                <a:xfrm>
                  <a:off x="0" y="0"/>
                  <a:ext cx="120708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94" name="" descr=""/>
              <p:cNvPicPr/>
              <p:nvPr/>
            </p:nvPicPr>
            <p:blipFill>
              <a:blip r:embed="rId2">
                <a:lum bright="-2000"/>
              </a:blip>
              <a:srcRect l="41685" t="0" r="0" b="0"/>
              <a:stretch/>
            </p:blipFill>
            <p:spPr>
              <a:xfrm>
                <a:off x="3240" y="152280"/>
                <a:ext cx="9902160" cy="76212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95" name=""/>
            <p:cNvGraphicFramePr/>
            <p:nvPr/>
          </p:nvGraphicFramePr>
          <p:xfrm>
            <a:off x="7512120" y="6357960"/>
            <a:ext cx="2393640" cy="5000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12120" y="6357960"/>
                      <a:ext cx="23936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7" name=""/>
          <p:cNvSpPr/>
          <p:nvPr/>
        </p:nvSpPr>
        <p:spPr>
          <a:xfrm>
            <a:off x="1155600" y="257040"/>
            <a:ext cx="87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apit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57560" y="4773960"/>
            <a:ext cx="37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ute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a sa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57560" y="4190040"/>
            <a:ext cx="70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étho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igine (TDC Need, TDC FMEA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63680" y="1004760"/>
            <a:ext cx="854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loitation possible de la capitalisation par l’accès direct à l’historique des données par un simple clic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1260360" y="2197080"/>
            <a:ext cx="7761240" cy="1623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02" name=""/>
          <p:cNvSpPr/>
          <p:nvPr/>
        </p:nvSpPr>
        <p:spPr>
          <a:xfrm>
            <a:off x="2257560" y="5371200"/>
            <a:ext cx="57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ate de cré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a don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57560" y="600588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rojet concern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a don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504560" y="4824360"/>
            <a:ext cx="1619280" cy="1743480"/>
            <a:chOff x="7504560" y="4824360"/>
            <a:chExt cx="1619280" cy="1743480"/>
          </a:xfrm>
        </p:grpSpPr>
        <p:pic>
          <p:nvPicPr>
            <p:cNvPr id="305" name="" descr=""/>
            <p:cNvPicPr/>
            <p:nvPr/>
          </p:nvPicPr>
          <p:blipFill>
            <a:blip r:embed="rId6"/>
            <a:srcRect l="53118" t="41452" r="32651" b="35410"/>
            <a:stretch/>
          </p:blipFill>
          <p:spPr>
            <a:xfrm>
              <a:off x="7634520" y="4824360"/>
              <a:ext cx="1252800" cy="14112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306" name=""/>
            <p:cNvSpPr/>
            <p:nvPr/>
          </p:nvSpPr>
          <p:spPr>
            <a:xfrm>
              <a:off x="7504560" y="6230520"/>
              <a:ext cx="16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émonst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8520" y="1692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grpSp>
          <p:nvGrpSpPr>
            <p:cNvPr id="310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0" y="0"/>
                <a:ext cx="9905040" cy="6858000"/>
                <a:chOff x="0" y="0"/>
                <a:chExt cx="9905040" cy="68580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36400" y="0"/>
                  <a:ext cx="936864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3" name="" descr=""/>
                <p:cNvPicPr/>
                <p:nvPr/>
              </p:nvPicPr>
              <p:blipFill>
                <a:blip r:embed="rId1"/>
                <a:srcRect l="0" t="0" r="0" b="14284"/>
                <a:stretch/>
              </p:blipFill>
              <p:spPr>
                <a:xfrm>
                  <a:off x="0" y="0"/>
                  <a:ext cx="120708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14" name="" descr=""/>
              <p:cNvPicPr/>
              <p:nvPr/>
            </p:nvPicPr>
            <p:blipFill>
              <a:blip r:embed="rId2">
                <a:lum bright="-2000"/>
              </a:blip>
              <a:srcRect l="41685" t="0" r="0" b="0"/>
              <a:stretch/>
            </p:blipFill>
            <p:spPr>
              <a:xfrm>
                <a:off x="3240" y="152280"/>
                <a:ext cx="9902160" cy="76212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315" name=""/>
            <p:cNvGraphicFramePr/>
            <p:nvPr/>
          </p:nvGraphicFramePr>
          <p:xfrm>
            <a:off x="7512120" y="6357960"/>
            <a:ext cx="2393640" cy="5000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12120" y="6357960"/>
                      <a:ext cx="23936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7" name=""/>
          <p:cNvSpPr/>
          <p:nvPr/>
        </p:nvSpPr>
        <p:spPr>
          <a:xfrm>
            <a:off x="1155600" y="189000"/>
            <a:ext cx="87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émon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17360" y="1282680"/>
            <a:ext cx="9658080" cy="5440320"/>
            <a:chOff x="117360" y="1282680"/>
            <a:chExt cx="9658080" cy="5440320"/>
          </a:xfrm>
        </p:grpSpPr>
        <p:sp>
          <p:nvSpPr>
            <p:cNvPr id="319" name=""/>
            <p:cNvSpPr/>
            <p:nvPr/>
          </p:nvSpPr>
          <p:spPr>
            <a:xfrm>
              <a:off x="117360" y="1282680"/>
              <a:ext cx="9658080" cy="543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9920" y="1473120"/>
              <a:ext cx="255888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TDC Ne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55960" y="1473120"/>
              <a:ext cx="255888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TDC FM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19280" y="1473120"/>
              <a:ext cx="26413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cc"/>
                  </a:solidFill>
                  <a:latin typeface="Comic Sans MS"/>
                </a:rPr>
                <a:t>TDC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54040" y="147312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25840" y="139680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2240" y="4559040"/>
              <a:ext cx="22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onctions de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2240" y="4940280"/>
              <a:ext cx="22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Cri,Ni,F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588560" y="4508280"/>
              <a:ext cx="1499760" cy="996840"/>
              <a:chOff x="4588560" y="4508280"/>
              <a:chExt cx="1499760" cy="996840"/>
            </a:xfrm>
          </p:grpSpPr>
          <p:sp>
            <p:nvSpPr>
              <p:cNvPr id="328" name=""/>
              <p:cNvSpPr/>
              <p:nvPr/>
            </p:nvSpPr>
            <p:spPr>
              <a:xfrm>
                <a:off x="5697000" y="5180040"/>
                <a:ext cx="390960" cy="3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273280" y="5180040"/>
                <a:ext cx="423360" cy="3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88560" y="5180040"/>
                <a:ext cx="684720" cy="3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Tub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73280" y="4854960"/>
                <a:ext cx="4233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73280" y="4508280"/>
                <a:ext cx="423360" cy="34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FP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97000" y="4854960"/>
                <a:ext cx="3909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88560" y="4854960"/>
                <a:ext cx="68472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Son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97000" y="4508280"/>
                <a:ext cx="390960" cy="34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FP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88560" y="4508280"/>
                <a:ext cx="684720" cy="34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A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88560" y="4508280"/>
                <a:ext cx="1499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88560" y="4854960"/>
                <a:ext cx="149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588560" y="5505120"/>
                <a:ext cx="1499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88560" y="4508280"/>
                <a:ext cx="0" cy="996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73280" y="4508280"/>
                <a:ext cx="0" cy="9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88320" y="4508280"/>
                <a:ext cx="0" cy="996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97000" y="4508280"/>
                <a:ext cx="0" cy="9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588560" y="5180040"/>
                <a:ext cx="149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612360" y="5720400"/>
              <a:ext cx="8502480" cy="64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00"/>
                  </a:solidFill>
                  <a:latin typeface="Comic Sans MS"/>
                </a:rPr>
                <a:t>TDC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88040" y="2463480"/>
              <a:ext cx="264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rborescence des composa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15760" y="2781000"/>
              <a:ext cx="264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loc Diagramme Fonctio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8014320" y="2641320"/>
              <a:ext cx="1064160" cy="850680"/>
              <a:chOff x="8014320" y="2641320"/>
              <a:chExt cx="1064160" cy="850680"/>
            </a:xfrm>
          </p:grpSpPr>
          <p:sp>
            <p:nvSpPr>
              <p:cNvPr id="349" name=""/>
              <p:cNvSpPr/>
              <p:nvPr/>
            </p:nvSpPr>
            <p:spPr>
              <a:xfrm>
                <a:off x="8592120" y="3200040"/>
                <a:ext cx="48636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014320" y="3200040"/>
                <a:ext cx="57780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014320" y="2641320"/>
                <a:ext cx="1064160" cy="55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9900"/>
                    </a:solidFill>
                    <a:latin typeface="Comic Sans MS"/>
                  </a:rPr>
                  <a:t>AMDE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9900"/>
                    </a:solidFill>
                    <a:latin typeface="Comic Sans MS"/>
                  </a:rPr>
                  <a:t>Proc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014320" y="2641320"/>
                <a:ext cx="10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014320" y="3200040"/>
                <a:ext cx="10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014320" y="3492000"/>
                <a:ext cx="1064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014320" y="2641320"/>
                <a:ext cx="0" cy="8506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9078480" y="2641320"/>
                <a:ext cx="0" cy="8506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592120" y="32000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08640" y="2387520"/>
              <a:ext cx="990360" cy="852480"/>
              <a:chOff x="6308640" y="2387520"/>
              <a:chExt cx="990360" cy="852480"/>
            </a:xfrm>
          </p:grpSpPr>
          <p:sp>
            <p:nvSpPr>
              <p:cNvPr id="359" name=""/>
              <p:cNvSpPr/>
              <p:nvPr/>
            </p:nvSpPr>
            <p:spPr>
              <a:xfrm>
                <a:off x="6804000" y="2946600"/>
                <a:ext cx="49500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08640" y="2946600"/>
                <a:ext cx="49536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08640" y="2387520"/>
                <a:ext cx="990360" cy="55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9900"/>
                    </a:solidFill>
                    <a:latin typeface="Comic Sans MS"/>
                  </a:rPr>
                  <a:t>AMDE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9900"/>
                    </a:solidFill>
                    <a:latin typeface="Comic Sans MS"/>
                  </a:rPr>
                  <a:t>Produi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08640" y="23875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08640" y="294660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08640" y="3240000"/>
                <a:ext cx="990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08640" y="2387520"/>
                <a:ext cx="0" cy="8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299000" y="2387520"/>
                <a:ext cx="0" cy="8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04000" y="2946600"/>
                <a:ext cx="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6528600" y="3136680"/>
              <a:ext cx="990000" cy="789120"/>
              <a:chOff x="6528600" y="3136680"/>
              <a:chExt cx="990000" cy="789120"/>
            </a:xfrm>
          </p:grpSpPr>
          <p:sp>
            <p:nvSpPr>
              <p:cNvPr id="369" name=""/>
              <p:cNvSpPr/>
              <p:nvPr/>
            </p:nvSpPr>
            <p:spPr>
              <a:xfrm>
                <a:off x="7023600" y="3652560"/>
                <a:ext cx="495000" cy="27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28600" y="3652560"/>
                <a:ext cx="495000" cy="27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28600" y="3136680"/>
                <a:ext cx="990000" cy="51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9900"/>
                    </a:solidFill>
                    <a:latin typeface="Comic Sans MS"/>
                  </a:rPr>
                  <a:t>Carac. produi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28600" y="3136680"/>
                <a:ext cx="99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28600" y="3652560"/>
                <a:ext cx="99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28600" y="3925800"/>
                <a:ext cx="9900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28600" y="3136680"/>
                <a:ext cx="0" cy="7891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18600" y="3136680"/>
                <a:ext cx="0" cy="7891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23600" y="3652560"/>
                <a:ext cx="0" cy="27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8276040" y="3390840"/>
              <a:ext cx="990000" cy="788760"/>
              <a:chOff x="8276040" y="3390840"/>
              <a:chExt cx="990000" cy="788760"/>
            </a:xfrm>
          </p:grpSpPr>
          <p:sp>
            <p:nvSpPr>
              <p:cNvPr id="379" name=""/>
              <p:cNvSpPr/>
              <p:nvPr/>
            </p:nvSpPr>
            <p:spPr>
              <a:xfrm>
                <a:off x="8771040" y="3906720"/>
                <a:ext cx="49500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276040" y="3906720"/>
                <a:ext cx="49500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276040" y="3390840"/>
                <a:ext cx="990000" cy="51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9900"/>
                    </a:solidFill>
                    <a:latin typeface="Comic Sans MS"/>
                  </a:rPr>
                  <a:t>Carac. Process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276040" y="3390840"/>
                <a:ext cx="99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276040" y="3906720"/>
                <a:ext cx="99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276040" y="4179600"/>
                <a:ext cx="9900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276040" y="3390840"/>
                <a:ext cx="0" cy="7887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266040" y="3390840"/>
                <a:ext cx="0" cy="7887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771040" y="39067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88" name="" descr=""/>
            <p:cNvPicPr/>
            <p:nvPr/>
          </p:nvPicPr>
          <p:blipFill>
            <a:blip r:embed="rId5"/>
            <a:stretch/>
          </p:blipFill>
          <p:spPr>
            <a:xfrm>
              <a:off x="3553560" y="3114360"/>
              <a:ext cx="1850040" cy="1160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389" name=""/>
            <p:cNvSpPr/>
            <p:nvPr/>
          </p:nvSpPr>
          <p:spPr>
            <a:xfrm>
              <a:off x="3323160" y="4660560"/>
              <a:ext cx="1265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ableau d’Analyse Fonctionn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6"/>
            <a:stretch/>
          </p:blipFill>
          <p:spPr>
            <a:xfrm>
              <a:off x="261360" y="2651040"/>
              <a:ext cx="2727360" cy="1668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391" name=""/>
            <p:cNvSpPr/>
            <p:nvPr/>
          </p:nvSpPr>
          <p:spPr>
            <a:xfrm>
              <a:off x="7257600" y="2387520"/>
              <a:ext cx="908280" cy="266760"/>
            </a:xfrm>
            <a:custGeom>
              <a:avLst/>
              <a:gdLst>
                <a:gd name="textAreaLeft" fmla="*/ 158760 w 908280"/>
                <a:gd name="textAreaRight" fmla="*/ 658440 w 908280"/>
                <a:gd name="textAreaTop" fmla="*/ 35640 h 266760"/>
                <a:gd name="textAreaBottom" fmla="*/ 23112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7"/>
            <a:stretch/>
          </p:blipFill>
          <p:spPr>
            <a:xfrm>
              <a:off x="7904520" y="4187520"/>
              <a:ext cx="1513440" cy="12765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393" name=""/>
            <p:cNvSpPr/>
            <p:nvPr/>
          </p:nvSpPr>
          <p:spPr>
            <a:xfrm>
              <a:off x="6569640" y="4495680"/>
              <a:ext cx="126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iagramme de Fl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56520" y="6446520"/>
              <a:ext cx="835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estion du groupe de travail (recherches multi-études, listes d’actions multi-études, …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290680" y="1197000"/>
            <a:ext cx="1940040" cy="304920"/>
          </a:xfrm>
          <a:custGeom>
            <a:avLst/>
            <a:gdLst>
              <a:gd name="textAreaLeft" fmla="*/ 339480 w 1940040"/>
              <a:gd name="textAreaRight" fmla="*/ 1406520 w 194004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42120" y="1222200"/>
            <a:ext cx="1939680" cy="304920"/>
          </a:xfrm>
          <a:custGeom>
            <a:avLst/>
            <a:gdLst>
              <a:gd name="textAreaLeft" fmla="*/ 339480 w 1939680"/>
              <a:gd name="textAreaRight" fmla="*/ 1406520 w 19396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0520" y="476280"/>
            <a:ext cx="1296720" cy="10080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 Black"/>
              </a:rPr>
              <a:t>C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-15840" y="44280"/>
            <a:ext cx="1450800" cy="1057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496880" y="333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487320" y="262080"/>
            <a:ext cx="31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33cc"/>
                </a:solidFill>
                <a:latin typeface="Comic Sans MS"/>
              </a:rPr>
              <a:t>TDC N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1352520" y="1484280"/>
            <a:ext cx="8229600" cy="508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1424160" y="1413000"/>
            <a:ext cx="8137440" cy="53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2000160" y="1457280"/>
            <a:ext cx="7632720" cy="5284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0" y="0"/>
            <a:ext cx="9906120" cy="6858000"/>
          </a:xfrm>
          <a:custGeom>
            <a:avLst/>
            <a:gdLst>
              <a:gd name="textAreaLeft" fmla="*/ 444240 w 9906120"/>
              <a:gd name="textAreaRight" fmla="*/ 9461880 w 99061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31200" h="21600">
                <a:moveTo>
                  <a:pt x="0" y="0"/>
                </a:moveTo>
                <a:lnTo>
                  <a:pt x="31200" y="0"/>
                </a:lnTo>
                <a:lnTo>
                  <a:pt x="31200" y="21600"/>
                </a:lnTo>
                <a:lnTo>
                  <a:pt x="0" y="21600"/>
                </a:lnTo>
                <a:close/>
              </a:path>
              <a:path fill="lightenLess" w="31200" h="21600">
                <a:moveTo>
                  <a:pt x="0" y="0"/>
                </a:moveTo>
                <a:lnTo>
                  <a:pt x="31200" y="0"/>
                </a:lnTo>
                <a:lnTo>
                  <a:pt x="29800" y="1400"/>
                </a:lnTo>
                <a:lnTo>
                  <a:pt x="1400" y="1400"/>
                </a:lnTo>
                <a:close/>
              </a:path>
              <a:path fill="darken" w="31200" h="21600">
                <a:moveTo>
                  <a:pt x="31200" y="0"/>
                </a:moveTo>
                <a:lnTo>
                  <a:pt x="31200" y="21600"/>
                </a:lnTo>
                <a:lnTo>
                  <a:pt x="29800" y="20200"/>
                </a:lnTo>
                <a:lnTo>
                  <a:pt x="29800" y="1400"/>
                </a:lnTo>
                <a:close/>
              </a:path>
              <a:path fill="darkenLess" w="31200" h="21600">
                <a:moveTo>
                  <a:pt x="3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00" y="20200"/>
                </a:lnTo>
                <a:close/>
              </a:path>
              <a:path fill="lighten" w="3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200160" y="6021360"/>
            <a:ext cx="360360" cy="620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20640"/>
              <a:gd name="textAreaBottom" fmla="*/ 597600 h 620640"/>
            </a:gdLst>
            <a:ahLst/>
            <a:rect l="textAreaLeft" t="textAreaTop" r="textAreaRight" b="textAreaBottom"/>
            <a:pathLst>
              <a:path w="21600" h="37186">
                <a:moveTo>
                  <a:pt x="0" y="0"/>
                </a:moveTo>
                <a:lnTo>
                  <a:pt x="21600" y="0"/>
                </a:lnTo>
                <a:lnTo>
                  <a:pt x="21600" y="37186"/>
                </a:lnTo>
                <a:lnTo>
                  <a:pt x="0" y="37186"/>
                </a:lnTo>
                <a:close/>
              </a:path>
              <a:path fill="lightenLess" w="21600" h="37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186">
                <a:moveTo>
                  <a:pt x="21600" y="0"/>
                </a:moveTo>
                <a:lnTo>
                  <a:pt x="21600" y="37186"/>
                </a:lnTo>
                <a:lnTo>
                  <a:pt x="20200" y="35786"/>
                </a:lnTo>
                <a:lnTo>
                  <a:pt x="20200" y="1400"/>
                </a:lnTo>
                <a:close/>
              </a:path>
              <a:path fill="darkenLess" w="21600" h="37186">
                <a:moveTo>
                  <a:pt x="21600" y="37186"/>
                </a:moveTo>
                <a:lnTo>
                  <a:pt x="0" y="37186"/>
                </a:lnTo>
                <a:lnTo>
                  <a:pt x="1400" y="35786"/>
                </a:lnTo>
                <a:lnTo>
                  <a:pt x="20200" y="35786"/>
                </a:lnTo>
                <a:close/>
              </a:path>
              <a:path fill="lighten" w="21600" h="37186">
                <a:moveTo>
                  <a:pt x="0" y="37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35786"/>
                </a:lnTo>
                <a:close/>
              </a:path>
              <a:path fill="darken" w="21600" h="37186">
                <a:moveTo>
                  <a:pt x="3794" y="11586"/>
                </a:moveTo>
                <a:lnTo>
                  <a:pt x="17806" y="18593"/>
                </a:lnTo>
                <a:lnTo>
                  <a:pt x="3794" y="2559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21:13:21Z</dcterms:created>
  <dc:creator>Thierry</dc:creator>
  <dc:description/>
  <dc:language>en-US</dc:language>
  <cp:lastModifiedBy>Guyonvarch Daniel</cp:lastModifiedBy>
  <dcterms:modified xsi:type="dcterms:W3CDTF">2004-06-17T20:50:39Z</dcterms:modified>
  <cp:revision>26</cp:revision>
  <dc:subject/>
  <dc:title>Aucun titre de diapositive</dc:title>
</cp:coreProperties>
</file>