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0.xml.rels" ContentType="application/vnd.openxmlformats-package.relationships+xml"/>
  <Override PartName="/ppt/notesSlides/notesSlide11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6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3.wmf" ContentType="image/x-wmf"/>
  <Override PartName="/ppt/media/image45.jpeg" ContentType="image/jpeg"/>
  <Override PartName="/ppt/media/image44.jpeg" ContentType="image/jpeg"/>
  <Override PartName="/ppt/media/image38.png" ContentType="image/png"/>
  <Override PartName="/ppt/media/image43.wmf" ContentType="image/x-wmf"/>
  <Override PartName="/ppt/media/image122.jpeg" ContentType="image/jpeg"/>
  <Override PartName="/ppt/media/image36.png" ContentType="image/png"/>
  <Override PartName="/ppt/media/image35.png" ContentType="image/png"/>
  <Override PartName="/ppt/media/image114.jpeg" ContentType="image/jpeg"/>
  <Override PartName="/ppt/media/image37.png" ContentType="image/png"/>
  <Override PartName="/ppt/media/image34.jpeg" ContentType="image/jpeg"/>
  <Override PartName="/ppt/media/image33.png" ContentType="image/png"/>
  <Override PartName="/ppt/media/image54.jpeg" ContentType="image/jpeg"/>
  <Override PartName="/ppt/media/image32.png" ContentType="image/png"/>
  <Override PartName="/ppt/media/image93.jpeg" ContentType="image/jpeg"/>
  <Override PartName="/ppt/media/image31.jpeg" ContentType="image/jpeg"/>
  <Override PartName="/ppt/media/image9.wmf" ContentType="image/x-wmf"/>
  <Override PartName="/ppt/media/image115.png" ContentType="image/png"/>
  <Override PartName="/ppt/media/image40.png" ContentType="image/png"/>
  <Override PartName="/ppt/media/image8.wmf" ContentType="image/x-wmf"/>
  <Override PartName="/ppt/media/image85.wmf" ContentType="image/x-wmf"/>
  <Override PartName="/ppt/media/image13.png" ContentType="image/png"/>
  <Override PartName="/ppt/media/image52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30.jpeg" ContentType="image/jpeg"/>
  <Override PartName="/ppt/media/image6.wmf" ContentType="image/x-wmf"/>
  <Override PartName="/ppt/media/image112.png" ContentType="image/png"/>
  <Override PartName="/ppt/media/image7.wmf" ContentType="image/x-wmf"/>
  <Override PartName="/ppt/media/image84.wmf" ContentType="image/x-wmf"/>
  <Override PartName="/ppt/media/image47.jpeg" ContentType="image/jpeg"/>
  <Override PartName="/ppt/media/image68.png" ContentType="image/png"/>
  <Override PartName="/ppt/media/image11.png" ContentType="image/png"/>
  <Override PartName="/ppt/media/image4.wmf" ContentType="image/x-wmf"/>
  <Override PartName="/ppt/media/image66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89.jpeg" ContentType="image/jpeg"/>
  <Override PartName="/ppt/media/image42.wmf" ContentType="image/x-wmf"/>
  <Override PartName="/ppt/media/image82.jpeg" ContentType="image/jpeg"/>
  <Override PartName="/ppt/media/image102.jpeg" ContentType="image/jpeg"/>
  <Override PartName="/ppt/media/image119.jpeg" ContentType="image/jpeg"/>
  <Override PartName="/ppt/media/image39.png" ContentType="image/png"/>
  <Override PartName="/ppt/media/image64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51.jpeg" ContentType="image/jpeg"/>
  <Override PartName="/ppt/media/image62.png" ContentType="image/png"/>
  <Override PartName="/ppt/media/image96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23.png" ContentType="image/png"/>
  <Override PartName="/ppt/media/image110.wmf" ContentType="image/x-wmf"/>
  <Override PartName="/ppt/media/image121.jpeg" ContentType="image/jpeg"/>
  <Override PartName="/ppt/media/image116.jpeg" ContentType="image/jpeg"/>
  <Override PartName="/ppt/media/image100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109.jpeg" ContentType="image/jpeg"/>
  <Override PartName="/ppt/media/image18.jpeg" ContentType="image/jpeg"/>
  <Override PartName="/ppt/media/image97.jpeg" ContentType="image/jpeg"/>
  <Override PartName="/ppt/media/image104.jpeg" ContentType="image/jpeg"/>
  <Override PartName="/ppt/media/image67.png" ContentType="image/png"/>
  <Override PartName="/ppt/media/image60.jpeg" ContentType="image/jpeg"/>
  <Override PartName="/ppt/media/image95.jpeg" ContentType="image/jpeg"/>
  <Override PartName="/ppt/media/image91.jpeg" ContentType="image/jpeg"/>
  <Override PartName="/ppt/media/image78.jpeg" ContentType="image/jpeg"/>
  <Override PartName="/ppt/media/image61.jpeg" ContentType="image/jpeg"/>
  <Override PartName="/ppt/media/image98.png" ContentType="image/png"/>
  <Override PartName="/ppt/media/image94.jpeg" ContentType="image/jpeg"/>
  <Override PartName="/ppt/media/image79.jpeg" ContentType="image/jpeg"/>
  <Override PartName="/ppt/media/image90.jpeg" ContentType="image/jpeg"/>
  <Override PartName="/ppt/media/image99.jpeg" ContentType="image/jpeg"/>
  <Override PartName="/ppt/media/image27.png" ContentType="image/png"/>
  <Override PartName="/ppt/media/image105.jpeg" ContentType="image/jpeg"/>
  <Override PartName="/ppt/media/image26.jpeg" ContentType="image/jpeg"/>
  <Override PartName="/ppt/media/image113.jpeg" ContentType="image/jpeg"/>
  <Override PartName="/ppt/media/image25.png" ContentType="image/png"/>
  <Override PartName="/ppt/media/image19.jpeg" ContentType="image/jpeg"/>
  <Override PartName="/ppt/media/image23.png" ContentType="image/png"/>
  <Override PartName="/ppt/media/image55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77.wmf" ContentType="image/x-wmf"/>
  <Override PartName="/ppt/media/image16.jpeg" ContentType="image/jpeg"/>
  <Override PartName="/ppt/media/image117.png" ContentType="image/png"/>
  <Override PartName="/ppt/media/image20.png" ContentType="image/png"/>
  <Override PartName="/ppt/media/image2.jpeg" ContentType="image/jpeg"/>
  <Override PartName="/ppt/media/image15.png" ContentType="image/png"/>
  <Override PartName="/ppt/media/image92.jpeg" ContentType="image/jpeg"/>
  <Override PartName="/ppt/media/image17.jpeg" ContentType="image/jpeg"/>
  <Override PartName="/ppt/media/image111.png" ContentType="image/png"/>
  <Override PartName="/ppt/media/image5.wmf" ContentType="image/x-wmf"/>
  <Override PartName="/ppt/media/image86.jpeg" ContentType="image/jpeg"/>
  <Override PartName="/ppt/media/image10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B030-D206-4D5D-9426-BFC37E1D4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. 3D -&gt; 1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nue en t° / garantie t° de surface 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nue aux chocs (3D 3 joules 1kg 35 cm, 2D &amp; 1D  7 joules 1kg 70 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 viellissement 4 s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dé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 dé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8325000" y="601992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pn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image" Target="../media/image120.jpeg"/><Relationship Id="rId6" Type="http://schemas.openxmlformats.org/officeDocument/2006/relationships/image" Target="../media/image121.jpeg"/><Relationship Id="rId7" Type="http://schemas.openxmlformats.org/officeDocument/2006/relationships/image" Target="../media/image122.jpeg"/><Relationship Id="rId8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907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La dét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dans les automatis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80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upement des industries de l'équipement électrique,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u contrôle-commande et des servic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573360"/>
            <a:ext cx="38718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vail mené en collaboration avec l’Education Nationale et plus particulièrement avec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éseau national de ressources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 auto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1042920" y="4581360"/>
            <a:ext cx="18334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2438280"/>
            <a:ext cx="6324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Choix d'une technologie de dé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95280"/>
            <a:ext cx="632448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onnaissances de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3505320"/>
            <a:ext cx="63244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oix d'un détecteur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dans une technologie don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 – 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3885840" y="1371240"/>
            <a:ext cx="51814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0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652840" cy="26668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4038480" y="2133720"/>
            <a:ext cx="4562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llules photoélectriques pour détectio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de passage au droit des portes de ca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magnétiques, ou Inductif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pour fixer les points d ’arrêt ca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rupteurs de positions mécanique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à réarm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43160" y="5410080"/>
            <a:ext cx="46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magnétiques sur aimants placé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à l ’intérieur de cages métalliqu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038480" y="48769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ât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cen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3885840" y="2286000"/>
            <a:ext cx="4800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écurité du Public et des exploi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assage des person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ti-Vandal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érieurs et extéri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9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886200" y="4572000"/>
            <a:ext cx="4562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ption F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ce de protection IP54 à IP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positifs de protection des détecteur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acces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86200" y="1752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3962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ât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scaliers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3809520" y="1371600"/>
            <a:ext cx="52578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10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966840" y="2948040"/>
            <a:ext cx="29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43520" y="454824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llules photoélectriques pour détectio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de passage de Piétons au bas des esca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4038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2438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ât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scaliers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962160" y="1904760"/>
            <a:ext cx="48006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rro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rastructures très étendues pouvant durer des décen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ctionnement extérieur à toute température amb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9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2408040" cy="243828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962520" y="4572000"/>
            <a:ext cx="4562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ura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ce de protection IP67 et 68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(Pre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tection contre la corros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rps Inox, Plastique ou pe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1447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40384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457200"/>
            <a:ext cx="4572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itement et Distribution d 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Object 10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457360" cy="2971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891960" y="43434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 inductif IP68 à corps Inox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pour détection immergée de position d ’écl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09880" y="266688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induc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rupteurs d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62520" y="3886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2286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457200"/>
            <a:ext cx="4572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itement et Distribution d 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3962520" y="2209320"/>
            <a:ext cx="487656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écurité des exploi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one ATEX pouss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ctionnement extérieur à toute température amb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incement des mécanis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4495680"/>
            <a:ext cx="456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ura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ce de protection IP6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rtification ATEX Poussi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de sous-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1752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40384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828800" y="457200"/>
            <a:ext cx="5943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porteur « à bande »  portuaire ou mi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Object 103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3962520" y="2743200"/>
            <a:ext cx="4876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 mécanique de « déport de bande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inductif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Object 103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047760" cy="30477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4041720" y="431964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rôleur de rotation: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détecteur inductif de sous-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3886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2286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28800" y="457200"/>
            <a:ext cx="5943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porteur « à bande »  portuaire ou mi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21932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automatis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1905120"/>
            <a:ext cx="723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a fonction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3000" y="5029200"/>
            <a:ext cx="723888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Les tendances du march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3000" y="41911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Quelle détection pour quel secteur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3000" y="57913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2743200"/>
            <a:ext cx="72388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mment se porte la détection en 2003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3000" y="35053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2438280" y="3124080"/>
            <a:ext cx="419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81080" y="137160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volution des nor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43828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étecteurs A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pouss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3828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Ro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365760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Microprocesseur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2438280" y="2971800"/>
            <a:ext cx="419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21932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volution des nor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365760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Microprocesseur In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38280" y="1905120"/>
            <a:ext cx="4191120" cy="459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tecteurs 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ss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38280" y="2438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o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419280" y="1628280"/>
            <a:ext cx="5562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ment fonctionne un détecteur inductif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sé sur un principe électronique produisant un champs magnétique sur la fac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iste en version encastrable (facile à installer) et non encastrable (portée plus impor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coefficient atténuateur de la portée (facteur de correction K) est appliqué lorsqu’une matière métallique autre que l’acier doit être détect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indu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266688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57200" y="4906800"/>
            <a:ext cx="259092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03848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Unicode MS"/>
              </a:rPr>
              <a:t>Encast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Unicode MS"/>
              </a:rPr>
              <a:t>(noyé, blind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5897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Unicode MS"/>
              </a:rPr>
              <a:t>Non encast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2743200" cy="146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4343400" y="4724280"/>
            <a:ext cx="2590920" cy="1676520"/>
            <a:chOff x="4343400" y="4724280"/>
            <a:chExt cx="2590920" cy="1676520"/>
          </a:xfrm>
        </p:grpSpPr>
        <p:pic>
          <p:nvPicPr>
            <p:cNvPr id="121" name="Picture 9" descr=""/>
            <p:cNvPicPr/>
            <p:nvPr/>
          </p:nvPicPr>
          <p:blipFill>
            <a:blip r:embed="rId4"/>
            <a:stretch/>
          </p:blipFill>
          <p:spPr>
            <a:xfrm>
              <a:off x="5257800" y="4800600"/>
              <a:ext cx="1676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029200" y="5410080"/>
              <a:ext cx="3808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47242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 Unicode MS"/>
                </a:rPr>
                <a:t>Facteur de corr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0" y="1752480"/>
            <a:ext cx="3048120" cy="28195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1447920"/>
            <a:ext cx="4876920" cy="4267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010280" y="3124080"/>
            <a:ext cx="120996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rs z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1143000"/>
            <a:ext cx="7239240" cy="5105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2120" y="3049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directive européenne ATEX 94/9/CE (partie D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472520" y="1066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51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Pas de ris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3505320" y="2209320"/>
            <a:ext cx="4114800" cy="1295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936880" y="3962520"/>
            <a:ext cx="3767040" cy="1494360"/>
            <a:chOff x="2936880" y="3962520"/>
            <a:chExt cx="3767040" cy="1494360"/>
          </a:xfrm>
        </p:grpSpPr>
        <p:sp>
          <p:nvSpPr>
            <p:cNvPr id="824" name=""/>
            <p:cNvSpPr/>
            <p:nvPr/>
          </p:nvSpPr>
          <p:spPr>
            <a:xfrm>
              <a:off x="4723200" y="3962520"/>
              <a:ext cx="19807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Zone 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Comic Sans MS"/>
                </a:rPr>
                <a:t>Catégorie 3D ou 2D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36880" y="4539960"/>
              <a:ext cx="320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badi MT Condensed Light"/>
                </a:rPr>
                <a:t>Le risque d’explosion peut exist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badi MT Condensed Light"/>
                </a:rPr>
                <a:t>pour une courte dur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514600" y="2743200"/>
            <a:ext cx="2845440" cy="1799280"/>
            <a:chOff x="2514600" y="2743200"/>
            <a:chExt cx="2845440" cy="1799280"/>
          </a:xfrm>
        </p:grpSpPr>
        <p:sp>
          <p:nvSpPr>
            <p:cNvPr id="827" name=""/>
            <p:cNvSpPr/>
            <p:nvPr/>
          </p:nvSpPr>
          <p:spPr>
            <a:xfrm>
              <a:off x="4030200" y="2743200"/>
              <a:ext cx="13298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Zone 21</a:t>
              </a:r>
              <a:br>
                <a:rPr sz="2000"/>
              </a:br>
              <a:r>
                <a:rPr b="1" lang="en-US" sz="1400" spc="-1" strike="noStrike">
                  <a:solidFill>
                    <a:srgbClr val="ff9900"/>
                  </a:solidFill>
                  <a:latin typeface="Comic Sans MS"/>
                </a:rPr>
                <a:t>Catégorie 2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335124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badi MT Condensed Light"/>
                </a:rPr>
                <a:t>Le risque d’explosion est susceptible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badi MT Condensed Light"/>
                </a:rPr>
                <a:t>se for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2209680" y="2057400"/>
            <a:ext cx="2514600" cy="1297800"/>
            <a:chOff x="2209680" y="2057400"/>
            <a:chExt cx="2514600" cy="1297800"/>
          </a:xfrm>
        </p:grpSpPr>
        <p:sp>
          <p:nvSpPr>
            <p:cNvPr id="830" name=""/>
            <p:cNvSpPr/>
            <p:nvPr/>
          </p:nvSpPr>
          <p:spPr>
            <a:xfrm>
              <a:off x="2743200" y="2057400"/>
              <a:ext cx="1371600" cy="129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14400" y="2297160"/>
              <a:ext cx="13298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Zone 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Catégorie 1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09680" y="2835000"/>
              <a:ext cx="25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badi MT Condensed Light"/>
                </a:rPr>
                <a:t>Risque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badi MT Condensed Light"/>
                </a:rPr>
                <a:t>perma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1009200">
            <a:off x="3724560" y="25736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Zone de plus en plus explosi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6019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st définie par l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apteur est d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catégori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AtEx adaptée à une zone donn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8280" y="137160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Poussiè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27680" y="457200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tecteurs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33412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6ff33"/>
                </a:solidFill>
                <a:latin typeface="Arial"/>
              </a:rPr>
              <a:t>*2D si poussières conduc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 – Évolution des nor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2514600" y="3200400"/>
            <a:ext cx="419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57400" y="144792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Normal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57400" y="388620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Microprocesseur In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17840" y="213372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tecteurs A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ouss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514600" y="2666880"/>
            <a:ext cx="4191120" cy="459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o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523880" y="1523880"/>
            <a:ext cx="7391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293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substances suivantes seront interdites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dans tous les produits concernés mis sur le marché de l' Union Européenne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5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lomb (Pb)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Lead (Pb )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5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Mercure (Hg)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Mercury (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5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Cadmium (Cd)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Cadmium (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5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Chrome hexavalent (Cr 6+)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Chrome</a:t>
            </a:r>
            <a:r>
              <a:rPr b="0" i="1" lang="en-GB" sz="1800" spc="-1" strike="noStrike" baseline="30000">
                <a:solidFill>
                  <a:srgbClr val="003366"/>
                </a:solidFill>
                <a:latin typeface="Arial"/>
              </a:rPr>
              <a:t>VI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 (Cr 6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5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Biphényls polybrominés (PBB)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Flame retardant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5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Ethers diphenyl polybrominés (PBDE)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Flame retardant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293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a directive s'applique à partir du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1er juillet 2006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à tous les produits vendus après cette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723960" y="2943360"/>
            <a:ext cx="718920" cy="10285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90440" y="4098960"/>
            <a:ext cx="17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01. 07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tendances du marché – Ro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41080" y="5112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Directive européenne sur les Ro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946160" y="457200"/>
            <a:ext cx="521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act sur les Détec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3760" y="1143000"/>
            <a:ext cx="4278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La chromatation sur dépôt électrolytique de zinc, sur pièces détachées, feuillards, tô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La chromatation sur aluminium, galva, zam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La viss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La passivation sur cuiv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La passivation sur ar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La préparation pein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1640" y="5003640"/>
            <a:ext cx="4505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 ’oxyde de cadmium dans les pastilles de contact et 1/2 produits (fil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bras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traitements de surfaces (armée et nucléa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charges dans les plastiques (pig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1640" y="1193760"/>
            <a:ext cx="457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a soudure des composants sur circuits imprim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peintures au plom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brasures (contacts, connectique,…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revêtements étain pl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charges pour plastiques (oxyde de plo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isolants de câbles (gain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79840" y="5257800"/>
            <a:ext cx="363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Les retardateurs de flammes dans les matiè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las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22560" y="2709720"/>
            <a:ext cx="3111480" cy="20322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3199200">
            <a:off x="6044760" y="2455920"/>
            <a:ext cx="635040" cy="90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8662400">
            <a:off x="2527200" y="2392200"/>
            <a:ext cx="635040" cy="90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7924200">
            <a:off x="5917680" y="4246200"/>
            <a:ext cx="635040" cy="90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4059800">
            <a:off x="2527200" y="4182840"/>
            <a:ext cx="635040" cy="90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337120" y="44085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adm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05080" y="27194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hrome VI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12360" y="261792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lo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03040" y="4446720"/>
            <a:ext cx="14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BB &amp; PB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0400" y="2849400"/>
            <a:ext cx="289548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RoHS </a:t>
            </a:r>
            <a:br>
              <a:rPr sz="1400"/>
            </a:br>
            <a:r>
              <a:rPr b="1" lang="fr-FR" sz="1700" spc="-1" strike="noStrike">
                <a:solidFill>
                  <a:srgbClr val="ff0000"/>
                </a:solidFill>
                <a:latin typeface="Arial"/>
              </a:rPr>
              <a:t>= </a:t>
            </a:r>
            <a:br>
              <a:rPr sz="1700"/>
            </a:br>
            <a:r>
              <a:rPr b="1" lang="fr-FR" sz="1700" spc="-1" strike="noStrike">
                <a:solidFill>
                  <a:srgbClr val="ff0000"/>
                </a:solidFill>
                <a:latin typeface="Arial"/>
              </a:rPr>
              <a:t>Évolution des produits commercialisés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tendances du marché – Ro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2438280" y="3124080"/>
            <a:ext cx="41911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137160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Normal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981080" y="380988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Microprocesseur In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41520" y="205740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tecteurs A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ouss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382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o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304920" y="762120"/>
            <a:ext cx="8533800" cy="1066680"/>
            <a:chOff x="304920" y="762120"/>
            <a:chExt cx="8533800" cy="1066680"/>
          </a:xfrm>
        </p:grpSpPr>
        <p:sp>
          <p:nvSpPr>
            <p:cNvPr id="874" name=""/>
            <p:cNvSpPr/>
            <p:nvPr/>
          </p:nvSpPr>
          <p:spPr>
            <a:xfrm>
              <a:off x="2209680" y="952560"/>
              <a:ext cx="685800" cy="685440"/>
            </a:xfrm>
            <a:prstGeom prst="rightArrow">
              <a:avLst>
                <a:gd name="adj1" fmla="val 50000"/>
                <a:gd name="adj2" fmla="val 250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304920" y="762120"/>
              <a:ext cx="1752480" cy="1066680"/>
              <a:chOff x="304920" y="762120"/>
              <a:chExt cx="1752480" cy="1066680"/>
            </a:xfrm>
          </p:grpSpPr>
          <p:sp>
            <p:nvSpPr>
              <p:cNvPr id="876" name=""/>
              <p:cNvSpPr/>
              <p:nvPr/>
            </p:nvSpPr>
            <p:spPr>
              <a:xfrm>
                <a:off x="304920" y="762120"/>
                <a:ext cx="175248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32440" y="106668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Défini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2971800" y="762120"/>
              <a:ext cx="5866920" cy="1066680"/>
              <a:chOff x="2971800" y="762120"/>
              <a:chExt cx="5866920" cy="1066680"/>
            </a:xfrm>
          </p:grpSpPr>
          <p:sp>
            <p:nvSpPr>
              <p:cNvPr id="879" name=""/>
              <p:cNvSpPr/>
              <p:nvPr/>
            </p:nvSpPr>
            <p:spPr>
              <a:xfrm>
                <a:off x="2971800" y="762120"/>
                <a:ext cx="586692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050640" y="838080"/>
                <a:ext cx="55501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99"/>
                    </a:solidFill>
                    <a:latin typeface="Times New Roman"/>
                  </a:rPr>
                  <a:t>Immunité des équipements aux rayonnements électro-magnétiques extéri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99"/>
                    </a:solidFill>
                    <a:latin typeface="Times New Roman"/>
                  </a:rPr>
                  <a:t>Limitation des rayonnements propres aux équip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99"/>
                    </a:solidFill>
                    <a:latin typeface="Times New Roman"/>
                  </a:rPr>
                  <a:t>Propagation dans l’air ou par les câbles conduc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"/>
          <p:cNvGrpSpPr/>
          <p:nvPr/>
        </p:nvGrpSpPr>
        <p:grpSpPr>
          <a:xfrm>
            <a:off x="304920" y="1905120"/>
            <a:ext cx="8839080" cy="1066680"/>
            <a:chOff x="304920" y="1905120"/>
            <a:chExt cx="8839080" cy="1066680"/>
          </a:xfrm>
        </p:grpSpPr>
        <p:grpSp>
          <p:nvGrpSpPr>
            <p:cNvPr id="882" name=""/>
            <p:cNvGrpSpPr/>
            <p:nvPr/>
          </p:nvGrpSpPr>
          <p:grpSpPr>
            <a:xfrm>
              <a:off x="304920" y="1905120"/>
              <a:ext cx="1752480" cy="1066680"/>
              <a:chOff x="304920" y="1905120"/>
              <a:chExt cx="1752480" cy="1066680"/>
            </a:xfrm>
          </p:grpSpPr>
          <p:sp>
            <p:nvSpPr>
              <p:cNvPr id="883" name=""/>
              <p:cNvSpPr/>
              <p:nvPr/>
            </p:nvSpPr>
            <p:spPr>
              <a:xfrm>
                <a:off x="304920" y="1905120"/>
                <a:ext cx="175248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10560" y="2133720"/>
                <a:ext cx="107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cc3300"/>
                    </a:solidFill>
                    <a:latin typeface="Times New Roman"/>
                  </a:rPr>
                  <a:t>Nor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cc3300"/>
                    </a:solidFill>
                    <a:latin typeface="Times New Roman"/>
                  </a:rPr>
                  <a:t>Actuel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2209680" y="2095560"/>
              <a:ext cx="6858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2971800" y="1905120"/>
              <a:ext cx="6172200" cy="1066680"/>
              <a:chOff x="2971800" y="1905120"/>
              <a:chExt cx="6172200" cy="1066680"/>
            </a:xfrm>
          </p:grpSpPr>
          <p:sp>
            <p:nvSpPr>
              <p:cNvPr id="887" name=""/>
              <p:cNvSpPr/>
              <p:nvPr/>
            </p:nvSpPr>
            <p:spPr>
              <a:xfrm>
                <a:off x="2971800" y="1905120"/>
                <a:ext cx="586728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184560" y="2057400"/>
                <a:ext cx="5959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cc3300"/>
                    </a:solidFill>
                    <a:latin typeface="Times New Roman"/>
                  </a:rPr>
                  <a:t>Les détecteurs, encadrés par la EN60497 (appareils basse tension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cc3300"/>
                    </a:solidFill>
                    <a:latin typeface="Times New Roman"/>
                  </a:rPr>
                  <a:t>Conformité aux directives européen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cc3300"/>
                    </a:solidFill>
                    <a:latin typeface="Times New Roman"/>
                  </a:rPr>
                  <a:t>Marquage 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9" name=""/>
          <p:cNvGrpSpPr/>
          <p:nvPr/>
        </p:nvGrpSpPr>
        <p:grpSpPr>
          <a:xfrm>
            <a:off x="304920" y="3048120"/>
            <a:ext cx="8533800" cy="1447560"/>
            <a:chOff x="304920" y="3048120"/>
            <a:chExt cx="8533800" cy="1447560"/>
          </a:xfrm>
        </p:grpSpPr>
        <p:sp>
          <p:nvSpPr>
            <p:cNvPr id="890" name=""/>
            <p:cNvSpPr/>
            <p:nvPr/>
          </p:nvSpPr>
          <p:spPr>
            <a:xfrm>
              <a:off x="2209680" y="3428640"/>
              <a:ext cx="685800" cy="685440"/>
            </a:xfrm>
            <a:prstGeom prst="rightArrow">
              <a:avLst>
                <a:gd name="adj1" fmla="val 50000"/>
                <a:gd name="adj2" fmla="val 250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304920" y="3238200"/>
              <a:ext cx="1752480" cy="1066680"/>
              <a:chOff x="304920" y="3238200"/>
              <a:chExt cx="1752480" cy="1066680"/>
            </a:xfrm>
          </p:grpSpPr>
          <p:sp>
            <p:nvSpPr>
              <p:cNvPr id="892" name=""/>
              <p:cNvSpPr/>
              <p:nvPr/>
            </p:nvSpPr>
            <p:spPr>
              <a:xfrm>
                <a:off x="304920" y="3238200"/>
                <a:ext cx="175248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57200" y="3390480"/>
                <a:ext cx="1524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9900"/>
                    </a:solidFill>
                    <a:latin typeface="Times New Roman"/>
                  </a:rPr>
                  <a:t>Contraint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9900"/>
                    </a:solidFill>
                    <a:latin typeface="Times New Roman"/>
                  </a:rPr>
                  <a:t>plus sévè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971800" y="3048120"/>
              <a:ext cx="5866920" cy="1447560"/>
              <a:chOff x="2971800" y="3048120"/>
              <a:chExt cx="5866920" cy="1447560"/>
            </a:xfrm>
          </p:grpSpPr>
          <p:sp>
            <p:nvSpPr>
              <p:cNvPr id="895" name=""/>
              <p:cNvSpPr/>
              <p:nvPr/>
            </p:nvSpPr>
            <p:spPr>
              <a:xfrm>
                <a:off x="2971800" y="3048120"/>
                <a:ext cx="5866920" cy="1447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051000" y="3124080"/>
                <a:ext cx="562896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669900"/>
                    </a:solidFill>
                    <a:latin typeface="Times New Roman"/>
                  </a:rPr>
                  <a:t>Les environnements industriels modernes de plus en plus pollués ou sollicités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669900"/>
                    </a:solidFill>
                    <a:latin typeface="Times New Roman"/>
                  </a:rPr>
                  <a:t>Téléphones portables, Talkies-walkies 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669900"/>
                    </a:solidFill>
                    <a:latin typeface="Times New Roman"/>
                  </a:rPr>
                  <a:t>Réseaux de communication HF, bus de terrain, réseau informatique 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669900"/>
                    </a:solidFill>
                    <a:latin typeface="Times New Roman"/>
                  </a:rPr>
                  <a:t>Variateurs de fréquence, appareils électroniques en général …et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304920" y="4572000"/>
            <a:ext cx="8533800" cy="1218960"/>
            <a:chOff x="304920" y="4572000"/>
            <a:chExt cx="8533800" cy="1218960"/>
          </a:xfrm>
        </p:grpSpPr>
        <p:sp>
          <p:nvSpPr>
            <p:cNvPr id="898" name=""/>
            <p:cNvSpPr/>
            <p:nvPr/>
          </p:nvSpPr>
          <p:spPr>
            <a:xfrm>
              <a:off x="2209680" y="4838760"/>
              <a:ext cx="6858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304920" y="4647960"/>
              <a:ext cx="1752480" cy="1067040"/>
              <a:chOff x="304920" y="4647960"/>
              <a:chExt cx="1752480" cy="1067040"/>
            </a:xfrm>
          </p:grpSpPr>
          <p:sp>
            <p:nvSpPr>
              <p:cNvPr id="900" name=""/>
              <p:cNvSpPr/>
              <p:nvPr/>
            </p:nvSpPr>
            <p:spPr>
              <a:xfrm>
                <a:off x="304920" y="4647960"/>
                <a:ext cx="1752480" cy="1067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09840" y="4724280"/>
                <a:ext cx="1160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Times New Roman"/>
                  </a:rPr>
                  <a:t>Nouvel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Times New Roman"/>
                  </a:rPr>
                  <a:t>Directiv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Times New Roman"/>
                  </a:rPr>
                  <a:t>(proje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971800" y="4572000"/>
              <a:ext cx="5866920" cy="1218960"/>
              <a:chOff x="2971800" y="4572000"/>
              <a:chExt cx="5866920" cy="121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2971800" y="4572000"/>
                <a:ext cx="5866920" cy="121896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124440" y="4724280"/>
                <a:ext cx="5257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Times New Roman"/>
                  </a:rPr>
                  <a:t>Projet d’évolution des directives européen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Times New Roman"/>
                  </a:rPr>
                  <a:t>Fin 200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Times New Roman"/>
                  </a:rPr>
                  <a:t>Normes CEM pour les détecteurs &gt; EN61000 4-6 (?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 – C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2438280" y="3124080"/>
            <a:ext cx="419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81080" y="1371600"/>
            <a:ext cx="46483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Normal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1080" y="3809880"/>
            <a:ext cx="464832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Unicode MS"/>
              </a:rPr>
              <a:t>Microprocesseur In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41520" y="205740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tecteurs A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ouss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4382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o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ndances du march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1295280" y="1371600"/>
            <a:ext cx="662940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jourd’hui, la fonction TEACH (apprentissage) a pu être généralisée grâce à l’introduction des processeu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’intérêt d’un processeur dans un capteur est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tendances du marché – Microprocesseur I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3" descr=""/>
          <p:cNvPicPr/>
          <p:nvPr/>
        </p:nvPicPr>
        <p:blipFill>
          <a:blip r:embed="rId1"/>
          <a:stretch/>
        </p:blipFill>
        <p:spPr>
          <a:xfrm>
            <a:off x="6781680" y="1838160"/>
            <a:ext cx="1371600" cy="134784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990720" y="1676520"/>
            <a:ext cx="586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Sensibilité (plus de potentiomètre à régler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ortée (dans le cas d’une suppression d’A/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Forme ou couleur (si le capteur est conçu po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Mode de fonctionnement (barrage, Réflex, dir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04320" y="838080"/>
            <a:ext cx="77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miter les réglages de la part d’un opérateur </a:t>
            </a:r>
            <a:r>
              <a:rPr b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gain de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tendances du marché – Microprocesseur I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0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477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609480" y="1295280"/>
            <a:ext cx="830592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es paramètres précités sont idéaux, car calculés par le processeur. Par ex, la sensibilité ou la couleur sont calculées sur 8 bits ou plus: A comparer à un réglage grossier par potentiomètr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 cas de modification de l’environnement (encrassement, humidité), le capteur réajuste seul sa sensibilité. Idem en cas de baisse d’intensité de la 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37840" y="914400"/>
            <a:ext cx="62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ptimiser le fonctionnement du capteur </a:t>
            </a:r>
            <a:r>
              <a:rPr b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fi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tendances du marché – Microprocesseur I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2058" descr=""/>
          <p:cNvPicPr/>
          <p:nvPr/>
        </p:nvPicPr>
        <p:blipFill>
          <a:blip r:embed="rId1"/>
          <a:stretch/>
        </p:blipFill>
        <p:spPr>
          <a:xfrm>
            <a:off x="1752480" y="3540240"/>
            <a:ext cx="586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580920" y="11426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e fait on avec un détecteur inductif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 sans contact la position d’un objet métal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orme l’automatisme, par un signal électrique tout ou rien, de l’action à faire en fonction de la position détec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ut être utilisé dans la plupart des applications ou secteurs suivan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strie, bâtiment, véhic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chines outils, assemblages, manutention, chimie,  agroalimentaire, conditionnement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u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rés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tag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indu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014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648320" y="1828800"/>
            <a:ext cx="41907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ifférentes fonctions de calcul peuvent être intégrées: </a:t>
            </a:r>
            <a:br>
              <a:rPr sz="1800"/>
            </a:b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  Comparaison, comptage, différence, 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Un affichage digital peut être géré, permettant d’affiner la lecture de la mesure: A comparer à la simple DEL rouge de détec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591560" y="76212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méliorer les fonctionnalités </a:t>
            </a:r>
            <a:r>
              <a:rPr b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Effica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s tendances du marché – Microprocesseur I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Picture 11" descr=""/>
          <p:cNvPicPr/>
          <p:nvPr/>
        </p:nvPicPr>
        <p:blipFill>
          <a:blip r:embed="rId1"/>
          <a:stretch/>
        </p:blipFill>
        <p:spPr>
          <a:xfrm>
            <a:off x="457200" y="1866960"/>
            <a:ext cx="39117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1932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automatis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43000" y="19051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a fonction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43000" y="35053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 marché de la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143000" y="502920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Quelle détection pour quel secteur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43000" y="5791320"/>
            <a:ext cx="723888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Les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143000" y="2743200"/>
            <a:ext cx="72388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mment se porte la détection en 2003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143000" y="426708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8001000" y="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6" name="Picture 3" descr=""/>
          <p:cNvPicPr/>
          <p:nvPr/>
        </p:nvPicPr>
        <p:blipFill>
          <a:blip r:embed="rId1"/>
          <a:stretch/>
        </p:blipFill>
        <p:spPr>
          <a:xfrm>
            <a:off x="380880" y="503280"/>
            <a:ext cx="8077320" cy="56372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urs documentations techniques, catalogues électroniques ou guide de choix en ligne vous aideront dans vos recherches quotidien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r simple appel téléphonique un technicien conseil vous aidera à déterminer, en fonction des paramètres de votre application, le produit adéquat au plus juste prix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urs technico-commerciaux vous aident à identifier les paramètres importants de votre application "in-situ" et qualifient le produit le mieux adap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ur la résolution d’applications complexes, des prêts de détecteurs sont possi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 Voir définition classification des niveaux de services ci-aprè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5248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 constructeurs propos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ér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iveaux de servi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"/>
          <p:cNvPicPr/>
          <p:nvPr/>
        </p:nvPicPr>
        <p:blipFill>
          <a:blip r:embed="rId1"/>
          <a:stretch/>
        </p:blipFill>
        <p:spPr>
          <a:xfrm>
            <a:off x="431640" y="1467000"/>
            <a:ext cx="7905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9056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79056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5" descr=""/>
          <p:cNvPicPr/>
          <p:nvPr/>
        </p:nvPicPr>
        <p:blipFill>
          <a:blip r:embed="rId4"/>
          <a:stretch/>
        </p:blipFill>
        <p:spPr>
          <a:xfrm>
            <a:off x="446040" y="3321000"/>
            <a:ext cx="79056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6" descr=""/>
          <p:cNvPicPr/>
          <p:nvPr/>
        </p:nvPicPr>
        <p:blipFill>
          <a:blip r:embed="rId5"/>
          <a:stretch/>
        </p:blipFill>
        <p:spPr>
          <a:xfrm>
            <a:off x="457200" y="4114800"/>
            <a:ext cx="79056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7" descr=""/>
          <p:cNvPicPr/>
          <p:nvPr/>
        </p:nvPicPr>
        <p:blipFill>
          <a:blip r:embed="rId6"/>
          <a:stretch/>
        </p:blipFill>
        <p:spPr>
          <a:xfrm>
            <a:off x="380880" y="4952880"/>
            <a:ext cx="892440" cy="495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8" descr=""/>
          <p:cNvPicPr/>
          <p:nvPr/>
        </p:nvPicPr>
        <p:blipFill>
          <a:blip r:embed="rId7"/>
          <a:stretch/>
        </p:blipFill>
        <p:spPr>
          <a:xfrm>
            <a:off x="457200" y="5791320"/>
            <a:ext cx="790560" cy="4953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503360" y="20574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incluant des services standard liés au produ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12720" y="152712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de produits nus, incluant les services de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9520" y="533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9240" indent="-228924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Niveaux d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498680" y="25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incluant des services personnalisés liés au produits dans l’environnement d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33526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incluant des services personnalisés liés à la fonction et des engagements de performanc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40384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incluant un engagement contractuel au niveau du système d’automatis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23880" y="47242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incluant des services avec un engagement contractuel au niveau du système d’automatismes élargi à l’environnement procédé et au système d’information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523880" y="5715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ffre incluant un engagement contractuel à partir d’un besoin exprimé par le client en terme de performance de procéd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1026" descr=""/>
          <p:cNvPicPr/>
          <p:nvPr/>
        </p:nvPicPr>
        <p:blipFill>
          <a:blip r:embed="rId1"/>
          <a:stretch/>
        </p:blipFill>
        <p:spPr>
          <a:xfrm>
            <a:off x="0" y="304920"/>
            <a:ext cx="8217000" cy="580068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352320" y="1676160"/>
            <a:ext cx="5791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ment fonctionne un détecteur capacitif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sé sur un principe électronique produisant un champs électrique sur la face active, le détecteur capacitif mesure la variation de capacité due à la présence d’un obj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Équipé d’un réglage de sensibilité, il permet d’annuler un avant plan (ex : pour traverser une par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29" descr=""/>
          <p:cNvPicPr/>
          <p:nvPr/>
        </p:nvPicPr>
        <p:blipFill>
          <a:blip r:embed="rId1"/>
          <a:stretch/>
        </p:blipFill>
        <p:spPr>
          <a:xfrm>
            <a:off x="304920" y="2608200"/>
            <a:ext cx="2481120" cy="257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capac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81280" y="129528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e fait on avec un détecteur capacitif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 sans contact la position d’un objet métallique ou non métall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orme l’automatisme, par un signal électrique tout ou rien, de l’action à faire en fonction de la position détec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ut être utilisé dans la plupart des applications ou secteur suivants :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emblage, chimie, conditionnement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imentation animal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u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résence (vide - ple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ni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28" descr=""/>
          <p:cNvPicPr/>
          <p:nvPr/>
        </p:nvPicPr>
        <p:blipFill>
          <a:blip r:embed="rId1"/>
          <a:stretch/>
        </p:blipFill>
        <p:spPr>
          <a:xfrm>
            <a:off x="838080" y="4564080"/>
            <a:ext cx="2057400" cy="183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capac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7780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4114800"/>
            <a:ext cx="2819520" cy="170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577880"/>
            <a:ext cx="2543040" cy="1924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59160" y="1676520"/>
            <a:ext cx="570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barrière émetteur / récepteur se compose de deux appareil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) un émetteur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) un récepteur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oupure du faisceau par l’objet à détecter déclenche un signal de commutation.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41520" y="4191120"/>
            <a:ext cx="572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barrière sur réflecteur se compose d'un seul capt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lumière émise est renvoyée par un réflecteur, réceptionnée et analysée par l'appare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interruption du trajet optique,c’est-à-dire l’absence de réflexion, déclenche un signal de comm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2895480" y="4114800"/>
            <a:ext cx="478080" cy="53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4"/>
          <a:stretch/>
        </p:blipFill>
        <p:spPr>
          <a:xfrm>
            <a:off x="2744640" y="1600200"/>
            <a:ext cx="455760" cy="492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 : les barri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0" y="2666880"/>
            <a:ext cx="1752480" cy="132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38440" y="4092480"/>
            <a:ext cx="382680" cy="192240"/>
          </a:xfrm>
          <a:custGeom>
            <a:avLst/>
            <a:gdLst/>
            <a:ahLst/>
            <a:rect l="l" t="t" r="r" b="b"/>
            <a:pathLst>
              <a:path w="261" h="121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88"/>
                </a:lnTo>
                <a:lnTo>
                  <a:pt x="8" y="80"/>
                </a:lnTo>
                <a:lnTo>
                  <a:pt x="8" y="64"/>
                </a:lnTo>
                <a:lnTo>
                  <a:pt x="17" y="48"/>
                </a:lnTo>
                <a:lnTo>
                  <a:pt x="17" y="32"/>
                </a:lnTo>
                <a:lnTo>
                  <a:pt x="26" y="24"/>
                </a:lnTo>
                <a:lnTo>
                  <a:pt x="34" y="16"/>
                </a:lnTo>
                <a:lnTo>
                  <a:pt x="43" y="8"/>
                </a:lnTo>
                <a:lnTo>
                  <a:pt x="52" y="0"/>
                </a:lnTo>
                <a:lnTo>
                  <a:pt x="60" y="0"/>
                </a:lnTo>
                <a:lnTo>
                  <a:pt x="69" y="0"/>
                </a:lnTo>
                <a:lnTo>
                  <a:pt x="86" y="8"/>
                </a:lnTo>
                <a:lnTo>
                  <a:pt x="95" y="16"/>
                </a:lnTo>
                <a:lnTo>
                  <a:pt x="112" y="16"/>
                </a:lnTo>
                <a:lnTo>
                  <a:pt x="130" y="24"/>
                </a:lnTo>
                <a:lnTo>
                  <a:pt x="147" y="24"/>
                </a:lnTo>
                <a:lnTo>
                  <a:pt x="173" y="24"/>
                </a:lnTo>
                <a:lnTo>
                  <a:pt x="190" y="16"/>
                </a:lnTo>
                <a:lnTo>
                  <a:pt x="208" y="24"/>
                </a:lnTo>
                <a:lnTo>
                  <a:pt x="216" y="24"/>
                </a:lnTo>
                <a:lnTo>
                  <a:pt x="225" y="32"/>
                </a:lnTo>
                <a:lnTo>
                  <a:pt x="234" y="48"/>
                </a:lnTo>
                <a:lnTo>
                  <a:pt x="234" y="64"/>
                </a:lnTo>
                <a:lnTo>
                  <a:pt x="234" y="72"/>
                </a:lnTo>
                <a:lnTo>
                  <a:pt x="242" y="80"/>
                </a:lnTo>
                <a:lnTo>
                  <a:pt x="251" y="80"/>
                </a:lnTo>
                <a:lnTo>
                  <a:pt x="260" y="80"/>
                </a:lnTo>
                <a:lnTo>
                  <a:pt x="234" y="80"/>
                </a:lnTo>
                <a:lnTo>
                  <a:pt x="182" y="88"/>
                </a:lnTo>
                <a:lnTo>
                  <a:pt x="112" y="104"/>
                </a:lnTo>
                <a:lnTo>
                  <a:pt x="17" y="120"/>
                </a:lnTo>
                <a:lnTo>
                  <a:pt x="0" y="1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286000"/>
            <a:ext cx="7162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vantages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nde portée : jusqu’à 300m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roduits très réfléchissant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etits objets sur de grandes distances (avec utilisation de diaphragmes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nne répétitivité de la détection due à la forme bien définie du faisceau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te puissance permettant une utilisation dans de mauvaises conditions (Pluie, brouillard, fumée, poussières 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nconvénients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ule contrainte : le montage de deux élément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ignement précis de l'émetteur et du réce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ilité de réflexions para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366920" y="3013200"/>
            <a:ext cx="385560" cy="415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609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ue fait-on avec une barrière émetteur / récepte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538440" y="4092480"/>
            <a:ext cx="382680" cy="192240"/>
          </a:xfrm>
          <a:custGeom>
            <a:avLst/>
            <a:gdLst/>
            <a:ahLst/>
            <a:rect l="l" t="t" r="r" b="b"/>
            <a:pathLst>
              <a:path w="261" h="121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88"/>
                </a:lnTo>
                <a:lnTo>
                  <a:pt x="8" y="80"/>
                </a:lnTo>
                <a:lnTo>
                  <a:pt x="8" y="64"/>
                </a:lnTo>
                <a:lnTo>
                  <a:pt x="17" y="48"/>
                </a:lnTo>
                <a:lnTo>
                  <a:pt x="17" y="32"/>
                </a:lnTo>
                <a:lnTo>
                  <a:pt x="26" y="24"/>
                </a:lnTo>
                <a:lnTo>
                  <a:pt x="34" y="16"/>
                </a:lnTo>
                <a:lnTo>
                  <a:pt x="43" y="8"/>
                </a:lnTo>
                <a:lnTo>
                  <a:pt x="52" y="0"/>
                </a:lnTo>
                <a:lnTo>
                  <a:pt x="60" y="0"/>
                </a:lnTo>
                <a:lnTo>
                  <a:pt x="69" y="0"/>
                </a:lnTo>
                <a:lnTo>
                  <a:pt x="86" y="8"/>
                </a:lnTo>
                <a:lnTo>
                  <a:pt x="95" y="16"/>
                </a:lnTo>
                <a:lnTo>
                  <a:pt x="112" y="16"/>
                </a:lnTo>
                <a:lnTo>
                  <a:pt x="130" y="24"/>
                </a:lnTo>
                <a:lnTo>
                  <a:pt x="147" y="24"/>
                </a:lnTo>
                <a:lnTo>
                  <a:pt x="173" y="24"/>
                </a:lnTo>
                <a:lnTo>
                  <a:pt x="190" y="16"/>
                </a:lnTo>
                <a:lnTo>
                  <a:pt x="208" y="24"/>
                </a:lnTo>
                <a:lnTo>
                  <a:pt x="216" y="24"/>
                </a:lnTo>
                <a:lnTo>
                  <a:pt x="225" y="32"/>
                </a:lnTo>
                <a:lnTo>
                  <a:pt x="234" y="48"/>
                </a:lnTo>
                <a:lnTo>
                  <a:pt x="234" y="64"/>
                </a:lnTo>
                <a:lnTo>
                  <a:pt x="234" y="72"/>
                </a:lnTo>
                <a:lnTo>
                  <a:pt x="242" y="80"/>
                </a:lnTo>
                <a:lnTo>
                  <a:pt x="251" y="80"/>
                </a:lnTo>
                <a:lnTo>
                  <a:pt x="260" y="80"/>
                </a:lnTo>
                <a:lnTo>
                  <a:pt x="234" y="80"/>
                </a:lnTo>
                <a:lnTo>
                  <a:pt x="182" y="88"/>
                </a:lnTo>
                <a:lnTo>
                  <a:pt x="112" y="104"/>
                </a:lnTo>
                <a:lnTo>
                  <a:pt x="17" y="120"/>
                </a:lnTo>
                <a:lnTo>
                  <a:pt x="0" y="1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523880"/>
            <a:ext cx="7162920" cy="6098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ue fait-on avec une barrière sur réflecte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514600"/>
            <a:ext cx="72388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vantages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Émetteur &amp; Récepteur dans un seul boî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lution &amp; montage économiques : moins de câbles et fixation d’un seul boî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justage simple sur réflecteur (+/- 15° par rapport à l’axe op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nconvénients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 de sûreté de détection de petits objets à grande di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auf si source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ible aux objets réfléchissants (sauf si filtre de polaris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ns les cas de produits transparents, l’utilisation de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 spécial verre » est recommand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34" descr=""/>
          <p:cNvPicPr/>
          <p:nvPr/>
        </p:nvPicPr>
        <p:blipFill>
          <a:blip r:embed="rId1"/>
          <a:stretch/>
        </p:blipFill>
        <p:spPr>
          <a:xfrm>
            <a:off x="0" y="2590920"/>
            <a:ext cx="1752480" cy="1060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35" descr=""/>
          <p:cNvPicPr/>
          <p:nvPr/>
        </p:nvPicPr>
        <p:blipFill>
          <a:blip r:embed="rId2"/>
          <a:stretch/>
        </p:blipFill>
        <p:spPr>
          <a:xfrm>
            <a:off x="0" y="2590920"/>
            <a:ext cx="341280" cy="380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257560" cy="150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1600200"/>
            <a:ext cx="59436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Principe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lumière détectée par le récepteur provient de l’obje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nature de l’objet et en particulier ses propriétés d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é-émission auront une influence sur les performances de déte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l existe deux principes de détec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tilisation d’un capteur énergé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tilisation de la trian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22280" cy="457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 : le détecteur direc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8920" y="1295280"/>
            <a:ext cx="6103800" cy="6098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étecteur 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5257800"/>
            <a:ext cx="574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a distance de détection dép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 la couleur et de l’aspect de l’obj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228600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objet renvoie suffisamment de lumiè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sortie est acti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1676520" y="2286000"/>
            <a:ext cx="1780920" cy="685800"/>
            <a:chOff x="1676520" y="2286000"/>
            <a:chExt cx="1780920" cy="685800"/>
          </a:xfrm>
        </p:grpSpPr>
        <p:pic>
          <p:nvPicPr>
            <p:cNvPr id="168" name="Picture 13" descr=""/>
            <p:cNvPicPr/>
            <p:nvPr/>
          </p:nvPicPr>
          <p:blipFill>
            <a:blip r:embed="rId1"/>
            <a:stretch/>
          </p:blipFill>
          <p:spPr>
            <a:xfrm>
              <a:off x="1676520" y="2286000"/>
              <a:ext cx="17809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467080" y="2604960"/>
              <a:ext cx="753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665360" y="3870360"/>
            <a:ext cx="1752480" cy="838080"/>
            <a:chOff x="1665360" y="3870360"/>
            <a:chExt cx="1752480" cy="838080"/>
          </a:xfrm>
        </p:grpSpPr>
        <p:pic>
          <p:nvPicPr>
            <p:cNvPr id="171" name="Picture 16" descr=""/>
            <p:cNvPicPr/>
            <p:nvPr/>
          </p:nvPicPr>
          <p:blipFill>
            <a:blip r:embed="rId2"/>
            <a:stretch/>
          </p:blipFill>
          <p:spPr>
            <a:xfrm>
              <a:off x="1665360" y="3870360"/>
              <a:ext cx="17524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467080" y="4307040"/>
              <a:ext cx="73188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505320" y="3886200"/>
            <a:ext cx="5105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objet ne renvoie pas suffisamment de lumiè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sortie est désactiv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 : le détecteur direc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1143000"/>
            <a:ext cx="723888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La fonction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26708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ndances du march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Quelle détection pour quel secteur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02920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981080"/>
            <a:ext cx="72388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mment se porte la détection en 2003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74320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03360" y="1295280"/>
            <a:ext cx="4988160" cy="6098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Utilisation de la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133720"/>
            <a:ext cx="8086680" cy="91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Principe opt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émetteur envoie un faisceau vers l’objet . Celui-ci renvoie la lumière qui est reçue selon une orientation particulièr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6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3429000" cy="1335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09480" y="487692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avantage d’un tel capteur est de s’affranchir de l’arrière plan ou de l’avant plan et ce même si ce dernier est plus réfléchissant que l’objet à détec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 : le détecteur direc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3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3048120" cy="202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4237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010640" cy="6098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fait-on avec un détecteur direc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057400"/>
            <a:ext cx="327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vantages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seul appar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 de réfl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ible coût de mo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505320"/>
            <a:ext cx="4952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nconvénients 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tance de détection dépend de la nature de l’objet sauf pour les détecteurs par triang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us faibles port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fficultés sur objets brillants (verre, métal) sauf pour détecteurs par trian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838080" y="1306440"/>
            <a:ext cx="820800" cy="1055520"/>
            <a:chOff x="838080" y="1306440"/>
            <a:chExt cx="820800" cy="1055520"/>
          </a:xfrm>
        </p:grpSpPr>
        <p:sp>
          <p:nvSpPr>
            <p:cNvPr id="190" name=""/>
            <p:cNvSpPr/>
            <p:nvPr/>
          </p:nvSpPr>
          <p:spPr>
            <a:xfrm>
              <a:off x="838080" y="1306440"/>
              <a:ext cx="802800" cy="500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26640" y="1561680"/>
              <a:ext cx="75960" cy="9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0560" y="1708920"/>
              <a:ext cx="172800" cy="69840"/>
            </a:xfrm>
            <a:prstGeom prst="leftArrow">
              <a:avLst>
                <a:gd name="adj1" fmla="val 50000"/>
                <a:gd name="adj2" fmla="val 1237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85360" y="1362240"/>
              <a:ext cx="72000" cy="12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26640" y="1694160"/>
              <a:ext cx="75960" cy="9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3800" y="1574280"/>
              <a:ext cx="172800" cy="73800"/>
            </a:xfrm>
            <a:prstGeom prst="rightArrow">
              <a:avLst>
                <a:gd name="adj1" fmla="val 50000"/>
                <a:gd name="adj2" fmla="val 117084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142640" y="1613880"/>
              <a:ext cx="194760" cy="129960"/>
              <a:chOff x="1142640" y="1613880"/>
              <a:chExt cx="194760" cy="129960"/>
            </a:xfrm>
          </p:grpSpPr>
          <p:sp>
            <p:nvSpPr>
              <p:cNvPr id="197" name=""/>
              <p:cNvSpPr/>
              <p:nvPr/>
            </p:nvSpPr>
            <p:spPr>
              <a:xfrm>
                <a:off x="1142640" y="1613880"/>
                <a:ext cx="194400" cy="1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5" y="0"/>
                    </a:moveTo>
                    <a:arcTo wR="10800" hR="10800" stAng="-5417629" swAng="54176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5" y="0"/>
                    </a:moveTo>
                    <a:arcTo wR="10800" hR="10800" stAng="-5417629" swAng="541762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0800000">
                <a:off x="1143360" y="1613880"/>
                <a:ext cx="194040" cy="1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23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2371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 flipH="1">
              <a:off x="1311840" y="1424160"/>
              <a:ext cx="1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98080" y="1424520"/>
              <a:ext cx="221400" cy="13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4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444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0800000">
              <a:off x="1200240" y="1420920"/>
              <a:ext cx="221040" cy="13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1" y="0"/>
                  </a:moveTo>
                  <a:arcTo wR="10800" hR="10800" stAng="-5415556" swAng="5415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1" y="0"/>
                  </a:moveTo>
                  <a:arcTo wR="10800" hR="10800" stAng="-5415556" swAng="541555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05360" y="155664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305360" y="1557000"/>
              <a:ext cx="234720" cy="126360"/>
              <a:chOff x="1305360" y="1557000"/>
              <a:chExt cx="234720" cy="126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305360" y="1557000"/>
                <a:ext cx="22824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3" y="0"/>
                    </a:moveTo>
                    <a:arcTo wR="10800" hR="10800" stAng="-5415070" swAng="53965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3" y="0"/>
                    </a:moveTo>
                    <a:arcTo wR="10800" hR="10800" stAng="-5415070" swAng="5396597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312200" y="1557000"/>
                <a:ext cx="227880" cy="1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2"/>
                    </a:moveTo>
                    <a:arcTo wR="10800" hR="10800" stAng="-10781608" swAng="53665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2"/>
                    </a:moveTo>
                    <a:arcTo wR="10800" hR="10800" stAng="-10781608" swAng="5366537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338120" y="1679040"/>
              <a:ext cx="8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6080" y="1861200"/>
              <a:ext cx="802800" cy="500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24840" y="1985040"/>
              <a:ext cx="74880" cy="9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8400" y="2131920"/>
              <a:ext cx="172440" cy="69840"/>
            </a:xfrm>
            <a:prstGeom prst="leftArrow">
              <a:avLst>
                <a:gd name="adj1" fmla="val 50000"/>
                <a:gd name="adj2" fmla="val 123442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24840" y="2117520"/>
              <a:ext cx="74880" cy="9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0920" y="1997640"/>
              <a:ext cx="173520" cy="73800"/>
            </a:xfrm>
            <a:prstGeom prst="rightArrow">
              <a:avLst>
                <a:gd name="adj1" fmla="val 50000"/>
                <a:gd name="adj2" fmla="val 11757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230120" y="1921680"/>
              <a:ext cx="251640" cy="126000"/>
              <a:chOff x="1230120" y="1921680"/>
              <a:chExt cx="251640" cy="126000"/>
            </a:xfrm>
          </p:grpSpPr>
          <p:sp>
            <p:nvSpPr>
              <p:cNvPr id="213" name=""/>
              <p:cNvSpPr/>
              <p:nvPr/>
            </p:nvSpPr>
            <p:spPr>
              <a:xfrm>
                <a:off x="1230120" y="203760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33000" y="1964160"/>
                <a:ext cx="12384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78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78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356840" y="1949400"/>
                <a:ext cx="0" cy="5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57560" y="1921680"/>
                <a:ext cx="1242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2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216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57200" y="1921680"/>
                <a:ext cx="12384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3" y="0"/>
                    </a:moveTo>
                    <a:arcTo wR="10800" hR="10800" stAng="-5427836" swAng="54278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3" y="0"/>
                    </a:moveTo>
                    <a:arcTo wR="10800" hR="10800" stAng="-5427836" swAng="54278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1955880"/>
                <a:ext cx="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230120" y="2156040"/>
              <a:ext cx="257760" cy="127800"/>
              <a:chOff x="1230120" y="2156040"/>
              <a:chExt cx="257760" cy="127800"/>
            </a:xfrm>
          </p:grpSpPr>
          <p:sp>
            <p:nvSpPr>
              <p:cNvPr id="220" name=""/>
              <p:cNvSpPr/>
              <p:nvPr/>
            </p:nvSpPr>
            <p:spPr>
              <a:xfrm>
                <a:off x="1230120" y="216612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1240560" y="2168280"/>
                <a:ext cx="12348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3" y="21600"/>
                    </a:moveTo>
                    <a:arcTo wR="10800" hR="10800" stAng="5427836" swAng="5372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3" y="21600"/>
                    </a:moveTo>
                    <a:arcTo wR="10800" hR="10800" stAng="5427836" swAng="537216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56840" y="2200680"/>
                <a:ext cx="0" cy="5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363680" y="2211480"/>
                <a:ext cx="12384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3" y="0"/>
                    </a:moveTo>
                    <a:arcTo wR="10800" hR="10800" stAng="-5427836" swAng="54278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3" y="0"/>
                    </a:moveTo>
                    <a:arcTo wR="10800" hR="10800" stAng="-5427836" swAng="54278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364400" y="2211480"/>
                <a:ext cx="12348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2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216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1480680" y="2156040"/>
                <a:ext cx="0" cy="9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398240" y="2084040"/>
              <a:ext cx="45000" cy="29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37040" y="2084040"/>
              <a:ext cx="44280" cy="29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63760" y="2084040"/>
              <a:ext cx="45000" cy="29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8920" y="2084040"/>
              <a:ext cx="45000" cy="29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676520" y="1295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 fibres optiques en verre ou en plastique sont utilisée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ur conduire la 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2" descr=""/>
          <p:cNvPicPr/>
          <p:nvPr/>
        </p:nvPicPr>
        <p:blipFill>
          <a:blip r:embed="rId1"/>
          <a:stretch/>
        </p:blipFill>
        <p:spPr>
          <a:xfrm>
            <a:off x="6324480" y="3429000"/>
            <a:ext cx="2514600" cy="1825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allation facile en l’absence de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unité de traitement est déporté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érêt en environnements hostiles (Ex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ible poids (robo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ensibilité aux perturbations électromagné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tilisation possible à température élevée (ver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ésistance aux agressions chimiques (ver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 Détecteur à fibres op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3" descr=""/>
          <p:cNvPicPr/>
          <p:nvPr/>
        </p:nvPicPr>
        <p:blipFill>
          <a:blip r:embed="rId1"/>
          <a:stretch/>
        </p:blipFill>
        <p:spPr>
          <a:xfrm>
            <a:off x="4191120" y="4267080"/>
            <a:ext cx="4178160" cy="1177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1905120"/>
            <a:ext cx="4495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convén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énuation de la lumière dans la 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ible à la poussiè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nd angle d’ouverture (60°). La taille du spot dépend de la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 Détecteur à fibres op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733920" y="2437920"/>
            <a:ext cx="54100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sé sur une détection mécan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, par une tête, la position d’un objet durant un mou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orme l’automatisme, par un contact ,  sur l’action à faire, en fonction de la position détec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5720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rupteurs De Position ( I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04560" y="2438280"/>
            <a:ext cx="4043160" cy="3747960"/>
            <a:chOff x="304560" y="2438280"/>
            <a:chExt cx="4043160" cy="3747960"/>
          </a:xfrm>
        </p:grpSpPr>
        <p:sp>
          <p:nvSpPr>
            <p:cNvPr id="244" name=""/>
            <p:cNvSpPr/>
            <p:nvPr/>
          </p:nvSpPr>
          <p:spPr>
            <a:xfrm rot="3110400">
              <a:off x="1546200" y="3095280"/>
              <a:ext cx="1956240" cy="266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46720" y="4322520"/>
              <a:ext cx="938880" cy="11944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83480" y="2438280"/>
              <a:ext cx="1435320" cy="532080"/>
            </a:xfrm>
            <a:custGeom>
              <a:avLst/>
              <a:gdLst>
                <a:gd name="textAreaLeft" fmla="*/ 0 w 1435320"/>
                <a:gd name="textAreaRight" fmla="*/ 1435320 w 1435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680" y="2438280"/>
              <a:ext cx="1435320" cy="532080"/>
            </a:xfrm>
            <a:custGeom>
              <a:avLst/>
              <a:gdLst>
                <a:gd name="textAreaLeft" fmla="*/ 0 w 1435320"/>
                <a:gd name="textAreaRight" fmla="*/ 1435320 w 1435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22480" y="3717360"/>
              <a:ext cx="497520" cy="4554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2220000">
              <a:off x="2660040" y="3116880"/>
              <a:ext cx="344880" cy="356040"/>
            </a:xfrm>
            <a:custGeom>
              <a:avLst/>
              <a:gdLst>
                <a:gd name="textAreaLeft" fmla="*/ 75600 w 344880"/>
                <a:gd name="textAreaRight" fmla="*/ 269280 w 344880"/>
                <a:gd name="textAreaTop" fmla="*/ 78120 h 356040"/>
                <a:gd name="textAreaBottom" fmla="*/ 277920 h 35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220000">
              <a:off x="2757600" y="3024720"/>
              <a:ext cx="312840" cy="33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2220000">
              <a:off x="2249640" y="3794760"/>
              <a:ext cx="60120" cy="42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220000">
              <a:off x="2870280" y="3166200"/>
              <a:ext cx="93600" cy="9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220000">
              <a:off x="2347920" y="3417840"/>
              <a:ext cx="316440" cy="62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220000">
              <a:off x="2442600" y="4158000"/>
              <a:ext cx="60480" cy="115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2220000">
              <a:off x="2034000" y="3852720"/>
              <a:ext cx="60120" cy="33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2220000">
              <a:off x="2286720" y="3740400"/>
              <a:ext cx="60120" cy="42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220000">
              <a:off x="2099160" y="3912840"/>
              <a:ext cx="60120" cy="86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2110680" y="2908800"/>
              <a:ext cx="371880" cy="1013400"/>
              <a:chOff x="2110680" y="2908800"/>
              <a:chExt cx="371880" cy="101340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2147760" y="2999520"/>
                <a:ext cx="302040" cy="313560"/>
              </a:xfrm>
              <a:custGeom>
                <a:avLst/>
                <a:gdLst>
                  <a:gd name="textAreaLeft" fmla="*/ 66240 w 302040"/>
                  <a:gd name="textAreaRight" fmla="*/ 235800 w 302040"/>
                  <a:gd name="textAreaTop" fmla="*/ 68760 h 313560"/>
                  <a:gd name="textAreaBottom" fmla="*/ 244800 h 31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61800" y="2908800"/>
                <a:ext cx="276480" cy="292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74480" y="3680640"/>
                <a:ext cx="33120" cy="233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58640" y="3011760"/>
                <a:ext cx="82440" cy="84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47760" y="3322080"/>
                <a:ext cx="302040" cy="5997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35400" y="3830400"/>
                <a:ext cx="47160" cy="91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48840" y="3830400"/>
                <a:ext cx="15480" cy="87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4480" y="3631680"/>
                <a:ext cx="41760" cy="29052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1320" y="3851280"/>
                <a:ext cx="29160" cy="43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44960" y="3693960"/>
                <a:ext cx="99000" cy="10620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10680" y="3851280"/>
                <a:ext cx="30240" cy="43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049480" y="4613760"/>
              <a:ext cx="469440" cy="66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6160" y="4326480"/>
              <a:ext cx="76680" cy="68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48120" y="5115960"/>
              <a:ext cx="321840" cy="1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98240" y="5231520"/>
              <a:ext cx="871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06160" y="5253120"/>
              <a:ext cx="7668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6160" y="5311800"/>
              <a:ext cx="7668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06160" y="5363280"/>
              <a:ext cx="766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06160" y="5406840"/>
              <a:ext cx="766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06160" y="5443920"/>
              <a:ext cx="7668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48120" y="4862880"/>
              <a:ext cx="321840" cy="1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63480" y="4823280"/>
              <a:ext cx="23472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50640" y="4823280"/>
              <a:ext cx="23832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63480" y="4784040"/>
              <a:ext cx="22428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4920" y="4775400"/>
              <a:ext cx="246240" cy="1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50640" y="4784040"/>
              <a:ext cx="22428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12320" y="4777200"/>
              <a:ext cx="262800" cy="1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45600" y="5115960"/>
              <a:ext cx="22716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64920" y="5115960"/>
              <a:ext cx="22428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67440" y="5226120"/>
              <a:ext cx="22428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67440" y="5262840"/>
              <a:ext cx="246240" cy="1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5600" y="5226120"/>
              <a:ext cx="227160" cy="63720"/>
            </a:xfrm>
            <a:prstGeom prst="roundRect">
              <a:avLst>
                <a:gd name="adj" fmla="val 12495"/>
              </a:avLst>
            </a:prstGeom>
            <a:solidFill>
              <a:srgbClr val="cc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914840" y="5262840"/>
              <a:ext cx="262800" cy="10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rot="16200000">
              <a:off x="2439720" y="4421160"/>
              <a:ext cx="131400" cy="65160"/>
            </a:xfrm>
            <a:prstGeom prst="rightArrow">
              <a:avLst>
                <a:gd name="adj1" fmla="val 50000"/>
                <a:gd name="adj2" fmla="val 10083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5000" y="2529360"/>
              <a:ext cx="487440" cy="379440"/>
            </a:xfrm>
            <a:prstGeom prst="rightArrow">
              <a:avLst>
                <a:gd name="adj1" fmla="val 50000"/>
                <a:gd name="adj2" fmla="val 64237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7280" y="5215320"/>
              <a:ext cx="74160" cy="7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02240" y="5215320"/>
              <a:ext cx="74160" cy="7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17280" y="4725360"/>
              <a:ext cx="74160" cy="78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2240" y="4725360"/>
              <a:ext cx="74160" cy="78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9040" y="5002920"/>
              <a:ext cx="3790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3360" y="4462560"/>
              <a:ext cx="3700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48520" y="5002920"/>
              <a:ext cx="3790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44560" y="4462560"/>
              <a:ext cx="3700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4480" y="4987800"/>
              <a:ext cx="402480" cy="42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echnical LH PiTwo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982080" y="5266800"/>
              <a:ext cx="656640" cy="1440"/>
            </a:xfrm>
            <a:prstGeom prst="line">
              <a:avLst/>
            </a:prstGeom>
            <a:ln w="5076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04560" y="5266800"/>
              <a:ext cx="137160" cy="144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5440" y="5288760"/>
              <a:ext cx="1080" cy="82980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0480" y="6156720"/>
              <a:ext cx="2432880" cy="144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31840" y="5266800"/>
              <a:ext cx="4345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25480" y="5220360"/>
              <a:ext cx="74160" cy="78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25480" y="6107760"/>
              <a:ext cx="74160" cy="7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70440" y="5367600"/>
              <a:ext cx="1277280" cy="679680"/>
            </a:xfrm>
            <a:prstGeom prst="roundRect">
              <a:avLst>
                <a:gd name="adj" fmla="val 12495"/>
              </a:avLst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 </a:t>
              </a: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électr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 le circuit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ôl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chine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258920" y="4771440"/>
              <a:ext cx="443880" cy="1440"/>
            </a:xfrm>
            <a:prstGeom prst="line">
              <a:avLst/>
            </a:prstGeom>
            <a:ln w="5076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8800" y="4793400"/>
              <a:ext cx="1080" cy="486720"/>
            </a:xfrm>
            <a:prstGeom prst="line">
              <a:avLst/>
            </a:prstGeom>
            <a:ln w="5076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7840" y="5239440"/>
              <a:ext cx="60120" cy="6372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31840" y="4771440"/>
              <a:ext cx="4345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5480" y="4719960"/>
              <a:ext cx="74160" cy="7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230480" y="3770280"/>
            <a:ext cx="841320" cy="459000"/>
          </a:xfrm>
          <a:prstGeom prst="rightArrow">
            <a:avLst>
              <a:gd name="adj1" fmla="val 50000"/>
              <a:gd name="adj2" fmla="val 458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ê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68560" y="4861080"/>
            <a:ext cx="1096920" cy="396720"/>
          </a:xfrm>
          <a:prstGeom prst="leftArrow">
            <a:avLst>
              <a:gd name="adj1" fmla="val 50000"/>
              <a:gd name="adj2" fmla="val 691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23960" y="5491080"/>
            <a:ext cx="1444680" cy="444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4495680"/>
            <a:ext cx="4191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eut être utilisé dans la plupart des applications ou secteur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3366"/>
              </a:buClr>
              <a:buFont typeface="Arial"/>
              <a:buChar char="-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étection de position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3366"/>
              </a:buClr>
              <a:buFont typeface="Arial"/>
              <a:buChar char="-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fin de course ou sur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3366"/>
              </a:buClr>
              <a:buFont typeface="Arial"/>
              <a:buChar char="-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écurité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209680" y="1218960"/>
            <a:ext cx="4572000" cy="609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ue fait-on avec un IDP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276720" y="2514600"/>
            <a:ext cx="5333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sé sur un principe électronique produisant une impulsion ultrasonique sur un objet réfléchissant, le détecteur mesure le temps que met  cette impulsion pour lui reven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Équipé d’un réglage, il permet une détection dans une zone détermin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ultra 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Object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2686320" cy="1600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98520" y="1676520"/>
            <a:ext cx="6956280" cy="42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ent fonctionne un détecteur ultra s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45720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505320" y="1981080"/>
            <a:ext cx="5333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 sans contact la présence d’un objet ou d’un fl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orme l’automatisme, par un signal électrique tout ou rien, de l’action à faire en fonction de la position détec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ut être utilisé dans la plupart des applications ou secteurs suivan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strie, bât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emblages, manutention,chimie, agroalimentaire, conditionnement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u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rés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ni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3520" y="2819520"/>
            <a:ext cx="3124080" cy="1600200"/>
            <a:chOff x="533520" y="2819520"/>
            <a:chExt cx="3124080" cy="160020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533520" y="2819520"/>
              <a:ext cx="31240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 txBox="1"/>
            <p:nvPr/>
          </p:nvSpPr>
          <p:spPr>
            <a:xfrm>
              <a:off x="533520" y="2819520"/>
              <a:ext cx="312408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450440" y="1371600"/>
            <a:ext cx="62812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ue fait-on avec un détecteur ultra s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ultra 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352320" y="1371600"/>
            <a:ext cx="54104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ment fonctionne un détecteur magnétiqu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asé sur un principe électronique ou mécanique  détectant la présence d’un champs magnétique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Que fait on avec un détecteur magnétiqu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étecte sans contact la position d’un aimant permanent mobile à travers une pa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forme l’automatisme, par un signal électrique tout ou rien, de l’action à faire en fonction de la position détect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eut être utilisé dans la plupart des applications ou secteurs suiva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dustrie, bâtiment, véhic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chines outils, assemblages, manutention, chimie,  agroalimentaire, conditionnement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étection de position des vérins pneum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étection de présence et de nive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mptage, passag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pteurs magné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1133640" y="4172040"/>
            <a:ext cx="1533240" cy="1238040"/>
          </a:xfrm>
          <a:prstGeom prst="rect">
            <a:avLst/>
          </a:prstGeom>
          <a:ln w="0">
            <a:noFill/>
          </a:ln>
        </p:spPr>
      </p:pic>
      <p:pic>
        <p:nvPicPr>
          <p:cNvPr id="338" name="Object 5" descr=""/>
          <p:cNvPicPr/>
          <p:nvPr/>
        </p:nvPicPr>
        <p:blipFill>
          <a:blip r:embed="rId2"/>
          <a:stretch/>
        </p:blipFill>
        <p:spPr>
          <a:xfrm>
            <a:off x="838080" y="5467320"/>
            <a:ext cx="1704960" cy="1162080"/>
          </a:xfrm>
          <a:prstGeom prst="rect">
            <a:avLst/>
          </a:prstGeom>
          <a:ln w="0">
            <a:noFill/>
          </a:ln>
        </p:spPr>
      </p:pic>
      <p:pic>
        <p:nvPicPr>
          <p:cNvPr id="339" name="Object 6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onnaissanc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8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8776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76520" y="2666880"/>
            <a:ext cx="6324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hoix d'une technologie de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1523880"/>
            <a:ext cx="63244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nnaissances de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302000"/>
            <a:ext cx="63244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oix d'un détecteur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dans une technologie don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75248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nombreux critères à intég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3220920" y="2913120"/>
            <a:ext cx="4932360" cy="1963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403280" y="4495680"/>
            <a:ext cx="1656000" cy="517680"/>
          </a:xfrm>
          <a:prstGeom prst="wedgeRoundRectCallout">
            <a:avLst>
              <a:gd name="adj1" fmla="val 100717"/>
              <a:gd name="adj2" fmla="val -1447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tection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5029200"/>
            <a:ext cx="3016080" cy="920880"/>
          </a:xfrm>
          <a:prstGeom prst="wedgeEllipseCallout">
            <a:avLst>
              <a:gd name="adj1" fmla="val 11314"/>
              <a:gd name="adj2" fmla="val -14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Sortie et raccordement 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1844640"/>
            <a:ext cx="1584360" cy="1235160"/>
          </a:xfrm>
          <a:prstGeom prst="wedgeRoundRectCallout">
            <a:avLst>
              <a:gd name="adj1" fmla="val 12925"/>
              <a:gd name="adj2" fmla="val 7699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t ou grandeur à déte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hoix d'un dét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1125360"/>
            <a:ext cx="3801960" cy="1312920"/>
          </a:xfrm>
          <a:prstGeom prst="cloudCallout">
            <a:avLst>
              <a:gd name="adj1" fmla="val -51041"/>
              <a:gd name="adj2" fmla="val 1021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 Adaptation à l’environnement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63640" y="3500280"/>
            <a:ext cx="935280" cy="72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686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er maillon dans la chaîne d'information d’un processus industriel, la fonction « détection » est ess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79640" y="2492280"/>
            <a:ext cx="64771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us les événements nécessaires au fonctionnement sûr d’un système automatique doivent être détectés. Les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détecteur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assurent la prise d’informations dans ce systè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n détecteur délivre un signal logique (tout ou rien). L’ensemble des signaux logiques délivrés par les détecteurs sont gérés par un système de commande (centralisé, répartie ou distribué) selon un program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ors de l’exécution de ce programme, des détecteurs vont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informer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le système de commande du déroulement des différentes phases du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processu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29528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457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 Détec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916360" y="4076640"/>
            <a:ext cx="3849120" cy="720720"/>
            <a:chOff x="2916360" y="4076640"/>
            <a:chExt cx="3849120" cy="720720"/>
          </a:xfrm>
        </p:grpSpPr>
        <p:sp>
          <p:nvSpPr>
            <p:cNvPr id="63" name=""/>
            <p:cNvSpPr/>
            <p:nvPr/>
          </p:nvSpPr>
          <p:spPr>
            <a:xfrm>
              <a:off x="2916360" y="4076640"/>
              <a:ext cx="1099800" cy="72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ndeu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ysique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à mesu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22840" y="4199040"/>
              <a:ext cx="4568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2120" y="4289400"/>
              <a:ext cx="101412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TECT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5480" y="4122720"/>
              <a:ext cx="900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ique exploi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68720" y="4148280"/>
              <a:ext cx="4568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4932360" cy="1963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nombreux critères à intég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914400"/>
            <a:ext cx="4114800" cy="2666880"/>
          </a:xfrm>
          <a:prstGeom prst="cloudCallout">
            <a:avLst>
              <a:gd name="adj1" fmla="val -55287"/>
              <a:gd name="adj2" fmla="val 5762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 Adaptation à l’environnement »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ésence de fluides, vapeur, pouss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oc vib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turbations électromagné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combrement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one explo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étier utilis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évolution des réglem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5119560"/>
            <a:ext cx="2952720" cy="1622520"/>
          </a:xfrm>
          <a:prstGeom prst="wedgeRoundRectCallout">
            <a:avLst>
              <a:gd name="adj1" fmla="val 43870"/>
              <a:gd name="adj2" fmla="val -8356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 technologies de détection »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é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éca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u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tras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628640"/>
            <a:ext cx="2971800" cy="1800360"/>
          </a:xfrm>
          <a:prstGeom prst="wedgeRoundRectCallout">
            <a:avLst>
              <a:gd name="adj1" fmla="val -18055"/>
              <a:gd name="adj2" fmla="val 942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jet ou grandeur à détec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leur, transpa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tance par rapport à la face sen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tesse de dépla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hoix d'une technologie de dé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1640" y="4257720"/>
            <a:ext cx="934920" cy="72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uide de choix </a:t>
            </a: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chnologie de dé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Object 7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316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hoix d'une technologie de dé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Object 6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01000" cy="39988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uide de choix </a:t>
            </a: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chnologie de dé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Choix d'une technologie de dé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76520" y="2743200"/>
            <a:ext cx="6324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Choix d'une technologie de dé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76520" y="1600200"/>
            <a:ext cx="63244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nnaissances de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3809880"/>
            <a:ext cx="6324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hoix d'un détecteu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dans une technologie don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590920" y="1752480"/>
            <a:ext cx="624816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terminer le boîtier du détecteur inductif en fonc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son mode de fixation, des contraintes d’installations et de l’encombrement disponible sur la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la portée nécessaire à la détection d’une pièce métallique de nature et taille donnée en prenant en compte le jeu fonctionnel lié à la machine ou aux mouvements possibles de cette piè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indu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1904760" cy="1093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144792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514240" y="1523880"/>
            <a:ext cx="624852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endre en compte les conditions environnementa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sence de fluides de coupe &amp; d’usinage, pollution de cop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toyage avec produits lessiviels, rinçage à l’eau sous 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ctions de soudure, proximité de forts cour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mpérature ambiante, chocs de température, atmosphère explosive occasionnelle ou permanente, vibrations, vitesse de passag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indu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029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1801800" cy="1990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180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90920" y="1676520"/>
            <a:ext cx="624816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finir le type &amp; contact de sortie et le mode de raccorde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de sortie électrique  (DC, PNP, AC, nombre de fil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act de sortie (Normalement ouvert et/ou normalement ferm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de raccordement (câble, embase pour connecteur, borni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indu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1835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895480" y="1447560"/>
            <a:ext cx="59436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terminer le boîtier du détecteur capacitif en fonc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son mode de fixation et de l’encombrement disponible sur l’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la portée nécessaire à la détection d’une pièce de nature et taille donnée, en prenant en compte le jeu fonctionnel lié à la machine ou aux mouvements possibles de cette pièce. Prendre en compte l’épaisseur de l’avant plan ou de la paroi (détection de fluid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la densité de l ’objet. Ne pas utiliser pour la détection de matériaux de faible densité de type polystyrèn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668600" cy="19814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capac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566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362320" y="1828440"/>
            <a:ext cx="59436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endre en compte les conditions environnementa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mosphère explosive occasionnelle ou permanente, vitesse de passag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 pas utiliser de détecteurs capacitifs en cas d’environnement humide ou saturé de flui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capac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228600" y="4881600"/>
            <a:ext cx="2590920" cy="1382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228600" y="2332080"/>
            <a:ext cx="21337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971800" y="1752480"/>
            <a:ext cx="5943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finir le type &amp; contact de sortie et le mode de raccorde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de sortie électrique  (DC, PNP, AC, nombre de fil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act de sortie (NO, NF ou programm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de raccordement (câble, embase pour connecteur, borni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capac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1029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2438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746784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l existe différents types de détecteurs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à contact direct et de proximité (sans contact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interrupteurs de position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détecteurs indu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cellules photoélect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détecteurs capaci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détecteurs magn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détecteurs ultra 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détecteurs « spéciaux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ur être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dapté aux contraintes du cahier des charg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le choix du détecteur implique la mise en adéquation de sa propre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technologi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et donc du principe physique utilisé) avec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es caractéristiques de la grandeur physique à mesurer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ns un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environnement spécifi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136980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4572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 Détecteu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…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81000"/>
            <a:ext cx="8667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emier maillon dans la chaîne d'information d’un processus industriel, le choix du détecteur est donc fondame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743200" y="1523880"/>
            <a:ext cx="58672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terminer le boîtier de la cellule photoélectrique en fonc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son mode de fixation, des contraintes d’installations et de l’encombrement disponible sur la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la portée nécessaire à la détection de l’ob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u principe de détection (émetteur-récepteur séparés, sur réflecteur, détection directe, fibre optiqu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0" y="1828800"/>
            <a:ext cx="1981080" cy="1498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743200" y="1599840"/>
            <a:ext cx="58672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endre en compte les conditions environnementa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toyage avec produits lessiviels, rinçage à l’eau sous 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mpérature ambiante, chocs de température, atmosphère explosive occasionnelle ou permanente, vibrations, vitesse de passag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sques de perturbation (poussière, condensation, projection, encrass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286000" cy="1384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586764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finir le type &amp; contact de sortie et le mode de raccorde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de sortie électrique  (DC, PNP, AC, nombre de fil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act de sortie (fonction claire ou fonction s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de raccordement (câble, embase pour connecteur, borni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7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257560" cy="1501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096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ix du format : l’emplacement disponible donne le format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d’IDP à emplo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vironnement du produit : donne le niveau d’étanchéité et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robustesse nécessaires pour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choisir le produit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(corps plastique ou métalliqu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ent choisir un bloc contac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pend de la fonction à pilote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+NC  --&gt; le plus courant  , 2NC, 2NC+1 NO 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pend de l’applic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on brusque : le basculement du contact ne dépend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pas de la vitesse d’actionnement de la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tête --&gt; le plus co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on dépendante : le basculement du contact dépend d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la vitesse d’actionnement de la tê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4640" y="6095880"/>
            <a:ext cx="1477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880" rIns="748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ype levier à ga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6440" y="4191120"/>
            <a:ext cx="172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880" rIns="748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ype poussoir à ga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2438280"/>
            <a:ext cx="1928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ype poussoir en 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21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1600200" cy="1047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2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1447920" cy="11556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1600200" cy="1179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rupteur De Position (I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itivité du contact N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 contact NC est positif si, quand on l’actionne, celui-ci l’est uniquement à l’aide de pièces mécaniques ne faisant pas ressort (non dépendant de ressorts), de manière à garantir l’ouverture du cont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2440" y="3581280"/>
            <a:ext cx="1686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880" rIns="748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ype multidirectio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1524240" cy="1073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rupteur De Position (I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123720" y="1828440"/>
            <a:ext cx="586764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éterminer le boîtier du capteur magnétique en fonc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 son mode de fixation, des contraintes d’installations et de l’encombrement disponible sur la machine ou sur le vé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 la portée nécessaire à la détection de l’aim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819160" cy="2057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pteurs magné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123720" y="1904760"/>
            <a:ext cx="586764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éfinir le type &amp; contact de sortie et le mode de raccordeme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type de sortie électrique  (DC, PNP, AC, 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bre de fil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ntact de sortie (Normalement ouvert ou normalement ferm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type de raccordement (câble, embase pour connecteur, borni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466720" cy="1952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82880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pteurs magné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971440" y="1828800"/>
            <a:ext cx="61722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rminer le boîtier du détecteur ultra son en fonc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son mode de fixation et de l’encombrement disponible sur l’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 la portée nécessaire à la détection d’une pièce de nature et taille don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6668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16765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ultra 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971440" y="1447920"/>
            <a:ext cx="6172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re en compte les conditions environnemental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sence de fluides de coupes &amp; d’usin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toyage avec produits lessiviels, rinçage à l’eau sous 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ation de température et du taux d’humidité de l’air ambi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sence de courants d’air (vent)  ou de turbulences (par exemple au dessus de métaux en fus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sence d’ultra sons para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mpérature ambiante, chocs de température, atmosphère explosive occasionnelle ou permanente, vitesse de passag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2438640" cy="17654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6765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ultra 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133360" y="1676160"/>
            <a:ext cx="61722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éfinir le type &amp; contact de sortie et le mode de raccordeme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type de sortie électrique  (DC, PNP, AC, nombre de fil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ntact de sortie (Normalement ouvert ou normalement ferm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type de raccordement (câble, embase pour connecteur, borni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étecteurs ultra 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6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9051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hoisir le bon détecteur, c’es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) Sécuriser les personnes et les b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) Fiabiliser l’automatisme d’un processus industr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) Optimiser la conduite des équipements industri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Contrôler les coûts d’explo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) Utiliser les compétences de constructeurs recon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4956120"/>
            <a:ext cx="5543640" cy="82404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es constructeurs adhérents du groupe Détection au sein du Gimélec s’engagent sur ces points fondamentaux en conformité avec les normes en vigu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130176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6720" y="4572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 Détecteu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…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219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er maillon dans la chaîne d'information d’un processus industrie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447920" y="12189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) Les interrupteurs de position méca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n de course déport de b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n de course pour palans &amp; ponts rou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b) Les détecteurs de proximité Induc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trôleur de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électif ferreux ou non ferr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c) Les capteurs optique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eur de repères ou contr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eur de cou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eur de lumin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apteur d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apteur d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apteur de prof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2209680" y="38088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s Capteurs spéci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 technologies – Pour faire le bon cho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21932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automatis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3000" y="1905120"/>
            <a:ext cx="723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a fonction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502920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ndances du march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4191120"/>
            <a:ext cx="723888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Quelle détection pour quel secteur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57913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2743200"/>
            <a:ext cx="72388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mment se porte la détection en 2003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35053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1932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secteurs indust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1828800"/>
            <a:ext cx="723924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Agroaliment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25909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uto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32767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ogis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95280" y="39625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lectro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47242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i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54100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Bâtiments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utention en zone hum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91120" y="2743200"/>
            <a:ext cx="4952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ocs, vibration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rasites industriels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te présence d’eau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te agression de produits chimiqu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luides sous haute pressi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jection de fluides chaud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1905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utention en zone hum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86200" y="2666520"/>
            <a:ext cx="51055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ception rob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iveau de tenue 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dice de protection IP67...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îtiers en inox + plastiques perform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dice de protection spécifique IP69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Électronique résistante aux chocs de t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2209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9" descr=""/>
          <p:cNvPicPr/>
          <p:nvPr/>
        </p:nvPicPr>
        <p:blipFill>
          <a:blip r:embed="rId1"/>
          <a:stretch/>
        </p:blipFill>
        <p:spPr>
          <a:xfrm>
            <a:off x="228600" y="2230560"/>
            <a:ext cx="3505320" cy="2950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"/>
          <p:cNvPicPr/>
          <p:nvPr/>
        </p:nvPicPr>
        <p:blipFill>
          <a:blip r:embed="rId2"/>
          <a:stretch/>
        </p:blipFill>
        <p:spPr>
          <a:xfrm>
            <a:off x="2435400" y="2306520"/>
            <a:ext cx="1207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utention en zone hum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95280" y="501300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ion de cames en inox (mouvements de mach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21337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4495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1280" y="27813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eurs de proximité induc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8" descr=""/>
          <p:cNvPicPr/>
          <p:nvPr/>
        </p:nvPicPr>
        <p:blipFill>
          <a:blip r:embed="rId1"/>
          <a:stretch/>
        </p:blipFill>
        <p:spPr>
          <a:xfrm>
            <a:off x="228600" y="283860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n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64796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ocs, vibration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rasites industriels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ésence d’eau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ttoyage avec produits chimiqu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te concentration d’action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509920" cy="35812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1905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n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971440" y="4952520"/>
            <a:ext cx="44197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ception rob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iveau de tenue 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dice de protection IP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tières (boîtier) adapt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accordement par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17524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57150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n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14440" y="2819160"/>
            <a:ext cx="47242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étecteurs de proximité induc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Signalisation de position sur vann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21337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211560" cy="41148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581280" y="4495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utention de pulvéru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43040" y="3276720"/>
            <a:ext cx="4800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Chocs, vibration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arasites industriels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Forte présence de poussiè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Manutention de produits explosib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urée du risque d’explosi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3886200" cy="2592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91120" y="1905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1219320"/>
            <a:ext cx="723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a fonction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34340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ndances du march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5053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Quelle détection pour quel secteur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1055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057400"/>
            <a:ext cx="72388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omment se porte la détection en 2003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8195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utention de pulvéru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24280" y="3047760"/>
            <a:ext cx="42674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ception rob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iveau de tenue 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dice de protection IP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eurs conformes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à la directive ATEX 94/9/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atégorie II 1D, II 2D ou II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17524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030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493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utention de pulvéru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495680" y="3352320"/>
            <a:ext cx="42674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eurs de proximité capaci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étection de bourrag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groalime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21337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4495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5495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21932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secteurs indust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82880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groaliment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2590920"/>
            <a:ext cx="723924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Auto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95280" y="32767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ogis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95280" y="39625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lectro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47242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i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54100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Bâtiments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33520" y="1905120"/>
            <a:ext cx="4114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hamps magnétiques continus 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et alternatifs engendrant d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perturbations aux détect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Étincelage et proj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étections sur métaux ferreux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et non-ferreux (ex: ouvran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errage - Tôl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733560" cy="303228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527" name=""/>
          <p:cNvSpPr/>
          <p:nvPr/>
        </p:nvSpPr>
        <p:spPr>
          <a:xfrm>
            <a:off x="1066680" y="20574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-380880" y="2133720"/>
            <a:ext cx="6248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ctifs FACTEUR 1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ême distance de détection sur tous les mé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munité aux champs magné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rsions téflonisées et face active très robu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formes aux normes CEM en vigueu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5791320" y="2527200"/>
          <a:ext cx="312408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527200"/>
                    <a:ext cx="3124080" cy="230040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228600" y="19051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errage - Tôl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990720" y="2209680"/>
            <a:ext cx="5562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s diverses sur la mécanique ainsi que sur les pièces véhicule (capots, …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égration sur robots, en manutention diverses,  rôdeuses, …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érêts et applications multip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32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6705720" y="2819520"/>
            <a:ext cx="2057400" cy="1877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537" name=""/>
          <p:cNvSpPr/>
          <p:nvPr/>
        </p:nvSpPr>
        <p:spPr>
          <a:xfrm>
            <a:off x="990720" y="2133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errage - Tôl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33520" y="2438280"/>
            <a:ext cx="4343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sur pièces et structure e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métal ferreux et non-ferreux (acier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aluminium, …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raintes d’étanchéité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luides, solvants utilis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925800" cy="4114800"/>
          </a:xfrm>
          <a:prstGeom prst="rect">
            <a:avLst/>
          </a:prstGeom>
          <a:ln w="15840">
            <a:solidFill>
              <a:srgbClr val="ffcc00"/>
            </a:solidFill>
            <a:miter/>
          </a:ln>
        </p:spPr>
      </p:pic>
      <p:sp>
        <p:nvSpPr>
          <p:cNvPr id="542" name=""/>
          <p:cNvSpPr/>
          <p:nvPr/>
        </p:nvSpPr>
        <p:spPr>
          <a:xfrm>
            <a:off x="609480" y="20574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i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85800" y="289548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ctifs FACTEUR 1 (même distance d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détection sur tous mé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ctifs IP69K pour ambiance très rud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(agents agressifs, température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27600" cy="18255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09480" y="23623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i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95280" y="2057400"/>
            <a:ext cx="632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s diverses sur pièces brutes ou usinées (carters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boites de vitesse, …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appropriée sur convoyeurs, nacelles, évitant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l’ajout de drapeau et pièces en aci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érêts et applications multiples 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71600" y="19051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i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28600" y="2286000"/>
            <a:ext cx="5334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etites pièces à des distance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importantes suivant les contraintes mécaniqu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ature et forme de la pièce à considérer :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brillance et arrière-p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880" y="19051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5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3498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104840"/>
            <a:ext cx="421488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marché mondial de 2500 Millions d’E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2324160" cy="442584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0" y="2701800"/>
            <a:ext cx="5238720" cy="3589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095560"/>
            <a:ext cx="4800600" cy="35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Marché Français: 140 Millions d ’E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10484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marché poussé par l’automatisatio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t le contrôle de la 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8" descr=""/>
          <p:cNvPicPr/>
          <p:nvPr/>
        </p:nvPicPr>
        <p:blipFill>
          <a:blip r:embed="rId3"/>
          <a:stretch/>
        </p:blipFill>
        <p:spPr>
          <a:xfrm>
            <a:off x="3657600" y="1905120"/>
            <a:ext cx="6521400" cy="4457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92360" y="6093000"/>
            <a:ext cx="20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ffres d’aff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se porte la Détection de Présence Industrielle en 2003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514600"/>
            <a:ext cx="205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rmacie / Cosmétiq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ustrie Métallurgiq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ériaux de construct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ustrie du papier &amp; imprimeri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rastructure (transports)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ustrie du bo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295240" y="33145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16200" y="10406"/>
                  <a:pt x="21600" y="10406"/>
                </a:cubicBezTo>
                <a:cubicBezTo>
                  <a:pt x="162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46720" y="366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85800" y="2819520"/>
            <a:ext cx="5410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lutions optoélectroniques Laser en réflexio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directe, suppression d’arrière-plan, rétro réflectiv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et barrag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ser Classe 1 ou Classe 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hnologie et principes selon les construct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23623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14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5495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838080" y="2286000"/>
            <a:ext cx="5029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lications multiples sur machines de montage, assembl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4114800"/>
            <a:ext cx="4496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ot visible facilitant les réglages et intérêt pour la maintena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Object 9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447640" cy="18349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38080" y="3809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é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080" y="1828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Auto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2952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secteurs indust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1828800"/>
            <a:ext cx="7239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groaliment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25909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uto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95280" y="3276720"/>
            <a:ext cx="723924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Logis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39625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lectro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95280" y="47242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i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54100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Bâtiments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8320" y="2286000"/>
            <a:ext cx="528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3366"/>
                </a:solidFill>
                <a:latin typeface="Arial"/>
              </a:rPr>
              <a:t>Pa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3366"/>
                </a:solidFill>
                <a:latin typeface="Arial"/>
              </a:rPr>
              <a:t>Barrières de pé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pplication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914400" y="1676520"/>
            <a:ext cx="6811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Détecteur optique à élimination à de premier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2743200"/>
            <a:ext cx="2984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ontrôle de p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de p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07680" y="2743200"/>
            <a:ext cx="19958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ontrôle de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2819520"/>
            <a:ext cx="209520" cy="220680"/>
          </a:xfrm>
          <a:custGeom>
            <a:avLst/>
            <a:gdLst/>
            <a:ahLst/>
            <a:rect l="l" t="t" r="r" b="b"/>
            <a:pathLst>
              <a:path w="141" h="162">
                <a:moveTo>
                  <a:pt x="0" y="0"/>
                </a:moveTo>
                <a:lnTo>
                  <a:pt x="140" y="81"/>
                </a:lnTo>
                <a:lnTo>
                  <a:pt x="0" y="161"/>
                </a:lnTo>
                <a:lnTo>
                  <a:pt x="0" y="0"/>
                </a:lnTo>
              </a:path>
            </a:pathLst>
          </a:custGeom>
          <a:solidFill>
            <a:srgbClr val="3365fb"/>
          </a:solidFill>
          <a:ln cap="rnd"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57840" y="2819520"/>
            <a:ext cx="210960" cy="220680"/>
          </a:xfrm>
          <a:custGeom>
            <a:avLst/>
            <a:gdLst/>
            <a:ahLst/>
            <a:rect l="l" t="t" r="r" b="b"/>
            <a:pathLst>
              <a:path w="141" h="162">
                <a:moveTo>
                  <a:pt x="0" y="0"/>
                </a:moveTo>
                <a:lnTo>
                  <a:pt x="140" y="81"/>
                </a:lnTo>
                <a:lnTo>
                  <a:pt x="0" y="161"/>
                </a:lnTo>
                <a:lnTo>
                  <a:pt x="0" y="0"/>
                </a:lnTo>
              </a:path>
            </a:pathLst>
          </a:custGeom>
          <a:solidFill>
            <a:srgbClr val="3365fb"/>
          </a:solidFill>
          <a:ln cap="rnd"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4997520" y="4435560"/>
            <a:ext cx="2449440" cy="15080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1876320" y="3754440"/>
            <a:ext cx="2538360" cy="21891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pplication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3024360" y="1447920"/>
            <a:ext cx="2838240" cy="39430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4010040" y="2286000"/>
            <a:ext cx="42084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380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pplication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Manutention en extéri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7280" y="2819520"/>
            <a:ext cx="259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h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rouillard (sali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lu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oussi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ariations ther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4853160" y="2666880"/>
            <a:ext cx="3535200" cy="15145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2600" y="233352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838080" y="3809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oîtier robuste et étan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ispositifs de chauffage et / ou de refroidissement intég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apteurs optiques longue portée utilisés en courte portée 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pour compenser les atténuations dues aux contraintes atmosph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2602080" y="1447920"/>
            <a:ext cx="3535200" cy="15145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Manutention en extéri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6000" y="3233880"/>
            <a:ext cx="47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5416560" y="2286000"/>
            <a:ext cx="1908000" cy="1809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33520" y="18288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Positionnement auto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de conten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2720" y="3363840"/>
            <a:ext cx="401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tecteurs embarqués sur le 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336680" y="2514600"/>
            <a:ext cx="6189480" cy="20559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767560" y="4038480"/>
            <a:ext cx="42228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19480" y="48402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apteur optique longue porté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Log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86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 marché Français en recul après les records de 2000 et 2001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438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Object 8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32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se porte la Détection de Présence Industrielle en 2003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952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secteurs indust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1828800"/>
            <a:ext cx="7239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groaliment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95280" y="25909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uto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5280" y="32767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ogis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95280" y="3962520"/>
            <a:ext cx="723924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Unicode MS"/>
              </a:rPr>
              <a:t>Electro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95280" y="47242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i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54100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Bâtiments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étier N°1: Processus d’avant-plan :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ion / contrôle de wafers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487692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ièces extrêmement réfléchissantes (nécessitant une technologie de détection spécifique), et minces (qq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Hautes températures en production (&gt;300°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6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4114800" cy="24782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80880" y="19051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Elect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2286000" cy="20638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4876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bres optiques faible spot ou hautes tempér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6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1584360" cy="202104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304920" y="4495680"/>
            <a:ext cx="4724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tage, contrôle d’alignement, contrôle de pa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2096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120" y="39625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étier N°1: Processus d’avant-plan :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ion / contrôle de wafers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Elect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400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étier N°2 : Processus d’arrière-plan: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ion de compo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4952880" y="1600200"/>
            <a:ext cx="4038840" cy="4140360"/>
            <a:chOff x="4952880" y="1600200"/>
            <a:chExt cx="4038840" cy="4140360"/>
          </a:xfrm>
        </p:grpSpPr>
        <p:pic>
          <p:nvPicPr>
            <p:cNvPr id="636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3581280"/>
              <a:ext cx="2895840" cy="21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7" descr=""/>
            <p:cNvPicPr/>
            <p:nvPr/>
          </p:nvPicPr>
          <p:blipFill>
            <a:blip r:embed="rId2"/>
            <a:stretch/>
          </p:blipFill>
          <p:spPr>
            <a:xfrm>
              <a:off x="7467480" y="4724280"/>
              <a:ext cx="15242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3"/>
            <a:stretch/>
          </p:blipFill>
          <p:spPr>
            <a:xfrm>
              <a:off x="4952880" y="1600200"/>
              <a:ext cx="2057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9" descr=""/>
            <p:cNvPicPr/>
            <p:nvPr/>
          </p:nvPicPr>
          <p:blipFill>
            <a:blip r:embed="rId4"/>
            <a:stretch/>
          </p:blipFill>
          <p:spPr>
            <a:xfrm>
              <a:off x="7086600" y="1600200"/>
              <a:ext cx="1876320" cy="18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0" descr=""/>
            <p:cNvPicPr/>
            <p:nvPr/>
          </p:nvPicPr>
          <p:blipFill>
            <a:blip r:embed="rId5"/>
            <a:stretch/>
          </p:blipFill>
          <p:spPr>
            <a:xfrm>
              <a:off x="7467480" y="3581280"/>
              <a:ext cx="1524240" cy="103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1" name=""/>
          <p:cNvSpPr/>
          <p:nvPr/>
        </p:nvSpPr>
        <p:spPr>
          <a:xfrm>
            <a:off x="380880" y="1523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280" y="1981080"/>
            <a:ext cx="4038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èces de très petites taille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(0.1 à 0.5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ternance de surfaces brillante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(pattes) et n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" y="3733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9528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9960" y="4191120"/>
            <a:ext cx="36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bres optiques ou micro cell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6760" y="548640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circuit intégré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tage de pat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Elect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secteurs indust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95280" y="182880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groaliment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25909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uto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32767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ogis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95280" y="39625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lectro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95280" y="4724280"/>
            <a:ext cx="723924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hi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95280" y="54100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Bâtiments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ion en zone explo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267080" y="236232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one explosible: gaz (G) ou poussière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nger permanent du risque d’explo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nue aux nombreux agents chi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âblage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Échange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ûreté opti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267080" y="1676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               Chi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9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10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ion en zone explo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1120" y="2209320"/>
            <a:ext cx="45720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nstruction conforme aux normes ATEX 94/9/CE (catégories II1G, II2G, II1D,II2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breuses enveloppes possibles (PBTP, RYTON, inox etc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ersion 2 f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vec son interface, contrôle de la liaison (coupure ou court-circu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9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10080" cy="38577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               Chi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14800" y="1981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ion en zone explo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brique de fusées de feux d’arti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9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10080" cy="38577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43434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de proximité: inductifs, capacitifs et op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39625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43400" y="18288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               Chi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ockage et manutention de produits explosibles liq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495680" y="2666520"/>
            <a:ext cx="42674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sence d’hum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nue en température (haute ou bas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asites industri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écurité de foncti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95680" y="20574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               Chi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9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005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ockage et manutention de produits explosibles liq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43040" y="2285640"/>
            <a:ext cx="426708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ption rob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tection IP67 / IP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amme de température (-25° à +100° C ou -40° à +100°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iveau de tenue CEM suivant: EN60947-5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vec son interface, niveau de sécurité SI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9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00520" cy="36594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               Chi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43400" y="19810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1295280"/>
            <a:ext cx="723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a fonction 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41972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tendances du march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58128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Quelle détection pour quel secteur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181480"/>
            <a:ext cx="72388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es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133720"/>
            <a:ext cx="7238880" cy="94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omment se porte la détection en 2003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95480"/>
            <a:ext cx="723888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Les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ockage et manutention de produits explosibles liq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267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ockage, soutirage de produits, contrôle d’ouverture ou de fermeture de va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895480"/>
            <a:ext cx="38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de proximité induc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4038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95680" y="2362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                                  Chi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9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005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dé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ns les secteurs indust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95280" y="182880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groaliment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25909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Auto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95280" y="32767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Logis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95280" y="396252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Unicode MS"/>
              </a:rPr>
              <a:t>Electro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5280" y="4724280"/>
            <a:ext cx="72392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Unicode MS"/>
              </a:rPr>
              <a:t>Chi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95280" y="5410080"/>
            <a:ext cx="7239240" cy="520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Bâtiments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détection dans les automati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éroports</a:t>
            </a:r>
            <a:br>
              <a:rPr sz="28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ports de Bag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62160" y="2666520"/>
            <a:ext cx="48006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écurité du Public et Dispon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gages de formes et couleur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nctionnement en conjonction avec les systèmes d ’ident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de Ba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ideaux de transport de ba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62520" y="20574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9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3885840" y="3200040"/>
            <a:ext cx="4800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ption f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intenance préven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ce de protection IP54 à 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962520" y="2514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éroports</a:t>
            </a:r>
            <a:br>
              <a:rPr sz="28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ports de Bag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190760" y="2590920"/>
            <a:ext cx="4800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llules photoélectriques sur bag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inductifs sur cont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0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4343400" y="4343400"/>
            <a:ext cx="4562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llules Photoélect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r réflecteur, polar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alarme anti-encra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43400" y="3809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1120" y="21337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éroports</a:t>
            </a:r>
            <a:br>
              <a:rPr sz="28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ports de Bag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038120" y="2819520"/>
            <a:ext cx="495324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écurité du Public et des exploi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abilité ( ne pas endommager les avions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ponibilité ( Débarquer à l ’he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ctionnement en ex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asite élect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ches lon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2209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éroport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cès aux appare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9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076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038120" y="3200040"/>
            <a:ext cx="4800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ption F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nne tenue aux 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ce de protection IP66 et IP67 ( voire 6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9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076560" cy="312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962520" y="2514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éroport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cès aux appare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4266720" y="1523520"/>
            <a:ext cx="48006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9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076560" cy="31244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4267080" y="2666880"/>
            <a:ext cx="4562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rupteurs de positions mécaniq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eurs inductifs ou ultrasons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(pour approches long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47360" y="472428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terrupteurs de positions mécaniques</a:t>
            </a:r>
            <a:br>
              <a:rPr sz="18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 pour sécurité surcou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343400" y="4114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emple d'application bien réso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91120" y="21337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ologie bien adaptée au mét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éroport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cès aux appare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3657240" y="3124080"/>
            <a:ext cx="48006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écurité du Public et des exploi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étection de passage des person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ti-Vandal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cision des points d ’arrêts ca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65760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raintes mé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âtiment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cen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103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4114440" y="3200400"/>
            <a:ext cx="4800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ption F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ce de protection IP54 à IP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positifs de protection des détecteurs accessi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103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4114800" y="2590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éponse en terme de caractéris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8120" y="457200"/>
            <a:ext cx="3504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ât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cen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lle détection pour quel secteur ?                                                 Bâtiment et 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2:15:35Z</dcterms:created>
  <dc:creator>Carmada100</dc:creator>
  <dc:description/>
  <dc:language>en-US</dc:language>
  <cp:lastModifiedBy>FRDAS1BO</cp:lastModifiedBy>
  <dcterms:modified xsi:type="dcterms:W3CDTF">2004-11-18T08:28:50Z</dcterms:modified>
  <cp:revision>251</cp:revision>
  <dc:subject/>
  <dc:title>Présentation PowerPoint</dc:title>
</cp:coreProperties>
</file>