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AF9-C30C-40E2-A417-38191137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634-DFB1-4037-94D7-84A2C781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B0F-DAE4-470F-8C81-56D908BE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0FF-29D7-4A33-9B46-9A11CE5D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AA1-0B20-4075-83DB-6B3FC8B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DE4-131C-4A06-9064-63254347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2D9-58BF-4130-BA2D-930DB4F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23A-CC84-4140-8FDF-17D8912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6F7-E622-44FA-A724-61E3D71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413-C8E4-4618-9F15-1CFA4F2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C86-A110-40D7-8C71-37B9E86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09D-1B30-498D-A7DB-D566B67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B791-51FB-4CF0-9167-35A50C6C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9000" y="-3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’ entrepri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-60948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5772240" y="0"/>
            <a:ext cx="3371760" cy="903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6248520"/>
            <a:ext cx="3276360" cy="609480"/>
            <a:chOff x="0" y="6248520"/>
            <a:chExt cx="3276360" cy="60948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18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che d’identité de l’entreprise pag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867280" y="6248520"/>
            <a:ext cx="3276360" cy="609480"/>
            <a:chOff x="5867280" y="6248520"/>
            <a:chExt cx="3276360" cy="609480"/>
          </a:xfrm>
        </p:grpSpPr>
        <p:sp>
          <p:nvSpPr>
            <p:cNvPr id="48" name=""/>
            <p:cNvSpPr/>
            <p:nvPr/>
          </p:nvSpPr>
          <p:spPr>
            <a:xfrm>
              <a:off x="586728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6916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 outil de production performant pag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743200" y="1600200"/>
            <a:ext cx="1752480" cy="533520"/>
            <a:chOff x="2743200" y="1600200"/>
            <a:chExt cx="1752480" cy="533520"/>
          </a:xfrm>
        </p:grpSpPr>
        <p:sp>
          <p:nvSpPr>
            <p:cNvPr id="51" name=""/>
            <p:cNvSpPr/>
            <p:nvPr/>
          </p:nvSpPr>
          <p:spPr>
            <a:xfrm>
              <a:off x="2743200" y="1600200"/>
              <a:ext cx="175248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97560" y="1760040"/>
              <a:ext cx="15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743200" y="2133720"/>
            <a:ext cx="1752480" cy="533160"/>
            <a:chOff x="2743200" y="2133720"/>
            <a:chExt cx="1752480" cy="533160"/>
          </a:xfrm>
        </p:grpSpPr>
        <p:sp>
          <p:nvSpPr>
            <p:cNvPr id="54" name=""/>
            <p:cNvSpPr/>
            <p:nvPr/>
          </p:nvSpPr>
          <p:spPr>
            <a:xfrm>
              <a:off x="2743200" y="2133720"/>
              <a:ext cx="1752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97560" y="2293560"/>
              <a:ext cx="15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abr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43200" y="2666880"/>
            <a:ext cx="1752480" cy="533520"/>
            <a:chOff x="2743200" y="2666880"/>
            <a:chExt cx="1752480" cy="533520"/>
          </a:xfrm>
        </p:grpSpPr>
        <p:sp>
          <p:nvSpPr>
            <p:cNvPr id="57" name=""/>
            <p:cNvSpPr/>
            <p:nvPr/>
          </p:nvSpPr>
          <p:spPr>
            <a:xfrm>
              <a:off x="2743200" y="2666880"/>
              <a:ext cx="175248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97560" y="2826720"/>
              <a:ext cx="15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743200" y="3733920"/>
            <a:ext cx="1752480" cy="533160"/>
            <a:chOff x="2743200" y="3733920"/>
            <a:chExt cx="1752480" cy="533160"/>
          </a:xfrm>
        </p:grpSpPr>
        <p:sp>
          <p:nvSpPr>
            <p:cNvPr id="60" name=""/>
            <p:cNvSpPr/>
            <p:nvPr/>
          </p:nvSpPr>
          <p:spPr>
            <a:xfrm>
              <a:off x="2743200" y="3733920"/>
              <a:ext cx="1752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99000" y="3893760"/>
              <a:ext cx="158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ial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pompes%20doseuese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450960" cy="2811600"/>
          </a:xfrm>
          <a:prstGeom prst="rect">
            <a:avLst/>
          </a:prstGeom>
          <a:ln w="0">
            <a:noFill/>
          </a:ln>
        </p:spPr>
      </p:pic>
      <p:pic>
        <p:nvPicPr>
          <p:cNvPr id="63" name="P1010305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LOGO" descr=""/>
          <p:cNvPicPr/>
          <p:nvPr/>
        </p:nvPicPr>
        <p:blipFill>
          <a:blip r:embed="rId4"/>
          <a:stretch/>
        </p:blipFill>
        <p:spPr>
          <a:xfrm>
            <a:off x="0" y="0"/>
            <a:ext cx="3371760" cy="9032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371600" y="1219320"/>
            <a:ext cx="7010280" cy="4267080"/>
            <a:chOff x="1371600" y="1219320"/>
            <a:chExt cx="7010280" cy="4267080"/>
          </a:xfrm>
        </p:grpSpPr>
        <p:pic>
          <p:nvPicPr>
            <p:cNvPr id="66" name="P1010309" descr=""/>
            <p:cNvPicPr/>
            <p:nvPr/>
          </p:nvPicPr>
          <p:blipFill>
            <a:blip r:embed="rId5"/>
            <a:stretch/>
          </p:blipFill>
          <p:spPr>
            <a:xfrm>
              <a:off x="5181480" y="1219320"/>
              <a:ext cx="3200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371600" y="4876920"/>
              <a:ext cx="36576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 illustration le montage des pompes série D 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pport de mon doss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28600" y="1600200"/>
            <a:ext cx="1066680" cy="533520"/>
            <a:chOff x="228600" y="160020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228600" y="1600200"/>
              <a:ext cx="1066680" cy="533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1720" y="176004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TI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23880" y="1676520"/>
            <a:ext cx="1067040" cy="4572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43200" y="3200400"/>
            <a:ext cx="1752480" cy="533520"/>
            <a:chOff x="2743200" y="3200400"/>
            <a:chExt cx="1752480" cy="533520"/>
          </a:xfrm>
        </p:grpSpPr>
        <p:sp>
          <p:nvSpPr>
            <p:cNvPr id="73" name=""/>
            <p:cNvSpPr/>
            <p:nvPr/>
          </p:nvSpPr>
          <p:spPr>
            <a:xfrm>
              <a:off x="2743200" y="3200400"/>
              <a:ext cx="175248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99000" y="3360240"/>
              <a:ext cx="158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ss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1600200"/>
            <a:ext cx="4572000" cy="2819160"/>
            <a:chOff x="0" y="1600200"/>
            <a:chExt cx="4572000" cy="2819160"/>
          </a:xfrm>
        </p:grpSpPr>
        <p:sp>
          <p:nvSpPr>
            <p:cNvPr id="76" name=""/>
            <p:cNvSpPr/>
            <p:nvPr/>
          </p:nvSpPr>
          <p:spPr>
            <a:xfrm>
              <a:off x="0" y="1600200"/>
              <a:ext cx="457200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960" y="2405880"/>
              <a:ext cx="4419720" cy="157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ur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dence de production  60 pompes série D / mo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s pièces à forte valeur ajoutée sont réalisées sur le 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ette pompe est commercialisée depuis les années 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s modifications les plus importantes se situent au niveau des processus de fabrication (évolution des moyens de produc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manivelle et ses contraintes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géométriques et dimens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surface%20fonctionnelle" descr=""/>
          <p:cNvPicPr/>
          <p:nvPr/>
        </p:nvPicPr>
        <p:blipFill>
          <a:blip r:embed="rId1"/>
          <a:srcRect l="12037" t="5649" r="14814" b="2026"/>
          <a:stretch/>
        </p:blipFill>
        <p:spPr>
          <a:xfrm>
            <a:off x="1523880" y="838080"/>
            <a:ext cx="6019920" cy="58676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33520" y="2971440"/>
            <a:ext cx="2895480" cy="2500920"/>
            <a:chOff x="533520" y="2971440"/>
            <a:chExt cx="2895480" cy="2500920"/>
          </a:xfrm>
        </p:grpSpPr>
        <p:grpSp>
          <p:nvGrpSpPr>
            <p:cNvPr id="249" name=""/>
            <p:cNvGrpSpPr/>
            <p:nvPr/>
          </p:nvGrpSpPr>
          <p:grpSpPr>
            <a:xfrm>
              <a:off x="762120" y="2971440"/>
              <a:ext cx="2133360" cy="1029240"/>
              <a:chOff x="762120" y="2971440"/>
              <a:chExt cx="2133360" cy="10292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1905120" y="2971440"/>
                <a:ext cx="9903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120" y="3429000"/>
                <a:ext cx="1371600" cy="571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5053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NEITERUGO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33520" y="2971440"/>
              <a:ext cx="2895480" cy="2500920"/>
              <a:chOff x="533520" y="2971440"/>
              <a:chExt cx="2895480" cy="250092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1981080" y="2971440"/>
                <a:ext cx="14479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520" y="4495680"/>
                <a:ext cx="1981080" cy="952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9480" y="4648320"/>
                <a:ext cx="1905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ERPENDICULARITE CYLINDRICITE DIAMETRE et LONGU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2286000" y="1600200"/>
            <a:ext cx="3047760" cy="4610160"/>
            <a:chOff x="2286000" y="1600200"/>
            <a:chExt cx="3047760" cy="4610160"/>
          </a:xfrm>
        </p:grpSpPr>
        <p:grpSp>
          <p:nvGrpSpPr>
            <p:cNvPr id="258" name=""/>
            <p:cNvGrpSpPr/>
            <p:nvPr/>
          </p:nvGrpSpPr>
          <p:grpSpPr>
            <a:xfrm>
              <a:off x="2286000" y="3352320"/>
              <a:ext cx="1676520" cy="2858040"/>
              <a:chOff x="2286000" y="3352320"/>
              <a:chExt cx="1676520" cy="285804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3124440" y="3352320"/>
                <a:ext cx="45720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86000" y="5410080"/>
                <a:ext cx="1600200" cy="800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86000" y="5486400"/>
                <a:ext cx="1676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AXIALITE CYLINDRICITE DIAMET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809520" y="1600200"/>
              <a:ext cx="1524240" cy="1523880"/>
              <a:chOff x="3809520" y="1600200"/>
              <a:chExt cx="1524240" cy="152388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3809520" y="2209680"/>
                <a:ext cx="6858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62160" y="1600200"/>
                <a:ext cx="1371600" cy="838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85840" y="1676520"/>
                <a:ext cx="1447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YMETRIE LARGEUR PROFOND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0" y="6248520"/>
            <a:ext cx="3276360" cy="609480"/>
            <a:chOff x="0" y="6248520"/>
            <a:chExt cx="3276360" cy="609480"/>
          </a:xfrm>
        </p:grpSpPr>
        <p:sp>
          <p:nvSpPr>
            <p:cNvPr id="267" name=""/>
            <p:cNvSpPr/>
            <p:nvPr/>
          </p:nvSpPr>
          <p:spPr>
            <a:xfrm>
              <a:off x="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8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4 page 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28600" y="914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upport de mon étude d’industri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1828800"/>
            <a:ext cx="205740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urer la liaison pivot avec le support de maniv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2971800"/>
            <a:ext cx="2057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mettre la liaison complète avec  la roue hélicoïd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ésentation  Pompe MILROYAL Série D à pist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KIF_0066" descr=""/>
          <p:cNvPicPr/>
          <p:nvPr/>
        </p:nvPicPr>
        <p:blipFill>
          <a:blip r:embed="rId1"/>
          <a:srcRect l="6877" t="2500" r="6877" b="835"/>
          <a:stretch/>
        </p:blipFill>
        <p:spPr>
          <a:xfrm>
            <a:off x="2362320" y="1828800"/>
            <a:ext cx="4572000" cy="38448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5562720" y="1905120"/>
            <a:ext cx="1218960" cy="1295280"/>
            <a:chOff x="5562720" y="1905120"/>
            <a:chExt cx="1218960" cy="1295280"/>
          </a:xfrm>
        </p:grpSpPr>
        <p:sp>
          <p:nvSpPr>
            <p:cNvPr id="81" name=""/>
            <p:cNvSpPr/>
            <p:nvPr/>
          </p:nvSpPr>
          <p:spPr>
            <a:xfrm>
              <a:off x="6324480" y="236232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2720" y="1905120"/>
              <a:ext cx="9903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8680" y="205740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514600" y="4038120"/>
            <a:ext cx="1219320" cy="991080"/>
            <a:chOff x="2514600" y="4038120"/>
            <a:chExt cx="1219320" cy="991080"/>
          </a:xfrm>
        </p:grpSpPr>
        <p:sp>
          <p:nvSpPr>
            <p:cNvPr id="85" name=""/>
            <p:cNvSpPr/>
            <p:nvPr/>
          </p:nvSpPr>
          <p:spPr>
            <a:xfrm flipV="1">
              <a:off x="2971800" y="4038120"/>
              <a:ext cx="380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4495680"/>
              <a:ext cx="9907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46483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S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14800" y="4343040"/>
            <a:ext cx="1371600" cy="1219680"/>
            <a:chOff x="4114800" y="4343040"/>
            <a:chExt cx="1371600" cy="1219680"/>
          </a:xfrm>
        </p:grpSpPr>
        <p:sp>
          <p:nvSpPr>
            <p:cNvPr id="89" name=""/>
            <p:cNvSpPr/>
            <p:nvPr/>
          </p:nvSpPr>
          <p:spPr>
            <a:xfrm flipV="1">
              <a:off x="4648320" y="434304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4800" y="4952880"/>
              <a:ext cx="137160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1120" y="50292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SEMBLE MECAN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6248520"/>
            <a:ext cx="3276360" cy="609480"/>
            <a:chOff x="0" y="6248520"/>
            <a:chExt cx="3276360" cy="609480"/>
          </a:xfrm>
        </p:grpSpPr>
        <p:sp>
          <p:nvSpPr>
            <p:cNvPr id="93" name=""/>
            <p:cNvSpPr/>
            <p:nvPr/>
          </p:nvSpPr>
          <p:spPr>
            <a:xfrm>
              <a:off x="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8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1 pages 9 à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066680"/>
            <a:ext cx="4343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’est une pompe doseuse électromécanique à réglage de débit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incipalement utilisée dans l’industrie pétrochim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e du dosag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447920"/>
            <a:ext cx="3429000" cy="5806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injection est continue et permet un mélange avant sto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24080" y="4419720"/>
            <a:ext cx="2286000" cy="1295280"/>
            <a:chOff x="3124080" y="4419720"/>
            <a:chExt cx="2286000" cy="1295280"/>
          </a:xfrm>
        </p:grpSpPr>
        <p:sp>
          <p:nvSpPr>
            <p:cNvPr id="99" name=""/>
            <p:cNvSpPr/>
            <p:nvPr/>
          </p:nvSpPr>
          <p:spPr>
            <a:xfrm>
              <a:off x="3124080" y="4419720"/>
              <a:ext cx="22860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5320" y="4757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emble mécan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410080" y="4800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4572000"/>
            <a:ext cx="1676520" cy="990720"/>
            <a:chOff x="6172200" y="4572000"/>
            <a:chExt cx="1676520" cy="990720"/>
          </a:xfrm>
        </p:grpSpPr>
        <p:sp>
          <p:nvSpPr>
            <p:cNvPr id="103" name=""/>
            <p:cNvSpPr/>
            <p:nvPr/>
          </p:nvSpPr>
          <p:spPr>
            <a:xfrm>
              <a:off x="6172200" y="4572000"/>
              <a:ext cx="1676520" cy="99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2200" y="4873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4920" y="3200400"/>
            <a:ext cx="2057400" cy="2133720"/>
            <a:chOff x="304920" y="3200400"/>
            <a:chExt cx="2057400" cy="2133720"/>
          </a:xfrm>
        </p:grpSpPr>
        <p:sp>
          <p:nvSpPr>
            <p:cNvPr id="106" name=""/>
            <p:cNvSpPr/>
            <p:nvPr/>
          </p:nvSpPr>
          <p:spPr>
            <a:xfrm>
              <a:off x="1066680" y="5105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04920" y="3200400"/>
              <a:ext cx="2057400" cy="2133720"/>
              <a:chOff x="304920" y="3200400"/>
              <a:chExt cx="2057400" cy="213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1066680" y="3200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304920" y="4343400"/>
                <a:ext cx="2057400" cy="990720"/>
                <a:chOff x="304920" y="4343400"/>
                <a:chExt cx="2057400" cy="990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04920" y="4343400"/>
                  <a:ext cx="2057400" cy="990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880" y="4419720"/>
                  <a:ext cx="18288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oseur à pis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" name=""/>
          <p:cNvSpPr/>
          <p:nvPr/>
        </p:nvSpPr>
        <p:spPr>
          <a:xfrm>
            <a:off x="2438280" y="4800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505320"/>
            <a:ext cx="1447920" cy="914400"/>
            <a:chOff x="1295280" y="3505320"/>
            <a:chExt cx="1447920" cy="914400"/>
          </a:xfrm>
        </p:grpSpPr>
        <p:sp>
          <p:nvSpPr>
            <p:cNvPr id="114" name=""/>
            <p:cNvSpPr/>
            <p:nvPr/>
          </p:nvSpPr>
          <p:spPr>
            <a:xfrm>
              <a:off x="1600200" y="350532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foulement d’une dose d’addit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95280" y="3962520"/>
              <a:ext cx="533520" cy="457200"/>
            </a:xfrm>
            <a:custGeom>
              <a:avLst/>
              <a:gdLst>
                <a:gd name="textAreaLeft" fmla="*/ 177840 w 533520"/>
                <a:gd name="textAreaRight" fmla="*/ 457200 w 53352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70160" y="5104440"/>
            <a:ext cx="1220760" cy="947160"/>
            <a:chOff x="1370160" y="5104440"/>
            <a:chExt cx="1220760" cy="947160"/>
          </a:xfrm>
        </p:grpSpPr>
        <p:sp>
          <p:nvSpPr>
            <p:cNvPr id="117" name=""/>
            <p:cNvSpPr/>
            <p:nvPr/>
          </p:nvSpPr>
          <p:spPr>
            <a:xfrm>
              <a:off x="1676520" y="541008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piration d’une dose d’addit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16213800">
              <a:off x="1299600" y="5176080"/>
              <a:ext cx="533160" cy="390600"/>
            </a:xfrm>
            <a:custGeom>
              <a:avLst/>
              <a:gdLst>
                <a:gd name="textAreaLeft" fmla="*/ 177840 w 533160"/>
                <a:gd name="textAreaRight" fmla="*/ 456840 w 533160"/>
                <a:gd name="textAreaTop" fmla="*/ 225000 h 390600"/>
                <a:gd name="textAreaBottom" fmla="*/ 334800 h 39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6668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124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880" y="2438280"/>
            <a:ext cx="3505320" cy="3934080"/>
            <a:chOff x="380880" y="2438280"/>
            <a:chExt cx="3505320" cy="3934080"/>
          </a:xfrm>
        </p:grpSpPr>
        <p:sp>
          <p:nvSpPr>
            <p:cNvPr id="122" name=""/>
            <p:cNvSpPr/>
            <p:nvPr/>
          </p:nvSpPr>
          <p:spPr>
            <a:xfrm>
              <a:off x="380880" y="6095880"/>
              <a:ext cx="304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ircuit  secondaire contenant l’addit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371600" y="2438280"/>
              <a:ext cx="2514600" cy="914400"/>
              <a:chOff x="1371600" y="2438280"/>
              <a:chExt cx="2514600" cy="91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1371600" y="243828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rcuit princip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76720" y="274320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1447920" y="2743200"/>
            <a:ext cx="2438280" cy="609480"/>
            <a:chOff x="1447920" y="2743200"/>
            <a:chExt cx="2438280" cy="609480"/>
          </a:xfrm>
        </p:grpSpPr>
        <p:sp>
          <p:nvSpPr>
            <p:cNvPr id="127" name=""/>
            <p:cNvSpPr/>
            <p:nvPr/>
          </p:nvSpPr>
          <p:spPr>
            <a:xfrm>
              <a:off x="2819520" y="27432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720" y="27432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27432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27432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27432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6320" y="-1066680"/>
            <a:ext cx="8839080" cy="4419360"/>
            <a:chOff x="76320" y="-1066680"/>
            <a:chExt cx="8839080" cy="4419360"/>
          </a:xfrm>
        </p:grpSpPr>
        <p:grpSp>
          <p:nvGrpSpPr>
            <p:cNvPr id="133" name=""/>
            <p:cNvGrpSpPr/>
            <p:nvPr/>
          </p:nvGrpSpPr>
          <p:grpSpPr>
            <a:xfrm>
              <a:off x="5943600" y="-1066680"/>
              <a:ext cx="2971800" cy="4419360"/>
              <a:chOff x="5943600" y="-1066680"/>
              <a:chExt cx="2971800" cy="4419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943600" y="-1028880"/>
                <a:ext cx="2971800" cy="4381560"/>
                <a:chOff x="5943600" y="-1028880"/>
                <a:chExt cx="2971800" cy="43815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553080" y="2743200"/>
                  <a:ext cx="609840" cy="6094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943600" y="-1028880"/>
                  <a:ext cx="2971800" cy="297216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5943600" y="-1066680"/>
                <a:ext cx="2971800" cy="297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77120" y="15238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6320" y="2895480"/>
              <a:ext cx="5105160" cy="228600"/>
              <a:chOff x="76320" y="2895480"/>
              <a:chExt cx="5105160" cy="228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038480" y="2895480"/>
                <a:ext cx="1143000" cy="2286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20" y="2895480"/>
                <a:ext cx="1143000" cy="2286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066680" y="762120"/>
            <a:ext cx="3429000" cy="337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injection s’effectue en deux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6248520"/>
            <a:ext cx="3276360" cy="609480"/>
            <a:chOff x="0" y="6248520"/>
            <a:chExt cx="3276360" cy="609480"/>
          </a:xfrm>
        </p:grpSpPr>
        <p:sp>
          <p:nvSpPr>
            <p:cNvPr id="144" name=""/>
            <p:cNvSpPr/>
            <p:nvPr/>
          </p:nvSpPr>
          <p:spPr>
            <a:xfrm>
              <a:off x="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8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1 pages 9 à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500" t="11721" r="5001" b="10155"/>
          <a:stretch/>
        </p:blipFill>
        <p:spPr>
          <a:xfrm>
            <a:off x="1371600" y="609480"/>
            <a:ext cx="6705720" cy="5781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ésentation du mécanisme de transformation de mou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6248520"/>
            <a:ext cx="3276360" cy="609480"/>
            <a:chOff x="228600" y="6248520"/>
            <a:chExt cx="3276360" cy="609480"/>
          </a:xfrm>
        </p:grpSpPr>
        <p:sp>
          <p:nvSpPr>
            <p:cNvPr id="149" name=""/>
            <p:cNvSpPr/>
            <p:nvPr/>
          </p:nvSpPr>
          <p:spPr>
            <a:xfrm>
              <a:off x="22860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04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2 page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905120" y="1905120"/>
            <a:ext cx="1066680" cy="1295280"/>
            <a:chOff x="1905120" y="1905120"/>
            <a:chExt cx="1066680" cy="1295280"/>
          </a:xfrm>
        </p:grpSpPr>
        <p:sp>
          <p:nvSpPr>
            <p:cNvPr id="152" name=""/>
            <p:cNvSpPr/>
            <p:nvPr/>
          </p:nvSpPr>
          <p:spPr>
            <a:xfrm>
              <a:off x="2666880" y="2362320"/>
              <a:ext cx="3049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120" y="1905120"/>
              <a:ext cx="9903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205740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47920" y="3886200"/>
            <a:ext cx="2057400" cy="533520"/>
            <a:chOff x="1447920" y="3886200"/>
            <a:chExt cx="2057400" cy="533520"/>
          </a:xfrm>
        </p:grpSpPr>
        <p:sp>
          <p:nvSpPr>
            <p:cNvPr id="156" name=""/>
            <p:cNvSpPr/>
            <p:nvPr/>
          </p:nvSpPr>
          <p:spPr>
            <a:xfrm flipV="1">
              <a:off x="2819520" y="4114800"/>
              <a:ext cx="68580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47920" y="3886200"/>
              <a:ext cx="14479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560" y="4038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ULISSE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15000" y="1828800"/>
            <a:ext cx="2209680" cy="1219320"/>
            <a:chOff x="5715000" y="1828800"/>
            <a:chExt cx="2209680" cy="1219320"/>
          </a:xfrm>
        </p:grpSpPr>
        <p:sp>
          <p:nvSpPr>
            <p:cNvPr id="160" name=""/>
            <p:cNvSpPr/>
            <p:nvPr/>
          </p:nvSpPr>
          <p:spPr>
            <a:xfrm flipH="1" flipV="1">
              <a:off x="6781320" y="1828800"/>
              <a:ext cx="3049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715000" y="2361960"/>
              <a:ext cx="99072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705720" y="2133720"/>
              <a:ext cx="1218960" cy="914400"/>
              <a:chOff x="6705720" y="2133720"/>
              <a:chExt cx="1218960" cy="914400"/>
            </a:xfrm>
          </p:grpSpPr>
          <p:sp>
            <p:nvSpPr>
              <p:cNvPr id="163" name=""/>
              <p:cNvSpPr/>
              <p:nvPr/>
            </p:nvSpPr>
            <p:spPr>
              <a:xfrm>
                <a:off x="6705720" y="2133720"/>
                <a:ext cx="121896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05720" y="2133720"/>
                <a:ext cx="1218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VIS DE REGLAGE  DE LA CYLIND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809880" y="838080"/>
            <a:ext cx="1676520" cy="1752840"/>
            <a:chOff x="3809880" y="838080"/>
            <a:chExt cx="1676520" cy="1752840"/>
          </a:xfrm>
        </p:grpSpPr>
        <p:sp>
          <p:nvSpPr>
            <p:cNvPr id="166" name=""/>
            <p:cNvSpPr/>
            <p:nvPr/>
          </p:nvSpPr>
          <p:spPr>
            <a:xfrm>
              <a:off x="4800600" y="1447920"/>
              <a:ext cx="15228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0600" y="1371600"/>
              <a:ext cx="45720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83808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6200" y="914400"/>
              <a:ext cx="155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 AXES D’ACCROCH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43400" y="2971800"/>
            <a:ext cx="1447920" cy="2209680"/>
            <a:chOff x="4343400" y="2971800"/>
            <a:chExt cx="1447920" cy="2209680"/>
          </a:xfrm>
        </p:grpSpPr>
        <p:sp>
          <p:nvSpPr>
            <p:cNvPr id="171" name=""/>
            <p:cNvSpPr/>
            <p:nvPr/>
          </p:nvSpPr>
          <p:spPr>
            <a:xfrm flipH="1" flipV="1">
              <a:off x="5029200" y="3428640"/>
              <a:ext cx="763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43400" y="4648320"/>
              <a:ext cx="1447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48006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IV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105520" y="2971800"/>
              <a:ext cx="60948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8520" y="6248520"/>
            <a:ext cx="2514240" cy="609480"/>
            <a:chOff x="6248520" y="6248520"/>
            <a:chExt cx="2514240" cy="609480"/>
          </a:xfrm>
        </p:grpSpPr>
        <p:sp>
          <p:nvSpPr>
            <p:cNvPr id="176" name=""/>
            <p:cNvSpPr/>
            <p:nvPr/>
          </p:nvSpPr>
          <p:spPr>
            <a:xfrm>
              <a:off x="6248520" y="6248520"/>
              <a:ext cx="251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26640" y="6431040"/>
              <a:ext cx="22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chéma cinématique  page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629040" y="4495320"/>
            <a:ext cx="991080" cy="916560"/>
            <a:chOff x="6629040" y="4495320"/>
            <a:chExt cx="991080" cy="916560"/>
          </a:xfrm>
        </p:grpSpPr>
        <p:grpSp>
          <p:nvGrpSpPr>
            <p:cNvPr id="179" name=""/>
            <p:cNvGrpSpPr/>
            <p:nvPr/>
          </p:nvGrpSpPr>
          <p:grpSpPr>
            <a:xfrm>
              <a:off x="6629040" y="4495320"/>
              <a:ext cx="991080" cy="914760"/>
              <a:chOff x="6629040" y="4495320"/>
              <a:chExt cx="991080" cy="914760"/>
            </a:xfrm>
          </p:grpSpPr>
          <p:sp>
            <p:nvSpPr>
              <p:cNvPr id="180" name=""/>
              <p:cNvSpPr/>
              <p:nvPr/>
            </p:nvSpPr>
            <p:spPr>
              <a:xfrm flipH="1" flipV="1">
                <a:off x="6629040" y="4495320"/>
                <a:ext cx="60948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29400" y="4876920"/>
                <a:ext cx="9907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629400" y="49528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 SANS 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95880" y="3276360"/>
            <a:ext cx="2133720" cy="838440"/>
            <a:chOff x="6095880" y="3276360"/>
            <a:chExt cx="2133720" cy="838440"/>
          </a:xfrm>
        </p:grpSpPr>
        <p:sp>
          <p:nvSpPr>
            <p:cNvPr id="184" name=""/>
            <p:cNvSpPr/>
            <p:nvPr/>
          </p:nvSpPr>
          <p:spPr>
            <a:xfrm>
              <a:off x="7010280" y="3505320"/>
              <a:ext cx="121932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6095880" y="3276360"/>
              <a:ext cx="15242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10280" y="358164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PPORT DE MANIV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29000" y="2286000"/>
            <a:ext cx="1295280" cy="1752480"/>
            <a:chOff x="3429000" y="2286000"/>
            <a:chExt cx="1295280" cy="1752480"/>
          </a:xfrm>
        </p:grpSpPr>
        <p:sp>
          <p:nvSpPr>
            <p:cNvPr id="188" name=""/>
            <p:cNvSpPr/>
            <p:nvPr/>
          </p:nvSpPr>
          <p:spPr>
            <a:xfrm>
              <a:off x="4038480" y="2743200"/>
              <a:ext cx="6858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14800" y="2743200"/>
              <a:ext cx="76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2286000"/>
              <a:ext cx="9907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24382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I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2743200"/>
              <a:ext cx="30492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71600" y="4343040"/>
            <a:ext cx="1905120" cy="1143360"/>
            <a:chOff x="1371600" y="4343040"/>
            <a:chExt cx="1905120" cy="1143360"/>
          </a:xfrm>
        </p:grpSpPr>
        <p:grpSp>
          <p:nvGrpSpPr>
            <p:cNvPr id="194" name=""/>
            <p:cNvGrpSpPr/>
            <p:nvPr/>
          </p:nvGrpSpPr>
          <p:grpSpPr>
            <a:xfrm>
              <a:off x="1371600" y="4648320"/>
              <a:ext cx="1371600" cy="838080"/>
              <a:chOff x="1371600" y="4648320"/>
              <a:chExt cx="1371600" cy="83808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1371600" y="46483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0200" y="4800600"/>
                <a:ext cx="914400" cy="609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0200" y="4952880"/>
                <a:ext cx="91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IST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2743200" y="434304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nématique du mécanisme configuration cylindrée nu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502680" cy="5056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90920" y="5638680"/>
            <a:ext cx="3657600" cy="82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 position verticale du support de manivelle / à l’axe du coulisseau a pour effet de rendre la cylindrée nu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28600" y="6248520"/>
            <a:ext cx="3276360" cy="609480"/>
            <a:chOff x="228600" y="6248520"/>
            <a:chExt cx="3276360" cy="609480"/>
          </a:xfrm>
        </p:grpSpPr>
        <p:sp>
          <p:nvSpPr>
            <p:cNvPr id="203" name=""/>
            <p:cNvSpPr/>
            <p:nvPr/>
          </p:nvSpPr>
          <p:spPr>
            <a:xfrm>
              <a:off x="22860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4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2 page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nématique du mécanisme configuration réglage de la cylind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02320" cy="505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438280" y="5638680"/>
            <a:ext cx="4191120" cy="82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 variation de l’inclinaison  du support de manivelle / à l’axe du coulisseau est réalisée par la vis de régl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6248520"/>
            <a:ext cx="3276360" cy="609480"/>
            <a:chOff x="228600" y="6248520"/>
            <a:chExt cx="3276360" cy="609480"/>
          </a:xfrm>
        </p:grpSpPr>
        <p:sp>
          <p:nvSpPr>
            <p:cNvPr id="209" name=""/>
            <p:cNvSpPr/>
            <p:nvPr/>
          </p:nvSpPr>
          <p:spPr>
            <a:xfrm>
              <a:off x="228600" y="6248520"/>
              <a:ext cx="327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0480" y="6431040"/>
              <a:ext cx="29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pitre 2 page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nématique du mécanisme configuration cylindrée m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502320" cy="5056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0880" y="5638680"/>
            <a:ext cx="4191120" cy="10674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 variation de l’inclinaison  du support de manivelle / à l’axe du coulisseau a pour effet d’engendrer un mouvement sinusoïdal du coulis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5715000"/>
            <a:ext cx="4191120" cy="5806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amplitude du mouvement sinusoïdal va déterminer la cylindrée du do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52280" y="1066680"/>
            <a:ext cx="7998120" cy="5139000"/>
            <a:chOff x="152280" y="1066680"/>
            <a:chExt cx="7998120" cy="51390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rcRect l="8532" t="10669" r="4370" b="9487"/>
            <a:stretch/>
          </p:blipFill>
          <p:spPr>
            <a:xfrm>
              <a:off x="1143000" y="1066680"/>
              <a:ext cx="7007400" cy="51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52280" y="4952880"/>
              <a:ext cx="4114800" cy="82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C’est la particularité de la solution technologique employée qui induit le degré d’hyperstatisme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d’ordr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étail du montage en parallèle des axes d’accroch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114440" y="3200040"/>
            <a:ext cx="1524240" cy="2667240"/>
            <a:chOff x="4114440" y="3200040"/>
            <a:chExt cx="1524240" cy="2667240"/>
          </a:xfrm>
        </p:grpSpPr>
        <p:sp>
          <p:nvSpPr>
            <p:cNvPr id="220" name=""/>
            <p:cNvSpPr/>
            <p:nvPr/>
          </p:nvSpPr>
          <p:spPr>
            <a:xfrm flipH="1" flipV="1">
              <a:off x="4114440" y="3200040"/>
              <a:ext cx="68580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4952880"/>
              <a:ext cx="121896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9720" y="4952880"/>
              <a:ext cx="121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 DE REGLAGE  DE LA CYLIND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240" y="1828800"/>
            <a:ext cx="1752840" cy="1219320"/>
            <a:chOff x="5943240" y="1828800"/>
            <a:chExt cx="1752840" cy="1219320"/>
          </a:xfrm>
        </p:grpSpPr>
        <p:sp>
          <p:nvSpPr>
            <p:cNvPr id="224" name=""/>
            <p:cNvSpPr/>
            <p:nvPr/>
          </p:nvSpPr>
          <p:spPr>
            <a:xfrm>
              <a:off x="6477120" y="1828800"/>
              <a:ext cx="121896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240" y="2209680"/>
              <a:ext cx="114300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19051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PPORT DE MANIV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371600" y="1143000"/>
            <a:ext cx="3276720" cy="2209680"/>
            <a:chOff x="1371600" y="1143000"/>
            <a:chExt cx="3276720" cy="2209680"/>
          </a:xfrm>
        </p:grpSpPr>
        <p:sp>
          <p:nvSpPr>
            <p:cNvPr id="228" name=""/>
            <p:cNvSpPr/>
            <p:nvPr/>
          </p:nvSpPr>
          <p:spPr>
            <a:xfrm>
              <a:off x="2438280" y="2438280"/>
              <a:ext cx="38124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1600200"/>
              <a:ext cx="30492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114300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5480" y="12193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XE D’ACCROCHAG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7920" y="1828800"/>
              <a:ext cx="1676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1600" y="1905120"/>
              <a:ext cx="17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XE D’ACCROCHAG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e d’élaboration du Modèle numérique CAO  Solid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280" y="609480"/>
            <a:ext cx="3349800" cy="4469040"/>
            <a:chOff x="152280" y="609480"/>
            <a:chExt cx="3349800" cy="4469040"/>
          </a:xfrm>
        </p:grpSpPr>
        <p:pic>
          <p:nvPicPr>
            <p:cNvPr id="236" name="&amp;è" descr="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334980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981080" y="1905120"/>
              <a:ext cx="1447920" cy="146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éation des sous assemblages liés par la cinéma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 travail de conception du mécanisme sera plus sim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57600" y="609480"/>
            <a:ext cx="5181480" cy="5166000"/>
            <a:chOff x="3657600" y="609480"/>
            <a:chExt cx="5181480" cy="5166000"/>
          </a:xfrm>
        </p:grpSpPr>
        <p:grpSp>
          <p:nvGrpSpPr>
            <p:cNvPr id="239" name=""/>
            <p:cNvGrpSpPr/>
            <p:nvPr/>
          </p:nvGrpSpPr>
          <p:grpSpPr>
            <a:xfrm>
              <a:off x="4343400" y="609480"/>
              <a:ext cx="4495680" cy="5166000"/>
              <a:chOff x="4343400" y="609480"/>
              <a:chExt cx="4495680" cy="5166000"/>
            </a:xfrm>
          </p:grpSpPr>
          <p:pic>
            <p:nvPicPr>
              <p:cNvPr id="240" name="&amp;è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3400" y="609480"/>
                <a:ext cx="3440160" cy="516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&amp;è" descr=""/>
              <p:cNvPicPr/>
              <p:nvPr/>
            </p:nvPicPr>
            <p:blipFill>
              <a:blip r:embed="rId3"/>
              <a:srcRect l="15823" t="43882" r="16387" b="47592"/>
              <a:stretch/>
            </p:blipFill>
            <p:spPr>
              <a:xfrm>
                <a:off x="6553080" y="3962520"/>
                <a:ext cx="2286000" cy="5331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5791320" y="41911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657600" y="1066680"/>
              <a:ext cx="4495680" cy="1676520"/>
              <a:chOff x="3657600" y="1066680"/>
              <a:chExt cx="4495680" cy="1676520"/>
            </a:xfrm>
          </p:grpSpPr>
          <p:sp>
            <p:nvSpPr>
              <p:cNvPr id="244" name=""/>
              <p:cNvSpPr/>
              <p:nvPr/>
            </p:nvSpPr>
            <p:spPr>
              <a:xfrm>
                <a:off x="6629400" y="1066680"/>
                <a:ext cx="1523880" cy="736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éca 3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Logiciel complémentai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57600" y="2362320"/>
                <a:ext cx="1066680" cy="380880"/>
              </a:xfrm>
              <a:custGeom>
                <a:avLst/>
                <a:gdLst>
                  <a:gd name="textAreaLeft" fmla="*/ 166680 w 1066680"/>
                  <a:gd name="textAreaRight" fmla="*/ 933480 w 1066680"/>
                  <a:gd name="textAreaTop" fmla="*/ 95040 h 380880"/>
                  <a:gd name="textAreaBottom" fmla="*/ 2858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7:07:05Z</dcterms:created>
  <dc:creator> </dc:creator>
  <dc:description/>
  <dc:language>en-US</dc:language>
  <cp:lastModifiedBy>HP registered user</cp:lastModifiedBy>
  <dcterms:modified xsi:type="dcterms:W3CDTF">2007-09-07T18:16:04Z</dcterms:modified>
  <cp:revision>104</cp:revision>
  <dc:subject/>
  <dc:title>Présentation PowerPoint</dc:title>
</cp:coreProperties>
</file>