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A1C-BCA5-4545-B8F3-0BC66D18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0DE-DF57-468A-B491-653F98AA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627-02B5-4C50-AA24-2115D2A4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4C1-8539-44D2-B12F-0AD3A182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7A8C-3837-4667-B685-CF3E3BB6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A5CE-CD65-44F4-A31B-C33CF6B7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B705-ACA5-47FE-890D-A0DB1322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B26D-EDCE-48C4-A487-1D6D788F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1DEB-038E-4AF0-AF0E-F915A3BF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3DB1-4D3D-40E2-B84A-063661C7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3CF2-DC23-4424-8EB3-06321B73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9F6-1CEE-49A1-A9ED-278EA7B7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1C64-B5D0-4663-96DC-4FD59A36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FAAC-53B4-4F16-A2D7-6D8E55D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7123-3C56-4F3C-BC20-08810264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A010-6FDB-452B-B73A-65F6B176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74A9-1788-4113-8454-9DB980C8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BF5-7425-4984-9515-D73261DA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76E-42B3-44B8-BFB4-517001B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C1E-F40A-4E6A-8AA7-1BBF4709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7E4-4D73-452C-B071-B52AE79B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AB0-4D46-4D3D-8999-3CD09DA4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DC1-3B57-4E00-AF78-E84E8775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38A-CC71-4861-9F5F-97F94829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559C-AE95-4054-9411-E18BE29DAEE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FF87-D857-4CDD-9A08-A544F51F21A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COSMOS MO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mpe à dépres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61722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ff"/>
                </a:solidFill>
                <a:latin typeface="Times New Roman"/>
              </a:rPr>
              <a:t>Robert Bozzer – Pierre Epp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3388-3C3A-456B-AD19-06C968ACAE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3244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985080" cy="578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753-2D4C-4127-A7FA-378C249323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2510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7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3244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7086600" cy="5796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397560" y="671400"/>
            <a:ext cx="1868400" cy="1382760"/>
          </a:xfrm>
          <a:prstGeom prst="borderCallout2">
            <a:avLst>
              <a:gd name="adj1" fmla="val 18750"/>
              <a:gd name="adj2" fmla="val -8333"/>
              <a:gd name="adj3" fmla="val 8268"/>
              <a:gd name="adj4" fmla="val -36449"/>
              <a:gd name="adj5" fmla="val 167967"/>
              <a:gd name="adj6" fmla="val -69921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jectoire du point A du rotor par rapport au cor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057400"/>
            <a:ext cx="236232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3226"/>
              <a:gd name="adj5" fmla="val 14583"/>
              <a:gd name="adj6" fmla="val -3763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uvement de rotation unifor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267080"/>
            <a:ext cx="186840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23532"/>
              <a:gd name="adj5" fmla="val -292615"/>
              <a:gd name="adj6" fmla="val 143671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cteur vitesse du point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31240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DA2-98D3-4230-A347-F2A4C8C138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3244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7086600" cy="5796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447920" y="4267080"/>
            <a:ext cx="186840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23532"/>
              <a:gd name="adj5" fmla="val -292615"/>
              <a:gd name="adj6" fmla="val 143671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cteur vitesse du point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380880"/>
            <a:ext cx="3124440" cy="53352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actéristique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990720"/>
            <a:ext cx="3124440" cy="53316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Point d’application :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1523880"/>
            <a:ext cx="3124440" cy="91440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rection : la tangente en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 cercle de rayon OA o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pendiculaire au rayon 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2438280"/>
            <a:ext cx="3124440" cy="91440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ns : donné par le se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a r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3352680"/>
            <a:ext cx="3124440" cy="91440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nsité : constante de val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5.262 mm/se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4876920"/>
            <a:ext cx="990720" cy="53316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019920" y="4114440"/>
            <a:ext cx="380880" cy="7621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48320" y="2819520"/>
            <a:ext cx="380880" cy="3808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31240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977-5543-43EC-9CFD-9374C61274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00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Recherche et mise en évidence de la vitesse instantanée du point C appartenant à la palette par rapport au corps :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- Identification de la trajectoire du point C appartenant à la palette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- Identification du type de mouvement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Identification du vecteur vitesse du point C palette / corps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Identification des caractéristiques du vecteur vitesse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Recherche de son intensité Maxi et mini à partir du graphe de simulation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CCD-F414-40BA-B392-B0DF13BA34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3244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6624720" cy="548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27A-789F-4233-93AA-4C186B295F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510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5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7162560" cy="5908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3405240" cy="4343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3244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97560" y="671400"/>
            <a:ext cx="1868400" cy="1382760"/>
          </a:xfrm>
          <a:prstGeom prst="borderCallout2">
            <a:avLst>
              <a:gd name="adj1" fmla="val 18750"/>
              <a:gd name="adj2" fmla="val -8333"/>
              <a:gd name="adj3" fmla="val 8268"/>
              <a:gd name="adj4" fmla="val -39509"/>
              <a:gd name="adj5" fmla="val 152814"/>
              <a:gd name="adj6" fmla="val -76296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jectoire du point C de la palette par rapport au cor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2057400"/>
            <a:ext cx="2666880" cy="990720"/>
          </a:xfrm>
          <a:prstGeom prst="borderCallout2">
            <a:avLst>
              <a:gd name="adj1" fmla="val 18750"/>
              <a:gd name="adj2" fmla="val -8333"/>
              <a:gd name="adj3" fmla="val 11537"/>
              <a:gd name="adj4" fmla="val 2379"/>
              <a:gd name="adj5" fmla="val 11217"/>
              <a:gd name="adj6" fmla="val 2379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uvement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mbinaison de rotation et de transl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4800600"/>
            <a:ext cx="1868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14101"/>
              <a:gd name="adj5" fmla="val 379"/>
              <a:gd name="adj6" fmla="val 124467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cteur vitesse du point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A60-D73F-4F6B-9316-537BAECBE2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7162560" cy="5908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4800600"/>
            <a:ext cx="1868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21666"/>
              <a:gd name="adj5" fmla="val -56629"/>
              <a:gd name="adj6" fmla="val 139847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cteur vitesse du point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80880"/>
            <a:ext cx="3124440" cy="53352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actéristique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990720"/>
            <a:ext cx="3124440" cy="53316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Point d’application :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523880"/>
            <a:ext cx="3124440" cy="91440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rection : la tangente en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à la trajecto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2438280"/>
            <a:ext cx="3124440" cy="91440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ns : donné par le se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a r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3352680"/>
            <a:ext cx="3124440" cy="60984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nsité : variab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238880" y="3962520"/>
            <a:ext cx="152640" cy="533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132-4AE3-4C1A-AEC0-E1A99D8D61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3244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5791320"/>
            <a:ext cx="3581280" cy="45720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nsité maxi = 127.47 mm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105520" y="3668760"/>
            <a:ext cx="3579840" cy="2547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5562720"/>
            <a:ext cx="381240" cy="22860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4038480"/>
            <a:ext cx="380880" cy="22860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5562720"/>
            <a:ext cx="609480" cy="30456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4038480"/>
            <a:ext cx="609480" cy="30492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3838680"/>
            <a:ext cx="259092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38050"/>
              <a:gd name="adj5" fmla="val 223749"/>
              <a:gd name="adj6" fmla="val 189703"/>
            </a:avLst>
          </a:prstGeom>
          <a:solidFill>
            <a:srgbClr val="00cccc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ition vitesse de C mi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3048120"/>
            <a:ext cx="259056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11458"/>
              <a:gd name="adj5" fmla="val 130833"/>
              <a:gd name="adj6" fmla="val 120402"/>
            </a:avLst>
          </a:prstGeom>
          <a:solidFill>
            <a:srgbClr val="00cccc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ition vitesse de C Max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648320"/>
            <a:ext cx="3581280" cy="45720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iation de la vitesse d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5181480"/>
            <a:ext cx="3581280" cy="53352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nsité mini = 40.361 mm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343400" y="152280"/>
            <a:ext cx="2703600" cy="2800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1219320" y="762120"/>
            <a:ext cx="2766960" cy="299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B16-FFBF-4012-A989-A618F3333B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500"/>
                            </p:stCondLst>
                            <p:childTnLst>
                              <p:par>
                                <p:cTn id="27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4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00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Recherche et mise en évidence de l’accélération du point B appartenant au rotor par rapport au corps :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- Identification de la trajectoire du point B appartenant au corps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- Identification du type de mouvement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Identification du vecteur accélération du point B rotor / corps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Identification des caractéristiques du vecteur accélération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Recherche de son intensité à partir du graphe de simulation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E93-14A4-430A-A34F-B42322BD65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3244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058160" cy="584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5B4-A758-4759-8B2F-1EB4B8A9C9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2510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0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7086600" cy="5884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575400" y="436680"/>
            <a:ext cx="1654200" cy="49536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77925"/>
              <a:gd name="adj5" fmla="val 574361"/>
              <a:gd name="adj6" fmla="val -157583"/>
            </a:avLst>
          </a:prstGeom>
          <a:solidFill>
            <a:srgbClr val="00cccc"/>
          </a:solidFill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let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1066680"/>
            <a:ext cx="157644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55689"/>
              <a:gd name="adj5" fmla="val 505555"/>
              <a:gd name="adj6" fmla="val -108356"/>
            </a:avLst>
          </a:prstGeom>
          <a:solidFill>
            <a:srgbClr val="00cccc"/>
          </a:solidFill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1676520"/>
            <a:ext cx="1623960" cy="482400"/>
          </a:xfrm>
          <a:prstGeom prst="borderCallout2">
            <a:avLst>
              <a:gd name="adj1" fmla="val 18750"/>
              <a:gd name="adj2" fmla="val -8333"/>
              <a:gd name="adj3" fmla="val 23685"/>
              <a:gd name="adj4" fmla="val -15541"/>
              <a:gd name="adj5" fmla="val 349342"/>
              <a:gd name="adj6" fmla="val -38611"/>
            </a:avLst>
          </a:prstGeom>
          <a:solidFill>
            <a:srgbClr val="00cccc"/>
          </a:solidFill>
          <a:ln w="1908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0D61-0F4F-4015-9C0D-071CACACA8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086600" cy="5848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3244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97560" y="671400"/>
            <a:ext cx="1868400" cy="1382760"/>
          </a:xfrm>
          <a:prstGeom prst="borderCallout2">
            <a:avLst>
              <a:gd name="adj1" fmla="val 18750"/>
              <a:gd name="adj2" fmla="val -8333"/>
              <a:gd name="adj3" fmla="val 8268"/>
              <a:gd name="adj4" fmla="val -64060"/>
              <a:gd name="adj5" fmla="val 130194"/>
              <a:gd name="adj6" fmla="val -126337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jectoire du point B du rotor par rapport au cor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83280" y="2057400"/>
            <a:ext cx="25272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3013"/>
              <a:gd name="adj5" fmla="val 14583"/>
              <a:gd name="adj6" fmla="val -3013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uvement de r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for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4800600"/>
            <a:ext cx="217332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121402"/>
              <a:gd name="adj5" fmla="val -7638"/>
              <a:gd name="adj6" fmla="val 139958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cteur accélération  du point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3048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5C1-0CCE-48B5-A8CD-FF69F6481A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086600" cy="58485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3244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380880"/>
            <a:ext cx="3124440" cy="53352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actéristique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990720"/>
            <a:ext cx="3124440" cy="53316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Point d’application :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1523880"/>
            <a:ext cx="3124440" cy="60984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rection : rayon 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2133720"/>
            <a:ext cx="3124440" cy="91440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ns : toujours vers le cent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B vers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048120"/>
            <a:ext cx="3124440" cy="60948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nsité : constan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808.853 mm / 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7162560" y="3657600"/>
            <a:ext cx="228600" cy="1371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3048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4800600"/>
            <a:ext cx="217332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121402"/>
              <a:gd name="adj5" fmla="val -7638"/>
              <a:gd name="adj6" fmla="val 139958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cteur accélération  du point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6019920"/>
            <a:ext cx="3505320" cy="685800"/>
          </a:xfrm>
          <a:prstGeom prst="flowChartProcess">
            <a:avLst/>
          </a:prstGeom>
          <a:solidFill>
            <a:srgbClr val="00cccc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’est l’accélération normale appelé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élération centripè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5DA-57AB-4B62-B68B-CB52E97845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firstslide"/>
          </p:cNvPr>
          <p:cNvSpPr/>
          <p:nvPr/>
        </p:nvSpPr>
        <p:spPr>
          <a:xfrm>
            <a:off x="7696080" y="6324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56A-BEDF-4A3F-8D8A-82C1154886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6337080" cy="5316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SIMULATION GENERAL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C0C-491E-4430-84D2-613787C128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510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Quelques exemples d’utilisation des simulations sous forme vidé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217-D126-4327-AE50-CA7B848BF4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666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00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Recherche et mise en évidence du déplacement d’une palette par rapport au rotor :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- Identification de la trajectoire d’un point appartenant à la palette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- Identification du type de mouvement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Calcul de l ’amplitude de déplacement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à partir du graphe de simulation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EE3-340D-43AE-AB9D-9BB9AAB795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7128000" cy="590076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C6F-3A4C-474F-A5F1-D61F597525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510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7086600" cy="5892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24080" y="2514600"/>
            <a:ext cx="533520" cy="114300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97560" y="671400"/>
            <a:ext cx="1868400" cy="1382760"/>
          </a:xfrm>
          <a:prstGeom prst="borderCallout2">
            <a:avLst>
              <a:gd name="adj1" fmla="val 18750"/>
              <a:gd name="adj2" fmla="val -8333"/>
              <a:gd name="adj3" fmla="val 8268"/>
              <a:gd name="adj4" fmla="val -74254"/>
              <a:gd name="adj5" fmla="val 157060"/>
              <a:gd name="adj6" fmla="val -147152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jectoire du point C de la palette par rapport au r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4267080"/>
            <a:ext cx="1752480" cy="381240"/>
          </a:xfrm>
          <a:prstGeom prst="ellipse">
            <a:avLst/>
          </a:prstGeom>
          <a:noFill/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3124080"/>
            <a:ext cx="1828800" cy="990720"/>
          </a:xfrm>
          <a:prstGeom prst="borderCallout2">
            <a:avLst>
              <a:gd name="adj1" fmla="val 18750"/>
              <a:gd name="adj2" fmla="val -8333"/>
              <a:gd name="adj3" fmla="val 11537"/>
              <a:gd name="adj4" fmla="val -8856"/>
              <a:gd name="adj5" fmla="val 122277"/>
              <a:gd name="adj6" fmla="val -13541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aphe d’amplitude du mouv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22096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2057400"/>
            <a:ext cx="236232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3226"/>
              <a:gd name="adj5" fmla="val 14583"/>
              <a:gd name="adj6" fmla="val -3763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uvement de translation rectilig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020-FF01-4E61-8BAB-A036B62389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313080" y="228600"/>
            <a:ext cx="1771560" cy="2103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733920" y="3429000"/>
            <a:ext cx="3886200" cy="2774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629400" y="380880"/>
            <a:ext cx="2325600" cy="1797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371600" y="762120"/>
            <a:ext cx="1233360" cy="2471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267080" y="4114800"/>
            <a:ext cx="533520" cy="3049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3809880"/>
            <a:ext cx="457200" cy="3049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5486400"/>
            <a:ext cx="457200" cy="30492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3265560"/>
            <a:ext cx="186876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89125"/>
              <a:gd name="adj5" fmla="val 108541"/>
              <a:gd name="adj6" fmla="val 190907"/>
            </a:avLst>
          </a:prstGeom>
          <a:solidFill>
            <a:srgbClr val="00cccc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ition de dé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2362320"/>
            <a:ext cx="186840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13763"/>
              <a:gd name="adj5" fmla="val 415833"/>
              <a:gd name="adj6" fmla="val 123958"/>
            </a:avLst>
          </a:prstGeom>
          <a:solidFill>
            <a:srgbClr val="00cccc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ition palette rentrée max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2209680"/>
            <a:ext cx="18684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5949"/>
              <a:gd name="adj5" fmla="val 221041"/>
              <a:gd name="adj6" fmla="val -7902"/>
            </a:avLst>
          </a:prstGeom>
          <a:solidFill>
            <a:srgbClr val="00cccc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ition palette sortie max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4952880"/>
            <a:ext cx="312408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90800"/>
              <a:gd name="adj5" fmla="val 14166"/>
              <a:gd name="adj6" fmla="val 90800"/>
            </a:avLst>
          </a:prstGeom>
          <a:solidFill>
            <a:srgbClr val="00cccc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plitude de mouvement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6.535 – 3.382 = 13.153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A0D-5E2E-4230-B6CE-539ABC9013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00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Recherche et mise en évidence de la vitesse du point A appartenant au rotor par rapport au corps :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- Identification de la trajectoire du point A appartenant au rotor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- Identification du type de mouvement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Identification du vecteur vitesse du point A rotor / corps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Identification des caractéristiques du vecteur vitesse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Recherche de son intensité à partir du graphe de simulation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6494"/>
                </a:moveTo>
                <a:lnTo>
                  <a:pt x="17806" y="13500"/>
                </a:lnTo>
                <a:lnTo>
                  <a:pt x="3794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315200" y="6324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3794" y="13500"/>
                </a:moveTo>
                <a:lnTo>
                  <a:pt x="17806" y="6494"/>
                </a:lnTo>
                <a:lnTo>
                  <a:pt x="17806" y="205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BEE-4127-4AC9-B529-CC44C59E9D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12:53Z</dcterms:created>
  <dc:creator>Robert Bozzer</dc:creator>
  <dc:description/>
  <dc:language>en-US</dc:language>
  <cp:lastModifiedBy>rb</cp:lastModifiedBy>
  <dcterms:modified xsi:type="dcterms:W3CDTF">2008-04-02T18:12:55Z</dcterms:modified>
  <cp:revision>51</cp:revision>
  <dc:subject/>
  <dc:title>Présentation PowerPoint</dc:title>
</cp:coreProperties>
</file>