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PHOTO.WAV" ContentType="audio/x-wav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CDB0-5089-46E6-9B54-A8CEA120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419-8793-41EB-AB50-8163DE46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BF6-0C77-43EE-828A-E57B3B76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CE3-6638-4880-9333-7D789045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232-0847-4096-9D73-84E35127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2E5-BF87-4A52-88F1-048D378E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ABD1-8C2F-4763-9D06-6748C40F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FD0-43E0-4E92-86FE-1277AC17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B311-D959-4F09-A032-D45806D2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7F8-AB5F-4423-BDBF-84DBD180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B56-FB77-48FB-B6BF-C862E2FB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523-A6FD-4437-A7A7-9DDC5C34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D7E8-8C65-4B66-9700-E77D25F57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audio" Target="../media/APPPHOTO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APPPHOTO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cgri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P n°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6668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ctif :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Analyser le fonctionnement  d’un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système de transformation d’énergie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mécanique en type hydraul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51814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pport :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Maître-cylindre « tandem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838080" y="5334120"/>
            <a:ext cx="238320" cy="237960"/>
            <a:chOff x="838080" y="5334120"/>
            <a:chExt cx="238320" cy="237960"/>
          </a:xfrm>
        </p:grpSpPr>
        <p:sp>
          <p:nvSpPr>
            <p:cNvPr id="46" name=""/>
            <p:cNvSpPr/>
            <p:nvPr/>
          </p:nvSpPr>
          <p:spPr>
            <a:xfrm>
              <a:off x="838080" y="5334120"/>
              <a:ext cx="238320" cy="2379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914040" y="5562360"/>
              <a:ext cx="1522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66680" y="5410080"/>
              <a:ext cx="0" cy="151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838080" y="2819520"/>
            <a:ext cx="238320" cy="237960"/>
            <a:chOff x="838080" y="2819520"/>
            <a:chExt cx="238320" cy="237960"/>
          </a:xfrm>
        </p:grpSpPr>
        <p:sp>
          <p:nvSpPr>
            <p:cNvPr id="50" name=""/>
            <p:cNvSpPr/>
            <p:nvPr/>
          </p:nvSpPr>
          <p:spPr>
            <a:xfrm>
              <a:off x="838080" y="2819520"/>
              <a:ext cx="238320" cy="2379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914040" y="3047760"/>
              <a:ext cx="1522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066680" y="2895480"/>
              <a:ext cx="0" cy="151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zoom dir="out"/>
    <p:sndAc>
      <p:stSnd>
        <p:snd r:embed="rId2" name="APPPHOT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cgri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se en sit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3581280" cy="1739880"/>
          </a:xfrm>
          <a:prstGeom prst="rect">
            <a:avLst/>
          </a:prstGeom>
          <a:ln w="0">
            <a:noFill/>
          </a:ln>
        </p:spPr>
      </p:pic>
      <p:pic>
        <p:nvPicPr>
          <p:cNvPr id="56" name="mega1" descr=""/>
          <p:cNvPicPr/>
          <p:nvPr/>
        </p:nvPicPr>
        <p:blipFill>
          <a:blip r:embed="rId3">
            <a:grayscl/>
            <a:lum contrast="54000"/>
          </a:blip>
          <a:stretch/>
        </p:blipFill>
        <p:spPr>
          <a:xfrm>
            <a:off x="3048120" y="2583000"/>
            <a:ext cx="6095880" cy="427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19051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tude du maître-cylindre de véhicule particulier, Renault  Még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zoom dir="out"/>
    <p:sndAc>
      <p:stSnd>
        <p:snd r:embed="rId4" name="APPPHOT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mcgri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freinage%20eclaté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534160" cy="586728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228600" y="685800"/>
            <a:ext cx="3429000" cy="825480"/>
            <a:chOff x="228600" y="685800"/>
            <a:chExt cx="3429000" cy="825480"/>
          </a:xfrm>
        </p:grpSpPr>
        <p:sp>
          <p:nvSpPr>
            <p:cNvPr id="61" name=""/>
            <p:cNvSpPr/>
            <p:nvPr/>
          </p:nvSpPr>
          <p:spPr>
            <a:xfrm>
              <a:off x="228600" y="685800"/>
              <a:ext cx="342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ispositif de commande hydraul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2133360" y="106668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43000" y="0"/>
            <a:ext cx="75438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ystème de freinage classique sur véhi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587600">
            <a:off x="5943600" y="4190760"/>
            <a:ext cx="2743200" cy="2666880"/>
          </a:xfrm>
          <a:prstGeom prst="irregularSeal1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493240" y="3719520"/>
            <a:ext cx="3644280" cy="3609720"/>
            <a:chOff x="5493240" y="3719520"/>
            <a:chExt cx="3644280" cy="3609720"/>
          </a:xfrm>
        </p:grpSpPr>
        <p:sp>
          <p:nvSpPr>
            <p:cNvPr id="66" name=""/>
            <p:cNvSpPr/>
            <p:nvPr/>
          </p:nvSpPr>
          <p:spPr>
            <a:xfrm rot="1587600">
              <a:off x="5943600" y="4190760"/>
              <a:ext cx="2743200" cy="2666880"/>
            </a:xfrm>
            <a:prstGeom prst="irregularSeal1">
              <a:avLst/>
            </a:prstGeom>
            <a:solidFill>
              <a:srgbClr val="00cc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24480" y="5181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one d’étu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705720" y="609480"/>
            <a:ext cx="2438280" cy="1676520"/>
            <a:chOff x="6705720" y="609480"/>
            <a:chExt cx="2438280" cy="1676520"/>
          </a:xfrm>
        </p:grpSpPr>
        <p:sp>
          <p:nvSpPr>
            <p:cNvPr id="69" name=""/>
            <p:cNvSpPr/>
            <p:nvPr/>
          </p:nvSpPr>
          <p:spPr>
            <a:xfrm>
              <a:off x="6705720" y="6094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ambour de frei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8305920" y="990720"/>
              <a:ext cx="380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28600" y="5409720"/>
            <a:ext cx="2895480" cy="612360"/>
            <a:chOff x="228600" y="5409720"/>
            <a:chExt cx="2895480" cy="612360"/>
          </a:xfrm>
        </p:grpSpPr>
        <p:sp>
          <p:nvSpPr>
            <p:cNvPr id="72" name=""/>
            <p:cNvSpPr/>
            <p:nvPr/>
          </p:nvSpPr>
          <p:spPr>
            <a:xfrm>
              <a:off x="228600" y="55623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Étrier de fre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057400" y="5409720"/>
              <a:ext cx="10666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 rot="4257600">
            <a:off x="3042000" y="386640"/>
            <a:ext cx="163800" cy="2438280"/>
          </a:xfrm>
          <a:custGeom>
            <a:avLst/>
            <a:gdLst>
              <a:gd name="textAreaLeft" fmla="*/ 104760 w 163800"/>
              <a:gd name="textAreaRight" fmla="*/ 164160 w 1638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18"/>
                </a:lnTo>
                <a:cubicBezTo>
                  <a:pt x="10800" y="9318"/>
                  <a:pt x="5400" y="10218"/>
                  <a:pt x="0" y="10218"/>
                </a:cubicBezTo>
                <a:cubicBezTo>
                  <a:pt x="5400" y="10218"/>
                  <a:pt x="10800" y="11118"/>
                  <a:pt x="10800" y="120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28600" y="3962520"/>
            <a:ext cx="2057400" cy="825480"/>
            <a:chOff x="228600" y="3962520"/>
            <a:chExt cx="2057400" cy="825480"/>
          </a:xfrm>
        </p:grpSpPr>
        <p:sp>
          <p:nvSpPr>
            <p:cNvPr id="76" name=""/>
            <p:cNvSpPr/>
            <p:nvPr/>
          </p:nvSpPr>
          <p:spPr>
            <a:xfrm>
              <a:off x="228600" y="39625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ircuit de frein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295280" y="4190760"/>
              <a:ext cx="990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514600" y="1752480"/>
            <a:ext cx="2057400" cy="1676520"/>
          </a:xfrm>
          <a:prstGeom prst="ellipse">
            <a:avLst/>
          </a:prstGeom>
          <a:noFill/>
          <a:ln w="414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16520" y="3333600"/>
            <a:ext cx="2133360" cy="171612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1214280" y="627048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3560" y="64054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quer sur l ’icône pour passer  à la su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493240" y="3719520"/>
            <a:ext cx="3644280" cy="3609720"/>
            <a:chOff x="5493240" y="3719520"/>
            <a:chExt cx="3644280" cy="3609720"/>
          </a:xfrm>
        </p:grpSpPr>
        <p:sp>
          <p:nvSpPr>
            <p:cNvPr id="83" name=""/>
            <p:cNvSpPr/>
            <p:nvPr/>
          </p:nvSpPr>
          <p:spPr>
            <a:xfrm rot="1587600">
              <a:off x="5943600" y="4190760"/>
              <a:ext cx="2743200" cy="2666880"/>
            </a:xfrm>
            <a:prstGeom prst="irregularSeal1">
              <a:avLst/>
            </a:prstGeom>
            <a:solidFill>
              <a:srgbClr val="ffff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72200" y="5105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ître-cylind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mcgris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15328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ésentation du maître-cylind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7901" r="0" b="7738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zoom dir="out"/>
    <p:sndAc>
      <p:stSnd>
        <p:snd r:embed="rId3" name="APPPHOTO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mvf1" descr=""/>
          <p:cNvPicPr/>
          <p:nvPr/>
        </p:nvPicPr>
        <p:blipFill>
          <a:blip r:embed="rId1"/>
          <a:srcRect l="0" t="13187" r="0" b="15215"/>
          <a:stretch/>
        </p:blipFill>
        <p:spPr>
          <a:xfrm>
            <a:off x="0" y="228600"/>
            <a:ext cx="9151920" cy="579132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2590920" y="4724280"/>
            <a:ext cx="1981080" cy="1892520"/>
            <a:chOff x="2590920" y="4724280"/>
            <a:chExt cx="1981080" cy="1892520"/>
          </a:xfrm>
        </p:grpSpPr>
        <p:sp>
          <p:nvSpPr>
            <p:cNvPr id="90" name=""/>
            <p:cNvSpPr/>
            <p:nvPr/>
          </p:nvSpPr>
          <p:spPr>
            <a:xfrm>
              <a:off x="2590920" y="57913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iston seconda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962520" y="4724280"/>
              <a:ext cx="60948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33520" y="1600200"/>
            <a:ext cx="1904760" cy="2590920"/>
            <a:chOff x="533520" y="1600200"/>
            <a:chExt cx="1904760" cy="2590920"/>
          </a:xfrm>
        </p:grpSpPr>
        <p:sp>
          <p:nvSpPr>
            <p:cNvPr id="93" name=""/>
            <p:cNvSpPr/>
            <p:nvPr/>
          </p:nvSpPr>
          <p:spPr>
            <a:xfrm>
              <a:off x="533520" y="160020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rps  et équip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720" y="2362320"/>
              <a:ext cx="30456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447920" y="838080"/>
            <a:ext cx="2361960" cy="1067040"/>
            <a:chOff x="1447920" y="838080"/>
            <a:chExt cx="2361960" cy="1067040"/>
          </a:xfrm>
        </p:grpSpPr>
        <p:sp>
          <p:nvSpPr>
            <p:cNvPr id="96" name=""/>
            <p:cNvSpPr/>
            <p:nvPr/>
          </p:nvSpPr>
          <p:spPr>
            <a:xfrm>
              <a:off x="1447920" y="8380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éservoi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43200" y="121932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28600" y="2606760"/>
            <a:ext cx="1295280" cy="2041560"/>
            <a:chOff x="228600" y="2606760"/>
            <a:chExt cx="1295280" cy="2041560"/>
          </a:xfrm>
        </p:grpSpPr>
        <p:sp>
          <p:nvSpPr>
            <p:cNvPr id="99" name=""/>
            <p:cNvSpPr/>
            <p:nvPr/>
          </p:nvSpPr>
          <p:spPr>
            <a:xfrm>
              <a:off x="228600" y="260676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iston prima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990720" y="3349800"/>
              <a:ext cx="372960" cy="12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171840" y="3657600"/>
            <a:ext cx="2743560" cy="1219320"/>
            <a:chOff x="6171840" y="3657600"/>
            <a:chExt cx="2743560" cy="1219320"/>
          </a:xfrm>
        </p:grpSpPr>
        <p:sp>
          <p:nvSpPr>
            <p:cNvPr id="102" name=""/>
            <p:cNvSpPr/>
            <p:nvPr/>
          </p:nvSpPr>
          <p:spPr>
            <a:xfrm>
              <a:off x="7543800" y="365760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ssor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 rapp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171840" y="441972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029200" y="5410080"/>
            <a:ext cx="2286000" cy="993240"/>
            <a:chOff x="5029200" y="5410080"/>
            <a:chExt cx="2286000" cy="993240"/>
          </a:xfrm>
        </p:grpSpPr>
        <p:sp>
          <p:nvSpPr>
            <p:cNvPr id="105" name=""/>
            <p:cNvSpPr/>
            <p:nvPr/>
          </p:nvSpPr>
          <p:spPr>
            <a:xfrm>
              <a:off x="5029200" y="5943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analis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6629400" y="5410080"/>
              <a:ext cx="685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057400" y="0"/>
            <a:ext cx="50292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s principaux sous ensem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609480" y="6248520"/>
            <a:ext cx="1043280" cy="433440"/>
          </a:xfrm>
          <a:custGeom>
            <a:avLst/>
            <a:gdLst>
              <a:gd name="textAreaLeft" fmla="*/ 28080 w 1043280"/>
              <a:gd name="textAreaRight" fmla="*/ 1015200 w 104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1965" h="21600">
                <a:moveTo>
                  <a:pt x="0" y="0"/>
                </a:moveTo>
                <a:lnTo>
                  <a:pt x="51965" y="0"/>
                </a:lnTo>
                <a:lnTo>
                  <a:pt x="51965" y="21600"/>
                </a:lnTo>
                <a:lnTo>
                  <a:pt x="0" y="21600"/>
                </a:lnTo>
                <a:close/>
              </a:path>
              <a:path fill="lightenLess" w="51965" h="21600">
                <a:moveTo>
                  <a:pt x="0" y="0"/>
                </a:moveTo>
                <a:lnTo>
                  <a:pt x="51965" y="0"/>
                </a:lnTo>
                <a:lnTo>
                  <a:pt x="50565" y="1400"/>
                </a:lnTo>
                <a:lnTo>
                  <a:pt x="1400" y="1400"/>
                </a:lnTo>
                <a:close/>
              </a:path>
              <a:path fill="darken" w="51965" h="21600">
                <a:moveTo>
                  <a:pt x="51965" y="0"/>
                </a:moveTo>
                <a:lnTo>
                  <a:pt x="51965" y="21600"/>
                </a:lnTo>
                <a:lnTo>
                  <a:pt x="50565" y="20200"/>
                </a:lnTo>
                <a:lnTo>
                  <a:pt x="50565" y="1400"/>
                </a:lnTo>
                <a:close/>
              </a:path>
              <a:path fill="darkenLess" w="51965" h="21600">
                <a:moveTo>
                  <a:pt x="5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65" y="20200"/>
                </a:lnTo>
                <a:close/>
              </a:path>
              <a:path fill="lighten" w="5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65" h="21600">
                <a:moveTo>
                  <a:pt x="18976" y="3794"/>
                </a:moveTo>
                <a:lnTo>
                  <a:pt x="32989" y="10800"/>
                </a:lnTo>
                <a:lnTo>
                  <a:pt x="1897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mcgri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23573" r="0" b="0"/>
          <a:stretch/>
        </p:blipFill>
        <p:spPr>
          <a:xfrm>
            <a:off x="152280" y="495360"/>
            <a:ext cx="8839440" cy="5970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5800" y="380880"/>
            <a:ext cx="792468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osition du maître-cylind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zoom dir="out"/>
    <p:sndAc>
      <p:stSnd>
        <p:snd r:embed="rId3" name="APPPHOTO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mcgri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Image1" descr=""/>
          <p:cNvPicPr/>
          <p:nvPr/>
        </p:nvPicPr>
        <p:blipFill>
          <a:blip r:embed="rId2"/>
          <a:stretch/>
        </p:blipFill>
        <p:spPr>
          <a:xfrm>
            <a:off x="3492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mvf1" descr=""/>
          <p:cNvPicPr/>
          <p:nvPr/>
        </p:nvPicPr>
        <p:blipFill>
          <a:blip r:embed="rId3"/>
          <a:srcRect l="0" t="13187" r="0" b="15215"/>
          <a:stretch/>
        </p:blipFill>
        <p:spPr>
          <a:xfrm>
            <a:off x="0" y="-304920"/>
            <a:ext cx="6705720" cy="4240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5720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ston prim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51814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ston second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5029200"/>
            <a:ext cx="32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rps et équipements (joints,rondelles, réservoir,canalis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51814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sort de rap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294920" y="2971800"/>
            <a:ext cx="381240" cy="1447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047760" y="3048120"/>
            <a:ext cx="152280" cy="12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222440" y="3048120"/>
            <a:ext cx="120600" cy="12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5888600">
            <a:off x="1180800" y="4152600"/>
            <a:ext cx="152640" cy="1752840"/>
          </a:xfrm>
          <a:custGeom>
            <a:avLst/>
            <a:gdLst>
              <a:gd name="textAreaLeft" fmla="*/ 97560 w 152640"/>
              <a:gd name="textAreaRight" fmla="*/ 153000 w 15264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114200">
            <a:off x="3155760" y="4311360"/>
            <a:ext cx="166680" cy="1296720"/>
          </a:xfrm>
          <a:custGeom>
            <a:avLst/>
            <a:gdLst>
              <a:gd name="textAreaLeft" fmla="*/ 106560 w 166680"/>
              <a:gd name="textAreaRight" fmla="*/ 166680 w 16668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10200">
            <a:off x="4495680" y="4647600"/>
            <a:ext cx="75960" cy="533520"/>
          </a:xfrm>
          <a:custGeom>
            <a:avLst/>
            <a:gdLst>
              <a:gd name="textAreaLeft" fmla="*/ 48600 w 75960"/>
              <a:gd name="textAreaRight" fmla="*/ 7632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023600">
            <a:off x="6676560" y="3092040"/>
            <a:ext cx="289080" cy="3584520"/>
          </a:xfrm>
          <a:custGeom>
            <a:avLst/>
            <a:gdLst>
              <a:gd name="textAreaLeft" fmla="*/ 184680 w 289080"/>
              <a:gd name="textAreaRight" fmla="*/ 289080 w 289080"/>
              <a:gd name="textAreaTop" fmla="*/ 93240 h 3584520"/>
              <a:gd name="textAreaBottom" fmla="*/ 3491280 h 358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4" name="APPPHOTO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mcgri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nctionnement  méca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5920" y="5624640"/>
            <a:ext cx="1042920" cy="50940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44207" h="21600">
                <a:moveTo>
                  <a:pt x="0" y="0"/>
                </a:moveTo>
                <a:lnTo>
                  <a:pt x="44207" y="0"/>
                </a:lnTo>
                <a:lnTo>
                  <a:pt x="44207" y="21600"/>
                </a:lnTo>
                <a:lnTo>
                  <a:pt x="0" y="21600"/>
                </a:lnTo>
                <a:close/>
              </a:path>
              <a:path fill="lightenLess" w="44207" h="21600">
                <a:moveTo>
                  <a:pt x="0" y="0"/>
                </a:moveTo>
                <a:lnTo>
                  <a:pt x="44207" y="0"/>
                </a:lnTo>
                <a:lnTo>
                  <a:pt x="42807" y="1400"/>
                </a:lnTo>
                <a:lnTo>
                  <a:pt x="1400" y="1400"/>
                </a:lnTo>
                <a:close/>
              </a:path>
              <a:path fill="darken" w="44207" h="21600">
                <a:moveTo>
                  <a:pt x="44207" y="0"/>
                </a:moveTo>
                <a:lnTo>
                  <a:pt x="44207" y="21600"/>
                </a:lnTo>
                <a:lnTo>
                  <a:pt x="42807" y="20200"/>
                </a:lnTo>
                <a:lnTo>
                  <a:pt x="42807" y="1400"/>
                </a:lnTo>
                <a:close/>
              </a:path>
              <a:path fill="darkenLess" w="44207" h="21600">
                <a:moveTo>
                  <a:pt x="442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807" y="20200"/>
                </a:lnTo>
                <a:close/>
              </a:path>
              <a:path fill="lighten" w="442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207" h="21600">
                <a:moveTo>
                  <a:pt x="15097" y="7301"/>
                </a:moveTo>
                <a:lnTo>
                  <a:pt x="16011" y="7301"/>
                </a:lnTo>
                <a:lnTo>
                  <a:pt x="16394" y="7667"/>
                </a:lnTo>
                <a:lnTo>
                  <a:pt x="25602" y="7667"/>
                </a:lnTo>
                <a:lnTo>
                  <a:pt x="26159" y="8224"/>
                </a:lnTo>
                <a:lnTo>
                  <a:pt x="26159" y="8772"/>
                </a:lnTo>
                <a:lnTo>
                  <a:pt x="28005" y="8772"/>
                </a:lnTo>
                <a:lnTo>
                  <a:pt x="28370" y="8224"/>
                </a:lnTo>
                <a:lnTo>
                  <a:pt x="29110" y="8224"/>
                </a:lnTo>
                <a:lnTo>
                  <a:pt x="29110" y="13376"/>
                </a:lnTo>
                <a:lnTo>
                  <a:pt x="28370" y="13376"/>
                </a:lnTo>
                <a:lnTo>
                  <a:pt x="28005" y="12828"/>
                </a:lnTo>
                <a:lnTo>
                  <a:pt x="26159" y="12828"/>
                </a:lnTo>
                <a:lnTo>
                  <a:pt x="26159" y="14107"/>
                </a:lnTo>
                <a:lnTo>
                  <a:pt x="16577" y="14107"/>
                </a:lnTo>
                <a:lnTo>
                  <a:pt x="16577" y="9877"/>
                </a:lnTo>
                <a:lnTo>
                  <a:pt x="16394" y="9877"/>
                </a:lnTo>
                <a:lnTo>
                  <a:pt x="16011" y="10243"/>
                </a:lnTo>
                <a:lnTo>
                  <a:pt x="15097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0574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conducteur exerce sur la pédale de frein un effort pour ralentir ou arrêter le véhicu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342900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t effort transmis au maître-cylindre crée un mouvement des pistons, à l’intérieur du  corps du maître-cylindre, qui gênèrent une pression hydraulique dans les circuits de frein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28920" y="570060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quer sur l ’icône pour l’animation du fonction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1276200" y="6240600"/>
            <a:ext cx="1043280" cy="433080"/>
          </a:xfrm>
          <a:custGeom>
            <a:avLst/>
            <a:gdLst>
              <a:gd name="textAreaLeft" fmla="*/ 28080 w 1043280"/>
              <a:gd name="textAreaRight" fmla="*/ 1015200 w 104328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52009" h="21600">
                <a:moveTo>
                  <a:pt x="0" y="0"/>
                </a:moveTo>
                <a:lnTo>
                  <a:pt x="52009" y="0"/>
                </a:lnTo>
                <a:lnTo>
                  <a:pt x="52009" y="21600"/>
                </a:lnTo>
                <a:lnTo>
                  <a:pt x="0" y="21600"/>
                </a:lnTo>
                <a:close/>
              </a:path>
              <a:path fill="lightenLess" w="52009" h="21600">
                <a:moveTo>
                  <a:pt x="0" y="0"/>
                </a:moveTo>
                <a:lnTo>
                  <a:pt x="52009" y="0"/>
                </a:lnTo>
                <a:lnTo>
                  <a:pt x="50609" y="1400"/>
                </a:lnTo>
                <a:lnTo>
                  <a:pt x="1400" y="1400"/>
                </a:lnTo>
                <a:close/>
              </a:path>
              <a:path fill="darken" w="52009" h="21600">
                <a:moveTo>
                  <a:pt x="52009" y="0"/>
                </a:moveTo>
                <a:lnTo>
                  <a:pt x="52009" y="21600"/>
                </a:lnTo>
                <a:lnTo>
                  <a:pt x="50609" y="20200"/>
                </a:lnTo>
                <a:lnTo>
                  <a:pt x="50609" y="1400"/>
                </a:lnTo>
                <a:close/>
              </a:path>
              <a:path fill="darkenLess" w="52009" h="21600">
                <a:moveTo>
                  <a:pt x="52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09" y="20200"/>
                </a:lnTo>
                <a:close/>
              </a:path>
              <a:path fill="lighten" w="52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09" h="21600">
                <a:moveTo>
                  <a:pt x="18998" y="3794"/>
                </a:moveTo>
                <a:lnTo>
                  <a:pt x="33011" y="10800"/>
                </a:lnTo>
                <a:lnTo>
                  <a:pt x="1899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05240" y="624060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quer sur l ’icône pour passer  à la su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APPPHOTO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mcgri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410080" y="2057400"/>
            <a:ext cx="1043280" cy="509760"/>
          </a:xfrm>
          <a:custGeom>
            <a:avLst/>
            <a:gdLst>
              <a:gd name="textAreaLeft" fmla="*/ 32760 w 1043280"/>
              <a:gd name="textAreaRight" fmla="*/ 1010520 w 104328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91" h="21600">
                <a:moveTo>
                  <a:pt x="0" y="0"/>
                </a:moveTo>
                <a:lnTo>
                  <a:pt x="44191" y="0"/>
                </a:lnTo>
                <a:lnTo>
                  <a:pt x="44191" y="21600"/>
                </a:lnTo>
                <a:lnTo>
                  <a:pt x="0" y="21600"/>
                </a:lnTo>
                <a:close/>
              </a:path>
              <a:path fill="lightenLess" w="44191" h="21600">
                <a:moveTo>
                  <a:pt x="0" y="0"/>
                </a:moveTo>
                <a:lnTo>
                  <a:pt x="44191" y="0"/>
                </a:lnTo>
                <a:lnTo>
                  <a:pt x="42791" y="1400"/>
                </a:lnTo>
                <a:lnTo>
                  <a:pt x="1400" y="1400"/>
                </a:lnTo>
                <a:close/>
              </a:path>
              <a:path fill="darken" w="44191" h="21600">
                <a:moveTo>
                  <a:pt x="44191" y="0"/>
                </a:moveTo>
                <a:lnTo>
                  <a:pt x="44191" y="21600"/>
                </a:lnTo>
                <a:lnTo>
                  <a:pt x="42791" y="20200"/>
                </a:lnTo>
                <a:lnTo>
                  <a:pt x="42791" y="1400"/>
                </a:lnTo>
                <a:close/>
              </a:path>
              <a:path fill="darkenLess" w="44191" h="21600">
                <a:moveTo>
                  <a:pt x="44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91" y="20200"/>
                </a:lnTo>
                <a:close/>
              </a:path>
              <a:path fill="lighten" w="44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91" h="21600">
                <a:moveTo>
                  <a:pt x="15089" y="7301"/>
                </a:moveTo>
                <a:lnTo>
                  <a:pt x="16003" y="7301"/>
                </a:lnTo>
                <a:lnTo>
                  <a:pt x="16386" y="7667"/>
                </a:lnTo>
                <a:lnTo>
                  <a:pt x="25594" y="7667"/>
                </a:lnTo>
                <a:lnTo>
                  <a:pt x="26151" y="8224"/>
                </a:lnTo>
                <a:lnTo>
                  <a:pt x="26151" y="8772"/>
                </a:lnTo>
                <a:lnTo>
                  <a:pt x="27997" y="8772"/>
                </a:lnTo>
                <a:lnTo>
                  <a:pt x="28362" y="8224"/>
                </a:lnTo>
                <a:lnTo>
                  <a:pt x="29102" y="8224"/>
                </a:lnTo>
                <a:lnTo>
                  <a:pt x="29102" y="13376"/>
                </a:lnTo>
                <a:lnTo>
                  <a:pt x="28362" y="13376"/>
                </a:lnTo>
                <a:lnTo>
                  <a:pt x="27997" y="12828"/>
                </a:lnTo>
                <a:lnTo>
                  <a:pt x="26151" y="12828"/>
                </a:lnTo>
                <a:lnTo>
                  <a:pt x="26151" y="14107"/>
                </a:lnTo>
                <a:lnTo>
                  <a:pt x="16569" y="14107"/>
                </a:lnTo>
                <a:lnTo>
                  <a:pt x="16569" y="9877"/>
                </a:lnTo>
                <a:lnTo>
                  <a:pt x="16386" y="9877"/>
                </a:lnTo>
                <a:lnTo>
                  <a:pt x="16003" y="10243"/>
                </a:lnTo>
                <a:lnTo>
                  <a:pt x="15089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2057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phase de freinage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03600" y="62434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quer sur l ’icône pour passer  à la su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0"/>
            <a:ext cx="50292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s 2 phases de fonctionn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162080" y="2209680"/>
            <a:ext cx="237960" cy="238320"/>
            <a:chOff x="1162080" y="2209680"/>
            <a:chExt cx="237960" cy="238320"/>
          </a:xfrm>
        </p:grpSpPr>
        <p:sp>
          <p:nvSpPr>
            <p:cNvPr id="140" name=""/>
            <p:cNvSpPr/>
            <p:nvPr/>
          </p:nvSpPr>
          <p:spPr>
            <a:xfrm>
              <a:off x="1162080" y="2209680"/>
              <a:ext cx="237960" cy="238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238040" y="2438280"/>
              <a:ext cx="1519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390320" y="2285640"/>
              <a:ext cx="0" cy="1522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162080" y="3352680"/>
            <a:ext cx="237960" cy="238320"/>
            <a:chOff x="1162080" y="3352680"/>
            <a:chExt cx="237960" cy="238320"/>
          </a:xfrm>
        </p:grpSpPr>
        <p:sp>
          <p:nvSpPr>
            <p:cNvPr id="144" name=""/>
            <p:cNvSpPr/>
            <p:nvPr/>
          </p:nvSpPr>
          <p:spPr>
            <a:xfrm>
              <a:off x="1162080" y="3352680"/>
              <a:ext cx="237960" cy="238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238040" y="3581280"/>
              <a:ext cx="1519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1390320" y="3428640"/>
              <a:ext cx="0" cy="1522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32004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phase de défreinage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3200400"/>
            <a:ext cx="1043280" cy="509760"/>
          </a:xfrm>
          <a:custGeom>
            <a:avLst/>
            <a:gdLst>
              <a:gd name="textAreaLeft" fmla="*/ 32760 w 1043280"/>
              <a:gd name="textAreaRight" fmla="*/ 1010520 w 104328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91" h="21600">
                <a:moveTo>
                  <a:pt x="0" y="0"/>
                </a:moveTo>
                <a:lnTo>
                  <a:pt x="44191" y="0"/>
                </a:lnTo>
                <a:lnTo>
                  <a:pt x="44191" y="21600"/>
                </a:lnTo>
                <a:lnTo>
                  <a:pt x="0" y="21600"/>
                </a:lnTo>
                <a:close/>
              </a:path>
              <a:path fill="lightenLess" w="44191" h="21600">
                <a:moveTo>
                  <a:pt x="0" y="0"/>
                </a:moveTo>
                <a:lnTo>
                  <a:pt x="44191" y="0"/>
                </a:lnTo>
                <a:lnTo>
                  <a:pt x="42791" y="1400"/>
                </a:lnTo>
                <a:lnTo>
                  <a:pt x="1400" y="1400"/>
                </a:lnTo>
                <a:close/>
              </a:path>
              <a:path fill="darken" w="44191" h="21600">
                <a:moveTo>
                  <a:pt x="44191" y="0"/>
                </a:moveTo>
                <a:lnTo>
                  <a:pt x="44191" y="21600"/>
                </a:lnTo>
                <a:lnTo>
                  <a:pt x="42791" y="20200"/>
                </a:lnTo>
                <a:lnTo>
                  <a:pt x="42791" y="1400"/>
                </a:lnTo>
                <a:close/>
              </a:path>
              <a:path fill="darkenLess" w="44191" h="21600">
                <a:moveTo>
                  <a:pt x="44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91" y="20200"/>
                </a:lnTo>
                <a:close/>
              </a:path>
              <a:path fill="lighten" w="44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91" h="21600">
                <a:moveTo>
                  <a:pt x="15089" y="7301"/>
                </a:moveTo>
                <a:lnTo>
                  <a:pt x="16003" y="7301"/>
                </a:lnTo>
                <a:lnTo>
                  <a:pt x="16386" y="7667"/>
                </a:lnTo>
                <a:lnTo>
                  <a:pt x="25594" y="7667"/>
                </a:lnTo>
                <a:lnTo>
                  <a:pt x="26151" y="8224"/>
                </a:lnTo>
                <a:lnTo>
                  <a:pt x="26151" y="8772"/>
                </a:lnTo>
                <a:lnTo>
                  <a:pt x="27997" y="8772"/>
                </a:lnTo>
                <a:lnTo>
                  <a:pt x="28362" y="8224"/>
                </a:lnTo>
                <a:lnTo>
                  <a:pt x="29102" y="8224"/>
                </a:lnTo>
                <a:lnTo>
                  <a:pt x="29102" y="13376"/>
                </a:lnTo>
                <a:lnTo>
                  <a:pt x="28362" y="13376"/>
                </a:lnTo>
                <a:lnTo>
                  <a:pt x="27997" y="12828"/>
                </a:lnTo>
                <a:lnTo>
                  <a:pt x="26151" y="12828"/>
                </a:lnTo>
                <a:lnTo>
                  <a:pt x="26151" y="14107"/>
                </a:lnTo>
                <a:lnTo>
                  <a:pt x="16569" y="14107"/>
                </a:lnTo>
                <a:lnTo>
                  <a:pt x="16569" y="9877"/>
                </a:lnTo>
                <a:lnTo>
                  <a:pt x="16386" y="9877"/>
                </a:lnTo>
                <a:lnTo>
                  <a:pt x="16003" y="10243"/>
                </a:lnTo>
                <a:lnTo>
                  <a:pt x="15089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3T21:36:26Z</dcterms:created>
  <dc:creator>DIAS</dc:creator>
  <dc:description/>
  <dc:language>en-US</dc:language>
  <cp:lastModifiedBy>DIAS</cp:lastModifiedBy>
  <dcterms:modified xsi:type="dcterms:W3CDTF">2000-05-05T09:16:01Z</dcterms:modified>
  <cp:revision>51</cp:revision>
  <dc:subject/>
  <dc:title>Le  maître-cylindre « tandem »</dc:title>
</cp:coreProperties>
</file>