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BEF-FA2C-409E-B292-5DDDF519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F21-B6D0-44EA-9D1C-1A21E126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BD0-30A5-449C-BC14-CE29B593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150-39C4-4C5E-B0DA-7DC2A240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E05-96B2-46EE-A725-9C769D08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81B-803F-4459-9D63-3434DBF1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265-639D-4782-BFF9-7C5D109E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2C9-C66B-4F8B-A98A-E6416DFC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815-5301-457C-8174-7B32E2F7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A36-8D29-4C9E-A9B0-AC1FC20E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983-A95E-49C0-92A2-C9889AA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51C-888A-489F-B129-4DA86130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5F56-04B8-4854-AC4E-EDB1A2947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mc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2895480"/>
            <a:ext cx="83844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638680" y="2895480"/>
            <a:ext cx="3124440" cy="3733920"/>
            <a:chOff x="5638680" y="2895480"/>
            <a:chExt cx="3124440" cy="3733920"/>
          </a:xfrm>
        </p:grpSpPr>
        <p:sp>
          <p:nvSpPr>
            <p:cNvPr id="44" name=""/>
            <p:cNvSpPr/>
            <p:nvPr/>
          </p:nvSpPr>
          <p:spPr>
            <a:xfrm>
              <a:off x="5638680" y="3429000"/>
              <a:ext cx="914400" cy="320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77120" y="3429000"/>
              <a:ext cx="2286000" cy="320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77120" y="2895480"/>
              <a:ext cx="2286000" cy="18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38680" y="2895480"/>
              <a:ext cx="914400" cy="18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553080" y="4724280"/>
            <a:ext cx="2210040" cy="1905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724280"/>
            <a:ext cx="27432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23256" t="0" r="9319" b="10614"/>
          <a:stretch/>
        </p:blipFill>
        <p:spPr>
          <a:xfrm>
            <a:off x="6553080" y="4724280"/>
            <a:ext cx="2210040" cy="19036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590920" y="2895480"/>
            <a:ext cx="60948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39348" t="15056" r="1642" b="31190"/>
          <a:stretch/>
        </p:blipFill>
        <p:spPr>
          <a:xfrm>
            <a:off x="301680" y="4741920"/>
            <a:ext cx="27432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04920" y="2895480"/>
            <a:ext cx="2895120" cy="3733920"/>
            <a:chOff x="304920" y="2895480"/>
            <a:chExt cx="2895120" cy="3733920"/>
          </a:xfrm>
        </p:grpSpPr>
        <p:sp>
          <p:nvSpPr>
            <p:cNvPr id="54" name=""/>
            <p:cNvSpPr/>
            <p:nvPr/>
          </p:nvSpPr>
          <p:spPr>
            <a:xfrm flipH="1">
              <a:off x="304920" y="2895480"/>
              <a:ext cx="2286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04920" y="3429000"/>
              <a:ext cx="228600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047760" y="3429000"/>
              <a:ext cx="15228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047760" y="2895480"/>
              <a:ext cx="1522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66720" y="2095560"/>
            <a:ext cx="2133720" cy="2924280"/>
            <a:chOff x="666720" y="2095560"/>
            <a:chExt cx="2133720" cy="2924280"/>
          </a:xfrm>
        </p:grpSpPr>
        <p:sp>
          <p:nvSpPr>
            <p:cNvPr id="60" name=""/>
            <p:cNvSpPr/>
            <p:nvPr/>
          </p:nvSpPr>
          <p:spPr>
            <a:xfrm>
              <a:off x="1009800" y="2619360"/>
              <a:ext cx="1790640" cy="447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66720" y="2095560"/>
              <a:ext cx="533520" cy="552240"/>
              <a:chOff x="666720" y="2095560"/>
              <a:chExt cx="533520" cy="552240"/>
            </a:xfrm>
          </p:grpSpPr>
          <p:sp>
            <p:nvSpPr>
              <p:cNvPr id="62" name=""/>
              <p:cNvSpPr/>
              <p:nvPr/>
            </p:nvSpPr>
            <p:spPr>
              <a:xfrm>
                <a:off x="743040" y="2095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66720" y="2114640"/>
                <a:ext cx="533520" cy="5331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914400" y="2666880"/>
              <a:ext cx="142920" cy="2352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47680" y="1076400"/>
            <a:ext cx="2409840" cy="3800520"/>
            <a:chOff x="247680" y="1076400"/>
            <a:chExt cx="2409840" cy="3800520"/>
          </a:xfrm>
        </p:grpSpPr>
        <p:grpSp>
          <p:nvGrpSpPr>
            <p:cNvPr id="66" name=""/>
            <p:cNvGrpSpPr/>
            <p:nvPr/>
          </p:nvGrpSpPr>
          <p:grpSpPr>
            <a:xfrm>
              <a:off x="247680" y="1076400"/>
              <a:ext cx="533520" cy="552240"/>
              <a:chOff x="247680" y="1076400"/>
              <a:chExt cx="533520" cy="552240"/>
            </a:xfrm>
          </p:grpSpPr>
          <p:sp>
            <p:nvSpPr>
              <p:cNvPr id="67" name=""/>
              <p:cNvSpPr/>
              <p:nvPr/>
            </p:nvSpPr>
            <p:spPr>
              <a:xfrm>
                <a:off x="324000" y="1076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47680" y="1095480"/>
                <a:ext cx="533520" cy="5331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733320" y="1476360"/>
              <a:ext cx="1924200" cy="1514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95360" y="1628640"/>
              <a:ext cx="9360" cy="3248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390680" y="3200400"/>
            <a:ext cx="2800440" cy="2533680"/>
            <a:chOff x="1390680" y="3200400"/>
            <a:chExt cx="2800440" cy="2533680"/>
          </a:xfrm>
        </p:grpSpPr>
        <p:grpSp>
          <p:nvGrpSpPr>
            <p:cNvPr id="72" name=""/>
            <p:cNvGrpSpPr/>
            <p:nvPr/>
          </p:nvGrpSpPr>
          <p:grpSpPr>
            <a:xfrm>
              <a:off x="3657600" y="4952880"/>
              <a:ext cx="533520" cy="552240"/>
              <a:chOff x="3657600" y="4952880"/>
              <a:chExt cx="533520" cy="552240"/>
            </a:xfrm>
          </p:grpSpPr>
          <p:sp>
            <p:nvSpPr>
              <p:cNvPr id="73" name=""/>
              <p:cNvSpPr/>
              <p:nvPr/>
            </p:nvSpPr>
            <p:spPr>
              <a:xfrm>
                <a:off x="3733920" y="4952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657600" y="4971960"/>
                <a:ext cx="533520" cy="5331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2867040" y="3200400"/>
              <a:ext cx="876240" cy="1828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390680" y="5229360"/>
              <a:ext cx="2238480" cy="504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505480" y="1066680"/>
            <a:ext cx="1276200" cy="1924200"/>
            <a:chOff x="5505480" y="1066680"/>
            <a:chExt cx="1276200" cy="1924200"/>
          </a:xfrm>
        </p:grpSpPr>
        <p:grpSp>
          <p:nvGrpSpPr>
            <p:cNvPr id="78" name=""/>
            <p:cNvGrpSpPr/>
            <p:nvPr/>
          </p:nvGrpSpPr>
          <p:grpSpPr>
            <a:xfrm>
              <a:off x="6248520" y="1066680"/>
              <a:ext cx="533160" cy="552240"/>
              <a:chOff x="6248520" y="1066680"/>
              <a:chExt cx="533160" cy="552240"/>
            </a:xfrm>
          </p:grpSpPr>
          <p:sp>
            <p:nvSpPr>
              <p:cNvPr id="79" name=""/>
              <p:cNvSpPr/>
              <p:nvPr/>
            </p:nvSpPr>
            <p:spPr>
              <a:xfrm>
                <a:off x="6324480" y="10666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248520" y="1085760"/>
                <a:ext cx="533160" cy="5331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H="1">
              <a:off x="5505480" y="1542960"/>
              <a:ext cx="838080" cy="1447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924160" y="3018960"/>
            <a:ext cx="2914920" cy="2315160"/>
            <a:chOff x="5924160" y="3018960"/>
            <a:chExt cx="2914920" cy="2315160"/>
          </a:xfrm>
        </p:grpSpPr>
        <p:grpSp>
          <p:nvGrpSpPr>
            <p:cNvPr id="83" name=""/>
            <p:cNvGrpSpPr/>
            <p:nvPr/>
          </p:nvGrpSpPr>
          <p:grpSpPr>
            <a:xfrm>
              <a:off x="8305920" y="3048120"/>
              <a:ext cx="533160" cy="552240"/>
              <a:chOff x="8305920" y="3048120"/>
              <a:chExt cx="533160" cy="552240"/>
            </a:xfrm>
          </p:grpSpPr>
          <p:sp>
            <p:nvSpPr>
              <p:cNvPr id="84" name=""/>
              <p:cNvSpPr/>
              <p:nvPr/>
            </p:nvSpPr>
            <p:spPr>
              <a:xfrm>
                <a:off x="8381880" y="30481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305920" y="3067200"/>
                <a:ext cx="533160" cy="5331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 flipV="1">
              <a:off x="5924160" y="3018960"/>
              <a:ext cx="2381400" cy="18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7010280" y="3581280"/>
              <a:ext cx="1447920" cy="1752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181480" y="3191040"/>
            <a:ext cx="2057400" cy="2752560"/>
            <a:chOff x="5181480" y="3191040"/>
            <a:chExt cx="2057400" cy="2752560"/>
          </a:xfrm>
        </p:grpSpPr>
        <p:grpSp>
          <p:nvGrpSpPr>
            <p:cNvPr id="89" name=""/>
            <p:cNvGrpSpPr/>
            <p:nvPr/>
          </p:nvGrpSpPr>
          <p:grpSpPr>
            <a:xfrm>
              <a:off x="5181480" y="4952880"/>
              <a:ext cx="533520" cy="552240"/>
              <a:chOff x="5181480" y="4952880"/>
              <a:chExt cx="533520" cy="552240"/>
            </a:xfrm>
          </p:grpSpPr>
          <p:sp>
            <p:nvSpPr>
              <p:cNvPr id="90" name=""/>
              <p:cNvSpPr/>
              <p:nvPr/>
            </p:nvSpPr>
            <p:spPr>
              <a:xfrm>
                <a:off x="5257800" y="4952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181480" y="4971960"/>
                <a:ext cx="533520" cy="5331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 flipV="1">
              <a:off x="5533920" y="3191040"/>
              <a:ext cx="438120" cy="1800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000" y="5334120"/>
              <a:ext cx="1523880" cy="609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14280" y="5086440"/>
            <a:ext cx="2362320" cy="14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5181480"/>
            <a:ext cx="2362320" cy="141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in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2895480"/>
            <a:ext cx="619200" cy="4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410080" y="2886120"/>
            <a:ext cx="3048120" cy="3705120"/>
            <a:chOff x="5410080" y="2886120"/>
            <a:chExt cx="3048120" cy="3705120"/>
          </a:xfrm>
        </p:grpSpPr>
        <p:sp>
          <p:nvSpPr>
            <p:cNvPr id="112" name=""/>
            <p:cNvSpPr/>
            <p:nvPr/>
          </p:nvSpPr>
          <p:spPr>
            <a:xfrm>
              <a:off x="5410080" y="2886120"/>
              <a:ext cx="695520" cy="22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0080" y="3352680"/>
              <a:ext cx="685800" cy="323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2886120"/>
              <a:ext cx="243828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39000" y="3352680"/>
              <a:ext cx="2419200" cy="323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rcRect l="0" t="0" r="18428" b="0"/>
          <a:stretch/>
        </p:blipFill>
        <p:spPr>
          <a:xfrm>
            <a:off x="6095880" y="5181480"/>
            <a:ext cx="2362320" cy="1409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314440" y="2895480"/>
            <a:ext cx="619200" cy="4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13920" y="2886120"/>
            <a:ext cx="2629440" cy="3610080"/>
            <a:chOff x="313920" y="2886120"/>
            <a:chExt cx="2629440" cy="3610080"/>
          </a:xfrm>
        </p:grpSpPr>
        <p:sp>
          <p:nvSpPr>
            <p:cNvPr id="119" name=""/>
            <p:cNvSpPr/>
            <p:nvPr/>
          </p:nvSpPr>
          <p:spPr>
            <a:xfrm flipH="1">
              <a:off x="313920" y="2895480"/>
              <a:ext cx="1971720" cy="21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666520" y="2886120"/>
              <a:ext cx="266760" cy="21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23640" y="3352680"/>
              <a:ext cx="1990440" cy="314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666880" y="3362400"/>
              <a:ext cx="276480" cy="31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04920" y="5105520"/>
            <a:ext cx="238104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8003880" cy="3202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948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ase fin défreinag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/>
          </p:cNvPr>
          <p:cNvSpPr/>
          <p:nvPr/>
        </p:nvSpPr>
        <p:spPr>
          <a:xfrm>
            <a:off x="457200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34986" y="10800"/>
                </a:moveTo>
                <a:lnTo>
                  <a:pt x="24481" y="17806"/>
                </a:lnTo>
                <a:lnTo>
                  <a:pt x="24481" y="3794"/>
                </a:lnTo>
                <a:close/>
              </a:path>
              <a:path fill="darken" w="62975" h="21600">
                <a:moveTo>
                  <a:pt x="36831" y="3794"/>
                </a:moveTo>
                <a:lnTo>
                  <a:pt x="36831" y="17806"/>
                </a:lnTo>
                <a:lnTo>
                  <a:pt x="38494" y="17806"/>
                </a:lnTo>
                <a:lnTo>
                  <a:pt x="38494" y="3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71960" y="6353280"/>
            <a:ext cx="15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rêt  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13:40:18Z</dcterms:created>
  <dc:creator>DIAS</dc:creator>
  <dc:description/>
  <dc:language>en-US</dc:language>
  <cp:lastModifiedBy>DIAS</cp:lastModifiedBy>
  <dcterms:modified xsi:type="dcterms:W3CDTF">2000-03-16T16:51:49Z</dcterms:modified>
  <cp:revision>18</cp:revision>
  <dc:subject/>
  <dc:title>Aucun titre de diapositive</dc:title>
</cp:coreProperties>
</file>