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699-025C-407C-AF1C-26F0AEB3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338-B86A-41D8-AE50-3B8E8AA3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A90-3A14-42D6-BFFF-3572CFD0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595-A0A7-4CD2-A104-AE5B3C3A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655-0D40-44A3-87AD-64A308B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6A5-B90F-4D8F-8A45-9927C27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3F-BA39-4B56-8E9E-C5BC20B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511-C1C9-44B7-80F9-1C38F9C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CBE-EC05-4E60-928F-E9D7574C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201-1726-49C1-9552-577DE0E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4B2-0A8E-4B1B-B905-19AF308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414-A5EE-4D38-83E4-5DAF15F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5A12-8C8A-45EF-B675-E140386C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280" y="5086440"/>
            <a:ext cx="2362320" cy="14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5880" y="5181480"/>
            <a:ext cx="2362320" cy="141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but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4440" y="2895480"/>
            <a:ext cx="619200" cy="4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3920" y="2886120"/>
            <a:ext cx="2629440" cy="3610080"/>
            <a:chOff x="313920" y="2886120"/>
            <a:chExt cx="2629440" cy="3610080"/>
          </a:xfrm>
        </p:grpSpPr>
        <p:sp>
          <p:nvSpPr>
            <p:cNvPr id="47" name=""/>
            <p:cNvSpPr/>
            <p:nvPr/>
          </p:nvSpPr>
          <p:spPr>
            <a:xfrm flipH="1">
              <a:off x="313920" y="2895480"/>
              <a:ext cx="1971720" cy="21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2666520" y="2886120"/>
              <a:ext cx="26676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23640" y="3352680"/>
              <a:ext cx="1990440" cy="314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666880" y="3362400"/>
              <a:ext cx="276480" cy="31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38104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2895480"/>
            <a:ext cx="619200" cy="4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410080" y="2886120"/>
            <a:ext cx="3048120" cy="3705120"/>
            <a:chOff x="5410080" y="2886120"/>
            <a:chExt cx="3048120" cy="3705120"/>
          </a:xfrm>
        </p:grpSpPr>
        <p:sp>
          <p:nvSpPr>
            <p:cNvPr id="54" name=""/>
            <p:cNvSpPr/>
            <p:nvPr/>
          </p:nvSpPr>
          <p:spPr>
            <a:xfrm>
              <a:off x="5410080" y="2886120"/>
              <a:ext cx="695520" cy="22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3352680"/>
              <a:ext cx="685800" cy="32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19920" y="2886120"/>
              <a:ext cx="243828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39000" y="3352680"/>
              <a:ext cx="2419200" cy="32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3"/>
          <a:srcRect l="0" t="0" r="18428" b="0"/>
          <a:stretch/>
        </p:blipFill>
        <p:spPr>
          <a:xfrm>
            <a:off x="6095880" y="5181480"/>
            <a:ext cx="2362320" cy="14097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66720" y="2095560"/>
            <a:ext cx="2133720" cy="3333600"/>
            <a:chOff x="666720" y="2095560"/>
            <a:chExt cx="2133720" cy="3333600"/>
          </a:xfrm>
        </p:grpSpPr>
        <p:sp>
          <p:nvSpPr>
            <p:cNvPr id="60" name=""/>
            <p:cNvSpPr/>
            <p:nvPr/>
          </p:nvSpPr>
          <p:spPr>
            <a:xfrm>
              <a:off x="1009800" y="2619360"/>
              <a:ext cx="1790640" cy="44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66720" y="2095560"/>
              <a:ext cx="533520" cy="552240"/>
              <a:chOff x="666720" y="2095560"/>
              <a:chExt cx="533520" cy="552240"/>
            </a:xfrm>
          </p:grpSpPr>
          <p:sp>
            <p:nvSpPr>
              <p:cNvPr id="62" name=""/>
              <p:cNvSpPr/>
              <p:nvPr/>
            </p:nvSpPr>
            <p:spPr>
              <a:xfrm>
                <a:off x="743040" y="2095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6720" y="211464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914400" y="2666880"/>
              <a:ext cx="1285920" cy="2762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7680" y="1076400"/>
            <a:ext cx="2409840" cy="4181400"/>
            <a:chOff x="247680" y="1076400"/>
            <a:chExt cx="2409840" cy="4181400"/>
          </a:xfrm>
        </p:grpSpPr>
        <p:grpSp>
          <p:nvGrpSpPr>
            <p:cNvPr id="66" name=""/>
            <p:cNvGrpSpPr/>
            <p:nvPr/>
          </p:nvGrpSpPr>
          <p:grpSpPr>
            <a:xfrm>
              <a:off x="247680" y="1076400"/>
              <a:ext cx="533520" cy="552240"/>
              <a:chOff x="247680" y="1076400"/>
              <a:chExt cx="533520" cy="552240"/>
            </a:xfrm>
          </p:grpSpPr>
          <p:sp>
            <p:nvSpPr>
              <p:cNvPr id="67" name=""/>
              <p:cNvSpPr/>
              <p:nvPr/>
            </p:nvSpPr>
            <p:spPr>
              <a:xfrm>
                <a:off x="324000" y="1076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7680" y="109548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04720" y="1476360"/>
              <a:ext cx="2152800" cy="3781440"/>
              <a:chOff x="504720" y="1476360"/>
              <a:chExt cx="2152800" cy="3781440"/>
            </a:xfrm>
          </p:grpSpPr>
          <p:sp>
            <p:nvSpPr>
              <p:cNvPr id="70" name=""/>
              <p:cNvSpPr/>
              <p:nvPr/>
            </p:nvSpPr>
            <p:spPr>
              <a:xfrm>
                <a:off x="733320" y="1476360"/>
                <a:ext cx="1924200" cy="1514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4720" y="1628640"/>
                <a:ext cx="486000" cy="36291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133640" y="3191040"/>
            <a:ext cx="3057480" cy="2743200"/>
            <a:chOff x="1133640" y="3191040"/>
            <a:chExt cx="3057480" cy="2743200"/>
          </a:xfrm>
        </p:grpSpPr>
        <p:grpSp>
          <p:nvGrpSpPr>
            <p:cNvPr id="73" name=""/>
            <p:cNvGrpSpPr/>
            <p:nvPr/>
          </p:nvGrpSpPr>
          <p:grpSpPr>
            <a:xfrm>
              <a:off x="3657600" y="4952880"/>
              <a:ext cx="533520" cy="552240"/>
              <a:chOff x="3657600" y="4952880"/>
              <a:chExt cx="533520" cy="552240"/>
            </a:xfrm>
          </p:grpSpPr>
          <p:sp>
            <p:nvSpPr>
              <p:cNvPr id="74" name=""/>
              <p:cNvSpPr/>
              <p:nvPr/>
            </p:nvSpPr>
            <p:spPr>
              <a:xfrm>
                <a:off x="373392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57600" y="497196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495520" y="3191040"/>
              <a:ext cx="1247760" cy="18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133640" y="5229360"/>
              <a:ext cx="2495520" cy="704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924160" y="3018960"/>
            <a:ext cx="2914920" cy="2391120"/>
            <a:chOff x="5924160" y="3018960"/>
            <a:chExt cx="2914920" cy="2391120"/>
          </a:xfrm>
        </p:grpSpPr>
        <p:grpSp>
          <p:nvGrpSpPr>
            <p:cNvPr id="79" name=""/>
            <p:cNvGrpSpPr/>
            <p:nvPr/>
          </p:nvGrpSpPr>
          <p:grpSpPr>
            <a:xfrm>
              <a:off x="8305920" y="3048120"/>
              <a:ext cx="533160" cy="552240"/>
              <a:chOff x="8305920" y="3048120"/>
              <a:chExt cx="533160" cy="552240"/>
            </a:xfrm>
          </p:grpSpPr>
          <p:sp>
            <p:nvSpPr>
              <p:cNvPr id="80" name=""/>
              <p:cNvSpPr/>
              <p:nvPr/>
            </p:nvSpPr>
            <p:spPr>
              <a:xfrm>
                <a:off x="8381880" y="30481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05920" y="3067200"/>
                <a:ext cx="53316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 flipV="1">
              <a:off x="5924160" y="3018960"/>
              <a:ext cx="2381400" cy="18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01000" y="3581280"/>
              <a:ext cx="457200" cy="182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181480" y="3180960"/>
            <a:ext cx="1905120" cy="2914920"/>
            <a:chOff x="5181480" y="3180960"/>
            <a:chExt cx="1905120" cy="2914920"/>
          </a:xfrm>
        </p:grpSpPr>
        <p:grpSp>
          <p:nvGrpSpPr>
            <p:cNvPr id="85" name=""/>
            <p:cNvGrpSpPr/>
            <p:nvPr/>
          </p:nvGrpSpPr>
          <p:grpSpPr>
            <a:xfrm>
              <a:off x="5181480" y="4952880"/>
              <a:ext cx="533520" cy="552240"/>
              <a:chOff x="5181480" y="4952880"/>
              <a:chExt cx="533520" cy="552240"/>
            </a:xfrm>
          </p:grpSpPr>
          <p:sp>
            <p:nvSpPr>
              <p:cNvPr id="86" name=""/>
              <p:cNvSpPr/>
              <p:nvPr/>
            </p:nvSpPr>
            <p:spPr>
              <a:xfrm>
                <a:off x="52578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81480" y="497196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5533920" y="3180960"/>
              <a:ext cx="152640" cy="1809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5334120"/>
              <a:ext cx="137160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505480" y="1066680"/>
            <a:ext cx="1276200" cy="4267440"/>
            <a:chOff x="5505480" y="1066680"/>
            <a:chExt cx="1276200" cy="4267440"/>
          </a:xfrm>
        </p:grpSpPr>
        <p:grpSp>
          <p:nvGrpSpPr>
            <p:cNvPr id="91" name=""/>
            <p:cNvGrpSpPr/>
            <p:nvPr/>
          </p:nvGrpSpPr>
          <p:grpSpPr>
            <a:xfrm>
              <a:off x="6248520" y="1066680"/>
              <a:ext cx="533160" cy="552240"/>
              <a:chOff x="6248520" y="1066680"/>
              <a:chExt cx="533160" cy="552240"/>
            </a:xfrm>
          </p:grpSpPr>
          <p:sp>
            <p:nvSpPr>
              <p:cNvPr id="92" name=""/>
              <p:cNvSpPr/>
              <p:nvPr/>
            </p:nvSpPr>
            <p:spPr>
              <a:xfrm>
                <a:off x="6324480" y="1066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48520" y="1085760"/>
                <a:ext cx="53316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H="1">
              <a:off x="5505480" y="1542960"/>
              <a:ext cx="838080" cy="1447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409800" y="1600200"/>
              <a:ext cx="142920" cy="3733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but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10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/>
          </p:cNvPr>
          <p:cNvSpPr/>
          <p:nvPr/>
        </p:nvSpPr>
        <p:spPr>
          <a:xfrm>
            <a:off x="4572000" y="6172200"/>
            <a:ext cx="1042920" cy="3571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38" h="21600">
                <a:moveTo>
                  <a:pt x="0" y="0"/>
                </a:moveTo>
                <a:lnTo>
                  <a:pt x="63038" y="0"/>
                </a:lnTo>
                <a:lnTo>
                  <a:pt x="63038" y="21600"/>
                </a:lnTo>
                <a:lnTo>
                  <a:pt x="0" y="21600"/>
                </a:lnTo>
                <a:close/>
              </a:path>
              <a:path fill="lightenLess" w="63038" h="21600">
                <a:moveTo>
                  <a:pt x="0" y="0"/>
                </a:moveTo>
                <a:lnTo>
                  <a:pt x="63038" y="0"/>
                </a:lnTo>
                <a:lnTo>
                  <a:pt x="61638" y="1400"/>
                </a:lnTo>
                <a:lnTo>
                  <a:pt x="1400" y="1400"/>
                </a:lnTo>
                <a:close/>
              </a:path>
              <a:path fill="darken" w="63038" h="21600">
                <a:moveTo>
                  <a:pt x="63038" y="0"/>
                </a:moveTo>
                <a:lnTo>
                  <a:pt x="63038" y="21600"/>
                </a:lnTo>
                <a:lnTo>
                  <a:pt x="61638" y="20200"/>
                </a:lnTo>
                <a:lnTo>
                  <a:pt x="61638" y="1400"/>
                </a:lnTo>
                <a:close/>
              </a:path>
              <a:path fill="darkenLess" w="63038" h="21600">
                <a:moveTo>
                  <a:pt x="6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38" y="20200"/>
                </a:lnTo>
                <a:close/>
              </a:path>
              <a:path fill="lighten" w="6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038" h="21600">
                <a:moveTo>
                  <a:pt x="35018" y="10800"/>
                </a:moveTo>
                <a:lnTo>
                  <a:pt x="24513" y="17806"/>
                </a:lnTo>
                <a:lnTo>
                  <a:pt x="24513" y="3794"/>
                </a:lnTo>
                <a:close/>
              </a:path>
              <a:path fill="darken" w="63038" h="21600">
                <a:moveTo>
                  <a:pt x="36863" y="3794"/>
                </a:moveTo>
                <a:lnTo>
                  <a:pt x="36863" y="17806"/>
                </a:lnTo>
                <a:lnTo>
                  <a:pt x="38526" y="17806"/>
                </a:lnTo>
                <a:lnTo>
                  <a:pt x="38526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6172200"/>
            <a:ext cx="15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13:06:37Z</dcterms:created>
  <dc:creator>DIAS</dc:creator>
  <dc:description/>
  <dc:language>en-US</dc:language>
  <cp:lastModifiedBy>DIAS</cp:lastModifiedBy>
  <dcterms:modified xsi:type="dcterms:W3CDTF">2000-03-16T16:52:39Z</dcterms:modified>
  <cp:revision>11</cp:revision>
  <dc:subject/>
  <dc:title>Aucun titre de diapositive</dc:title>
</cp:coreProperties>
</file>