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6E02-FEDF-4FC9-9F8F-DF162AFDF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C33F-AE88-4CBE-BEAF-503FFD96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4124-F4B3-4848-83C6-AD88EC86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A113-AD70-4793-B9AD-D7AA395B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FC23-DA61-41A2-966B-F07AA765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3F5D-F17D-4D3F-A2BB-E2AF6C98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D864-313C-4F3E-B8DA-4E4ACFE6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A74A-E22B-4C19-B480-88BE5161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5AC0-5C73-4F0A-B34C-2DFE7078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9CDF-A56E-4D6A-A248-49E142BC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758A-4955-42F3-9C64-F0D479C0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E08D-4A41-42B9-BF7D-13D5C65F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B5CC-B6FE-4FD8-BB98-CDF07C180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mc.ppt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file:///mc.ppt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mc.ppt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mc.ppt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mc.ppt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mc.ppt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mc.ppt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mc.ppt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mc.ppt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mc.ppt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mc.pp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mvf1" descr=""/>
          <p:cNvPicPr/>
          <p:nvPr/>
        </p:nvPicPr>
        <p:blipFill>
          <a:blip r:embed="rId1"/>
          <a:stretch/>
        </p:blipFill>
        <p:spPr>
          <a:xfrm>
            <a:off x="719280" y="0"/>
            <a:ext cx="7475400" cy="6608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480" y="5335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ase re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2"/>
          </p:cNvPr>
          <p:cNvSpPr/>
          <p:nvPr/>
        </p:nvSpPr>
        <p:spPr>
          <a:xfrm>
            <a:off x="2590920" y="6324480"/>
            <a:ext cx="1042920" cy="357480"/>
          </a:xfrm>
          <a:custGeom>
            <a:avLst/>
            <a:gdLst>
              <a:gd name="textAreaLeft" fmla="*/ 23040 w 1042920"/>
              <a:gd name="textAreaRight" fmla="*/ 1019880 w 10429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62975" h="21600">
                <a:moveTo>
                  <a:pt x="0" y="0"/>
                </a:moveTo>
                <a:lnTo>
                  <a:pt x="62975" y="0"/>
                </a:lnTo>
                <a:lnTo>
                  <a:pt x="62975" y="21600"/>
                </a:lnTo>
                <a:lnTo>
                  <a:pt x="0" y="21600"/>
                </a:lnTo>
                <a:close/>
              </a:path>
              <a:path fill="lightenLess" w="62975" h="21600">
                <a:moveTo>
                  <a:pt x="0" y="0"/>
                </a:moveTo>
                <a:lnTo>
                  <a:pt x="62975" y="0"/>
                </a:lnTo>
                <a:lnTo>
                  <a:pt x="61575" y="1400"/>
                </a:lnTo>
                <a:lnTo>
                  <a:pt x="1400" y="1400"/>
                </a:lnTo>
                <a:close/>
              </a:path>
              <a:path fill="darken" w="62975" h="21600">
                <a:moveTo>
                  <a:pt x="62975" y="0"/>
                </a:moveTo>
                <a:lnTo>
                  <a:pt x="62975" y="21600"/>
                </a:lnTo>
                <a:lnTo>
                  <a:pt x="61575" y="20200"/>
                </a:lnTo>
                <a:lnTo>
                  <a:pt x="61575" y="1400"/>
                </a:lnTo>
                <a:close/>
              </a:path>
              <a:path fill="darkenLess" w="62975" h="21600">
                <a:moveTo>
                  <a:pt x="62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575" y="20200"/>
                </a:lnTo>
                <a:close/>
              </a:path>
              <a:path fill="lighten" w="62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975" h="21600">
                <a:moveTo>
                  <a:pt x="34986" y="10800"/>
                </a:moveTo>
                <a:lnTo>
                  <a:pt x="24481" y="17806"/>
                </a:lnTo>
                <a:lnTo>
                  <a:pt x="24481" y="3794"/>
                </a:lnTo>
                <a:close/>
              </a:path>
              <a:path fill="darken" w="62975" h="21600">
                <a:moveTo>
                  <a:pt x="36831" y="3794"/>
                </a:moveTo>
                <a:lnTo>
                  <a:pt x="36831" y="17806"/>
                </a:lnTo>
                <a:lnTo>
                  <a:pt x="38494" y="17806"/>
                </a:lnTo>
                <a:lnTo>
                  <a:pt x="38494" y="37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636264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rrêt  an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2514600"/>
            <a:ext cx="3886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98760" y="2390760"/>
            <a:ext cx="976320" cy="228600"/>
          </a:xfrm>
          <a:custGeom>
            <a:avLst/>
            <a:gdLst>
              <a:gd name="textAreaLeft" fmla="*/ 0 w 976320"/>
              <a:gd name="textAreaRight" fmla="*/ 976680 w 976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19051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iveau au repos du liqui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19051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veau au repos du liqui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mvf10" descr=""/>
          <p:cNvPicPr/>
          <p:nvPr/>
        </p:nvPicPr>
        <p:blipFill>
          <a:blip r:embed="rId1"/>
          <a:stretch/>
        </p:blipFill>
        <p:spPr>
          <a:xfrm>
            <a:off x="719280" y="0"/>
            <a:ext cx="7503840" cy="663264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4419720" y="5410080"/>
            <a:ext cx="2864880" cy="1282680"/>
            <a:chOff x="4419720" y="5410080"/>
            <a:chExt cx="2864880" cy="1282680"/>
          </a:xfrm>
        </p:grpSpPr>
        <p:sp>
          <p:nvSpPr>
            <p:cNvPr id="195" name=""/>
            <p:cNvSpPr/>
            <p:nvPr/>
          </p:nvSpPr>
          <p:spPr>
            <a:xfrm rot="9639600">
              <a:off x="4799880" y="5714280"/>
              <a:ext cx="152280" cy="762120"/>
            </a:xfrm>
            <a:prstGeom prst="upArrow">
              <a:avLst>
                <a:gd name="adj1" fmla="val 50000"/>
                <a:gd name="adj2" fmla="val 12511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9639600">
              <a:off x="7009920" y="5790960"/>
              <a:ext cx="152640" cy="761760"/>
            </a:xfrm>
            <a:prstGeom prst="upArrow">
              <a:avLst>
                <a:gd name="adj1" fmla="val 50000"/>
                <a:gd name="adj2" fmla="val 12476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05520" y="5410080"/>
              <a:ext cx="1676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Pression hydrauli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419720" y="6172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05720" y="6172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0" y="2971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ffort du conduc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685440" y="3376440"/>
            <a:ext cx="492120" cy="104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4454640"/>
            <a:ext cx="976320" cy="304560"/>
          </a:xfrm>
          <a:prstGeom prst="rightArrow">
            <a:avLst>
              <a:gd name="adj1" fmla="val 50000"/>
              <a:gd name="adj2" fmla="val 8014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" y="3886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636264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rrêt  an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533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ase freinag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066680" y="1905120"/>
            <a:ext cx="6477120" cy="825480"/>
            <a:chOff x="1066680" y="1905120"/>
            <a:chExt cx="6477120" cy="825480"/>
          </a:xfrm>
        </p:grpSpPr>
        <p:sp>
          <p:nvSpPr>
            <p:cNvPr id="207" name=""/>
            <p:cNvSpPr/>
            <p:nvPr/>
          </p:nvSpPr>
          <p:spPr>
            <a:xfrm>
              <a:off x="2498760" y="2390760"/>
              <a:ext cx="976320" cy="22860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66680" y="190512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iveau au repos du liqui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81280" y="2514600"/>
              <a:ext cx="39625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581280" y="2486160"/>
            <a:ext cx="3962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2"/>
          </p:cNvPr>
          <p:cNvSpPr/>
          <p:nvPr/>
        </p:nvSpPr>
        <p:spPr>
          <a:xfrm>
            <a:off x="2590920" y="6324480"/>
            <a:ext cx="1042920" cy="357480"/>
          </a:xfrm>
          <a:custGeom>
            <a:avLst/>
            <a:gdLst>
              <a:gd name="textAreaLeft" fmla="*/ 23040 w 1042920"/>
              <a:gd name="textAreaRight" fmla="*/ 1019880 w 10429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62975" h="21600">
                <a:moveTo>
                  <a:pt x="0" y="0"/>
                </a:moveTo>
                <a:lnTo>
                  <a:pt x="62975" y="0"/>
                </a:lnTo>
                <a:lnTo>
                  <a:pt x="62975" y="21600"/>
                </a:lnTo>
                <a:lnTo>
                  <a:pt x="0" y="21600"/>
                </a:lnTo>
                <a:close/>
              </a:path>
              <a:path fill="lightenLess" w="62975" h="21600">
                <a:moveTo>
                  <a:pt x="0" y="0"/>
                </a:moveTo>
                <a:lnTo>
                  <a:pt x="62975" y="0"/>
                </a:lnTo>
                <a:lnTo>
                  <a:pt x="61575" y="1400"/>
                </a:lnTo>
                <a:lnTo>
                  <a:pt x="1400" y="1400"/>
                </a:lnTo>
                <a:close/>
              </a:path>
              <a:path fill="darken" w="62975" h="21600">
                <a:moveTo>
                  <a:pt x="62975" y="0"/>
                </a:moveTo>
                <a:lnTo>
                  <a:pt x="62975" y="21600"/>
                </a:lnTo>
                <a:lnTo>
                  <a:pt x="61575" y="20200"/>
                </a:lnTo>
                <a:lnTo>
                  <a:pt x="61575" y="1400"/>
                </a:lnTo>
                <a:close/>
              </a:path>
              <a:path fill="darkenLess" w="62975" h="21600">
                <a:moveTo>
                  <a:pt x="62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575" y="20200"/>
                </a:lnTo>
                <a:close/>
              </a:path>
              <a:path fill="lighten" w="62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975" h="21600">
                <a:moveTo>
                  <a:pt x="34986" y="10800"/>
                </a:moveTo>
                <a:lnTo>
                  <a:pt x="24481" y="17806"/>
                </a:lnTo>
                <a:lnTo>
                  <a:pt x="24481" y="3794"/>
                </a:lnTo>
                <a:close/>
              </a:path>
              <a:path fill="darken" w="62975" h="21600">
                <a:moveTo>
                  <a:pt x="36831" y="3794"/>
                </a:moveTo>
                <a:lnTo>
                  <a:pt x="36831" y="17806"/>
                </a:lnTo>
                <a:lnTo>
                  <a:pt x="38494" y="17806"/>
                </a:lnTo>
                <a:lnTo>
                  <a:pt x="38494" y="37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mvdf1" descr=""/>
          <p:cNvPicPr/>
          <p:nvPr/>
        </p:nvPicPr>
        <p:blipFill>
          <a:blip r:embed="rId1"/>
          <a:stretch/>
        </p:blipFill>
        <p:spPr>
          <a:xfrm>
            <a:off x="719280" y="0"/>
            <a:ext cx="7503840" cy="66326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0" y="2971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appel du ress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85440" y="3376440"/>
            <a:ext cx="492120" cy="104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2240" y="38685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1ff45"/>
                </a:solidFill>
                <a:latin typeface="Times New Roman"/>
              </a:rPr>
              <a:t>F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636264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rrêt  an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533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ase défreinag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0800000">
            <a:off x="336600" y="444780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71ff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066680" y="1905120"/>
            <a:ext cx="6477120" cy="825480"/>
            <a:chOff x="1066680" y="1905120"/>
            <a:chExt cx="6477120" cy="825480"/>
          </a:xfrm>
        </p:grpSpPr>
        <p:sp>
          <p:nvSpPr>
            <p:cNvPr id="220" name=""/>
            <p:cNvSpPr/>
            <p:nvPr/>
          </p:nvSpPr>
          <p:spPr>
            <a:xfrm>
              <a:off x="2498760" y="2390760"/>
              <a:ext cx="976320" cy="22860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6680" y="190512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iveau au repos du liqui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581280" y="2514600"/>
              <a:ext cx="39625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581280" y="2590920"/>
            <a:ext cx="3962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2"/>
          </p:cNvPr>
          <p:cNvSpPr/>
          <p:nvPr/>
        </p:nvSpPr>
        <p:spPr>
          <a:xfrm>
            <a:off x="2590920" y="6324480"/>
            <a:ext cx="1042920" cy="357480"/>
          </a:xfrm>
          <a:custGeom>
            <a:avLst/>
            <a:gdLst>
              <a:gd name="textAreaLeft" fmla="*/ 23040 w 1042920"/>
              <a:gd name="textAreaRight" fmla="*/ 1019880 w 10429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62975" h="21600">
                <a:moveTo>
                  <a:pt x="0" y="0"/>
                </a:moveTo>
                <a:lnTo>
                  <a:pt x="62975" y="0"/>
                </a:lnTo>
                <a:lnTo>
                  <a:pt x="62975" y="21600"/>
                </a:lnTo>
                <a:lnTo>
                  <a:pt x="0" y="21600"/>
                </a:lnTo>
                <a:close/>
              </a:path>
              <a:path fill="lightenLess" w="62975" h="21600">
                <a:moveTo>
                  <a:pt x="0" y="0"/>
                </a:moveTo>
                <a:lnTo>
                  <a:pt x="62975" y="0"/>
                </a:lnTo>
                <a:lnTo>
                  <a:pt x="61575" y="1400"/>
                </a:lnTo>
                <a:lnTo>
                  <a:pt x="1400" y="1400"/>
                </a:lnTo>
                <a:close/>
              </a:path>
              <a:path fill="darken" w="62975" h="21600">
                <a:moveTo>
                  <a:pt x="62975" y="0"/>
                </a:moveTo>
                <a:lnTo>
                  <a:pt x="62975" y="21600"/>
                </a:lnTo>
                <a:lnTo>
                  <a:pt x="61575" y="20200"/>
                </a:lnTo>
                <a:lnTo>
                  <a:pt x="61575" y="1400"/>
                </a:lnTo>
                <a:close/>
              </a:path>
              <a:path fill="darkenLess" w="62975" h="21600">
                <a:moveTo>
                  <a:pt x="62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575" y="20200"/>
                </a:lnTo>
                <a:close/>
              </a:path>
              <a:path fill="lighten" w="62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975" h="21600">
                <a:moveTo>
                  <a:pt x="34986" y="10800"/>
                </a:moveTo>
                <a:lnTo>
                  <a:pt x="24481" y="17806"/>
                </a:lnTo>
                <a:lnTo>
                  <a:pt x="24481" y="3794"/>
                </a:lnTo>
                <a:close/>
              </a:path>
              <a:path fill="darken" w="62975" h="21600">
                <a:moveTo>
                  <a:pt x="36831" y="3794"/>
                </a:moveTo>
                <a:lnTo>
                  <a:pt x="36831" y="17806"/>
                </a:lnTo>
                <a:lnTo>
                  <a:pt x="38494" y="17806"/>
                </a:lnTo>
                <a:lnTo>
                  <a:pt x="38494" y="37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mvdf2" descr=""/>
          <p:cNvPicPr/>
          <p:nvPr/>
        </p:nvPicPr>
        <p:blipFill>
          <a:blip r:embed="rId1"/>
          <a:stretch/>
        </p:blipFill>
        <p:spPr>
          <a:xfrm>
            <a:off x="719280" y="0"/>
            <a:ext cx="7503840" cy="663264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0" y="2971800"/>
            <a:ext cx="2819520" cy="1447920"/>
            <a:chOff x="0" y="2971800"/>
            <a:chExt cx="2819520" cy="1447920"/>
          </a:xfrm>
        </p:grpSpPr>
        <p:sp>
          <p:nvSpPr>
            <p:cNvPr id="227" name=""/>
            <p:cNvSpPr/>
            <p:nvPr/>
          </p:nvSpPr>
          <p:spPr>
            <a:xfrm>
              <a:off x="0" y="297180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Rappel du ress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85440" y="3376440"/>
              <a:ext cx="492120" cy="10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295280" y="636264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rrêt  an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533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ase défreinag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2240" y="38685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1ff45"/>
                </a:solidFill>
                <a:latin typeface="Times New Roman"/>
              </a:rPr>
              <a:t>F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0800000">
            <a:off x="304920" y="444780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71ff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066680" y="1905120"/>
            <a:ext cx="6477120" cy="825480"/>
            <a:chOff x="1066680" y="1905120"/>
            <a:chExt cx="6477120" cy="825480"/>
          </a:xfrm>
        </p:grpSpPr>
        <p:sp>
          <p:nvSpPr>
            <p:cNvPr id="234" name=""/>
            <p:cNvSpPr/>
            <p:nvPr/>
          </p:nvSpPr>
          <p:spPr>
            <a:xfrm>
              <a:off x="2498760" y="2390760"/>
              <a:ext cx="976320" cy="22860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66680" y="190512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iveau au repos du liqui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81280" y="2514600"/>
              <a:ext cx="39625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552840" y="2676600"/>
            <a:ext cx="3962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90920" y="6324480"/>
            <a:ext cx="1042920" cy="357480"/>
          </a:xfrm>
          <a:custGeom>
            <a:avLst/>
            <a:gdLst>
              <a:gd name="textAreaLeft" fmla="*/ 23040 w 1042920"/>
              <a:gd name="textAreaRight" fmla="*/ 1019880 w 10429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62975" h="21600">
                <a:moveTo>
                  <a:pt x="0" y="0"/>
                </a:moveTo>
                <a:lnTo>
                  <a:pt x="62975" y="0"/>
                </a:lnTo>
                <a:lnTo>
                  <a:pt x="62975" y="21600"/>
                </a:lnTo>
                <a:lnTo>
                  <a:pt x="0" y="21600"/>
                </a:lnTo>
                <a:close/>
              </a:path>
              <a:path fill="lightenLess" w="62975" h="21600">
                <a:moveTo>
                  <a:pt x="0" y="0"/>
                </a:moveTo>
                <a:lnTo>
                  <a:pt x="62975" y="0"/>
                </a:lnTo>
                <a:lnTo>
                  <a:pt x="61575" y="1400"/>
                </a:lnTo>
                <a:lnTo>
                  <a:pt x="1400" y="1400"/>
                </a:lnTo>
                <a:close/>
              </a:path>
              <a:path fill="darken" w="62975" h="21600">
                <a:moveTo>
                  <a:pt x="62975" y="0"/>
                </a:moveTo>
                <a:lnTo>
                  <a:pt x="62975" y="21600"/>
                </a:lnTo>
                <a:lnTo>
                  <a:pt x="61575" y="20200"/>
                </a:lnTo>
                <a:lnTo>
                  <a:pt x="61575" y="1400"/>
                </a:lnTo>
                <a:close/>
              </a:path>
              <a:path fill="darkenLess" w="62975" h="21600">
                <a:moveTo>
                  <a:pt x="62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575" y="20200"/>
                </a:lnTo>
                <a:close/>
              </a:path>
              <a:path fill="lighten" w="62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975" h="21600">
                <a:moveTo>
                  <a:pt x="34986" y="10800"/>
                </a:moveTo>
                <a:lnTo>
                  <a:pt x="24481" y="17806"/>
                </a:lnTo>
                <a:lnTo>
                  <a:pt x="24481" y="3794"/>
                </a:lnTo>
                <a:close/>
              </a:path>
              <a:path fill="darken" w="62975" h="21600">
                <a:moveTo>
                  <a:pt x="36831" y="3794"/>
                </a:moveTo>
                <a:lnTo>
                  <a:pt x="36831" y="17806"/>
                </a:lnTo>
                <a:lnTo>
                  <a:pt x="38494" y="17806"/>
                </a:lnTo>
                <a:lnTo>
                  <a:pt x="38494" y="37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mvdf3" descr=""/>
          <p:cNvPicPr/>
          <p:nvPr/>
        </p:nvPicPr>
        <p:blipFill>
          <a:blip r:embed="rId1"/>
          <a:stretch/>
        </p:blipFill>
        <p:spPr>
          <a:xfrm>
            <a:off x="719280" y="0"/>
            <a:ext cx="7503840" cy="66326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295280" y="636264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rrêt  an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533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ase défreinag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0" y="2971800"/>
            <a:ext cx="2819520" cy="1447920"/>
            <a:chOff x="0" y="2971800"/>
            <a:chExt cx="2819520" cy="1447920"/>
          </a:xfrm>
        </p:grpSpPr>
        <p:sp>
          <p:nvSpPr>
            <p:cNvPr id="243" name=""/>
            <p:cNvSpPr/>
            <p:nvPr/>
          </p:nvSpPr>
          <p:spPr>
            <a:xfrm>
              <a:off x="0" y="297180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Rappel du ress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685440" y="3376440"/>
              <a:ext cx="492120" cy="10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92240" y="38685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1ff45"/>
                </a:solidFill>
                <a:latin typeface="Times New Roman"/>
              </a:rPr>
              <a:t>F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279360" y="444780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71ff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066680" y="1905120"/>
            <a:ext cx="6477120" cy="825480"/>
            <a:chOff x="1066680" y="1905120"/>
            <a:chExt cx="6477120" cy="825480"/>
          </a:xfrm>
        </p:grpSpPr>
        <p:sp>
          <p:nvSpPr>
            <p:cNvPr id="248" name=""/>
            <p:cNvSpPr/>
            <p:nvPr/>
          </p:nvSpPr>
          <p:spPr>
            <a:xfrm>
              <a:off x="2498760" y="2390760"/>
              <a:ext cx="976320" cy="22860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066680" y="190512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iveau au repos du liqui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81280" y="2514600"/>
              <a:ext cx="39625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524400" y="2819520"/>
            <a:ext cx="3962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90920" y="6324480"/>
            <a:ext cx="1042920" cy="357480"/>
          </a:xfrm>
          <a:custGeom>
            <a:avLst/>
            <a:gdLst>
              <a:gd name="textAreaLeft" fmla="*/ 23040 w 1042920"/>
              <a:gd name="textAreaRight" fmla="*/ 1019880 w 10429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62975" h="21600">
                <a:moveTo>
                  <a:pt x="0" y="0"/>
                </a:moveTo>
                <a:lnTo>
                  <a:pt x="62975" y="0"/>
                </a:lnTo>
                <a:lnTo>
                  <a:pt x="62975" y="21600"/>
                </a:lnTo>
                <a:lnTo>
                  <a:pt x="0" y="21600"/>
                </a:lnTo>
                <a:close/>
              </a:path>
              <a:path fill="lightenLess" w="62975" h="21600">
                <a:moveTo>
                  <a:pt x="0" y="0"/>
                </a:moveTo>
                <a:lnTo>
                  <a:pt x="62975" y="0"/>
                </a:lnTo>
                <a:lnTo>
                  <a:pt x="61575" y="1400"/>
                </a:lnTo>
                <a:lnTo>
                  <a:pt x="1400" y="1400"/>
                </a:lnTo>
                <a:close/>
              </a:path>
              <a:path fill="darken" w="62975" h="21600">
                <a:moveTo>
                  <a:pt x="62975" y="0"/>
                </a:moveTo>
                <a:lnTo>
                  <a:pt x="62975" y="21600"/>
                </a:lnTo>
                <a:lnTo>
                  <a:pt x="61575" y="20200"/>
                </a:lnTo>
                <a:lnTo>
                  <a:pt x="61575" y="1400"/>
                </a:lnTo>
                <a:close/>
              </a:path>
              <a:path fill="darkenLess" w="62975" h="21600">
                <a:moveTo>
                  <a:pt x="62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575" y="20200"/>
                </a:lnTo>
                <a:close/>
              </a:path>
              <a:path fill="lighten" w="62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975" h="21600">
                <a:moveTo>
                  <a:pt x="34986" y="10800"/>
                </a:moveTo>
                <a:lnTo>
                  <a:pt x="24481" y="17806"/>
                </a:lnTo>
                <a:lnTo>
                  <a:pt x="24481" y="3794"/>
                </a:lnTo>
                <a:close/>
              </a:path>
              <a:path fill="darken" w="62975" h="21600">
                <a:moveTo>
                  <a:pt x="36831" y="3794"/>
                </a:moveTo>
                <a:lnTo>
                  <a:pt x="36831" y="17806"/>
                </a:lnTo>
                <a:lnTo>
                  <a:pt x="38494" y="17806"/>
                </a:lnTo>
                <a:lnTo>
                  <a:pt x="38494" y="37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mvdf4" descr=""/>
          <p:cNvPicPr/>
          <p:nvPr/>
        </p:nvPicPr>
        <p:blipFill>
          <a:blip r:embed="rId1"/>
          <a:stretch/>
        </p:blipFill>
        <p:spPr>
          <a:xfrm>
            <a:off x="719280" y="0"/>
            <a:ext cx="7503840" cy="66326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0" y="2971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appel du ress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685440" y="3376440"/>
            <a:ext cx="492120" cy="104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95280" y="636264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rrêt  an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533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ase défreinag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2240" y="38685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1ff45"/>
                </a:solidFill>
                <a:latin typeface="Times New Roman"/>
              </a:rPr>
              <a:t>F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0800000">
            <a:off x="241200" y="444780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71ff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066680" y="1905120"/>
            <a:ext cx="6477120" cy="825480"/>
            <a:chOff x="1066680" y="1905120"/>
            <a:chExt cx="6477120" cy="825480"/>
          </a:xfrm>
        </p:grpSpPr>
        <p:sp>
          <p:nvSpPr>
            <p:cNvPr id="261" name=""/>
            <p:cNvSpPr/>
            <p:nvPr/>
          </p:nvSpPr>
          <p:spPr>
            <a:xfrm>
              <a:off x="2498760" y="2390760"/>
              <a:ext cx="976320" cy="22860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66680" y="190512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iveau au repos du liqui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81280" y="2514600"/>
              <a:ext cx="39625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3514680" y="2828880"/>
            <a:ext cx="3962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90920" y="6324480"/>
            <a:ext cx="1042920" cy="357480"/>
          </a:xfrm>
          <a:custGeom>
            <a:avLst/>
            <a:gdLst>
              <a:gd name="textAreaLeft" fmla="*/ 23040 w 1042920"/>
              <a:gd name="textAreaRight" fmla="*/ 1019880 w 10429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62975" h="21600">
                <a:moveTo>
                  <a:pt x="0" y="0"/>
                </a:moveTo>
                <a:lnTo>
                  <a:pt x="62975" y="0"/>
                </a:lnTo>
                <a:lnTo>
                  <a:pt x="62975" y="21600"/>
                </a:lnTo>
                <a:lnTo>
                  <a:pt x="0" y="21600"/>
                </a:lnTo>
                <a:close/>
              </a:path>
              <a:path fill="lightenLess" w="62975" h="21600">
                <a:moveTo>
                  <a:pt x="0" y="0"/>
                </a:moveTo>
                <a:lnTo>
                  <a:pt x="62975" y="0"/>
                </a:lnTo>
                <a:lnTo>
                  <a:pt x="61575" y="1400"/>
                </a:lnTo>
                <a:lnTo>
                  <a:pt x="1400" y="1400"/>
                </a:lnTo>
                <a:close/>
              </a:path>
              <a:path fill="darken" w="62975" h="21600">
                <a:moveTo>
                  <a:pt x="62975" y="0"/>
                </a:moveTo>
                <a:lnTo>
                  <a:pt x="62975" y="21600"/>
                </a:lnTo>
                <a:lnTo>
                  <a:pt x="61575" y="20200"/>
                </a:lnTo>
                <a:lnTo>
                  <a:pt x="61575" y="1400"/>
                </a:lnTo>
                <a:close/>
              </a:path>
              <a:path fill="darkenLess" w="62975" h="21600">
                <a:moveTo>
                  <a:pt x="62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575" y="20200"/>
                </a:lnTo>
                <a:close/>
              </a:path>
              <a:path fill="lighten" w="62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975" h="21600">
                <a:moveTo>
                  <a:pt x="34986" y="10800"/>
                </a:moveTo>
                <a:lnTo>
                  <a:pt x="24481" y="17806"/>
                </a:lnTo>
                <a:lnTo>
                  <a:pt x="24481" y="3794"/>
                </a:lnTo>
                <a:close/>
              </a:path>
              <a:path fill="darken" w="62975" h="21600">
                <a:moveTo>
                  <a:pt x="36831" y="3794"/>
                </a:moveTo>
                <a:lnTo>
                  <a:pt x="36831" y="17806"/>
                </a:lnTo>
                <a:lnTo>
                  <a:pt x="38494" y="17806"/>
                </a:lnTo>
                <a:lnTo>
                  <a:pt x="38494" y="37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mvdf5" descr=""/>
          <p:cNvPicPr/>
          <p:nvPr/>
        </p:nvPicPr>
        <p:blipFill>
          <a:blip r:embed="rId1"/>
          <a:stretch/>
        </p:blipFill>
        <p:spPr>
          <a:xfrm>
            <a:off x="719280" y="0"/>
            <a:ext cx="7503840" cy="66326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09480" y="533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ase défreinag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2971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appel du ress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685440" y="3376440"/>
            <a:ext cx="492120" cy="104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95280" y="636264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rrêt  an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2240" y="38685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1ff45"/>
                </a:solidFill>
                <a:latin typeface="Times New Roman"/>
              </a:rPr>
              <a:t>F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0800000">
            <a:off x="222120" y="444780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71ff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066680" y="1905120"/>
            <a:ext cx="6477120" cy="825480"/>
            <a:chOff x="1066680" y="1905120"/>
            <a:chExt cx="6477120" cy="825480"/>
          </a:xfrm>
        </p:grpSpPr>
        <p:sp>
          <p:nvSpPr>
            <p:cNvPr id="274" name=""/>
            <p:cNvSpPr/>
            <p:nvPr/>
          </p:nvSpPr>
          <p:spPr>
            <a:xfrm>
              <a:off x="2498760" y="2390760"/>
              <a:ext cx="976320" cy="22860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66680" y="190512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iveau au repos du liqui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81280" y="2514600"/>
              <a:ext cx="39625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3505320" y="2895480"/>
            <a:ext cx="3962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90920" y="6324480"/>
            <a:ext cx="1042920" cy="357480"/>
          </a:xfrm>
          <a:custGeom>
            <a:avLst/>
            <a:gdLst>
              <a:gd name="textAreaLeft" fmla="*/ 23040 w 1042920"/>
              <a:gd name="textAreaRight" fmla="*/ 1019880 w 10429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62975" h="21600">
                <a:moveTo>
                  <a:pt x="0" y="0"/>
                </a:moveTo>
                <a:lnTo>
                  <a:pt x="62975" y="0"/>
                </a:lnTo>
                <a:lnTo>
                  <a:pt x="62975" y="21600"/>
                </a:lnTo>
                <a:lnTo>
                  <a:pt x="0" y="21600"/>
                </a:lnTo>
                <a:close/>
              </a:path>
              <a:path fill="lightenLess" w="62975" h="21600">
                <a:moveTo>
                  <a:pt x="0" y="0"/>
                </a:moveTo>
                <a:lnTo>
                  <a:pt x="62975" y="0"/>
                </a:lnTo>
                <a:lnTo>
                  <a:pt x="61575" y="1400"/>
                </a:lnTo>
                <a:lnTo>
                  <a:pt x="1400" y="1400"/>
                </a:lnTo>
                <a:close/>
              </a:path>
              <a:path fill="darken" w="62975" h="21600">
                <a:moveTo>
                  <a:pt x="62975" y="0"/>
                </a:moveTo>
                <a:lnTo>
                  <a:pt x="62975" y="21600"/>
                </a:lnTo>
                <a:lnTo>
                  <a:pt x="61575" y="20200"/>
                </a:lnTo>
                <a:lnTo>
                  <a:pt x="61575" y="1400"/>
                </a:lnTo>
                <a:close/>
              </a:path>
              <a:path fill="darkenLess" w="62975" h="21600">
                <a:moveTo>
                  <a:pt x="62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575" y="20200"/>
                </a:lnTo>
                <a:close/>
              </a:path>
              <a:path fill="lighten" w="62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975" h="21600">
                <a:moveTo>
                  <a:pt x="34986" y="10800"/>
                </a:moveTo>
                <a:lnTo>
                  <a:pt x="24481" y="17806"/>
                </a:lnTo>
                <a:lnTo>
                  <a:pt x="24481" y="3794"/>
                </a:lnTo>
                <a:close/>
              </a:path>
              <a:path fill="darken" w="62975" h="21600">
                <a:moveTo>
                  <a:pt x="36831" y="3794"/>
                </a:moveTo>
                <a:lnTo>
                  <a:pt x="36831" y="17806"/>
                </a:lnTo>
                <a:lnTo>
                  <a:pt x="38494" y="17806"/>
                </a:lnTo>
                <a:lnTo>
                  <a:pt x="38494" y="37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mvdf6" descr=""/>
          <p:cNvPicPr/>
          <p:nvPr/>
        </p:nvPicPr>
        <p:blipFill>
          <a:blip r:embed="rId1"/>
          <a:stretch/>
        </p:blipFill>
        <p:spPr>
          <a:xfrm>
            <a:off x="719280" y="0"/>
            <a:ext cx="7503840" cy="66326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9480" y="533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ase défreinag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2971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appel du ress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685440" y="3376440"/>
            <a:ext cx="492120" cy="104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95280" y="636264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rrêt  an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2240" y="38685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1ff45"/>
                </a:solidFill>
                <a:latin typeface="Times New Roman"/>
              </a:rPr>
              <a:t>F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10800000">
            <a:off x="184320" y="442548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71ff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066680" y="1905120"/>
            <a:ext cx="6477120" cy="825480"/>
            <a:chOff x="1066680" y="1905120"/>
            <a:chExt cx="6477120" cy="825480"/>
          </a:xfrm>
        </p:grpSpPr>
        <p:sp>
          <p:nvSpPr>
            <p:cNvPr id="287" name=""/>
            <p:cNvSpPr/>
            <p:nvPr/>
          </p:nvSpPr>
          <p:spPr>
            <a:xfrm>
              <a:off x="2498760" y="2390760"/>
              <a:ext cx="976320" cy="22860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66680" y="190512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iveau au repos du liqui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81280" y="2514600"/>
              <a:ext cx="39625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3495600" y="2924280"/>
            <a:ext cx="3962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90920" y="6324480"/>
            <a:ext cx="1042920" cy="357480"/>
          </a:xfrm>
          <a:custGeom>
            <a:avLst/>
            <a:gdLst>
              <a:gd name="textAreaLeft" fmla="*/ 23040 w 1042920"/>
              <a:gd name="textAreaRight" fmla="*/ 1019880 w 10429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62975" h="21600">
                <a:moveTo>
                  <a:pt x="0" y="0"/>
                </a:moveTo>
                <a:lnTo>
                  <a:pt x="62975" y="0"/>
                </a:lnTo>
                <a:lnTo>
                  <a:pt x="62975" y="21600"/>
                </a:lnTo>
                <a:lnTo>
                  <a:pt x="0" y="21600"/>
                </a:lnTo>
                <a:close/>
              </a:path>
              <a:path fill="lightenLess" w="62975" h="21600">
                <a:moveTo>
                  <a:pt x="0" y="0"/>
                </a:moveTo>
                <a:lnTo>
                  <a:pt x="62975" y="0"/>
                </a:lnTo>
                <a:lnTo>
                  <a:pt x="61575" y="1400"/>
                </a:lnTo>
                <a:lnTo>
                  <a:pt x="1400" y="1400"/>
                </a:lnTo>
                <a:close/>
              </a:path>
              <a:path fill="darken" w="62975" h="21600">
                <a:moveTo>
                  <a:pt x="62975" y="0"/>
                </a:moveTo>
                <a:lnTo>
                  <a:pt x="62975" y="21600"/>
                </a:lnTo>
                <a:lnTo>
                  <a:pt x="61575" y="20200"/>
                </a:lnTo>
                <a:lnTo>
                  <a:pt x="61575" y="1400"/>
                </a:lnTo>
                <a:close/>
              </a:path>
              <a:path fill="darkenLess" w="62975" h="21600">
                <a:moveTo>
                  <a:pt x="62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575" y="20200"/>
                </a:lnTo>
                <a:close/>
              </a:path>
              <a:path fill="lighten" w="62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975" h="21600">
                <a:moveTo>
                  <a:pt x="34986" y="10800"/>
                </a:moveTo>
                <a:lnTo>
                  <a:pt x="24481" y="17806"/>
                </a:lnTo>
                <a:lnTo>
                  <a:pt x="24481" y="3794"/>
                </a:lnTo>
                <a:close/>
              </a:path>
              <a:path fill="darken" w="62975" h="21600">
                <a:moveTo>
                  <a:pt x="36831" y="3794"/>
                </a:moveTo>
                <a:lnTo>
                  <a:pt x="36831" y="17806"/>
                </a:lnTo>
                <a:lnTo>
                  <a:pt x="38494" y="17806"/>
                </a:lnTo>
                <a:lnTo>
                  <a:pt x="38494" y="37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mvdf6" descr=""/>
          <p:cNvPicPr/>
          <p:nvPr/>
        </p:nvPicPr>
        <p:blipFill>
          <a:blip r:embed="rId1"/>
          <a:stretch/>
        </p:blipFill>
        <p:spPr>
          <a:xfrm>
            <a:off x="719280" y="0"/>
            <a:ext cx="7503840" cy="66326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09480" y="533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ase défreinag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2971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appel du ress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685440" y="3376440"/>
            <a:ext cx="492120" cy="104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636264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rrêt  an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240" y="38685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1ff45"/>
                </a:solidFill>
                <a:latin typeface="Times New Roman"/>
              </a:rPr>
              <a:t>F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0800000">
            <a:off x="190440" y="4454640"/>
            <a:ext cx="976320" cy="304560"/>
          </a:xfrm>
          <a:prstGeom prst="rightArrow">
            <a:avLst>
              <a:gd name="adj1" fmla="val 50000"/>
              <a:gd name="adj2" fmla="val 80142"/>
            </a:avLst>
          </a:prstGeom>
          <a:solidFill>
            <a:srgbClr val="71ff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1066680" y="1905120"/>
            <a:ext cx="6477120" cy="825480"/>
            <a:chOff x="1066680" y="1905120"/>
            <a:chExt cx="6477120" cy="825480"/>
          </a:xfrm>
        </p:grpSpPr>
        <p:sp>
          <p:nvSpPr>
            <p:cNvPr id="300" name=""/>
            <p:cNvSpPr/>
            <p:nvPr/>
          </p:nvSpPr>
          <p:spPr>
            <a:xfrm>
              <a:off x="2498760" y="2390760"/>
              <a:ext cx="976320" cy="22860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066680" y="190512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iveau au repos du liqui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81280" y="2514600"/>
              <a:ext cx="39625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486240" y="2952720"/>
            <a:ext cx="3962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90920" y="6324480"/>
            <a:ext cx="1042920" cy="357480"/>
          </a:xfrm>
          <a:custGeom>
            <a:avLst/>
            <a:gdLst>
              <a:gd name="textAreaLeft" fmla="*/ 23040 w 1042920"/>
              <a:gd name="textAreaRight" fmla="*/ 1019880 w 10429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62975" h="21600">
                <a:moveTo>
                  <a:pt x="0" y="0"/>
                </a:moveTo>
                <a:lnTo>
                  <a:pt x="62975" y="0"/>
                </a:lnTo>
                <a:lnTo>
                  <a:pt x="62975" y="21600"/>
                </a:lnTo>
                <a:lnTo>
                  <a:pt x="0" y="21600"/>
                </a:lnTo>
                <a:close/>
              </a:path>
              <a:path fill="lightenLess" w="62975" h="21600">
                <a:moveTo>
                  <a:pt x="0" y="0"/>
                </a:moveTo>
                <a:lnTo>
                  <a:pt x="62975" y="0"/>
                </a:lnTo>
                <a:lnTo>
                  <a:pt x="61575" y="1400"/>
                </a:lnTo>
                <a:lnTo>
                  <a:pt x="1400" y="1400"/>
                </a:lnTo>
                <a:close/>
              </a:path>
              <a:path fill="darken" w="62975" h="21600">
                <a:moveTo>
                  <a:pt x="62975" y="0"/>
                </a:moveTo>
                <a:lnTo>
                  <a:pt x="62975" y="21600"/>
                </a:lnTo>
                <a:lnTo>
                  <a:pt x="61575" y="20200"/>
                </a:lnTo>
                <a:lnTo>
                  <a:pt x="61575" y="1400"/>
                </a:lnTo>
                <a:close/>
              </a:path>
              <a:path fill="darkenLess" w="62975" h="21600">
                <a:moveTo>
                  <a:pt x="62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575" y="20200"/>
                </a:lnTo>
                <a:close/>
              </a:path>
              <a:path fill="lighten" w="62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975" h="21600">
                <a:moveTo>
                  <a:pt x="34986" y="10800"/>
                </a:moveTo>
                <a:lnTo>
                  <a:pt x="24481" y="17806"/>
                </a:lnTo>
                <a:lnTo>
                  <a:pt x="24481" y="3794"/>
                </a:lnTo>
                <a:close/>
              </a:path>
              <a:path fill="darken" w="62975" h="21600">
                <a:moveTo>
                  <a:pt x="36831" y="3794"/>
                </a:moveTo>
                <a:lnTo>
                  <a:pt x="36831" y="17806"/>
                </a:lnTo>
                <a:lnTo>
                  <a:pt x="38494" y="17806"/>
                </a:lnTo>
                <a:lnTo>
                  <a:pt x="38494" y="37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mvdf8" descr=""/>
          <p:cNvPicPr/>
          <p:nvPr/>
        </p:nvPicPr>
        <p:blipFill>
          <a:blip r:embed="rId1"/>
          <a:stretch/>
        </p:blipFill>
        <p:spPr>
          <a:xfrm>
            <a:off x="719280" y="0"/>
            <a:ext cx="7503840" cy="6632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609480" y="533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ase fin défreinag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4419720" y="5410080"/>
            <a:ext cx="2871720" cy="1282680"/>
            <a:chOff x="4419720" y="5410080"/>
            <a:chExt cx="2871720" cy="1282680"/>
          </a:xfrm>
        </p:grpSpPr>
        <p:sp>
          <p:nvSpPr>
            <p:cNvPr id="308" name=""/>
            <p:cNvSpPr/>
            <p:nvPr/>
          </p:nvSpPr>
          <p:spPr>
            <a:xfrm rot="20310600">
              <a:off x="4800600" y="5714640"/>
              <a:ext cx="152280" cy="762120"/>
            </a:xfrm>
            <a:prstGeom prst="upArrow">
              <a:avLst>
                <a:gd name="adj1" fmla="val 50000"/>
                <a:gd name="adj2" fmla="val 12511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20368200">
              <a:off x="7009920" y="5791320"/>
              <a:ext cx="152640" cy="761760"/>
            </a:xfrm>
            <a:prstGeom prst="upArrow">
              <a:avLst>
                <a:gd name="adj1" fmla="val 50000"/>
                <a:gd name="adj2" fmla="val 12476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105520" y="541008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etour liquide hydrauli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419720" y="6172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05720" y="6172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0" y="2971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appel du ress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685440" y="3376440"/>
            <a:ext cx="492120" cy="104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95280" y="636264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rrêt  an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92240" y="38685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1ff45"/>
                </a:solidFill>
                <a:latin typeface="Times New Roman"/>
              </a:rPr>
              <a:t>F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127080" y="444780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71ff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066680" y="1905120"/>
            <a:ext cx="6477120" cy="825480"/>
            <a:chOff x="1066680" y="1905120"/>
            <a:chExt cx="6477120" cy="825480"/>
          </a:xfrm>
        </p:grpSpPr>
        <p:sp>
          <p:nvSpPr>
            <p:cNvPr id="319" name=""/>
            <p:cNvSpPr/>
            <p:nvPr/>
          </p:nvSpPr>
          <p:spPr>
            <a:xfrm>
              <a:off x="2498760" y="2390760"/>
              <a:ext cx="976320" cy="22860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6680" y="190512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iveau au repos du liqui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81280" y="2514600"/>
              <a:ext cx="39625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3533760" y="2600280"/>
            <a:ext cx="3962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90920" y="6324480"/>
            <a:ext cx="1042920" cy="357480"/>
          </a:xfrm>
          <a:custGeom>
            <a:avLst/>
            <a:gdLst>
              <a:gd name="textAreaLeft" fmla="*/ 23040 w 1042920"/>
              <a:gd name="textAreaRight" fmla="*/ 1019880 w 10429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62975" h="21600">
                <a:moveTo>
                  <a:pt x="0" y="0"/>
                </a:moveTo>
                <a:lnTo>
                  <a:pt x="62975" y="0"/>
                </a:lnTo>
                <a:lnTo>
                  <a:pt x="62975" y="21600"/>
                </a:lnTo>
                <a:lnTo>
                  <a:pt x="0" y="21600"/>
                </a:lnTo>
                <a:close/>
              </a:path>
              <a:path fill="lightenLess" w="62975" h="21600">
                <a:moveTo>
                  <a:pt x="0" y="0"/>
                </a:moveTo>
                <a:lnTo>
                  <a:pt x="62975" y="0"/>
                </a:lnTo>
                <a:lnTo>
                  <a:pt x="61575" y="1400"/>
                </a:lnTo>
                <a:lnTo>
                  <a:pt x="1400" y="1400"/>
                </a:lnTo>
                <a:close/>
              </a:path>
              <a:path fill="darken" w="62975" h="21600">
                <a:moveTo>
                  <a:pt x="62975" y="0"/>
                </a:moveTo>
                <a:lnTo>
                  <a:pt x="62975" y="21600"/>
                </a:lnTo>
                <a:lnTo>
                  <a:pt x="61575" y="20200"/>
                </a:lnTo>
                <a:lnTo>
                  <a:pt x="61575" y="1400"/>
                </a:lnTo>
                <a:close/>
              </a:path>
              <a:path fill="darkenLess" w="62975" h="21600">
                <a:moveTo>
                  <a:pt x="62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575" y="20200"/>
                </a:lnTo>
                <a:close/>
              </a:path>
              <a:path fill="lighten" w="62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975" h="21600">
                <a:moveTo>
                  <a:pt x="34986" y="10800"/>
                </a:moveTo>
                <a:lnTo>
                  <a:pt x="24481" y="17806"/>
                </a:lnTo>
                <a:lnTo>
                  <a:pt x="24481" y="3794"/>
                </a:lnTo>
                <a:close/>
              </a:path>
              <a:path fill="darken" w="62975" h="21600">
                <a:moveTo>
                  <a:pt x="36831" y="3794"/>
                </a:moveTo>
                <a:lnTo>
                  <a:pt x="36831" y="17806"/>
                </a:lnTo>
                <a:lnTo>
                  <a:pt x="38494" y="17806"/>
                </a:lnTo>
                <a:lnTo>
                  <a:pt x="38494" y="37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mvdf9" descr=""/>
          <p:cNvPicPr/>
          <p:nvPr/>
        </p:nvPicPr>
        <p:blipFill>
          <a:blip r:embed="rId1"/>
          <a:stretch/>
        </p:blipFill>
        <p:spPr>
          <a:xfrm>
            <a:off x="719280" y="0"/>
            <a:ext cx="7503840" cy="6632640"/>
          </a:xfrm>
          <a:prstGeom prst="rect">
            <a:avLst/>
          </a:prstGeom>
          <a:ln w="0">
            <a:noFill/>
          </a:ln>
        </p:spPr>
      </p:pic>
      <p:grpSp>
        <p:nvGrpSpPr>
          <p:cNvPr id="325" name=""/>
          <p:cNvGrpSpPr/>
          <p:nvPr/>
        </p:nvGrpSpPr>
        <p:grpSpPr>
          <a:xfrm>
            <a:off x="4419720" y="5410080"/>
            <a:ext cx="2871720" cy="1282680"/>
            <a:chOff x="4419720" y="5410080"/>
            <a:chExt cx="2871720" cy="1282680"/>
          </a:xfrm>
        </p:grpSpPr>
        <p:sp>
          <p:nvSpPr>
            <p:cNvPr id="326" name=""/>
            <p:cNvSpPr/>
            <p:nvPr/>
          </p:nvSpPr>
          <p:spPr>
            <a:xfrm rot="20310600">
              <a:off x="4800600" y="5714640"/>
              <a:ext cx="152280" cy="762120"/>
            </a:xfrm>
            <a:prstGeom prst="upArrow">
              <a:avLst>
                <a:gd name="adj1" fmla="val 50000"/>
                <a:gd name="adj2" fmla="val 12511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20368200">
              <a:off x="7009920" y="5791320"/>
              <a:ext cx="152640" cy="761760"/>
            </a:xfrm>
            <a:prstGeom prst="upArrow">
              <a:avLst>
                <a:gd name="adj1" fmla="val 50000"/>
                <a:gd name="adj2" fmla="val 12476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105520" y="541008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etour liquide hydrauli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419720" y="6172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05720" y="6172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0" y="2971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appel du ress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685440" y="3376440"/>
            <a:ext cx="492120" cy="104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95280" y="636264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rrêt  an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533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ase fin défreinag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2240" y="38685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1ff45"/>
                </a:solidFill>
                <a:latin typeface="Times New Roman"/>
              </a:rPr>
              <a:t>F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0800000">
            <a:off x="108000" y="4454640"/>
            <a:ext cx="976320" cy="304560"/>
          </a:xfrm>
          <a:prstGeom prst="rightArrow">
            <a:avLst>
              <a:gd name="adj1" fmla="val 50000"/>
              <a:gd name="adj2" fmla="val 80142"/>
            </a:avLst>
          </a:prstGeom>
          <a:solidFill>
            <a:srgbClr val="71ff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066680" y="1905120"/>
            <a:ext cx="6477120" cy="825480"/>
            <a:chOff x="1066680" y="1905120"/>
            <a:chExt cx="6477120" cy="825480"/>
          </a:xfrm>
        </p:grpSpPr>
        <p:sp>
          <p:nvSpPr>
            <p:cNvPr id="338" name=""/>
            <p:cNvSpPr/>
            <p:nvPr/>
          </p:nvSpPr>
          <p:spPr>
            <a:xfrm>
              <a:off x="2498760" y="2390760"/>
              <a:ext cx="976320" cy="22860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66680" y="190512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iveau au repos du liqui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81280" y="2514600"/>
              <a:ext cx="39625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3581280" y="2514600"/>
            <a:ext cx="3962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590920" y="6324480"/>
            <a:ext cx="1042920" cy="357480"/>
          </a:xfrm>
          <a:custGeom>
            <a:avLst/>
            <a:gdLst>
              <a:gd name="textAreaLeft" fmla="*/ 23040 w 1042920"/>
              <a:gd name="textAreaRight" fmla="*/ 1019880 w 10429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62975" h="21600">
                <a:moveTo>
                  <a:pt x="0" y="0"/>
                </a:moveTo>
                <a:lnTo>
                  <a:pt x="62975" y="0"/>
                </a:lnTo>
                <a:lnTo>
                  <a:pt x="62975" y="21600"/>
                </a:lnTo>
                <a:lnTo>
                  <a:pt x="0" y="21600"/>
                </a:lnTo>
                <a:close/>
              </a:path>
              <a:path fill="lightenLess" w="62975" h="21600">
                <a:moveTo>
                  <a:pt x="0" y="0"/>
                </a:moveTo>
                <a:lnTo>
                  <a:pt x="62975" y="0"/>
                </a:lnTo>
                <a:lnTo>
                  <a:pt x="61575" y="1400"/>
                </a:lnTo>
                <a:lnTo>
                  <a:pt x="1400" y="1400"/>
                </a:lnTo>
                <a:close/>
              </a:path>
              <a:path fill="darken" w="62975" h="21600">
                <a:moveTo>
                  <a:pt x="62975" y="0"/>
                </a:moveTo>
                <a:lnTo>
                  <a:pt x="62975" y="21600"/>
                </a:lnTo>
                <a:lnTo>
                  <a:pt x="61575" y="20200"/>
                </a:lnTo>
                <a:lnTo>
                  <a:pt x="61575" y="1400"/>
                </a:lnTo>
                <a:close/>
              </a:path>
              <a:path fill="darkenLess" w="62975" h="21600">
                <a:moveTo>
                  <a:pt x="62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575" y="20200"/>
                </a:lnTo>
                <a:close/>
              </a:path>
              <a:path fill="lighten" w="62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975" h="21600">
                <a:moveTo>
                  <a:pt x="34986" y="10800"/>
                </a:moveTo>
                <a:lnTo>
                  <a:pt x="24481" y="17806"/>
                </a:lnTo>
                <a:lnTo>
                  <a:pt x="24481" y="3794"/>
                </a:lnTo>
                <a:close/>
              </a:path>
              <a:path fill="darken" w="62975" h="21600">
                <a:moveTo>
                  <a:pt x="36831" y="3794"/>
                </a:moveTo>
                <a:lnTo>
                  <a:pt x="36831" y="17806"/>
                </a:lnTo>
                <a:lnTo>
                  <a:pt x="38494" y="17806"/>
                </a:lnTo>
                <a:lnTo>
                  <a:pt x="38494" y="37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mvf2" descr=""/>
          <p:cNvPicPr/>
          <p:nvPr/>
        </p:nvPicPr>
        <p:blipFill>
          <a:blip r:embed="rId1"/>
          <a:stretch/>
        </p:blipFill>
        <p:spPr>
          <a:xfrm>
            <a:off x="719280" y="0"/>
            <a:ext cx="7503840" cy="6632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2971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ffort du conduc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85440" y="3376440"/>
            <a:ext cx="492120" cy="104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14480" y="3868560"/>
            <a:ext cx="975960" cy="873000"/>
            <a:chOff x="114480" y="3868560"/>
            <a:chExt cx="975960" cy="873000"/>
          </a:xfrm>
        </p:grpSpPr>
        <p:sp>
          <p:nvSpPr>
            <p:cNvPr id="55" name=""/>
            <p:cNvSpPr/>
            <p:nvPr/>
          </p:nvSpPr>
          <p:spPr>
            <a:xfrm>
              <a:off x="114480" y="4437000"/>
              <a:ext cx="975960" cy="304560"/>
            </a:xfrm>
            <a:prstGeom prst="rightArrow">
              <a:avLst>
                <a:gd name="adj1" fmla="val 50000"/>
                <a:gd name="adj2" fmla="val 8011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1880" y="3868560"/>
              <a:ext cx="68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609480" y="533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ase début freinag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636264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rrêt  an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"/>
          </p:cNvPr>
          <p:cNvSpPr/>
          <p:nvPr/>
        </p:nvSpPr>
        <p:spPr>
          <a:xfrm>
            <a:off x="2590920" y="6324480"/>
            <a:ext cx="1042920" cy="357480"/>
          </a:xfrm>
          <a:custGeom>
            <a:avLst/>
            <a:gdLst>
              <a:gd name="textAreaLeft" fmla="*/ 23040 w 1042920"/>
              <a:gd name="textAreaRight" fmla="*/ 1019880 w 10429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62975" h="21600">
                <a:moveTo>
                  <a:pt x="0" y="0"/>
                </a:moveTo>
                <a:lnTo>
                  <a:pt x="62975" y="0"/>
                </a:lnTo>
                <a:lnTo>
                  <a:pt x="62975" y="21600"/>
                </a:lnTo>
                <a:lnTo>
                  <a:pt x="0" y="21600"/>
                </a:lnTo>
                <a:close/>
              </a:path>
              <a:path fill="lightenLess" w="62975" h="21600">
                <a:moveTo>
                  <a:pt x="0" y="0"/>
                </a:moveTo>
                <a:lnTo>
                  <a:pt x="62975" y="0"/>
                </a:lnTo>
                <a:lnTo>
                  <a:pt x="61575" y="1400"/>
                </a:lnTo>
                <a:lnTo>
                  <a:pt x="1400" y="1400"/>
                </a:lnTo>
                <a:close/>
              </a:path>
              <a:path fill="darken" w="62975" h="21600">
                <a:moveTo>
                  <a:pt x="62975" y="0"/>
                </a:moveTo>
                <a:lnTo>
                  <a:pt x="62975" y="21600"/>
                </a:lnTo>
                <a:lnTo>
                  <a:pt x="61575" y="20200"/>
                </a:lnTo>
                <a:lnTo>
                  <a:pt x="61575" y="1400"/>
                </a:lnTo>
                <a:close/>
              </a:path>
              <a:path fill="darkenLess" w="62975" h="21600">
                <a:moveTo>
                  <a:pt x="62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575" y="20200"/>
                </a:lnTo>
                <a:close/>
              </a:path>
              <a:path fill="lighten" w="62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975" h="21600">
                <a:moveTo>
                  <a:pt x="34986" y="10800"/>
                </a:moveTo>
                <a:lnTo>
                  <a:pt x="24481" y="17806"/>
                </a:lnTo>
                <a:lnTo>
                  <a:pt x="24481" y="3794"/>
                </a:lnTo>
                <a:close/>
              </a:path>
              <a:path fill="darken" w="62975" h="21600">
                <a:moveTo>
                  <a:pt x="36831" y="3794"/>
                </a:moveTo>
                <a:lnTo>
                  <a:pt x="36831" y="17806"/>
                </a:lnTo>
                <a:lnTo>
                  <a:pt x="38494" y="17806"/>
                </a:lnTo>
                <a:lnTo>
                  <a:pt x="38494" y="37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1280" y="2286000"/>
            <a:ext cx="3962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066680" y="1905120"/>
            <a:ext cx="6477120" cy="825480"/>
            <a:chOff x="1066680" y="1905120"/>
            <a:chExt cx="6477120" cy="825480"/>
          </a:xfrm>
        </p:grpSpPr>
        <p:sp>
          <p:nvSpPr>
            <p:cNvPr id="62" name=""/>
            <p:cNvSpPr/>
            <p:nvPr/>
          </p:nvSpPr>
          <p:spPr>
            <a:xfrm>
              <a:off x="2498760" y="2390760"/>
              <a:ext cx="976320" cy="22860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66680" y="190512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iveau au repos du liqui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81280" y="2514600"/>
              <a:ext cx="39625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mvf3" descr=""/>
          <p:cNvPicPr/>
          <p:nvPr/>
        </p:nvPicPr>
        <p:blipFill>
          <a:blip r:embed="rId1"/>
          <a:stretch/>
        </p:blipFill>
        <p:spPr>
          <a:xfrm>
            <a:off x="719280" y="0"/>
            <a:ext cx="7503840" cy="6632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2971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ffort du conduc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85440" y="3376440"/>
            <a:ext cx="492120" cy="104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14480" y="3868560"/>
            <a:ext cx="975960" cy="873000"/>
            <a:chOff x="114480" y="3868560"/>
            <a:chExt cx="975960" cy="873000"/>
          </a:xfrm>
        </p:grpSpPr>
        <p:sp>
          <p:nvSpPr>
            <p:cNvPr id="69" name=""/>
            <p:cNvSpPr/>
            <p:nvPr/>
          </p:nvSpPr>
          <p:spPr>
            <a:xfrm>
              <a:off x="114480" y="4437000"/>
              <a:ext cx="975960" cy="304560"/>
            </a:xfrm>
            <a:prstGeom prst="rightArrow">
              <a:avLst>
                <a:gd name="adj1" fmla="val 50000"/>
                <a:gd name="adj2" fmla="val 8011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1880" y="3868560"/>
              <a:ext cx="68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609480" y="533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ase début freinag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636264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rrêt  an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066680" y="1905120"/>
            <a:ext cx="6477120" cy="825480"/>
            <a:chOff x="1066680" y="1905120"/>
            <a:chExt cx="6477120" cy="825480"/>
          </a:xfrm>
        </p:grpSpPr>
        <p:sp>
          <p:nvSpPr>
            <p:cNvPr id="74" name=""/>
            <p:cNvSpPr/>
            <p:nvPr/>
          </p:nvSpPr>
          <p:spPr>
            <a:xfrm>
              <a:off x="2498760" y="2390760"/>
              <a:ext cx="976320" cy="22860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190512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iveau au repos du liqui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81280" y="2514600"/>
              <a:ext cx="39625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3581280" y="2362320"/>
            <a:ext cx="3962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2"/>
          </p:cNvPr>
          <p:cNvSpPr/>
          <p:nvPr/>
        </p:nvSpPr>
        <p:spPr>
          <a:xfrm>
            <a:off x="2590920" y="6324480"/>
            <a:ext cx="1042920" cy="357480"/>
          </a:xfrm>
          <a:custGeom>
            <a:avLst/>
            <a:gdLst>
              <a:gd name="textAreaLeft" fmla="*/ 23040 w 1042920"/>
              <a:gd name="textAreaRight" fmla="*/ 1019880 w 10429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62975" h="21600">
                <a:moveTo>
                  <a:pt x="0" y="0"/>
                </a:moveTo>
                <a:lnTo>
                  <a:pt x="62975" y="0"/>
                </a:lnTo>
                <a:lnTo>
                  <a:pt x="62975" y="21600"/>
                </a:lnTo>
                <a:lnTo>
                  <a:pt x="0" y="21600"/>
                </a:lnTo>
                <a:close/>
              </a:path>
              <a:path fill="lightenLess" w="62975" h="21600">
                <a:moveTo>
                  <a:pt x="0" y="0"/>
                </a:moveTo>
                <a:lnTo>
                  <a:pt x="62975" y="0"/>
                </a:lnTo>
                <a:lnTo>
                  <a:pt x="61575" y="1400"/>
                </a:lnTo>
                <a:lnTo>
                  <a:pt x="1400" y="1400"/>
                </a:lnTo>
                <a:close/>
              </a:path>
              <a:path fill="darken" w="62975" h="21600">
                <a:moveTo>
                  <a:pt x="62975" y="0"/>
                </a:moveTo>
                <a:lnTo>
                  <a:pt x="62975" y="21600"/>
                </a:lnTo>
                <a:lnTo>
                  <a:pt x="61575" y="20200"/>
                </a:lnTo>
                <a:lnTo>
                  <a:pt x="61575" y="1400"/>
                </a:lnTo>
                <a:close/>
              </a:path>
              <a:path fill="darkenLess" w="62975" h="21600">
                <a:moveTo>
                  <a:pt x="62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575" y="20200"/>
                </a:lnTo>
                <a:close/>
              </a:path>
              <a:path fill="lighten" w="62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975" h="21600">
                <a:moveTo>
                  <a:pt x="34986" y="10800"/>
                </a:moveTo>
                <a:lnTo>
                  <a:pt x="24481" y="17806"/>
                </a:lnTo>
                <a:lnTo>
                  <a:pt x="24481" y="3794"/>
                </a:lnTo>
                <a:close/>
              </a:path>
              <a:path fill="darken" w="62975" h="21600">
                <a:moveTo>
                  <a:pt x="36831" y="3794"/>
                </a:moveTo>
                <a:lnTo>
                  <a:pt x="36831" y="17806"/>
                </a:lnTo>
                <a:lnTo>
                  <a:pt x="38494" y="17806"/>
                </a:lnTo>
                <a:lnTo>
                  <a:pt x="38494" y="37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mvf4" descr=""/>
          <p:cNvPicPr/>
          <p:nvPr/>
        </p:nvPicPr>
        <p:blipFill>
          <a:blip r:embed="rId1"/>
          <a:stretch/>
        </p:blipFill>
        <p:spPr>
          <a:xfrm>
            <a:off x="719280" y="0"/>
            <a:ext cx="7503840" cy="6632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4000" y="3006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ffort du conduc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739440" y="3411360"/>
            <a:ext cx="492120" cy="104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68120" y="3903840"/>
            <a:ext cx="976320" cy="873000"/>
            <a:chOff x="168120" y="3903840"/>
            <a:chExt cx="976320" cy="873000"/>
          </a:xfrm>
        </p:grpSpPr>
        <p:sp>
          <p:nvSpPr>
            <p:cNvPr id="84" name=""/>
            <p:cNvSpPr/>
            <p:nvPr/>
          </p:nvSpPr>
          <p:spPr>
            <a:xfrm>
              <a:off x="168120" y="4472280"/>
              <a:ext cx="976320" cy="304560"/>
            </a:xfrm>
            <a:prstGeom prst="rightArrow">
              <a:avLst>
                <a:gd name="adj1" fmla="val 50000"/>
                <a:gd name="adj2" fmla="val 8014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45880" y="390384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09480" y="533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ase début freinag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636264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rrêt  an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066680" y="1905120"/>
            <a:ext cx="6477120" cy="825480"/>
            <a:chOff x="1066680" y="1905120"/>
            <a:chExt cx="6477120" cy="825480"/>
          </a:xfrm>
        </p:grpSpPr>
        <p:sp>
          <p:nvSpPr>
            <p:cNvPr id="89" name=""/>
            <p:cNvSpPr/>
            <p:nvPr/>
          </p:nvSpPr>
          <p:spPr>
            <a:xfrm>
              <a:off x="2498760" y="2390760"/>
              <a:ext cx="976320" cy="22860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66680" y="190512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iveau au repos du liqui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81280" y="2514600"/>
              <a:ext cx="39625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581280" y="2381400"/>
            <a:ext cx="3962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2"/>
          </p:cNvPr>
          <p:cNvSpPr/>
          <p:nvPr/>
        </p:nvSpPr>
        <p:spPr>
          <a:xfrm>
            <a:off x="2590920" y="6324480"/>
            <a:ext cx="1042920" cy="357480"/>
          </a:xfrm>
          <a:custGeom>
            <a:avLst/>
            <a:gdLst>
              <a:gd name="textAreaLeft" fmla="*/ 23040 w 1042920"/>
              <a:gd name="textAreaRight" fmla="*/ 1019880 w 10429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62975" h="21600">
                <a:moveTo>
                  <a:pt x="0" y="0"/>
                </a:moveTo>
                <a:lnTo>
                  <a:pt x="62975" y="0"/>
                </a:lnTo>
                <a:lnTo>
                  <a:pt x="62975" y="21600"/>
                </a:lnTo>
                <a:lnTo>
                  <a:pt x="0" y="21600"/>
                </a:lnTo>
                <a:close/>
              </a:path>
              <a:path fill="lightenLess" w="62975" h="21600">
                <a:moveTo>
                  <a:pt x="0" y="0"/>
                </a:moveTo>
                <a:lnTo>
                  <a:pt x="62975" y="0"/>
                </a:lnTo>
                <a:lnTo>
                  <a:pt x="61575" y="1400"/>
                </a:lnTo>
                <a:lnTo>
                  <a:pt x="1400" y="1400"/>
                </a:lnTo>
                <a:close/>
              </a:path>
              <a:path fill="darken" w="62975" h="21600">
                <a:moveTo>
                  <a:pt x="62975" y="0"/>
                </a:moveTo>
                <a:lnTo>
                  <a:pt x="62975" y="21600"/>
                </a:lnTo>
                <a:lnTo>
                  <a:pt x="61575" y="20200"/>
                </a:lnTo>
                <a:lnTo>
                  <a:pt x="61575" y="1400"/>
                </a:lnTo>
                <a:close/>
              </a:path>
              <a:path fill="darkenLess" w="62975" h="21600">
                <a:moveTo>
                  <a:pt x="62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575" y="20200"/>
                </a:lnTo>
                <a:close/>
              </a:path>
              <a:path fill="lighten" w="62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975" h="21600">
                <a:moveTo>
                  <a:pt x="34986" y="10800"/>
                </a:moveTo>
                <a:lnTo>
                  <a:pt x="24481" y="17806"/>
                </a:lnTo>
                <a:lnTo>
                  <a:pt x="24481" y="3794"/>
                </a:lnTo>
                <a:close/>
              </a:path>
              <a:path fill="darken" w="62975" h="21600">
                <a:moveTo>
                  <a:pt x="36831" y="3794"/>
                </a:moveTo>
                <a:lnTo>
                  <a:pt x="36831" y="17806"/>
                </a:lnTo>
                <a:lnTo>
                  <a:pt x="38494" y="17806"/>
                </a:lnTo>
                <a:lnTo>
                  <a:pt x="38494" y="37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mvf5" descr=""/>
          <p:cNvPicPr/>
          <p:nvPr/>
        </p:nvPicPr>
        <p:blipFill>
          <a:blip r:embed="rId1"/>
          <a:stretch/>
        </p:blipFill>
        <p:spPr>
          <a:xfrm>
            <a:off x="719280" y="0"/>
            <a:ext cx="7503840" cy="6632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2971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ffort du conduc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85440" y="3376440"/>
            <a:ext cx="492120" cy="104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3040" y="442440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2240" y="38685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572000" y="5484960"/>
            <a:ext cx="2864880" cy="1282320"/>
            <a:chOff x="4572000" y="5484960"/>
            <a:chExt cx="2864880" cy="1282320"/>
          </a:xfrm>
        </p:grpSpPr>
        <p:sp>
          <p:nvSpPr>
            <p:cNvPr id="100" name=""/>
            <p:cNvSpPr/>
            <p:nvPr/>
          </p:nvSpPr>
          <p:spPr>
            <a:xfrm rot="9639600">
              <a:off x="4952160" y="5789160"/>
              <a:ext cx="152280" cy="761760"/>
            </a:xfrm>
            <a:prstGeom prst="upArrow">
              <a:avLst>
                <a:gd name="adj1" fmla="val 50000"/>
                <a:gd name="adj2" fmla="val 12505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9639600">
              <a:off x="7162200" y="5865120"/>
              <a:ext cx="152640" cy="761400"/>
            </a:xfrm>
            <a:prstGeom prst="upArrow">
              <a:avLst>
                <a:gd name="adj1" fmla="val 50000"/>
                <a:gd name="adj2" fmla="val 12470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57800" y="5484960"/>
              <a:ext cx="1676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Press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hydrauli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0" y="62467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62467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295280" y="636264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rrêt  an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533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ase freinag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066680" y="1905120"/>
            <a:ext cx="6477120" cy="825480"/>
            <a:chOff x="1066680" y="1905120"/>
            <a:chExt cx="6477120" cy="825480"/>
          </a:xfrm>
        </p:grpSpPr>
        <p:sp>
          <p:nvSpPr>
            <p:cNvPr id="108" name=""/>
            <p:cNvSpPr/>
            <p:nvPr/>
          </p:nvSpPr>
          <p:spPr>
            <a:xfrm>
              <a:off x="2498760" y="2390760"/>
              <a:ext cx="976320" cy="22860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6680" y="190512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iveau au repos du liqui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81280" y="2514600"/>
              <a:ext cx="39625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581280" y="2428920"/>
            <a:ext cx="3962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2"/>
          </p:cNvPr>
          <p:cNvSpPr/>
          <p:nvPr/>
        </p:nvSpPr>
        <p:spPr>
          <a:xfrm>
            <a:off x="2590920" y="6324480"/>
            <a:ext cx="1042920" cy="357480"/>
          </a:xfrm>
          <a:custGeom>
            <a:avLst/>
            <a:gdLst>
              <a:gd name="textAreaLeft" fmla="*/ 23040 w 1042920"/>
              <a:gd name="textAreaRight" fmla="*/ 1019880 w 10429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62975" h="21600">
                <a:moveTo>
                  <a:pt x="0" y="0"/>
                </a:moveTo>
                <a:lnTo>
                  <a:pt x="62975" y="0"/>
                </a:lnTo>
                <a:lnTo>
                  <a:pt x="62975" y="21600"/>
                </a:lnTo>
                <a:lnTo>
                  <a:pt x="0" y="21600"/>
                </a:lnTo>
                <a:close/>
              </a:path>
              <a:path fill="lightenLess" w="62975" h="21600">
                <a:moveTo>
                  <a:pt x="0" y="0"/>
                </a:moveTo>
                <a:lnTo>
                  <a:pt x="62975" y="0"/>
                </a:lnTo>
                <a:lnTo>
                  <a:pt x="61575" y="1400"/>
                </a:lnTo>
                <a:lnTo>
                  <a:pt x="1400" y="1400"/>
                </a:lnTo>
                <a:close/>
              </a:path>
              <a:path fill="darken" w="62975" h="21600">
                <a:moveTo>
                  <a:pt x="62975" y="0"/>
                </a:moveTo>
                <a:lnTo>
                  <a:pt x="62975" y="21600"/>
                </a:lnTo>
                <a:lnTo>
                  <a:pt x="61575" y="20200"/>
                </a:lnTo>
                <a:lnTo>
                  <a:pt x="61575" y="1400"/>
                </a:lnTo>
                <a:close/>
              </a:path>
              <a:path fill="darkenLess" w="62975" h="21600">
                <a:moveTo>
                  <a:pt x="62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575" y="20200"/>
                </a:lnTo>
                <a:close/>
              </a:path>
              <a:path fill="lighten" w="62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975" h="21600">
                <a:moveTo>
                  <a:pt x="34986" y="10800"/>
                </a:moveTo>
                <a:lnTo>
                  <a:pt x="24481" y="17806"/>
                </a:lnTo>
                <a:lnTo>
                  <a:pt x="24481" y="3794"/>
                </a:lnTo>
                <a:close/>
              </a:path>
              <a:path fill="darken" w="62975" h="21600">
                <a:moveTo>
                  <a:pt x="36831" y="3794"/>
                </a:moveTo>
                <a:lnTo>
                  <a:pt x="36831" y="17806"/>
                </a:lnTo>
                <a:lnTo>
                  <a:pt x="38494" y="17806"/>
                </a:lnTo>
                <a:lnTo>
                  <a:pt x="38494" y="37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mvf6" descr=""/>
          <p:cNvPicPr/>
          <p:nvPr/>
        </p:nvPicPr>
        <p:blipFill>
          <a:blip r:embed="rId1"/>
          <a:stretch/>
        </p:blipFill>
        <p:spPr>
          <a:xfrm>
            <a:off x="719280" y="0"/>
            <a:ext cx="7503840" cy="663264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4419720" y="5410080"/>
            <a:ext cx="2864880" cy="1282680"/>
            <a:chOff x="4419720" y="5410080"/>
            <a:chExt cx="2864880" cy="1282680"/>
          </a:xfrm>
        </p:grpSpPr>
        <p:sp>
          <p:nvSpPr>
            <p:cNvPr id="115" name=""/>
            <p:cNvSpPr/>
            <p:nvPr/>
          </p:nvSpPr>
          <p:spPr>
            <a:xfrm rot="9639600">
              <a:off x="4799880" y="5714280"/>
              <a:ext cx="152280" cy="762120"/>
            </a:xfrm>
            <a:prstGeom prst="upArrow">
              <a:avLst>
                <a:gd name="adj1" fmla="val 50000"/>
                <a:gd name="adj2" fmla="val 12511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9639600">
              <a:off x="7009920" y="5790960"/>
              <a:ext cx="152640" cy="761760"/>
            </a:xfrm>
            <a:prstGeom prst="upArrow">
              <a:avLst>
                <a:gd name="adj1" fmla="val 50000"/>
                <a:gd name="adj2" fmla="val 12476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05520" y="5410080"/>
              <a:ext cx="1676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Pression hydrauli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19720" y="6172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5720" y="6172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0" y="2971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ffort du conduc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85440" y="3376440"/>
            <a:ext cx="492120" cy="104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54160" y="3894120"/>
            <a:ext cx="976320" cy="873000"/>
            <a:chOff x="254160" y="3894120"/>
            <a:chExt cx="976320" cy="873000"/>
          </a:xfrm>
        </p:grpSpPr>
        <p:sp>
          <p:nvSpPr>
            <p:cNvPr id="123" name=""/>
            <p:cNvSpPr/>
            <p:nvPr/>
          </p:nvSpPr>
          <p:spPr>
            <a:xfrm>
              <a:off x="254160" y="4462560"/>
              <a:ext cx="976320" cy="304560"/>
            </a:xfrm>
            <a:prstGeom prst="rightArrow">
              <a:avLst>
                <a:gd name="adj1" fmla="val 50000"/>
                <a:gd name="adj2" fmla="val 8014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1920" y="38941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295280" y="636264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rrêt  an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533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ase freinag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066680" y="1905120"/>
            <a:ext cx="6477120" cy="825480"/>
            <a:chOff x="1066680" y="1905120"/>
            <a:chExt cx="6477120" cy="825480"/>
          </a:xfrm>
        </p:grpSpPr>
        <p:sp>
          <p:nvSpPr>
            <p:cNvPr id="128" name=""/>
            <p:cNvSpPr/>
            <p:nvPr/>
          </p:nvSpPr>
          <p:spPr>
            <a:xfrm>
              <a:off x="2498760" y="2390760"/>
              <a:ext cx="976320" cy="22860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6680" y="190512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iveau au repos du liqui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81280" y="2514600"/>
              <a:ext cx="39625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591000" y="2457360"/>
            <a:ext cx="3962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2"/>
          </p:cNvPr>
          <p:cNvSpPr/>
          <p:nvPr/>
        </p:nvSpPr>
        <p:spPr>
          <a:xfrm>
            <a:off x="2590920" y="6324480"/>
            <a:ext cx="1042920" cy="357480"/>
          </a:xfrm>
          <a:custGeom>
            <a:avLst/>
            <a:gdLst>
              <a:gd name="textAreaLeft" fmla="*/ 23040 w 1042920"/>
              <a:gd name="textAreaRight" fmla="*/ 1019880 w 10429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62975" h="21600">
                <a:moveTo>
                  <a:pt x="0" y="0"/>
                </a:moveTo>
                <a:lnTo>
                  <a:pt x="62975" y="0"/>
                </a:lnTo>
                <a:lnTo>
                  <a:pt x="62975" y="21600"/>
                </a:lnTo>
                <a:lnTo>
                  <a:pt x="0" y="21600"/>
                </a:lnTo>
                <a:close/>
              </a:path>
              <a:path fill="lightenLess" w="62975" h="21600">
                <a:moveTo>
                  <a:pt x="0" y="0"/>
                </a:moveTo>
                <a:lnTo>
                  <a:pt x="62975" y="0"/>
                </a:lnTo>
                <a:lnTo>
                  <a:pt x="61575" y="1400"/>
                </a:lnTo>
                <a:lnTo>
                  <a:pt x="1400" y="1400"/>
                </a:lnTo>
                <a:close/>
              </a:path>
              <a:path fill="darken" w="62975" h="21600">
                <a:moveTo>
                  <a:pt x="62975" y="0"/>
                </a:moveTo>
                <a:lnTo>
                  <a:pt x="62975" y="21600"/>
                </a:lnTo>
                <a:lnTo>
                  <a:pt x="61575" y="20200"/>
                </a:lnTo>
                <a:lnTo>
                  <a:pt x="61575" y="1400"/>
                </a:lnTo>
                <a:close/>
              </a:path>
              <a:path fill="darkenLess" w="62975" h="21600">
                <a:moveTo>
                  <a:pt x="62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575" y="20200"/>
                </a:lnTo>
                <a:close/>
              </a:path>
              <a:path fill="lighten" w="62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975" h="21600">
                <a:moveTo>
                  <a:pt x="34986" y="10800"/>
                </a:moveTo>
                <a:lnTo>
                  <a:pt x="24481" y="17806"/>
                </a:lnTo>
                <a:lnTo>
                  <a:pt x="24481" y="3794"/>
                </a:lnTo>
                <a:close/>
              </a:path>
              <a:path fill="darken" w="62975" h="21600">
                <a:moveTo>
                  <a:pt x="36831" y="3794"/>
                </a:moveTo>
                <a:lnTo>
                  <a:pt x="36831" y="17806"/>
                </a:lnTo>
                <a:lnTo>
                  <a:pt x="38494" y="17806"/>
                </a:lnTo>
                <a:lnTo>
                  <a:pt x="38494" y="37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mvf7" descr=""/>
          <p:cNvPicPr/>
          <p:nvPr/>
        </p:nvPicPr>
        <p:blipFill>
          <a:blip r:embed="rId1"/>
          <a:stretch/>
        </p:blipFill>
        <p:spPr>
          <a:xfrm>
            <a:off x="719280" y="0"/>
            <a:ext cx="7503840" cy="663264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4419720" y="5410080"/>
            <a:ext cx="2864880" cy="1282680"/>
            <a:chOff x="4419720" y="5410080"/>
            <a:chExt cx="2864880" cy="1282680"/>
          </a:xfrm>
        </p:grpSpPr>
        <p:sp>
          <p:nvSpPr>
            <p:cNvPr id="135" name=""/>
            <p:cNvSpPr/>
            <p:nvPr/>
          </p:nvSpPr>
          <p:spPr>
            <a:xfrm rot="9639600">
              <a:off x="4799880" y="5714280"/>
              <a:ext cx="152280" cy="762120"/>
            </a:xfrm>
            <a:prstGeom prst="upArrow">
              <a:avLst>
                <a:gd name="adj1" fmla="val 50000"/>
                <a:gd name="adj2" fmla="val 12511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9639600">
              <a:off x="7009920" y="5790960"/>
              <a:ext cx="152640" cy="761760"/>
            </a:xfrm>
            <a:prstGeom prst="upArrow">
              <a:avLst>
                <a:gd name="adj1" fmla="val 50000"/>
                <a:gd name="adj2" fmla="val 12476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5410080"/>
              <a:ext cx="1676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Pression hydrauli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6172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05720" y="6172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0" y="2971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ffort du conduc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85440" y="3376440"/>
            <a:ext cx="492120" cy="104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79360" y="3894120"/>
            <a:ext cx="976320" cy="873000"/>
            <a:chOff x="279360" y="3894120"/>
            <a:chExt cx="976320" cy="873000"/>
          </a:xfrm>
        </p:grpSpPr>
        <p:sp>
          <p:nvSpPr>
            <p:cNvPr id="143" name=""/>
            <p:cNvSpPr/>
            <p:nvPr/>
          </p:nvSpPr>
          <p:spPr>
            <a:xfrm>
              <a:off x="279360" y="4462560"/>
              <a:ext cx="976320" cy="304560"/>
            </a:xfrm>
            <a:prstGeom prst="rightArrow">
              <a:avLst>
                <a:gd name="adj1" fmla="val 50000"/>
                <a:gd name="adj2" fmla="val 8014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7120" y="38941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295280" y="636264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rrêt  an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533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ase freinag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066680" y="1905120"/>
            <a:ext cx="6477120" cy="825480"/>
            <a:chOff x="1066680" y="1905120"/>
            <a:chExt cx="6477120" cy="825480"/>
          </a:xfrm>
        </p:grpSpPr>
        <p:sp>
          <p:nvSpPr>
            <p:cNvPr id="148" name=""/>
            <p:cNvSpPr/>
            <p:nvPr/>
          </p:nvSpPr>
          <p:spPr>
            <a:xfrm>
              <a:off x="2498760" y="2390760"/>
              <a:ext cx="976320" cy="22860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66680" y="190512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iveau au repos du liqui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81280" y="2514600"/>
              <a:ext cx="39625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591000" y="2457360"/>
            <a:ext cx="3962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2"/>
          </p:cNvPr>
          <p:cNvSpPr/>
          <p:nvPr/>
        </p:nvSpPr>
        <p:spPr>
          <a:xfrm>
            <a:off x="2590920" y="6324480"/>
            <a:ext cx="1042920" cy="357480"/>
          </a:xfrm>
          <a:custGeom>
            <a:avLst/>
            <a:gdLst>
              <a:gd name="textAreaLeft" fmla="*/ 23040 w 1042920"/>
              <a:gd name="textAreaRight" fmla="*/ 1019880 w 10429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62975" h="21600">
                <a:moveTo>
                  <a:pt x="0" y="0"/>
                </a:moveTo>
                <a:lnTo>
                  <a:pt x="62975" y="0"/>
                </a:lnTo>
                <a:lnTo>
                  <a:pt x="62975" y="21600"/>
                </a:lnTo>
                <a:lnTo>
                  <a:pt x="0" y="21600"/>
                </a:lnTo>
                <a:close/>
              </a:path>
              <a:path fill="lightenLess" w="62975" h="21600">
                <a:moveTo>
                  <a:pt x="0" y="0"/>
                </a:moveTo>
                <a:lnTo>
                  <a:pt x="62975" y="0"/>
                </a:lnTo>
                <a:lnTo>
                  <a:pt x="61575" y="1400"/>
                </a:lnTo>
                <a:lnTo>
                  <a:pt x="1400" y="1400"/>
                </a:lnTo>
                <a:close/>
              </a:path>
              <a:path fill="darken" w="62975" h="21600">
                <a:moveTo>
                  <a:pt x="62975" y="0"/>
                </a:moveTo>
                <a:lnTo>
                  <a:pt x="62975" y="21600"/>
                </a:lnTo>
                <a:lnTo>
                  <a:pt x="61575" y="20200"/>
                </a:lnTo>
                <a:lnTo>
                  <a:pt x="61575" y="1400"/>
                </a:lnTo>
                <a:close/>
              </a:path>
              <a:path fill="darkenLess" w="62975" h="21600">
                <a:moveTo>
                  <a:pt x="62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575" y="20200"/>
                </a:lnTo>
                <a:close/>
              </a:path>
              <a:path fill="lighten" w="62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975" h="21600">
                <a:moveTo>
                  <a:pt x="34986" y="10800"/>
                </a:moveTo>
                <a:lnTo>
                  <a:pt x="24481" y="17806"/>
                </a:lnTo>
                <a:lnTo>
                  <a:pt x="24481" y="3794"/>
                </a:lnTo>
                <a:close/>
              </a:path>
              <a:path fill="darken" w="62975" h="21600">
                <a:moveTo>
                  <a:pt x="36831" y="3794"/>
                </a:moveTo>
                <a:lnTo>
                  <a:pt x="36831" y="17806"/>
                </a:lnTo>
                <a:lnTo>
                  <a:pt x="38494" y="17806"/>
                </a:lnTo>
                <a:lnTo>
                  <a:pt x="38494" y="37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mvf8" descr=""/>
          <p:cNvPicPr/>
          <p:nvPr/>
        </p:nvPicPr>
        <p:blipFill>
          <a:blip r:embed="rId1"/>
          <a:stretch/>
        </p:blipFill>
        <p:spPr>
          <a:xfrm>
            <a:off x="719280" y="0"/>
            <a:ext cx="7503840" cy="663264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4419720" y="5410080"/>
            <a:ext cx="2864880" cy="1282680"/>
            <a:chOff x="4419720" y="5410080"/>
            <a:chExt cx="2864880" cy="1282680"/>
          </a:xfrm>
        </p:grpSpPr>
        <p:sp>
          <p:nvSpPr>
            <p:cNvPr id="155" name=""/>
            <p:cNvSpPr/>
            <p:nvPr/>
          </p:nvSpPr>
          <p:spPr>
            <a:xfrm rot="9639600">
              <a:off x="4799880" y="5714280"/>
              <a:ext cx="152280" cy="762120"/>
            </a:xfrm>
            <a:prstGeom prst="upArrow">
              <a:avLst>
                <a:gd name="adj1" fmla="val 50000"/>
                <a:gd name="adj2" fmla="val 12511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9639600">
              <a:off x="7009920" y="5790960"/>
              <a:ext cx="152640" cy="761760"/>
            </a:xfrm>
            <a:prstGeom prst="upArrow">
              <a:avLst>
                <a:gd name="adj1" fmla="val 50000"/>
                <a:gd name="adj2" fmla="val 12476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05520" y="5410080"/>
              <a:ext cx="1676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Pression hydrauli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19720" y="6172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05720" y="6172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0" y="2971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ffort du conduc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85440" y="3376440"/>
            <a:ext cx="492120" cy="104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04920" y="3881520"/>
            <a:ext cx="976320" cy="873000"/>
            <a:chOff x="304920" y="3881520"/>
            <a:chExt cx="976320" cy="873000"/>
          </a:xfrm>
        </p:grpSpPr>
        <p:sp>
          <p:nvSpPr>
            <p:cNvPr id="163" name=""/>
            <p:cNvSpPr/>
            <p:nvPr/>
          </p:nvSpPr>
          <p:spPr>
            <a:xfrm>
              <a:off x="304920" y="4449960"/>
              <a:ext cx="976320" cy="304560"/>
            </a:xfrm>
            <a:prstGeom prst="rightArrow">
              <a:avLst>
                <a:gd name="adj1" fmla="val 50000"/>
                <a:gd name="adj2" fmla="val 8014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2680" y="38815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295280" y="636264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rrêt  an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533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ase freinag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066680" y="1905120"/>
            <a:ext cx="6477120" cy="825480"/>
            <a:chOff x="1066680" y="1905120"/>
            <a:chExt cx="6477120" cy="825480"/>
          </a:xfrm>
        </p:grpSpPr>
        <p:sp>
          <p:nvSpPr>
            <p:cNvPr id="168" name=""/>
            <p:cNvSpPr/>
            <p:nvPr/>
          </p:nvSpPr>
          <p:spPr>
            <a:xfrm>
              <a:off x="2498760" y="2390760"/>
              <a:ext cx="976320" cy="22860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66680" y="190512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iveau au repos du liqui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81280" y="2514600"/>
              <a:ext cx="39625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591000" y="2457360"/>
            <a:ext cx="3962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2"/>
          </p:cNvPr>
          <p:cNvSpPr/>
          <p:nvPr/>
        </p:nvSpPr>
        <p:spPr>
          <a:xfrm>
            <a:off x="2590920" y="6324480"/>
            <a:ext cx="1042920" cy="357480"/>
          </a:xfrm>
          <a:custGeom>
            <a:avLst/>
            <a:gdLst>
              <a:gd name="textAreaLeft" fmla="*/ 23040 w 1042920"/>
              <a:gd name="textAreaRight" fmla="*/ 1019880 w 10429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62975" h="21600">
                <a:moveTo>
                  <a:pt x="0" y="0"/>
                </a:moveTo>
                <a:lnTo>
                  <a:pt x="62975" y="0"/>
                </a:lnTo>
                <a:lnTo>
                  <a:pt x="62975" y="21600"/>
                </a:lnTo>
                <a:lnTo>
                  <a:pt x="0" y="21600"/>
                </a:lnTo>
                <a:close/>
              </a:path>
              <a:path fill="lightenLess" w="62975" h="21600">
                <a:moveTo>
                  <a:pt x="0" y="0"/>
                </a:moveTo>
                <a:lnTo>
                  <a:pt x="62975" y="0"/>
                </a:lnTo>
                <a:lnTo>
                  <a:pt x="61575" y="1400"/>
                </a:lnTo>
                <a:lnTo>
                  <a:pt x="1400" y="1400"/>
                </a:lnTo>
                <a:close/>
              </a:path>
              <a:path fill="darken" w="62975" h="21600">
                <a:moveTo>
                  <a:pt x="62975" y="0"/>
                </a:moveTo>
                <a:lnTo>
                  <a:pt x="62975" y="21600"/>
                </a:lnTo>
                <a:lnTo>
                  <a:pt x="61575" y="20200"/>
                </a:lnTo>
                <a:lnTo>
                  <a:pt x="61575" y="1400"/>
                </a:lnTo>
                <a:close/>
              </a:path>
              <a:path fill="darkenLess" w="62975" h="21600">
                <a:moveTo>
                  <a:pt x="62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575" y="20200"/>
                </a:lnTo>
                <a:close/>
              </a:path>
              <a:path fill="lighten" w="62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975" h="21600">
                <a:moveTo>
                  <a:pt x="34986" y="10800"/>
                </a:moveTo>
                <a:lnTo>
                  <a:pt x="24481" y="17806"/>
                </a:lnTo>
                <a:lnTo>
                  <a:pt x="24481" y="3794"/>
                </a:lnTo>
                <a:close/>
              </a:path>
              <a:path fill="darken" w="62975" h="21600">
                <a:moveTo>
                  <a:pt x="36831" y="3794"/>
                </a:moveTo>
                <a:lnTo>
                  <a:pt x="36831" y="17806"/>
                </a:lnTo>
                <a:lnTo>
                  <a:pt x="38494" y="17806"/>
                </a:lnTo>
                <a:lnTo>
                  <a:pt x="38494" y="37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mvf9" descr=""/>
          <p:cNvPicPr/>
          <p:nvPr/>
        </p:nvPicPr>
        <p:blipFill>
          <a:blip r:embed="rId1"/>
          <a:stretch/>
        </p:blipFill>
        <p:spPr>
          <a:xfrm>
            <a:off x="719280" y="0"/>
            <a:ext cx="7503840" cy="663264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4419720" y="5410080"/>
            <a:ext cx="2864880" cy="1282680"/>
            <a:chOff x="4419720" y="5410080"/>
            <a:chExt cx="2864880" cy="1282680"/>
          </a:xfrm>
        </p:grpSpPr>
        <p:sp>
          <p:nvSpPr>
            <p:cNvPr id="175" name=""/>
            <p:cNvSpPr/>
            <p:nvPr/>
          </p:nvSpPr>
          <p:spPr>
            <a:xfrm rot="9639600">
              <a:off x="4799880" y="5714280"/>
              <a:ext cx="152280" cy="762120"/>
            </a:xfrm>
            <a:prstGeom prst="upArrow">
              <a:avLst>
                <a:gd name="adj1" fmla="val 50000"/>
                <a:gd name="adj2" fmla="val 12511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9639600">
              <a:off x="7009920" y="5790960"/>
              <a:ext cx="152640" cy="761760"/>
            </a:xfrm>
            <a:prstGeom prst="upArrow">
              <a:avLst>
                <a:gd name="adj1" fmla="val 50000"/>
                <a:gd name="adj2" fmla="val 12476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105520" y="5410080"/>
              <a:ext cx="1676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Pression hydrauli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19720" y="6172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05720" y="6172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0" y="2971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ffort du conduc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85440" y="3376440"/>
            <a:ext cx="492120" cy="104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3080" y="3894120"/>
            <a:ext cx="975960" cy="873000"/>
            <a:chOff x="343080" y="3894120"/>
            <a:chExt cx="975960" cy="873000"/>
          </a:xfrm>
        </p:grpSpPr>
        <p:sp>
          <p:nvSpPr>
            <p:cNvPr id="183" name=""/>
            <p:cNvSpPr/>
            <p:nvPr/>
          </p:nvSpPr>
          <p:spPr>
            <a:xfrm>
              <a:off x="343080" y="4462560"/>
              <a:ext cx="975960" cy="304560"/>
            </a:xfrm>
            <a:prstGeom prst="rightArrow">
              <a:avLst>
                <a:gd name="adj1" fmla="val 50000"/>
                <a:gd name="adj2" fmla="val 8011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0480" y="3894120"/>
              <a:ext cx="68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295280" y="636264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rrêt  an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33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ase freinag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066680" y="1905120"/>
            <a:ext cx="6477120" cy="825480"/>
            <a:chOff x="1066680" y="1905120"/>
            <a:chExt cx="6477120" cy="825480"/>
          </a:xfrm>
        </p:grpSpPr>
        <p:sp>
          <p:nvSpPr>
            <p:cNvPr id="188" name=""/>
            <p:cNvSpPr/>
            <p:nvPr/>
          </p:nvSpPr>
          <p:spPr>
            <a:xfrm>
              <a:off x="2498760" y="2390760"/>
              <a:ext cx="976320" cy="22860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66680" y="190512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iveau au repos du liqui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81280" y="2514600"/>
              <a:ext cx="39625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600360" y="2486160"/>
            <a:ext cx="3962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2"/>
          </p:cNvPr>
          <p:cNvSpPr/>
          <p:nvPr/>
        </p:nvSpPr>
        <p:spPr>
          <a:xfrm>
            <a:off x="2590920" y="6324480"/>
            <a:ext cx="1042920" cy="357480"/>
          </a:xfrm>
          <a:custGeom>
            <a:avLst/>
            <a:gdLst>
              <a:gd name="textAreaLeft" fmla="*/ 23040 w 1042920"/>
              <a:gd name="textAreaRight" fmla="*/ 1019880 w 10429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62975" h="21600">
                <a:moveTo>
                  <a:pt x="0" y="0"/>
                </a:moveTo>
                <a:lnTo>
                  <a:pt x="62975" y="0"/>
                </a:lnTo>
                <a:lnTo>
                  <a:pt x="62975" y="21600"/>
                </a:lnTo>
                <a:lnTo>
                  <a:pt x="0" y="21600"/>
                </a:lnTo>
                <a:close/>
              </a:path>
              <a:path fill="lightenLess" w="62975" h="21600">
                <a:moveTo>
                  <a:pt x="0" y="0"/>
                </a:moveTo>
                <a:lnTo>
                  <a:pt x="62975" y="0"/>
                </a:lnTo>
                <a:lnTo>
                  <a:pt x="61575" y="1400"/>
                </a:lnTo>
                <a:lnTo>
                  <a:pt x="1400" y="1400"/>
                </a:lnTo>
                <a:close/>
              </a:path>
              <a:path fill="darken" w="62975" h="21600">
                <a:moveTo>
                  <a:pt x="62975" y="0"/>
                </a:moveTo>
                <a:lnTo>
                  <a:pt x="62975" y="21600"/>
                </a:lnTo>
                <a:lnTo>
                  <a:pt x="61575" y="20200"/>
                </a:lnTo>
                <a:lnTo>
                  <a:pt x="61575" y="1400"/>
                </a:lnTo>
                <a:close/>
              </a:path>
              <a:path fill="darkenLess" w="62975" h="21600">
                <a:moveTo>
                  <a:pt x="62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575" y="20200"/>
                </a:lnTo>
                <a:close/>
              </a:path>
              <a:path fill="lighten" w="62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975" h="21600">
                <a:moveTo>
                  <a:pt x="34986" y="10800"/>
                </a:moveTo>
                <a:lnTo>
                  <a:pt x="24481" y="17806"/>
                </a:lnTo>
                <a:lnTo>
                  <a:pt x="24481" y="3794"/>
                </a:lnTo>
                <a:close/>
              </a:path>
              <a:path fill="darken" w="62975" h="21600">
                <a:moveTo>
                  <a:pt x="36831" y="3794"/>
                </a:moveTo>
                <a:lnTo>
                  <a:pt x="36831" y="17806"/>
                </a:lnTo>
                <a:lnTo>
                  <a:pt x="38494" y="17806"/>
                </a:lnTo>
                <a:lnTo>
                  <a:pt x="38494" y="37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8T22:27:14Z</dcterms:created>
  <dc:creator>DIAS</dc:creator>
  <dc:description/>
  <dc:language>en-US</dc:language>
  <cp:lastModifiedBy>DIAS</cp:lastModifiedBy>
  <dcterms:modified xsi:type="dcterms:W3CDTF">2000-03-16T16:54:55Z</dcterms:modified>
  <cp:revision>21</cp:revision>
  <dc:subject/>
  <dc:title>Aucun titre de diapositive</dc:title>
</cp:coreProperties>
</file>