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088-72A4-4E47-9E82-96784A3F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AFA-0133-4760-A4F7-DC5F852F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49F-FAB5-43BE-867F-DB9B0178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687-A8A3-47B3-B210-F7463677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980C-0A4D-4F3D-8EB3-C53D5DED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815A-7E73-4BF7-B74A-B1E59AE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9FED-EB02-4392-B4AD-3563EB72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A759-FF00-40F8-B5A3-D7413689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429D-FC1F-42A3-8311-0348CCF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0166-1329-4420-BB33-6835E949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0039-FD7D-419B-8C08-24B85BD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3E2-3796-47E1-AF5D-2850C213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A051-4766-47E7-AA34-6FBB26F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9408-0761-47F4-BD72-3B66350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A70C-EC61-417B-B8C0-08E2FD4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FFF1-171E-46B6-8A23-714321E6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88FE-7A43-4BE3-A3AC-59283517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55C-6869-4D16-9D2C-A6D8B7E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62E-8DD0-4245-9F4C-659EB193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A68-BAB2-45D0-AF8D-DEFB6EB2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988-9C51-45AE-A1B1-7DF6098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61D-E293-4972-8503-BF867C8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D4B-BA65-4A5B-953C-31FAFB10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37B-D994-48BD-B3B4-D142E231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0E36-2F7F-4B5D-8502-8589FECFD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3F26-A548-46B8-9A4C-3A2816751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OSMOS MO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BRIDE PNEUMATIQU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09C-985F-414D-B988-5AD5E3A6D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ccélération d’un point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3FF-6E62-4E4F-B472-4A4783BD5E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6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mplitude d’un déplacement linéair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7280" y="878040"/>
            <a:ext cx="7056720" cy="518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29F-9F59-48C3-941D-B68DE3FBF5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6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mplitude d’un déplacement angulair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13448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156-12CD-49D8-9BA3-572557A3C2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0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48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B1E-5C54-422B-965F-17B5499BF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SIMULATION GENERAL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139760"/>
            <a:ext cx="65530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E4F-8D0E-4513-8957-B7E181424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statations:- la course totale du piston provoque l’enfoncement de la butée dans la pièce à usin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43200" y="3127320"/>
            <a:ext cx="3276720" cy="26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723-D0B6-4E77-9994-20D470DB10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lution: Rechercher les interférenc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Sélectionner les pièces concernée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5120" y="1962000"/>
            <a:ext cx="5410080" cy="4338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 flipV="1">
            <a:off x="2286000" y="2819520"/>
            <a:ext cx="2666880" cy="2590560"/>
          </a:xfrm>
          <a:prstGeom prst="line">
            <a:avLst/>
          </a:prstGeom>
          <a:ln w="19080">
            <a:solidFill>
              <a:srgbClr val="3333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285640" y="3048120"/>
            <a:ext cx="1981080" cy="2590560"/>
          </a:xfrm>
          <a:prstGeom prst="line">
            <a:avLst/>
          </a:prstGeom>
          <a:ln w="19080">
            <a:solidFill>
              <a:srgbClr val="3333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DE5-46E2-44E6-BF60-E19E2750C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e résultat suivant est obtenu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1263600"/>
            <a:ext cx="4647960" cy="2517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2285280" y="3962520"/>
            <a:ext cx="1219320" cy="1447560"/>
          </a:xfrm>
          <a:custGeom>
            <a:avLst/>
            <a:gdLst>
              <a:gd name="textAreaLeft" fmla="*/ 406080 w 1219320"/>
              <a:gd name="textAreaRight" fmla="*/ 1044000 w 1219320"/>
              <a:gd name="textAreaTop" fmla="*/ 833760 h 1447560"/>
              <a:gd name="textAreaBottom" fmla="*/ 12398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724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 y a contact entre les pièces pour cette valeur de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D1C-5D28-45FF-81CA-8260E865C2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90560" cy="21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9880" y="533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velle valeur à préciser pour la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5753160" cy="455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>
            <a:off x="1066680" y="2971080"/>
            <a:ext cx="1828800" cy="25909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2590920"/>
              <a:gd name="textAreaBottom" fmla="*/ 259092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878-6E7D-407C-8946-A808EEC6D7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racé de trajectoire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1079640"/>
            <a:ext cx="6629400" cy="52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02A-7CE9-43BC-8FD9-3EDAB1C5CC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Vitesse d’un point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93432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.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1BF-A991-44BD-8789-B6C2EB53D9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6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2:24:34Z</dcterms:created>
  <dc:creator>elvf115</dc:creator>
  <dc:description/>
  <dc:language>en-US</dc:language>
  <cp:lastModifiedBy>admin3</cp:lastModifiedBy>
  <dcterms:modified xsi:type="dcterms:W3CDTF">2007-05-14T09:44:49Z</dcterms:modified>
  <cp:revision>7</cp:revision>
  <dc:subject/>
  <dc:title>Présentation PowerPoint</dc:title>
</cp:coreProperties>
</file>