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423-4137-48AB-9EE5-6CB811A1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198-C5F9-4426-8FE3-B05E3463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51F-DD52-4728-B63E-1C8DBAE3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CF4-CFB5-45FB-9B61-DF1B358C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9B2B-9682-4004-8968-A627B017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7A3-355A-4F2E-B933-B10D4CF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A679-4D6E-4CF3-896F-6AF4CCFA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A387-C444-485B-A5D2-EF5BF776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B60-A692-4098-B662-5333F106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6397-310B-4B1A-879C-99CF5749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A560-D081-43AA-8E9F-C44E4DD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1A1-4C94-4B3F-A924-3532AF0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5BA5-AA2B-4A47-B218-B5EB5CE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213-4102-49A6-817C-386714D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2A5D-CDFE-4892-BA13-FA140481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28F5-10AA-4CA1-B302-D260B852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22ED-1D93-42B8-9B19-07A8444D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5FE-253A-4267-8959-2DFB3CC9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751-52BD-4076-A33A-F1EADBF6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B62-2FC1-4BC8-9C25-EC09931E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34D-5F18-4044-990F-143811BA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D75-E1E5-42CF-B5B8-210F8D8A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D0F-343D-4427-BA92-379B4D4B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4C0-3AEE-4F22-8C14-9CAB906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7655-F74D-4193-8833-A58E92DC9D84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193-07AA-495E-A3F8-1D6810D7B83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png"/><Relationship Id="rId10" Type="http://schemas.openxmlformats.org/officeDocument/2006/relationships/hyperlink" Target="file:///tmp/home/.config/libreoffice/4/user/gallery/ZOUM.WAV" TargetMode="External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ZOUM.WAV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hyperlink" Target="file:///tmp/home/.config/libreoffice/4/user/gallery/ZOUM.WAV" TargetMode="External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600200"/>
          <a:ext cx="10792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00200"/>
                    <a:ext cx="107928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743200" y="1523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Image%20galet%20de%20poignée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10792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819520" y="289548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fr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mage%20percuteur" descr=""/>
          <p:cNvPicPr/>
          <p:nvPr/>
        </p:nvPicPr>
        <p:blipFill>
          <a:blip r:embed="rId5"/>
          <a:srcRect l="15900" t="0" r="0" b="0"/>
          <a:stretch/>
        </p:blipFill>
        <p:spPr>
          <a:xfrm>
            <a:off x="1447920" y="4343400"/>
            <a:ext cx="1079280" cy="17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819520" y="4267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876920" y="1600200"/>
          <a:ext cx="1079280" cy="148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1600200"/>
                    <a:ext cx="1079280" cy="1482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72200" y="1523880"/>
            <a:ext cx="1981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876920" y="3429000"/>
          <a:ext cx="1079280" cy="103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429000"/>
                    <a:ext cx="1079280" cy="103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248520" y="3352680"/>
            <a:ext cx="19810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 et de dé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31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>
            <a:hlinkClick r:id="" action="ppaction://hlinkshowjump?jump=nextslide"/>
            <a:hlinkClick r:id="rId10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et de 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6668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et de po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038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u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124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usse agraf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43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00200" y="3124080"/>
          <a:ext cx="1079640" cy="15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124080"/>
                    <a:ext cx="1079640" cy="157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00200" y="5181480"/>
          <a:ext cx="183816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181480"/>
                    <a:ext cx="1838160" cy="10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486400" y="1676520"/>
          <a:ext cx="107964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676520"/>
                    <a:ext cx="107964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600200" y="1600200"/>
          <a:ext cx="1079640" cy="10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1600200"/>
                    <a:ext cx="107964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971800" y="1523880"/>
            <a:ext cx="1981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048120"/>
            <a:ext cx="1981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formation et de décou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819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elo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1371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clench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4876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me de res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181480"/>
            <a:ext cx="198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 de pièce massive et m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1600200"/>
            <a:ext cx="1981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pétition linéaire avec suppression d’occur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391520" y="6477120"/>
            <a:ext cx="609480" cy="380880"/>
            <a:chOff x="7391520" y="6477120"/>
            <a:chExt cx="609480" cy="380880"/>
          </a:xfrm>
        </p:grpSpPr>
        <p:sp>
          <p:nvSpPr>
            <p:cNvPr id="163" name=""/>
            <p:cNvSpPr/>
            <p:nvPr/>
          </p:nvSpPr>
          <p:spPr>
            <a:xfrm>
              <a:off x="7391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6200000">
              <a:off x="7641720" y="650160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391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486400" y="3276720"/>
          <a:ext cx="1420920" cy="107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276720"/>
                    <a:ext cx="142092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162920" y="327672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urfaces importées en IGES (Cat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2971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ig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52480" y="1828800"/>
          <a:ext cx="107964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107964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752480" y="3429000"/>
          <a:ext cx="107964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429000"/>
                    <a:ext cx="1079640" cy="10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600200" y="1523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rou fi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240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rou 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534520" y="6477120"/>
            <a:ext cx="609480" cy="380880"/>
            <a:chOff x="8534520" y="6477120"/>
            <a:chExt cx="609480" cy="380880"/>
          </a:xfrm>
        </p:grpSpPr>
        <p:sp>
          <p:nvSpPr>
            <p:cNvPr id="181" name=""/>
            <p:cNvSpPr/>
            <p:nvPr/>
          </p:nvSpPr>
          <p:spPr>
            <a:xfrm>
              <a:off x="8534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8784720" y="6500880"/>
              <a:ext cx="163440" cy="332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>
            <a:hlinkClick r:id="" action="ppaction://hlinkshowjump?jump=nextslide"/>
            <a:hlinkClick r:id="rId6"/>
          </p:cNvPr>
          <p:cNvSpPr/>
          <p:nvPr/>
        </p:nvSpPr>
        <p:spPr>
          <a:xfrm>
            <a:off x="8534520" y="6576840"/>
            <a:ext cx="609480" cy="28116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46791" h="21600">
                <a:moveTo>
                  <a:pt x="0" y="0"/>
                </a:moveTo>
                <a:lnTo>
                  <a:pt x="46791" y="0"/>
                </a:lnTo>
                <a:lnTo>
                  <a:pt x="46791" y="21600"/>
                </a:lnTo>
                <a:lnTo>
                  <a:pt x="0" y="21600"/>
                </a:lnTo>
                <a:close/>
              </a:path>
              <a:path fill="lightenLess" w="46791" h="21600">
                <a:moveTo>
                  <a:pt x="0" y="0"/>
                </a:moveTo>
                <a:lnTo>
                  <a:pt x="46791" y="0"/>
                </a:lnTo>
                <a:lnTo>
                  <a:pt x="45391" y="1400"/>
                </a:lnTo>
                <a:lnTo>
                  <a:pt x="1400" y="1400"/>
                </a:lnTo>
                <a:close/>
              </a:path>
              <a:path fill="darken" w="46791" h="21600">
                <a:moveTo>
                  <a:pt x="46791" y="0"/>
                </a:moveTo>
                <a:lnTo>
                  <a:pt x="46791" y="21600"/>
                </a:lnTo>
                <a:lnTo>
                  <a:pt x="45391" y="20200"/>
                </a:lnTo>
                <a:lnTo>
                  <a:pt x="45391" y="1400"/>
                </a:lnTo>
                <a:close/>
              </a:path>
              <a:path fill="darkenLess" w="46791" h="21600">
                <a:moveTo>
                  <a:pt x="46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1" y="20200"/>
                </a:lnTo>
                <a:close/>
              </a:path>
              <a:path fill="lighten" w="46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1" h="21600">
                <a:moveTo>
                  <a:pt x="16389" y="3794"/>
                </a:moveTo>
                <a:lnTo>
                  <a:pt x="30402" y="10800"/>
                </a:lnTo>
                <a:lnTo>
                  <a:pt x="163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523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800600" y="1828800"/>
          <a:ext cx="1619280" cy="107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828800"/>
                    <a:ext cx="161928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8120" y="33526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rv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8288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828800"/>
            <a:ext cx="2133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ils de découpe et de pli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èce de pliage, pli à p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391520" y="6477120"/>
            <a:ext cx="609480" cy="380880"/>
            <a:chOff x="7391520" y="6477120"/>
            <a:chExt cx="609480" cy="380880"/>
          </a:xfrm>
        </p:grpSpPr>
        <p:sp>
          <p:nvSpPr>
            <p:cNvPr id="191" name=""/>
            <p:cNvSpPr/>
            <p:nvPr/>
          </p:nvSpPr>
          <p:spPr>
            <a:xfrm>
              <a:off x="7391520" y="647712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16200000">
              <a:off x="7641720" y="650160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391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800600" y="3809880"/>
          <a:ext cx="1079640" cy="14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809880"/>
                    <a:ext cx="1079640" cy="1425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572000" y="3048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sort de verrouillage  charg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2133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é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y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é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95280" y="455760"/>
            <a:ext cx="7543800" cy="594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762120"/>
            <a:ext cx="7238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d6ed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486400" y="1981080"/>
          <a:ext cx="144792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981080"/>
                    <a:ext cx="1447920" cy="1219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600200" y="1981080"/>
          <a:ext cx="14605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981080"/>
                    <a:ext cx="1460520" cy="107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676520" y="1676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1676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91520" y="6473880"/>
            <a:ext cx="609480" cy="380880"/>
            <a:chOff x="7391520" y="6473880"/>
            <a:chExt cx="609480" cy="380880"/>
          </a:xfrm>
        </p:grpSpPr>
        <p:sp>
          <p:nvSpPr>
            <p:cNvPr id="210" name=""/>
            <p:cNvSpPr/>
            <p:nvPr/>
          </p:nvSpPr>
          <p:spPr>
            <a:xfrm>
              <a:off x="7391520" y="6473880"/>
              <a:ext cx="6094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16200000">
              <a:off x="7641720" y="6498360"/>
              <a:ext cx="164880" cy="331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391520" y="647388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0798800">
            <a:off x="990360" y="3962160"/>
            <a:ext cx="304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Rénald JACQUIN &amp; Gilles MUNSCH Lycée A. MALRAUX 88204 REMIRE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276720"/>
            <a:ext cx="2133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ssage avec et sans courb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mét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pline, courbes à partir d’un fichier d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rbe proje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3429000"/>
            <a:ext cx="21333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ssage avec et sans courb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métrie de piè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pline, courbes à partir d’un fichier d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rbe projet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alay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Fonctions utilisées pour réaliser les pièce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30:28Z</dcterms:created>
  <dc:creator>Rénald JACQUIN</dc:creator>
  <dc:description>Fonctions non usuelles employées pour modeler les pièces de l'agrafeuse MS 100.</dc:description>
  <dc:language>en-US</dc:language>
  <cp:lastModifiedBy>leveiller</cp:lastModifiedBy>
  <dcterms:modified xsi:type="dcterms:W3CDTF">2001-03-28T15:30:42Z</dcterms:modified>
  <cp:revision>25</cp:revision>
  <dc:subject>Agrafeuse MS 100 SOFRGRAF</dc:subject>
  <dc:title>Liste des fonctions par pièce</dc:title>
</cp:coreProperties>
</file>