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AD2B-1A54-4D41-8114-C25569933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7C93-0CB7-4E83-BA2A-158C8C44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1091-946D-4BF3-A557-86E63F093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3453-FD8B-4EF5-905C-9D0E3E921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5F68-FA99-42DA-A327-41DEEDED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F051-DD99-41AA-BA0A-55B3517A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18BE-8796-43A9-A2F6-518B6516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E4A7-552F-4C28-8924-E2E338EF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DAB6-2A91-422F-A862-4792A5DD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D29B-739E-4D3F-9D7B-D122D800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295A-B715-4092-958F-7389C598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63F3-807F-41C1-A00C-E51B705F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D577-3C64-4196-A3C9-B914B277F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ITRISE DE L’ENERGIE PNEUMAT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3429000"/>
            <a:ext cx="8153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CULS DE CONSOMMATION D'AIR COMPRI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PERFORMANCES ENERGETIQ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apitre non développé en TSMA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(l’analyse des sources de gaspillage par contre peut être évoqué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 CALCUL DE CONSOMM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D'UN VER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1295280"/>
            <a:ext cx="8763120" cy="17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ypothèse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érin double effet dont la tige sort partiellement (C</a:t>
            </a:r>
            <a:r>
              <a:rPr b="1" lang="fr-FR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C</a:t>
            </a:r>
            <a:r>
              <a:rPr b="1" lang="fr-FR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puis rentre jusqu’en fin de course et pour lequel on alimente les deux chambres avec la même pression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3429000"/>
            <a:ext cx="8686800" cy="31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ventions d’écri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D" diamètre du piston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d" diamètre de la t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S" section du piston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s" section de la t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C</a:t>
            </a:r>
            <a:r>
              <a:rPr b="1" lang="fr-FR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urse totale du vérin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C</a:t>
            </a:r>
            <a:r>
              <a:rPr b="1" lang="fr-FR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urse utilis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P" pression du réseau (pression rela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P</a:t>
            </a:r>
            <a:r>
              <a:rPr b="1" lang="fr-FR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pression atmosphérique (P</a:t>
            </a:r>
            <a:r>
              <a:rPr b="1" lang="fr-FR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bar absol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sortie de ti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533520"/>
            <a:ext cx="9144000" cy="10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 de V</a:t>
            </a:r>
            <a:r>
              <a:rPr b="1" lang="fr-FR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Volume atmosphérique d’air consommé en sortie de tige  (air consommé coté fo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52280" y="1676520"/>
          <a:ext cx="8839440" cy="4190760"/>
        </p:xfrm>
        <a:graphic>
          <a:graphicData uri="http://schemas.openxmlformats.org/drawingml/2006/table">
            <a:tbl>
              <a:tblPr/>
              <a:tblGrid>
                <a:gridCol w="4419720"/>
                <a:gridCol w="44197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TUATION INITI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TUATION FIN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um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mosphériqu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u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té fond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à l’état init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 =  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ume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mosphérique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u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té fond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à l’état fi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1" lang="fr-FR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s =                                     </a:t>
                      </a: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4" name=""/>
          <p:cNvGrpSpPr/>
          <p:nvPr/>
        </p:nvGrpSpPr>
        <p:grpSpPr>
          <a:xfrm>
            <a:off x="457200" y="2590920"/>
            <a:ext cx="3839400" cy="1202400"/>
            <a:chOff x="457200" y="2590920"/>
            <a:chExt cx="3839400" cy="1202400"/>
          </a:xfrm>
        </p:grpSpPr>
        <p:grpSp>
          <p:nvGrpSpPr>
            <p:cNvPr id="225" name=""/>
            <p:cNvGrpSpPr/>
            <p:nvPr/>
          </p:nvGrpSpPr>
          <p:grpSpPr>
            <a:xfrm>
              <a:off x="513720" y="3106080"/>
              <a:ext cx="2292840" cy="631080"/>
              <a:chOff x="513720" y="3106080"/>
              <a:chExt cx="2292840" cy="631080"/>
            </a:xfrm>
          </p:grpSpPr>
          <p:sp>
            <p:nvSpPr>
              <p:cNvPr id="226" name=""/>
              <p:cNvSpPr/>
              <p:nvPr/>
            </p:nvSpPr>
            <p:spPr>
              <a:xfrm>
                <a:off x="513720" y="3106080"/>
                <a:ext cx="229320" cy="6310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969696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43040" y="3335400"/>
                <a:ext cx="2063520" cy="1720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969696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457200" y="3049200"/>
              <a:ext cx="2233800" cy="744120"/>
              <a:chOff x="457200" y="3049200"/>
              <a:chExt cx="2233800" cy="744120"/>
            </a:xfrm>
          </p:grpSpPr>
          <p:sp>
            <p:nvSpPr>
              <p:cNvPr id="229" name=""/>
              <p:cNvSpPr/>
              <p:nvPr/>
            </p:nvSpPr>
            <p:spPr>
              <a:xfrm>
                <a:off x="457200" y="3049560"/>
                <a:ext cx="2119320" cy="56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57200" y="3736080"/>
                <a:ext cx="2119320" cy="57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6200000">
                <a:off x="113400" y="3392640"/>
                <a:ext cx="744120" cy="56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16200000">
                <a:off x="2404800" y="3163680"/>
                <a:ext cx="286200" cy="57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6200000">
                <a:off x="2576520" y="3220920"/>
                <a:ext cx="56880" cy="171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16200000">
                <a:off x="2404800" y="3621600"/>
                <a:ext cx="286200" cy="57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6200000">
                <a:off x="2576520" y="3449880"/>
                <a:ext cx="56880" cy="171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744480" y="3106080"/>
              <a:ext cx="1775160" cy="631080"/>
              <a:chOff x="744480" y="3106080"/>
              <a:chExt cx="1775160" cy="631080"/>
            </a:xfrm>
          </p:grpSpPr>
          <p:sp>
            <p:nvSpPr>
              <p:cNvPr id="237" name=""/>
              <p:cNvSpPr/>
              <p:nvPr/>
            </p:nvSpPr>
            <p:spPr>
              <a:xfrm>
                <a:off x="744480" y="3106080"/>
                <a:ext cx="1775160" cy="22932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44480" y="3507840"/>
                <a:ext cx="1775160" cy="22932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4124880" y="3162960"/>
              <a:ext cx="171720" cy="515160"/>
              <a:chOff x="4124880" y="3162960"/>
              <a:chExt cx="171720" cy="515160"/>
            </a:xfrm>
          </p:grpSpPr>
          <p:sp>
            <p:nvSpPr>
              <p:cNvPr id="240" name=""/>
              <p:cNvSpPr/>
              <p:nvPr/>
            </p:nvSpPr>
            <p:spPr>
              <a:xfrm>
                <a:off x="4124880" y="3162960"/>
                <a:ext cx="0" cy="51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4124880" y="3162960"/>
                <a:ext cx="171720" cy="114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4124880" y="3277080"/>
                <a:ext cx="171720" cy="114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4124880" y="3391560"/>
                <a:ext cx="171720" cy="114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4124880" y="3506400"/>
                <a:ext cx="171720" cy="114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4480" y="2590920"/>
              <a:ext cx="1775160" cy="458280"/>
              <a:chOff x="744480" y="2590920"/>
              <a:chExt cx="1775160" cy="458280"/>
            </a:xfrm>
          </p:grpSpPr>
          <p:sp>
            <p:nvSpPr>
              <p:cNvPr id="246" name=""/>
              <p:cNvSpPr/>
              <p:nvPr/>
            </p:nvSpPr>
            <p:spPr>
              <a:xfrm flipV="1">
                <a:off x="744480" y="2820240"/>
                <a:ext cx="0" cy="228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2519640" y="2820240"/>
                <a:ext cx="0" cy="228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44480" y="2877480"/>
                <a:ext cx="17751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374120" y="2590920"/>
                <a:ext cx="515520" cy="28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lang="fr-FR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0" name=""/>
          <p:cNvGrpSpPr/>
          <p:nvPr/>
        </p:nvGrpSpPr>
        <p:grpSpPr>
          <a:xfrm>
            <a:off x="4876920" y="2590920"/>
            <a:ext cx="3839400" cy="1202760"/>
            <a:chOff x="4876920" y="2590920"/>
            <a:chExt cx="3839400" cy="1202760"/>
          </a:xfrm>
        </p:grpSpPr>
        <p:grpSp>
          <p:nvGrpSpPr>
            <p:cNvPr id="251" name=""/>
            <p:cNvGrpSpPr/>
            <p:nvPr/>
          </p:nvGrpSpPr>
          <p:grpSpPr>
            <a:xfrm>
              <a:off x="6251400" y="3102120"/>
              <a:ext cx="2293200" cy="630720"/>
              <a:chOff x="6251400" y="3102120"/>
              <a:chExt cx="2293200" cy="630720"/>
            </a:xfrm>
          </p:grpSpPr>
          <p:sp>
            <p:nvSpPr>
              <p:cNvPr id="252" name=""/>
              <p:cNvSpPr/>
              <p:nvPr/>
            </p:nvSpPr>
            <p:spPr>
              <a:xfrm>
                <a:off x="6251400" y="3102120"/>
                <a:ext cx="229320" cy="6307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969696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480720" y="3331440"/>
                <a:ext cx="2063880" cy="1717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969696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4876920" y="3047400"/>
              <a:ext cx="2233800" cy="746280"/>
              <a:chOff x="4876920" y="3047400"/>
              <a:chExt cx="2233800" cy="746280"/>
            </a:xfrm>
          </p:grpSpPr>
          <p:sp>
            <p:nvSpPr>
              <p:cNvPr id="255" name=""/>
              <p:cNvSpPr/>
              <p:nvPr/>
            </p:nvSpPr>
            <p:spPr>
              <a:xfrm>
                <a:off x="4876920" y="3047760"/>
                <a:ext cx="2119320" cy="57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76920" y="3736080"/>
                <a:ext cx="2119320" cy="57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16200000">
                <a:off x="4532400" y="3392280"/>
                <a:ext cx="745920" cy="56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16200000">
                <a:off x="6824160" y="3162240"/>
                <a:ext cx="286920" cy="57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16200000">
                <a:off x="6996240" y="3219480"/>
                <a:ext cx="57240" cy="171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16200000">
                <a:off x="6824160" y="3621240"/>
                <a:ext cx="286920" cy="57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16200000">
                <a:off x="6996240" y="3449160"/>
                <a:ext cx="57240" cy="171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6482520" y="3106080"/>
              <a:ext cx="456480" cy="628200"/>
              <a:chOff x="6482520" y="3106080"/>
              <a:chExt cx="456480" cy="628200"/>
            </a:xfrm>
          </p:grpSpPr>
          <p:sp>
            <p:nvSpPr>
              <p:cNvPr id="263" name=""/>
              <p:cNvSpPr/>
              <p:nvPr/>
            </p:nvSpPr>
            <p:spPr>
              <a:xfrm>
                <a:off x="6482520" y="3106080"/>
                <a:ext cx="456480" cy="2286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482520" y="3506040"/>
                <a:ext cx="456480" cy="2282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8544960" y="3162960"/>
              <a:ext cx="171360" cy="515160"/>
              <a:chOff x="8544960" y="3162960"/>
              <a:chExt cx="171360" cy="515160"/>
            </a:xfrm>
          </p:grpSpPr>
          <p:sp>
            <p:nvSpPr>
              <p:cNvPr id="266" name=""/>
              <p:cNvSpPr/>
              <p:nvPr/>
            </p:nvSpPr>
            <p:spPr>
              <a:xfrm>
                <a:off x="8544960" y="3162960"/>
                <a:ext cx="0" cy="51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8544960" y="3162960"/>
                <a:ext cx="171360" cy="114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8544960" y="3277080"/>
                <a:ext cx="171360" cy="114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8544960" y="3391560"/>
                <a:ext cx="171360" cy="114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8544960" y="3506400"/>
                <a:ext cx="171360" cy="114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 flipV="1">
              <a:off x="4935240" y="2819160"/>
              <a:ext cx="0" cy="228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6251400" y="2819160"/>
              <a:ext cx="0" cy="228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935240" y="2878200"/>
              <a:ext cx="13161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33400" y="2590920"/>
              <a:ext cx="5173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fr-FR" sz="20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35240" y="3106080"/>
              <a:ext cx="1316160" cy="6285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438280" y="4952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19920" y="495288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S 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·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 C</a:t>
            </a:r>
            <a:r>
              <a:rPr b="1" lang="fr-FR" sz="2400" spc="-1" strike="noStrike" baseline="-25000">
                <a:solidFill>
                  <a:srgbClr val="990000"/>
                </a:solidFill>
                <a:latin typeface="Times New Roman"/>
              </a:rPr>
              <a:t>u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·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 (P / P</a:t>
            </a:r>
            <a:r>
              <a:rPr b="1" lang="fr-FR" sz="2400" spc="-1" strike="noStrike" baseline="-25000">
                <a:solidFill>
                  <a:srgbClr val="990000"/>
                </a:solidFill>
                <a:latin typeface="Times New Roman"/>
              </a:rPr>
              <a:t>a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609588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S 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·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 C</a:t>
            </a:r>
            <a:r>
              <a:rPr b="1" lang="fr-FR" sz="2400" spc="-1" strike="noStrike" baseline="-25000">
                <a:solidFill>
                  <a:srgbClr val="990000"/>
                </a:solidFill>
                <a:latin typeface="Times New Roman"/>
              </a:rPr>
              <a:t>u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·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 (P / P</a:t>
            </a:r>
            <a:r>
              <a:rPr b="1" lang="fr-FR" sz="2400" spc="-1" strike="noStrike" baseline="-25000">
                <a:solidFill>
                  <a:srgbClr val="990000"/>
                </a:solidFill>
                <a:latin typeface="Times New Roman"/>
              </a:rPr>
              <a:t>a 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43000" y="6095880"/>
            <a:ext cx="9144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rentrée de ti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762120"/>
            <a:ext cx="259092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 de V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52280" y="1447920"/>
          <a:ext cx="8839440" cy="4190760"/>
        </p:xfrm>
        <a:graphic>
          <a:graphicData uri="http://schemas.openxmlformats.org/drawingml/2006/table">
            <a:tbl>
              <a:tblPr/>
              <a:tblGrid>
                <a:gridCol w="4419720"/>
                <a:gridCol w="441972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TUATION INITI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TUATION FIN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ume contenu à l’état init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1" lang="fr-FR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 =                                                      </a:t>
                      </a: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ume contenu à l’état fi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1" lang="fr-FR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s =                                                    </a:t>
                      </a: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83" name=""/>
          <p:cNvGrpSpPr/>
          <p:nvPr/>
        </p:nvGrpSpPr>
        <p:grpSpPr>
          <a:xfrm>
            <a:off x="4876920" y="2301840"/>
            <a:ext cx="3839400" cy="1203120"/>
            <a:chOff x="4876920" y="2301840"/>
            <a:chExt cx="3839400" cy="1203120"/>
          </a:xfrm>
        </p:grpSpPr>
        <p:grpSp>
          <p:nvGrpSpPr>
            <p:cNvPr id="284" name=""/>
            <p:cNvGrpSpPr/>
            <p:nvPr/>
          </p:nvGrpSpPr>
          <p:grpSpPr>
            <a:xfrm>
              <a:off x="4933440" y="2817000"/>
              <a:ext cx="2292840" cy="631080"/>
              <a:chOff x="4933440" y="2817000"/>
              <a:chExt cx="2292840" cy="631080"/>
            </a:xfrm>
          </p:grpSpPr>
          <p:sp>
            <p:nvSpPr>
              <p:cNvPr id="285" name=""/>
              <p:cNvSpPr/>
              <p:nvPr/>
            </p:nvSpPr>
            <p:spPr>
              <a:xfrm>
                <a:off x="4933440" y="2817000"/>
                <a:ext cx="229320" cy="6310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969696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162760" y="3046320"/>
                <a:ext cx="2063520" cy="1720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969696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876920" y="2760120"/>
              <a:ext cx="2233800" cy="744840"/>
              <a:chOff x="4876920" y="2760120"/>
              <a:chExt cx="2233800" cy="744840"/>
            </a:xfrm>
          </p:grpSpPr>
          <p:sp>
            <p:nvSpPr>
              <p:cNvPr id="288" name=""/>
              <p:cNvSpPr/>
              <p:nvPr/>
            </p:nvSpPr>
            <p:spPr>
              <a:xfrm>
                <a:off x="4876920" y="2760480"/>
                <a:ext cx="2119320" cy="56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876920" y="3447360"/>
                <a:ext cx="2119320" cy="57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200000">
                <a:off x="4533120" y="3104280"/>
                <a:ext cx="744480" cy="56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00000">
                <a:off x="6824520" y="2874600"/>
                <a:ext cx="286200" cy="57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200000">
                <a:off x="6996240" y="2931840"/>
                <a:ext cx="56880" cy="171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200000">
                <a:off x="6824520" y="3332520"/>
                <a:ext cx="286200" cy="57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6200000">
                <a:off x="6996240" y="3160800"/>
                <a:ext cx="56880" cy="171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5164200" y="2817000"/>
              <a:ext cx="1775160" cy="631080"/>
              <a:chOff x="5164200" y="2817000"/>
              <a:chExt cx="1775160" cy="631080"/>
            </a:xfrm>
          </p:grpSpPr>
          <p:sp>
            <p:nvSpPr>
              <p:cNvPr id="296" name=""/>
              <p:cNvSpPr/>
              <p:nvPr/>
            </p:nvSpPr>
            <p:spPr>
              <a:xfrm>
                <a:off x="5164200" y="2817000"/>
                <a:ext cx="1775160" cy="22932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164200" y="3218760"/>
                <a:ext cx="1775160" cy="22932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8544600" y="2874240"/>
              <a:ext cx="171720" cy="515160"/>
              <a:chOff x="8544600" y="2874240"/>
              <a:chExt cx="171720" cy="515160"/>
            </a:xfrm>
          </p:grpSpPr>
          <p:sp>
            <p:nvSpPr>
              <p:cNvPr id="299" name=""/>
              <p:cNvSpPr/>
              <p:nvPr/>
            </p:nvSpPr>
            <p:spPr>
              <a:xfrm>
                <a:off x="8544600" y="2874240"/>
                <a:ext cx="0" cy="51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8544600" y="2874240"/>
                <a:ext cx="171720" cy="114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8544600" y="2988360"/>
                <a:ext cx="171720" cy="114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8544600" y="3102840"/>
                <a:ext cx="171720" cy="114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8544600" y="3217680"/>
                <a:ext cx="171720" cy="114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5164200" y="2301840"/>
              <a:ext cx="1775160" cy="458280"/>
              <a:chOff x="5164200" y="2301840"/>
              <a:chExt cx="1775160" cy="458280"/>
            </a:xfrm>
          </p:grpSpPr>
          <p:sp>
            <p:nvSpPr>
              <p:cNvPr id="305" name=""/>
              <p:cNvSpPr/>
              <p:nvPr/>
            </p:nvSpPr>
            <p:spPr>
              <a:xfrm flipV="1">
                <a:off x="5164200" y="2531160"/>
                <a:ext cx="0" cy="228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6939360" y="2531160"/>
                <a:ext cx="0" cy="228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164200" y="2588400"/>
                <a:ext cx="17751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793840" y="2301840"/>
                <a:ext cx="515520" cy="28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lang="fr-FR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9" name=""/>
          <p:cNvGrpSpPr/>
          <p:nvPr/>
        </p:nvGrpSpPr>
        <p:grpSpPr>
          <a:xfrm>
            <a:off x="533520" y="2530080"/>
            <a:ext cx="3840120" cy="974880"/>
            <a:chOff x="533520" y="2530080"/>
            <a:chExt cx="3840120" cy="974880"/>
          </a:xfrm>
        </p:grpSpPr>
        <p:grpSp>
          <p:nvGrpSpPr>
            <p:cNvPr id="310" name=""/>
            <p:cNvGrpSpPr/>
            <p:nvPr/>
          </p:nvGrpSpPr>
          <p:grpSpPr>
            <a:xfrm>
              <a:off x="1908000" y="2813040"/>
              <a:ext cx="2293920" cy="631800"/>
              <a:chOff x="1908000" y="2813040"/>
              <a:chExt cx="2293920" cy="631800"/>
            </a:xfrm>
          </p:grpSpPr>
          <p:sp>
            <p:nvSpPr>
              <p:cNvPr id="311" name=""/>
              <p:cNvSpPr/>
              <p:nvPr/>
            </p:nvSpPr>
            <p:spPr>
              <a:xfrm>
                <a:off x="1908000" y="2813040"/>
                <a:ext cx="229320" cy="63180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969696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137320" y="3042720"/>
                <a:ext cx="2064600" cy="1720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969696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533520" y="2758680"/>
              <a:ext cx="2235240" cy="746280"/>
              <a:chOff x="533520" y="2758680"/>
              <a:chExt cx="2235240" cy="746280"/>
            </a:xfrm>
          </p:grpSpPr>
          <p:sp>
            <p:nvSpPr>
              <p:cNvPr id="314" name=""/>
              <p:cNvSpPr/>
              <p:nvPr/>
            </p:nvSpPr>
            <p:spPr>
              <a:xfrm>
                <a:off x="533520" y="2759040"/>
                <a:ext cx="2120400" cy="57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33520" y="3447360"/>
                <a:ext cx="2120400" cy="57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200000">
                <a:off x="189000" y="3103560"/>
                <a:ext cx="745920" cy="56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6200000">
                <a:off x="2481840" y="2873520"/>
                <a:ext cx="286920" cy="57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6200000">
                <a:off x="2653920" y="2930400"/>
                <a:ext cx="57240" cy="172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6200000">
                <a:off x="2481840" y="3332520"/>
                <a:ext cx="286920" cy="57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6200000">
                <a:off x="2653920" y="3160080"/>
                <a:ext cx="57240" cy="172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2138400" y="2817720"/>
              <a:ext cx="457200" cy="628200"/>
              <a:chOff x="2138400" y="2817720"/>
              <a:chExt cx="457200" cy="628200"/>
            </a:xfrm>
          </p:grpSpPr>
          <p:sp>
            <p:nvSpPr>
              <p:cNvPr id="322" name=""/>
              <p:cNvSpPr/>
              <p:nvPr/>
            </p:nvSpPr>
            <p:spPr>
              <a:xfrm>
                <a:off x="2138400" y="2817720"/>
                <a:ext cx="457200" cy="2286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138400" y="3217680"/>
                <a:ext cx="457200" cy="2282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4202280" y="2874600"/>
              <a:ext cx="171360" cy="514440"/>
              <a:chOff x="4202280" y="2874600"/>
              <a:chExt cx="171360" cy="514440"/>
            </a:xfrm>
          </p:grpSpPr>
          <p:sp>
            <p:nvSpPr>
              <p:cNvPr id="325" name=""/>
              <p:cNvSpPr/>
              <p:nvPr/>
            </p:nvSpPr>
            <p:spPr>
              <a:xfrm>
                <a:off x="4202280" y="2874960"/>
                <a:ext cx="0" cy="514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4202280" y="2874600"/>
                <a:ext cx="171360" cy="114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4202280" y="2989080"/>
                <a:ext cx="171360" cy="113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4202280" y="3102840"/>
                <a:ext cx="171360" cy="114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4202280" y="3217320"/>
                <a:ext cx="171360" cy="114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 flipV="1">
              <a:off x="2133720" y="2530080"/>
              <a:ext cx="0" cy="228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2590920" y="2530080"/>
              <a:ext cx="0" cy="228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33720" y="2589120"/>
              <a:ext cx="4572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92200" y="2817720"/>
              <a:ext cx="1315800" cy="6285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1143000" y="464832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(S – s) 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·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 (C</a:t>
            </a:r>
            <a:r>
              <a:rPr b="1" lang="fr-FR" sz="2400" spc="-1" strike="noStrike" baseline="-25000">
                <a:solidFill>
                  <a:srgbClr val="990000"/>
                </a:solidFill>
                <a:latin typeface="Times New Roman"/>
              </a:rPr>
              <a:t>t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 – C</a:t>
            </a:r>
            <a:r>
              <a:rPr b="1" lang="fr-FR" sz="2400" spc="-1" strike="noStrike" baseline="-25000">
                <a:solidFill>
                  <a:srgbClr val="990000"/>
                </a:solidFill>
                <a:latin typeface="Times New Roman"/>
              </a:rPr>
              <a:t>u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) 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·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 P</a:t>
            </a:r>
            <a:r>
              <a:rPr b="1" lang="fr-FR" sz="2400" spc="-1" strike="noStrike" baseline="-25000">
                <a:solidFill>
                  <a:srgbClr val="990000"/>
                </a:solidFill>
                <a:latin typeface="Times New Roman"/>
              </a:rPr>
              <a:t>a 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/ P</a:t>
            </a:r>
            <a:r>
              <a:rPr b="1" lang="fr-FR" sz="2400" spc="-1" strike="noStrike" baseline="-25000">
                <a:solidFill>
                  <a:srgbClr val="99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86400" y="457200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(S – s) 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·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 C</a:t>
            </a:r>
            <a:r>
              <a:rPr b="1" lang="fr-FR" sz="2400" spc="-1" strike="noStrike" baseline="-25000">
                <a:solidFill>
                  <a:srgbClr val="990000"/>
                </a:solidFill>
                <a:latin typeface="Times New Roman"/>
              </a:rPr>
              <a:t>t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·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 (P / P</a:t>
            </a:r>
            <a:r>
              <a:rPr b="1" lang="fr-FR" sz="2400" spc="-1" strike="noStrike" baseline="-25000">
                <a:solidFill>
                  <a:srgbClr val="990000"/>
                </a:solidFill>
                <a:latin typeface="Times New Roman"/>
              </a:rPr>
              <a:t>a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14800" y="5867280"/>
            <a:ext cx="457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(S – s) 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·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 { C</a:t>
            </a:r>
            <a:r>
              <a:rPr b="1" lang="fr-FR" sz="2400" spc="-1" strike="noStrike" baseline="-25000">
                <a:solidFill>
                  <a:srgbClr val="990000"/>
                </a:solidFill>
                <a:latin typeface="Times New Roman"/>
              </a:rPr>
              <a:t>t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·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 (P / P</a:t>
            </a:r>
            <a:r>
              <a:rPr b="1" lang="fr-FR" sz="2400" spc="-1" strike="noStrike" baseline="-25000">
                <a:solidFill>
                  <a:srgbClr val="990000"/>
                </a:solidFill>
                <a:latin typeface="Times New Roman"/>
              </a:rPr>
              <a:t>a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) - (C</a:t>
            </a:r>
            <a:r>
              <a:rPr b="1" lang="fr-FR" sz="2400" spc="-1" strike="noStrike" baseline="-25000">
                <a:solidFill>
                  <a:srgbClr val="990000"/>
                </a:solidFill>
                <a:latin typeface="Times New Roman"/>
              </a:rPr>
              <a:t>t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 – C</a:t>
            </a:r>
            <a:r>
              <a:rPr b="1" lang="fr-FR" sz="2400" spc="-1" strike="noStrike" baseline="-25000">
                <a:solidFill>
                  <a:srgbClr val="990000"/>
                </a:solidFill>
                <a:latin typeface="Times New Roman"/>
              </a:rPr>
              <a:t>u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)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95280" y="5867280"/>
            <a:ext cx="27432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fr-FR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=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fs  - V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is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81080" y="222408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- C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ommation pour un aller retour de vér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4495680"/>
            <a:ext cx="914400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V</a:t>
            </a:r>
            <a:r>
              <a:rPr b="1" lang="fr-FR" sz="2800" spc="-1" strike="noStrike" baseline="-30000">
                <a:solidFill>
                  <a:srgbClr val="990000"/>
                </a:solidFill>
                <a:latin typeface="Times New Roman"/>
                <a:ea typeface="Times New Roman"/>
              </a:rPr>
              <a:t>aV </a:t>
            </a:r>
            <a:r>
              <a:rPr b="1" lang="fr-FR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=  </a:t>
            </a:r>
            <a:r>
              <a:rPr b="1" lang="fr-FR" sz="2800" spc="-1" strike="noStrike">
                <a:solidFill>
                  <a:srgbClr val="990000"/>
                </a:solidFill>
                <a:latin typeface="Times New Roman"/>
              </a:rPr>
              <a:t>S </a:t>
            </a:r>
            <a:r>
              <a:rPr b="1" lang="fr-FR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·</a:t>
            </a:r>
            <a:r>
              <a:rPr b="1" lang="fr-FR" sz="2800" spc="-1" strike="noStrike">
                <a:solidFill>
                  <a:srgbClr val="990000"/>
                </a:solidFill>
                <a:latin typeface="Times New Roman"/>
              </a:rPr>
              <a:t> C</a:t>
            </a:r>
            <a:r>
              <a:rPr b="1" lang="fr-FR" sz="2800" spc="-1" strike="noStrike" baseline="-25000">
                <a:solidFill>
                  <a:srgbClr val="990000"/>
                </a:solidFill>
                <a:latin typeface="Times New Roman"/>
              </a:rPr>
              <a:t>u</a:t>
            </a:r>
            <a:r>
              <a:rPr b="1" lang="fr-FR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·</a:t>
            </a:r>
            <a:r>
              <a:rPr b="1" lang="fr-FR" sz="2800" spc="-1" strike="noStrike">
                <a:solidFill>
                  <a:srgbClr val="990000"/>
                </a:solidFill>
                <a:latin typeface="Times New Roman"/>
              </a:rPr>
              <a:t> (P / P</a:t>
            </a:r>
            <a:r>
              <a:rPr b="1" lang="fr-FR" sz="2800" spc="-1" strike="noStrike" baseline="-25000">
                <a:solidFill>
                  <a:srgbClr val="990000"/>
                </a:solidFill>
                <a:latin typeface="Times New Roman"/>
              </a:rPr>
              <a:t>a </a:t>
            </a:r>
            <a:r>
              <a:rPr b="1" lang="fr-FR" sz="2800" spc="-1" strike="noStrike">
                <a:solidFill>
                  <a:srgbClr val="990000"/>
                </a:solidFill>
                <a:latin typeface="Times New Roman"/>
              </a:rPr>
              <a:t>)  +  (S – s) </a:t>
            </a:r>
            <a:r>
              <a:rPr b="1" lang="fr-FR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·</a:t>
            </a:r>
            <a:r>
              <a:rPr b="1" lang="fr-FR" sz="2800" spc="-1" strike="noStrike">
                <a:solidFill>
                  <a:srgbClr val="990000"/>
                </a:solidFill>
                <a:latin typeface="Times New Roman"/>
              </a:rPr>
              <a:t> { C</a:t>
            </a:r>
            <a:r>
              <a:rPr b="1" lang="fr-FR" sz="2800" spc="-1" strike="noStrike" baseline="-25000">
                <a:solidFill>
                  <a:srgbClr val="990000"/>
                </a:solidFill>
                <a:latin typeface="Times New Roman"/>
              </a:rPr>
              <a:t>t</a:t>
            </a:r>
            <a:r>
              <a:rPr b="1" lang="fr-FR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·</a:t>
            </a:r>
            <a:r>
              <a:rPr b="1" lang="fr-FR" sz="2800" spc="-1" strike="noStrike">
                <a:solidFill>
                  <a:srgbClr val="990000"/>
                </a:solidFill>
                <a:latin typeface="Times New Roman"/>
              </a:rPr>
              <a:t> (P / P</a:t>
            </a:r>
            <a:r>
              <a:rPr b="1" lang="fr-FR" sz="2800" spc="-1" strike="noStrike" baseline="-25000">
                <a:solidFill>
                  <a:srgbClr val="990000"/>
                </a:solidFill>
                <a:latin typeface="Times New Roman"/>
              </a:rPr>
              <a:t>a</a:t>
            </a:r>
            <a:r>
              <a:rPr b="1" lang="fr-FR" sz="2800" spc="-1" strike="noStrike">
                <a:solidFill>
                  <a:srgbClr val="990000"/>
                </a:solidFill>
                <a:latin typeface="Times New Roman"/>
              </a:rPr>
              <a:t>) - (C</a:t>
            </a:r>
            <a:r>
              <a:rPr b="1" lang="fr-FR" sz="2800" spc="-1" strike="noStrike" baseline="-25000">
                <a:solidFill>
                  <a:srgbClr val="990000"/>
                </a:solidFill>
                <a:latin typeface="Times New Roman"/>
              </a:rPr>
              <a:t>t</a:t>
            </a:r>
            <a:r>
              <a:rPr b="1" lang="fr-FR" sz="2800" spc="-1" strike="noStrike">
                <a:solidFill>
                  <a:srgbClr val="990000"/>
                </a:solidFill>
                <a:latin typeface="Times New Roman"/>
              </a:rPr>
              <a:t> – C</a:t>
            </a:r>
            <a:r>
              <a:rPr b="1" lang="fr-FR" sz="2800" spc="-1" strike="noStrike" baseline="-25000">
                <a:solidFill>
                  <a:srgbClr val="990000"/>
                </a:solidFill>
                <a:latin typeface="Times New Roman"/>
              </a:rPr>
              <a:t>u</a:t>
            </a:r>
            <a:r>
              <a:rPr b="1" lang="fr-FR" sz="2800" spc="-1" strike="noStrike">
                <a:solidFill>
                  <a:srgbClr val="990000"/>
                </a:solidFill>
                <a:latin typeface="Times New Roman"/>
              </a:rPr>
              <a:t>)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2666880"/>
            <a:ext cx="914400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fr-FR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=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fr-FR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s  + V</a:t>
            </a:r>
            <a:r>
              <a:rPr b="1" lang="fr-FR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5181480" y="5105520"/>
            <a:ext cx="3886200" cy="1218600"/>
            <a:chOff x="5181480" y="5105520"/>
            <a:chExt cx="3886200" cy="1218600"/>
          </a:xfrm>
        </p:grpSpPr>
        <p:sp>
          <p:nvSpPr>
            <p:cNvPr id="343" name=""/>
            <p:cNvSpPr/>
            <p:nvPr/>
          </p:nvSpPr>
          <p:spPr>
            <a:xfrm>
              <a:off x="5181480" y="5790960"/>
              <a:ext cx="83844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162920" y="5105520"/>
              <a:ext cx="1904760" cy="914040"/>
            </a:xfrm>
            <a:prstGeom prst="wedgeRectCallout">
              <a:avLst>
                <a:gd name="adj1" fmla="val -113166"/>
                <a:gd name="adj2" fmla="val 4114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En bars 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Pabs. = Prel. +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Pa =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26672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137160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terminer en Nl la consommation par aller retour d'un vérin alimenté sous 6 bars relatifs, dont les dimensions en mm sont 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= 63    d = 22    course = 200    course utilisée = course tot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76212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Rappel : V</a:t>
            </a:r>
            <a:r>
              <a:rPr b="1" lang="fr-FR" sz="2400" spc="-1" strike="noStrike" baseline="-30000">
                <a:solidFill>
                  <a:srgbClr val="006666"/>
                </a:solidFill>
                <a:latin typeface="Times New Roman"/>
                <a:ea typeface="Times New Roman"/>
              </a:rPr>
              <a:t>aV </a:t>
            </a:r>
            <a:r>
              <a:rPr b="1" lang="fr-FR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= </a:t>
            </a:r>
            <a:r>
              <a:rPr b="1" lang="fr-FR" sz="2400" spc="-1" strike="noStrike">
                <a:solidFill>
                  <a:srgbClr val="006666"/>
                </a:solidFill>
                <a:latin typeface="Times New Roman"/>
              </a:rPr>
              <a:t>S </a:t>
            </a:r>
            <a:r>
              <a:rPr b="1" lang="fr-FR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·</a:t>
            </a:r>
            <a:r>
              <a:rPr b="1" lang="fr-FR" sz="2400" spc="-1" strike="noStrike">
                <a:solidFill>
                  <a:srgbClr val="006666"/>
                </a:solidFill>
                <a:latin typeface="Times New Roman"/>
              </a:rPr>
              <a:t> C</a:t>
            </a:r>
            <a:r>
              <a:rPr b="1" lang="fr-FR" sz="2400" spc="-1" strike="noStrike" baseline="-25000">
                <a:solidFill>
                  <a:srgbClr val="006666"/>
                </a:solidFill>
                <a:latin typeface="Times New Roman"/>
              </a:rPr>
              <a:t>u</a:t>
            </a:r>
            <a:r>
              <a:rPr b="1" lang="fr-FR" sz="2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·</a:t>
            </a:r>
            <a:r>
              <a:rPr b="1" lang="fr-FR" sz="2400" spc="-1" strike="noStrike">
                <a:solidFill>
                  <a:srgbClr val="006666"/>
                </a:solidFill>
                <a:latin typeface="Times New Roman"/>
              </a:rPr>
              <a:t> (P / P</a:t>
            </a:r>
            <a:r>
              <a:rPr b="1" lang="fr-FR" sz="2400" spc="-1" strike="noStrike" baseline="-25000">
                <a:solidFill>
                  <a:srgbClr val="006666"/>
                </a:solidFill>
                <a:latin typeface="Times New Roman"/>
              </a:rPr>
              <a:t>a </a:t>
            </a:r>
            <a:r>
              <a:rPr b="1" lang="fr-FR" sz="2400" spc="-1" strike="noStrike">
                <a:solidFill>
                  <a:srgbClr val="006666"/>
                </a:solidFill>
                <a:latin typeface="Times New Roman"/>
              </a:rPr>
              <a:t>)  +  (S – s) </a:t>
            </a:r>
            <a:r>
              <a:rPr b="1" lang="fr-FR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·</a:t>
            </a:r>
            <a:r>
              <a:rPr b="1" lang="fr-FR" sz="2400" spc="-1" strike="noStrike">
                <a:solidFill>
                  <a:srgbClr val="006666"/>
                </a:solidFill>
                <a:latin typeface="Times New Roman"/>
              </a:rPr>
              <a:t> { C</a:t>
            </a:r>
            <a:r>
              <a:rPr b="1" lang="fr-FR" sz="2400" spc="-1" strike="noStrike" baseline="-25000">
                <a:solidFill>
                  <a:srgbClr val="006666"/>
                </a:solidFill>
                <a:latin typeface="Times New Roman"/>
              </a:rPr>
              <a:t>t</a:t>
            </a:r>
            <a:r>
              <a:rPr b="1" lang="fr-FR" sz="2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·</a:t>
            </a:r>
            <a:r>
              <a:rPr b="1" lang="fr-FR" sz="2400" spc="-1" strike="noStrike">
                <a:solidFill>
                  <a:srgbClr val="006666"/>
                </a:solidFill>
                <a:latin typeface="Times New Roman"/>
              </a:rPr>
              <a:t> (P / P</a:t>
            </a:r>
            <a:r>
              <a:rPr b="1" lang="fr-FR" sz="2400" spc="-1" strike="noStrike" baseline="-25000">
                <a:solidFill>
                  <a:srgbClr val="006666"/>
                </a:solidFill>
                <a:latin typeface="Times New Roman"/>
              </a:rPr>
              <a:t>a</a:t>
            </a:r>
            <a:r>
              <a:rPr b="1" lang="fr-FR" sz="2400" spc="-1" strike="noStrike">
                <a:solidFill>
                  <a:srgbClr val="006666"/>
                </a:solidFill>
                <a:latin typeface="Times New Roman"/>
              </a:rPr>
              <a:t>) - (C</a:t>
            </a:r>
            <a:r>
              <a:rPr b="1" lang="fr-FR" sz="2400" spc="-1" strike="noStrike" baseline="-25000">
                <a:solidFill>
                  <a:srgbClr val="006666"/>
                </a:solidFill>
                <a:latin typeface="Times New Roman"/>
              </a:rPr>
              <a:t>t</a:t>
            </a:r>
            <a:r>
              <a:rPr b="1" lang="fr-FR" sz="2400" spc="-1" strike="noStrike">
                <a:solidFill>
                  <a:srgbClr val="006666"/>
                </a:solidFill>
                <a:latin typeface="Times New Roman"/>
              </a:rPr>
              <a:t> – C</a:t>
            </a:r>
            <a:r>
              <a:rPr b="1" lang="fr-FR" sz="2400" spc="-1" strike="noStrike" baseline="-25000">
                <a:solidFill>
                  <a:srgbClr val="006666"/>
                </a:solidFill>
                <a:latin typeface="Times New Roman"/>
              </a:rPr>
              <a:t>u</a:t>
            </a:r>
            <a:r>
              <a:rPr b="1" lang="fr-FR" sz="2400" spc="-1" strike="noStrike">
                <a:solidFill>
                  <a:srgbClr val="006666"/>
                </a:solidFill>
                <a:latin typeface="Times New Roman"/>
              </a:rPr>
              <a:t>)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581280" y="15228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cc"/>
                </a:solidFill>
                <a:uFillTx/>
                <a:latin typeface="Times New Roman"/>
                <a:ea typeface="Times New Roman"/>
              </a:rPr>
              <a:t>Objectif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:    maîtrise des un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8600" y="2652840"/>
            <a:ext cx="6781680" cy="10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La relation générale devient ic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fr-FR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V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066680" y="3186000"/>
            <a:ext cx="80773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S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·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C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·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(P / P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)  +  (S – s)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·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C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·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(P / P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)  = (2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·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S – s)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·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C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·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(P / P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8600" y="3886200"/>
            <a:ext cx="66294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Application :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fr-FR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V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 – s)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C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(P / P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" y="4724280"/>
            <a:ext cx="807732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fin d’obtenir un résultat en litres ou dm</a:t>
            </a:r>
            <a:r>
              <a:rPr b="1" lang="nl-NL" sz="2400" spc="-1" strike="noStrike" baseline="30000">
                <a:solidFill>
                  <a:srgbClr val="800000"/>
                </a:solidFill>
                <a:latin typeface="Times New Roman"/>
                <a:ea typeface="Times New Roman"/>
              </a:rPr>
              <a:t>3</a:t>
            </a:r>
            <a:r>
              <a:rPr b="1" lang="nl-NL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, les calculs seront effectués en 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V</a:t>
            </a:r>
            <a:r>
              <a:rPr b="1" lang="fr-FR" sz="2400" spc="-1" strike="noStrike" baseline="-30000">
                <a:solidFill>
                  <a:srgbClr val="800000"/>
                </a:solidFill>
                <a:latin typeface="Times New Roman"/>
                <a:ea typeface="Times New Roman"/>
              </a:rPr>
              <a:t>aV    </a:t>
            </a:r>
            <a:r>
              <a:rPr b="1" lang="fr-FR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= </a:t>
            </a:r>
            <a:r>
              <a:rPr b="1" lang="en-GB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{ </a:t>
            </a:r>
            <a:r>
              <a:rPr b="1" lang="fr-FR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Π · </a:t>
            </a:r>
            <a:r>
              <a:rPr b="1" lang="en-GB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(</a:t>
            </a:r>
            <a:r>
              <a:rPr b="1" lang="fr-FR" sz="2400" spc="-1" strike="noStrike">
                <a:solidFill>
                  <a:srgbClr val="800000"/>
                </a:solidFill>
                <a:latin typeface="Times New Roman"/>
              </a:rPr>
              <a:t>2</a:t>
            </a:r>
            <a:r>
              <a:rPr b="1" lang="fr-FR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·</a:t>
            </a:r>
            <a:r>
              <a:rPr b="1" lang="en-GB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D²-d²) / 4 } </a:t>
            </a:r>
            <a:r>
              <a:rPr b="1" lang="fr-FR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·</a:t>
            </a:r>
            <a:r>
              <a:rPr b="1" lang="fr-FR" sz="2400" spc="-1" strike="noStrike">
                <a:solidFill>
                  <a:srgbClr val="800000"/>
                </a:solidFill>
                <a:latin typeface="Times New Roman"/>
              </a:rPr>
              <a:t> C </a:t>
            </a:r>
            <a:r>
              <a:rPr b="1" lang="fr-FR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·</a:t>
            </a:r>
            <a:r>
              <a:rPr b="1" lang="fr-FR" sz="2400" spc="-1" strike="noStrike">
                <a:solidFill>
                  <a:srgbClr val="800000"/>
                </a:solidFill>
                <a:latin typeface="Times New Roman"/>
              </a:rPr>
              <a:t> (P / P</a:t>
            </a:r>
            <a:r>
              <a:rPr b="1" lang="fr-FR" sz="2400" spc="-1" strike="noStrike" baseline="-25000">
                <a:solidFill>
                  <a:srgbClr val="800000"/>
                </a:solidFill>
                <a:latin typeface="Times New Roman"/>
              </a:rPr>
              <a:t>a </a:t>
            </a:r>
            <a:r>
              <a:rPr b="1" lang="fr-FR" sz="2400" spc="-1" strike="noStrike">
                <a:solidFill>
                  <a:srgbClr val="8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V</a:t>
            </a:r>
            <a:r>
              <a:rPr b="1" lang="fr-FR" sz="2400" spc="-1" strike="noStrike" baseline="-30000">
                <a:solidFill>
                  <a:srgbClr val="800000"/>
                </a:solidFill>
                <a:latin typeface="Times New Roman"/>
                <a:ea typeface="Times New Roman"/>
              </a:rPr>
              <a:t>aV    </a:t>
            </a:r>
            <a:r>
              <a:rPr b="1" lang="fr-FR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= </a:t>
            </a:r>
            <a:r>
              <a:rPr b="1" lang="en-GB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{ </a:t>
            </a:r>
            <a:r>
              <a:rPr b="1" lang="fr-FR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Π · (</a:t>
            </a:r>
            <a:r>
              <a:rPr b="1" lang="fr-FR" sz="2400" spc="-1" strike="noStrike">
                <a:solidFill>
                  <a:srgbClr val="800000"/>
                </a:solidFill>
                <a:latin typeface="Times New Roman"/>
              </a:rPr>
              <a:t>2</a:t>
            </a:r>
            <a:r>
              <a:rPr b="1" lang="fr-FR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·0,63²-0,22²) / 4 }  ·   2  ·  (6+1)  </a:t>
            </a:r>
            <a:r>
              <a:rPr b="1" lang="fr-FR" sz="2400" spc="-1" strike="noStrike">
                <a:solidFill>
                  <a:srgbClr val="800000"/>
                </a:solidFill>
                <a:latin typeface="Symbol"/>
                <a:ea typeface="Symbol"/>
              </a:rPr>
              <a:t></a:t>
            </a:r>
            <a:r>
              <a:rPr b="1" lang="nl-NL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8,2Nl</a:t>
            </a:r>
            <a:r>
              <a:rPr b="1" lang="fr-FR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26672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2590920"/>
            <a:ext cx="91440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négligeant l’incidence du volume de tige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, que devient la relation :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fr-FR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V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(2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S – s)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C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(P / P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590920" y="6858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cc"/>
                </a:solidFill>
                <a:uFillTx/>
                <a:latin typeface="Times New Roman"/>
                <a:ea typeface="Times New Roman"/>
              </a:rPr>
              <a:t>Objectif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:  montrer l’incidence du volume de t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364176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V</a:t>
            </a:r>
            <a:r>
              <a:rPr b="1" lang="fr-FR" sz="2400" spc="-1" strike="noStrike" baseline="-30000">
                <a:solidFill>
                  <a:srgbClr val="800000"/>
                </a:solidFill>
                <a:latin typeface="Times New Roman"/>
                <a:ea typeface="Times New Roman"/>
              </a:rPr>
              <a:t>aV      </a:t>
            </a:r>
            <a:r>
              <a:rPr b="1" lang="fr-FR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=    </a:t>
            </a:r>
            <a:r>
              <a:rPr b="1" lang="fr-FR" sz="2400" spc="-1" strike="noStrike">
                <a:solidFill>
                  <a:srgbClr val="800000"/>
                </a:solidFill>
                <a:latin typeface="Times New Roman"/>
              </a:rPr>
              <a:t>2 </a:t>
            </a:r>
            <a:r>
              <a:rPr b="1" lang="fr-FR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·</a:t>
            </a:r>
            <a:r>
              <a:rPr b="1" lang="fr-FR" sz="2400" spc="-1" strike="noStrike">
                <a:solidFill>
                  <a:srgbClr val="800000"/>
                </a:solidFill>
                <a:latin typeface="Times New Roman"/>
              </a:rPr>
              <a:t> S </a:t>
            </a:r>
            <a:r>
              <a:rPr b="1" lang="fr-FR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·</a:t>
            </a:r>
            <a:r>
              <a:rPr b="1" lang="fr-FR" sz="2400" spc="-1" strike="noStrike">
                <a:solidFill>
                  <a:srgbClr val="800000"/>
                </a:solidFill>
                <a:latin typeface="Times New Roman"/>
              </a:rPr>
              <a:t> C </a:t>
            </a:r>
            <a:r>
              <a:rPr b="1" lang="fr-FR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·</a:t>
            </a:r>
            <a:r>
              <a:rPr b="1" lang="fr-FR" sz="2400" spc="-1" strike="noStrike">
                <a:solidFill>
                  <a:srgbClr val="800000"/>
                </a:solidFill>
                <a:latin typeface="Times New Roman"/>
              </a:rPr>
              <a:t> (P / P</a:t>
            </a:r>
            <a:r>
              <a:rPr b="1" lang="fr-FR" sz="2400" spc="-1" strike="noStrike" baseline="-25000">
                <a:solidFill>
                  <a:srgbClr val="800000"/>
                </a:solidFill>
                <a:latin typeface="Times New Roman"/>
              </a:rPr>
              <a:t>a  </a:t>
            </a:r>
            <a:r>
              <a:rPr b="1" lang="fr-FR" sz="2400" spc="-1" strike="noStrike">
                <a:solidFill>
                  <a:srgbClr val="8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4724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 numé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54864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V</a:t>
            </a:r>
            <a:r>
              <a:rPr b="1" lang="nl-NL" sz="2400" spc="-1" strike="noStrike" baseline="-30000">
                <a:solidFill>
                  <a:srgbClr val="800000"/>
                </a:solidFill>
                <a:latin typeface="Times New Roman"/>
                <a:ea typeface="Times New Roman"/>
              </a:rPr>
              <a:t>aV</a:t>
            </a:r>
            <a:r>
              <a:rPr b="1" lang="nl-NL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=  </a:t>
            </a:r>
            <a:r>
              <a:rPr b="1" lang="fr-FR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(2 · Π·D² /4 ) ·</a:t>
            </a:r>
            <a:r>
              <a:rPr b="1" lang="nl-NL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 · </a:t>
            </a:r>
            <a:r>
              <a:rPr b="1" lang="nl-NL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(P </a:t>
            </a:r>
            <a:r>
              <a:rPr b="1" lang="fr-FR" sz="2400" spc="-1" strike="noStrike">
                <a:solidFill>
                  <a:srgbClr val="800000"/>
                </a:solidFill>
                <a:latin typeface="Times New Roman"/>
              </a:rPr>
              <a:t>/ P</a:t>
            </a:r>
            <a:r>
              <a:rPr b="1" lang="fr-FR" sz="2400" spc="-1" strike="noStrike" baseline="-25000">
                <a:solidFill>
                  <a:srgbClr val="800000"/>
                </a:solidFill>
                <a:latin typeface="Times New Roman"/>
              </a:rPr>
              <a:t>a </a:t>
            </a:r>
            <a:r>
              <a:rPr b="1" lang="nl-NL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)  </a:t>
            </a:r>
            <a:r>
              <a:rPr b="1" lang="fr-FR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=</a:t>
            </a:r>
            <a:r>
              <a:rPr b="1" lang="nl-NL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(</a:t>
            </a:r>
            <a:r>
              <a:rPr b="1" lang="fr-FR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Π·0,63²/2) · 2 · </a:t>
            </a:r>
            <a:r>
              <a:rPr b="1" lang="nl-NL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(6+1)  </a:t>
            </a:r>
            <a:r>
              <a:rPr b="1" lang="fr-FR" sz="2400" spc="-1" strike="noStrike">
                <a:solidFill>
                  <a:srgbClr val="800000"/>
                </a:solidFill>
                <a:latin typeface="Symbol"/>
                <a:ea typeface="Symbol"/>
              </a:rPr>
              <a:t></a:t>
            </a:r>
            <a:r>
              <a:rPr b="1" lang="nl-NL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8,7Nl</a:t>
            </a:r>
            <a:r>
              <a:rPr b="1" lang="fr-FR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28600" y="1523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Rappel des données : P = 6 bars relatifs    D = 63   course =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 de l’application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1752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culer l’erreur relative comm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2209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ξ   =   { (valeur mesurée - valeur exacte)  /  valeur exacte } ·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8600" y="8380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Résultat avec prise en compte du volume de tige :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8,2N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résultat sans prise en compte du volume de tige :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8,7N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2666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ξ   =   { ( 8,7 - 8,2 ) / 8,2 }  ·  100     </a:t>
            </a:r>
            <a:r>
              <a:rPr b="1" lang="fr-FR" sz="2400" spc="-1" strike="noStrike">
                <a:solidFill>
                  <a:srgbClr val="800000"/>
                </a:solidFill>
                <a:latin typeface="Symbol"/>
                <a:ea typeface="Symbol"/>
              </a:rPr>
              <a:t></a:t>
            </a:r>
            <a:r>
              <a:rPr b="1" lang="fr-FR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+ 6 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52280" y="3200400"/>
            <a:ext cx="88394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 résultat reste du même ordre pour tous les vérins car le rapport entre diamètre de tige et diamètre de piston évolue pe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’erreur augmente lorsque la pression de travail dim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2280" y="4648320"/>
            <a:ext cx="8839440" cy="1800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 la pression de travail est supérieure à 3bars, nous négligerons l’incidence de la tige d’autant que la majoration qu’elle entraîne tend à prendre en compte les approximations faites sur les volumes m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26672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2590920"/>
            <a:ext cx="91440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négligeant l’incidence du volume de tige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, que devient la relation générale :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fr-FR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V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(P / P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)  +  (S – s)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{ C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(P / P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) - (C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– C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)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724280" y="53352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cc"/>
                </a:solidFill>
                <a:uFillTx/>
                <a:latin typeface="Times New Roman"/>
                <a:ea typeface="Times New Roman"/>
              </a:rPr>
              <a:t>Objectif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:  montrer l’incidence de la limitation de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358128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V</a:t>
            </a:r>
            <a:r>
              <a:rPr b="1" lang="fr-FR" sz="2400" spc="-1" strike="noStrike" baseline="-30000">
                <a:solidFill>
                  <a:srgbClr val="990000"/>
                </a:solidFill>
                <a:latin typeface="Times New Roman"/>
                <a:ea typeface="Times New Roman"/>
              </a:rPr>
              <a:t>aV 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=  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S 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·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 { C</a:t>
            </a:r>
            <a:r>
              <a:rPr b="1" lang="fr-FR" sz="2400" spc="-1" strike="noStrike" baseline="-25000">
                <a:solidFill>
                  <a:srgbClr val="990000"/>
                </a:solidFill>
                <a:latin typeface="Times New Roman"/>
              </a:rPr>
              <a:t>u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·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 (P / P</a:t>
            </a:r>
            <a:r>
              <a:rPr b="1" lang="fr-FR" sz="2400" spc="-1" strike="noStrike" baseline="-25000">
                <a:solidFill>
                  <a:srgbClr val="990000"/>
                </a:solidFill>
                <a:latin typeface="Times New Roman"/>
              </a:rPr>
              <a:t>a 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)  +  C</a:t>
            </a:r>
            <a:r>
              <a:rPr b="1" lang="fr-FR" sz="2400" spc="-1" strike="noStrike" baseline="-25000">
                <a:solidFill>
                  <a:srgbClr val="990000"/>
                </a:solidFill>
                <a:latin typeface="Times New Roman"/>
              </a:rPr>
              <a:t>t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·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 (P / P</a:t>
            </a:r>
            <a:r>
              <a:rPr b="1" lang="fr-FR" sz="2400" spc="-1" strike="noStrike" baseline="-25000">
                <a:solidFill>
                  <a:srgbClr val="990000"/>
                </a:solidFill>
                <a:latin typeface="Times New Roman"/>
              </a:rPr>
              <a:t>a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) - (C</a:t>
            </a:r>
            <a:r>
              <a:rPr b="1" lang="fr-FR" sz="2400" spc="-1" strike="noStrike" baseline="-25000">
                <a:solidFill>
                  <a:srgbClr val="990000"/>
                </a:solidFill>
                <a:latin typeface="Times New Roman"/>
              </a:rPr>
              <a:t>t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 – C</a:t>
            </a:r>
            <a:r>
              <a:rPr b="1" lang="fr-FR" sz="2400" spc="-1" strike="noStrike" baseline="-25000">
                <a:solidFill>
                  <a:srgbClr val="990000"/>
                </a:solidFill>
                <a:latin typeface="Times New Roman"/>
              </a:rPr>
              <a:t>u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)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320" y="4359240"/>
            <a:ext cx="89154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numériqu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crire l’expression  V</a:t>
            </a:r>
            <a:r>
              <a:rPr b="1" lang="fr-FR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= f (c</a:t>
            </a:r>
            <a:r>
              <a:rPr b="1" lang="fr-FR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et tracer la courbe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6320" y="5425920"/>
            <a:ext cx="883908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V</a:t>
            </a:r>
            <a:r>
              <a:rPr b="1" lang="fr-FR" sz="2400" spc="-1" strike="noStrike" baseline="-30000">
                <a:solidFill>
                  <a:srgbClr val="990000"/>
                </a:solidFill>
                <a:latin typeface="Times New Roman"/>
                <a:ea typeface="Times New Roman"/>
              </a:rPr>
              <a:t>aV    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=   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S 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·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 { (P / P</a:t>
            </a:r>
            <a:r>
              <a:rPr b="1" lang="fr-FR" sz="2400" spc="-1" strike="noStrike" baseline="-25000">
                <a:solidFill>
                  <a:srgbClr val="990000"/>
                </a:solidFill>
                <a:latin typeface="Times New Roman"/>
              </a:rPr>
              <a:t>a 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) + 1 } 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·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 C</a:t>
            </a:r>
            <a:r>
              <a:rPr b="1" lang="fr-FR" sz="2400" spc="-1" strike="noStrike" baseline="-25000">
                <a:solidFill>
                  <a:srgbClr val="990000"/>
                </a:solidFill>
                <a:latin typeface="Times New Roman"/>
              </a:rPr>
              <a:t>u      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+    S 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·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 C</a:t>
            </a:r>
            <a:r>
              <a:rPr b="1" lang="fr-FR" sz="2400" spc="-1" strike="noStrike" baseline="-25000">
                <a:solidFill>
                  <a:srgbClr val="990000"/>
                </a:solidFill>
                <a:latin typeface="Times New Roman"/>
              </a:rPr>
              <a:t>t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·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 { (P / P</a:t>
            </a:r>
            <a:r>
              <a:rPr b="1" lang="fr-FR" sz="2400" spc="-1" strike="noStrike" baseline="-25000">
                <a:solidFill>
                  <a:srgbClr val="990000"/>
                </a:solidFill>
                <a:latin typeface="Times New Roman"/>
              </a:rPr>
              <a:t>a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) - 1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L’expression montre que nous avons à faire à une dro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28600" y="1752480"/>
            <a:ext cx="853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Rappel des données : P = 6 bars relatifs    D = 63   C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=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38102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3 trac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4419720" y="2133720"/>
            <a:ext cx="4343040" cy="4041360"/>
            <a:chOff x="4419720" y="2133720"/>
            <a:chExt cx="4343040" cy="4041360"/>
          </a:xfrm>
        </p:grpSpPr>
        <p:sp>
          <p:nvSpPr>
            <p:cNvPr id="376" name=""/>
            <p:cNvSpPr/>
            <p:nvPr/>
          </p:nvSpPr>
          <p:spPr>
            <a:xfrm flipV="1">
              <a:off x="4943880" y="2432160"/>
              <a:ext cx="0" cy="3368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943880" y="4303800"/>
              <a:ext cx="2994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943880" y="4603680"/>
              <a:ext cx="2994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943880" y="4902840"/>
              <a:ext cx="2994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943880" y="5202720"/>
              <a:ext cx="2994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943880" y="5501520"/>
              <a:ext cx="2994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39560" y="5800320"/>
              <a:ext cx="329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794480" y="5876280"/>
              <a:ext cx="298440" cy="2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216480" y="5876280"/>
              <a:ext cx="449280" cy="2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14440" y="5876280"/>
              <a:ext cx="449280" cy="2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94240" y="5650920"/>
              <a:ext cx="37476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494240" y="4154400"/>
              <a:ext cx="37476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419720" y="2133720"/>
              <a:ext cx="232092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Consommation en N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238600" y="5277600"/>
              <a:ext cx="524160" cy="8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Cu en 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943880" y="3105720"/>
              <a:ext cx="2994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43880" y="3405960"/>
              <a:ext cx="2994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43880" y="3704760"/>
              <a:ext cx="2994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943880" y="4005000"/>
              <a:ext cx="2994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43760" y="2807280"/>
              <a:ext cx="0" cy="2993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42560" y="2807280"/>
              <a:ext cx="0" cy="2993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842800" y="2807280"/>
              <a:ext cx="0" cy="2993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141600" y="2807280"/>
              <a:ext cx="0" cy="2993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441840" y="2807280"/>
              <a:ext cx="0" cy="2993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740640" y="2807280"/>
              <a:ext cx="0" cy="2993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040880" y="2807280"/>
              <a:ext cx="0" cy="2993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339680" y="2807280"/>
              <a:ext cx="0" cy="2993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39920" y="2807280"/>
              <a:ext cx="0" cy="2993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938720" y="2807280"/>
              <a:ext cx="0" cy="2993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943880" y="2807280"/>
              <a:ext cx="2994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494240" y="2657520"/>
              <a:ext cx="37476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4943520" y="3035160"/>
            <a:ext cx="2995560" cy="1628640"/>
            <a:chOff x="4943520" y="3035160"/>
            <a:chExt cx="2995560" cy="1628640"/>
          </a:xfrm>
        </p:grpSpPr>
        <p:sp>
          <p:nvSpPr>
            <p:cNvPr id="407" name=""/>
            <p:cNvSpPr/>
            <p:nvPr/>
          </p:nvSpPr>
          <p:spPr>
            <a:xfrm rot="20068200">
              <a:off x="5060160" y="3562560"/>
              <a:ext cx="255096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V</a:t>
              </a:r>
              <a:r>
                <a:rPr b="1" lang="fr-FR" sz="2000" spc="-1" strike="noStrike" baseline="-30000">
                  <a:solidFill>
                    <a:srgbClr val="ff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fr-FR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v = f (c</a:t>
              </a:r>
              <a:r>
                <a:rPr b="1" lang="fr-FR" sz="2000" spc="-1" strike="noStrike" baseline="-30000">
                  <a:solidFill>
                    <a:srgbClr val="ff0000"/>
                  </a:solidFill>
                  <a:latin typeface="Times New Roman"/>
                  <a:ea typeface="Times New Roman"/>
                </a:rPr>
                <a:t>u</a:t>
              </a:r>
              <a:r>
                <a:rPr b="1" lang="fr-FR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4943520" y="3166560"/>
              <a:ext cx="2995560" cy="1497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152280" y="17524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Il nous faut un deuxième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52280" y="685800"/>
            <a:ext cx="883944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Rappel :  V</a:t>
            </a:r>
            <a:r>
              <a:rPr b="1" lang="fr-FR" sz="2400" spc="-1" strike="noStrike" baseline="-30000">
                <a:solidFill>
                  <a:srgbClr val="006666"/>
                </a:solidFill>
                <a:latin typeface="Times New Roman"/>
                <a:ea typeface="Times New Roman"/>
              </a:rPr>
              <a:t>aV    </a:t>
            </a:r>
            <a:r>
              <a:rPr b="1" lang="fr-FR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=   </a:t>
            </a:r>
            <a:r>
              <a:rPr b="1" lang="fr-FR" sz="2400" spc="-1" strike="noStrike">
                <a:solidFill>
                  <a:srgbClr val="006666"/>
                </a:solidFill>
                <a:latin typeface="Times New Roman"/>
              </a:rPr>
              <a:t>S </a:t>
            </a:r>
            <a:r>
              <a:rPr b="1" lang="fr-FR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·</a:t>
            </a:r>
            <a:r>
              <a:rPr b="1" lang="fr-FR" sz="2400" spc="-1" strike="noStrike">
                <a:solidFill>
                  <a:srgbClr val="006666"/>
                </a:solidFill>
                <a:latin typeface="Times New Roman"/>
              </a:rPr>
              <a:t> { (P / P</a:t>
            </a:r>
            <a:r>
              <a:rPr b="1" lang="fr-FR" sz="2400" spc="-1" strike="noStrike" baseline="-25000">
                <a:solidFill>
                  <a:srgbClr val="006666"/>
                </a:solidFill>
                <a:latin typeface="Times New Roman"/>
              </a:rPr>
              <a:t>a </a:t>
            </a:r>
            <a:r>
              <a:rPr b="1" lang="fr-FR" sz="2400" spc="-1" strike="noStrike">
                <a:solidFill>
                  <a:srgbClr val="006666"/>
                </a:solidFill>
                <a:latin typeface="Times New Roman"/>
              </a:rPr>
              <a:t>) + 1 } </a:t>
            </a:r>
            <a:r>
              <a:rPr b="1" lang="fr-FR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·</a:t>
            </a:r>
            <a:r>
              <a:rPr b="1" lang="fr-FR" sz="2400" spc="-1" strike="noStrike">
                <a:solidFill>
                  <a:srgbClr val="006666"/>
                </a:solidFill>
                <a:latin typeface="Times New Roman"/>
              </a:rPr>
              <a:t> C</a:t>
            </a:r>
            <a:r>
              <a:rPr b="1" lang="fr-FR" sz="2400" spc="-1" strike="noStrike" baseline="-25000">
                <a:solidFill>
                  <a:srgbClr val="006666"/>
                </a:solidFill>
                <a:latin typeface="Times New Roman"/>
              </a:rPr>
              <a:t>u      </a:t>
            </a:r>
            <a:r>
              <a:rPr b="1" lang="fr-FR" sz="2400" spc="-1" strike="noStrike">
                <a:solidFill>
                  <a:srgbClr val="006666"/>
                </a:solidFill>
                <a:latin typeface="Times New Roman"/>
              </a:rPr>
              <a:t>+    S </a:t>
            </a:r>
            <a:r>
              <a:rPr b="1" lang="fr-FR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·</a:t>
            </a:r>
            <a:r>
              <a:rPr b="1" lang="fr-FR" sz="2400" spc="-1" strike="noStrike">
                <a:solidFill>
                  <a:srgbClr val="006666"/>
                </a:solidFill>
                <a:latin typeface="Times New Roman"/>
              </a:rPr>
              <a:t> C</a:t>
            </a:r>
            <a:r>
              <a:rPr b="1" lang="fr-FR" sz="2400" spc="-1" strike="noStrike" baseline="-25000">
                <a:solidFill>
                  <a:srgbClr val="006666"/>
                </a:solidFill>
                <a:latin typeface="Times New Roman"/>
              </a:rPr>
              <a:t>t</a:t>
            </a:r>
            <a:r>
              <a:rPr b="1" lang="fr-FR" sz="2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·</a:t>
            </a:r>
            <a:r>
              <a:rPr b="1" lang="fr-FR" sz="2400" spc="-1" strike="noStrike">
                <a:solidFill>
                  <a:srgbClr val="006666"/>
                </a:solidFill>
                <a:latin typeface="Times New Roman"/>
              </a:rPr>
              <a:t> { (P / P</a:t>
            </a:r>
            <a:r>
              <a:rPr b="1" lang="fr-FR" sz="2400" spc="-1" strike="noStrike" baseline="-25000">
                <a:solidFill>
                  <a:srgbClr val="006666"/>
                </a:solidFill>
                <a:latin typeface="Times New Roman"/>
              </a:rPr>
              <a:t>a</a:t>
            </a:r>
            <a:r>
              <a:rPr b="1" lang="fr-FR" sz="2400" spc="-1" strike="noStrike">
                <a:solidFill>
                  <a:srgbClr val="006666"/>
                </a:solidFill>
                <a:latin typeface="Times New Roman"/>
              </a:rPr>
              <a:t>) - 1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Nous savons déjà que pour   </a:t>
            </a:r>
            <a:r>
              <a:rPr b="1" lang="fr-FR" sz="2400" spc="-1" strike="noStrike">
                <a:solidFill>
                  <a:srgbClr val="006666"/>
                </a:solidFill>
                <a:latin typeface="Times New Roman"/>
              </a:rPr>
              <a:t>C</a:t>
            </a:r>
            <a:r>
              <a:rPr b="1" lang="fr-FR" sz="2400" spc="-1" strike="noStrike" baseline="-25000">
                <a:solidFill>
                  <a:srgbClr val="006666"/>
                </a:solidFill>
                <a:latin typeface="Times New Roman"/>
              </a:rPr>
              <a:t>u</a:t>
            </a:r>
            <a:r>
              <a:rPr b="1" lang="nl-NL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6666"/>
                </a:solidFill>
                <a:latin typeface="Times New Roman"/>
              </a:rPr>
              <a:t>= </a:t>
            </a:r>
            <a:r>
              <a:rPr b="1" lang="nl-NL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6666"/>
                </a:solidFill>
                <a:latin typeface="Times New Roman"/>
              </a:rPr>
              <a:t>C</a:t>
            </a:r>
            <a:r>
              <a:rPr b="1" lang="fr-FR" sz="2400" spc="-1" strike="noStrike" baseline="-25000">
                <a:solidFill>
                  <a:srgbClr val="006666"/>
                </a:solidFill>
                <a:latin typeface="Times New Roman"/>
              </a:rPr>
              <a:t>t</a:t>
            </a:r>
            <a:r>
              <a:rPr b="1" lang="nl-NL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   </a:t>
            </a:r>
            <a:r>
              <a:rPr b="1" lang="fr-FR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V</a:t>
            </a:r>
            <a:r>
              <a:rPr b="1" lang="fr-FR" sz="2400" spc="-1" strike="noStrike" baseline="-30000">
                <a:solidFill>
                  <a:srgbClr val="006666"/>
                </a:solidFill>
                <a:latin typeface="Times New Roman"/>
                <a:ea typeface="Times New Roman"/>
              </a:rPr>
              <a:t>aV   </a:t>
            </a:r>
            <a:r>
              <a:rPr b="1" lang="fr-FR" sz="2400" spc="-1" strike="noStrike">
                <a:solidFill>
                  <a:srgbClr val="006666"/>
                </a:solidFill>
                <a:latin typeface="Symbol"/>
                <a:ea typeface="Symbol"/>
              </a:rPr>
              <a:t></a:t>
            </a:r>
            <a:r>
              <a:rPr b="1" lang="fr-FR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8,7 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52280" y="3352680"/>
            <a:ext cx="4343400" cy="19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V</a:t>
            </a:r>
            <a:r>
              <a:rPr b="1" lang="fr-FR" sz="2400" spc="-1" strike="noStrike" baseline="-30000">
                <a:solidFill>
                  <a:srgbClr val="800000"/>
                </a:solidFill>
                <a:latin typeface="Times New Roman"/>
                <a:ea typeface="Times New Roman"/>
              </a:rPr>
              <a:t>aV  </a:t>
            </a:r>
            <a:r>
              <a:rPr b="1" lang="fr-FR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= 0 </a:t>
            </a:r>
            <a:r>
              <a:rPr b="1" lang="fr-FR" sz="2400" spc="-1" strike="noStrike">
                <a:solidFill>
                  <a:srgbClr val="800000"/>
                </a:solidFill>
                <a:latin typeface="Times New Roman"/>
              </a:rPr>
              <a:t>+ S </a:t>
            </a:r>
            <a:r>
              <a:rPr b="1" lang="fr-FR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·</a:t>
            </a:r>
            <a:r>
              <a:rPr b="1" lang="fr-FR" sz="2400" spc="-1" strike="noStrike">
                <a:solidFill>
                  <a:srgbClr val="800000"/>
                </a:solidFill>
                <a:latin typeface="Times New Roman"/>
              </a:rPr>
              <a:t> C</a:t>
            </a:r>
            <a:r>
              <a:rPr b="1" lang="fr-FR" sz="2400" spc="-1" strike="noStrike" baseline="-25000">
                <a:solidFill>
                  <a:srgbClr val="800000"/>
                </a:solidFill>
                <a:latin typeface="Times New Roman"/>
              </a:rPr>
              <a:t>t</a:t>
            </a:r>
            <a:r>
              <a:rPr b="1" lang="fr-FR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·</a:t>
            </a:r>
            <a:r>
              <a:rPr b="1" lang="fr-FR" sz="2400" spc="-1" strike="noStrike">
                <a:solidFill>
                  <a:srgbClr val="800000"/>
                </a:solidFill>
                <a:latin typeface="Times New Roman"/>
              </a:rPr>
              <a:t> { (P / P</a:t>
            </a:r>
            <a:r>
              <a:rPr b="1" lang="fr-FR" sz="2400" spc="-1" strike="noStrike" baseline="-25000">
                <a:solidFill>
                  <a:srgbClr val="800000"/>
                </a:solidFill>
                <a:latin typeface="Times New Roman"/>
              </a:rPr>
              <a:t>a</a:t>
            </a:r>
            <a:r>
              <a:rPr b="1" lang="fr-FR" sz="2400" spc="-1" strike="noStrike">
                <a:solidFill>
                  <a:srgbClr val="800000"/>
                </a:solidFill>
                <a:latin typeface="Times New Roman"/>
              </a:rPr>
              <a:t>) - 1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V</a:t>
            </a:r>
            <a:r>
              <a:rPr b="1" lang="fr-FR" sz="2400" spc="-1" strike="noStrike" baseline="-30000">
                <a:solidFill>
                  <a:srgbClr val="800000"/>
                </a:solidFill>
                <a:latin typeface="Times New Roman"/>
                <a:ea typeface="Times New Roman"/>
              </a:rPr>
              <a:t>aV  </a:t>
            </a:r>
            <a:r>
              <a:rPr b="1" lang="fr-FR" sz="2400" spc="-1" strike="noStrike">
                <a:solidFill>
                  <a:srgbClr val="800000"/>
                </a:solidFill>
                <a:latin typeface="Times New Roman"/>
              </a:rPr>
              <a:t>= </a:t>
            </a:r>
            <a:r>
              <a:rPr b="1" lang="fr-FR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(Π·0,63² /4 ) · </a:t>
            </a:r>
            <a:r>
              <a:rPr b="1" lang="nl-NL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 </a:t>
            </a:r>
            <a:r>
              <a:rPr b="1" lang="fr-FR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·</a:t>
            </a:r>
            <a:r>
              <a:rPr b="1" lang="nl-NL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{(</a:t>
            </a:r>
            <a:r>
              <a:rPr b="1" lang="fr-FR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6+1)-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V</a:t>
            </a:r>
            <a:r>
              <a:rPr b="1" lang="fr-FR" sz="2400" spc="-1" strike="noStrike" baseline="-30000">
                <a:solidFill>
                  <a:srgbClr val="800000"/>
                </a:solidFill>
                <a:latin typeface="Times New Roman"/>
                <a:ea typeface="Times New Roman"/>
              </a:rPr>
              <a:t>aV  </a:t>
            </a:r>
            <a:r>
              <a:rPr b="1" lang="fr-FR" sz="2400" spc="-1" strike="noStrike">
                <a:solidFill>
                  <a:srgbClr val="800000"/>
                </a:solidFill>
                <a:latin typeface="Symbol"/>
                <a:ea typeface="Symbol"/>
              </a:rPr>
              <a:t></a:t>
            </a:r>
            <a:r>
              <a:rPr b="1" lang="nl-NL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3,7 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52280" y="2438280"/>
            <a:ext cx="43434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00000"/>
                </a:solidFill>
                <a:latin typeface="Times New Roman"/>
              </a:rPr>
              <a:t>Calculons </a:t>
            </a:r>
            <a:r>
              <a:rPr b="1" lang="fr-FR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V</a:t>
            </a:r>
            <a:r>
              <a:rPr b="1" lang="fr-FR" sz="2400" spc="-1" strike="noStrike" baseline="-30000">
                <a:solidFill>
                  <a:srgbClr val="800000"/>
                </a:solidFill>
                <a:latin typeface="Times New Roman"/>
                <a:ea typeface="Times New Roman"/>
              </a:rPr>
              <a:t>aV</a:t>
            </a:r>
            <a:r>
              <a:rPr b="1" lang="fr-FR" sz="2400" spc="-1" strike="noStrike">
                <a:solidFill>
                  <a:srgbClr val="800000"/>
                </a:solidFill>
                <a:latin typeface="Times New Roman"/>
              </a:rPr>
              <a:t> pour C</a:t>
            </a:r>
            <a:r>
              <a:rPr b="1" lang="fr-FR" sz="2400" spc="-1" strike="noStrike" baseline="-25000">
                <a:solidFill>
                  <a:srgbClr val="800000"/>
                </a:solidFill>
                <a:latin typeface="Times New Roman"/>
              </a:rPr>
              <a:t>u</a:t>
            </a:r>
            <a:r>
              <a:rPr b="1" lang="nl-NL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800000"/>
                </a:solidFill>
                <a:latin typeface="Times New Roman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 de l’application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2280" y="1295280"/>
            <a:ext cx="44960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Jusqu’à quelle valeur de C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le résultat reste-t-il affecté de moins de 20% d’erreu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52280" y="26226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8,7 · 0,8</a:t>
            </a:r>
            <a:r>
              <a:rPr b="1" lang="nl-NL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</a:t>
            </a:r>
            <a:r>
              <a:rPr b="1" lang="fr-FR" sz="2400" spc="-1" strike="noStrike">
                <a:solidFill>
                  <a:srgbClr val="800000"/>
                </a:solidFill>
                <a:latin typeface="Symbol"/>
                <a:ea typeface="Symbol"/>
              </a:rPr>
              <a:t></a:t>
            </a:r>
            <a:r>
              <a:rPr b="1" lang="nl-NL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7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52280" y="4343400"/>
            <a:ext cx="8839440" cy="23036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la course utilisée est supérieure à  60% de la course totale, nous négligerons l’incidence de la limitation de cou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en résulte que le plus souvent nous utiliseron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fr-FR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V     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C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(P + 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5486400" y="609480"/>
            <a:ext cx="3276360" cy="3049200"/>
            <a:chOff x="5486400" y="609480"/>
            <a:chExt cx="3276360" cy="3049200"/>
          </a:xfrm>
        </p:grpSpPr>
        <p:sp>
          <p:nvSpPr>
            <p:cNvPr id="418" name=""/>
            <p:cNvSpPr/>
            <p:nvPr/>
          </p:nvSpPr>
          <p:spPr>
            <a:xfrm flipV="1">
              <a:off x="5881680" y="834480"/>
              <a:ext cx="0" cy="254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881680" y="2246760"/>
              <a:ext cx="2259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881680" y="2473200"/>
              <a:ext cx="2259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881680" y="2698920"/>
              <a:ext cx="2259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881680" y="2925000"/>
              <a:ext cx="2259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81680" y="3150360"/>
              <a:ext cx="2259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878440" y="3376080"/>
              <a:ext cx="24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69000" y="3433320"/>
              <a:ext cx="2250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841800" y="3433320"/>
              <a:ext cx="33876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972200" y="3433320"/>
              <a:ext cx="33876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542560" y="3263400"/>
              <a:ext cx="28260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542560" y="2134080"/>
              <a:ext cx="2826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486400" y="609480"/>
              <a:ext cx="175104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Consommation en N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367480" y="2981520"/>
              <a:ext cx="39528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Cu en 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881680" y="1342800"/>
              <a:ext cx="2259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881680" y="1569600"/>
              <a:ext cx="2259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881680" y="1794960"/>
              <a:ext cx="2259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881680" y="2021400"/>
              <a:ext cx="2259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08120" y="1117440"/>
              <a:ext cx="0" cy="2258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33480" y="1117440"/>
              <a:ext cx="0" cy="2258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59920" y="1117440"/>
              <a:ext cx="0" cy="2258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785280" y="1117440"/>
              <a:ext cx="0" cy="2258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012080" y="1117440"/>
              <a:ext cx="0" cy="2258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237440" y="1117440"/>
              <a:ext cx="0" cy="2258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463880" y="1117440"/>
              <a:ext cx="0" cy="2258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89240" y="1117440"/>
              <a:ext cx="0" cy="2258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915680" y="1117440"/>
              <a:ext cx="0" cy="2258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141040" y="1117440"/>
              <a:ext cx="0" cy="2258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881680" y="1117440"/>
              <a:ext cx="2259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2560" y="1004760"/>
              <a:ext cx="2826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 rot="20068200">
            <a:off x="5978880" y="1685160"/>
            <a:ext cx="1923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V</a:t>
            </a:r>
            <a:r>
              <a:rPr b="1" lang="fr-FR" sz="1600" spc="-1" strike="noStrike" baseline="-30000">
                <a:solidFill>
                  <a:srgbClr val="3366ff"/>
                </a:solidFill>
                <a:latin typeface="Times New Roman"/>
                <a:ea typeface="Times New Roman"/>
              </a:rPr>
              <a:t>a</a:t>
            </a:r>
            <a:r>
              <a:rPr b="1" lang="fr-FR" sz="1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v = f (c</a:t>
            </a:r>
            <a:r>
              <a:rPr b="1" lang="fr-FR" sz="1600" spc="-1" strike="noStrike" baseline="-30000">
                <a:solidFill>
                  <a:srgbClr val="3366ff"/>
                </a:solidFill>
                <a:latin typeface="Times New Roman"/>
                <a:ea typeface="Times New Roman"/>
              </a:rPr>
              <a:t>u</a:t>
            </a:r>
            <a:r>
              <a:rPr b="1" lang="fr-FR" sz="1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5881680" y="1388880"/>
            <a:ext cx="2259000" cy="11300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5866920" y="1752480"/>
            <a:ext cx="1447920" cy="1599840"/>
            <a:chOff x="5866920" y="1752480"/>
            <a:chExt cx="1447920" cy="1599840"/>
          </a:xfrm>
        </p:grpSpPr>
        <p:sp>
          <p:nvSpPr>
            <p:cNvPr id="451" name=""/>
            <p:cNvSpPr/>
            <p:nvPr/>
          </p:nvSpPr>
          <p:spPr>
            <a:xfrm flipV="1">
              <a:off x="7314840" y="1752480"/>
              <a:ext cx="0" cy="159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5866920" y="1752480"/>
              <a:ext cx="1447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 rot="5400000">
            <a:off x="5441040" y="1554840"/>
            <a:ext cx="457200" cy="395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CULS DE CONSOMMATION D'AIR COMPR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4582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PREAMBU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 CALCUL DE LA CONSOMMATION D’UN DEPRIMOGENE (Ventu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 CALCUL DE CONSOMMATION D'UN VER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 APPLICATION GENER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1150920" y="914040"/>
            <a:ext cx="2885760" cy="5715360"/>
            <a:chOff x="1150920" y="914040"/>
            <a:chExt cx="2885760" cy="5715360"/>
          </a:xfrm>
        </p:grpSpPr>
        <p:sp>
          <p:nvSpPr>
            <p:cNvPr id="456" name=""/>
            <p:cNvSpPr/>
            <p:nvPr/>
          </p:nvSpPr>
          <p:spPr>
            <a:xfrm>
              <a:off x="1716840" y="1197360"/>
              <a:ext cx="452520" cy="45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576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942920" y="1649880"/>
              <a:ext cx="0" cy="45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42920" y="1876320"/>
              <a:ext cx="11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169720" y="1706400"/>
              <a:ext cx="1584360" cy="28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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âche appelé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716840" y="2102760"/>
              <a:ext cx="452520" cy="452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576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42920" y="2555280"/>
              <a:ext cx="0" cy="45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942920" y="2781720"/>
              <a:ext cx="11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169720" y="2611800"/>
              <a:ext cx="396000" cy="28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339280" y="2102760"/>
              <a:ext cx="565560" cy="452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576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2169360" y="2328840"/>
              <a:ext cx="16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358080" y="1197360"/>
              <a:ext cx="509040" cy="452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52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3,5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339280" y="1197360"/>
              <a:ext cx="7920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576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! Att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358080" y="2102760"/>
              <a:ext cx="509040" cy="452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52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0,8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716840" y="3007800"/>
              <a:ext cx="452520" cy="45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576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942920" y="3460680"/>
              <a:ext cx="0" cy="45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942920" y="3686760"/>
              <a:ext cx="11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169720" y="3517200"/>
              <a:ext cx="396000" cy="28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339280" y="3007800"/>
              <a:ext cx="565560" cy="45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576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2169360" y="3234240"/>
              <a:ext cx="16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358080" y="3007800"/>
              <a:ext cx="509040" cy="452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52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2,4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716840" y="3913200"/>
              <a:ext cx="452520" cy="45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576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942920" y="4366080"/>
              <a:ext cx="0" cy="45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942920" y="4592160"/>
              <a:ext cx="11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169720" y="4422600"/>
              <a:ext cx="396000" cy="28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339280" y="3913200"/>
              <a:ext cx="565560" cy="45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576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2169360" y="4139640"/>
              <a:ext cx="16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358080" y="3913200"/>
              <a:ext cx="509040" cy="452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52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0,7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716840" y="4818600"/>
              <a:ext cx="452520" cy="452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576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942920" y="5271120"/>
              <a:ext cx="0" cy="45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942920" y="5497560"/>
              <a:ext cx="11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169720" y="5328000"/>
              <a:ext cx="396000" cy="28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9280" y="4818600"/>
              <a:ext cx="565560" cy="452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576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2169360" y="5045040"/>
              <a:ext cx="16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358080" y="4818600"/>
              <a:ext cx="509040" cy="452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52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0,6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716840" y="5724000"/>
              <a:ext cx="452520" cy="45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576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942920" y="6176520"/>
              <a:ext cx="0" cy="45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942920" y="6402960"/>
              <a:ext cx="11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169720" y="6233040"/>
              <a:ext cx="1810800" cy="28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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in d’appel tâc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339280" y="5724000"/>
              <a:ext cx="16974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576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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âche terminé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1150920" y="662940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1150920" y="914040"/>
              <a:ext cx="0" cy="571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150920" y="91440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942920" y="914400"/>
              <a:ext cx="0" cy="28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773360" y="1253880"/>
              <a:ext cx="339480" cy="33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4572000" y="0"/>
            <a:ext cx="3868200" cy="6857640"/>
            <a:chOff x="4572000" y="0"/>
            <a:chExt cx="3868200" cy="6857640"/>
          </a:xfrm>
        </p:grpSpPr>
        <p:sp>
          <p:nvSpPr>
            <p:cNvPr id="501" name=""/>
            <p:cNvSpPr/>
            <p:nvPr/>
          </p:nvSpPr>
          <p:spPr>
            <a:xfrm>
              <a:off x="4778280" y="515880"/>
              <a:ext cx="462960" cy="412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778280" y="825480"/>
              <a:ext cx="462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4778280" y="928800"/>
              <a:ext cx="462960" cy="41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778280" y="1031760"/>
              <a:ext cx="462960" cy="204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4778280" y="1031760"/>
              <a:ext cx="462960" cy="204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674960" y="825480"/>
              <a:ext cx="102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4674960" y="619200"/>
              <a:ext cx="102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881240" y="257040"/>
              <a:ext cx="257040" cy="258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881240" y="309600"/>
              <a:ext cx="257040" cy="15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572000" y="773280"/>
              <a:ext cx="102960" cy="1029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16200000">
              <a:off x="4564440" y="573480"/>
              <a:ext cx="103320" cy="88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881240" y="1339920"/>
              <a:ext cx="257040" cy="258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881240" y="1392120"/>
              <a:ext cx="257040" cy="15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67080" y="566640"/>
              <a:ext cx="618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067080" y="566640"/>
              <a:ext cx="0" cy="139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67080" y="1959120"/>
              <a:ext cx="25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429240" y="1959120"/>
              <a:ext cx="25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325920" y="1959120"/>
              <a:ext cx="0" cy="5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429240" y="1959120"/>
              <a:ext cx="0" cy="5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6376680" y="669600"/>
              <a:ext cx="0" cy="170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19640" y="669960"/>
              <a:ext cx="515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6686280" y="566640"/>
              <a:ext cx="0" cy="139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41600" y="825480"/>
              <a:ext cx="36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551200" y="566640"/>
              <a:ext cx="102960" cy="10332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241600" y="619200"/>
              <a:ext cx="82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5603760" y="154080"/>
              <a:ext cx="0" cy="46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603760" y="154080"/>
              <a:ext cx="196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603760" y="825480"/>
              <a:ext cx="0" cy="46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448240" y="1289160"/>
              <a:ext cx="30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397120" y="1495440"/>
              <a:ext cx="102960" cy="103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5448240" y="1288800"/>
              <a:ext cx="0" cy="15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5344920" y="1442520"/>
              <a:ext cx="102960" cy="103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448240" y="1442880"/>
              <a:ext cx="102600" cy="103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448240" y="1598760"/>
              <a:ext cx="0" cy="15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448240" y="1752480"/>
              <a:ext cx="30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757480" y="1289160"/>
              <a:ext cx="0" cy="463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 rot="18900000">
              <a:off x="5788440" y="1365120"/>
              <a:ext cx="311040" cy="31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2700000">
              <a:off x="5415480" y="1366560"/>
              <a:ext cx="311040" cy="30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5603760" y="1442520"/>
              <a:ext cx="360000" cy="15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603760" y="1752480"/>
              <a:ext cx="0" cy="15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603760" y="1908000"/>
              <a:ext cx="462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4778280" y="619200"/>
              <a:ext cx="462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3" name=""/>
            <p:cNvGrpSpPr/>
            <p:nvPr/>
          </p:nvGrpSpPr>
          <p:grpSpPr>
            <a:xfrm>
              <a:off x="6170040" y="360360"/>
              <a:ext cx="361800" cy="205920"/>
              <a:chOff x="6170040" y="360360"/>
              <a:chExt cx="361800" cy="205920"/>
            </a:xfrm>
          </p:grpSpPr>
          <p:sp>
            <p:nvSpPr>
              <p:cNvPr id="544" name=""/>
              <p:cNvSpPr/>
              <p:nvPr/>
            </p:nvSpPr>
            <p:spPr>
              <a:xfrm flipV="1">
                <a:off x="6376680" y="463320"/>
                <a:ext cx="0" cy="102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221880" y="463320"/>
                <a:ext cx="309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 flipV="1">
                <a:off x="6273360" y="360360"/>
                <a:ext cx="51480" cy="102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 flipV="1">
                <a:off x="6376320" y="360360"/>
                <a:ext cx="51480" cy="102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 flipV="1">
                <a:off x="6480000" y="360360"/>
                <a:ext cx="51480" cy="102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 flipV="1">
                <a:off x="6170040" y="360360"/>
                <a:ext cx="51480" cy="102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0" name=""/>
            <p:cNvSpPr/>
            <p:nvPr/>
          </p:nvSpPr>
          <p:spPr>
            <a:xfrm>
              <a:off x="7151400" y="1133640"/>
              <a:ext cx="825120" cy="825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564320" y="154080"/>
              <a:ext cx="0" cy="97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511760" y="1959120"/>
              <a:ext cx="0" cy="25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15080" y="1959120"/>
              <a:ext cx="0" cy="25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461000" y="2217600"/>
              <a:ext cx="205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564320" y="2217600"/>
              <a:ext cx="0" cy="514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511760" y="2268360"/>
              <a:ext cx="0" cy="20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376680" y="2371680"/>
              <a:ext cx="113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461000" y="2525760"/>
              <a:ext cx="205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615080" y="2268360"/>
              <a:ext cx="0" cy="20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92560" y="515880"/>
              <a:ext cx="206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892560" y="1495440"/>
              <a:ext cx="206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81240" y="1595520"/>
              <a:ext cx="2570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81240" y="0"/>
              <a:ext cx="2570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4" name=""/>
            <p:cNvGrpSpPr/>
            <p:nvPr/>
          </p:nvGrpSpPr>
          <p:grpSpPr>
            <a:xfrm>
              <a:off x="7254720" y="3814920"/>
              <a:ext cx="618840" cy="1443960"/>
              <a:chOff x="7254720" y="3814920"/>
              <a:chExt cx="618840" cy="1443960"/>
            </a:xfrm>
          </p:grpSpPr>
          <p:sp>
            <p:nvSpPr>
              <p:cNvPr id="565" name=""/>
              <p:cNvSpPr/>
              <p:nvPr/>
            </p:nvSpPr>
            <p:spPr>
              <a:xfrm>
                <a:off x="7254720" y="4124160"/>
                <a:ext cx="618840" cy="1134720"/>
              </a:xfrm>
              <a:custGeom>
                <a:avLst/>
                <a:gdLst>
                  <a:gd name="textAreaLeft" fmla="*/ 29880 w 618840"/>
                  <a:gd name="textAreaRight" fmla="*/ 588960 w 618840"/>
                  <a:gd name="textAreaTop" fmla="*/ 29880 h 1134720"/>
                  <a:gd name="textAreaBottom" fmla="*/ 1104840 h 1134720"/>
                </a:gdLst>
                <a:ahLst/>
                <a:rect l="textAreaLeft" t="textAreaTop" r="textAreaRight" b="textAreaBottom"/>
                <a:pathLst>
                  <a:path w="21600" h="39596">
                    <a:moveTo>
                      <a:pt x="3600" y="0"/>
                    </a:moveTo>
                    <a:arcTo wR="3600" hR="3600" stAng="16200000" swAng="-5400000"/>
                    <a:lnTo>
                      <a:pt x="0" y="35996"/>
                    </a:lnTo>
                    <a:arcTo wR="3600" hR="3600" stAng="10800000" swAng="-5400000"/>
                    <a:lnTo>
                      <a:pt x="18000" y="395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lac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409160" y="4020840"/>
                <a:ext cx="309240" cy="102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06200" y="3814920"/>
                <a:ext cx="515880" cy="2059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Capsu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7099200" y="2732040"/>
              <a:ext cx="928080" cy="46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ête de serti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995880" y="3197160"/>
              <a:ext cx="1134720" cy="204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6738840" y="463680"/>
              <a:ext cx="153360" cy="412560"/>
              <a:chOff x="6738840" y="463680"/>
              <a:chExt cx="153360" cy="412560"/>
            </a:xfrm>
          </p:grpSpPr>
          <p:sp>
            <p:nvSpPr>
              <p:cNvPr id="571" name=""/>
              <p:cNvSpPr/>
              <p:nvPr/>
            </p:nvSpPr>
            <p:spPr>
              <a:xfrm>
                <a:off x="6738840" y="463680"/>
                <a:ext cx="153360" cy="412560"/>
              </a:xfrm>
              <a:custGeom>
                <a:avLst/>
                <a:gdLst>
                  <a:gd name="textAreaLeft" fmla="*/ 22320 w 153360"/>
                  <a:gd name="textAreaRight" fmla="*/ 131040 w 153360"/>
                  <a:gd name="textAreaTop" fmla="*/ 22320 h 412560"/>
                  <a:gd name="textAreaBottom" fmla="*/ 390240 h 412560"/>
                </a:gdLst>
                <a:ahLst/>
                <a:rect l="textAreaLeft" t="textAreaTop" r="textAreaRight" b="textAreaBottom"/>
                <a:pathLst>
                  <a:path w="21600" h="58022">
                    <a:moveTo>
                      <a:pt x="10800" y="0"/>
                    </a:moveTo>
                    <a:arcTo wR="10800" hR="10800" stAng="16200000" swAng="-5400000"/>
                    <a:lnTo>
                      <a:pt x="0" y="47222"/>
                    </a:lnTo>
                    <a:arcTo wR="10800" hR="10800" stAng="10800000" swAng="-5400000"/>
                    <a:lnTo>
                      <a:pt x="10800" y="5802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789600" y="463680"/>
                <a:ext cx="51120" cy="25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789600" y="618120"/>
                <a:ext cx="51120" cy="25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6738840" y="1442880"/>
              <a:ext cx="153360" cy="412920"/>
              <a:chOff x="6738840" y="1442880"/>
              <a:chExt cx="153360" cy="412920"/>
            </a:xfrm>
          </p:grpSpPr>
          <p:sp>
            <p:nvSpPr>
              <p:cNvPr id="575" name=""/>
              <p:cNvSpPr/>
              <p:nvPr/>
            </p:nvSpPr>
            <p:spPr>
              <a:xfrm>
                <a:off x="6738840" y="1442880"/>
                <a:ext cx="153360" cy="412920"/>
              </a:xfrm>
              <a:custGeom>
                <a:avLst/>
                <a:gdLst>
                  <a:gd name="textAreaLeft" fmla="*/ 22320 w 153360"/>
                  <a:gd name="textAreaRight" fmla="*/ 131040 w 153360"/>
                  <a:gd name="textAreaTop" fmla="*/ 22320 h 412920"/>
                  <a:gd name="textAreaBottom" fmla="*/ 390600 h 412920"/>
                </a:gdLst>
                <a:ahLst/>
                <a:rect l="textAreaLeft" t="textAreaTop" r="textAreaRight" b="textAreaBottom"/>
                <a:pathLst>
                  <a:path w="21600" h="58072">
                    <a:moveTo>
                      <a:pt x="10800" y="0"/>
                    </a:moveTo>
                    <a:arcTo wR="10800" hR="10800" stAng="16200000" swAng="-5400000"/>
                    <a:lnTo>
                      <a:pt x="0" y="47272"/>
                    </a:lnTo>
                    <a:arcTo wR="10800" hR="10800" stAng="10800000" swAng="-5400000"/>
                    <a:lnTo>
                      <a:pt x="10800" y="5807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789600" y="1442880"/>
                <a:ext cx="51120" cy="258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789600" y="1597680"/>
                <a:ext cx="51120" cy="258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8" name=""/>
            <p:cNvSpPr/>
            <p:nvPr/>
          </p:nvSpPr>
          <p:spPr>
            <a:xfrm flipH="1">
              <a:off x="7563960" y="1133640"/>
              <a:ext cx="102600" cy="15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 flipV="1">
              <a:off x="7461000" y="1133640"/>
              <a:ext cx="102960" cy="15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5551200" y="4432320"/>
              <a:ext cx="0" cy="61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551200" y="5051520"/>
              <a:ext cx="123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6791040" y="4792320"/>
              <a:ext cx="0" cy="25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6791040" y="4432320"/>
              <a:ext cx="0" cy="25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791040" y="4794120"/>
              <a:ext cx="5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791040" y="4691160"/>
              <a:ext cx="5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 flipV="1">
              <a:off x="5913000" y="4741920"/>
              <a:ext cx="1031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5913360" y="4484520"/>
              <a:ext cx="0" cy="51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 flipV="1">
              <a:off x="5550840" y="4432320"/>
              <a:ext cx="123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5344920" y="4586400"/>
              <a:ext cx="205920" cy="361800"/>
              <a:chOff x="5344920" y="4586400"/>
              <a:chExt cx="205920" cy="361800"/>
            </a:xfrm>
          </p:grpSpPr>
          <p:sp>
            <p:nvSpPr>
              <p:cNvPr id="590" name=""/>
              <p:cNvSpPr/>
              <p:nvPr/>
            </p:nvSpPr>
            <p:spPr>
              <a:xfrm flipH="1">
                <a:off x="5447880" y="4741200"/>
                <a:ext cx="102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5447880" y="4586400"/>
                <a:ext cx="0" cy="309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5344920" y="4793400"/>
                <a:ext cx="102960" cy="51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5344920" y="4689360"/>
                <a:ext cx="102960" cy="51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5344920" y="4586760"/>
                <a:ext cx="102960" cy="51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5344920" y="4896720"/>
                <a:ext cx="102960" cy="51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6" name=""/>
            <p:cNvSpPr/>
            <p:nvPr/>
          </p:nvSpPr>
          <p:spPr>
            <a:xfrm rot="16200000">
              <a:off x="5730480" y="3838320"/>
              <a:ext cx="36684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6200000">
              <a:off x="6349320" y="3838320"/>
              <a:ext cx="36684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5706720" y="4225680"/>
              <a:ext cx="412560" cy="153720"/>
              <a:chOff x="5706720" y="4225680"/>
              <a:chExt cx="412560" cy="153720"/>
            </a:xfrm>
          </p:grpSpPr>
          <p:sp>
            <p:nvSpPr>
              <p:cNvPr id="599" name=""/>
              <p:cNvSpPr/>
              <p:nvPr/>
            </p:nvSpPr>
            <p:spPr>
              <a:xfrm rot="16200000">
                <a:off x="5835960" y="4096080"/>
                <a:ext cx="153720" cy="412560"/>
              </a:xfrm>
              <a:custGeom>
                <a:avLst/>
                <a:gdLst>
                  <a:gd name="textAreaLeft" fmla="*/ 22320 w 153720"/>
                  <a:gd name="textAreaRight" fmla="*/ 131400 w 153720"/>
                  <a:gd name="textAreaTop" fmla="*/ 22320 h 412560"/>
                  <a:gd name="textAreaBottom" fmla="*/ 390240 h 412560"/>
                </a:gdLst>
                <a:ahLst/>
                <a:rect l="textAreaLeft" t="textAreaTop" r="textAreaRight" b="textAreaBottom"/>
                <a:pathLst>
                  <a:path w="21600" h="57886">
                    <a:moveTo>
                      <a:pt x="10800" y="0"/>
                    </a:moveTo>
                    <a:arcTo wR="10800" hR="10800" stAng="16200000" swAng="-5400000"/>
                    <a:lnTo>
                      <a:pt x="0" y="47086"/>
                    </a:lnTo>
                    <a:arcTo wR="10800" hR="10800" stAng="10800000" swAng="-5400000"/>
                    <a:lnTo>
                      <a:pt x="10800" y="5788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5706720" y="4277160"/>
                <a:ext cx="257760" cy="5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5861160" y="4277160"/>
                <a:ext cx="257760" cy="5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6325920" y="4225680"/>
              <a:ext cx="412560" cy="153720"/>
              <a:chOff x="6325920" y="4225680"/>
              <a:chExt cx="412560" cy="153720"/>
            </a:xfrm>
          </p:grpSpPr>
          <p:sp>
            <p:nvSpPr>
              <p:cNvPr id="603" name=""/>
              <p:cNvSpPr/>
              <p:nvPr/>
            </p:nvSpPr>
            <p:spPr>
              <a:xfrm rot="16200000">
                <a:off x="6455160" y="4096080"/>
                <a:ext cx="153720" cy="412560"/>
              </a:xfrm>
              <a:custGeom>
                <a:avLst/>
                <a:gdLst>
                  <a:gd name="textAreaLeft" fmla="*/ 22320 w 153720"/>
                  <a:gd name="textAreaRight" fmla="*/ 131400 w 153720"/>
                  <a:gd name="textAreaTop" fmla="*/ 22320 h 412560"/>
                  <a:gd name="textAreaBottom" fmla="*/ 390240 h 412560"/>
                </a:gdLst>
                <a:ahLst/>
                <a:rect l="textAreaLeft" t="textAreaTop" r="textAreaRight" b="textAreaBottom"/>
                <a:pathLst>
                  <a:path w="21600" h="57886">
                    <a:moveTo>
                      <a:pt x="10800" y="0"/>
                    </a:moveTo>
                    <a:arcTo wR="10800" hR="10800" stAng="16200000" swAng="-5400000"/>
                    <a:lnTo>
                      <a:pt x="0" y="47086"/>
                    </a:lnTo>
                    <a:arcTo wR="10800" hR="10800" stAng="10800000" swAng="-5400000"/>
                    <a:lnTo>
                      <a:pt x="10800" y="5788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6325920" y="4277160"/>
                <a:ext cx="257760" cy="5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6480360" y="4277160"/>
                <a:ext cx="257760" cy="5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6" name=""/>
            <p:cNvSpPr/>
            <p:nvPr/>
          </p:nvSpPr>
          <p:spPr>
            <a:xfrm>
              <a:off x="5553000" y="4484520"/>
              <a:ext cx="50400" cy="51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5603760" y="4484520"/>
              <a:ext cx="51840" cy="51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655960" y="4484520"/>
              <a:ext cx="102960" cy="51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5759280" y="4484520"/>
              <a:ext cx="50400" cy="51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810040" y="4484520"/>
              <a:ext cx="102960" cy="51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945120" y="4587840"/>
              <a:ext cx="0" cy="309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6738840" y="5052600"/>
              <a:ext cx="0" cy="113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16200000">
              <a:off x="6401160" y="6212880"/>
              <a:ext cx="465120" cy="412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6737040" y="6186600"/>
              <a:ext cx="0" cy="46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 rot="16200000">
              <a:off x="6813360" y="6212880"/>
              <a:ext cx="465120" cy="412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6945120" y="6186600"/>
              <a:ext cx="205920" cy="46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6737040" y="6651720"/>
              <a:ext cx="0" cy="102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530760" y="6651720"/>
              <a:ext cx="0" cy="102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6200000">
              <a:off x="6169320" y="6290280"/>
              <a:ext cx="258840" cy="256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6221160" y="6289200"/>
              <a:ext cx="155160" cy="25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16200000">
              <a:off x="6685920" y="6754320"/>
              <a:ext cx="103320" cy="1029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0800000">
              <a:off x="6479640" y="6767280"/>
              <a:ext cx="102600" cy="88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6200000">
              <a:off x="7252560" y="6289200"/>
              <a:ext cx="258840" cy="258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7305480" y="6289200"/>
              <a:ext cx="153720" cy="25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511760" y="6291360"/>
              <a:ext cx="2584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13360" y="6291360"/>
              <a:ext cx="2566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6532200" y="6599160"/>
              <a:ext cx="0" cy="5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480000" y="6599160"/>
              <a:ext cx="102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7151400" y="6599160"/>
              <a:ext cx="0" cy="5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099200" y="6599160"/>
              <a:ext cx="102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924680" y="4433760"/>
              <a:ext cx="0" cy="20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924680" y="4897440"/>
              <a:ext cx="0" cy="206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922880" y="4537080"/>
              <a:ext cx="102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922880" y="5000760"/>
              <a:ext cx="102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5" name=""/>
            <p:cNvGrpSpPr/>
            <p:nvPr/>
          </p:nvGrpSpPr>
          <p:grpSpPr>
            <a:xfrm>
              <a:off x="8026200" y="4380840"/>
              <a:ext cx="102960" cy="775440"/>
              <a:chOff x="8026200" y="4380840"/>
              <a:chExt cx="102960" cy="775440"/>
            </a:xfrm>
          </p:grpSpPr>
          <p:sp>
            <p:nvSpPr>
              <p:cNvPr id="636" name=""/>
              <p:cNvSpPr/>
              <p:nvPr/>
            </p:nvSpPr>
            <p:spPr>
              <a:xfrm flipV="1">
                <a:off x="8026920" y="4382280"/>
                <a:ext cx="0" cy="77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026200" y="4587120"/>
                <a:ext cx="102960" cy="51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026200" y="4483800"/>
                <a:ext cx="102960" cy="51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026200" y="4380840"/>
                <a:ext cx="102960" cy="51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8026200" y="4690440"/>
                <a:ext cx="102960" cy="51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026200" y="5000040"/>
                <a:ext cx="102960" cy="51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026200" y="4896720"/>
                <a:ext cx="102960" cy="51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026200" y="4793400"/>
                <a:ext cx="102960" cy="51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026200" y="5103000"/>
                <a:ext cx="102960" cy="51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5" name=""/>
            <p:cNvSpPr/>
            <p:nvPr/>
          </p:nvSpPr>
          <p:spPr>
            <a:xfrm>
              <a:off x="7099200" y="5310360"/>
              <a:ext cx="877320" cy="515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Ban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ransporteu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945120" y="5568840"/>
              <a:ext cx="11854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48440" y="5259240"/>
              <a:ext cx="978840" cy="51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048440" y="5826240"/>
              <a:ext cx="978840" cy="5076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6200000">
              <a:off x="7942680" y="4607640"/>
              <a:ext cx="68580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-54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uté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aque du mo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2286000" y="152280"/>
            <a:ext cx="5486400" cy="6172200"/>
            <a:chOff x="2286000" y="152280"/>
            <a:chExt cx="5486400" cy="6172200"/>
          </a:xfrm>
        </p:grpSpPr>
        <p:sp>
          <p:nvSpPr>
            <p:cNvPr id="652" name=""/>
            <p:cNvSpPr/>
            <p:nvPr/>
          </p:nvSpPr>
          <p:spPr>
            <a:xfrm flipV="1">
              <a:off x="3233880" y="1488960"/>
              <a:ext cx="4680" cy="392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641760" y="1892160"/>
              <a:ext cx="0" cy="3525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044960" y="1892160"/>
              <a:ext cx="0" cy="3525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448160" y="1892160"/>
              <a:ext cx="0" cy="3525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851360" y="1892160"/>
              <a:ext cx="0" cy="3525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254560" y="1892160"/>
              <a:ext cx="0" cy="3525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656320" y="1892160"/>
              <a:ext cx="0" cy="3525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059520" y="1892160"/>
              <a:ext cx="0" cy="3525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462720" y="1892160"/>
              <a:ext cx="0" cy="3525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865920" y="1892160"/>
              <a:ext cx="0" cy="3525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269120" y="1892160"/>
              <a:ext cx="0" cy="3525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238560" y="1892160"/>
              <a:ext cx="4030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238560" y="2395440"/>
              <a:ext cx="4030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238560" y="2900520"/>
              <a:ext cx="4030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238560" y="3403440"/>
              <a:ext cx="4030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238560" y="3906720"/>
              <a:ext cx="4030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238560" y="4410000"/>
              <a:ext cx="4030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238560" y="4915080"/>
              <a:ext cx="4030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233880" y="5418000"/>
              <a:ext cx="443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036960" y="5518080"/>
              <a:ext cx="40320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843360" y="5518080"/>
              <a:ext cx="40320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649760" y="5518080"/>
              <a:ext cx="40320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454720" y="5518080"/>
              <a:ext cx="40320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61120" y="5518080"/>
              <a:ext cx="40320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067520" y="5518080"/>
              <a:ext cx="40320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735280" y="5216400"/>
              <a:ext cx="50328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735280" y="4210200"/>
              <a:ext cx="50328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735280" y="3201840"/>
              <a:ext cx="50328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735280" y="2195640"/>
              <a:ext cx="50328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286000" y="152280"/>
              <a:ext cx="18730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-54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Consommation pneumatique du moteur de sertissage en Nl/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836800" y="5821200"/>
              <a:ext cx="49356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ession d’alimentation en ba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238560" y="2195640"/>
              <a:ext cx="4030560" cy="2114280"/>
            </a:xfrm>
            <a:custGeom>
              <a:avLst/>
              <a:gdLst/>
              <a:ahLst/>
              <a:rect l="l" t="t" r="r" b="b"/>
              <a:pathLst>
                <a:path w="2280" h="1197">
                  <a:moveTo>
                    <a:pt x="0" y="1197"/>
                  </a:moveTo>
                  <a:cubicBezTo>
                    <a:pt x="266" y="898"/>
                    <a:pt x="532" y="599"/>
                    <a:pt x="912" y="399"/>
                  </a:cubicBezTo>
                  <a:cubicBezTo>
                    <a:pt x="1292" y="199"/>
                    <a:pt x="1786" y="99"/>
                    <a:pt x="2280" y="0"/>
                  </a:cubicBez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N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5" name=""/>
          <p:cNvGraphicFramePr/>
          <p:nvPr/>
        </p:nvGraphicFramePr>
        <p:xfrm>
          <a:off x="3747960" y="2527200"/>
          <a:ext cx="1646280" cy="18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7960" y="2527200"/>
                    <a:ext cx="1646280" cy="18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3276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0" y="4695840"/>
            <a:ext cx="9144000" cy="21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M/C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lang="fr-FR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M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tfpc</a:t>
            </a:r>
            <a:r>
              <a:rPr b="1" lang="fr-FR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2,5 . 2,4 = 6 Nl/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S/C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C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(P/P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)  = 2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·0,4²/4)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0,8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(5+1) =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 Nl/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B/C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as 2 car vérin simple effet)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C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(P/P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nl-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·0,63²/4)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0,5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(5+1) =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9 Nl/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T/C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6 + 1,2 + 0,9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l/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T/C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8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8  ·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3600 / 1000 =   3,6 Nm</a:t>
            </a:r>
            <a:r>
              <a:rPr b="1" lang="fr-FR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/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4495680" y="380880"/>
            <a:ext cx="4267080" cy="4343400"/>
            <a:chOff x="4495680" y="380880"/>
            <a:chExt cx="4267080" cy="4343400"/>
          </a:xfrm>
        </p:grpSpPr>
        <p:grpSp>
          <p:nvGrpSpPr>
            <p:cNvPr id="690" name=""/>
            <p:cNvGrpSpPr/>
            <p:nvPr/>
          </p:nvGrpSpPr>
          <p:grpSpPr>
            <a:xfrm>
              <a:off x="4495680" y="380880"/>
              <a:ext cx="4267080" cy="4343400"/>
              <a:chOff x="4495680" y="380880"/>
              <a:chExt cx="4267080" cy="4343400"/>
            </a:xfrm>
          </p:grpSpPr>
          <p:sp>
            <p:nvSpPr>
              <p:cNvPr id="691" name=""/>
              <p:cNvSpPr/>
              <p:nvPr/>
            </p:nvSpPr>
            <p:spPr>
              <a:xfrm flipV="1">
                <a:off x="5009760" y="723240"/>
                <a:ext cx="3240" cy="3251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346360" y="1058760"/>
                <a:ext cx="0" cy="2916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679720" y="1058760"/>
                <a:ext cx="0" cy="2916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013080" y="1058760"/>
                <a:ext cx="0" cy="2916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346440" y="1058760"/>
                <a:ext cx="0" cy="2916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679800" y="1058760"/>
                <a:ext cx="0" cy="2916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013160" y="1058760"/>
                <a:ext cx="0" cy="2916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346880" y="1058760"/>
                <a:ext cx="0" cy="2916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680240" y="1058760"/>
                <a:ext cx="0" cy="2916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013600" y="1058760"/>
                <a:ext cx="0" cy="2916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8346960" y="1058760"/>
                <a:ext cx="0" cy="2916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013000" y="1058760"/>
                <a:ext cx="33339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013000" y="1474560"/>
                <a:ext cx="33339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013000" y="1892160"/>
                <a:ext cx="33339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013000" y="2307960"/>
                <a:ext cx="33339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013000" y="2723760"/>
                <a:ext cx="33339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013000" y="3139920"/>
                <a:ext cx="33339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013000" y="3557520"/>
                <a:ext cx="33339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009760" y="3974760"/>
                <a:ext cx="3665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846320" y="4057560"/>
                <a:ext cx="333360" cy="33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513040" y="4057560"/>
                <a:ext cx="333360" cy="33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179760" y="4057560"/>
                <a:ext cx="333360" cy="33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846480" y="4057560"/>
                <a:ext cx="333720" cy="33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513560" y="4057560"/>
                <a:ext cx="333360" cy="33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180280" y="4057560"/>
                <a:ext cx="333360" cy="33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597200" y="3808080"/>
                <a:ext cx="415800" cy="33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4597200" y="2974680"/>
                <a:ext cx="415800" cy="33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597200" y="2141280"/>
                <a:ext cx="415800" cy="33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4597200" y="1309320"/>
                <a:ext cx="415800" cy="33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4495680" y="380880"/>
                <a:ext cx="407988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rot="-54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Times New Roman"/>
                  </a:rPr>
                  <a:t>Consommation pneumatique du moteur de sertissage en Nl/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681440" y="4308120"/>
                <a:ext cx="4081320" cy="41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Pression d’alimentation en bar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013000" y="1309320"/>
                <a:ext cx="3333960" cy="1747800"/>
              </a:xfrm>
              <a:custGeom>
                <a:avLst/>
                <a:gdLst/>
                <a:ahLst/>
                <a:rect l="l" t="t" r="r" b="b"/>
                <a:pathLst>
                  <a:path w="2280" h="1197">
                    <a:moveTo>
                      <a:pt x="0" y="1197"/>
                    </a:moveTo>
                    <a:cubicBezTo>
                      <a:pt x="266" y="898"/>
                      <a:pt x="532" y="599"/>
                      <a:pt x="912" y="399"/>
                    </a:cubicBezTo>
                    <a:cubicBezTo>
                      <a:pt x="1292" y="199"/>
                      <a:pt x="1786" y="99"/>
                      <a:pt x="2280" y="0"/>
                    </a:cubicBezTo>
                  </a:path>
                </a:pathLst>
              </a:custGeom>
              <a:noFill/>
              <a:ln w="3816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5028840" y="1904400"/>
              <a:ext cx="1295280" cy="2056680"/>
              <a:chOff x="5028840" y="1904400"/>
              <a:chExt cx="1295280" cy="2056680"/>
            </a:xfrm>
          </p:grpSpPr>
          <p:sp>
            <p:nvSpPr>
              <p:cNvPr id="724" name=""/>
              <p:cNvSpPr/>
              <p:nvPr/>
            </p:nvSpPr>
            <p:spPr>
              <a:xfrm flipV="1">
                <a:off x="6324120" y="1904400"/>
                <a:ext cx="0" cy="2056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>
                <a:off x="5028840" y="1904760"/>
                <a:ext cx="1294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f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2362320"/>
            <a:ext cx="830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quoi calculer la consommation d’air comprimé d’un système automatisé 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c quelle précision 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PREAMBU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02384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L BALLON CONTIENT LA PLUS GRANDE QUANTITE DE GAZ 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14200" y="1633680"/>
            <a:ext cx="8701200" cy="4614480"/>
            <a:chOff x="214200" y="1633680"/>
            <a:chExt cx="8701200" cy="4614480"/>
          </a:xfrm>
        </p:grpSpPr>
        <p:sp>
          <p:nvSpPr>
            <p:cNvPr id="50" name=""/>
            <p:cNvSpPr/>
            <p:nvPr/>
          </p:nvSpPr>
          <p:spPr>
            <a:xfrm flipH="1" flipV="1">
              <a:off x="4200480" y="4513320"/>
              <a:ext cx="239760" cy="3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4440240" y="4513320"/>
              <a:ext cx="239760" cy="3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4440240" y="4908240"/>
              <a:ext cx="0" cy="70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09680" y="3330720"/>
              <a:ext cx="1116000" cy="1104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 ba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66960" y="4435560"/>
              <a:ext cx="0" cy="63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554440" y="4896000"/>
              <a:ext cx="1119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09680" y="4435560"/>
              <a:ext cx="11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766960" y="4670280"/>
              <a:ext cx="3346560" cy="47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113520" y="4908600"/>
              <a:ext cx="0" cy="63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66960" y="5065560"/>
              <a:ext cx="3346560" cy="47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4439880" y="4513320"/>
              <a:ext cx="81000" cy="3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2130480" y="5617440"/>
              <a:ext cx="4619520" cy="630360"/>
            </a:xfrm>
            <a:custGeom>
              <a:avLst/>
              <a:gdLst>
                <a:gd name="textAreaLeft" fmla="*/ 543960 w 4619520"/>
                <a:gd name="textAreaRight" fmla="*/ 4075560 w 4619520"/>
                <a:gd name="textAreaTop" fmla="*/ 74160 h 630360"/>
                <a:gd name="textAreaBottom" fmla="*/ 556200 h 63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70" y="21600"/>
                  </a:lnTo>
                  <a:lnTo>
                    <a:pt x="1430" y="21600"/>
                  </a:lnTo>
                  <a:close/>
                </a:path>
              </a:pathLst>
            </a:cu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687400" y="4592520"/>
              <a:ext cx="158760" cy="158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87400" y="4986360"/>
              <a:ext cx="158760" cy="157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359240" y="4829040"/>
              <a:ext cx="162000" cy="157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359240" y="5224320"/>
              <a:ext cx="162000" cy="157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33960" y="5065560"/>
              <a:ext cx="158760" cy="158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33960" y="5459400"/>
              <a:ext cx="158760" cy="158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rot="2700000">
              <a:off x="4121640" y="4423320"/>
              <a:ext cx="640800" cy="62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440240" y="4435560"/>
              <a:ext cx="0" cy="7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77080" y="3462480"/>
              <a:ext cx="2291400" cy="226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631" y="2722"/>
                  </a:moveTo>
                  <a:arcTo wR="10800" hR="10800" stAng="-7895217" swAng="4982195"/>
                  <a:lnTo>
                    <a:pt x="10800" y="10800"/>
                  </a:lnTo>
                  <a:close/>
                </a:path>
                <a:path fill="none" w="21600" h="21600">
                  <a:moveTo>
                    <a:pt x="3631" y="2722"/>
                  </a:moveTo>
                  <a:arcTo wR="10800" hR="10800" stAng="-7895217" swAng="4982195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29000" y="2857680"/>
              <a:ext cx="274680" cy="5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6673680" y="4657680"/>
              <a:ext cx="158760" cy="23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flipV="1">
              <a:off x="5401800" y="4657680"/>
              <a:ext cx="158760" cy="23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3335400" y="4179600"/>
              <a:ext cx="158400" cy="23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2061720" y="4179600"/>
              <a:ext cx="160200" cy="23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09880" y="1633680"/>
              <a:ext cx="4205520" cy="1114200"/>
            </a:xfrm>
            <a:prstGeom prst="wedgeRoundRectCallout">
              <a:avLst>
                <a:gd name="adj1" fmla="val -15912"/>
                <a:gd name="adj2" fmla="val 99287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écipient C 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 volume 5 lit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 pression 2 bars manométriq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4200" y="1633680"/>
              <a:ext cx="4114800" cy="1114200"/>
            </a:xfrm>
            <a:prstGeom prst="wedgeRoundRectCallout">
              <a:avLst>
                <a:gd name="adj1" fmla="val 16587"/>
                <a:gd name="adj2" fmla="val 103277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écipient B 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 volume 2 lit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 pression 6 bars manométriq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322600" y="3305160"/>
              <a:ext cx="1589400" cy="15908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 ba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LLE PROPRIETE UTILISER POUR CARACTERISER LA QUANTITE DE GAZ  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ggestions 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33720" y="152388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ressibilit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as de lien direct entre volume et quantit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0481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ds du conten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27800" y="37339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ssée d’Archimè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523880"/>
            <a:ext cx="1371600" cy="39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m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80880" y="3063960"/>
            <a:ext cx="5069520" cy="910800"/>
            <a:chOff x="380880" y="3063960"/>
            <a:chExt cx="5069520" cy="910800"/>
          </a:xfrm>
        </p:grpSpPr>
        <p:sp>
          <p:nvSpPr>
            <p:cNvPr id="86" name=""/>
            <p:cNvSpPr/>
            <p:nvPr/>
          </p:nvSpPr>
          <p:spPr>
            <a:xfrm>
              <a:off x="380880" y="3292200"/>
              <a:ext cx="1371600" cy="3988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sse 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" name="bd05015_" descr=""/>
            <p:cNvPicPr/>
            <p:nvPr/>
          </p:nvPicPr>
          <p:blipFill>
            <a:blip r:embed="rId1"/>
            <a:stretch/>
          </p:blipFill>
          <p:spPr>
            <a:xfrm>
              <a:off x="2535120" y="3063960"/>
              <a:ext cx="76212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 rot="925800">
              <a:off x="4308120" y="3678120"/>
              <a:ext cx="1143000" cy="147240"/>
            </a:xfrm>
            <a:prstGeom prst="rightArrow">
              <a:avLst>
                <a:gd name="adj1" fmla="val 50000"/>
                <a:gd name="adj2" fmla="val 194071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 rot="20674200">
              <a:off x="4266720" y="3367800"/>
              <a:ext cx="1143000" cy="147240"/>
            </a:xfrm>
            <a:prstGeom prst="rightArrow">
              <a:avLst>
                <a:gd name="adj1" fmla="val 50000"/>
                <a:gd name="adj2" fmla="val 194071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80880" y="5029200"/>
            <a:ext cx="2743200" cy="39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mbre de molécule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04920" y="1371600"/>
            <a:ext cx="1447560" cy="609480"/>
            <a:chOff x="304920" y="1371600"/>
            <a:chExt cx="1447560" cy="609480"/>
          </a:xfrm>
        </p:grpSpPr>
        <p:sp>
          <p:nvSpPr>
            <p:cNvPr id="92" name=""/>
            <p:cNvSpPr/>
            <p:nvPr/>
          </p:nvSpPr>
          <p:spPr>
            <a:xfrm flipV="1">
              <a:off x="304920" y="1447560"/>
              <a:ext cx="1447560" cy="533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3520" y="1371600"/>
              <a:ext cx="990360" cy="6094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04920" y="3139920"/>
            <a:ext cx="1447560" cy="609480"/>
            <a:chOff x="304920" y="3139920"/>
            <a:chExt cx="1447560" cy="609480"/>
          </a:xfrm>
        </p:grpSpPr>
        <p:sp>
          <p:nvSpPr>
            <p:cNvPr id="95" name=""/>
            <p:cNvSpPr/>
            <p:nvPr/>
          </p:nvSpPr>
          <p:spPr>
            <a:xfrm flipV="1">
              <a:off x="304920" y="3215880"/>
              <a:ext cx="1447560" cy="533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33520" y="3139920"/>
              <a:ext cx="990360" cy="6094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914400" y="4876920"/>
            <a:ext cx="1447560" cy="609480"/>
            <a:chOff x="914400" y="4876920"/>
            <a:chExt cx="1447560" cy="609480"/>
          </a:xfrm>
        </p:grpSpPr>
        <p:sp>
          <p:nvSpPr>
            <p:cNvPr id="98" name=""/>
            <p:cNvSpPr/>
            <p:nvPr/>
          </p:nvSpPr>
          <p:spPr>
            <a:xfrm flipV="1">
              <a:off x="914400" y="4952880"/>
              <a:ext cx="1447560" cy="533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43000" y="4876920"/>
              <a:ext cx="990360" cy="6094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0" y="6485040"/>
            <a:ext cx="91440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ement, le volume, c’était pas si bête  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ée 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32767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és 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u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tres Nl ou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u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ètres cubes N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olume à la pressio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57200" y="4648320"/>
            <a:ext cx="8229600" cy="1191240"/>
            <a:chOff x="457200" y="4648320"/>
            <a:chExt cx="8229600" cy="1191240"/>
          </a:xfrm>
        </p:grpSpPr>
        <p:grpSp>
          <p:nvGrpSpPr>
            <p:cNvPr id="104" name=""/>
            <p:cNvGrpSpPr/>
            <p:nvPr/>
          </p:nvGrpSpPr>
          <p:grpSpPr>
            <a:xfrm>
              <a:off x="457200" y="4876920"/>
              <a:ext cx="609480" cy="642600"/>
              <a:chOff x="457200" y="4876920"/>
              <a:chExt cx="609480" cy="642600"/>
            </a:xfrm>
          </p:grpSpPr>
          <p:sp>
            <p:nvSpPr>
              <p:cNvPr id="105" name=""/>
              <p:cNvSpPr/>
              <p:nvPr/>
            </p:nvSpPr>
            <p:spPr>
              <a:xfrm>
                <a:off x="457200" y="4908600"/>
                <a:ext cx="609480" cy="527040"/>
              </a:xfrm>
              <a:prstGeom prst="triangle">
                <a:avLst>
                  <a:gd name="adj" fmla="val 50000"/>
                </a:avLst>
              </a:prstGeom>
              <a:solidFill>
                <a:srgbClr val="ffff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09480" y="4876920"/>
                <a:ext cx="381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0000"/>
                    </a:solidFill>
                    <a:latin typeface="Times New Roman"/>
                  </a:rPr>
                  <a:t>!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1523880" y="4648320"/>
              <a:ext cx="7162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Atten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: pour les compresseurs, on parle de mètre cube aspiré par heure et ça n’est pas forcément équivalent au Nm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04920" y="1371600"/>
            <a:ext cx="8534160" cy="1405080"/>
            <a:chOff x="304920" y="1371600"/>
            <a:chExt cx="8534160" cy="1405080"/>
          </a:xfrm>
        </p:grpSpPr>
        <p:sp>
          <p:nvSpPr>
            <p:cNvPr id="109" name=""/>
            <p:cNvSpPr/>
            <p:nvPr/>
          </p:nvSpPr>
          <p:spPr>
            <a:xfrm>
              <a:off x="1676520" y="1447920"/>
              <a:ext cx="7162560" cy="13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olume atmosphérique V</a:t>
              </a:r>
              <a:r>
                <a:rPr b="1" lang="en-US" sz="28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a 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olume que ce gaz occuperait s’il était ramené à la pression atmosphériqu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" name="bd04924_" descr=""/>
            <p:cNvPicPr/>
            <p:nvPr/>
          </p:nvPicPr>
          <p:blipFill>
            <a:blip r:embed="rId1"/>
            <a:stretch/>
          </p:blipFill>
          <p:spPr>
            <a:xfrm>
              <a:off x="304920" y="1371600"/>
              <a:ext cx="981000" cy="13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"/>
          <p:cNvSpPr/>
          <p:nvPr/>
        </p:nvSpPr>
        <p:spPr>
          <a:xfrm>
            <a:off x="0" y="6485040"/>
            <a:ext cx="91440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ENT CALCULER LE VOLUME QU’OCCUPERAIT LE GAZ A Pa 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éorie 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752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loi de Boyle-Mariotte nous permet d'écrire qu'à température constante, pour une quantité de gaz donnée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 = 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85800" y="2971800"/>
            <a:ext cx="7695720" cy="642600"/>
            <a:chOff x="685800" y="2971800"/>
            <a:chExt cx="7695720" cy="642600"/>
          </a:xfrm>
        </p:grpSpPr>
        <p:sp>
          <p:nvSpPr>
            <p:cNvPr id="115" name=""/>
            <p:cNvSpPr/>
            <p:nvPr/>
          </p:nvSpPr>
          <p:spPr>
            <a:xfrm>
              <a:off x="1523880" y="3124080"/>
              <a:ext cx="685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Atten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: cette relation utilise la pression absol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685800" y="2971800"/>
              <a:ext cx="609480" cy="642600"/>
              <a:chOff x="685800" y="2971800"/>
              <a:chExt cx="609480" cy="642600"/>
            </a:xfrm>
          </p:grpSpPr>
          <p:sp>
            <p:nvSpPr>
              <p:cNvPr id="117" name=""/>
              <p:cNvSpPr/>
              <p:nvPr/>
            </p:nvSpPr>
            <p:spPr>
              <a:xfrm>
                <a:off x="685800" y="3003480"/>
                <a:ext cx="609480" cy="527040"/>
              </a:xfrm>
              <a:prstGeom prst="triangle">
                <a:avLst>
                  <a:gd name="adj" fmla="val 50000"/>
                </a:avLst>
              </a:prstGeom>
              <a:solidFill>
                <a:srgbClr val="ffff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38080" y="2971800"/>
                <a:ext cx="381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0000"/>
                    </a:solidFill>
                    <a:latin typeface="Times New Roman"/>
                  </a:rPr>
                  <a:t>!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19" name="pe01753_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749160" cy="97308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0" y="3962520"/>
            <a:ext cx="9144000" cy="2361600"/>
            <a:chOff x="0" y="3962520"/>
            <a:chExt cx="9144000" cy="2361600"/>
          </a:xfrm>
        </p:grpSpPr>
        <p:sp>
          <p:nvSpPr>
            <p:cNvPr id="121" name=""/>
            <p:cNvSpPr/>
            <p:nvPr/>
          </p:nvSpPr>
          <p:spPr>
            <a:xfrm>
              <a:off x="0" y="3962520"/>
              <a:ext cx="9144000" cy="173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l en découle :   P</a:t>
              </a:r>
              <a:r>
                <a:rPr b="1" lang="en-US" sz="32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a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· V</a:t>
              </a:r>
              <a:r>
                <a:rPr b="1" lang="en-US" sz="32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P · V   d’où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</a:t>
              </a:r>
              <a:r>
                <a:rPr b="1" lang="en-US" sz="32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=    V  ·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4038480" y="4648320"/>
              <a:ext cx="3962520" cy="1675800"/>
              <a:chOff x="4038480" y="4648320"/>
              <a:chExt cx="3962520" cy="1675800"/>
            </a:xfrm>
          </p:grpSpPr>
          <p:sp>
            <p:nvSpPr>
              <p:cNvPr id="123" name=""/>
              <p:cNvSpPr/>
              <p:nvPr/>
            </p:nvSpPr>
            <p:spPr>
              <a:xfrm>
                <a:off x="4038480" y="4648320"/>
                <a:ext cx="762120" cy="1218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4114800" y="4724280"/>
                <a:ext cx="685800" cy="1105560"/>
                <a:chOff x="4114800" y="4724280"/>
                <a:chExt cx="685800" cy="11055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4191120" y="4724280"/>
                  <a:ext cx="6094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4191120" y="5181120"/>
                  <a:ext cx="60948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r>
                    <a:rPr b="1" lang="en-US" sz="3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4114800" y="5257440"/>
                  <a:ext cx="609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" name=""/>
              <p:cNvSpPr/>
              <p:nvPr/>
            </p:nvSpPr>
            <p:spPr>
              <a:xfrm>
                <a:off x="5867280" y="5257800"/>
                <a:ext cx="2133720" cy="1066320"/>
              </a:xfrm>
              <a:prstGeom prst="wedgeRectCallout">
                <a:avLst>
                  <a:gd name="adj1" fmla="val -99180"/>
                  <a:gd name="adj2" fmla="val -43898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Pressions absolue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mple 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048120" y="457200"/>
            <a:ext cx="3886200" cy="3233880"/>
            <a:chOff x="3048120" y="457200"/>
            <a:chExt cx="3886200" cy="3233880"/>
          </a:xfrm>
        </p:grpSpPr>
        <p:sp>
          <p:nvSpPr>
            <p:cNvPr id="131" name=""/>
            <p:cNvSpPr/>
            <p:nvPr/>
          </p:nvSpPr>
          <p:spPr>
            <a:xfrm flipH="1" flipV="1">
              <a:off x="4763880" y="2388960"/>
              <a:ext cx="179640" cy="29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943880" y="2388960"/>
              <a:ext cx="179280" cy="29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4943880" y="2685960"/>
              <a:ext cx="0" cy="53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70600" y="1501920"/>
              <a:ext cx="836640" cy="8287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87840" y="2330640"/>
              <a:ext cx="0" cy="47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80160" y="2676600"/>
              <a:ext cx="839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70600" y="2330640"/>
              <a:ext cx="836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87840" y="2506680"/>
              <a:ext cx="2511720" cy="35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199560" y="2686320"/>
              <a:ext cx="0" cy="47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687840" y="2803680"/>
              <a:ext cx="2511720" cy="35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4943520" y="2389320"/>
              <a:ext cx="60120" cy="29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211920" y="3218040"/>
              <a:ext cx="3465360" cy="473040"/>
            </a:xfrm>
            <a:custGeom>
              <a:avLst/>
              <a:gdLst>
                <a:gd name="textAreaLeft" fmla="*/ 408240 w 3465360"/>
                <a:gd name="textAreaRight" fmla="*/ 3057120 w 3465360"/>
                <a:gd name="textAreaTop" fmla="*/ 55440 h 473040"/>
                <a:gd name="textAreaBottom" fmla="*/ 417600 h 47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70" y="21600"/>
                  </a:lnTo>
                  <a:lnTo>
                    <a:pt x="1430" y="21600"/>
                  </a:lnTo>
                  <a:close/>
                </a:path>
              </a:pathLst>
            </a:cu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29160" y="2448000"/>
              <a:ext cx="119160" cy="120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29160" y="2745000"/>
              <a:ext cx="119160" cy="117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83400" y="2625840"/>
              <a:ext cx="120600" cy="119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83400" y="2922840"/>
              <a:ext cx="120600" cy="117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39080" y="28036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139080" y="30988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rot="2700000">
              <a:off x="4704120" y="2322720"/>
              <a:ext cx="48276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43880" y="2330640"/>
              <a:ext cx="0" cy="5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70880" y="1600200"/>
              <a:ext cx="1719000" cy="169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631" y="2722"/>
                  </a:moveTo>
                  <a:arcTo wR="10800" hR="10800" stAng="-7895217" swAng="4982195"/>
                  <a:lnTo>
                    <a:pt x="10800" y="10800"/>
                  </a:lnTo>
                  <a:close/>
                </a:path>
                <a:path fill="none" w="21600" h="21600">
                  <a:moveTo>
                    <a:pt x="3631" y="2722"/>
                  </a:moveTo>
                  <a:arcTo wR="10800" hR="10800" stAng="-7895217" swAng="4982195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61080" y="1146240"/>
              <a:ext cx="2048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6620040" y="2497320"/>
              <a:ext cx="11916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5665680" y="2497320"/>
              <a:ext cx="11916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115160" y="2138040"/>
              <a:ext cx="11880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3159000" y="2138040"/>
              <a:ext cx="12060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50080" y="457200"/>
              <a:ext cx="1884240" cy="608040"/>
            </a:xfrm>
            <a:prstGeom prst="wedgeRoundRectCallout">
              <a:avLst>
                <a:gd name="adj1" fmla="val 13689"/>
                <a:gd name="adj2" fmla="val 115796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 volume 5 lit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 2 bars relatif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48120" y="457200"/>
              <a:ext cx="1716120" cy="608040"/>
            </a:xfrm>
            <a:prstGeom prst="wedgeRoundRectCallout">
              <a:avLst>
                <a:gd name="adj1" fmla="val -15865"/>
                <a:gd name="adj2" fmla="val 117361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 volume 2 lit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 6 bars relatif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05560" y="1482840"/>
              <a:ext cx="1192320" cy="11937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76320" y="4419720"/>
            <a:ext cx="114300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441972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P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P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2 · ( 6 + 1 ) / 1    =   14 N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320" y="5500800"/>
            <a:ext cx="114300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fr-FR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550080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P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P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5 · ( 2 + 1 ) / 1    =   15 N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 CALCUL DE LA CONSOMM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D’UN DEPRIMOGE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52280" y="1430280"/>
            <a:ext cx="5105520" cy="3446640"/>
            <a:chOff x="152280" y="1430280"/>
            <a:chExt cx="5105520" cy="3446640"/>
          </a:xfrm>
        </p:grpSpPr>
        <p:sp>
          <p:nvSpPr>
            <p:cNvPr id="166" name=""/>
            <p:cNvSpPr/>
            <p:nvPr/>
          </p:nvSpPr>
          <p:spPr>
            <a:xfrm flipV="1">
              <a:off x="914400" y="2005200"/>
              <a:ext cx="2880" cy="248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172880" y="2260800"/>
              <a:ext cx="0" cy="223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428480" y="2260800"/>
              <a:ext cx="0" cy="223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84080" y="2260800"/>
              <a:ext cx="0" cy="223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39680" y="2260800"/>
              <a:ext cx="0" cy="223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193840" y="2260800"/>
              <a:ext cx="0" cy="223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49440" y="2260800"/>
              <a:ext cx="0" cy="223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705040" y="2260800"/>
              <a:ext cx="0" cy="223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60640" y="2260800"/>
              <a:ext cx="0" cy="223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16240" y="2260800"/>
              <a:ext cx="0" cy="223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70040" y="2260800"/>
              <a:ext cx="0" cy="223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17280" y="2260800"/>
              <a:ext cx="2552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17280" y="2579760"/>
              <a:ext cx="2552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17280" y="2898720"/>
              <a:ext cx="2552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17280" y="3218040"/>
              <a:ext cx="2552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17280" y="3537000"/>
              <a:ext cx="2552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17280" y="3856320"/>
              <a:ext cx="2552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17280" y="4175280"/>
              <a:ext cx="2552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14400" y="4494240"/>
              <a:ext cx="28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917280" y="3919680"/>
              <a:ext cx="2552760" cy="511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917280" y="2450880"/>
              <a:ext cx="2552760" cy="1276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0560" y="4557960"/>
              <a:ext cx="2556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01760" y="4557960"/>
              <a:ext cx="2538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11160" y="4557960"/>
              <a:ext cx="2556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322360" y="4557960"/>
              <a:ext cx="2556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32120" y="4557960"/>
              <a:ext cx="2556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43320" y="4557960"/>
              <a:ext cx="2556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4960" y="4365720"/>
              <a:ext cx="31896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4960" y="4046760"/>
              <a:ext cx="31896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4960" y="3727440"/>
              <a:ext cx="31896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34960" y="3408480"/>
              <a:ext cx="31896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4960" y="3089520"/>
              <a:ext cx="31896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4960" y="2770200"/>
              <a:ext cx="31896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34960" y="2451240"/>
              <a:ext cx="31896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4960" y="2132280"/>
              <a:ext cx="31896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35200" y="3792600"/>
              <a:ext cx="159552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VAD-MZB-M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35200" y="2260800"/>
              <a:ext cx="15955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VAD-MYB-1/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2280" y="1430280"/>
              <a:ext cx="1531800" cy="5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Consommation en Nl/m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89360" y="4111920"/>
              <a:ext cx="146844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ression d’alimentation en ba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5486400" y="1676520"/>
            <a:ext cx="3505320" cy="1618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°/ Déterminez le débit d’air consommé pendant le fonctionnement d'un déprimogène VAD-MYB-1/8 alimenté sous 5 bars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57200" y="3033720"/>
            <a:ext cx="7848360" cy="1842840"/>
            <a:chOff x="457200" y="3033720"/>
            <a:chExt cx="7848360" cy="1842840"/>
          </a:xfrm>
        </p:grpSpPr>
        <p:grpSp>
          <p:nvGrpSpPr>
            <p:cNvPr id="207" name=""/>
            <p:cNvGrpSpPr/>
            <p:nvPr/>
          </p:nvGrpSpPr>
          <p:grpSpPr>
            <a:xfrm>
              <a:off x="457200" y="3033720"/>
              <a:ext cx="1752480" cy="1842840"/>
              <a:chOff x="457200" y="3033720"/>
              <a:chExt cx="1752480" cy="184284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457200" y="3033720"/>
                <a:ext cx="1523880" cy="1446840"/>
                <a:chOff x="457200" y="3033720"/>
                <a:chExt cx="1523880" cy="1446840"/>
              </a:xfrm>
            </p:grpSpPr>
            <p:grpSp>
              <p:nvGrpSpPr>
                <p:cNvPr id="209" name=""/>
                <p:cNvGrpSpPr/>
                <p:nvPr/>
              </p:nvGrpSpPr>
              <p:grpSpPr>
                <a:xfrm>
                  <a:off x="837720" y="3185640"/>
                  <a:ext cx="1143360" cy="1294920"/>
                  <a:chOff x="837720" y="3185640"/>
                  <a:chExt cx="1143360" cy="129492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flipV="1">
                    <a:off x="1981080" y="3185640"/>
                    <a:ext cx="0" cy="12949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>
                    <a:off x="837720" y="3186000"/>
                    <a:ext cx="114300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2" name=""/>
                <p:cNvSpPr/>
                <p:nvPr/>
              </p:nvSpPr>
              <p:spPr>
                <a:xfrm>
                  <a:off x="457200" y="3033720"/>
                  <a:ext cx="380880" cy="380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1752480" y="4481280"/>
                <a:ext cx="457200" cy="39528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5943600" y="343224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990000"/>
                  </a:solidFill>
                  <a:latin typeface="Times New Roman"/>
                </a:rPr>
                <a:t>Qa = 25 Nl/m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5562720" y="4114800"/>
            <a:ext cx="3429000" cy="1923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°/ Le déprimogène fonctionne 3 secondes par cycle. La durée du cycle est de 10 s. Déterminez sa consommation horaire moyenne ( en Nm</a:t>
            </a:r>
            <a:r>
              <a:rPr b="1" lang="fr-FR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h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5334120"/>
            <a:ext cx="502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V</a:t>
            </a:r>
            <a:r>
              <a:rPr b="1" lang="fr-FR" sz="2400" spc="-1" strike="noStrike" baseline="-25000">
                <a:solidFill>
                  <a:srgbClr val="990000"/>
                </a:solidFill>
                <a:latin typeface="Times New Roman"/>
              </a:rPr>
              <a:t>a/c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 = ( 25 / 60 ) 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·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 3  =  1,25 Nl/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280" y="594360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1 cycle dure 10s </a:t>
            </a:r>
            <a:r>
              <a:rPr b="1" lang="fr-FR" sz="2400" spc="-1" strike="noStrike">
                <a:solidFill>
                  <a:srgbClr val="990000"/>
                </a:solidFill>
                <a:latin typeface="Wingdings"/>
                <a:ea typeface="Wingdings"/>
              </a:rPr>
              <a:t>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 360 cycles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Consommation moyenne Qam = 1,25 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·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 360 = 450 Nl/h = 0,45 Nm</a:t>
            </a:r>
            <a:r>
              <a:rPr b="1" lang="fr-FR" sz="2400" spc="-1" strike="noStrike" baseline="30000">
                <a:solidFill>
                  <a:srgbClr val="990000"/>
                </a:solidFill>
                <a:latin typeface="Times New Roman"/>
              </a:rPr>
              <a:t>3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08:31:15Z</dcterms:created>
  <dc:creator>Romeyer</dc:creator>
  <dc:description/>
  <dc:language>en-US</dc:language>
  <cp:lastModifiedBy>Guyonvarch Daniel</cp:lastModifiedBy>
  <dcterms:modified xsi:type="dcterms:W3CDTF">2004-09-26T19:33:40Z</dcterms:modified>
  <cp:revision>15</cp:revision>
  <dc:subject/>
  <dc:title>MAITRISE DE L’ENERGIE PNEUMATIQUE</dc:title>
</cp:coreProperties>
</file>