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8AA0-7C28-4ABC-913D-A744C341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5541-D05C-42F3-A245-BF9C4852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0D0E-D629-4F21-A5AF-59CE1920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9505-F525-4E66-9124-D36600CC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CAEB-AE06-4971-8E9C-D09F2F01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18BC-E2EF-4E0F-80AF-B4D391C5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549-71D3-4709-8B38-FEEB8A18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6CF0-007C-4A6A-B678-956ABC22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4C7-9063-4837-9900-6F9CBE43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18E7-1FF8-4147-BFFF-D3382F5D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9816-F77D-42A1-ABCE-68EF4F91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156B-0140-457F-9A08-21E53322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1960-B120-4964-8B4C-B6BF7C032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304920"/>
            <a:ext cx="7696080" cy="99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ÉMARCHE DE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86840" y="6095880"/>
            <a:ext cx="3082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ahoma"/>
              </a:rPr>
              <a:t>Gestion de projet ; Taillard – Meunier STS MAI  Cach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ahoma"/>
              </a:rPr>
              <a:t>Séminaire STSMAI 6 &amp; 7 mai 2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1948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1480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age_307" descr=""/>
          <p:cNvPicPr/>
          <p:nvPr/>
        </p:nvPicPr>
        <p:blipFill>
          <a:blip r:embed="rId1"/>
          <a:stretch/>
        </p:blipFill>
        <p:spPr>
          <a:xfrm>
            <a:off x="3809880" y="26668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1480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09480" y="1523880"/>
          <a:ext cx="4343400" cy="312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523880"/>
                    <a:ext cx="434340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666880"/>
            <a:ext cx="18288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 moment où la pièce suivante en contact est inconnue – donc à créer –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ère la prochaine pièce connue immédiatement suivan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vec les contraintes de position nécessai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73000" y="1523880"/>
            <a:ext cx="830520" cy="762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94040" y="1668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6172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ation de la pi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Image_212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587664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743200"/>
            <a:ext cx="182880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nalyse de l’existant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dentification des surfaces fonction-nelles de position-nement des pièces connues en amont et en aval pour la fonction F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ilan des autres fonctions à assur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50760" y="205740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-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6172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ion des doig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Image_212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5876640" cy="4406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743200"/>
            <a:ext cx="205740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squisse – dans le contexte – de la pièce de liaison pour assurer les fonctions F1 de positionnemen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réation d’un volume "capable" par les méthodes classiques : extrusion, révolution, opérations booléennes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hoix d’un matériau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95320" y="197316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-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58672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ion des doigts : l’esquisse s’appuie sur la surface fonctionnelle d’appui du doig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Image_213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5648400" cy="42354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74520" y="204948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-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58672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ion des doigts : extrusio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hase II :  CONSTRUCTION DE LA MAQUETTE NUMÉ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Image_214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56278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74520" y="204948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-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58672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ion des doigts : poch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Image_215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5627520" cy="3956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50760" y="205740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-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8672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ion des doigts : extrusion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Image_216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4724280" cy="3321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520" y="342900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faces fonctionnelles de positionnement du doi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05920" y="6019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74520" y="204948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-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586728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ion des doigts : perçage du passage du pion de centrage et des trous taraudé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Image_218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181840" cy="3506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0880" y="3048120"/>
            <a:ext cx="190512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 d’une liaison permanent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nction F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éation des surfaces permettant la fixation de la pièce de liaison avec les pièces conn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66040" y="5900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50760" y="205740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-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586728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ion des doigts : création du doigt gauche par symétri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Image_221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5843520" cy="3956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29600" y="5562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50760" y="205740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-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586728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ion des doigts : placement des vis de fix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3048120"/>
            <a:ext cx="19051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 d’une liaison perman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onction F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ion des auxiliaires de fix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Image_222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5843520" cy="39560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50760" y="205740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-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586728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ion des doigts : Chanfreins de dégag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048120"/>
            <a:ext cx="19051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 d’une liaison non perman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onction F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cation de la PL pour l’approche et le dégag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Établissement et cession de la liai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Image_222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5843520" cy="39560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153280" y="5867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_300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400720" cy="431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352680" y="1676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 VALÉ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3434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TI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114800"/>
            <a:ext cx="2415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eau tour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Sab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5627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pièces de l’environ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 :  PRÉPARATION DU CHANTIER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50760" y="205740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-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3048120"/>
            <a:ext cx="190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éter les formes de la PL pour assurer les éventuelles fonctions auxiliaires F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Image_222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5843520" cy="39560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276720" y="5943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ion des doigts : (suit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50760" y="205740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-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5943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ion des doigts : (suit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3048120"/>
            <a:ext cx="190512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érifier la PL pour chacun des cas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2 Résister mécaniqu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4 ne pas interférer mécaniqu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5  Vérifier les caractéristiques de masse et d’inert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Image_222" descr=""/>
          <p:cNvPicPr/>
          <p:nvPr/>
        </p:nvPicPr>
        <p:blipFill>
          <a:blip r:embed="rId5"/>
          <a:stretch/>
        </p:blipFill>
        <p:spPr>
          <a:xfrm>
            <a:off x="2362320" y="1447920"/>
            <a:ext cx="5843520" cy="39560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0760" y="205740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-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5943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ion des doigts : (suit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3048120"/>
            <a:ext cx="19051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érifier la faisabilité (Coût, délais) de la P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ntrainte C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Image_222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5843520" cy="39560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53280" y="5791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2666880"/>
            <a:ext cx="18288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 moment où la pièce suivante en contact est inconnue – donc à créer –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ère la prochaine pièce connue immédiatement suivan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vec les contraintes de position nécessai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73000" y="1523880"/>
            <a:ext cx="830520" cy="762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92600" y="1668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00400" y="6172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ation du module de ro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Image_223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5357880" cy="43135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78200" y="2057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6172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créer l ’équerre de lia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Image_224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5340240" cy="47181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33520" y="35053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réitère la procédure 6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76400" y="2057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Image_225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438880" cy="43196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438280" y="617220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ation du module de transl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743200"/>
            <a:ext cx="17524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 moment où la pièce suivante en contact est inconnue – donc à créer –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ère la prochaine pièce connue immédiatement suivan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vec les contraintes de position nécessai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838080" y="19051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78200" y="2057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6172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créer l ’équerre de lia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6000" y="1371600"/>
            <a:ext cx="2020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ÉATION DE LA P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IAISON 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Image_226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4840200" cy="43135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3520" y="35053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réitère la procédure 6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2819520"/>
            <a:ext cx="1828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ion de toutes le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ièces connu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 les éléments standard en contact avec l’assemblage obtenu précédem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73000" y="1676520"/>
            <a:ext cx="83052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92600" y="1820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60199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du kit d’adaptation standard puis du module de translation horizontale et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Image_304" descr=""/>
          <p:cNvPicPr/>
          <p:nvPr/>
        </p:nvPicPr>
        <p:blipFill>
          <a:blip r:embed="rId1"/>
          <a:stretch/>
        </p:blipFill>
        <p:spPr>
          <a:xfrm>
            <a:off x="2286000" y="1352520"/>
            <a:ext cx="6172200" cy="46292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33520" y="2819520"/>
            <a:ext cx="1828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ion de toutes le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ièces connu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 les éléments standard en contact avec l’assemblage obtenu précédem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9320" y="1676520"/>
            <a:ext cx="83016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68920" y="1820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601992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des colonnes de fixation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Image_305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3520" y="2819520"/>
            <a:ext cx="1828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ion de toutes le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ièces connu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 les éléments standard en contact avec l’assemblage obtenu précédem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9320" y="1676520"/>
            <a:ext cx="83016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54520" y="1828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601992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des colonnes de fixation et leurs équer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Image_306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29600" y="6248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_201" descr=""/>
          <p:cNvPicPr/>
          <p:nvPr/>
        </p:nvPicPr>
        <p:blipFill>
          <a:blip r:embed="rId1"/>
          <a:stretch/>
        </p:blipFill>
        <p:spPr>
          <a:xfrm>
            <a:off x="3092400" y="1446120"/>
            <a:ext cx="2957400" cy="3963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1905120"/>
            <a:ext cx="4343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-AIM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-57 B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56386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atière d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 :  PRÉPARATION DU CHAN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_301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5049720" cy="3549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124080" y="4952880"/>
            <a:ext cx="472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composants manufacturés dimensionnés à prior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666880"/>
            <a:ext cx="220968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Pince H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odule de rotation      DRQ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odule de translation SLT 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de translation DGPL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 :  PRÉPARATION DU CHAN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895480"/>
            <a:ext cx="1920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e en place de tous les éléments de l’environnement du sous-systèm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057400"/>
            <a:ext cx="762120" cy="762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75160" y="2201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Image_302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5985000" cy="44881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59436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eau tournant, sabot, bac, pratic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2362320"/>
            <a:ext cx="1920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e en place des premières pièces connues, à savoir l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tière d’œuv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ns ses différents états significatifs – de position ou de transformation – en privilégiant les cas les plus criti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1523880"/>
            <a:ext cx="762120" cy="762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27440" y="1668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Image_211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6105600" cy="4578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95280" y="59850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se en place de l’électro-aimant dans le sab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2209680"/>
            <a:ext cx="1920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e en place des premières pièces connues, à savoir l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tière d’œuv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ns ses différents états significatifs – de position ou de transformation – en privilégiant les cas les plus criti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1371600"/>
            <a:ext cx="762120" cy="762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8480" y="1515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Image_303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76520" y="609588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se en place de l’électro-aimant dans le pratic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2819520"/>
            <a:ext cx="1828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insère le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ièces connu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 les éléments standard en contact direct avec la matière d’œuvre dans ses différents éta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49320" y="1676520"/>
            <a:ext cx="83016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70360" y="1820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Image_303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5639040" cy="4228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00400" y="60199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s objet dans ce cas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2819520"/>
            <a:ext cx="1828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ion de toutes le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ièces connu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 les éléments standard en contact avec l’assemblage obtenu précédem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676520"/>
            <a:ext cx="830160" cy="761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8044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Image_303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00400" y="60199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s objet dans ce cas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hase II :  CONSTRUCTION DE LA MAQUETTE NUMÉRIQ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07:32:13Z</dcterms:created>
  <dc:creator>Felix the Cat</dc:creator>
  <dc:description/>
  <dc:language>en-US</dc:language>
  <cp:lastModifiedBy>Felix the Cat</cp:lastModifiedBy>
  <dcterms:modified xsi:type="dcterms:W3CDTF">2004-05-05T19:39:14Z</dcterms:modified>
  <cp:revision>58</cp:revision>
  <dc:subject/>
  <dc:title>Présentation PowerPoint</dc:title>
</cp:coreProperties>
</file>