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EBE-1834-421E-9EF7-3495D2DB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712-017C-44B3-9F73-DB2E5789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737-3B45-4A6A-BF37-F96C2BA5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FCC-2D92-4D39-B6A0-A13D22A2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D2C-5E9E-42C6-9B95-0EBF9EFB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90F-4284-4A21-A78A-287B355A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A7D-C00E-4659-B3B1-DBEE36FB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579-E18F-4475-BA0F-D11B1F3A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336-C67B-4710-A905-13608315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6A6-25EF-4FAC-9B3C-AB3D763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125-8C35-4995-AF47-7D61F8D6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006-FC11-4D5E-8609-B60C104B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C9F8-7FA9-4434-8FB5-1BB514F6017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file:///Ressources%20Engrenages.ppt" TargetMode="External"/><Relationship Id="rId3" Type="http://schemas.openxmlformats.org/officeDocument/2006/relationships/hyperlink" Target="file:///Ressources%20Engrenages.ppt" TargetMode="External"/><Relationship Id="rId4" Type="http://schemas.openxmlformats.org/officeDocument/2006/relationships/hyperlink" Target="file:///Ressources/Ressources%20Engrenages.ppt" TargetMode="External"/><Relationship Id="rId5" Type="http://schemas.openxmlformats.org/officeDocument/2006/relationships/hyperlink" Target="file:///Ressources/Cacher%20une%20pi&#232;ce.ppt" TargetMode="External"/><Relationship Id="rId6" Type="http://schemas.openxmlformats.org/officeDocument/2006/relationships/hyperlink" Target="file:///Cacher%20une%20piece.ppt" TargetMode="External"/><Relationship Id="rId7" Type="http://schemas.openxmlformats.org/officeDocument/2006/relationships/hyperlink" Target="file:///Cacher%20une%20piece.ppt" TargetMode="External"/><Relationship Id="rId8" Type="http://schemas.openxmlformats.org/officeDocument/2006/relationships/hyperlink" Target="file:///Ressources/Roulements.ppt" TargetMode="External"/><Relationship Id="rId9" Type="http://schemas.openxmlformats.org/officeDocument/2006/relationships/hyperlink" Target="file:///Ressources/Roulements.ppt" TargetMode="External"/><Relationship Id="rId10" Type="http://schemas.openxmlformats.org/officeDocument/2006/relationships/hyperlink" Target="file:///TP%20n&#176;1%20-%20B.T.A/Maquette%20num&#233;rique%20+%20plans/Boitier%20de%20transmission%20arri&#232;re.easm" TargetMode="External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250920" y="1700280"/>
            <a:ext cx="8893080" cy="2592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omic Sans MS"/>
              </a:rPr>
              <a:t>Cycle n°11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Transmission par engre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 rot="5400000">
            <a:off x="-292320" y="2747880"/>
            <a:ext cx="17337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p n°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44" name="WordArt 9"/>
          <p:cNvSpPr txBox="1"/>
          <p:nvPr/>
        </p:nvSpPr>
        <p:spPr>
          <a:xfrm rot="5400000">
            <a:off x="2733480" y="2676600"/>
            <a:ext cx="1733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p n°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3203640" y="170028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6300720" y="170028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MMj02841370000[1]"/>
          <p:cNvPicPr/>
          <p:nvPr/>
        </p:nvPicPr>
        <p:blipFill>
          <a:blip r:embed="rId1"/>
          <a:stretch/>
        </p:blipFill>
        <p:spPr>
          <a:xfrm>
            <a:off x="4211640" y="3933720"/>
            <a:ext cx="1873080" cy="1532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5435640" y="450864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Ressource pour réaliser les 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4572000" y="5805360"/>
            <a:ext cx="2016000" cy="936720"/>
          </a:xfrm>
          <a:prstGeom prst="cloudCallout">
            <a:avLst>
              <a:gd name="adj1" fmla="val -16300"/>
              <a:gd name="adj2" fmla="val -112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ynthèse sur les transmissions par engrena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9">
            <a:hlinkClick r:id="rId3"/>
          </p:cNvPr>
          <p:cNvSpPr/>
          <p:nvPr/>
        </p:nvSpPr>
        <p:spPr>
          <a:xfrm>
            <a:off x="6877080" y="5661000"/>
            <a:ext cx="2266920" cy="1081080"/>
          </a:xfrm>
          <a:prstGeom prst="cloudCallout">
            <a:avLst>
              <a:gd name="adj1" fmla="val -103851"/>
              <a:gd name="adj2" fmla="val -93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ssource sur les formules pour les transmissions par engrenag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0">
            <a:hlinkClick r:id="rId5"/>
          </p:cNvPr>
          <p:cNvSpPr/>
          <p:nvPr/>
        </p:nvSpPr>
        <p:spPr>
          <a:xfrm>
            <a:off x="6877080" y="4869000"/>
            <a:ext cx="2014560" cy="649080"/>
          </a:xfrm>
          <a:prstGeom prst="cloudCallout">
            <a:avLst>
              <a:gd name="adj1" fmla="val -113199"/>
              <a:gd name="adj2" fmla="val 17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acher une pièce sous Solidworks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1">
            <a:hlinkClick r:id="" action="ppaction://hlinkshowjump?jump=endshow"/>
          </p:cNvPr>
          <p:cNvSpPr/>
          <p:nvPr/>
        </p:nvSpPr>
        <p:spPr>
          <a:xfrm>
            <a:off x="468360" y="5300640"/>
            <a:ext cx="1079280" cy="108108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10800" y="3855"/>
                </a:moveTo>
                <a:lnTo>
                  <a:pt x="13376" y="6466"/>
                </a:lnTo>
                <a:lnTo>
                  <a:pt x="13376" y="4725"/>
                </a:lnTo>
                <a:lnTo>
                  <a:pt x="15152" y="4725"/>
                </a:lnTo>
                <a:lnTo>
                  <a:pt x="15152" y="8242"/>
                </a:lnTo>
                <a:lnTo>
                  <a:pt x="17763" y="10818"/>
                </a:lnTo>
                <a:lnTo>
                  <a:pt x="16109" y="10818"/>
                </a:lnTo>
                <a:lnTo>
                  <a:pt x="16109" y="18007"/>
                </a:lnTo>
                <a:lnTo>
                  <a:pt x="5491" y="18007"/>
                </a:lnTo>
                <a:lnTo>
                  <a:pt x="5491" y="10818"/>
                </a:lnTo>
                <a:lnTo>
                  <a:pt x="3837" y="10818"/>
                </a:lnTo>
                <a:close/>
              </a:path>
              <a:path fill="darkenLess" w="21600" h="21636">
                <a:moveTo>
                  <a:pt x="13376" y="6466"/>
                </a:moveTo>
                <a:lnTo>
                  <a:pt x="13376" y="4725"/>
                </a:lnTo>
                <a:lnTo>
                  <a:pt x="15152" y="4725"/>
                </a:lnTo>
                <a:lnTo>
                  <a:pt x="15152" y="8242"/>
                </a:lnTo>
                <a:close/>
              </a:path>
              <a:path fill="darkenLess" w="21600" h="21636">
                <a:moveTo>
                  <a:pt x="9877" y="14317"/>
                </a:moveTo>
                <a:lnTo>
                  <a:pt x="11723" y="14317"/>
                </a:lnTo>
                <a:lnTo>
                  <a:pt x="11723" y="18007"/>
                </a:lnTo>
                <a:lnTo>
                  <a:pt x="16109" y="18007"/>
                </a:lnTo>
                <a:lnTo>
                  <a:pt x="16109" y="10818"/>
                </a:lnTo>
                <a:lnTo>
                  <a:pt x="5491" y="10818"/>
                </a:lnTo>
                <a:lnTo>
                  <a:pt x="5491" y="18007"/>
                </a:lnTo>
                <a:lnTo>
                  <a:pt x="9877" y="18007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753840" y="630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413000"/>
            <a:ext cx="230508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omic Sans MS"/>
              </a:rPr>
              <a:t>B 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3348000" y="1413000"/>
            <a:ext cx="280836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omic Sans MS"/>
              </a:rPr>
              <a:t>Boîte d’access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0"/>
          <p:cNvSpPr txBox="1"/>
          <p:nvPr/>
        </p:nvSpPr>
        <p:spPr>
          <a:xfrm rot="5400000">
            <a:off x="5829120" y="2676600"/>
            <a:ext cx="1733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p n°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57" name="AutoShape 45">
            <a:hlinkClick r:id="rId8"/>
          </p:cNvPr>
          <p:cNvSpPr/>
          <p:nvPr/>
        </p:nvSpPr>
        <p:spPr>
          <a:xfrm>
            <a:off x="2050920" y="5734080"/>
            <a:ext cx="2230560" cy="863640"/>
          </a:xfrm>
          <a:prstGeom prst="cloudCallout">
            <a:avLst>
              <a:gd name="adj1" fmla="val 84944"/>
              <a:gd name="adj2" fmla="val -105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essource sur les rou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0"/>
          <p:cNvSpPr/>
          <p:nvPr/>
        </p:nvSpPr>
        <p:spPr>
          <a:xfrm>
            <a:off x="1258920" y="3573360"/>
            <a:ext cx="1728720" cy="4050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Comic Sans MS"/>
                <a:hlinkClick r:id="rId10"/>
              </a:rPr>
              <a:t>Vers la maquette numé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8" descr="P2070038"/>
          <p:cNvPicPr/>
          <p:nvPr/>
        </p:nvPicPr>
        <p:blipFill>
          <a:blip r:embed="rId11"/>
          <a:stretch/>
        </p:blipFill>
        <p:spPr>
          <a:xfrm>
            <a:off x="1042920" y="1989000"/>
            <a:ext cx="2016360" cy="15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Image 1110" descr="Boîte d'accessoires fonctionnement"/>
          <p:cNvPicPr/>
          <p:nvPr/>
        </p:nvPicPr>
        <p:blipFill>
          <a:blip r:embed="rId12"/>
          <a:srcRect l="6496" t="14236" r="49805" b="33349"/>
          <a:stretch/>
        </p:blipFill>
        <p:spPr>
          <a:xfrm>
            <a:off x="4068720" y="1989000"/>
            <a:ext cx="2013120" cy="194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3:00:30Z</dcterms:created>
  <dc:creator>Lp</dc:creator>
  <dc:description/>
  <dc:language>en-US</dc:language>
  <cp:lastModifiedBy>RPMI</cp:lastModifiedBy>
  <dcterms:modified xsi:type="dcterms:W3CDTF">2015-05-21T09:00:39Z</dcterms:modified>
  <cp:revision>74</cp:revision>
  <dc:subject/>
  <dc:title>Diapositive 1</dc:title>
</cp:coreProperties>
</file>