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879-1730-48B3-A21A-C3B1E4F3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27F-AE75-4052-BCA0-C77F20AA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CAA-79FA-449D-874B-9B4113D8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F29-DA70-447A-86CD-490BA275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E78-4ED8-433D-A445-6CA65515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07E-77C5-4767-841C-D578D21E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A67-7B31-49CA-B082-FA5E7F11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5EA-E37D-451F-865D-E3ACA80A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ABD-B6A4-4991-B284-F1D6AD0A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CDE-D7F3-4320-A4D4-673233E6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24B-CD82-4747-9422-B8F8A9BB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24A-BA9E-49F6-A5B8-0A8DDE6A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3417-4D39-4780-A86D-AA762A917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18773" r="0" b="8761"/>
          <a:stretch/>
        </p:blipFill>
        <p:spPr>
          <a:xfrm>
            <a:off x="250920" y="1341360"/>
            <a:ext cx="4638600" cy="208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63640" y="0"/>
            <a:ext cx="676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Cacher une pièce sous Solid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2280" y="90792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uvri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’assemblage souhaité dans Solid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6384" r="0" b="0"/>
          <a:stretch/>
        </p:blipFill>
        <p:spPr>
          <a:xfrm>
            <a:off x="3059280" y="2924280"/>
            <a:ext cx="3960720" cy="232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3645000"/>
            <a:ext cx="2663640" cy="1245960"/>
          </a:xfrm>
          <a:prstGeom prst="wedgeRoundRectCallout">
            <a:avLst>
              <a:gd name="adj1" fmla="val 59115"/>
              <a:gd name="adj2" fmla="val 6210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 droit puis sélectionner c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2060640"/>
            <a:ext cx="2104920" cy="1030320"/>
          </a:xfrm>
          <a:prstGeom prst="wedgeRoundRectCallout">
            <a:avLst>
              <a:gd name="adj1" fmla="val -55129"/>
              <a:gd name="adj2" fmla="val 9915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 gauche, pour val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381720"/>
            <a:ext cx="3348000" cy="276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ppeler le professeur une fois termin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116800">
            <a:off x="5866920" y="5013000"/>
            <a:ext cx="287280" cy="1152360"/>
          </a:xfrm>
          <a:custGeom>
            <a:avLst/>
            <a:gdLst>
              <a:gd name="textAreaLeft" fmla="*/ 38520 w 287280"/>
              <a:gd name="textAreaRight" fmla="*/ 248760 w 287280"/>
              <a:gd name="textAreaTop" fmla="*/ 244440 h 1152360"/>
              <a:gd name="textAreaBottom" fmla="*/ 79272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62" stAng="-5400000" swAng="-5400000"/>
                <a:lnTo>
                  <a:pt x="0" y="10279"/>
                </a:lnTo>
                <a:arcTo wR="21600" hR="9162" stAng="10800000" swAng="-3011185"/>
                <a:lnTo>
                  <a:pt x="14400" y="21076"/>
                </a:lnTo>
                <a:lnTo>
                  <a:pt x="21600" y="18882"/>
                </a:lnTo>
                <a:lnTo>
                  <a:pt x="14400" y="15639"/>
                </a:lnTo>
                <a:lnTo>
                  <a:pt x="14400" y="17799"/>
                </a:lnTo>
                <a:arcTo wR="21600" hR="9162" stAng="7788815" swAng="2922152"/>
                <a:lnTo>
                  <a:pt x="40" y="9720"/>
                </a:lnTo>
                <a:arcTo wR="21600" hR="9162" stAng="-10710966" swAng="5310966"/>
                <a:close/>
              </a:path>
              <a:path fill="darkenLess" w="21600" h="21600">
                <a:moveTo>
                  <a:pt x="21600" y="0"/>
                </a:moveTo>
                <a:arcTo wR="21600" hR="9162" stAng="-5400000" swAng="-5400000"/>
                <a:lnTo>
                  <a:pt x="0" y="9162"/>
                </a:lnTo>
                <a:arcTo wR="21600" hR="9162" stAng="10800000" swAng="-89034"/>
                <a:lnTo>
                  <a:pt x="40" y="9720"/>
                </a:lnTo>
                <a:arcTo wR="21600" hR="9162" stAng="-10710966" swAng="5310966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11960" y="616572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3300"/>
                </a:solidFill>
                <a:uFillTx/>
                <a:latin typeface="Arial"/>
              </a:rPr>
              <a:t>On ob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endshow"/>
          </p:cNvPr>
          <p:cNvSpPr/>
          <p:nvPr/>
        </p:nvSpPr>
        <p:spPr>
          <a:xfrm>
            <a:off x="611280" y="5589720"/>
            <a:ext cx="939600" cy="723600"/>
          </a:xfrm>
          <a:custGeom>
            <a:avLst/>
            <a:gdLst>
              <a:gd name="textAreaLeft" fmla="*/ 46800 w 939600"/>
              <a:gd name="textAreaRight" fmla="*/ 892800 w 939600"/>
              <a:gd name="textAreaTop" fmla="*/ 46800 h 723600"/>
              <a:gd name="textAreaBottom" fmla="*/ 676800 h 723600"/>
            </a:gdLst>
            <a:ahLst/>
            <a:rect l="textAreaLeft" t="textAreaTop" r="textAreaRight" b="textAreaBottom"/>
            <a:pathLst>
              <a:path w="28045" h="21600">
                <a:moveTo>
                  <a:pt x="0" y="0"/>
                </a:moveTo>
                <a:lnTo>
                  <a:pt x="28045" y="0"/>
                </a:lnTo>
                <a:lnTo>
                  <a:pt x="28045" y="21600"/>
                </a:lnTo>
                <a:lnTo>
                  <a:pt x="0" y="21600"/>
                </a:lnTo>
                <a:close/>
              </a:path>
              <a:path fill="lightenLess" w="28045" h="21600">
                <a:moveTo>
                  <a:pt x="0" y="0"/>
                </a:moveTo>
                <a:lnTo>
                  <a:pt x="28045" y="0"/>
                </a:lnTo>
                <a:lnTo>
                  <a:pt x="26645" y="1400"/>
                </a:lnTo>
                <a:lnTo>
                  <a:pt x="1400" y="1400"/>
                </a:lnTo>
                <a:close/>
              </a:path>
              <a:path fill="darken" w="28045" h="21600">
                <a:moveTo>
                  <a:pt x="28045" y="0"/>
                </a:moveTo>
                <a:lnTo>
                  <a:pt x="28045" y="21600"/>
                </a:lnTo>
                <a:lnTo>
                  <a:pt x="26645" y="20200"/>
                </a:lnTo>
                <a:lnTo>
                  <a:pt x="26645" y="1400"/>
                </a:lnTo>
                <a:close/>
              </a:path>
              <a:path fill="darkenLess" w="28045" h="21600">
                <a:moveTo>
                  <a:pt x="28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5" y="20200"/>
                </a:lnTo>
                <a:close/>
              </a:path>
              <a:path fill="lighten" w="28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45" h="21600">
                <a:moveTo>
                  <a:pt x="7016" y="7493"/>
                </a:moveTo>
                <a:lnTo>
                  <a:pt x="10523" y="7493"/>
                </a:lnTo>
                <a:lnTo>
                  <a:pt x="10523" y="12828"/>
                </a:lnTo>
                <a:cubicBezTo>
                  <a:pt x="10523" y="13751"/>
                  <a:pt x="11324" y="14482"/>
                  <a:pt x="12360" y="14482"/>
                </a:cubicBezTo>
                <a:lnTo>
                  <a:pt x="14022" y="14482"/>
                </a:lnTo>
                <a:cubicBezTo>
                  <a:pt x="15058" y="14482"/>
                  <a:pt x="15859" y="13751"/>
                  <a:pt x="15859" y="12828"/>
                </a:cubicBezTo>
                <a:lnTo>
                  <a:pt x="15859" y="7493"/>
                </a:lnTo>
                <a:lnTo>
                  <a:pt x="14022" y="7493"/>
                </a:lnTo>
                <a:lnTo>
                  <a:pt x="17530" y="3985"/>
                </a:lnTo>
                <a:lnTo>
                  <a:pt x="21203" y="7493"/>
                </a:lnTo>
                <a:lnTo>
                  <a:pt x="19366" y="7493"/>
                </a:lnTo>
                <a:lnTo>
                  <a:pt x="19366" y="12828"/>
                </a:lnTo>
                <a:cubicBezTo>
                  <a:pt x="19366" y="15596"/>
                  <a:pt x="16790" y="18155"/>
                  <a:pt x="14022" y="18155"/>
                </a:cubicBezTo>
                <a:lnTo>
                  <a:pt x="12360" y="18155"/>
                </a:lnTo>
                <a:cubicBezTo>
                  <a:pt x="9592" y="18155"/>
                  <a:pt x="7016" y="15596"/>
                  <a:pt x="7016" y="12828"/>
                </a:cubicBez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5229360"/>
            <a:ext cx="14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240" y="141300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3300"/>
                </a:solidFill>
                <a:uFillTx/>
                <a:latin typeface="Arial"/>
              </a:rPr>
              <a:t>On ob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116800">
            <a:off x="1042560" y="2852640"/>
            <a:ext cx="287280" cy="1152720"/>
          </a:xfrm>
          <a:custGeom>
            <a:avLst/>
            <a:gdLst>
              <a:gd name="textAreaLeft" fmla="*/ 38520 w 287280"/>
              <a:gd name="textAreaRight" fmla="*/ 248760 w 287280"/>
              <a:gd name="textAreaTop" fmla="*/ 244440 h 1152720"/>
              <a:gd name="textAreaBottom" fmla="*/ 79308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62" stAng="-5400000" swAng="-5400000"/>
                <a:lnTo>
                  <a:pt x="0" y="10279"/>
                </a:lnTo>
                <a:arcTo wR="21600" hR="9162" stAng="10800000" swAng="-3011185"/>
                <a:lnTo>
                  <a:pt x="14400" y="21076"/>
                </a:lnTo>
                <a:lnTo>
                  <a:pt x="21600" y="18882"/>
                </a:lnTo>
                <a:lnTo>
                  <a:pt x="14400" y="15639"/>
                </a:lnTo>
                <a:lnTo>
                  <a:pt x="14400" y="17799"/>
                </a:lnTo>
                <a:arcTo wR="21600" hR="9162" stAng="7788815" swAng="2922152"/>
                <a:lnTo>
                  <a:pt x="40" y="9720"/>
                </a:lnTo>
                <a:arcTo wR="21600" hR="9162" stAng="-10710966" swAng="5310966"/>
                <a:close/>
              </a:path>
              <a:path fill="darkenLess" w="21600" h="21600">
                <a:moveTo>
                  <a:pt x="21600" y="0"/>
                </a:moveTo>
                <a:arcTo wR="21600" hR="9162" stAng="-5400000" swAng="-5400000"/>
                <a:lnTo>
                  <a:pt x="0" y="9162"/>
                </a:lnTo>
                <a:arcTo wR="21600" hR="9162" stAng="10800000" swAng="-89034"/>
                <a:lnTo>
                  <a:pt x="40" y="9720"/>
                </a:lnTo>
                <a:arcTo wR="21600" hR="9162" stAng="-10710966" swAng="5310966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516720" y="5300640"/>
            <a:ext cx="2448000" cy="1376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0:36:09Z</dcterms:created>
  <dc:creator>BENOIT</dc:creator>
  <dc:description/>
  <dc:language>en-US</dc:language>
  <cp:lastModifiedBy>gmc</cp:lastModifiedBy>
  <dcterms:modified xsi:type="dcterms:W3CDTF">2007-10-12T11:36:34Z</dcterms:modified>
  <cp:revision>2</cp:revision>
  <dc:subject/>
  <dc:title>Diapositive 1</dc:title>
</cp:coreProperties>
</file>