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297-9C9C-4FBC-A5F8-EE8E2FD7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2C6-D01F-4305-A969-AE5DC596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BAE-A95F-4EAC-A3B9-35DB9B6D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03F-93C9-421B-935E-2FEBEE53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11D-5211-4153-8592-7F9ACFD4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7CB-FD01-42BC-9128-A9E459F4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98C-C91F-4C93-BEDC-A07B153C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42E-0B85-4928-B38E-FE7CF66E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696-0C1F-4B9C-9E64-59B04E6A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F4B-368A-489D-8A0C-A773BCF6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EEA-01A3-400C-A6AE-B07D247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C4B-EE37-458D-A95F-6094EFF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8249-D3C0-47EB-9BF9-3520D02A4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295280"/>
            <a:ext cx="5943600" cy="4038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685800"/>
            <a:ext cx="1447920" cy="1523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6440" y="2575800"/>
            <a:ext cx="107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h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nctio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5943600"/>
            <a:ext cx="609480" cy="609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5638680"/>
            <a:ext cx="609480" cy="609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5257800"/>
            <a:ext cx="609480" cy="609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8836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520" y="15235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Le prototypag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rap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281952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L’outillag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rap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22100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443700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1930320" cy="2520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10670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187280" y="1268280"/>
            <a:ext cx="1524240" cy="2074320"/>
            <a:chOff x="1187280" y="1268280"/>
            <a:chExt cx="1524240" cy="2074320"/>
          </a:xfrm>
        </p:grpSpPr>
        <p:sp>
          <p:nvSpPr>
            <p:cNvPr id="58" name=""/>
            <p:cNvSpPr/>
            <p:nvPr/>
          </p:nvSpPr>
          <p:spPr>
            <a:xfrm>
              <a:off x="1415880" y="1512720"/>
              <a:ext cx="1295640" cy="1828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919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87280" y="1268280"/>
              <a:ext cx="457200" cy="457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1280" y="1901160"/>
              <a:ext cx="90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aly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u beso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30720" y="2701080"/>
              <a:ext cx="107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h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s char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onctio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16080" y="1268280"/>
            <a:ext cx="1524240" cy="2073240"/>
            <a:chOff x="3016080" y="1268280"/>
            <a:chExt cx="1524240" cy="2073240"/>
          </a:xfrm>
        </p:grpSpPr>
        <p:sp>
          <p:nvSpPr>
            <p:cNvPr id="63" name=""/>
            <p:cNvSpPr/>
            <p:nvPr/>
          </p:nvSpPr>
          <p:spPr>
            <a:xfrm>
              <a:off x="3244680" y="1512720"/>
              <a:ext cx="1295640" cy="1828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919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3640" y="1301040"/>
              <a:ext cx="13176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é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évelopp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16080" y="1268280"/>
              <a:ext cx="457200" cy="457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98760" y="2883600"/>
              <a:ext cx="107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vant-proj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921200" y="1268280"/>
            <a:ext cx="1539720" cy="2073240"/>
            <a:chOff x="4921200" y="1268280"/>
            <a:chExt cx="1539720" cy="2073240"/>
          </a:xfrm>
        </p:grpSpPr>
        <p:sp>
          <p:nvSpPr>
            <p:cNvPr id="68" name=""/>
            <p:cNvSpPr/>
            <p:nvPr/>
          </p:nvSpPr>
          <p:spPr>
            <a:xfrm>
              <a:off x="5149800" y="1512720"/>
              <a:ext cx="1295280" cy="1828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919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43320" y="1388160"/>
              <a:ext cx="1317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évelopp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21200" y="1268280"/>
              <a:ext cx="457200" cy="457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28920" y="2699640"/>
              <a:ext cx="1284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ossier étude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ustri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629400" y="1295280"/>
            <a:ext cx="1590480" cy="2073240"/>
            <a:chOff x="6629400" y="1295280"/>
            <a:chExt cx="1590480" cy="2073240"/>
          </a:xfrm>
        </p:grpSpPr>
        <p:sp>
          <p:nvSpPr>
            <p:cNvPr id="73" name=""/>
            <p:cNvSpPr/>
            <p:nvPr/>
          </p:nvSpPr>
          <p:spPr>
            <a:xfrm>
              <a:off x="6858000" y="1539720"/>
              <a:ext cx="1295280" cy="1828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919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9440" y="1434240"/>
              <a:ext cx="1360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ustriali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29400" y="1295280"/>
              <a:ext cx="457200" cy="457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31800" y="2820240"/>
              <a:ext cx="109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d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 pré-séri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415880" y="3935520"/>
            <a:ext cx="1295640" cy="1828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3691080"/>
            <a:ext cx="457200" cy="457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63120" y="40856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2000" y="5214240"/>
            <a:ext cx="75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 sé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962520"/>
            <a:ext cx="1295280" cy="1828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3680" y="402192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ommer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-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718080"/>
            <a:ext cx="457200" cy="457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0440" y="524124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49800" y="3935520"/>
            <a:ext cx="1295280" cy="1828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42760" y="399168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u prod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21200" y="3691080"/>
            <a:ext cx="457200" cy="457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0040" y="5120640"/>
            <a:ext cx="119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it usag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t degré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3962520"/>
            <a:ext cx="1295280" cy="1828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08400" y="4114080"/>
            <a:ext cx="124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u produit.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yclage de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matéri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3718080"/>
            <a:ext cx="457200" cy="457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39160" y="5241240"/>
            <a:ext cx="8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éch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ésid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43640" y="6454800"/>
            <a:ext cx="3672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1528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8836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9640" y="6454800"/>
            <a:ext cx="3672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128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0256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7236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Principales étapes de la création d’un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0" y="152280"/>
            <a:ext cx="114300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6019920"/>
            <a:ext cx="457200" cy="45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6019920"/>
            <a:ext cx="457200" cy="45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43600"/>
            <a:ext cx="38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6019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tapes concernées par le prototypage et l’outillage rap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6400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1200" y="1173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36400" y="1173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06040" y="117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836640"/>
            <a:ext cx="64764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0600" y="177336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ulation d’un problè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66688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herche de scénar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676520" y="2513880"/>
            <a:ext cx="576000" cy="1681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52772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érification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l’opportunité de lanc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une é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676520" y="4326840"/>
            <a:ext cx="576000" cy="1681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442120"/>
            <a:ext cx="23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cement de l’é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aboration du cahie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des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76520" y="5317560"/>
            <a:ext cx="576000" cy="1681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9960" y="1700280"/>
            <a:ext cx="251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nement CFAO (Conception, Fabrication Assistée par Ordinat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1700280"/>
            <a:ext cx="25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itution d’une équipe pluridisciplinaire de réflex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9960" y="2840040"/>
            <a:ext cx="251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ils d’analyse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Bête à corne, diagramme pieuvre, Actigramme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ils de créativité et d’innov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565360"/>
            <a:ext cx="251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que spécialiste donne son point de vue sur le bes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ation des id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33412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giciel d’assistance à la rédaction du C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479736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ination d’un animateur chef de projet et constitution d’un groupe de travail pluridisplin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384804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aison avec l’équip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964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128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114800"/>
            <a:ext cx="2286000" cy="672120"/>
          </a:xfrm>
          <a:prstGeom prst="rect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ototypage rapid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quette présentation d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Analyse du bes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152280"/>
            <a:ext cx="114300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522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gt; Principales étapes de la création d’un pro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981080"/>
            <a:ext cx="25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Ex : Créer un gel douche pour 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127320"/>
            <a:ext cx="2668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Ex :</a:t>
            </a:r>
            <a:br>
              <a:rPr sz="1400"/>
            </a:b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Modifier une gamme existante, copier la concurrence, développer</a:t>
            </a:r>
            <a:br>
              <a:rPr sz="1400"/>
            </a:b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un produit nouveau, …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6400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31200" y="1173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36400" y="1173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06040" y="117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836640"/>
            <a:ext cx="64764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4320" y="20383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herche de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9960" y="1700280"/>
            <a:ext cx="251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ils informatiques permettant d’entrer des croquis de principes (scanner, tablette à digitaliser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1700280"/>
            <a:ext cx="2516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e de créativ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e d’analy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e prospec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nimateur définit une procédure de tr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28788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O 3D (travail sur volumes et envelop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4849920"/>
            <a:ext cx="2592360" cy="854640"/>
          </a:xfrm>
          <a:prstGeom prst="rect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ototypage rapid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quette d’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quette de fonc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quette géomét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558972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groupe retient 1 ou 2 avant-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 rot="1392600">
            <a:off x="1039320" y="3199320"/>
            <a:ext cx="316080" cy="921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22360" y="3123720"/>
            <a:ext cx="1546560" cy="245520"/>
            <a:chOff x="1422360" y="3123720"/>
            <a:chExt cx="1546560" cy="245520"/>
          </a:xfrm>
        </p:grpSpPr>
        <p:sp>
          <p:nvSpPr>
            <p:cNvPr id="159" name=""/>
            <p:cNvSpPr/>
            <p:nvPr/>
          </p:nvSpPr>
          <p:spPr>
            <a:xfrm flipV="1" rot="1156200">
              <a:off x="1428480" y="3200400"/>
              <a:ext cx="315720" cy="91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860480" y="3200400"/>
              <a:ext cx="316080" cy="9216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9900800">
              <a:off x="2292480" y="3200400"/>
              <a:ext cx="315720" cy="91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19677000">
              <a:off x="2652840" y="3200400"/>
              <a:ext cx="315720" cy="9216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38080" y="373392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éfinition de différents avant-projets (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3352680"/>
            <a:ext cx="2198520" cy="337320"/>
            <a:chOff x="914400" y="3352680"/>
            <a:chExt cx="2198520" cy="337320"/>
          </a:xfrm>
        </p:grpSpPr>
        <p:sp>
          <p:nvSpPr>
            <p:cNvPr id="165" name=""/>
            <p:cNvSpPr/>
            <p:nvPr/>
          </p:nvSpPr>
          <p:spPr>
            <a:xfrm>
              <a:off x="1459080" y="3429000"/>
              <a:ext cx="217440" cy="2174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8280" y="3429000"/>
              <a:ext cx="217440" cy="2174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92240" y="3429000"/>
              <a:ext cx="217440" cy="2174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3429000"/>
              <a:ext cx="217440" cy="2174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63400" y="3352680"/>
              <a:ext cx="749520" cy="337320"/>
              <a:chOff x="2363400" y="3352680"/>
              <a:chExt cx="749520" cy="337320"/>
            </a:xfrm>
          </p:grpSpPr>
          <p:sp>
            <p:nvSpPr>
              <p:cNvPr id="170" name=""/>
              <p:cNvSpPr/>
              <p:nvPr/>
            </p:nvSpPr>
            <p:spPr>
              <a:xfrm>
                <a:off x="2895480" y="3429000"/>
                <a:ext cx="217440" cy="21744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363400" y="3352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838080" y="4191120"/>
            <a:ext cx="2448000" cy="390600"/>
            <a:chOff x="838080" y="4191120"/>
            <a:chExt cx="2448000" cy="390600"/>
          </a:xfrm>
        </p:grpSpPr>
        <p:sp>
          <p:nvSpPr>
            <p:cNvPr id="173" name=""/>
            <p:cNvSpPr/>
            <p:nvPr/>
          </p:nvSpPr>
          <p:spPr>
            <a:xfrm>
              <a:off x="982800" y="4191120"/>
              <a:ext cx="95040" cy="144360"/>
            </a:xfrm>
            <a:prstGeom prst="upDownArrow">
              <a:avLst>
                <a:gd name="adj1" fmla="val 50000"/>
                <a:gd name="adj2" fmla="val 30238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87520" y="4191120"/>
              <a:ext cx="95400" cy="144360"/>
            </a:xfrm>
            <a:prstGeom prst="upDownArrow">
              <a:avLst>
                <a:gd name="adj1" fmla="val 50000"/>
                <a:gd name="adj2" fmla="val 30124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8800" y="4191120"/>
              <a:ext cx="95400" cy="144360"/>
            </a:xfrm>
            <a:prstGeom prst="upDownArrow">
              <a:avLst>
                <a:gd name="adj1" fmla="val 50000"/>
                <a:gd name="adj2" fmla="val 30124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4335480"/>
              <a:ext cx="432000" cy="246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43160" y="4335480"/>
              <a:ext cx="431640" cy="246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54440" y="4335480"/>
              <a:ext cx="431640" cy="246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71640" y="2427480"/>
            <a:ext cx="2087640" cy="699840"/>
            <a:chOff x="971640" y="2427480"/>
            <a:chExt cx="2087640" cy="699840"/>
          </a:xfrm>
        </p:grpSpPr>
        <p:sp>
          <p:nvSpPr>
            <p:cNvPr id="180" name=""/>
            <p:cNvSpPr/>
            <p:nvPr/>
          </p:nvSpPr>
          <p:spPr>
            <a:xfrm>
              <a:off x="971640" y="2637000"/>
              <a:ext cx="2087640" cy="2764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i des 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23960" y="2852640"/>
              <a:ext cx="78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081080" y="2427480"/>
              <a:ext cx="1939320" cy="220680"/>
              <a:chOff x="1081080" y="2427480"/>
              <a:chExt cx="1939320" cy="220680"/>
            </a:xfrm>
          </p:grpSpPr>
          <p:sp>
            <p:nvSpPr>
              <p:cNvPr id="183" name=""/>
              <p:cNvSpPr/>
              <p:nvPr/>
            </p:nvSpPr>
            <p:spPr>
              <a:xfrm flipV="1" rot="20516400">
                <a:off x="1087200" y="2491560"/>
                <a:ext cx="31572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 rot="20717400">
                <a:off x="1476360" y="2491560"/>
                <a:ext cx="31608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08000" y="2492280"/>
                <a:ext cx="31608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1463400">
                <a:off x="2339640" y="2491200"/>
                <a:ext cx="31572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 rot="1554000">
                <a:off x="2700000" y="2491200"/>
                <a:ext cx="31572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914400" y="4591440"/>
            <a:ext cx="2305080" cy="1059480"/>
            <a:chOff x="914400" y="4591440"/>
            <a:chExt cx="2305080" cy="1059480"/>
          </a:xfrm>
        </p:grpSpPr>
        <p:grpSp>
          <p:nvGrpSpPr>
            <p:cNvPr id="189" name=""/>
            <p:cNvGrpSpPr/>
            <p:nvPr/>
          </p:nvGrpSpPr>
          <p:grpSpPr>
            <a:xfrm>
              <a:off x="995760" y="4591440"/>
              <a:ext cx="1940760" cy="204840"/>
              <a:chOff x="995760" y="4591440"/>
              <a:chExt cx="1940760" cy="204840"/>
            </a:xfrm>
          </p:grpSpPr>
          <p:sp>
            <p:nvSpPr>
              <p:cNvPr id="190" name=""/>
              <p:cNvSpPr/>
              <p:nvPr/>
            </p:nvSpPr>
            <p:spPr>
              <a:xfrm flipV="1" rot="20262600">
                <a:off x="1001160" y="4647600"/>
                <a:ext cx="31608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 rot="20756400">
                <a:off x="1390320" y="4647960"/>
                <a:ext cx="31572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 rot="724200">
                <a:off x="2614320" y="4647960"/>
                <a:ext cx="31572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914400" y="4792320"/>
              <a:ext cx="2305080" cy="858600"/>
              <a:chOff x="914400" y="4792320"/>
              <a:chExt cx="2305080" cy="858600"/>
            </a:xfrm>
          </p:grpSpPr>
          <p:sp>
            <p:nvSpPr>
              <p:cNvPr id="194" name=""/>
              <p:cNvSpPr/>
              <p:nvPr/>
            </p:nvSpPr>
            <p:spPr>
              <a:xfrm>
                <a:off x="914400" y="4792320"/>
                <a:ext cx="2087640" cy="27648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r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30040" y="5222160"/>
                <a:ext cx="432000" cy="24624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AP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35120" y="5222160"/>
                <a:ext cx="431640" cy="24624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AP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 rot="1495200">
                <a:off x="1202760" y="5077080"/>
                <a:ext cx="31608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 rot="20506200">
                <a:off x="1663200" y="5077080"/>
                <a:ext cx="31608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66760" y="5222160"/>
                <a:ext cx="115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élection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de 2 avant-proje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755964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128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ré-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620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400800" y="3530520"/>
            <a:ext cx="2511360" cy="1671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38080" y="1522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gt; Principales étapes de la création d’un pro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56400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160020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31200" y="1173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6400" y="1173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06040" y="117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836640"/>
            <a:ext cx="64764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1752480"/>
            <a:ext cx="132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éveloppement des deux avant-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9960" y="1773360"/>
            <a:ext cx="251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O 2D 3D 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èle mécanique, design, ergonomie, électronique, fonderie, plasturgi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16720" y="1700280"/>
            <a:ext cx="25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eur d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sentation de chaque projet par chacun des conce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3789360"/>
            <a:ext cx="2516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groupe décide du projet défini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e élargi avec retour des décid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e de dévelop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4038480"/>
            <a:ext cx="2592360" cy="1189080"/>
          </a:xfrm>
          <a:prstGeom prst="rect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ototypage rapid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type technologique des pièces à tes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type technologique de l’ense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531972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t ret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éalisation du prototype définit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éfinition du plan de développement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187280" y="2494080"/>
            <a:ext cx="1872000" cy="461880"/>
            <a:chOff x="1187280" y="2494080"/>
            <a:chExt cx="1872000" cy="461880"/>
          </a:xfrm>
        </p:grpSpPr>
        <p:sp>
          <p:nvSpPr>
            <p:cNvPr id="225" name=""/>
            <p:cNvSpPr/>
            <p:nvPr/>
          </p:nvSpPr>
          <p:spPr>
            <a:xfrm>
              <a:off x="1187280" y="270972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270972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32000" y="249408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1640" y="249408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187280" y="2925720"/>
            <a:ext cx="1872000" cy="462240"/>
            <a:chOff x="1187280" y="2925720"/>
            <a:chExt cx="1872000" cy="462240"/>
          </a:xfrm>
        </p:grpSpPr>
        <p:sp>
          <p:nvSpPr>
            <p:cNvPr id="230" name=""/>
            <p:cNvSpPr/>
            <p:nvPr/>
          </p:nvSpPr>
          <p:spPr>
            <a:xfrm>
              <a:off x="1187280" y="314172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314172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32000" y="292572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71640" y="292572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187280" y="3357720"/>
            <a:ext cx="1872000" cy="461880"/>
            <a:chOff x="1187280" y="3357720"/>
            <a:chExt cx="1872000" cy="461880"/>
          </a:xfrm>
        </p:grpSpPr>
        <p:sp>
          <p:nvSpPr>
            <p:cNvPr id="235" name=""/>
            <p:cNvSpPr/>
            <p:nvPr/>
          </p:nvSpPr>
          <p:spPr>
            <a:xfrm>
              <a:off x="1187280" y="357336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357336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32000" y="335772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35772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632240" y="3782160"/>
            <a:ext cx="995040" cy="499680"/>
            <a:chOff x="1632240" y="3782160"/>
            <a:chExt cx="995040" cy="499680"/>
          </a:xfrm>
        </p:grpSpPr>
        <p:sp>
          <p:nvSpPr>
            <p:cNvPr id="240" name=""/>
            <p:cNvSpPr/>
            <p:nvPr/>
          </p:nvSpPr>
          <p:spPr>
            <a:xfrm>
              <a:off x="1836720" y="4005360"/>
              <a:ext cx="574560" cy="2764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968800">
              <a:off x="2482560" y="3790440"/>
              <a:ext cx="74520" cy="217800"/>
            </a:xfrm>
            <a:prstGeom prst="upDownArrow">
              <a:avLst>
                <a:gd name="adj1" fmla="val 0"/>
                <a:gd name="adj2" fmla="val 7452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966000">
              <a:off x="1692360" y="3789000"/>
              <a:ext cx="108000" cy="217440"/>
            </a:xfrm>
            <a:prstGeom prst="upDownArrow">
              <a:avLst>
                <a:gd name="adj1" fmla="val 0"/>
                <a:gd name="adj2" fmla="val 5134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63360" y="4005360"/>
            <a:ext cx="2288520" cy="1212840"/>
            <a:chOff x="963360" y="4005360"/>
            <a:chExt cx="2288520" cy="1212840"/>
          </a:xfrm>
        </p:grpSpPr>
        <p:grpSp>
          <p:nvGrpSpPr>
            <p:cNvPr id="244" name=""/>
            <p:cNvGrpSpPr/>
            <p:nvPr/>
          </p:nvGrpSpPr>
          <p:grpSpPr>
            <a:xfrm>
              <a:off x="963360" y="4005360"/>
              <a:ext cx="835920" cy="1212840"/>
              <a:chOff x="963360" y="4005360"/>
              <a:chExt cx="835920" cy="1212840"/>
            </a:xfrm>
          </p:grpSpPr>
          <p:sp>
            <p:nvSpPr>
              <p:cNvPr id="245" name=""/>
              <p:cNvSpPr/>
              <p:nvPr/>
            </p:nvSpPr>
            <p:spPr>
              <a:xfrm>
                <a:off x="1332000" y="4005360"/>
                <a:ext cx="92160" cy="217440"/>
              </a:xfrm>
              <a:prstGeom prst="upDownArrow">
                <a:avLst>
                  <a:gd name="adj1" fmla="val 0"/>
                  <a:gd name="adj2" fmla="val 8327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63360" y="4221000"/>
                <a:ext cx="835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32000" y="4437000"/>
                <a:ext cx="92160" cy="217440"/>
              </a:xfrm>
              <a:prstGeom prst="upDownArrow">
                <a:avLst>
                  <a:gd name="adj1" fmla="val 0"/>
                  <a:gd name="adj2" fmla="val 8327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4840" y="4581360"/>
                <a:ext cx="55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s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32000" y="4797360"/>
                <a:ext cx="92160" cy="217440"/>
              </a:xfrm>
              <a:prstGeom prst="upDownArrow">
                <a:avLst>
                  <a:gd name="adj1" fmla="val 0"/>
                  <a:gd name="adj2" fmla="val 8327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67400" y="4941720"/>
                <a:ext cx="6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ssa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415960" y="4005360"/>
              <a:ext cx="835920" cy="1212840"/>
              <a:chOff x="2415960" y="4005360"/>
              <a:chExt cx="835920" cy="1212840"/>
            </a:xfrm>
          </p:grpSpPr>
          <p:sp>
            <p:nvSpPr>
              <p:cNvPr id="252" name=""/>
              <p:cNvSpPr/>
              <p:nvPr/>
            </p:nvSpPr>
            <p:spPr>
              <a:xfrm>
                <a:off x="2784600" y="4005360"/>
                <a:ext cx="91800" cy="217440"/>
              </a:xfrm>
              <a:prstGeom prst="upDownArrow">
                <a:avLst>
                  <a:gd name="adj1" fmla="val 0"/>
                  <a:gd name="adj2" fmla="val 83604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15960" y="4221000"/>
                <a:ext cx="835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84600" y="4437000"/>
                <a:ext cx="91800" cy="217440"/>
              </a:xfrm>
              <a:prstGeom prst="upDownArrow">
                <a:avLst>
                  <a:gd name="adj1" fmla="val 0"/>
                  <a:gd name="adj2" fmla="val 83604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57440" y="4581360"/>
                <a:ext cx="55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s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84600" y="4797360"/>
                <a:ext cx="91800" cy="217440"/>
              </a:xfrm>
              <a:prstGeom prst="upDownArrow">
                <a:avLst>
                  <a:gd name="adj1" fmla="val 0"/>
                  <a:gd name="adj2" fmla="val 83604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20000" y="4941720"/>
                <a:ext cx="6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ssa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1836720" y="4365720"/>
            <a:ext cx="574560" cy="779760"/>
            <a:chOff x="1836720" y="4365720"/>
            <a:chExt cx="574560" cy="779760"/>
          </a:xfrm>
        </p:grpSpPr>
        <p:sp>
          <p:nvSpPr>
            <p:cNvPr id="259" name=""/>
            <p:cNvSpPr/>
            <p:nvPr/>
          </p:nvSpPr>
          <p:spPr>
            <a:xfrm rot="5400000">
              <a:off x="1953720" y="4410000"/>
              <a:ext cx="358560" cy="269640"/>
            </a:xfrm>
            <a:custGeom>
              <a:avLst/>
              <a:gdLst>
                <a:gd name="textAreaLeft" fmla="*/ 55800 w 358560"/>
                <a:gd name="textAreaRight" fmla="*/ 313920 w 358560"/>
                <a:gd name="textAreaTop" fmla="*/ 67320 h 269640"/>
                <a:gd name="textAreaBottom" fmla="*/ 20232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6720" y="4869000"/>
              <a:ext cx="574560" cy="27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581280" y="548640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O : liasses de plans constituant le dossier prod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128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152280"/>
            <a:ext cx="114300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1643040" cy="1214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581280" y="3657600"/>
            <a:ext cx="25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522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gt; Principales étapes de la création d’un pro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564000" y="1125360"/>
            <a:ext cx="2592360" cy="505080"/>
          </a:xfrm>
          <a:prstGeom prst="rect">
            <a:avLst/>
          </a:prstGeom>
          <a:solidFill>
            <a:srgbClr val="00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25360"/>
            <a:ext cx="2592360" cy="505080"/>
          </a:xfrm>
          <a:prstGeom prst="rect">
            <a:avLst/>
          </a:prstGeom>
          <a:solidFill>
            <a:srgbClr val="00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1125360"/>
            <a:ext cx="2592360" cy="505080"/>
          </a:xfrm>
          <a:prstGeom prst="rect">
            <a:avLst/>
          </a:prstGeom>
          <a:solidFill>
            <a:srgbClr val="00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6400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1628640"/>
            <a:ext cx="2592360" cy="446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31200" y="1173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36400" y="1173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06040" y="117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836640"/>
            <a:ext cx="64764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46880" y="1795320"/>
            <a:ext cx="1794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ude de fabricatio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 de fabric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x des procédés,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ude des outillag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ude du contrô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42920" y="3357720"/>
            <a:ext cx="214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e en place de la productio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alisation des postes de tr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is de pré-sé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679400" y="3213000"/>
            <a:ext cx="576360" cy="1684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4320" y="478620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alisation d’une pré-sé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679400" y="4581360"/>
            <a:ext cx="576360" cy="1684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39960" y="1755720"/>
            <a:ext cx="25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AO 3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1700280"/>
            <a:ext cx="25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reau des méthodes  et ateliers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4000" y="2781360"/>
            <a:ext cx="2592360" cy="824040"/>
          </a:xfrm>
          <a:prstGeom prst="rect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Outillage rapide (OR)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ques direc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ques indirec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Industri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72400" y="152280"/>
            <a:ext cx="114300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629400" y="2438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38080" y="1522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gt; Principales étapes de la création d’un pro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7960" y="4343400"/>
            <a:ext cx="25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 :Réglage d’une p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8560" y="2114280"/>
            <a:ext cx="6324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824760"/>
            <a:ext cx="7116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totypage rapi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’outillage rapi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'intègrent aujourd'hui complètement dans le processus de création et de développement des produi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prototypage rapide permet aussi la reproduction d'objet en 3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81400" y="4267080"/>
            <a:ext cx="5329080" cy="1937160"/>
            <a:chOff x="3281400" y="4267080"/>
            <a:chExt cx="5329080" cy="1937160"/>
          </a:xfrm>
        </p:grpSpPr>
        <p:sp>
          <p:nvSpPr>
            <p:cNvPr id="298" name=""/>
            <p:cNvSpPr/>
            <p:nvPr/>
          </p:nvSpPr>
          <p:spPr>
            <a:xfrm flipV="1">
              <a:off x="3809880" y="42670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67480" y="510516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75040" y="5362920"/>
              <a:ext cx="91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ys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8520" y="55623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5135400"/>
              <a:ext cx="114300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15440" y="5332680"/>
              <a:ext cx="123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umérisation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scanner 3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809880" y="563868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52680" y="4952880"/>
              <a:ext cx="5257800" cy="12193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81400" y="5866920"/>
              <a:ext cx="185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Rétro-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52680" y="2209680"/>
            <a:ext cx="5257800" cy="2590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0120" y="3657600"/>
            <a:ext cx="990360" cy="990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358800" y="2253960"/>
            <a:ext cx="5175720" cy="2333880"/>
            <a:chOff x="3358800" y="2253960"/>
            <a:chExt cx="5175720" cy="2333880"/>
          </a:xfrm>
        </p:grpSpPr>
        <p:sp>
          <p:nvSpPr>
            <p:cNvPr id="310" name=""/>
            <p:cNvSpPr/>
            <p:nvPr/>
          </p:nvSpPr>
          <p:spPr>
            <a:xfrm>
              <a:off x="6326280" y="41590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05320" y="2971800"/>
              <a:ext cx="838080" cy="1295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9200" y="2590920"/>
              <a:ext cx="114300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43800" y="251460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0640" y="33516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30640" y="2757960"/>
              <a:ext cx="114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toty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ap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42720" y="2757960"/>
              <a:ext cx="92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quet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 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’asp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3124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05520" y="3657600"/>
              <a:ext cx="114300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60600" y="3930840"/>
              <a:ext cx="88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ill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ap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26280" y="28954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20120" y="3854520"/>
              <a:ext cx="775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d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on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iè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388620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79280" y="4038120"/>
              <a:ext cx="73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céd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225396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Création direc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19720" y="408312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212200" y="3733920"/>
            <a:ext cx="833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virtuel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2057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résum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219320" y="48006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62120" y="61711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roduction d’œuvr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’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1517760" cy="19810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333" name=""/>
          <p:cNvSpPr/>
          <p:nvPr/>
        </p:nvSpPr>
        <p:spPr>
          <a:xfrm>
            <a:off x="0" y="355104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 en médium : borne kilomé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8:23:25Z</dcterms:created>
  <dc:creator>lycee loritz</dc:creator>
  <dc:description/>
  <dc:language>en-US</dc:language>
  <cp:lastModifiedBy> </cp:lastModifiedBy>
  <dcterms:modified xsi:type="dcterms:W3CDTF">2009-01-05T11:41:38Z</dcterms:modified>
  <cp:revision>24</cp:revision>
  <dc:subject/>
  <dc:title>TSCPI</dc:title>
</cp:coreProperties>
</file>