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496-4E5A-45C6-80E0-3D6D4F23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E7F-1107-4E14-B137-2DD1DD2C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882-90D4-4C37-80E7-166D9001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2F9-94D9-4BAE-91BC-5E4A411E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DB4-4EAB-4CA9-8CC2-52F0A6F9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28E-0FF6-4881-B72B-1768BD06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D2EC-18D9-4093-80EE-CE451E15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AEA-1A1A-4C44-BFFB-9C3CBA6B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8E7-916C-441E-B480-17DA9A01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D85-14CC-4568-A982-EEB4469C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A105-49CF-4E32-BA5C-B3B61BC0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624-2D1E-439F-A608-2CE2A896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716A-8D9D-4CAF-B8F3-EFE142268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1:44:46Z</dcterms:created>
  <dc:creator>to46003</dc:creator>
  <dc:description/>
  <dc:language>en-US</dc:language>
  <cp:lastModifiedBy>to46003</cp:lastModifiedBy>
  <dcterms:modified xsi:type="dcterms:W3CDTF">2009-07-08T06:45:16Z</dcterms:modified>
  <cp:revision>2</cp:revision>
  <dc:subject/>
  <dc:title>Diapositive 1</dc:title>
</cp:coreProperties>
</file>