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72288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724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6012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5480" y="4698720"/>
            <a:ext cx="503892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36"/>
          </p:nvPr>
        </p:nvSpPr>
        <p:spPr>
          <a:xfrm>
            <a:off x="5179680" y="9664560"/>
            <a:ext cx="754200" cy="230400"/>
          </a:xfrm>
          <a:prstGeom prst="rect">
            <a:avLst/>
          </a:prstGeom>
          <a:noFill/>
          <a:ln w="0">
            <a:noFill/>
          </a:ln>
        </p:spPr>
        <p:txBody>
          <a:bodyPr lIns="180000" r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C49E09-DCC0-4380-A527-1AB22A4972C0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6048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7280" y="4698720"/>
            <a:ext cx="503532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D: tableau récapitulatif de dé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614-39A5-4097-8632-ADF71AE1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7F5-8584-4495-B48A-28DC38B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E587C-439E-4C8A-8B70-3F9F447C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6729B5-28F9-4F7B-8FEE-96606C5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3DC38-4D4E-4F39-9333-775BE1A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32642B-62D2-4C5E-9869-825373C6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EA2E1C-21C2-44C0-9033-01FD57B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298DA-D95E-4D23-AC21-7A95899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A0FB7F-5405-48FD-AADF-95A82A6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FE378-E9CD-4D60-8558-72AAB1B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E9BCCB-A090-4D96-A141-56B3498A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2CC96A-59B9-49BC-B4ED-3904B037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8AC-9D9B-402F-AB83-4064B3A1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ABDA1D-7B3D-49B0-8B32-F9E0DD39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25BAB9-711A-4973-A96F-E1492694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7C3FE5-B5D6-4404-8519-7BC5EE26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5DC502-CA30-4775-9D9A-3067287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677CF2-D188-4C20-9B1D-AE27C231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3FC43-92AB-4FB6-835D-3A3870C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C6D4FF-6D69-4E9C-8833-A743D33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7D955F-A01A-4374-96A0-190F588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C00A69-8D20-4D84-8889-96026DC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3897DB-E6D1-48B8-BF47-EAAB90D5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964-697E-4F02-903A-6CAB2FF2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2CA003-2FF2-4A29-89B4-83CEE433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0F0C8B-D3E5-43BA-841E-32D80555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578CE8-65E8-4FDD-AE15-A67B7FBC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344D5D-6CCC-4BD9-8535-BEE68733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5FC1FF-F60B-4C6B-BC03-A7D64A2F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9FF7EB-A85F-4666-9CC4-1A7A26C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8503B7-BA0D-4325-9BE9-736A4606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13B3AB-8DAA-49EC-9ADF-7F9A745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142F7C-0309-4F5F-8DD0-359422D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3F841D-60E2-45A1-871C-B3396145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65D71E-C5E1-41AC-BD84-FA89FEE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BADBF8-4672-4448-BD88-515E2005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9D0B8B-B01F-469D-95CF-16B4BF00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F7AAE7-748D-4F0B-80FF-D84DB331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1679B1-F687-434C-94C9-5D586D7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0AB027-7DDF-4130-B885-B769B5B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177815-6676-4C99-8AFF-672CEE57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C4CE6B-9451-4E44-95C7-5D7B05FA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52778A-A8B6-4782-9A90-824B080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09E774-12D2-4E50-859A-9AEE8DEF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78D03D-C321-4964-8E4A-D29A04D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2B3BD4-654C-4FDF-9CF4-AC4BDBF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CD46ED-AB42-4729-B1F0-0DA4E284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03413D-D065-4C4D-BE84-F5F3CD90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B3E6C0-F143-4398-8B38-FFED01F1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CF1-3372-4043-9306-D1BD29B6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FDDC0-86FD-4EF3-9162-87BD73E3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E356C-EED6-48D4-B3A9-B9E35BD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DE14D-375A-434D-9A6E-D514199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BA74B-E749-4E05-9017-26E9F2A6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B7E64-5976-40DB-8765-D4C7228E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CCE-FF83-442F-A1D8-B5BDD11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CEA56-5F4B-40FD-A182-B43D2031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BD515-54FB-47A3-BD73-C63DAFF0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CC45E-1000-4656-B52E-0A44261C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15564-A307-482A-AAB7-9DAA6E5F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52F2D-AE8E-4B86-BC42-D2EFD5A9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54264-06D0-43C2-92D3-E04BCFA4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B9D3D-CA99-4E51-B39F-DE2A27AC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31D3B-ADF9-4CAC-A7B6-F69E842F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F1D5B-D453-4057-A69D-49941D36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82F12-EC1C-45C6-98DD-9C5CADA5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72E-494E-463E-981F-68888D1D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F7E5F-985C-486C-A4A2-080AB99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329D4-017E-4D17-BACF-16944F2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A19C2-D7DB-48DE-9D51-640A86DA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63EC3-C576-484D-AD96-82814D7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02DD5-E607-48E0-9AD2-5209E8A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0C6E7-9788-4647-ACEB-5E12C76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83435-3F88-455A-9ACD-8449DB3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932DD-7085-457F-9CAB-3DC78E90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28051-13DF-494C-A1AC-627FE682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B766E-8607-4123-90A1-5F313FCC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664-2D23-4362-B3CA-0C5F753D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08063-540F-4F59-89C8-E42832E0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03077-7AF0-4D9B-99CD-7CA60EE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E14A1-B2E1-4EBD-BA5A-E83BE9A2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87DD6-18D2-4839-A461-8E0C5B8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99B9B-A234-45D6-BE60-E9C8EE20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560B5-485B-4143-8107-D510ABB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1B934-A203-4525-B77E-7738FA14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CA7AF-0042-4E53-BC72-ABD0B78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28246-65D8-4876-A15B-619A67B0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3AB83-EDE2-4933-A34E-3F5BFFFD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235-6FC4-45C2-AE08-78D9579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85AE7-9322-4241-9B26-A2185549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9A9BD-465A-4483-A16E-A9AEE194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BB64A-FBBA-4D80-B92A-3735E3DE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CD0F3-47C9-4568-AF96-F052B421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895B0-2AEB-43F5-8D0F-62696803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D5CD2-4912-43B8-917F-94FE4906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77AC1-C2C9-4977-8BF9-632A1731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BAA72-9793-4E5F-A763-AA03748D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88BA8-45D2-4F19-A2F7-F3A6F8C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5A98B-4974-42E6-813A-9645BF2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66A-5ACB-47C8-A8EA-97B785A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C78FB-8FB7-4DF1-8311-6AC83D2F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778B7-BDFC-4858-9CD5-3601E703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CADA9-2095-4D58-A3BB-5C5C98F2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7B632-92C5-4C6D-9042-F0478AE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64A78-EA2C-49A4-9E64-A42B2683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BEA6F-0DCF-4243-BB04-88499BA8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B18E0-F469-4E6B-A3CF-9321285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3EAD1-6E4B-44F9-8755-C1529D0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A50B7-8094-4706-A3EC-6DD59AC5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023A5-A81B-4D1D-ABB4-B40034E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CF9-D6CF-4D66-9B08-E428590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4F50B-0CAC-4E7A-AE73-3A33FF9D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E2559-6C0F-4FCA-84E6-8F07109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16BC4-3110-4ABD-902C-08B0894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7732E-0CD0-4052-BB77-B4FA387C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91C15-7A70-40BD-BA60-4A2FE03C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BB348-A526-457E-9031-5F140456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77CAB-0651-4564-BE40-4A2F4106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6FF85-E677-4BCE-83F0-4B8CDCD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11EA4-DACB-4C19-A4C5-707FFA5B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2BD3E-90F7-4B9E-B157-EC78EA2A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48E-6178-400D-A0C0-CA7E756C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D6C3E-6D46-42DA-91BF-7489F563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F9DA7B-577B-4BF7-A0B4-BE10819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17DCC-9A3F-4D55-9876-16A5E76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C9FA00-EBC8-4FE9-98EC-C5D1D7A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9440" y="3736800"/>
            <a:ext cx="8370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35F3B5-9CFD-4DCD-94AE-B713E8B2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7944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3736800"/>
            <a:ext cx="408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96F35-F846-4D59-A6D4-B99AE43D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0940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9720" y="99036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7944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0940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9720" y="3736800"/>
            <a:ext cx="2694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81A67-F3F6-42CC-9309-4046D0B3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2388C0-B21A-42DE-8490-8A85C3E3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7EF617-45B5-4492-855D-C6D4DD4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B7158-0B54-402F-8B3D-54531AC0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901DB6-6A34-4700-A0AB-B6C0B88C53D0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7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8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9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EEF8A6-E1D6-4182-B026-3594CA08A5CD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0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1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2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320499-A486-4BE0-A114-112F943FCA4A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3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4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5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CCA5CE-F965-4FB5-86D7-C659E0CA1042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4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0" y="1525680"/>
            <a:ext cx="9144000" cy="236376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5"/>
          <p:cNvSpPr/>
          <p:nvPr/>
        </p:nvSpPr>
        <p:spPr>
          <a:xfrm>
            <a:off x="0" y="0"/>
            <a:ext cx="9144000" cy="43164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1" descr="internal"/>
          <p:cNvPicPr/>
          <p:nvPr/>
        </p:nvPicPr>
        <p:blipFill>
          <a:blip r:embed="rId2"/>
          <a:stretch/>
        </p:blipFill>
        <p:spPr>
          <a:xfrm>
            <a:off x="8066160" y="5969160"/>
            <a:ext cx="1077840" cy="888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9280" y="-360"/>
            <a:ext cx="1584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month 20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-3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144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F0F25F-70C9-4EDA-94E9-08C2413D12F5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4370EA-8321-4FD1-9533-FD5F07A95D61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687134-8D03-4441-8906-FDC26206EC96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5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6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7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D3F5D3-5792-472E-A469-481B1DCEDC70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8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9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0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2546AC-A7DA-4685-BA9C-6AED03836E10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35113A-A189-40CB-9ABD-A7A36782BE84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7d9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3"/>
          <p:cNvSpPr/>
          <p:nvPr/>
        </p:nvSpPr>
        <p:spPr>
          <a:xfrm rot="16200000">
            <a:off x="-1423800" y="5250600"/>
            <a:ext cx="304956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" spc="-1" strike="noStrike">
                <a:solidFill>
                  <a:srgbClr val="5d5d5d"/>
                </a:solidFill>
                <a:latin typeface="Arial"/>
              </a:rPr>
              <a:t>© AIRBUS S.A.S. All rights reserved. Confidential and proprietary documen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0" descr="internal"/>
          <p:cNvPicPr/>
          <p:nvPr/>
        </p:nvPicPr>
        <p:blipFill>
          <a:blip r:embed="rId2"/>
          <a:stretch/>
        </p:blipFill>
        <p:spPr>
          <a:xfrm>
            <a:off x="8423280" y="626436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379440" y="990360"/>
            <a:ext cx="837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7640">
              <a:spcBef>
                <a:spcPts val="575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509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16000">
              <a:spcBef>
                <a:spcPts val="5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4"/>
          </p:nvPr>
        </p:nvSpPr>
        <p:spPr>
          <a:xfrm>
            <a:off x="6095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onth 200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5"/>
          </p:nvPr>
        </p:nvSpPr>
        <p:spPr>
          <a:xfrm>
            <a:off x="380880" y="6629040"/>
            <a:ext cx="5639040" cy="2286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Use Tab 'Insert - Header &amp; Footer' for Presentation Title - Siglum -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6"/>
          </p:nvPr>
        </p:nvSpPr>
        <p:spPr>
          <a:xfrm>
            <a:off x="7238520" y="6629040"/>
            <a:ext cx="118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8D1076-3C62-462F-80DB-6F229003CC4D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Espace réservé de la date 3"/>
          <p:cNvSpPr/>
          <p:nvPr/>
        </p:nvSpPr>
        <p:spPr>
          <a:xfrm>
            <a:off x="6095880" y="662940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Espace réservé du numéro de diapositive 5"/>
          <p:cNvSpPr/>
          <p:nvPr/>
        </p:nvSpPr>
        <p:spPr>
          <a:xfrm>
            <a:off x="7238880" y="6629400"/>
            <a:ext cx="118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7589A5-0670-4F18-BA84-F0718942FFBA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75"/>
          <p:cNvGrpSpPr/>
          <p:nvPr/>
        </p:nvGrpSpPr>
        <p:grpSpPr>
          <a:xfrm>
            <a:off x="65160" y="1028880"/>
            <a:ext cx="4184280" cy="5350320"/>
            <a:chOff x="65160" y="1028880"/>
            <a:chExt cx="4184280" cy="5350320"/>
          </a:xfrm>
        </p:grpSpPr>
        <p:grpSp>
          <p:nvGrpSpPr>
            <p:cNvPr id="535" name="Group 7"/>
            <p:cNvGrpSpPr/>
            <p:nvPr/>
          </p:nvGrpSpPr>
          <p:grpSpPr>
            <a:xfrm>
              <a:off x="65160" y="1028880"/>
              <a:ext cx="4184280" cy="5350320"/>
              <a:chOff x="65160" y="1028880"/>
              <a:chExt cx="4184280" cy="5350320"/>
            </a:xfrm>
          </p:grpSpPr>
          <p:sp>
            <p:nvSpPr>
              <p:cNvPr id="536" name="Text Box 8"/>
              <p:cNvSpPr/>
              <p:nvPr/>
            </p:nvSpPr>
            <p:spPr>
              <a:xfrm>
                <a:off x="1412640" y="1128960"/>
                <a:ext cx="1523880" cy="3884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F531 10000 0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6699"/>
                    </a:solidFill>
                    <a:latin typeface="Arial"/>
                  </a:rPr>
                  <a:t>Tronçon 11 supérieu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9"/>
              <p:cNvSpPr/>
              <p:nvPr/>
            </p:nvSpPr>
            <p:spPr>
              <a:xfrm>
                <a:off x="1220760" y="1809720"/>
                <a:ext cx="1904400" cy="440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F531 10018 0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6699"/>
                    </a:solidFill>
                    <a:latin typeface="Arial"/>
                  </a:rPr>
                  <a:t>Liaison plancher /Casquet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10"/>
              <p:cNvSpPr/>
              <p:nvPr/>
            </p:nvSpPr>
            <p:spPr>
              <a:xfrm>
                <a:off x="1449360" y="3699000"/>
                <a:ext cx="1447200" cy="3765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F531 10066 0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6699"/>
                    </a:solidFill>
                    <a:latin typeface="Arial"/>
                  </a:rPr>
                  <a:t>Liaison C1/Planch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11"/>
              <p:cNvSpPr/>
              <p:nvPr/>
            </p:nvSpPr>
            <p:spPr>
              <a:xfrm>
                <a:off x="128520" y="4911840"/>
                <a:ext cx="1326600" cy="394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F531 10433 2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6699"/>
                    </a:solidFill>
                    <a:latin typeface="Arial"/>
                  </a:rPr>
                  <a:t>Gouss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12"/>
              <p:cNvSpPr/>
              <p:nvPr/>
            </p:nvSpPr>
            <p:spPr>
              <a:xfrm>
                <a:off x="65160" y="5969160"/>
                <a:ext cx="1574640" cy="4100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ASNA30128600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6699"/>
                    </a:solidFill>
                    <a:latin typeface="Arial"/>
                  </a:rPr>
                  <a:t>Tôle mi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3"/>
              <p:cNvSpPr/>
              <p:nvPr/>
            </p:nvSpPr>
            <p:spPr>
              <a:xfrm>
                <a:off x="1712880" y="4908600"/>
                <a:ext cx="918720" cy="4032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12MJ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6699"/>
                    </a:solidFill>
                    <a:latin typeface="Arial"/>
                  </a:rPr>
                  <a:t>Equip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4"/>
              <p:cNvSpPr/>
              <p:nvPr/>
            </p:nvSpPr>
            <p:spPr>
              <a:xfrm>
                <a:off x="1697760" y="6039000"/>
                <a:ext cx="948960" cy="276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634705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5"/>
              <p:cNvSpPr/>
              <p:nvPr/>
            </p:nvSpPr>
            <p:spPr>
              <a:xfrm>
                <a:off x="2813040" y="4908600"/>
                <a:ext cx="1436400" cy="4032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6699"/>
                    </a:solidFill>
                    <a:latin typeface="Arial"/>
                  </a:rPr>
                  <a:t>PQ 10050-050-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6699"/>
                    </a:solidFill>
                    <a:latin typeface="Arial"/>
                  </a:rPr>
                  <a:t>Masti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6"/>
              <p:cNvSpPr/>
              <p:nvPr/>
            </p:nvSpPr>
            <p:spPr>
              <a:xfrm>
                <a:off x="2814480" y="1028880"/>
                <a:ext cx="277560" cy="209520"/>
              </a:xfrm>
              <a:prstGeom prst="rect">
                <a:avLst/>
              </a:prstGeom>
              <a:solidFill>
                <a:srgbClr val="5fa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 </a:t>
                </a: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E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17"/>
              <p:cNvSpPr/>
              <p:nvPr/>
            </p:nvSpPr>
            <p:spPr>
              <a:xfrm>
                <a:off x="2786040" y="1704960"/>
                <a:ext cx="501120" cy="203400"/>
              </a:xfrm>
              <a:prstGeom prst="rect">
                <a:avLst/>
              </a:prstGeom>
              <a:solidFill>
                <a:srgbClr val="5fa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TR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18"/>
              <p:cNvSpPr/>
              <p:nvPr/>
            </p:nvSpPr>
            <p:spPr>
              <a:xfrm>
                <a:off x="3325680" y="4751640"/>
                <a:ext cx="439560" cy="189720"/>
              </a:xfrm>
              <a:prstGeom prst="rect">
                <a:avLst/>
              </a:prstGeom>
              <a:solidFill>
                <a:srgbClr val="5fa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PQ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19"/>
              <p:cNvSpPr/>
              <p:nvPr/>
            </p:nvSpPr>
            <p:spPr>
              <a:xfrm>
                <a:off x="488880" y="5772240"/>
                <a:ext cx="605880" cy="219240"/>
              </a:xfrm>
              <a:prstGeom prst="rect">
                <a:avLst/>
              </a:prstGeom>
              <a:solidFill>
                <a:srgbClr val="5fa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Matiè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20"/>
              <p:cNvSpPr/>
              <p:nvPr/>
            </p:nvSpPr>
            <p:spPr>
              <a:xfrm>
                <a:off x="590400" y="4745160"/>
                <a:ext cx="472680" cy="195120"/>
              </a:xfrm>
              <a:prstGeom prst="rect">
                <a:avLst/>
              </a:prstGeom>
              <a:solidFill>
                <a:srgbClr val="5fa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P/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21"/>
              <p:cNvSpPr/>
              <p:nvPr/>
            </p:nvSpPr>
            <p:spPr>
              <a:xfrm>
                <a:off x="2678040" y="3600720"/>
                <a:ext cx="1371240" cy="195120"/>
              </a:xfrm>
              <a:prstGeom prst="rect">
                <a:avLst/>
              </a:prstGeom>
              <a:solidFill>
                <a:srgbClr val="5fa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Plan Sol de mont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2"/>
              <p:cNvSpPr/>
              <p:nvPr/>
            </p:nvSpPr>
            <p:spPr>
              <a:xfrm>
                <a:off x="1939680" y="4751640"/>
                <a:ext cx="472680" cy="195120"/>
              </a:xfrm>
              <a:prstGeom prst="rect">
                <a:avLst/>
              </a:prstGeom>
              <a:solidFill>
                <a:srgbClr val="5fa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7a2336"/>
                    </a:solidFill>
                    <a:latin typeface="Arial"/>
                  </a:rPr>
                  <a:t>F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1" name="AutoShape 23"/>
              <p:cNvCxnSpPr>
                <a:stCxn id="536" idx="2"/>
                <a:endCxn id="537" idx="0"/>
              </p:cNvCxnSpPr>
              <p:nvPr/>
            </p:nvCxnSpPr>
            <p:spPr>
              <a:xfrm flipH="1">
                <a:off x="2172960" y="1517400"/>
                <a:ext cx="1800" cy="29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52" name="AutoShape 24"/>
              <p:cNvCxnSpPr>
                <a:stCxn id="537" idx="2"/>
                <a:endCxn id="538" idx="0"/>
              </p:cNvCxnSpPr>
              <p:nvPr/>
            </p:nvCxnSpPr>
            <p:spPr>
              <a:xfrm>
                <a:off x="2172960" y="2250360"/>
                <a:ext cx="360" cy="1449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53" name="AutoShape 25"/>
              <p:cNvCxnSpPr>
                <a:stCxn id="538" idx="2"/>
                <a:endCxn id="550" idx="0"/>
              </p:cNvCxnSpPr>
              <p:nvPr/>
            </p:nvCxnSpPr>
            <p:spPr>
              <a:xfrm flipH="1" rot="16200000">
                <a:off x="1836360" y="4412160"/>
                <a:ext cx="676440" cy="3240"/>
              </a:xfrm>
              <a:prstGeom prst="bentConnector3">
                <a:avLst>
                  <a:gd name="adj1" fmla="val 5005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54" name="AutoShape 26"/>
              <p:cNvCxnSpPr>
                <a:stCxn id="538" idx="2"/>
                <a:endCxn id="548" idx="0"/>
              </p:cNvCxnSpPr>
              <p:nvPr/>
            </p:nvCxnSpPr>
            <p:spPr>
              <a:xfrm rot="5400000">
                <a:off x="1164960" y="3737160"/>
                <a:ext cx="669960" cy="1346760"/>
              </a:xfrm>
              <a:prstGeom prst="bentConnector3">
                <a:avLst>
                  <a:gd name="adj1" fmla="val 5005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55" name="AutoShape 27"/>
              <p:cNvCxnSpPr>
                <a:stCxn id="541" idx="2"/>
                <a:endCxn id="542" idx="0"/>
              </p:cNvCxnSpPr>
              <p:nvPr/>
            </p:nvCxnSpPr>
            <p:spPr>
              <a:xfrm>
                <a:off x="2172240" y="5311800"/>
                <a:ext cx="360" cy="727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56" name="AutoShape 28"/>
              <p:cNvCxnSpPr>
                <a:stCxn id="539" idx="2"/>
                <a:endCxn id="547" idx="0"/>
              </p:cNvCxnSpPr>
              <p:nvPr/>
            </p:nvCxnSpPr>
            <p:spPr>
              <a:xfrm>
                <a:off x="791640" y="5306760"/>
                <a:ext cx="360" cy="46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57" name="AutoShape 29"/>
              <p:cNvCxnSpPr>
                <a:stCxn id="538" idx="2"/>
                <a:endCxn id="546" idx="0"/>
              </p:cNvCxnSpPr>
              <p:nvPr/>
            </p:nvCxnSpPr>
            <p:spPr>
              <a:xfrm flipH="1" rot="16200000">
                <a:off x="2521080" y="3727440"/>
                <a:ext cx="676440" cy="13726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58" name="Group 74"/>
            <p:cNvGrpSpPr/>
            <p:nvPr/>
          </p:nvGrpSpPr>
          <p:grpSpPr>
            <a:xfrm>
              <a:off x="2722680" y="2838600"/>
              <a:ext cx="1406520" cy="721800"/>
              <a:chOff x="2722680" y="2838600"/>
              <a:chExt cx="1406520" cy="721800"/>
            </a:xfrm>
          </p:grpSpPr>
          <p:sp>
            <p:nvSpPr>
              <p:cNvPr id="559" name="Text Box 32"/>
              <p:cNvSpPr/>
              <p:nvPr/>
            </p:nvSpPr>
            <p:spPr>
              <a:xfrm>
                <a:off x="3384720" y="3087720"/>
                <a:ext cx="460080" cy="246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7a2336"/>
                    </a:solidFill>
                    <a:latin typeface="Arial"/>
                  </a:rPr>
                  <a:t>So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33"/>
              <p:cNvSpPr/>
              <p:nvPr/>
            </p:nvSpPr>
            <p:spPr>
              <a:xfrm>
                <a:off x="3027960" y="3092400"/>
                <a:ext cx="349920" cy="246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7a2336"/>
                    </a:solidFill>
                    <a:latin typeface="Arial"/>
                  </a:rPr>
                  <a:t>R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34"/>
              <p:cNvSpPr/>
              <p:nvPr/>
            </p:nvSpPr>
            <p:spPr>
              <a:xfrm>
                <a:off x="2722680" y="2838600"/>
                <a:ext cx="1406520" cy="246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7a2336"/>
                    </a:solidFill>
                    <a:latin typeface="Arial"/>
                  </a:rPr>
                  <a:t>Poste de</a:t>
                </a:r>
                <a:r>
                  <a:rPr b="1" lang="fr-FR" sz="1000" spc="-1" strike="noStrike">
                    <a:solidFill>
                      <a:srgbClr val="7a2336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7a2336"/>
                    </a:solidFill>
                    <a:latin typeface="Arial"/>
                  </a:rPr>
                  <a:t>mont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31"/>
              <p:cNvSpPr/>
              <p:nvPr/>
            </p:nvSpPr>
            <p:spPr>
              <a:xfrm>
                <a:off x="2979720" y="3344760"/>
                <a:ext cx="914400" cy="2156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6699"/>
                    </a:solidFill>
                    <a:latin typeface="Arial"/>
                  </a:rPr>
                  <a:t>Validité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solidFill>
            <a:srgbClr val="7d94ca"/>
          </a:solidFill>
          <a:ln w="6480">
            <a:solidFill>
              <a:srgbClr val="7d94ca"/>
            </a:solidFill>
            <a:miter/>
          </a:ln>
        </p:spPr>
        <p:txBody>
          <a:bodyPr lIns="216000" rIns="21600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Correspondance cascade BE-PR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3"/>
          <p:cNvSpPr/>
          <p:nvPr/>
        </p:nvSpPr>
        <p:spPr>
          <a:xfrm>
            <a:off x="4637160" y="733320"/>
            <a:ext cx="0" cy="617220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141880" y="668160"/>
            <a:ext cx="3200400" cy="304920"/>
          </a:xfrm>
          <a:prstGeom prst="rect">
            <a:avLst/>
          </a:prstGeom>
          <a:solidFill>
            <a:srgbClr val="5d5d5d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Cascade Pro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820800" y="668160"/>
            <a:ext cx="3200400" cy="304920"/>
          </a:xfrm>
          <a:prstGeom prst="rect">
            <a:avLst/>
          </a:prstGeom>
          <a:solidFill>
            <a:srgbClr val="5d5d5d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Cascade Bureau Etu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5"/>
          <p:cNvGrpSpPr/>
          <p:nvPr/>
        </p:nvGrpSpPr>
        <p:grpSpPr>
          <a:xfrm>
            <a:off x="4941720" y="1100160"/>
            <a:ext cx="4087800" cy="5230800"/>
            <a:chOff x="4941720" y="1100160"/>
            <a:chExt cx="4087800" cy="5230800"/>
          </a:xfrm>
        </p:grpSpPr>
        <p:sp>
          <p:nvSpPr>
            <p:cNvPr id="568" name="Text Box 36"/>
            <p:cNvSpPr/>
            <p:nvPr/>
          </p:nvSpPr>
          <p:spPr>
            <a:xfrm>
              <a:off x="4941720" y="4933800"/>
              <a:ext cx="1876320" cy="28404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F531.10433.200.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7"/>
            <p:cNvSpPr/>
            <p:nvPr/>
          </p:nvSpPr>
          <p:spPr>
            <a:xfrm>
              <a:off x="5179680" y="6046560"/>
              <a:ext cx="1447920" cy="28440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20141247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8"/>
            <p:cNvSpPr/>
            <p:nvPr/>
          </p:nvSpPr>
          <p:spPr>
            <a:xfrm>
              <a:off x="6135480" y="1100160"/>
              <a:ext cx="134784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PROGA3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39"/>
            <p:cNvSpPr/>
            <p:nvPr/>
          </p:nvSpPr>
          <p:spPr>
            <a:xfrm>
              <a:off x="6238440" y="1823760"/>
              <a:ext cx="1144800" cy="27648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FQD5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0"/>
            <p:cNvSpPr/>
            <p:nvPr/>
          </p:nvSpPr>
          <p:spPr>
            <a:xfrm>
              <a:off x="6095880" y="2541600"/>
              <a:ext cx="1433520" cy="27648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F53B1004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41"/>
            <p:cNvSpPr/>
            <p:nvPr/>
          </p:nvSpPr>
          <p:spPr>
            <a:xfrm>
              <a:off x="6521040" y="3136680"/>
              <a:ext cx="654120" cy="268560"/>
            </a:xfrm>
            <a:prstGeom prst="ellipse">
              <a:avLst/>
            </a:prstGeom>
            <a:solidFill>
              <a:srgbClr val="00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V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42"/>
            <p:cNvSpPr/>
            <p:nvPr/>
          </p:nvSpPr>
          <p:spPr>
            <a:xfrm>
              <a:off x="6941880" y="4933800"/>
              <a:ext cx="939600" cy="28404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F-12MJ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43"/>
            <p:cNvSpPr/>
            <p:nvPr/>
          </p:nvSpPr>
          <p:spPr>
            <a:xfrm>
              <a:off x="6941880" y="6048360"/>
              <a:ext cx="950760" cy="27648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634705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44"/>
            <p:cNvSpPr/>
            <p:nvPr/>
          </p:nvSpPr>
          <p:spPr>
            <a:xfrm>
              <a:off x="6106680" y="3913200"/>
              <a:ext cx="1482840" cy="27648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F531.10066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45"/>
            <p:cNvSpPr/>
            <p:nvPr/>
          </p:nvSpPr>
          <p:spPr>
            <a:xfrm>
              <a:off x="7175160" y="1717560"/>
              <a:ext cx="53352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ST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46"/>
            <p:cNvSpPr/>
            <p:nvPr/>
          </p:nvSpPr>
          <p:spPr>
            <a:xfrm>
              <a:off x="7434000" y="2396880"/>
              <a:ext cx="39204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F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47"/>
            <p:cNvSpPr/>
            <p:nvPr/>
          </p:nvSpPr>
          <p:spPr>
            <a:xfrm>
              <a:off x="7465680" y="3741480"/>
              <a:ext cx="48420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O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48"/>
            <p:cNvSpPr/>
            <p:nvPr/>
          </p:nvSpPr>
          <p:spPr>
            <a:xfrm>
              <a:off x="5638680" y="4771800"/>
              <a:ext cx="43812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PI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49"/>
            <p:cNvSpPr/>
            <p:nvPr/>
          </p:nvSpPr>
          <p:spPr>
            <a:xfrm>
              <a:off x="5648040" y="5871960"/>
              <a:ext cx="46512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C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50"/>
            <p:cNvSpPr/>
            <p:nvPr/>
          </p:nvSpPr>
          <p:spPr>
            <a:xfrm>
              <a:off x="7116480" y="5903640"/>
              <a:ext cx="59688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CM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51"/>
            <p:cNvSpPr/>
            <p:nvPr/>
          </p:nvSpPr>
          <p:spPr>
            <a:xfrm>
              <a:off x="7035480" y="4771800"/>
              <a:ext cx="74304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EQ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2"/>
            <p:cNvSpPr/>
            <p:nvPr/>
          </p:nvSpPr>
          <p:spPr>
            <a:xfrm>
              <a:off x="7994520" y="4933800"/>
              <a:ext cx="1035000" cy="284040"/>
            </a:xfrm>
            <a:prstGeom prst="rect">
              <a:avLst/>
            </a:prstGeom>
            <a:solidFill>
              <a:srgbClr val="ffd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6699"/>
                  </a:solidFill>
                  <a:latin typeface="Arial"/>
                </a:rPr>
                <a:t>49889878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53"/>
            <p:cNvSpPr/>
            <p:nvPr/>
          </p:nvSpPr>
          <p:spPr>
            <a:xfrm>
              <a:off x="8253000" y="4771800"/>
              <a:ext cx="542880" cy="20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7a2336"/>
                  </a:solidFill>
                  <a:latin typeface="Arial"/>
                </a:rPr>
                <a:t>C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6" name="AutoShape 54"/>
            <p:cNvCxnSpPr>
              <a:stCxn id="570" idx="2"/>
              <a:endCxn id="571" idx="0"/>
            </p:cNvCxnSpPr>
            <p:nvPr/>
          </p:nvCxnSpPr>
          <p:spPr>
            <a:xfrm flipH="1" rot="16200000">
              <a:off x="6586560" y="1599480"/>
              <a:ext cx="447480" cy="1800"/>
            </a:xfrm>
            <a:prstGeom prst="bentConnector3">
              <a:avLst>
                <a:gd name="adj1" fmla="val 500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7" name="AutoShape 55"/>
            <p:cNvCxnSpPr>
              <a:stCxn id="571" idx="2"/>
              <a:endCxn id="572" idx="0"/>
            </p:cNvCxnSpPr>
            <p:nvPr/>
          </p:nvCxnSpPr>
          <p:spPr>
            <a:xfrm flipH="1" rot="16200000">
              <a:off x="6590880" y="2319840"/>
              <a:ext cx="441720" cy="2160"/>
            </a:xfrm>
            <a:prstGeom prst="bentConnector3">
              <a:avLst>
                <a:gd name="adj1" fmla="val 500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8" name="AutoShape 56"/>
            <p:cNvCxnSpPr>
              <a:stCxn id="572" idx="2"/>
            </p:cNvCxnSpPr>
            <p:nvPr/>
          </p:nvCxnSpPr>
          <p:spPr>
            <a:xfrm>
              <a:off x="6812640" y="2818080"/>
              <a:ext cx="360" cy="29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9" name="AutoShape 57"/>
            <p:cNvCxnSpPr>
              <a:stCxn id="573" idx="4"/>
              <a:endCxn id="576" idx="0"/>
            </p:cNvCxnSpPr>
            <p:nvPr/>
          </p:nvCxnSpPr>
          <p:spPr>
            <a:xfrm flipH="1">
              <a:off x="6847920" y="3405240"/>
              <a:ext cx="720" cy="50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AutoShape 58"/>
            <p:cNvCxnSpPr>
              <a:stCxn id="576" idx="2"/>
              <a:endCxn id="580" idx="0"/>
            </p:cNvCxnSpPr>
            <p:nvPr/>
          </p:nvCxnSpPr>
          <p:spPr>
            <a:xfrm rot="5400000">
              <a:off x="6061320" y="3985560"/>
              <a:ext cx="582480" cy="990720"/>
            </a:xfrm>
            <a:prstGeom prst="bentConnector3">
              <a:avLst>
                <a:gd name="adj1" fmla="val 500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AutoShape 59"/>
            <p:cNvCxnSpPr>
              <a:stCxn id="576" idx="2"/>
              <a:endCxn id="583" idx="0"/>
            </p:cNvCxnSpPr>
            <p:nvPr/>
          </p:nvCxnSpPr>
          <p:spPr>
            <a:xfrm flipH="1" rot="16200000">
              <a:off x="6836400" y="4200840"/>
              <a:ext cx="582480" cy="559440"/>
            </a:xfrm>
            <a:prstGeom prst="bentConnector3">
              <a:avLst>
                <a:gd name="adj1" fmla="val 500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AutoShape 60"/>
            <p:cNvCxnSpPr>
              <a:stCxn id="576" idx="2"/>
              <a:endCxn id="585" idx="0"/>
            </p:cNvCxnSpPr>
            <p:nvPr/>
          </p:nvCxnSpPr>
          <p:spPr>
            <a:xfrm flipH="1" rot="16200000">
              <a:off x="7395120" y="3642120"/>
              <a:ext cx="582480" cy="1676880"/>
            </a:xfrm>
            <a:prstGeom prst="bentConnector3">
              <a:avLst>
                <a:gd name="adj1" fmla="val 500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3" name="AutoShape 61"/>
            <p:cNvCxnSpPr>
              <a:stCxn id="568" idx="2"/>
              <a:endCxn id="581" idx="0"/>
            </p:cNvCxnSpPr>
            <p:nvPr/>
          </p:nvCxnSpPr>
          <p:spPr>
            <a:xfrm flipH="1" rot="16200000">
              <a:off x="5553360" y="5544360"/>
              <a:ext cx="654480" cy="1080"/>
            </a:xfrm>
            <a:prstGeom prst="bentConnector3">
              <a:avLst>
                <a:gd name="adj1" fmla="val 499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4" name="AutoShape 62"/>
            <p:cNvCxnSpPr>
              <a:stCxn id="574" idx="2"/>
              <a:endCxn id="582" idx="0"/>
            </p:cNvCxnSpPr>
            <p:nvPr/>
          </p:nvCxnSpPr>
          <p:spPr>
            <a:xfrm flipH="1" rot="16200000">
              <a:off x="7070400" y="5558760"/>
              <a:ext cx="686160" cy="3600"/>
            </a:xfrm>
            <a:prstGeom prst="bentConnector3">
              <a:avLst>
                <a:gd name="adj1" fmla="val 499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5" name="Group 77"/>
          <p:cNvGrpSpPr/>
          <p:nvPr/>
        </p:nvGrpSpPr>
        <p:grpSpPr>
          <a:xfrm>
            <a:off x="4343400" y="3197160"/>
            <a:ext cx="4724280" cy="1548000"/>
            <a:chOff x="4343400" y="3197160"/>
            <a:chExt cx="4724280" cy="1548000"/>
          </a:xfrm>
        </p:grpSpPr>
        <p:sp>
          <p:nvSpPr>
            <p:cNvPr id="596" name="AutoShape 71"/>
            <p:cNvSpPr/>
            <p:nvPr/>
          </p:nvSpPr>
          <p:spPr>
            <a:xfrm>
              <a:off x="7988400" y="3197160"/>
              <a:ext cx="1079280" cy="841320"/>
            </a:xfrm>
            <a:prstGeom prst="wedgeRoundRectCallout">
              <a:avLst>
                <a:gd name="adj1" fmla="val -86027"/>
                <a:gd name="adj2" fmla="val 63773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amme de mont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72"/>
            <p:cNvSpPr/>
            <p:nvPr/>
          </p:nvSpPr>
          <p:spPr>
            <a:xfrm>
              <a:off x="4343400" y="4197240"/>
              <a:ext cx="1438200" cy="547920"/>
            </a:xfrm>
            <a:prstGeom prst="wedgeRoundRectCallout">
              <a:avLst>
                <a:gd name="adj1" fmla="val 39291"/>
                <a:gd name="adj2" fmla="val 72027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amme de fabr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79"/>
          <p:cNvGrpSpPr/>
          <p:nvPr/>
        </p:nvGrpSpPr>
        <p:grpSpPr>
          <a:xfrm>
            <a:off x="2896560" y="1966320"/>
            <a:ext cx="3610800" cy="2085120"/>
            <a:chOff x="2896560" y="1966320"/>
            <a:chExt cx="3610800" cy="2085120"/>
          </a:xfrm>
        </p:grpSpPr>
        <p:cxnSp>
          <p:nvCxnSpPr>
            <p:cNvPr id="599" name="AutoShape 63"/>
            <p:cNvCxnSpPr/>
            <p:nvPr/>
          </p:nvCxnSpPr>
          <p:spPr>
            <a:xfrm flipV="1">
              <a:off x="4129200" y="1966320"/>
              <a:ext cx="2110320" cy="999000"/>
            </a:xfrm>
            <a:prstGeom prst="curvedConnector5">
              <a:avLst>
                <a:gd name="adj1" fmla="val 49957"/>
                <a:gd name="adj2" fmla="val 50000"/>
                <a:gd name="adj3" fmla="val 49957"/>
              </a:avLst>
            </a:prstGeom>
            <a:ln w="31680">
              <a:solidFill>
                <a:srgbClr val="00808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600" name="AutoShape 64"/>
            <p:cNvCxnSpPr>
              <a:stCxn id="560" idx="3"/>
            </p:cNvCxnSpPr>
            <p:nvPr/>
          </p:nvCxnSpPr>
          <p:spPr>
            <a:xfrm flipV="1">
              <a:off x="3377880" y="2684160"/>
              <a:ext cx="2718000" cy="531720"/>
            </a:xfrm>
            <a:prstGeom prst="curvedConnector3">
              <a:avLst>
                <a:gd name="adj1" fmla="val 25155"/>
              </a:avLst>
            </a:prstGeom>
            <a:ln w="316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601" name="AutoShape 65"/>
            <p:cNvCxnSpPr/>
            <p:nvPr/>
          </p:nvCxnSpPr>
          <p:spPr>
            <a:xfrm flipV="1">
              <a:off x="3894120" y="3271320"/>
              <a:ext cx="2613600" cy="186480"/>
            </a:xfrm>
            <a:prstGeom prst="curvedConnector5">
              <a:avLst>
                <a:gd name="adj1" fmla="val 50227"/>
                <a:gd name="adj2" fmla="val 49903"/>
                <a:gd name="adj3" fmla="val 50227"/>
              </a:avLst>
            </a:prstGeom>
            <a:ln w="31680">
              <a:solidFill>
                <a:srgbClr val="ff00ff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602" name="AutoShape 78"/>
            <p:cNvCxnSpPr>
              <a:stCxn id="538" idx="3"/>
              <a:endCxn id="576" idx="1"/>
            </p:cNvCxnSpPr>
            <p:nvPr/>
          </p:nvCxnSpPr>
          <p:spPr>
            <a:xfrm>
              <a:off x="2896560" y="3887280"/>
              <a:ext cx="3210480" cy="164520"/>
            </a:xfrm>
            <a:prstGeom prst="curvedConnector3">
              <a:avLst>
                <a:gd name="adj1" fmla="val 25008"/>
              </a:avLst>
            </a:prstGeom>
            <a:ln w="31680">
              <a:solidFill>
                <a:srgbClr val="0099cc"/>
              </a:solidFill>
              <a:miter/>
              <a:headEnd len="med" type="stealth" w="med"/>
              <a:tailEnd len="med" type="stealth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2:42:35Z</dcterms:created>
  <dc:creator>to46003</dc:creator>
  <dc:description/>
  <dc:language>en-US</dc:language>
  <cp:lastModifiedBy>to46003</cp:lastModifiedBy>
  <cp:lastPrinted>2002-07-31T09:37:00Z</cp:lastPrinted>
  <dcterms:modified xsi:type="dcterms:W3CDTF">2009-07-08T06:45:17Z</dcterms:modified>
  <cp:revision>3</cp:revision>
  <dc:subject/>
  <dc:title>Correspondance cascade BE-PR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_Doc_Type">
    <vt:lpwstr>PR</vt:lpwstr>
  </property>
</Properties>
</file>