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14B-CB7F-4A09-B2BC-03909E68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857-E7FB-456B-8BDC-6E229AC1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AB4-08D3-4295-9F86-D62E9B5F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D62-899A-48CA-83FA-D9F4FB28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2EB-0F2D-4720-BBFD-A0DAD0C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3D6-F12A-4A9C-9D3D-B23C2D0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F93-6629-442C-804B-E931FB7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8F5-D70A-47AD-9E69-09CB5D9E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44A-C1A6-4896-812F-8AFC61C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111-5F33-4233-8280-E34EEDDF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AB4-E30A-4885-9CE2-FC59837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548-93CD-4AC7-A218-7B16036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ED1-888A-44C6-A88F-3C3AF4448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0:29Z</dcterms:created>
  <dc:creator>to46003</dc:creator>
  <dc:description/>
  <dc:language>en-US</dc:language>
  <cp:lastModifiedBy>to46003</cp:lastModifiedBy>
  <dcterms:modified xsi:type="dcterms:W3CDTF">2009-07-08T06:45:15Z</dcterms:modified>
  <cp:revision>2</cp:revision>
  <dc:subject/>
  <dc:title>Diapositive 1</dc:title>
</cp:coreProperties>
</file>