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E3D-508F-4783-8FD8-9DB268A0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05C-D671-4AAB-B842-797A8D0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94D-36A2-491D-B62E-9D609C41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E4D-A504-4FE9-B384-A5FE478A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1AE-A67C-4F7A-A51D-EC9734B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6C8-2364-4FC9-BED1-A05EDCD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0F0-8F3D-42CB-8BB3-14F74CD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216-F4C2-456A-8338-28EC177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D4C-43A0-460C-9C10-060C1F0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630-3C4E-41F4-9AFB-8D842AC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514-7750-4BB8-B00C-043374B1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612-402E-4C76-BDAC-FE9F0362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FCB-92DD-42A9-B703-643A624D3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38:44Z</dcterms:created>
  <dc:creator>to46003</dc:creator>
  <dc:description/>
  <dc:language>en-US</dc:language>
  <cp:lastModifiedBy>to46003</cp:lastModifiedBy>
  <dcterms:modified xsi:type="dcterms:W3CDTF">2009-07-08T06:45:14Z</dcterms:modified>
  <cp:revision>2</cp:revision>
  <dc:subject/>
  <dc:title>Diapositive 1</dc:title>
</cp:coreProperties>
</file>