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0.png" ContentType="image/png"/>
  <Override PartName="/ppt/media/image30.png" ContentType="image/png"/>
  <Override PartName="/ppt/media/image28.wmf" ContentType="image/x-wmf"/>
  <Override PartName="/ppt/media/image14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7BC-4735-4015-BAB5-09C1B327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BAB-7043-46DB-B36C-01E07CEA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56E-B9CE-4165-933F-A9F70BCE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FE5-1003-4961-BFB9-E44DB275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01FF-ABCD-4F27-AA32-C3D3EB60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8AF7-A69A-485C-8A2C-3B7C47C2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686-F898-49FD-91B1-C4BA1A99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E1B-3B85-4E5D-BD6E-45D19A10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2E4-0AB5-429A-835D-62EDD613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FD2-DCA9-4BBF-88C3-8ADD62F6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5CE-0154-418D-BB31-8A30B995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5D6-29A5-43F7-9C92-B6BE5416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5E6C-F84D-4C98-9DEC-0D11205D8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wm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7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7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ENTES DE CHAR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666880"/>
            <a:ext cx="3505320" cy="1202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ONS FONDAME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CES D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62916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S LINEIQUES – CHARGES PONCTU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22827" t="0" r="17392" b="32916"/>
          <a:stretch/>
        </p:blipFill>
        <p:spPr>
          <a:xfrm>
            <a:off x="3048120" y="609480"/>
            <a:ext cx="2971800" cy="216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248520" y="68580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0" y="2819520"/>
            <a:ext cx="9144000" cy="11286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514600" y="4033800"/>
            <a:ext cx="4191120" cy="2824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467480" y="3581280"/>
            <a:ext cx="1271880" cy="900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E DE CHARGEMENT (ENTRAXE) – PORT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22827" t="0" r="17392" b="32916"/>
          <a:stretch/>
        </p:blipFill>
        <p:spPr>
          <a:xfrm>
            <a:off x="1600200" y="609480"/>
            <a:ext cx="5562720" cy="4044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029200"/>
            <a:ext cx="914400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EN FAIRE LA DISTINCTION ENTRE LA PORTEE ET LA BANDE DE CHAR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391520" y="5791320"/>
            <a:ext cx="1271520" cy="90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E DE CHARGEMENT (ENTRAXE) – PORT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257800"/>
            <a:ext cx="914400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EN FAIRE LA DISTINCTION ENTRE LA PORTEE ET LA BANDE DE CHAR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1520" y="5791320"/>
            <a:ext cx="1271520" cy="90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670572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ER UNE CHARGE SURFACIQUE EN CHARGE LINE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33520" y="380880"/>
                <a:ext cx="8001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inéiqu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rfacique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trax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114800" cy="1552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4419720" cy="1555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495680" y="4648320"/>
            <a:ext cx="4648320" cy="1998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rot="1988400">
            <a:off x="914040" y="4572000"/>
            <a:ext cx="2514600" cy="457200"/>
          </a:xfrm>
          <a:prstGeom prst="rightArrow">
            <a:avLst>
              <a:gd name="adj1" fmla="val 50000"/>
              <a:gd name="adj2" fmla="val 1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ER UNE CHARGE SURFACIQUE EN CHARGE LINE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3520" y="533520"/>
                <a:ext cx="80010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inéiqu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rfacique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trax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7" name="" descr=""/>
          <p:cNvPicPr/>
          <p:nvPr/>
        </p:nvPicPr>
        <p:blipFill>
          <a:blip r:embed="rId1"/>
          <a:srcRect l="22827" t="0" r="17392" b="32916"/>
          <a:stretch/>
        </p:blipFill>
        <p:spPr>
          <a:xfrm>
            <a:off x="304920" y="2133720"/>
            <a:ext cx="4724280" cy="3435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2743200"/>
            <a:ext cx="3276720" cy="1894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traxe pannes 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rtée des pannes 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rges sur pannes 0.9kN/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rge linéique sur panne en kN/m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S LINEIQUES – CHARGES PONCTU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2827" t="0" r="17392" b="32916"/>
          <a:stretch/>
        </p:blipFill>
        <p:spPr>
          <a:xfrm>
            <a:off x="3048120" y="609480"/>
            <a:ext cx="297180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248520" y="68580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80880" y="2819520"/>
            <a:ext cx="8458200" cy="389880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380880"/>
            <a:ext cx="914400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ER DES CHARGES PONCTUELLES EN CHARGE LINE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OIDS PROPRE DES PIECES QUE L’ON VERI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22827" t="0" r="17392" b="32916"/>
          <a:stretch/>
        </p:blipFill>
        <p:spPr>
          <a:xfrm>
            <a:off x="3048120" y="6094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095880" y="6094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0" y="2286000"/>
            <a:ext cx="9144000" cy="358452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flipV="1">
            <a:off x="1066680" y="1523520"/>
            <a:ext cx="25146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762120"/>
            <a:ext cx="2590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66680" y="1142640"/>
            <a:ext cx="25146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762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N/m²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9051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N/m² ramp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295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3808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04920" y="1600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ram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2743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rot="18229800">
            <a:off x="2552760" y="2247840"/>
            <a:ext cx="457200" cy="38088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0" y="0"/>
                </a:moveTo>
                <a:cubicBezTo>
                  <a:pt x="52" y="92"/>
                  <a:pt x="104" y="184"/>
                  <a:pt x="19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21337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gle de la toi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14800" y="762120"/>
            <a:ext cx="1676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IG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324480" y="304920"/>
            <a:ext cx="2654280" cy="358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304920" y="4648320"/>
            <a:ext cx="25146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6320" y="4343040"/>
            <a:ext cx="25146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4343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4495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4648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5867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rot="18229800">
            <a:off x="1790640" y="5372280"/>
            <a:ext cx="457200" cy="38088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0" y="0"/>
                </a:moveTo>
                <a:cubicBezTo>
                  <a:pt x="52" y="92"/>
                  <a:pt x="104" y="184"/>
                  <a:pt x="19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61722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gle de la toi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4952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5105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5257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410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5562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5715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5867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6019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95480" y="4723920"/>
            <a:ext cx="25146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666880" y="4419720"/>
            <a:ext cx="25146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419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4724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5943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rot="18229800">
            <a:off x="4381560" y="5448240"/>
            <a:ext cx="457200" cy="38088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0" y="0"/>
                </a:moveTo>
                <a:cubicBezTo>
                  <a:pt x="52" y="92"/>
                  <a:pt x="104" y="184"/>
                  <a:pt x="19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4876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5029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5181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5334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5486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5638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5791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5943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6095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52280" y="426708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E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PPLICATION DES CHARGEMENTS CLIMATIQUES S ET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262160" y="3110040"/>
                <a:ext cx="5021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²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g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itur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TION AUX PIECES CONTINUES SUR APPU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1908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228600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438280"/>
            <a:ext cx="3200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thode des bandes de char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C’est une méthode approché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2362320"/>
            <a:ext cx="0" cy="24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00600" y="24382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thode PFS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ette méthode est la méthode jus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334120"/>
            <a:ext cx="906768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e porte à faux est minime (b&lt;a/4), la différence entre les deux méthodes est de 4%. On pourra appliquer la méthode par bandes de charg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1838160" cy="1523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029200" y="3200400"/>
            <a:ext cx="3076560" cy="1743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7772400" y="5791320"/>
            <a:ext cx="1271520" cy="90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04920" y="6324480"/>
            <a:ext cx="571500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a : la poutre portée (solive) est isost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267080" y="6095880"/>
            <a:ext cx="2124360" cy="2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tion du cours RD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TION AUX PIECES CONTINUES SUR APPU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28600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2438280"/>
            <a:ext cx="3200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thode des bandes de char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C’est une méthode approché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2362320"/>
            <a:ext cx="0" cy="17524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2438280"/>
            <a:ext cx="434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thode  calculat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Cette méthode est la méthode jus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4648320"/>
            <a:ext cx="9144000" cy="947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ifférence est de 25%. Si l’on utilise la méthode par bande de chargement on majorera le résultat pa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.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ur la poutre centrale et par 0.75 pour les poutres laté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772400" y="5791320"/>
            <a:ext cx="1271520" cy="90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304920" y="6324480"/>
            <a:ext cx="571500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a : la poutre portée (solive) est hyperst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67080" y="6095880"/>
            <a:ext cx="2124360" cy="2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tion du cours RD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886200" y="685800"/>
            <a:ext cx="4191120" cy="1593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2819520" cy="2151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295280" y="3276720"/>
            <a:ext cx="1524240" cy="923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5181480" y="3200400"/>
            <a:ext cx="17910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917960" cy="368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95560"/>
            <a:ext cx="1371600" cy="41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6800" y="41236"/>
                </a:moveTo>
                <a:lnTo>
                  <a:pt x="22800" y="5891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38156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5600" y="-44550"/>
                </a:moveTo>
                <a:lnTo>
                  <a:pt x="23400" y="400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59054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8600" y="-31050"/>
                </a:moveTo>
                <a:lnTo>
                  <a:pt x="23400" y="400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43800" y="575316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1600" y="-25650"/>
                </a:moveTo>
                <a:lnTo>
                  <a:pt x="-1800" y="400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5905440"/>
            <a:ext cx="11430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080" y="-22950"/>
                </a:moveTo>
                <a:lnTo>
                  <a:pt x="-1440" y="400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1676520"/>
            <a:ext cx="13716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8275" y="22275"/>
                </a:moveTo>
                <a:lnTo>
                  <a:pt x="-1200" y="400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alét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43800" y="3772080"/>
            <a:ext cx="12952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294" y="-19406"/>
                </a:moveTo>
                <a:lnTo>
                  <a:pt x="-1271" y="400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R LES CHARGEMENTS A APPLIQUER SUR LES STRUCTUR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429000" y="2362320"/>
            <a:ext cx="2185920" cy="13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3049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54" name="a1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3228840" cy="3657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5" name="a" descr=""/>
          <p:cNvPicPr/>
          <p:nvPr/>
        </p:nvPicPr>
        <p:blipFill>
          <a:blip r:embed="rId3"/>
          <a:stretch/>
        </p:blipFill>
        <p:spPr>
          <a:xfrm>
            <a:off x="304920" y="533520"/>
            <a:ext cx="3657600" cy="2077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6" name=""/>
          <p:cNvSpPr/>
          <p:nvPr/>
        </p:nvSpPr>
        <p:spPr>
          <a:xfrm flipV="1">
            <a:off x="2895480" y="1523880"/>
            <a:ext cx="25146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1066680"/>
            <a:ext cx="2438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a" descr=""/>
          <p:cNvPicPr/>
          <p:nvPr/>
        </p:nvPicPr>
        <p:blipFill>
          <a:blip r:embed="rId4"/>
          <a:stretch/>
        </p:blipFill>
        <p:spPr>
          <a:xfrm>
            <a:off x="5715000" y="3809880"/>
            <a:ext cx="3048120" cy="2863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9" name=""/>
          <p:cNvSpPr/>
          <p:nvPr/>
        </p:nvSpPr>
        <p:spPr>
          <a:xfrm flipV="1">
            <a:off x="6781680" y="3429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R LES CHARGEMENTS A APPLIQUER SUR LES STRUCTUR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4648320" cy="3184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2725920" cy="3276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4191120"/>
            <a:ext cx="4419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ERCHER le poids des matériaux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iles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nea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que de plât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OIDS DES MATERI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5105520"/>
            <a:ext cx="5029200" cy="916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 FOURNISSEURS + BASE DE DONNEES + EXPERIENCE + « FUSIBLES DU BON SENS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533520"/>
            <a:ext cx="502920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RE UN SCHEMA DE LA COMPOSITION DE MATERI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391520" y="5791320"/>
            <a:ext cx="1271520" cy="90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620120" y="838080"/>
            <a:ext cx="1271520" cy="900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648320" cy="318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1838520" cy="2209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6858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ment G :  Composition d’une to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191120"/>
            <a:ext cx="80773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imons le poids propre des éléme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iles :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5 daN/m² rampa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0.45 kN/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nneau 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5 daN/m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0.15 kN/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olant 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 daN/m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0.04 kN/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que de plâtre 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0.013 x 900 = 11.7 /m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0.12 KN/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OIDS DES MATERI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391520" y="5791320"/>
            <a:ext cx="1271520" cy="90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6629400" y="5029200"/>
            <a:ext cx="236232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NTION AUX UN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4038480"/>
            <a:ext cx="3353040" cy="916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R LES CHARGEMENTS EN CHARGES SURFAC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ER LE POIDS DES MATERIAUX EN CHARGES SURFAC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9067680" cy="960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43099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696080" y="3071880"/>
            <a:ext cx="914400" cy="647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ER LE POIDS DES MATERIAUX EN CHARGES SURFAC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9698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946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rcRect l="22827" t="0" r="17392" b="32916"/>
          <a:stretch/>
        </p:blipFill>
        <p:spPr>
          <a:xfrm>
            <a:off x="1905120" y="2819520"/>
            <a:ext cx="5410080" cy="3935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20120" y="4114800"/>
            <a:ext cx="1271520" cy="90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22827" t="0" r="17392" b="32916"/>
          <a:stretch/>
        </p:blipFill>
        <p:spPr>
          <a:xfrm>
            <a:off x="2514600" y="380880"/>
            <a:ext cx="3733920" cy="2716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9144000" cy="28051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ER LE POIDS DES MATERIAUX EN CHARGES SURFAC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22827" t="0" r="17392" b="32916"/>
          <a:stretch/>
        </p:blipFill>
        <p:spPr>
          <a:xfrm>
            <a:off x="2590920" y="533520"/>
            <a:ext cx="3733560" cy="2716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2835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ER LE POIDS DES MATERIAUX EN CHARGES SURFAC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ncent</cp:lastModifiedBy>
  <dcterms:modified xsi:type="dcterms:W3CDTF">2013-10-27T17:05:2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