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E70-5084-4171-9272-446AC8C4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FCE-9F90-491C-9198-03D87FD7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D65-D8EC-4A21-8ED5-F00A1FDD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6E7-5AB6-4922-9955-A73DE8A9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3F7-1F3A-4EB0-A90C-09706661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3D2-61D0-4863-85AB-11E6CD2C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0BE-79C7-4836-9C35-CFABF64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628-70E0-46E2-96D3-1EC7BE95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107-06D3-4B5D-A943-4BD30F2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D6D-2D16-48F9-A907-9D12129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E68-862A-46B8-8579-A991BAD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33A-F2A5-4777-AE82-C67AB217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2AD0-262D-47AB-9A04-526333BCF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pbricard\Desktop\20121120_150447.jpg"/>
          <p:cNvPicPr/>
          <p:nvPr/>
        </p:nvPicPr>
        <p:blipFill>
          <a:blip r:embed="rId1"/>
          <a:stretch/>
        </p:blipFill>
        <p:spPr>
          <a:xfrm>
            <a:off x="324000" y="333360"/>
            <a:ext cx="3220920" cy="2416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jpbricard\Desktop\20121120_150433.jpg"/>
          <p:cNvPicPr/>
          <p:nvPr/>
        </p:nvPicPr>
        <p:blipFill>
          <a:blip r:embed="rId2"/>
          <a:stretch/>
        </p:blipFill>
        <p:spPr>
          <a:xfrm>
            <a:off x="324000" y="285264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jpbricard\Desktop\20121120_150454.jpg"/>
          <p:cNvPicPr/>
          <p:nvPr/>
        </p:nvPicPr>
        <p:blipFill>
          <a:blip r:embed="rId3"/>
          <a:stretch/>
        </p:blipFill>
        <p:spPr>
          <a:xfrm>
            <a:off x="3780000" y="404640"/>
            <a:ext cx="4614840" cy="346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jpbricard\Desktop\20121120_150347.jpg"/>
          <p:cNvPicPr/>
          <p:nvPr/>
        </p:nvPicPr>
        <p:blipFill>
          <a:blip r:embed="rId4"/>
          <a:stretch/>
        </p:blipFill>
        <p:spPr>
          <a:xfrm>
            <a:off x="3995640" y="4005360"/>
            <a:ext cx="3281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21:27:11Z</dcterms:created>
  <dc:creator>jpbricard</dc:creator>
  <dc:description/>
  <dc:language>en-US</dc:language>
  <cp:lastModifiedBy>jpbricard</cp:lastModifiedBy>
  <dcterms:modified xsi:type="dcterms:W3CDTF">2012-11-20T21:29:35Z</dcterms:modified>
  <cp:revision>1</cp:revision>
  <dc:subject/>
  <dc:title>Diapositive 1</dc:title>
</cp:coreProperties>
</file>