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FB60-EC8D-4482-8E44-82B7DD48A25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D522-36D7-4F65-8C94-E3B68CD3C0E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3C12-2737-4BFA-AA21-30427FE501A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0BA0-A1FA-463C-8848-588C56FB36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8FC4F-9742-41ED-A07B-204FCC604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11F8-33CC-4529-9A3C-48676543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2B5B4-F7C1-4ADD-B50C-D15B5D426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3863D-BB59-4596-94B1-BE688A270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1F71-54EF-49D5-85C8-0860E9E92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DEB11-9522-46B2-B212-7678934A4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AA91-E7B9-4D14-A670-B0E0B7B2A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4E75-C994-4BC5-A438-40BAE1390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42721-0E3D-434A-AB50-E863DDCC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642B-1302-4716-B6DE-CF3CF52B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2E9F-931B-421F-9C20-42C58149D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5F609-D3AB-487F-ADA0-6AC601FBD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D32C-D7AD-48C2-B639-E980EABC24C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à coins arrondis 19"/>
          <p:cNvSpPr/>
          <p:nvPr/>
        </p:nvSpPr>
        <p:spPr>
          <a:xfrm>
            <a:off x="179280" y="333360"/>
            <a:ext cx="8785440" cy="6335640"/>
          </a:xfrm>
          <a:prstGeom prst="roundRect">
            <a:avLst>
              <a:gd name="adj" fmla="val 3968"/>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à coins arrondis 21"/>
          <p:cNvSpPr/>
          <p:nvPr/>
        </p:nvSpPr>
        <p:spPr>
          <a:xfrm>
            <a:off x="539640" y="189000"/>
            <a:ext cx="532764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ZoneTexte 22"/>
          <p:cNvSpPr/>
          <p:nvPr/>
        </p:nvSpPr>
        <p:spPr>
          <a:xfrm>
            <a:off x="611280" y="260280"/>
            <a:ext cx="23050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à coins arrondis 25"/>
          <p:cNvSpPr/>
          <p:nvPr/>
        </p:nvSpPr>
        <p:spPr>
          <a:xfrm>
            <a:off x="6156360" y="189000"/>
            <a:ext cx="244800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ZoneTexte 26"/>
          <p:cNvSpPr/>
          <p:nvPr/>
        </p:nvSpPr>
        <p:spPr>
          <a:xfrm>
            <a:off x="6300720" y="333360"/>
            <a:ext cx="215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voir 3 </a:t>
            </a:r>
            <a:r>
              <a:rPr b="0" lang="fr-FR" sz="1800" spc="-1" strike="noStrike">
                <a:solidFill>
                  <a:srgbClr val="000000"/>
                </a:solidFill>
                <a:latin typeface="Calibri"/>
              </a:rPr>
              <a:t>	</a:t>
            </a:r>
            <a:r>
              <a:rPr b="0" lang="fr-FR" sz="1800" spc="-1" strike="noStrike">
                <a:solidFill>
                  <a:srgbClr val="000000"/>
                </a:solidFill>
                <a:latin typeface="Calibri"/>
              </a:rPr>
              <a:t>1/3</a:t>
            </a:r>
            <a:endParaRPr b="0" lang="en-US" sz="1800" spc="-1" strike="noStrike">
              <a:solidFill>
                <a:srgbClr val="000000"/>
              </a:solidFill>
              <a:latin typeface="Arial"/>
            </a:endParaRPr>
          </a:p>
        </p:txBody>
      </p:sp>
      <p:sp>
        <p:nvSpPr>
          <p:cNvPr id="53" name="Rectangle 1"/>
          <p:cNvSpPr/>
          <p:nvPr/>
        </p:nvSpPr>
        <p:spPr>
          <a:xfrm>
            <a:off x="684360" y="334080"/>
            <a:ext cx="241128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Calibri"/>
              </a:rPr>
              <a:t>Associer un procédé de fabrication à une forme.</a:t>
            </a:r>
            <a:r>
              <a:rPr b="0" lang="fr-FR" sz="900" spc="-1" strike="noStrike">
                <a:solidFill>
                  <a:srgbClr val="000000"/>
                </a:solidFill>
                <a:latin typeface="Arial"/>
                <a:ea typeface="Calibri"/>
              </a:rPr>
              <a:t> </a:t>
            </a:r>
            <a:endParaRPr b="0" lang="en-US" sz="900" spc="-1" strike="noStrike">
              <a:solidFill>
                <a:srgbClr val="000000"/>
              </a:solidFill>
              <a:latin typeface="Arial"/>
            </a:endParaRPr>
          </a:p>
        </p:txBody>
      </p:sp>
      <p:sp>
        <p:nvSpPr>
          <p:cNvPr id="54" name="Rectangle 2"/>
          <p:cNvSpPr/>
          <p:nvPr/>
        </p:nvSpPr>
        <p:spPr>
          <a:xfrm>
            <a:off x="3276720" y="334080"/>
            <a:ext cx="24825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Calibri"/>
              </a:rPr>
              <a:t>Identifier les relations formes-matériau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Calibri"/>
              </a:rPr>
              <a:t>procédés de réalisation. </a:t>
            </a:r>
            <a:endParaRPr b="0" lang="en-US" sz="1000" spc="-1" strike="noStrike">
              <a:solidFill>
                <a:srgbClr val="000000"/>
              </a:solidFill>
              <a:latin typeface="Arial"/>
            </a:endParaRPr>
          </a:p>
        </p:txBody>
      </p:sp>
      <p:graphicFrame>
        <p:nvGraphicFramePr>
          <p:cNvPr id="55" name=""/>
          <p:cNvGraphicFramePr/>
          <p:nvPr/>
        </p:nvGraphicFramePr>
        <p:xfrm>
          <a:off x="395280" y="1773360"/>
          <a:ext cx="8209080" cy="1795320"/>
        </p:xfrm>
        <a:graphic>
          <a:graphicData uri="http://schemas.openxmlformats.org/drawingml/2006/table">
            <a:tbl>
              <a:tblPr/>
              <a:tblGrid>
                <a:gridCol w="1641600"/>
                <a:gridCol w="1641240"/>
                <a:gridCol w="1643040"/>
                <a:gridCol w="1641600"/>
                <a:gridCol w="16416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ièces de l’objet techniqu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atériau utilisé  et caractéristiqu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atériels et outillages à mettre en œuv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Opération de fabric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Qualité de l’état de surface obtenu et présence de copeaux</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uille de plastique soup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ypropylè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ne paire de cisea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Cisaillag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isse, prop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s de copeaux</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ge d’acier de diamètre 5 m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Aci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Scie à métaux et éta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Sciag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ugueux, présence de copeaux</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ZoneTexte 24"/>
          <p:cNvSpPr/>
          <p:nvPr/>
        </p:nvSpPr>
        <p:spPr>
          <a:xfrm>
            <a:off x="324000" y="112536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mpléter le tableau suivant :</a:t>
            </a:r>
            <a:endParaRPr b="0" lang="en-US" sz="1800" spc="-1" strike="noStrike">
              <a:solidFill>
                <a:srgbClr val="000000"/>
              </a:solidFill>
              <a:latin typeface="Arial"/>
            </a:endParaRPr>
          </a:p>
        </p:txBody>
      </p:sp>
      <p:sp>
        <p:nvSpPr>
          <p:cNvPr id="57" name="ZoneTexte 26"/>
          <p:cNvSpPr/>
          <p:nvPr/>
        </p:nvSpPr>
        <p:spPr>
          <a:xfrm>
            <a:off x="324000" y="3789360"/>
            <a:ext cx="44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Réalisation d’une biellette de direction :</a:t>
            </a:r>
            <a:endParaRPr b="0" lang="en-US" sz="1800" spc="-1" strike="noStrike">
              <a:solidFill>
                <a:srgbClr val="000000"/>
              </a:solidFill>
              <a:latin typeface="Arial"/>
            </a:endParaRPr>
          </a:p>
        </p:txBody>
      </p:sp>
      <p:pic>
        <p:nvPicPr>
          <p:cNvPr id="58" name="Picture 2" descr=""/>
          <p:cNvPicPr/>
          <p:nvPr/>
        </p:nvPicPr>
        <p:blipFill>
          <a:blip r:embed="rId1"/>
          <a:stretch/>
        </p:blipFill>
        <p:spPr>
          <a:xfrm>
            <a:off x="2771640" y="4221000"/>
            <a:ext cx="1152720" cy="2084400"/>
          </a:xfrm>
          <a:prstGeom prst="rect">
            <a:avLst/>
          </a:prstGeom>
          <a:ln w="0">
            <a:noFill/>
          </a:ln>
        </p:spPr>
      </p:pic>
      <p:sp>
        <p:nvSpPr>
          <p:cNvPr id="59" name="ZoneTexte 27"/>
          <p:cNvSpPr/>
          <p:nvPr/>
        </p:nvSpPr>
        <p:spPr>
          <a:xfrm>
            <a:off x="250920" y="4365720"/>
            <a:ext cx="2592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aractéristiques du matériau : fil de fer de diamètre 1 mm. Longueur de la pièce brute (avant façonnage) : 8 cm.</a:t>
            </a:r>
            <a:endParaRPr b="0" lang="en-US" sz="1800" spc="-1" strike="noStrike">
              <a:solidFill>
                <a:srgbClr val="000000"/>
              </a:solidFill>
              <a:latin typeface="Arial"/>
            </a:endParaRPr>
          </a:p>
        </p:txBody>
      </p:sp>
      <p:sp>
        <p:nvSpPr>
          <p:cNvPr id="60" name="ZoneTexte 28"/>
          <p:cNvSpPr/>
          <p:nvPr/>
        </p:nvSpPr>
        <p:spPr>
          <a:xfrm>
            <a:off x="4211640" y="4221000"/>
            <a:ext cx="439272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1 Retrouver l’ordre des opérations de fabrication de cette piè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sure et repérage sur le matériau de la longueur 8 c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isaillage du fil de fer à l’aide d’une pince coup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formation des extrémités à l’aide de la pince à becs f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2 Donner les outils ou machines utilisé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glet, pince coupante, pince à becs fi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à coins arrondis 19"/>
          <p:cNvSpPr/>
          <p:nvPr/>
        </p:nvSpPr>
        <p:spPr>
          <a:xfrm>
            <a:off x="179280" y="333360"/>
            <a:ext cx="8785440" cy="6335640"/>
          </a:xfrm>
          <a:prstGeom prst="roundRect">
            <a:avLst>
              <a:gd name="adj" fmla="val 3968"/>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à coins arrondis 21"/>
          <p:cNvSpPr/>
          <p:nvPr/>
        </p:nvSpPr>
        <p:spPr>
          <a:xfrm>
            <a:off x="539640" y="189000"/>
            <a:ext cx="532764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ZoneTexte 22"/>
          <p:cNvSpPr/>
          <p:nvPr/>
        </p:nvSpPr>
        <p:spPr>
          <a:xfrm>
            <a:off x="611280" y="260280"/>
            <a:ext cx="23050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à coins arrondis 25"/>
          <p:cNvSpPr/>
          <p:nvPr/>
        </p:nvSpPr>
        <p:spPr>
          <a:xfrm>
            <a:off x="6156360" y="189000"/>
            <a:ext cx="244800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ZoneTexte 26"/>
          <p:cNvSpPr/>
          <p:nvPr/>
        </p:nvSpPr>
        <p:spPr>
          <a:xfrm>
            <a:off x="6300720" y="333360"/>
            <a:ext cx="215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voir 3 </a:t>
            </a:r>
            <a:r>
              <a:rPr b="0" lang="fr-FR" sz="1800" spc="-1" strike="noStrike">
                <a:solidFill>
                  <a:srgbClr val="000000"/>
                </a:solidFill>
                <a:latin typeface="Calibri"/>
              </a:rPr>
              <a:t>	</a:t>
            </a:r>
            <a:r>
              <a:rPr b="0" lang="fr-FR" sz="1800" spc="-1" strike="noStrike">
                <a:solidFill>
                  <a:srgbClr val="000000"/>
                </a:solidFill>
                <a:latin typeface="Calibri"/>
              </a:rPr>
              <a:t>2/3</a:t>
            </a:r>
            <a:endParaRPr b="0" lang="en-US" sz="1800" spc="-1" strike="noStrike">
              <a:solidFill>
                <a:srgbClr val="000000"/>
              </a:solidFill>
              <a:latin typeface="Arial"/>
            </a:endParaRPr>
          </a:p>
        </p:txBody>
      </p:sp>
      <p:sp>
        <p:nvSpPr>
          <p:cNvPr id="66" name="Rectangle 3"/>
          <p:cNvSpPr/>
          <p:nvPr/>
        </p:nvSpPr>
        <p:spPr>
          <a:xfrm>
            <a:off x="684360" y="261720"/>
            <a:ext cx="26636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Calibri"/>
              </a:rPr>
              <a:t>Réaliser un assemblage ou tout ou partie d’un objet technique en suivant une procédure formalisée. </a:t>
            </a:r>
            <a:endParaRPr b="0" lang="en-US" sz="1000" spc="-1" strike="noStrike">
              <a:solidFill>
                <a:srgbClr val="000000"/>
              </a:solidFill>
              <a:latin typeface="Arial"/>
            </a:endParaRPr>
          </a:p>
        </p:txBody>
      </p:sp>
      <p:sp>
        <p:nvSpPr>
          <p:cNvPr id="67" name="Rectangle 4"/>
          <p:cNvSpPr/>
          <p:nvPr/>
        </p:nvSpPr>
        <p:spPr>
          <a:xfrm>
            <a:off x="3780000" y="334080"/>
            <a:ext cx="19080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Calibri"/>
              </a:rPr>
              <a:t>Effectuer un geste technique en respectant les consignes. </a:t>
            </a:r>
            <a:endParaRPr b="0" lang="en-US" sz="1000" spc="-1" strike="noStrike">
              <a:solidFill>
                <a:srgbClr val="000000"/>
              </a:solidFill>
              <a:latin typeface="Arial"/>
            </a:endParaRPr>
          </a:p>
        </p:txBody>
      </p:sp>
      <p:pic>
        <p:nvPicPr>
          <p:cNvPr id="68" name="Picture 2" descr=""/>
          <p:cNvPicPr/>
          <p:nvPr/>
        </p:nvPicPr>
        <p:blipFill>
          <a:blip r:embed="rId1"/>
          <a:stretch/>
        </p:blipFill>
        <p:spPr>
          <a:xfrm>
            <a:off x="395280" y="1268280"/>
            <a:ext cx="3718080" cy="2521080"/>
          </a:xfrm>
          <a:prstGeom prst="rect">
            <a:avLst/>
          </a:prstGeom>
          <a:ln w="0">
            <a:noFill/>
          </a:ln>
        </p:spPr>
      </p:pic>
      <p:sp>
        <p:nvSpPr>
          <p:cNvPr id="69" name="ZoneTexte 14"/>
          <p:cNvSpPr/>
          <p:nvPr/>
        </p:nvSpPr>
        <p:spPr>
          <a:xfrm>
            <a:off x="4211640" y="1197000"/>
            <a:ext cx="446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Rédiger la procédure qui permet de remplacer une roue de cette planche à roulette. On suppose que les roulements à billes et l’entretoise sont déjà montés sur la nouvelle roue.</a:t>
            </a:r>
            <a:endParaRPr b="0" lang="en-US" sz="1200" spc="-1" strike="noStrike">
              <a:solidFill>
                <a:srgbClr val="000000"/>
              </a:solidFill>
              <a:latin typeface="Arial"/>
            </a:endParaRPr>
          </a:p>
        </p:txBody>
      </p:sp>
      <p:sp>
        <p:nvSpPr>
          <p:cNvPr id="70" name="ZoneTexte 15"/>
          <p:cNvSpPr/>
          <p:nvPr/>
        </p:nvSpPr>
        <p:spPr>
          <a:xfrm>
            <a:off x="324000" y="3933720"/>
            <a:ext cx="122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crou frein de diamètre 8 mm</a:t>
            </a:r>
            <a:endParaRPr b="0" lang="en-US" sz="1200" spc="-1" strike="noStrike">
              <a:solidFill>
                <a:srgbClr val="000000"/>
              </a:solidFill>
              <a:latin typeface="Arial"/>
            </a:endParaRPr>
          </a:p>
        </p:txBody>
      </p:sp>
      <p:sp>
        <p:nvSpPr>
          <p:cNvPr id="71" name="ZoneTexte 16"/>
          <p:cNvSpPr/>
          <p:nvPr/>
        </p:nvSpPr>
        <p:spPr>
          <a:xfrm>
            <a:off x="1476360" y="40053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oulement</a:t>
            </a:r>
            <a:endParaRPr b="0" lang="en-US" sz="1200" spc="-1" strike="noStrike">
              <a:solidFill>
                <a:srgbClr val="000000"/>
              </a:solidFill>
              <a:latin typeface="Arial"/>
            </a:endParaRPr>
          </a:p>
        </p:txBody>
      </p:sp>
      <p:sp>
        <p:nvSpPr>
          <p:cNvPr id="72" name="ZoneTexte 17"/>
          <p:cNvSpPr/>
          <p:nvPr/>
        </p:nvSpPr>
        <p:spPr>
          <a:xfrm>
            <a:off x="2340000" y="386064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tretoise</a:t>
            </a:r>
            <a:endParaRPr b="0" lang="en-US" sz="1200" spc="-1" strike="noStrike">
              <a:solidFill>
                <a:srgbClr val="000000"/>
              </a:solidFill>
              <a:latin typeface="Arial"/>
            </a:endParaRPr>
          </a:p>
        </p:txBody>
      </p:sp>
      <p:sp>
        <p:nvSpPr>
          <p:cNvPr id="73" name="ZoneTexte 27"/>
          <p:cNvSpPr/>
          <p:nvPr/>
        </p:nvSpPr>
        <p:spPr>
          <a:xfrm>
            <a:off x="3203640" y="378936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ge filetée de l’essieu de diamètre 8 mm</a:t>
            </a:r>
            <a:endParaRPr b="0" lang="en-US" sz="1200" spc="-1" strike="noStrike">
              <a:solidFill>
                <a:srgbClr val="000000"/>
              </a:solidFill>
              <a:latin typeface="Arial"/>
            </a:endParaRPr>
          </a:p>
        </p:txBody>
      </p:sp>
      <p:pic>
        <p:nvPicPr>
          <p:cNvPr id="74" name="Image 28" descr="100_5639.JPG"/>
          <p:cNvPicPr/>
          <p:nvPr/>
        </p:nvPicPr>
        <p:blipFill>
          <a:blip r:embed="rId2"/>
          <a:stretch/>
        </p:blipFill>
        <p:spPr>
          <a:xfrm>
            <a:off x="5003640" y="4724280"/>
            <a:ext cx="1189080" cy="1584360"/>
          </a:xfrm>
          <a:prstGeom prst="rect">
            <a:avLst/>
          </a:prstGeom>
          <a:ln w="0">
            <a:noFill/>
          </a:ln>
        </p:spPr>
      </p:pic>
      <p:pic>
        <p:nvPicPr>
          <p:cNvPr id="75" name="Picture 3" descr=""/>
          <p:cNvPicPr/>
          <p:nvPr/>
        </p:nvPicPr>
        <p:blipFill>
          <a:blip r:embed="rId3"/>
          <a:stretch/>
        </p:blipFill>
        <p:spPr>
          <a:xfrm>
            <a:off x="250920" y="4437000"/>
            <a:ext cx="1512720" cy="1513080"/>
          </a:xfrm>
          <a:prstGeom prst="rect">
            <a:avLst/>
          </a:prstGeom>
          <a:ln w="0">
            <a:noFill/>
          </a:ln>
        </p:spPr>
      </p:pic>
      <p:pic>
        <p:nvPicPr>
          <p:cNvPr id="76" name="Picture 4" descr=""/>
          <p:cNvPicPr/>
          <p:nvPr/>
        </p:nvPicPr>
        <p:blipFill>
          <a:blip r:embed="rId4"/>
          <a:stretch/>
        </p:blipFill>
        <p:spPr>
          <a:xfrm>
            <a:off x="1908000" y="4653000"/>
            <a:ext cx="792360" cy="792000"/>
          </a:xfrm>
          <a:prstGeom prst="rect">
            <a:avLst/>
          </a:prstGeom>
          <a:ln w="0">
            <a:noFill/>
          </a:ln>
        </p:spPr>
      </p:pic>
      <p:sp>
        <p:nvSpPr>
          <p:cNvPr id="77" name="ZoneTexte 31"/>
          <p:cNvSpPr/>
          <p:nvPr/>
        </p:nvSpPr>
        <p:spPr>
          <a:xfrm>
            <a:off x="3419640" y="5157720"/>
            <a:ext cx="143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lef en tube coudée</a:t>
            </a:r>
            <a:endParaRPr b="0" lang="en-US" sz="1200" spc="-1" strike="noStrike">
              <a:solidFill>
                <a:srgbClr val="000000"/>
              </a:solidFill>
              <a:latin typeface="Arial"/>
            </a:endParaRPr>
          </a:p>
        </p:txBody>
      </p:sp>
      <p:cxnSp>
        <p:nvCxnSpPr>
          <p:cNvPr id="78" name="Connecteur droit avec flèche 33"/>
          <p:cNvCxnSpPr/>
          <p:nvPr/>
        </p:nvCxnSpPr>
        <p:spPr>
          <a:xfrm flipV="1">
            <a:off x="683280" y="3212640"/>
            <a:ext cx="216360" cy="721440"/>
          </a:xfrm>
          <a:prstGeom prst="straightConnector1">
            <a:avLst/>
          </a:prstGeom>
          <a:ln w="9360">
            <a:solidFill>
              <a:srgbClr val="4a7ebb"/>
            </a:solidFill>
            <a:miter/>
            <a:tailEnd len="med" type="arrow" w="med"/>
          </a:ln>
        </p:spPr>
      </p:cxnSp>
      <p:cxnSp>
        <p:nvCxnSpPr>
          <p:cNvPr id="79" name="Connecteur droit avec flèche 35"/>
          <p:cNvCxnSpPr>
            <a:stCxn id="71" idx="0"/>
          </p:cNvCxnSpPr>
          <p:nvPr/>
        </p:nvCxnSpPr>
        <p:spPr>
          <a:xfrm flipH="1" flipV="1">
            <a:off x="1115640" y="3284280"/>
            <a:ext cx="792720" cy="721440"/>
          </a:xfrm>
          <a:prstGeom prst="straightConnector1">
            <a:avLst/>
          </a:prstGeom>
          <a:ln w="9360">
            <a:solidFill>
              <a:srgbClr val="4a7ebb"/>
            </a:solidFill>
            <a:miter/>
            <a:tailEnd len="med" type="arrow" w="med"/>
          </a:ln>
        </p:spPr>
      </p:cxnSp>
      <p:cxnSp>
        <p:nvCxnSpPr>
          <p:cNvPr id="80" name="Connecteur droit avec flèche 39"/>
          <p:cNvCxnSpPr>
            <a:stCxn id="72" idx="1"/>
          </p:cNvCxnSpPr>
          <p:nvPr/>
        </p:nvCxnSpPr>
        <p:spPr>
          <a:xfrm flipH="1" flipV="1">
            <a:off x="1258200" y="3212280"/>
            <a:ext cx="1081800" cy="786600"/>
          </a:xfrm>
          <a:prstGeom prst="straightConnector1">
            <a:avLst/>
          </a:prstGeom>
          <a:ln w="9360">
            <a:solidFill>
              <a:srgbClr val="4a7ebb"/>
            </a:solidFill>
            <a:miter/>
            <a:tailEnd len="med" type="arrow" w="med"/>
          </a:ln>
        </p:spPr>
      </p:cxnSp>
      <p:cxnSp>
        <p:nvCxnSpPr>
          <p:cNvPr id="81" name="Connecteur droit avec flèche 41"/>
          <p:cNvCxnSpPr>
            <a:stCxn id="73" idx="1"/>
          </p:cNvCxnSpPr>
          <p:nvPr/>
        </p:nvCxnSpPr>
        <p:spPr>
          <a:xfrm flipH="1" flipV="1">
            <a:off x="1979280" y="3212640"/>
            <a:ext cx="1224720" cy="807120"/>
          </a:xfrm>
          <a:prstGeom prst="straightConnector1">
            <a:avLst/>
          </a:prstGeom>
          <a:ln w="9360">
            <a:solidFill>
              <a:srgbClr val="4a7ebb"/>
            </a:solidFill>
            <a:miter/>
            <a:tailEnd len="med" type="arrow" w="med"/>
          </a:ln>
        </p:spPr>
      </p:cxnSp>
      <p:sp>
        <p:nvSpPr>
          <p:cNvPr id="82" name="ZoneTexte 42"/>
          <p:cNvSpPr/>
          <p:nvPr/>
        </p:nvSpPr>
        <p:spPr>
          <a:xfrm>
            <a:off x="2916360" y="6381720"/>
            <a:ext cx="143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lef plate</a:t>
            </a:r>
            <a:endParaRPr b="0" lang="en-US" sz="1200" spc="-1" strike="noStrike">
              <a:solidFill>
                <a:srgbClr val="000000"/>
              </a:solidFill>
              <a:latin typeface="Arial"/>
            </a:endParaRPr>
          </a:p>
        </p:txBody>
      </p:sp>
      <p:sp>
        <p:nvSpPr>
          <p:cNvPr id="83" name="ZoneTexte 43"/>
          <p:cNvSpPr/>
          <p:nvPr/>
        </p:nvSpPr>
        <p:spPr>
          <a:xfrm>
            <a:off x="4643280" y="6308640"/>
            <a:ext cx="1657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lef à molette</a:t>
            </a:r>
            <a:endParaRPr b="0" lang="en-US" sz="1200" spc="-1" strike="noStrike">
              <a:solidFill>
                <a:srgbClr val="000000"/>
              </a:solidFill>
              <a:latin typeface="Arial"/>
            </a:endParaRPr>
          </a:p>
        </p:txBody>
      </p:sp>
      <p:sp>
        <p:nvSpPr>
          <p:cNvPr id="84" name="ZoneTexte 45"/>
          <p:cNvSpPr/>
          <p:nvPr/>
        </p:nvSpPr>
        <p:spPr>
          <a:xfrm>
            <a:off x="4716360" y="3357720"/>
            <a:ext cx="4032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Pour monter la bougie sur cette culasse de scooter, quelle clef dois-je utiliser ? Justifier votre réponse. Dans quelle sens faut-il tourner la clef pour monter la bougie ?</a:t>
            </a:r>
            <a:endParaRPr b="0" lang="en-US" sz="1200" spc="-1" strike="noStrike">
              <a:solidFill>
                <a:srgbClr val="000000"/>
              </a:solidFill>
              <a:latin typeface="Arial"/>
            </a:endParaRPr>
          </a:p>
        </p:txBody>
      </p:sp>
      <p:sp>
        <p:nvSpPr>
          <p:cNvPr id="85" name="ZoneTexte 46"/>
          <p:cNvSpPr/>
          <p:nvPr/>
        </p:nvSpPr>
        <p:spPr>
          <a:xfrm>
            <a:off x="4211640" y="1916280"/>
            <a:ext cx="4464000" cy="9169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sérerer la roue sur la tige fileté. Positionner l’écrou frein sur la tige fileté et serrer le avec une clef plate.</a:t>
            </a:r>
            <a:endParaRPr b="0" lang="en-US" sz="1800" spc="-1" strike="noStrike">
              <a:solidFill>
                <a:srgbClr val="000000"/>
              </a:solidFill>
              <a:latin typeface="Arial"/>
            </a:endParaRPr>
          </a:p>
        </p:txBody>
      </p:sp>
      <p:sp>
        <p:nvSpPr>
          <p:cNvPr id="86" name="ZoneTexte 47"/>
          <p:cNvSpPr/>
          <p:nvPr/>
        </p:nvSpPr>
        <p:spPr>
          <a:xfrm>
            <a:off x="324000" y="5950080"/>
            <a:ext cx="122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ulasse</a:t>
            </a:r>
            <a:endParaRPr b="0" lang="en-US" sz="1200" spc="-1" strike="noStrike">
              <a:solidFill>
                <a:srgbClr val="000000"/>
              </a:solidFill>
              <a:latin typeface="Arial"/>
            </a:endParaRPr>
          </a:p>
        </p:txBody>
      </p:sp>
      <p:sp>
        <p:nvSpPr>
          <p:cNvPr id="87" name="ZoneTexte 48"/>
          <p:cNvSpPr/>
          <p:nvPr/>
        </p:nvSpPr>
        <p:spPr>
          <a:xfrm>
            <a:off x="1835280" y="5661000"/>
            <a:ext cx="115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ougie</a:t>
            </a:r>
            <a:endParaRPr b="0" lang="en-US" sz="1200" spc="-1" strike="noStrike">
              <a:solidFill>
                <a:srgbClr val="000000"/>
              </a:solidFill>
              <a:latin typeface="Arial"/>
            </a:endParaRPr>
          </a:p>
        </p:txBody>
      </p:sp>
      <p:pic>
        <p:nvPicPr>
          <p:cNvPr id="88" name="Image 29" descr="100_5668.JPG"/>
          <p:cNvPicPr/>
          <p:nvPr/>
        </p:nvPicPr>
        <p:blipFill>
          <a:blip r:embed="rId5">
            <a:lum bright="18000"/>
          </a:blip>
          <a:stretch/>
        </p:blipFill>
        <p:spPr>
          <a:xfrm>
            <a:off x="3059280" y="5445000"/>
            <a:ext cx="1249200" cy="936720"/>
          </a:xfrm>
          <a:prstGeom prst="rect">
            <a:avLst/>
          </a:prstGeom>
          <a:ln w="0">
            <a:noFill/>
          </a:ln>
        </p:spPr>
      </p:pic>
      <p:sp>
        <p:nvSpPr>
          <p:cNvPr id="89" name="ZoneTexte 49"/>
          <p:cNvSpPr/>
          <p:nvPr/>
        </p:nvSpPr>
        <p:spPr>
          <a:xfrm>
            <a:off x="6300720" y="4292640"/>
            <a:ext cx="2592360" cy="22885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lef en tube coudée permet un montage facile de la bougie sur la culasse. Les autres clefs ne conviennent pas car on risque de ne pas pouvoir monter la bougie serrée sur la culasse. </a:t>
            </a:r>
            <a:endParaRPr b="0" lang="en-US" sz="1800" spc="-1" strike="noStrike">
              <a:solidFill>
                <a:srgbClr val="000000"/>
              </a:solidFill>
              <a:latin typeface="Arial"/>
            </a:endParaRPr>
          </a:p>
        </p:txBody>
      </p:sp>
      <p:pic>
        <p:nvPicPr>
          <p:cNvPr id="90" name="Picture 6" descr=""/>
          <p:cNvPicPr/>
          <p:nvPr/>
        </p:nvPicPr>
        <p:blipFill>
          <a:blip r:embed="rId6"/>
          <a:stretch/>
        </p:blipFill>
        <p:spPr>
          <a:xfrm>
            <a:off x="3132000" y="4365720"/>
            <a:ext cx="932040" cy="82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à coins arrondis 19"/>
          <p:cNvSpPr/>
          <p:nvPr/>
        </p:nvSpPr>
        <p:spPr>
          <a:xfrm>
            <a:off x="179280" y="333360"/>
            <a:ext cx="8785440" cy="6335640"/>
          </a:xfrm>
          <a:prstGeom prst="roundRect">
            <a:avLst>
              <a:gd name="adj" fmla="val 3968"/>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à coins arrondis 21"/>
          <p:cNvSpPr/>
          <p:nvPr/>
        </p:nvSpPr>
        <p:spPr>
          <a:xfrm>
            <a:off x="539640" y="189000"/>
            <a:ext cx="532764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ZoneTexte 22"/>
          <p:cNvSpPr/>
          <p:nvPr/>
        </p:nvSpPr>
        <p:spPr>
          <a:xfrm>
            <a:off x="611280" y="260280"/>
            <a:ext cx="230508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à coins arrondis 25"/>
          <p:cNvSpPr/>
          <p:nvPr/>
        </p:nvSpPr>
        <p:spPr>
          <a:xfrm>
            <a:off x="6156360" y="189000"/>
            <a:ext cx="2448000" cy="71892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ZoneTexte 26"/>
          <p:cNvSpPr/>
          <p:nvPr/>
        </p:nvSpPr>
        <p:spPr>
          <a:xfrm>
            <a:off x="6300720" y="333360"/>
            <a:ext cx="215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voir 3 </a:t>
            </a:r>
            <a:r>
              <a:rPr b="0" lang="fr-FR" sz="1800" spc="-1" strike="noStrike">
                <a:solidFill>
                  <a:srgbClr val="000000"/>
                </a:solidFill>
                <a:latin typeface="Calibri"/>
              </a:rPr>
              <a:t>	</a:t>
            </a:r>
            <a:r>
              <a:rPr b="0" lang="fr-FR" sz="1800" spc="-1" strike="noStrike">
                <a:solidFill>
                  <a:srgbClr val="000000"/>
                </a:solidFill>
                <a:latin typeface="Calibri"/>
              </a:rPr>
              <a:t>3/3</a:t>
            </a:r>
            <a:endParaRPr b="0" lang="en-US" sz="1800" spc="-1" strike="noStrike">
              <a:solidFill>
                <a:srgbClr val="000000"/>
              </a:solidFill>
              <a:latin typeface="Arial"/>
            </a:endParaRPr>
          </a:p>
        </p:txBody>
      </p:sp>
      <p:sp>
        <p:nvSpPr>
          <p:cNvPr id="96" name="Rectangle 5"/>
          <p:cNvSpPr/>
          <p:nvPr/>
        </p:nvSpPr>
        <p:spPr>
          <a:xfrm>
            <a:off x="611280" y="399240"/>
            <a:ext cx="5184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Calibri"/>
              </a:rPr>
              <a:t>Mesurer et contrôler à l’aide d’instruments de mesure, d’un gabarit. </a:t>
            </a:r>
            <a:endParaRPr b="0" lang="en-US" sz="1200" spc="-1" strike="noStrike">
              <a:solidFill>
                <a:srgbClr val="000000"/>
              </a:solidFill>
              <a:latin typeface="Arial"/>
            </a:endParaRPr>
          </a:p>
        </p:txBody>
      </p:sp>
      <p:sp>
        <p:nvSpPr>
          <p:cNvPr id="97" name="ZoneTexte 9"/>
          <p:cNvSpPr/>
          <p:nvPr/>
        </p:nvSpPr>
        <p:spPr>
          <a:xfrm>
            <a:off x="324000" y="112536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Mesurer avec un réglet une dimension :</a:t>
            </a:r>
            <a:endParaRPr b="0" lang="en-US" sz="1800" spc="-1" strike="noStrike">
              <a:solidFill>
                <a:srgbClr val="000000"/>
              </a:solidFill>
              <a:latin typeface="Arial"/>
            </a:endParaRPr>
          </a:p>
        </p:txBody>
      </p:sp>
      <p:pic>
        <p:nvPicPr>
          <p:cNvPr id="98" name="Picture 3" descr=""/>
          <p:cNvPicPr/>
          <p:nvPr/>
        </p:nvPicPr>
        <p:blipFill>
          <a:blip r:embed="rId1"/>
          <a:stretch/>
        </p:blipFill>
        <p:spPr>
          <a:xfrm>
            <a:off x="324000" y="1989000"/>
            <a:ext cx="6696000" cy="648000"/>
          </a:xfrm>
          <a:prstGeom prst="rect">
            <a:avLst/>
          </a:prstGeom>
          <a:ln w="0">
            <a:noFill/>
          </a:ln>
        </p:spPr>
      </p:pic>
      <p:sp>
        <p:nvSpPr>
          <p:cNvPr id="99" name="Rectangle 13"/>
          <p:cNvSpPr/>
          <p:nvPr/>
        </p:nvSpPr>
        <p:spPr>
          <a:xfrm>
            <a:off x="395280" y="1628640"/>
            <a:ext cx="4681440" cy="360360"/>
          </a:xfrm>
          <a:prstGeom prst="rect">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alibri"/>
              </a:rPr>
              <a:t>Pièce</a:t>
            </a:r>
            <a:endParaRPr b="0" lang="en-US" sz="1800" spc="-1" strike="noStrike">
              <a:solidFill>
                <a:srgbClr val="000000"/>
              </a:solidFill>
              <a:latin typeface="Arial"/>
            </a:endParaRPr>
          </a:p>
        </p:txBody>
      </p:sp>
      <p:sp>
        <p:nvSpPr>
          <p:cNvPr id="100" name="ZoneTexte 14"/>
          <p:cNvSpPr/>
          <p:nvPr/>
        </p:nvSpPr>
        <p:spPr>
          <a:xfrm>
            <a:off x="5867280" y="12682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Quelle est la longueur de la pièce (en mm)?</a:t>
            </a:r>
            <a:endParaRPr b="0" lang="en-US" sz="1800" spc="-1" strike="noStrike">
              <a:solidFill>
                <a:srgbClr val="000000"/>
              </a:solidFill>
              <a:latin typeface="Arial"/>
            </a:endParaRPr>
          </a:p>
        </p:txBody>
      </p:sp>
      <p:sp>
        <p:nvSpPr>
          <p:cNvPr id="101" name="ZoneTexte 16"/>
          <p:cNvSpPr/>
          <p:nvPr/>
        </p:nvSpPr>
        <p:spPr>
          <a:xfrm>
            <a:off x="324000" y="2852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ne pièce doit mesurer 32 +- 2 mm. En mesurant avec un réglet, on trouve 33 mm. La pièce est-elle conforme ? OUI, car au maximum la pièce peut faire 34 mm</a:t>
            </a:r>
            <a:endParaRPr b="0" lang="en-US" sz="1800" spc="-1" strike="noStrike">
              <a:solidFill>
                <a:srgbClr val="000000"/>
              </a:solidFill>
              <a:latin typeface="Arial"/>
            </a:endParaRPr>
          </a:p>
        </p:txBody>
      </p:sp>
      <p:sp>
        <p:nvSpPr>
          <p:cNvPr id="102" name="Rectangle 17"/>
          <p:cNvSpPr/>
          <p:nvPr/>
        </p:nvSpPr>
        <p:spPr>
          <a:xfrm>
            <a:off x="250920" y="1484280"/>
            <a:ext cx="144360" cy="1297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
          <p:cNvPicPr/>
          <p:nvPr/>
        </p:nvPicPr>
        <p:blipFill>
          <a:blip r:embed="rId2"/>
          <a:stretch/>
        </p:blipFill>
        <p:spPr>
          <a:xfrm>
            <a:off x="395280" y="4005360"/>
            <a:ext cx="2095560" cy="1904760"/>
          </a:xfrm>
          <a:prstGeom prst="rect">
            <a:avLst/>
          </a:prstGeom>
          <a:ln w="0">
            <a:noFill/>
          </a:ln>
        </p:spPr>
      </p:pic>
      <p:sp>
        <p:nvSpPr>
          <p:cNvPr id="104" name="ZoneTexte 20"/>
          <p:cNvSpPr/>
          <p:nvPr/>
        </p:nvSpPr>
        <p:spPr>
          <a:xfrm>
            <a:off x="250920" y="3573360"/>
            <a:ext cx="70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angle mesuré de la pièce thermo pliée :</a:t>
            </a:r>
            <a:endParaRPr b="0" lang="en-US" sz="1800" spc="-1" strike="noStrike">
              <a:solidFill>
                <a:srgbClr val="000000"/>
              </a:solidFill>
              <a:latin typeface="Arial"/>
            </a:endParaRPr>
          </a:p>
        </p:txBody>
      </p:sp>
      <p:sp>
        <p:nvSpPr>
          <p:cNvPr id="105" name="ZoneTexte 22"/>
          <p:cNvSpPr/>
          <p:nvPr/>
        </p:nvSpPr>
        <p:spPr>
          <a:xfrm>
            <a:off x="2484360" y="4005360"/>
            <a:ext cx="309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st supérieur à 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st inférieur à 1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st vraisemblablement de 1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06" name="ZoneTexte 23"/>
          <p:cNvSpPr/>
          <p:nvPr/>
        </p:nvSpPr>
        <p:spPr>
          <a:xfrm>
            <a:off x="826920" y="5950080"/>
            <a:ext cx="27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toure la ou les bonnes propositions</a:t>
            </a:r>
            <a:endParaRPr b="0" lang="en-US" sz="1800" spc="-1" strike="noStrike">
              <a:solidFill>
                <a:srgbClr val="000000"/>
              </a:solidFill>
              <a:latin typeface="Arial"/>
            </a:endParaRPr>
          </a:p>
        </p:txBody>
      </p:sp>
      <p:sp>
        <p:nvSpPr>
          <p:cNvPr id="107" name="Arc 24"/>
          <p:cNvSpPr/>
          <p:nvPr/>
        </p:nvSpPr>
        <p:spPr>
          <a:xfrm rot="20676000">
            <a:off x="925200" y="4546440"/>
            <a:ext cx="936720" cy="863640"/>
          </a:xfrm>
          <a:custGeom>
            <a:avLst/>
            <a:gdLst>
              <a:gd name="textAreaLeft" fmla="*/ 468360 w 936720"/>
              <a:gd name="textAreaRight" fmla="*/ 937080 w 936720"/>
              <a:gd name="textAreaTop" fmla="*/ 0 h 863640"/>
              <a:gd name="textAreaBottom" fmla="*/ 432000 h 863640"/>
            </a:gdLst>
            <a:ahLst/>
            <a:rect l="textAreaLeft" t="textAreaTop" r="textAreaRight" b="textAreaBottom"/>
            <a:pathLst>
              <a:path stroke="0" w="936625" h="863600">
                <a:moveTo>
                  <a:pt x="468313" y="0"/>
                </a:moveTo>
                <a:lnTo>
                  <a:pt x="468313" y="0"/>
                </a:lnTo>
                <a:arcTo wR="468313" hR="431800" stAng="-5399992" swAng="5399999"/>
                <a:lnTo>
                  <a:pt x="468313" y="431800"/>
                </a:lnTo>
                <a:close/>
              </a:path>
              <a:path fill="none" w="936625" h="863600">
                <a:moveTo>
                  <a:pt x="468313" y="0"/>
                </a:moveTo>
                <a:lnTo>
                  <a:pt x="468313" y="0"/>
                </a:lnTo>
                <a:arcTo wR="468313" hR="431800" stAng="-5399992" swAng="5399999"/>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ZoneTexte 26"/>
          <p:cNvSpPr/>
          <p:nvPr/>
        </p:nvSpPr>
        <p:spPr>
          <a:xfrm>
            <a:off x="5724360" y="37893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Comment vérifier l’angle droit d’une pièce pliée ?</a:t>
            </a:r>
            <a:endParaRPr b="0" lang="en-US" sz="1800" spc="-1" strike="noStrike">
              <a:solidFill>
                <a:srgbClr val="000000"/>
              </a:solidFill>
              <a:latin typeface="Arial"/>
            </a:endParaRPr>
          </a:p>
        </p:txBody>
      </p:sp>
      <p:sp>
        <p:nvSpPr>
          <p:cNvPr id="109" name="ZoneTexte 27"/>
          <p:cNvSpPr/>
          <p:nvPr/>
        </p:nvSpPr>
        <p:spPr>
          <a:xfrm>
            <a:off x="5724360" y="4508640"/>
            <a:ext cx="3024360" cy="228852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n peut utiliser une équerre, un rapporteur d’angle ou un gabarit dont l’angle est de 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ZoneTexte 28"/>
          <p:cNvSpPr/>
          <p:nvPr/>
        </p:nvSpPr>
        <p:spPr>
          <a:xfrm>
            <a:off x="7093080" y="184464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longueur est de 73,5 mm</a:t>
            </a:r>
            <a:endParaRPr b="0" lang="en-US" sz="1800" spc="-1" strike="noStrike">
              <a:solidFill>
                <a:srgbClr val="000000"/>
              </a:solidFill>
              <a:latin typeface="Arial"/>
            </a:endParaRPr>
          </a:p>
        </p:txBody>
      </p:sp>
      <p:sp>
        <p:nvSpPr>
          <p:cNvPr id="111" name="Forme libre 22"/>
          <p:cNvSpPr/>
          <p:nvPr/>
        </p:nvSpPr>
        <p:spPr>
          <a:xfrm>
            <a:off x="2444760" y="4014720"/>
            <a:ext cx="2004840" cy="389160"/>
          </a:xfrm>
          <a:custGeom>
            <a:avLst/>
            <a:gdLst/>
            <a:ahLst/>
            <a:rect l="l" t="t" r="r" b="b"/>
            <a:pathLst>
              <a:path w="2004391" h="388192">
                <a:moveTo>
                  <a:pt x="377687" y="0"/>
                </a:moveTo>
                <a:cubicBezTo>
                  <a:pt x="342691" y="3181"/>
                  <a:pt x="219289" y="13665"/>
                  <a:pt x="178904" y="19878"/>
                </a:cubicBezTo>
                <a:cubicBezTo>
                  <a:pt x="165403" y="21955"/>
                  <a:pt x="152400" y="26504"/>
                  <a:pt x="139148" y="29817"/>
                </a:cubicBezTo>
                <a:cubicBezTo>
                  <a:pt x="122583" y="43069"/>
                  <a:pt x="105417" y="55604"/>
                  <a:pt x="89452" y="69574"/>
                </a:cubicBezTo>
                <a:cubicBezTo>
                  <a:pt x="28233" y="123141"/>
                  <a:pt x="90839" y="78589"/>
                  <a:pt x="29817" y="119269"/>
                </a:cubicBezTo>
                <a:cubicBezTo>
                  <a:pt x="19767" y="134344"/>
                  <a:pt x="0" y="158330"/>
                  <a:pt x="0" y="178904"/>
                </a:cubicBezTo>
                <a:cubicBezTo>
                  <a:pt x="0" y="206867"/>
                  <a:pt x="10024" y="254544"/>
                  <a:pt x="29817" y="278295"/>
                </a:cubicBezTo>
                <a:cubicBezTo>
                  <a:pt x="37464" y="287472"/>
                  <a:pt x="49505" y="291843"/>
                  <a:pt x="59635" y="298174"/>
                </a:cubicBezTo>
                <a:cubicBezTo>
                  <a:pt x="76017" y="308413"/>
                  <a:pt x="91394" y="320816"/>
                  <a:pt x="109331" y="327991"/>
                </a:cubicBezTo>
                <a:cubicBezTo>
                  <a:pt x="125016" y="334265"/>
                  <a:pt x="142637" y="333833"/>
                  <a:pt x="159026" y="337930"/>
                </a:cubicBezTo>
                <a:cubicBezTo>
                  <a:pt x="253538" y="361558"/>
                  <a:pt x="87053" y="351630"/>
                  <a:pt x="327991" y="357808"/>
                </a:cubicBezTo>
                <a:cubicBezTo>
                  <a:pt x="539982" y="363244"/>
                  <a:pt x="752061" y="364435"/>
                  <a:pt x="964096" y="367748"/>
                </a:cubicBezTo>
                <a:cubicBezTo>
                  <a:pt x="1207405" y="385127"/>
                  <a:pt x="1173618" y="388192"/>
                  <a:pt x="1530626" y="357808"/>
                </a:cubicBezTo>
                <a:cubicBezTo>
                  <a:pt x="1545389" y="356552"/>
                  <a:pt x="1556764" y="343766"/>
                  <a:pt x="1570383" y="337930"/>
                </a:cubicBezTo>
                <a:cubicBezTo>
                  <a:pt x="1592657" y="328384"/>
                  <a:pt x="1627932" y="320797"/>
                  <a:pt x="1649896" y="318052"/>
                </a:cubicBezTo>
                <a:cubicBezTo>
                  <a:pt x="1694217" y="312512"/>
                  <a:pt x="1850262" y="301110"/>
                  <a:pt x="1888435" y="298174"/>
                </a:cubicBezTo>
                <a:lnTo>
                  <a:pt x="1948070" y="278295"/>
                </a:lnTo>
                <a:lnTo>
                  <a:pt x="1977887" y="268356"/>
                </a:lnTo>
                <a:cubicBezTo>
                  <a:pt x="2004391" y="188845"/>
                  <a:pt x="1977887" y="288234"/>
                  <a:pt x="1977887" y="208721"/>
                </a:cubicBezTo>
                <a:cubicBezTo>
                  <a:pt x="1977887" y="198244"/>
                  <a:pt x="1984513" y="188843"/>
                  <a:pt x="1987826" y="178904"/>
                </a:cubicBezTo>
                <a:cubicBezTo>
                  <a:pt x="1984429" y="165315"/>
                  <a:pt x="1964376" y="80786"/>
                  <a:pt x="1958009" y="79513"/>
                </a:cubicBezTo>
                <a:cubicBezTo>
                  <a:pt x="1897163" y="67344"/>
                  <a:pt x="1828537" y="52664"/>
                  <a:pt x="1769165" y="49695"/>
                </a:cubicBezTo>
                <a:cubicBezTo>
                  <a:pt x="1702904" y="46382"/>
                  <a:pt x="1636714" y="41019"/>
                  <a:pt x="1570383" y="39756"/>
                </a:cubicBezTo>
                <a:lnTo>
                  <a:pt x="725557" y="29817"/>
                </a:lnTo>
                <a:cubicBezTo>
                  <a:pt x="682487" y="26504"/>
                  <a:pt x="639545" y="19878"/>
                  <a:pt x="596348" y="19878"/>
                </a:cubicBezTo>
                <a:cubicBezTo>
                  <a:pt x="585871" y="19878"/>
                  <a:pt x="576865" y="31539"/>
                  <a:pt x="566531" y="29817"/>
                </a:cubicBezTo>
                <a:cubicBezTo>
                  <a:pt x="554748" y="27853"/>
                  <a:pt x="548466" y="12076"/>
                  <a:pt x="536713" y="9939"/>
                </a:cubicBezTo>
                <a:cubicBezTo>
                  <a:pt x="510636" y="5198"/>
                  <a:pt x="483704" y="9939"/>
                  <a:pt x="457200" y="9939"/>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Forme libre 26"/>
          <p:cNvSpPr/>
          <p:nvPr/>
        </p:nvSpPr>
        <p:spPr>
          <a:xfrm>
            <a:off x="2346480" y="4529160"/>
            <a:ext cx="2176200" cy="339840"/>
          </a:xfrm>
          <a:custGeom>
            <a:avLst/>
            <a:gdLst/>
            <a:ahLst/>
            <a:rect l="l" t="t" r="r" b="b"/>
            <a:pathLst>
              <a:path w="2176669" h="340726">
                <a:moveTo>
                  <a:pt x="427382" y="62430"/>
                </a:moveTo>
                <a:cubicBezTo>
                  <a:pt x="417443" y="59117"/>
                  <a:pt x="407838" y="54546"/>
                  <a:pt x="397565" y="52491"/>
                </a:cubicBezTo>
                <a:cubicBezTo>
                  <a:pt x="297453" y="32469"/>
                  <a:pt x="149759" y="35697"/>
                  <a:pt x="69574" y="32613"/>
                </a:cubicBezTo>
                <a:cubicBezTo>
                  <a:pt x="53009" y="35926"/>
                  <a:pt x="33934" y="33181"/>
                  <a:pt x="19878" y="42552"/>
                </a:cubicBezTo>
                <a:cubicBezTo>
                  <a:pt x="11161" y="48363"/>
                  <a:pt x="12817" y="62295"/>
                  <a:pt x="9939" y="72369"/>
                </a:cubicBezTo>
                <a:cubicBezTo>
                  <a:pt x="6186" y="85504"/>
                  <a:pt x="3313" y="98874"/>
                  <a:pt x="0" y="112126"/>
                </a:cubicBezTo>
                <a:cubicBezTo>
                  <a:pt x="9841" y="141648"/>
                  <a:pt x="16131" y="177953"/>
                  <a:pt x="39756" y="201578"/>
                </a:cubicBezTo>
                <a:cubicBezTo>
                  <a:pt x="55898" y="217720"/>
                  <a:pt x="91143" y="230941"/>
                  <a:pt x="109330" y="241334"/>
                </a:cubicBezTo>
                <a:cubicBezTo>
                  <a:pt x="119702" y="247261"/>
                  <a:pt x="129427" y="254270"/>
                  <a:pt x="139148" y="261213"/>
                </a:cubicBezTo>
                <a:cubicBezTo>
                  <a:pt x="152627" y="270841"/>
                  <a:pt x="163767" y="284302"/>
                  <a:pt x="178904" y="291030"/>
                </a:cubicBezTo>
                <a:cubicBezTo>
                  <a:pt x="194341" y="297891"/>
                  <a:pt x="212035" y="297656"/>
                  <a:pt x="228600" y="300969"/>
                </a:cubicBezTo>
                <a:cubicBezTo>
                  <a:pt x="238539" y="307595"/>
                  <a:pt x="247733" y="315505"/>
                  <a:pt x="258417" y="320847"/>
                </a:cubicBezTo>
                <a:cubicBezTo>
                  <a:pt x="278795" y="331036"/>
                  <a:pt x="319023" y="336945"/>
                  <a:pt x="337930" y="340726"/>
                </a:cubicBezTo>
                <a:cubicBezTo>
                  <a:pt x="443611" y="305500"/>
                  <a:pt x="331767" y="339746"/>
                  <a:pt x="596348" y="320847"/>
                </a:cubicBezTo>
                <a:cubicBezTo>
                  <a:pt x="613198" y="319643"/>
                  <a:pt x="629200" y="312204"/>
                  <a:pt x="646043" y="310908"/>
                </a:cubicBezTo>
                <a:cubicBezTo>
                  <a:pt x="715491" y="305566"/>
                  <a:pt x="785191" y="304282"/>
                  <a:pt x="854765" y="300969"/>
                </a:cubicBezTo>
                <a:cubicBezTo>
                  <a:pt x="954156" y="304282"/>
                  <a:pt x="1053492" y="310908"/>
                  <a:pt x="1152939" y="310908"/>
                </a:cubicBezTo>
                <a:cubicBezTo>
                  <a:pt x="1163416" y="310908"/>
                  <a:pt x="1172371" y="302354"/>
                  <a:pt x="1182756" y="300969"/>
                </a:cubicBezTo>
                <a:cubicBezTo>
                  <a:pt x="1222301" y="295696"/>
                  <a:pt x="1262295" y="294642"/>
                  <a:pt x="1302026" y="291030"/>
                </a:cubicBezTo>
                <a:lnTo>
                  <a:pt x="1401417" y="281091"/>
                </a:lnTo>
                <a:cubicBezTo>
                  <a:pt x="1515260" y="252631"/>
                  <a:pt x="1446958" y="265169"/>
                  <a:pt x="1679713" y="291030"/>
                </a:cubicBezTo>
                <a:cubicBezTo>
                  <a:pt x="1690126" y="292187"/>
                  <a:pt x="1699720" y="297290"/>
                  <a:pt x="1709530" y="300969"/>
                </a:cubicBezTo>
                <a:cubicBezTo>
                  <a:pt x="1726235" y="307233"/>
                  <a:pt x="1742661" y="314221"/>
                  <a:pt x="1759226" y="320847"/>
                </a:cubicBezTo>
                <a:cubicBezTo>
                  <a:pt x="1848678" y="317534"/>
                  <a:pt x="1938267" y="316862"/>
                  <a:pt x="2027582" y="310908"/>
                </a:cubicBezTo>
                <a:cubicBezTo>
                  <a:pt x="2038036" y="310211"/>
                  <a:pt x="2048029" y="305654"/>
                  <a:pt x="2057400" y="300969"/>
                </a:cubicBezTo>
                <a:cubicBezTo>
                  <a:pt x="2068084" y="295627"/>
                  <a:pt x="2077278" y="287717"/>
                  <a:pt x="2087217" y="281091"/>
                </a:cubicBezTo>
                <a:cubicBezTo>
                  <a:pt x="2093843" y="271152"/>
                  <a:pt x="2101375" y="261760"/>
                  <a:pt x="2107095" y="251273"/>
                </a:cubicBezTo>
                <a:cubicBezTo>
                  <a:pt x="2121285" y="225258"/>
                  <a:pt x="2130415" y="196416"/>
                  <a:pt x="2146852" y="171760"/>
                </a:cubicBezTo>
                <a:lnTo>
                  <a:pt x="2166730" y="141943"/>
                </a:lnTo>
                <a:cubicBezTo>
                  <a:pt x="2170043" y="128691"/>
                  <a:pt x="2176669" y="115847"/>
                  <a:pt x="2176669" y="102187"/>
                </a:cubicBezTo>
                <a:cubicBezTo>
                  <a:pt x="2176669" y="88527"/>
                  <a:pt x="2175725" y="72710"/>
                  <a:pt x="2166730" y="62430"/>
                </a:cubicBezTo>
                <a:cubicBezTo>
                  <a:pt x="2112105" y="0"/>
                  <a:pt x="2045868" y="18300"/>
                  <a:pt x="1967948" y="12734"/>
                </a:cubicBezTo>
                <a:cubicBezTo>
                  <a:pt x="1653206" y="61157"/>
                  <a:pt x="1954054" y="20720"/>
                  <a:pt x="1331843" y="42552"/>
                </a:cubicBezTo>
                <a:cubicBezTo>
                  <a:pt x="1278323" y="44430"/>
                  <a:pt x="1246936" y="64620"/>
                  <a:pt x="1192695" y="72369"/>
                </a:cubicBezTo>
                <a:lnTo>
                  <a:pt x="1123122" y="82308"/>
                </a:lnTo>
                <a:cubicBezTo>
                  <a:pt x="1099931" y="78995"/>
                  <a:pt x="1076975" y="72369"/>
                  <a:pt x="1053548" y="72369"/>
                </a:cubicBezTo>
                <a:cubicBezTo>
                  <a:pt x="1023547" y="72369"/>
                  <a:pt x="994062" y="80881"/>
                  <a:pt x="964095" y="82308"/>
                </a:cubicBezTo>
                <a:cubicBezTo>
                  <a:pt x="924384" y="84199"/>
                  <a:pt x="884582" y="82308"/>
                  <a:pt x="844826" y="82308"/>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Forme libre 28"/>
          <p:cNvSpPr/>
          <p:nvPr/>
        </p:nvSpPr>
        <p:spPr>
          <a:xfrm>
            <a:off x="2500200" y="5049720"/>
            <a:ext cx="2998800" cy="416160"/>
          </a:xfrm>
          <a:custGeom>
            <a:avLst/>
            <a:gdLst/>
            <a:ahLst/>
            <a:rect l="l" t="t" r="r" b="b"/>
            <a:pathLst>
              <a:path w="2998447" h="417444">
                <a:moveTo>
                  <a:pt x="799021" y="139148"/>
                </a:moveTo>
                <a:cubicBezTo>
                  <a:pt x="789082" y="135835"/>
                  <a:pt x="779681" y="129209"/>
                  <a:pt x="769204" y="129209"/>
                </a:cubicBezTo>
                <a:cubicBezTo>
                  <a:pt x="150098" y="129209"/>
                  <a:pt x="329528" y="87556"/>
                  <a:pt x="83404" y="149087"/>
                </a:cubicBezTo>
                <a:lnTo>
                  <a:pt x="43647" y="208722"/>
                </a:lnTo>
                <a:lnTo>
                  <a:pt x="23769" y="238539"/>
                </a:lnTo>
                <a:cubicBezTo>
                  <a:pt x="20456" y="258417"/>
                  <a:pt x="18202" y="278501"/>
                  <a:pt x="13830" y="298174"/>
                </a:cubicBezTo>
                <a:cubicBezTo>
                  <a:pt x="11557" y="308401"/>
                  <a:pt x="0" y="318264"/>
                  <a:pt x="3891" y="327992"/>
                </a:cubicBezTo>
                <a:cubicBezTo>
                  <a:pt x="8327" y="339083"/>
                  <a:pt x="23769" y="341244"/>
                  <a:pt x="33708" y="347870"/>
                </a:cubicBezTo>
                <a:cubicBezTo>
                  <a:pt x="37021" y="357809"/>
                  <a:pt x="37102" y="369506"/>
                  <a:pt x="43647" y="377687"/>
                </a:cubicBezTo>
                <a:cubicBezTo>
                  <a:pt x="51109" y="387015"/>
                  <a:pt x="62485" y="392859"/>
                  <a:pt x="73465" y="397565"/>
                </a:cubicBezTo>
                <a:cubicBezTo>
                  <a:pt x="96901" y="407609"/>
                  <a:pt x="166664" y="415140"/>
                  <a:pt x="182795" y="417444"/>
                </a:cubicBezTo>
                <a:cubicBezTo>
                  <a:pt x="192734" y="414131"/>
                  <a:pt x="202208" y="408729"/>
                  <a:pt x="212613" y="407505"/>
                </a:cubicBezTo>
                <a:cubicBezTo>
                  <a:pt x="416719" y="383492"/>
                  <a:pt x="681816" y="404037"/>
                  <a:pt x="858656" y="407505"/>
                </a:cubicBezTo>
                <a:cubicBezTo>
                  <a:pt x="1009648" y="357169"/>
                  <a:pt x="857573" y="404650"/>
                  <a:pt x="1266160" y="387626"/>
                </a:cubicBezTo>
                <a:cubicBezTo>
                  <a:pt x="1299427" y="386240"/>
                  <a:pt x="1332421" y="381000"/>
                  <a:pt x="1365552" y="377687"/>
                </a:cubicBezTo>
                <a:cubicBezTo>
                  <a:pt x="1569907" y="411746"/>
                  <a:pt x="1316674" y="377687"/>
                  <a:pt x="1464943" y="377687"/>
                </a:cubicBezTo>
                <a:cubicBezTo>
                  <a:pt x="1490507" y="377687"/>
                  <a:pt x="1689336" y="394730"/>
                  <a:pt x="1723360" y="397565"/>
                </a:cubicBezTo>
                <a:lnTo>
                  <a:pt x="2180560" y="387626"/>
                </a:lnTo>
                <a:cubicBezTo>
                  <a:pt x="2270182" y="383943"/>
                  <a:pt x="2448917" y="367748"/>
                  <a:pt x="2448917" y="367748"/>
                </a:cubicBezTo>
                <a:cubicBezTo>
                  <a:pt x="2485360" y="371061"/>
                  <a:pt x="2521653" y="377687"/>
                  <a:pt x="2558247" y="377687"/>
                </a:cubicBezTo>
                <a:cubicBezTo>
                  <a:pt x="2568724" y="377687"/>
                  <a:pt x="2577588" y="367748"/>
                  <a:pt x="2588065" y="367748"/>
                </a:cubicBezTo>
                <a:cubicBezTo>
                  <a:pt x="2611492" y="367748"/>
                  <a:pt x="2634448" y="374374"/>
                  <a:pt x="2657639" y="377687"/>
                </a:cubicBezTo>
                <a:cubicBezTo>
                  <a:pt x="2670891" y="374374"/>
                  <a:pt x="2683770" y="368721"/>
                  <a:pt x="2697395" y="367748"/>
                </a:cubicBezTo>
                <a:cubicBezTo>
                  <a:pt x="2974699" y="347941"/>
                  <a:pt x="2856710" y="384216"/>
                  <a:pt x="2965752" y="347870"/>
                </a:cubicBezTo>
                <a:cubicBezTo>
                  <a:pt x="2975691" y="334618"/>
                  <a:pt x="2991018" y="324041"/>
                  <a:pt x="2995569" y="308113"/>
                </a:cubicBezTo>
                <a:cubicBezTo>
                  <a:pt x="2998447" y="298039"/>
                  <a:pt x="2987903" y="288523"/>
                  <a:pt x="2985630" y="278296"/>
                </a:cubicBezTo>
                <a:cubicBezTo>
                  <a:pt x="2981258" y="258623"/>
                  <a:pt x="2980063" y="238334"/>
                  <a:pt x="2975691" y="218661"/>
                </a:cubicBezTo>
                <a:cubicBezTo>
                  <a:pt x="2969387" y="190291"/>
                  <a:pt x="2946047" y="142577"/>
                  <a:pt x="2925995" y="129209"/>
                </a:cubicBezTo>
                <a:lnTo>
                  <a:pt x="2896178" y="109331"/>
                </a:lnTo>
                <a:cubicBezTo>
                  <a:pt x="2889552" y="99392"/>
                  <a:pt x="2885477" y="87160"/>
                  <a:pt x="2876300" y="79513"/>
                </a:cubicBezTo>
                <a:cubicBezTo>
                  <a:pt x="2864918" y="70028"/>
                  <a:pt x="2849407" y="66986"/>
                  <a:pt x="2836543" y="59635"/>
                </a:cubicBezTo>
                <a:cubicBezTo>
                  <a:pt x="2782594" y="28807"/>
                  <a:pt x="2831578" y="48041"/>
                  <a:pt x="2776908" y="29818"/>
                </a:cubicBezTo>
                <a:cubicBezTo>
                  <a:pt x="2707334" y="36444"/>
                  <a:pt x="2638024" y="47010"/>
                  <a:pt x="2568187" y="49696"/>
                </a:cubicBezTo>
                <a:cubicBezTo>
                  <a:pt x="2404111" y="56007"/>
                  <a:pt x="2632871" y="16881"/>
                  <a:pt x="2468795" y="49696"/>
                </a:cubicBezTo>
                <a:lnTo>
                  <a:pt x="2051352" y="39757"/>
                </a:lnTo>
                <a:cubicBezTo>
                  <a:pt x="1878136" y="33679"/>
                  <a:pt x="1952392" y="13110"/>
                  <a:pt x="1872447" y="39757"/>
                </a:cubicBezTo>
                <a:cubicBezTo>
                  <a:pt x="1760979" y="11890"/>
                  <a:pt x="1895056" y="42717"/>
                  <a:pt x="1643847" y="19879"/>
                </a:cubicBezTo>
                <a:cubicBezTo>
                  <a:pt x="1633413" y="18930"/>
                  <a:pt x="1624194" y="12480"/>
                  <a:pt x="1614030" y="9939"/>
                </a:cubicBezTo>
                <a:cubicBezTo>
                  <a:pt x="1597641" y="5842"/>
                  <a:pt x="1580899" y="3313"/>
                  <a:pt x="1564334" y="0"/>
                </a:cubicBezTo>
                <a:cubicBezTo>
                  <a:pt x="1508012" y="3313"/>
                  <a:pt x="1451788" y="9939"/>
                  <a:pt x="1395369" y="9939"/>
                </a:cubicBezTo>
                <a:cubicBezTo>
                  <a:pt x="1384892" y="9939"/>
                  <a:pt x="1376029" y="0"/>
                  <a:pt x="1365552" y="0"/>
                </a:cubicBezTo>
                <a:cubicBezTo>
                  <a:pt x="1319051" y="0"/>
                  <a:pt x="1272787" y="6626"/>
                  <a:pt x="1226404" y="9939"/>
                </a:cubicBezTo>
                <a:cubicBezTo>
                  <a:pt x="1206526" y="16565"/>
                  <a:pt x="1186984" y="24305"/>
                  <a:pt x="1166769" y="29818"/>
                </a:cubicBezTo>
                <a:cubicBezTo>
                  <a:pt x="1150471" y="34263"/>
                  <a:pt x="1133099" y="34415"/>
                  <a:pt x="1117073" y="39757"/>
                </a:cubicBezTo>
                <a:cubicBezTo>
                  <a:pt x="1103017" y="44442"/>
                  <a:pt x="1090935" y="53799"/>
                  <a:pt x="1077317" y="59635"/>
                </a:cubicBezTo>
                <a:cubicBezTo>
                  <a:pt x="1067687" y="63762"/>
                  <a:pt x="1057439" y="66261"/>
                  <a:pt x="1047500" y="69574"/>
                </a:cubicBezTo>
                <a:cubicBezTo>
                  <a:pt x="1025278" y="91795"/>
                  <a:pt x="1036992" y="89452"/>
                  <a:pt x="1017682" y="89452"/>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12:58:09Z</dcterms:created>
  <dc:creator>jpbricard</dc:creator>
  <dc:description/>
  <dc:language>en-US</dc:language>
  <cp:lastModifiedBy>Raynaud</cp:lastModifiedBy>
  <dcterms:modified xsi:type="dcterms:W3CDTF">2013-01-21T21:04:37Z</dcterms:modified>
  <cp:revision>32</cp:revision>
  <dc:subject/>
  <dc:title>Diapositive 1</dc:title>
</cp:coreProperties>
</file>