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E03-585E-4961-ABF2-88BBE06B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85B-1943-4008-87FF-6F13F64E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917-4B88-40E0-AC0A-C49065DD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570-4D3E-4B83-A20D-99C3E02C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57D-384F-471B-9BC8-BF501B9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36E-383A-48B0-9511-804F8E4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AD7-B413-4BD1-835A-069EC1B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2BF-D9D5-4230-B4A1-3C0D176D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922-F280-4D4C-82B0-9DC852FE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40C-B874-4512-9DE2-7924856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EC0-FF1E-407A-B0D1-EBE411B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914-068F-4E48-88A0-D03D83D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C2C-74F4-41D2-A86A-7C2C12A63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32400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2 : Les machines et la sécur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292720" y="189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je dois retenir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549360"/>
          <a:ext cx="8640720" cy="6030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  <a:gridCol w="1800360"/>
                <a:gridCol w="237636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hine ou matéri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n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se en position de la piè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ègles de sécur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 plieu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-pliag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rmet de plier des plaques de matières plasti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thermo pliage est basé sur le principe de la déformation à chaud d’un matériau en matière plastiq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mise en position de la pièce sur la table s’effectue au moyen d’une br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Mettre des gants de protec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Les cheveux longs doivent être attach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Tout ce qui pend (écharpes, colliers, ...) doit être enlevé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Les manches des vêtements doivent être serrées aux poigne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Ne pas mettre les doigts sur le fil chauffant pendant l’util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Appuyer sur le bouton rouge d’arrêt en cas de problèm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circul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circulaire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et la découpe de matériaux tendres comme le bois et le plastique. La vitesse de rotation de la scie permet une découpe très « propre » des matériau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ièce est maintenue sur la table avec la main de l’utilisat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78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•  </a:t>
                      </a: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n seul utilisateur utilise la scie circulai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1978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tiliser des lunettes de protec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78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•  </a:t>
                      </a: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specter les épaisseurs maximales de découpe (plastique &lt; 15 mm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9782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•  </a:t>
                      </a:r>
                      <a:r>
                        <a:rPr b="0" lang="fr-FR" sz="1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ien relâcher la poignée pour faire glisser le bloc scie sur la matière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use à colo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use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t une machine qui sert à réaliser des perçages dans toutes sortes de matériau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ièce est maintenue sur la table de la machine au moyen d’un ét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s cheveux doivent êtres attachés s’ils sont long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a pièce doit être serrée dans l’éta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’utilisateur ne doit pas porter de vêtements flotta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’utilisateur doit porter des lunettes de sécurité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ine à commande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machine à commande numérique est un automate piloté par ordinateur, elle permet d’usiner les matériaux à partir d’une maquette virtuelle conçue par l’utilisate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pièce peut être maintenue par de l’adhésif double face, par des brides et au moyen d’un éta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tention à ne pas se blesser en agissant sur la pièce avant  ou après l’usinag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 pas souffler sur les copeaux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5" name="Image 5" descr="DSC00468.JPG"/>
          <p:cNvPicPr/>
          <p:nvPr/>
        </p:nvPicPr>
        <p:blipFill>
          <a:blip r:embed="rId1"/>
          <a:stretch/>
        </p:blipFill>
        <p:spPr>
          <a:xfrm>
            <a:off x="611280" y="112536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1585800" cy="839880"/>
          </a:xfrm>
          <a:prstGeom prst="rect">
            <a:avLst/>
          </a:prstGeom>
          <a:ln w="0">
            <a:noFill/>
          </a:ln>
        </p:spPr>
      </p:pic>
      <p:pic>
        <p:nvPicPr>
          <p:cNvPr id="47" name="Image 11" descr="100_5561.JPG"/>
          <p:cNvPicPr/>
          <p:nvPr/>
        </p:nvPicPr>
        <p:blipFill>
          <a:blip r:embed="rId3"/>
          <a:stretch/>
        </p:blipFill>
        <p:spPr>
          <a:xfrm>
            <a:off x="5003640" y="159372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3" descr=""/>
          <p:cNvPicPr/>
          <p:nvPr/>
        </p:nvPicPr>
        <p:blipFill>
          <a:blip r:embed="rId4"/>
          <a:stretch/>
        </p:blipFill>
        <p:spPr>
          <a:xfrm>
            <a:off x="4932360" y="3075120"/>
            <a:ext cx="1224000" cy="498240"/>
          </a:xfrm>
          <a:prstGeom prst="rect">
            <a:avLst/>
          </a:prstGeom>
          <a:ln w="0">
            <a:noFill/>
          </a:ln>
        </p:spPr>
      </p:pic>
      <p:pic>
        <p:nvPicPr>
          <p:cNvPr id="49" name="Image 15" descr="100_5557.JPG"/>
          <p:cNvPicPr/>
          <p:nvPr/>
        </p:nvPicPr>
        <p:blipFill>
          <a:blip r:embed="rId5"/>
          <a:stretch/>
        </p:blipFill>
        <p:spPr>
          <a:xfrm>
            <a:off x="755640" y="39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50" name="Image 11" descr="100_5555.JPG"/>
          <p:cNvPicPr/>
          <p:nvPr/>
        </p:nvPicPr>
        <p:blipFill>
          <a:blip r:embed="rId6"/>
          <a:stretch/>
        </p:blipFill>
        <p:spPr>
          <a:xfrm>
            <a:off x="5124600" y="4292640"/>
            <a:ext cx="96012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7"/>
          <a:stretch/>
        </p:blipFill>
        <p:spPr>
          <a:xfrm>
            <a:off x="1098720" y="5445000"/>
            <a:ext cx="8809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50920" y="549360"/>
          <a:ext cx="4464000" cy="5983200"/>
        </p:xfrm>
        <a:graphic>
          <a:graphicData uri="http://schemas.openxmlformats.org/drawingml/2006/table">
            <a:tbl>
              <a:tblPr/>
              <a:tblGrid>
                <a:gridCol w="2376360"/>
                <a:gridCol w="208764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hine ou matéri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es permi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 plieus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 circul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use à colo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ine à commande numé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ZoneTexte 4"/>
          <p:cNvSpPr/>
          <p:nvPr/>
        </p:nvSpPr>
        <p:spPr>
          <a:xfrm>
            <a:off x="32400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2 : Le façonnage des matéri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5"/>
          <p:cNvSpPr/>
          <p:nvPr/>
        </p:nvSpPr>
        <p:spPr>
          <a:xfrm>
            <a:off x="5508720" y="18900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 que je dois retenir (2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5" descr="DSC00468.JPG"/>
          <p:cNvPicPr/>
          <p:nvPr/>
        </p:nvPicPr>
        <p:blipFill>
          <a:blip r:embed="rId1"/>
          <a:stretch/>
        </p:blipFill>
        <p:spPr>
          <a:xfrm>
            <a:off x="755640" y="1125360"/>
            <a:ext cx="1584360" cy="11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611280" y="2805120"/>
            <a:ext cx="1585800" cy="839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à coins arrondis 8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15" descr="100_5557.JPG"/>
          <p:cNvPicPr/>
          <p:nvPr/>
        </p:nvPicPr>
        <p:blipFill>
          <a:blip r:embed="rId3"/>
          <a:stretch/>
        </p:blipFill>
        <p:spPr>
          <a:xfrm>
            <a:off x="826920" y="4057560"/>
            <a:ext cx="1368720" cy="102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971640" y="5445000"/>
            <a:ext cx="880920" cy="1054080"/>
          </a:xfrm>
          <a:prstGeom prst="rect">
            <a:avLst/>
          </a:prstGeom>
          <a:ln w="0">
            <a:noFill/>
          </a:ln>
        </p:spPr>
      </p:pic>
      <p:pic>
        <p:nvPicPr>
          <p:cNvPr id="60" name="Image 11" descr="découpe.png"/>
          <p:cNvPicPr/>
          <p:nvPr/>
        </p:nvPicPr>
        <p:blipFill>
          <a:blip r:embed="rId5"/>
          <a:stretch/>
        </p:blipFill>
        <p:spPr>
          <a:xfrm>
            <a:off x="2703600" y="2637000"/>
            <a:ext cx="190332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Image 12" descr="perçage.png"/>
          <p:cNvPicPr/>
          <p:nvPr/>
        </p:nvPicPr>
        <p:blipFill>
          <a:blip r:embed="rId6"/>
          <a:stretch/>
        </p:blipFill>
        <p:spPr>
          <a:xfrm>
            <a:off x="2700360" y="3933720"/>
            <a:ext cx="191916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Image 13" descr="pliage.png"/>
          <p:cNvPicPr/>
          <p:nvPr/>
        </p:nvPicPr>
        <p:blipFill>
          <a:blip r:embed="rId7"/>
          <a:stretch/>
        </p:blipFill>
        <p:spPr>
          <a:xfrm>
            <a:off x="2700360" y="981000"/>
            <a:ext cx="192564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Image 14" descr="detourage.png"/>
          <p:cNvPicPr/>
          <p:nvPr/>
        </p:nvPicPr>
        <p:blipFill>
          <a:blip r:embed="rId8"/>
          <a:stretch/>
        </p:blipFill>
        <p:spPr>
          <a:xfrm>
            <a:off x="2627280" y="5229360"/>
            <a:ext cx="2016000" cy="116352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5"/>
          <p:cNvSpPr/>
          <p:nvPr/>
        </p:nvSpPr>
        <p:spPr>
          <a:xfrm>
            <a:off x="4859280" y="476280"/>
            <a:ext cx="39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réaliser le châssis du char à voile, nous avons décodé des plan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17"/>
          <p:cNvSpPr/>
          <p:nvPr/>
        </p:nvSpPr>
        <p:spPr>
          <a:xfrm>
            <a:off x="4788000" y="907920"/>
            <a:ext cx="4105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-Les dimensions sont indiquées en mm (1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-Le symbole  </a:t>
            </a:r>
            <a:r>
              <a:rPr b="1" lang="fr-FR" sz="11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signifie diamètre, il indique un perçage d’une dimension de 5 mm  (2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-Les dimensions sont indiquées au dessus d’une double flèche appelée ligne de cotation (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16"/>
          <p:cNvSpPr/>
          <p:nvPr/>
        </p:nvSpPr>
        <p:spPr>
          <a:xfrm>
            <a:off x="3492360" y="1989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m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7"/>
          <p:cNvSpPr/>
          <p:nvPr/>
        </p:nvSpPr>
        <p:spPr>
          <a:xfrm>
            <a:off x="3348000" y="3357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8"/>
          <p:cNvSpPr/>
          <p:nvPr/>
        </p:nvSpPr>
        <p:spPr>
          <a:xfrm>
            <a:off x="2916360" y="50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sin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21" descr="des_def_chassis.jpg"/>
          <p:cNvPicPr/>
          <p:nvPr/>
        </p:nvPicPr>
        <p:blipFill>
          <a:blip r:embed="rId9"/>
          <a:stretch/>
        </p:blipFill>
        <p:spPr>
          <a:xfrm>
            <a:off x="5541840" y="1944720"/>
            <a:ext cx="3278160" cy="46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ZoneTexte 19"/>
          <p:cNvSpPr/>
          <p:nvPr/>
        </p:nvSpPr>
        <p:spPr>
          <a:xfrm>
            <a:off x="6012000" y="1773360"/>
            <a:ext cx="2305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sin de 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25"/>
          <p:cNvCxnSpPr>
            <a:stCxn id="72" idx="2"/>
          </p:cNvCxnSpPr>
          <p:nvPr/>
        </p:nvCxnSpPr>
        <p:spPr>
          <a:xfrm>
            <a:off x="5508360" y="4325400"/>
            <a:ext cx="1440360" cy="11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Octogone 28"/>
          <p:cNvSpPr/>
          <p:nvPr/>
        </p:nvSpPr>
        <p:spPr>
          <a:xfrm>
            <a:off x="5148360" y="6093000"/>
            <a:ext cx="360360" cy="360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cteur droit avec flèche 29"/>
          <p:cNvCxnSpPr>
            <a:stCxn id="73" idx="2"/>
          </p:cNvCxnSpPr>
          <p:nvPr/>
        </p:nvCxnSpPr>
        <p:spPr>
          <a:xfrm flipV="1">
            <a:off x="5508720" y="5949720"/>
            <a:ext cx="358920" cy="249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necteur droit avec flèche 39"/>
          <p:cNvCxnSpPr>
            <a:stCxn id="73" idx="2"/>
          </p:cNvCxnSpPr>
          <p:nvPr/>
        </p:nvCxnSpPr>
        <p:spPr>
          <a:xfrm>
            <a:off x="5508720" y="6348240"/>
            <a:ext cx="1008720" cy="17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necteur droit avec flèche 51"/>
          <p:cNvCxnSpPr>
            <a:stCxn id="77" idx="2"/>
          </p:cNvCxnSpPr>
          <p:nvPr/>
        </p:nvCxnSpPr>
        <p:spPr>
          <a:xfrm>
            <a:off x="5508360" y="2819520"/>
            <a:ext cx="648360" cy="465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Connecteur droit avec flèche 57"/>
          <p:cNvCxnSpPr>
            <a:stCxn id="77" idx="2"/>
          </p:cNvCxnSpPr>
          <p:nvPr/>
        </p:nvCxnSpPr>
        <p:spPr>
          <a:xfrm>
            <a:off x="5508720" y="2819160"/>
            <a:ext cx="1080000" cy="10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Octogone 59"/>
          <p:cNvSpPr/>
          <p:nvPr/>
        </p:nvSpPr>
        <p:spPr>
          <a:xfrm>
            <a:off x="5148360" y="2565360"/>
            <a:ext cx="360360" cy="358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ctogone 23"/>
          <p:cNvSpPr/>
          <p:nvPr/>
        </p:nvSpPr>
        <p:spPr>
          <a:xfrm>
            <a:off x="5148360" y="4221000"/>
            <a:ext cx="360360" cy="360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1T08:16:25Z</dcterms:created>
  <dc:creator>jpbricard</dc:creator>
  <dc:description/>
  <dc:language>en-US</dc:language>
  <cp:lastModifiedBy>Raynaud</cp:lastModifiedBy>
  <dcterms:modified xsi:type="dcterms:W3CDTF">2013-01-21T21:53:53Z</dcterms:modified>
  <cp:revision>46</cp:revision>
  <dc:subject/>
  <dc:title>Diapositive 1</dc:title>
</cp:coreProperties>
</file>