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575-C19E-454D-9C36-E291ECD3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4C0-60DB-440D-BD6C-3C645E86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E90-F6BC-4526-809F-4DB75C30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B62-4027-42CD-ABF8-F9C6C25C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32F-37F8-4E37-9991-11A28D79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A3D-4338-43FB-92E4-80531F39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49E-0AA2-4A59-BCE6-8EDF6270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841-E2DB-42B6-922F-5CB7AEB1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3E1-7B8C-439F-B59D-BC255BA8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26E-6E31-4C77-AB65-96FC446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06F-B758-4F3D-AF16-6F7F098E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282-D5C6-4185-9F92-32C5E971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BB95-B1CF-480A-AD46-34ADF4B60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4"/>
          <p:cNvSpPr/>
          <p:nvPr/>
        </p:nvSpPr>
        <p:spPr>
          <a:xfrm>
            <a:off x="3132000" y="40464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6"/>
          <p:cNvSpPr/>
          <p:nvPr/>
        </p:nvSpPr>
        <p:spPr>
          <a:xfrm>
            <a:off x="3276720" y="476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cédure d’utilisation de la scie circulaire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vlcsnap-2011-07-10-10h33m56s60"/>
          <p:cNvPicPr/>
          <p:nvPr/>
        </p:nvPicPr>
        <p:blipFill>
          <a:blip r:embed="rId1"/>
          <a:stretch/>
        </p:blipFill>
        <p:spPr>
          <a:xfrm>
            <a:off x="324000" y="1341360"/>
            <a:ext cx="4679640" cy="254016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9"/>
          <p:cNvSpPr/>
          <p:nvPr/>
        </p:nvSpPr>
        <p:spPr>
          <a:xfrm>
            <a:off x="5076720" y="1413000"/>
            <a:ext cx="359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églage de la règle coulissante permet  en fait le réglage de la butée av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0 de la règle correspond au bord de la table. Bloquer la règle (deux vis à serrer situées sous la règ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 10" descr="vlcsnap-2011-07-15-11h44m28s185.png"/>
          <p:cNvPicPr/>
          <p:nvPr/>
        </p:nvPicPr>
        <p:blipFill>
          <a:blip r:embed="rId2"/>
          <a:stretch/>
        </p:blipFill>
        <p:spPr>
          <a:xfrm>
            <a:off x="324000" y="3933720"/>
            <a:ext cx="4679640" cy="253548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11"/>
          <p:cNvSpPr/>
          <p:nvPr/>
        </p:nvSpPr>
        <p:spPr>
          <a:xfrm>
            <a:off x="5148360" y="4724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sitionner la pièce à scier contre la butée av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8"/>
          <p:cNvSpPr/>
          <p:nvPr/>
        </p:nvSpPr>
        <p:spPr>
          <a:xfrm>
            <a:off x="0" y="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s d’utilis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9" descr="vlcsnap-2011-07-14-00h33m22s254.png"/>
          <p:cNvPicPr/>
          <p:nvPr/>
        </p:nvPicPr>
        <p:blipFill>
          <a:blip r:embed="rId1"/>
          <a:stretch/>
        </p:blipFill>
        <p:spPr>
          <a:xfrm>
            <a:off x="324000" y="1341360"/>
            <a:ext cx="2952720" cy="1603440"/>
          </a:xfrm>
          <a:prstGeom prst="rect">
            <a:avLst/>
          </a:prstGeom>
          <a:ln w="0">
            <a:noFill/>
          </a:ln>
        </p:spPr>
      </p:pic>
      <p:pic>
        <p:nvPicPr>
          <p:cNvPr id="50" name="Image 10" descr="vlcsnap-2011-07-14-00h33m29s82.png"/>
          <p:cNvPicPr/>
          <p:nvPr/>
        </p:nvPicPr>
        <p:blipFill>
          <a:blip r:embed="rId2"/>
          <a:stretch/>
        </p:blipFill>
        <p:spPr>
          <a:xfrm>
            <a:off x="324000" y="2997360"/>
            <a:ext cx="2952720" cy="1601640"/>
          </a:xfrm>
          <a:prstGeom prst="rect">
            <a:avLst/>
          </a:prstGeom>
          <a:ln w="0">
            <a:noFill/>
          </a:ln>
        </p:spPr>
      </p:pic>
      <p:pic>
        <p:nvPicPr>
          <p:cNvPr id="51" name="Image 11" descr="vlcsnap-2011-07-14-00h33m45s243.png"/>
          <p:cNvPicPr/>
          <p:nvPr/>
        </p:nvPicPr>
        <p:blipFill>
          <a:blip r:embed="rId3"/>
          <a:stretch/>
        </p:blipFill>
        <p:spPr>
          <a:xfrm>
            <a:off x="324000" y="4653000"/>
            <a:ext cx="2952720" cy="1708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à coins arrondis 6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à coins arrondis 7"/>
          <p:cNvSpPr/>
          <p:nvPr/>
        </p:nvSpPr>
        <p:spPr>
          <a:xfrm>
            <a:off x="3132000" y="40464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0"/>
          <p:cNvSpPr/>
          <p:nvPr/>
        </p:nvSpPr>
        <p:spPr>
          <a:xfrm>
            <a:off x="3492360" y="149688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ettre en service la scie circulaire. Vous devez porter des lunettes de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1"/>
          <p:cNvSpPr/>
          <p:nvPr/>
        </p:nvSpPr>
        <p:spPr>
          <a:xfrm>
            <a:off x="3419640" y="3030480"/>
            <a:ext cx="38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rer les deux parties de la poignée pour lever le bloc s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pprocher le bloc scie de la pièce et laisser redescendre le bloc s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3"/>
          <p:cNvSpPr/>
          <p:nvPr/>
        </p:nvSpPr>
        <p:spPr>
          <a:xfrm>
            <a:off x="3419640" y="4699080"/>
            <a:ext cx="52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otre autre main assure le blocage de la pièce sur la table : presser fortement la pièce  sur la table. Tirer doucement le bloc scie pour commencer la cou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ller jusqu’en butée, relever le bloc scie et le ramener en position initi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6"/>
          <p:cNvSpPr/>
          <p:nvPr/>
        </p:nvSpPr>
        <p:spPr>
          <a:xfrm>
            <a:off x="3276720" y="476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cédure d’utilisation de la scie circulaire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0"/>
          <p:cNvSpPr/>
          <p:nvPr/>
        </p:nvSpPr>
        <p:spPr>
          <a:xfrm>
            <a:off x="0" y="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s d’utilis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2" descr="gabarit1.png"/>
          <p:cNvPicPr/>
          <p:nvPr/>
        </p:nvPicPr>
        <p:blipFill>
          <a:blip r:embed="rId1"/>
          <a:srcRect l="22550" t="17046" r="16550" b="10551"/>
          <a:stretch/>
        </p:blipFill>
        <p:spPr>
          <a:xfrm>
            <a:off x="826920" y="1860480"/>
            <a:ext cx="2376720" cy="1497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à coins arrondis 4"/>
          <p:cNvSpPr/>
          <p:nvPr/>
        </p:nvSpPr>
        <p:spPr>
          <a:xfrm>
            <a:off x="250920" y="765000"/>
            <a:ext cx="8642160" cy="5832720"/>
          </a:xfrm>
          <a:prstGeom prst="roundRect">
            <a:avLst>
              <a:gd name="adj" fmla="val 525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250920" y="12682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 de centrage de l’étau pour percer des trous alignés de même diamèt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4140360" y="1844640"/>
            <a:ext cx="453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serrer les écrous de blocage de l’étau (légère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vrir l’étau jusqu’à pouvoir positionner le gabarit de cent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ntrer le gabarit dans l’ét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serrer l’ét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gler la position de la table et de l’étau  jusqu’à ce que le foret vienne coulisser dans le trou du gabarit de centr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serrer  les écrous de blocage de l’ét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gler la profondeur de perç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lever le gabarit et positionner la pièce à percer dans l’ét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6" descr="100_5559.JPG"/>
          <p:cNvPicPr/>
          <p:nvPr/>
        </p:nvPicPr>
        <p:blipFill>
          <a:blip r:embed="rId2"/>
          <a:stretch/>
        </p:blipFill>
        <p:spPr>
          <a:xfrm>
            <a:off x="395280" y="3716280"/>
            <a:ext cx="3589200" cy="2692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à coins arrondis 6"/>
          <p:cNvSpPr/>
          <p:nvPr/>
        </p:nvSpPr>
        <p:spPr>
          <a:xfrm>
            <a:off x="3132000" y="40464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6"/>
          <p:cNvSpPr/>
          <p:nvPr/>
        </p:nvSpPr>
        <p:spPr>
          <a:xfrm>
            <a:off x="3276720" y="476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cédure d’utilisation de la perceuse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8"/>
          <p:cNvSpPr/>
          <p:nvPr/>
        </p:nvSpPr>
        <p:spPr>
          <a:xfrm>
            <a:off x="0" y="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s d’utilis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à coins arrondis 3"/>
          <p:cNvSpPr/>
          <p:nvPr/>
        </p:nvSpPr>
        <p:spPr>
          <a:xfrm>
            <a:off x="250920" y="765000"/>
            <a:ext cx="8642160" cy="5832720"/>
          </a:xfrm>
          <a:prstGeom prst="roundRect">
            <a:avLst>
              <a:gd name="adj" fmla="val 525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à coins arrondis 4"/>
          <p:cNvSpPr/>
          <p:nvPr/>
        </p:nvSpPr>
        <p:spPr>
          <a:xfrm>
            <a:off x="3132000" y="40464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6"/>
          <p:cNvSpPr/>
          <p:nvPr/>
        </p:nvSpPr>
        <p:spPr>
          <a:xfrm>
            <a:off x="3276720" y="476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cédure d’utilisation de la perceuse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638520" cy="19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638520" cy="197172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9"/>
          <p:cNvSpPr/>
          <p:nvPr/>
        </p:nvSpPr>
        <p:spPr>
          <a:xfrm>
            <a:off x="4140360" y="1413000"/>
            <a:ext cx="41036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us devez porter  des lunettes de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ner et bloquer la pièce dans l’ éta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ttre le capot de protection en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ttre en service la perce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gir sur la commande de descente et percer le matériau, en allant doucement jusqu’en buté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compagner la remontée du mandrin dou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eindre la perceuse à colon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lever la piè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 pas souffler sur les copeau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8"/>
          <p:cNvSpPr/>
          <p:nvPr/>
        </p:nvSpPr>
        <p:spPr>
          <a:xfrm>
            <a:off x="0" y="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s d’utilis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à coins arrondis 3"/>
          <p:cNvSpPr/>
          <p:nvPr/>
        </p:nvSpPr>
        <p:spPr>
          <a:xfrm>
            <a:off x="250920" y="765000"/>
            <a:ext cx="8642160" cy="5832720"/>
          </a:xfrm>
          <a:prstGeom prst="roundRect">
            <a:avLst>
              <a:gd name="adj" fmla="val 525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à coins arrondis 4"/>
          <p:cNvSpPr/>
          <p:nvPr/>
        </p:nvSpPr>
        <p:spPr>
          <a:xfrm>
            <a:off x="3132000" y="40464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3276720" y="476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cédure d’utilisation de la thermo plie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8"/>
          <p:cNvSpPr/>
          <p:nvPr/>
        </p:nvSpPr>
        <p:spPr>
          <a:xfrm>
            <a:off x="0" y="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s d’utilis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95280" y="1197000"/>
            <a:ext cx="8280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CHNIQUE : Comment réaliser un pliag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- Repérer sur la pièce l’emplacement du pliage (traçag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- Glisser la pièce dans la machine et aligner le pliage avec le fil chauff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- Positionner et serrer la butée de réglage horizontal contre la piè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- Serrer la pièce à l’aide des 2 vis de la butée de serr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5- Régler le temps de chauffage du minute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- Appuyer sur le bouton de mise en mar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- Lorsque la sonnerie se déclenche,  mettre à l’arrêt la mach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- Relever  le levier jusqu’à l’angle souhaité sur l’indicateur d’angle et attendre le refroidissement de la piè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9- Dégager la pièce de la machine et contrôler l’angle obte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à coins arrondis 3"/>
          <p:cNvSpPr/>
          <p:nvPr/>
        </p:nvSpPr>
        <p:spPr>
          <a:xfrm>
            <a:off x="250920" y="765000"/>
            <a:ext cx="8642160" cy="5832720"/>
          </a:xfrm>
          <a:prstGeom prst="roundRect">
            <a:avLst>
              <a:gd name="adj" fmla="val 525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à coins arrondis 4"/>
          <p:cNvSpPr/>
          <p:nvPr/>
        </p:nvSpPr>
        <p:spPr>
          <a:xfrm>
            <a:off x="3132000" y="40464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6"/>
          <p:cNvSpPr/>
          <p:nvPr/>
        </p:nvSpPr>
        <p:spPr>
          <a:xfrm>
            <a:off x="3203640" y="404640"/>
            <a:ext cx="259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cédure d’utilisation de la machine à commande numé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8"/>
          <p:cNvSpPr/>
          <p:nvPr/>
        </p:nvSpPr>
        <p:spPr>
          <a:xfrm>
            <a:off x="0" y="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édures d’utilis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age 7" descr="DSC00470.JPG"/>
          <p:cNvPicPr/>
          <p:nvPr/>
        </p:nvPicPr>
        <p:blipFill>
          <a:blip r:embed="rId1"/>
          <a:stretch/>
        </p:blipFill>
        <p:spPr>
          <a:xfrm>
            <a:off x="395280" y="1197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4" name="Image 8" descr="DSC00374.JPG"/>
          <p:cNvPicPr/>
          <p:nvPr/>
        </p:nvPicPr>
        <p:blipFill>
          <a:blip r:embed="rId2"/>
          <a:stretch/>
        </p:blipFill>
        <p:spPr>
          <a:xfrm>
            <a:off x="395280" y="378936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10"/>
          <p:cNvSpPr/>
          <p:nvPr/>
        </p:nvSpPr>
        <p:spPr>
          <a:xfrm>
            <a:off x="3708360" y="1197000"/>
            <a:ext cx="5040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machine à commande numérique présente dans la salle est d’une conception plus ancienne mais aussi plus facile à mettre en œuv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réglages ont été effectués par le professeur préalabl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procédure est simplifié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ur obtenir le support de l’interrupteur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 logiciel, charger le fichier correspondant à votre travail à réaliser : interrupte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nsférer le fichier dans la mach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ner la pièce dans l’étau en la centr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érifier manuellement que la pièce ne peut pas bou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ncer l’usinage : touche Sta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cas de problème appuyer sur la touche : Pa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Quand l’usinage est terminé, enlever la pièce de l’éta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 PAS SOUFFLER SUR LES COPEAU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5T10:18:38Z</dcterms:created>
  <dc:creator>jpbricard</dc:creator>
  <dc:description/>
  <dc:language>en-US</dc:language>
  <cp:lastModifiedBy>Raynaud</cp:lastModifiedBy>
  <dcterms:modified xsi:type="dcterms:W3CDTF">2012-11-20T17:39:04Z</dcterms:modified>
  <cp:revision>16</cp:revision>
  <dc:subject/>
  <dc:title>Diapositive 1</dc:title>
</cp:coreProperties>
</file>