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7D4-285B-409B-B6A1-16ABD5C5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131-9709-45BB-A51B-C417BA6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90C-ED10-4402-ACA6-ED56F4FB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611-6071-4764-B0CE-0978AB6A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585-AE13-4415-8A33-D4E40DA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A34-6F49-4F81-9F74-395DB95B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071-EB2F-4843-B308-48B2181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0B7-FD45-446E-9A49-4DBCBDB4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B78-177F-45B5-8F7A-81F220C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669-FE8E-4EEC-84CF-598F33F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A39-28F4-47CC-87DA-443DA16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420-6E38-4FCE-8DD4-B73AF3A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809-0CAB-42AB-86D3-76C4D1D18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1"/>
          <p:cNvSpPr/>
          <p:nvPr/>
        </p:nvSpPr>
        <p:spPr>
          <a:xfrm>
            <a:off x="250920" y="520560"/>
            <a:ext cx="8497800" cy="6148440"/>
          </a:xfrm>
          <a:prstGeom prst="roundRect">
            <a:avLst>
              <a:gd name="adj" fmla="val 4903"/>
            </a:avLst>
          </a:prstGeom>
          <a:solidFill>
            <a:srgbClr val="ffffff"/>
          </a:solidFill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"/>
          <p:cNvSpPr/>
          <p:nvPr/>
        </p:nvSpPr>
        <p:spPr>
          <a:xfrm>
            <a:off x="755640" y="333360"/>
            <a:ext cx="1655640" cy="368280"/>
          </a:xfrm>
          <a:prstGeom prst="rect">
            <a:avLst/>
          </a:prstGeom>
          <a:solidFill>
            <a:srgbClr val="ffffff"/>
          </a:solidFill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5078520" cy="3313080"/>
          </a:xfrm>
          <a:prstGeom prst="rect">
            <a:avLst/>
          </a:prstGeom>
          <a:ln w="0">
            <a:noFill/>
          </a:ln>
        </p:spPr>
      </p:pic>
      <p:pic>
        <p:nvPicPr>
          <p:cNvPr id="44" name="Image 1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103560" cy="410544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5"/>
          <p:cNvSpPr/>
          <p:nvPr/>
        </p:nvSpPr>
        <p:spPr>
          <a:xfrm>
            <a:off x="5651640" y="692280"/>
            <a:ext cx="2881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dentifier sur la vue en perspective les pièces suivan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pot d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lonnie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omoteu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6"/>
          <p:cNvSpPr/>
          <p:nvPr/>
        </p:nvSpPr>
        <p:spPr>
          <a:xfrm>
            <a:off x="468360" y="4149720"/>
            <a:ext cx="36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chacun des objets techniques suivants, indiquer s’il s’agit de produits finis ou semis fin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aque de plas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lonnie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771640" y="333360"/>
            <a:ext cx="5472360" cy="368280"/>
          </a:xfrm>
          <a:prstGeom prst="rect">
            <a:avLst/>
          </a:prstGeom>
          <a:solidFill>
            <a:srgbClr val="ffffff"/>
          </a:solidFill>
          <a:ln w="60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dentifier les principaux éléments qui constituent l’objet techn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02:26Z</dcterms:created>
  <dc:creator>jpbricard</dc:creator>
  <dc:description/>
  <dc:language>en-US</dc:language>
  <cp:lastModifiedBy>jpbricard</cp:lastModifiedBy>
  <dcterms:modified xsi:type="dcterms:W3CDTF">2012-11-17T14:47:06Z</dcterms:modified>
  <cp:revision>4</cp:revision>
  <dc:subject/>
  <dc:title>Diapositive 1</dc:title>
</cp:coreProperties>
</file>