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42.png" ContentType="image/png"/>
  <Override PartName="/ppt/media/image45.png" ContentType="image/png"/>
  <Override PartName="/ppt/media/image10.png" ContentType="image/png"/>
  <Override PartName="/ppt/media/image50.jpeg" ContentType="image/jpeg"/>
  <Override PartName="/ppt/media/image13.png" ContentType="image/png"/>
  <Override PartName="/ppt/media/image49.jpeg" ContentType="image/jpeg"/>
  <Override PartName="/ppt/media/image12.png" ContentType="image/png"/>
  <Override PartName="/ppt/media/image51.png" ContentType="image/png"/>
  <Override PartName="/ppt/media/image47.jpeg" ContentType="image/jpeg"/>
  <Override PartName="/ppt/media/image52.jpeg" ContentType="image/jpeg"/>
  <Override PartName="/ppt/media/image8.png" ContentType="image/png"/>
  <Override PartName="/ppt/media/image48.jpeg" ContentType="image/jpeg"/>
  <Override PartName="/ppt/media/image44.png" ContentType="image/png"/>
  <Override PartName="/ppt/media/image53.png" ContentType="image/png"/>
  <Override PartName="/ppt/media/image58.jpeg" ContentType="image/jpeg"/>
  <Override PartName="/ppt/media/image46.png" ContentType="image/png"/>
  <Override PartName="/ppt/media/image57.jpeg" ContentType="image/jpeg"/>
  <Override PartName="/ppt/media/image41.jpeg" ContentType="image/jpeg"/>
  <Override PartName="/ppt/media/image54.png" ContentType="image/png"/>
  <Override PartName="/ppt/media/image40.png" ContentType="image/png"/>
  <Override PartName="/ppt/media/image31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24E5-7E01-425F-985F-979F225B7CF0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5096-597A-431B-9462-059A84F2DE2B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74AC-51A0-4291-A19D-DE87CF5D74FF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17C-3A88-4FD0-981A-F696377B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E45-AC39-4291-A2AE-9290F3C1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860-BDEA-4D50-B70A-CAC09C51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D63-19C7-4361-8BC8-C882DA6A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EEE6-3CB1-4546-8A3E-1FB8C3A5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AF2B-1A15-4452-8558-D934F942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0E64-07CF-4F2C-BF4E-8770CD2F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4C8C-5F60-4A88-B46A-6E2910F1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67FD-A6A4-42B5-A233-245C87DF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1366-A816-47B4-AF0B-B6313187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AD73-6536-4FB1-AD41-EFC4EA1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18D-46EE-41A9-B44C-BEF5A03C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5E59-45E2-4662-AB68-1DE65EC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5408-E313-455F-8344-3AF94F0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7EA4-7F6C-4311-AFFF-A567F979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2240-E828-4CED-8B56-1E03B647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B5D4-AAA5-4D47-9609-4E721512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FB90D-D590-4535-93D0-0B89C2F0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F9E82-F044-48B1-9E29-BA039939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4872C-41E5-4DB7-8D27-84DE2A8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C379A-9712-47F4-9F47-30938CD7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732A1-ECE5-4548-890C-979F8F22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BCD-2AE9-49C3-AD92-1A163D3C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0C26D-32D4-4971-8A3C-D8315A51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E92A5-0188-4F1F-9A28-97B63F0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3B170-E1D7-49AF-9C21-2C0A71D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690C0-9E4B-40BF-88C1-E0D67BB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36B58-BE48-45B6-B03A-B0300A22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6816C-64F0-407A-8288-CDE5CFFB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0A1AB-D49A-4C1A-90B2-6EB9C45F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7AAD-856A-49B3-ACC1-EC498F76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47C6A-F50B-4544-A3BB-81A4D03F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64F9-3D48-4833-BF0E-80AA35A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CE2-7669-4550-BB7B-3884132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64E79-8733-4F72-919D-11335A01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B170F-6CDD-4A17-9F29-16165F22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0AEF-A359-4A90-A9C2-B8322ADD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61A64-026A-45EF-BE3A-0CA0184E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38A1-217E-46C8-AD2E-8E8F512D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8C2A-EEE2-44E8-8370-77E9A523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854D-FDD4-41BF-8236-1EA8F4C7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59A7-9055-418D-BC85-46811774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CD3ED-797A-4D3F-9C70-2D9DD28E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E55-A05F-4F3E-BEE1-BEAE52C3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A13-7EA2-48F3-8435-40C00F16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149-A3E4-461D-93AD-779EB4E4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CD6-4D92-4B6B-9E79-AAACE935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8AB-042A-4807-ABF4-AC60C77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à coins arrondi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à coins arrondi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0959-0095-4674-A5A5-7E7368232FDE}" type="slidenum">
              <a:rPr b="0" lang="fr-F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à coins arrondis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à coins arrondis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1406-09A1-4C4B-A43C-98D412F6901F}" type="slidenum">
              <a:rPr b="0" lang="fr-F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à coins arrondi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à coins arrondi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D36E-01D1-4085-89E6-4EC17CE759C1}" type="slidenum">
              <a:rPr b="0" lang="fr-F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à coins arrondi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à coins arrondi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5571-5271-486F-B066-69C40A74E63C}" type="slidenum">
              <a:rPr b="0" lang="fr-F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5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3.jpeg"/><Relationship Id="rId7" Type="http://schemas.openxmlformats.org/officeDocument/2006/relationships/image" Target="../media/image43.jpeg"/><Relationship Id="rId8" Type="http://schemas.openxmlformats.org/officeDocument/2006/relationships/image" Target="../media/image43.jpeg"/><Relationship Id="rId9" Type="http://schemas.openxmlformats.org/officeDocument/2006/relationships/image" Target="../media/image43.jpe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3.jpeg"/><Relationship Id="rId3" Type="http://schemas.openxmlformats.org/officeDocument/2006/relationships/image" Target="../media/image46.png"/><Relationship Id="rId4" Type="http://schemas.openxmlformats.org/officeDocument/2006/relationships/image" Target="../media/image42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hyperlink" Target="http://www.cs.cmu.edu/~johnny/projects/wii/" TargetMode="External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9.pn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48.jpeg"/><Relationship Id="rId11" Type="http://schemas.openxmlformats.org/officeDocument/2006/relationships/image" Target="../media/image57.jpe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cs.nyu.edu/~jhan/" TargetMode="External"/><Relationship Id="rId2" Type="http://schemas.openxmlformats.org/officeDocument/2006/relationships/hyperlink" Target="http://wearables.unisa.edu.au/mpx/" TargetMode="External"/><Relationship Id="rId3" Type="http://schemas.openxmlformats.org/officeDocument/2006/relationships/hyperlink" Target="http://www.elotouch.fr/" TargetMode="External"/><Relationship Id="rId4" Type="http://schemas.openxmlformats.org/officeDocument/2006/relationships/hyperlink" Target="http://www.billbuxton.com/" TargetMode="External"/><Relationship Id="rId5" Type="http://schemas.openxmlformats.org/officeDocument/2006/relationships/hyperlink" Target="http://www.presence-pc.com/tests/ecran-tactile-22812/" TargetMode="Externa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rebuchet MS"/>
              </a:rPr>
              <a:t>Les technologies tactil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82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24456"/>
                </a:solidFill>
                <a:latin typeface="Georgia"/>
              </a:rPr>
              <a:t>et l’avenir de l’interface homme / mach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Sous-titre 2"/>
          <p:cNvSpPr/>
          <p:nvPr/>
        </p:nvSpPr>
        <p:spPr>
          <a:xfrm>
            <a:off x="357120" y="5929200"/>
            <a:ext cx="85010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24456"/>
                </a:solidFill>
                <a:latin typeface="Georgia"/>
              </a:rPr>
              <a:t>Tom MI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3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24456"/>
                </a:solidFill>
                <a:latin typeface="Georgia"/>
              </a:rPr>
              <a:t>03/02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age 4" descr="logo_ingenieurs2000.gif"/>
          <p:cNvPicPr/>
          <p:nvPr/>
        </p:nvPicPr>
        <p:blipFill>
          <a:blip r:embed="rId1"/>
          <a:stretch/>
        </p:blipFill>
        <p:spPr>
          <a:xfrm>
            <a:off x="119160" y="5786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Multi-touch ou multi-point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lusieurs point de contacts indépenda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« plusieurs clics de souris »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Multi-tou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Détection de « zones de contact »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ression, angle d’approche, type d’objets, etc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Interprétation de gest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67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BE6-24DD-4A61-82BE-FA0F9E875F06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Architecture à 3 couches (1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ispositif de pointage (hardwar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Reçoit et détermi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Georgia"/>
              </a:rPr>
              <a:t>Couche logiciel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6a6a6"/>
                </a:solidFill>
                <a:latin typeface="Georgia"/>
              </a:rPr>
              <a:t>Traduit, calibre et interprèt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Georgia"/>
              </a:rPr>
              <a:t>Dispositif d’affich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6a6a6"/>
                </a:solidFill>
                <a:latin typeface="Georgia"/>
              </a:rPr>
              <a:t>Affich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72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A0B8-BF59-4DD9-9C44-AA3CE34C58DB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Technologie capacitiv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8DE1-F1C3-430E-8769-539B31BF2453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57760" y="2214720"/>
            <a:ext cx="4829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Un courant uniforme parcourt la surface de l’écra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L’utilisateur soutire une partie du coura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Le point de contact est calculé en fonction de la valeur du courant aux 4 coins de l’écra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Exemples d’appl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38086"/>
                </a:solidFill>
                <a:latin typeface="Georgia"/>
              </a:rPr>
              <a:t>Bornes extérieures, stations services, touch pad, etc.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38086"/>
                </a:solidFill>
                <a:latin typeface="Georgia"/>
              </a:rPr>
              <a:t>iPhone (Apple)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Espace réservé du contenu 6" descr="cap2.png"/>
          <p:cNvPicPr/>
          <p:nvPr/>
        </p:nvPicPr>
        <p:blipFill>
          <a:blip r:embed="rId1"/>
          <a:stretch/>
        </p:blipFill>
        <p:spPr>
          <a:xfrm>
            <a:off x="106200" y="2786040"/>
            <a:ext cx="3751560" cy="29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Technologie résistiv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C6C1-8B02-4F21-B210-FE8E5BF5BC87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1920" y="2214720"/>
            <a:ext cx="51148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eux couches conductrices sont séparées par un iso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’utilisateur applique une pression et crée un conta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xemples d’appl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Baladeurs Archo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Nintendo D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DA, GP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86" name="Image 8" descr="res.png"/>
          <p:cNvPicPr/>
          <p:nvPr/>
        </p:nvPicPr>
        <p:blipFill>
          <a:blip r:embed="rId1"/>
          <a:stretch/>
        </p:blipFill>
        <p:spPr>
          <a:xfrm>
            <a:off x="500040" y="2143080"/>
            <a:ext cx="2705040" cy="417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Technologie à infrarou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E8DA-7F9A-473A-B5F9-0FEBE9C74602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71920" y="2214720"/>
            <a:ext cx="51148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es diodes infrarouges créent un faisceau lumineux sur la surface de l’écr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’utilisateur coupe le faisceau en X et en 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xemples d’appl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TouchSmart (HP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Albatron Touch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92" name="Image 9" descr="product_ir_workspic.gif"/>
          <p:cNvPicPr/>
          <p:nvPr/>
        </p:nvPicPr>
        <p:blipFill>
          <a:blip r:embed="rId1"/>
          <a:stretch/>
        </p:blipFill>
        <p:spPr>
          <a:xfrm>
            <a:off x="71280" y="2593800"/>
            <a:ext cx="3714840" cy="333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Technologie à ondes de surfac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DA97-2B2A-453D-A163-C87ABF72CA8F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571920" y="2214360"/>
            <a:ext cx="5286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Des ondes ultrasoniques (inaudibles) parcourent la surface de l’écr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Des récepteurs calculent le temps de propagation des ondes et déterminent le point de contac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Exemples d’applic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8086"/>
                </a:solidFill>
                <a:latin typeface="Georgia"/>
              </a:rPr>
              <a:t>iTouch « Touch-on-Tube » (Elo TouchSytems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Image 9" descr="onde.png"/>
          <p:cNvPicPr/>
          <p:nvPr/>
        </p:nvPicPr>
        <p:blipFill>
          <a:blip r:embed="rId1"/>
          <a:stretch/>
        </p:blipFill>
        <p:spPr>
          <a:xfrm>
            <a:off x="291960" y="2428920"/>
            <a:ext cx="327996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Technologie FTI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64FC-9310-4E39-A864-7FD12AB25771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2214360"/>
            <a:ext cx="81151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Un faisceau infrarouge se propage dans un matériau réfléchissant (fibre optiqu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’utilisateur perturbe la propag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e faisceau dévié est capté par une camér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4" name="Image 8" descr="FTIR.gif"/>
          <p:cNvPicPr/>
          <p:nvPr/>
        </p:nvPicPr>
        <p:blipFill>
          <a:blip r:embed="rId1"/>
          <a:stretch/>
        </p:blipFill>
        <p:spPr>
          <a:xfrm>
            <a:off x="147600" y="4000680"/>
            <a:ext cx="4638600" cy="2657160"/>
          </a:xfrm>
          <a:prstGeom prst="rect">
            <a:avLst/>
          </a:prstGeom>
          <a:ln w="0">
            <a:noFill/>
          </a:ln>
        </p:spPr>
      </p:pic>
      <p:sp>
        <p:nvSpPr>
          <p:cNvPr id="305" name="Espace réservé du contenu 7"/>
          <p:cNvSpPr/>
          <p:nvPr/>
        </p:nvSpPr>
        <p:spPr>
          <a:xfrm>
            <a:off x="4714920" y="4500720"/>
            <a:ext cx="42148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xemples d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erspective Pixel (Jeff Ha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Magic Wall (C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Comparatif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Espace réservé de la date 3"/>
          <p:cNvSpPr/>
          <p:nvPr/>
        </p:nvSpPr>
        <p:spPr>
          <a:xfrm>
            <a:off x="658332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3408-772D-4804-8487-A79D1BCC5D46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57120" y="2071800"/>
          <a:ext cx="8572680" cy="4394160"/>
        </p:xfrm>
        <a:graphic>
          <a:graphicData uri="http://schemas.openxmlformats.org/drawingml/2006/table">
            <a:tbl>
              <a:tblPr/>
              <a:tblGrid>
                <a:gridCol w="2000160"/>
                <a:gridCol w="3071880"/>
                <a:gridCol w="35006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echn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pac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uminos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mps de ré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rag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ngé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inteur con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ésis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us types de poin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mps de ré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eu lumine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rag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ngé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frarou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uminos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ngé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us types de poin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étecte le contact avant le tou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mps de ré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ndes d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uminos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ngév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ès sensible aux rayures, poussière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T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ise en œuvre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ès peu répand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Architecture à 3 couches (2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Georgia"/>
              </a:rPr>
              <a:t>Dispositif de pointage (hardwar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6a6a6"/>
                </a:solidFill>
                <a:latin typeface="Georgia"/>
              </a:rPr>
              <a:t>Reçoit et détermi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uche logiciel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Traduit, calibre et interprèt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Georgia"/>
              </a:rPr>
              <a:t>Dispositif d’affich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6a6a6"/>
                </a:solidFill>
                <a:latin typeface="Georgia"/>
              </a:rPr>
              <a:t>Affich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313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A793-40D1-4C43-AB84-1FE4C77B45F4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à coins arrondis 57"/>
          <p:cNvGrpSpPr/>
          <p:nvPr/>
        </p:nvGrpSpPr>
        <p:grpSpPr>
          <a:xfrm>
            <a:off x="5505480" y="2030400"/>
            <a:ext cx="919080" cy="4492800"/>
            <a:chOff x="5505480" y="2030400"/>
            <a:chExt cx="919080" cy="4492800"/>
          </a:xfrm>
        </p:grpSpPr>
        <p:pic>
          <p:nvPicPr>
            <p:cNvPr id="317" name="Rectangle à coins arrondis 57" descr=""/>
            <p:cNvPicPr/>
            <p:nvPr/>
          </p:nvPicPr>
          <p:blipFill>
            <a:blip r:embed="rId1"/>
            <a:stretch/>
          </p:blipFill>
          <p:spPr>
            <a:xfrm>
              <a:off x="5505480" y="2030400"/>
              <a:ext cx="91908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610240" y="2109960"/>
              <a:ext cx="709560" cy="42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Core A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Rectangle à coins arrondis 53"/>
          <p:cNvGrpSpPr/>
          <p:nvPr/>
        </p:nvGrpSpPr>
        <p:grpSpPr>
          <a:xfrm>
            <a:off x="4005360" y="2030400"/>
            <a:ext cx="1633320" cy="4492800"/>
            <a:chOff x="4005360" y="2030400"/>
            <a:chExt cx="1633320" cy="4492800"/>
          </a:xfrm>
        </p:grpSpPr>
        <p:pic>
          <p:nvPicPr>
            <p:cNvPr id="320" name="Rectangle à coins arrondis 53" descr=""/>
            <p:cNvPicPr/>
            <p:nvPr/>
          </p:nvPicPr>
          <p:blipFill>
            <a:blip r:embed="rId2"/>
            <a:stretch/>
          </p:blipFill>
          <p:spPr>
            <a:xfrm>
              <a:off x="4005360" y="2030400"/>
              <a:ext cx="163332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145040" y="2144880"/>
              <a:ext cx="1353960" cy="42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OS compat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Image 25" descr="imagess.jpeg"/>
          <p:cNvPicPr/>
          <p:nvPr/>
        </p:nvPicPr>
        <p:blipFill>
          <a:blip r:embed="rId3"/>
          <a:stretch/>
        </p:blipFill>
        <p:spPr>
          <a:xfrm>
            <a:off x="571680" y="2000160"/>
            <a:ext cx="500040" cy="9241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Architecture généra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4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468E-678B-4521-AB7D-C3ED432866AB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Rectangle 6"/>
          <p:cNvGrpSpPr/>
          <p:nvPr/>
        </p:nvGrpSpPr>
        <p:grpSpPr>
          <a:xfrm>
            <a:off x="1584360" y="2249640"/>
            <a:ext cx="336600" cy="1268280"/>
            <a:chOff x="1584360" y="2249640"/>
            <a:chExt cx="336600" cy="1268280"/>
          </a:xfrm>
        </p:grpSpPr>
        <p:pic>
          <p:nvPicPr>
            <p:cNvPr id="328" name="Rectangle 6" descr=""/>
            <p:cNvPicPr/>
            <p:nvPr/>
          </p:nvPicPr>
          <p:blipFill>
            <a:blip r:embed="rId4"/>
            <a:stretch/>
          </p:blipFill>
          <p:spPr>
            <a:xfrm>
              <a:off x="1584360" y="2249640"/>
              <a:ext cx="3366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643040" y="2286000"/>
              <a:ext cx="214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ZoneTexte 8"/>
          <p:cNvSpPr/>
          <p:nvPr/>
        </p:nvSpPr>
        <p:spPr>
          <a:xfrm>
            <a:off x="-142920" y="35686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Dispositif de poi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(couche hard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Flèche droite 9"/>
          <p:cNvGrpSpPr/>
          <p:nvPr/>
        </p:nvGrpSpPr>
        <p:grpSpPr>
          <a:xfrm>
            <a:off x="219240" y="2816280"/>
            <a:ext cx="1274760" cy="774720"/>
            <a:chOff x="219240" y="2816280"/>
            <a:chExt cx="1274760" cy="774720"/>
          </a:xfrm>
        </p:grpSpPr>
        <p:pic>
          <p:nvPicPr>
            <p:cNvPr id="332" name="Flèche droite 9" descr=""/>
            <p:cNvPicPr/>
            <p:nvPr/>
          </p:nvPicPr>
          <p:blipFill>
            <a:blip r:embed="rId5"/>
            <a:stretch/>
          </p:blipFill>
          <p:spPr>
            <a:xfrm>
              <a:off x="219240" y="2816280"/>
              <a:ext cx="12747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85840" y="3017880"/>
              <a:ext cx="982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Rectangle à coins arrondis 10"/>
          <p:cNvGrpSpPr/>
          <p:nvPr/>
        </p:nvGrpSpPr>
        <p:grpSpPr>
          <a:xfrm>
            <a:off x="2505240" y="2030400"/>
            <a:ext cx="1633320" cy="4492800"/>
            <a:chOff x="2505240" y="2030400"/>
            <a:chExt cx="1633320" cy="4492800"/>
          </a:xfrm>
        </p:grpSpPr>
        <p:pic>
          <p:nvPicPr>
            <p:cNvPr id="335" name="Rectangle à coins arrondis 10" descr=""/>
            <p:cNvPicPr/>
            <p:nvPr/>
          </p:nvPicPr>
          <p:blipFill>
            <a:blip r:embed="rId6"/>
            <a:stretch/>
          </p:blipFill>
          <p:spPr>
            <a:xfrm>
              <a:off x="2505240" y="2030400"/>
              <a:ext cx="163332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644920" y="2144880"/>
              <a:ext cx="1353960" cy="42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Contrôl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Rectangle 18"/>
          <p:cNvGrpSpPr/>
          <p:nvPr/>
        </p:nvGrpSpPr>
        <p:grpSpPr>
          <a:xfrm>
            <a:off x="1584360" y="4608360"/>
            <a:ext cx="336600" cy="1262160"/>
            <a:chOff x="1584360" y="4608360"/>
            <a:chExt cx="336600" cy="1262160"/>
          </a:xfrm>
        </p:grpSpPr>
        <p:pic>
          <p:nvPicPr>
            <p:cNvPr id="338" name="Rectangle 18" descr=""/>
            <p:cNvPicPr/>
            <p:nvPr/>
          </p:nvPicPr>
          <p:blipFill>
            <a:blip r:embed="rId7"/>
            <a:stretch/>
          </p:blipFill>
          <p:spPr>
            <a:xfrm>
              <a:off x="1584360" y="4608360"/>
              <a:ext cx="3366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643040" y="4643280"/>
              <a:ext cx="214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ZoneTexte 19"/>
          <p:cNvSpPr/>
          <p:nvPr/>
        </p:nvSpPr>
        <p:spPr>
          <a:xfrm>
            <a:off x="-142920" y="58546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Dispositif d’affic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(couche hard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Image 26" descr="images.jpeg"/>
          <p:cNvPicPr/>
          <p:nvPr/>
        </p:nvPicPr>
        <p:blipFill>
          <a:blip r:embed="rId8"/>
          <a:stretch/>
        </p:blipFill>
        <p:spPr>
          <a:xfrm>
            <a:off x="214200" y="4462560"/>
            <a:ext cx="1276560" cy="1038240"/>
          </a:xfrm>
          <a:prstGeom prst="rect">
            <a:avLst/>
          </a:prstGeom>
          <a:ln w="0">
            <a:noFill/>
          </a:ln>
        </p:spPr>
      </p:pic>
      <p:grpSp>
        <p:nvGrpSpPr>
          <p:cNvPr id="342" name="Flèche droite 27"/>
          <p:cNvGrpSpPr/>
          <p:nvPr/>
        </p:nvGrpSpPr>
        <p:grpSpPr>
          <a:xfrm>
            <a:off x="146160" y="5102280"/>
            <a:ext cx="1280880" cy="774720"/>
            <a:chOff x="146160" y="5102280"/>
            <a:chExt cx="1280880" cy="774720"/>
          </a:xfrm>
        </p:grpSpPr>
        <p:pic>
          <p:nvPicPr>
            <p:cNvPr id="343" name="Flèche droite 27" descr=""/>
            <p:cNvPicPr/>
            <p:nvPr/>
          </p:nvPicPr>
          <p:blipFill>
            <a:blip r:embed="rId9"/>
            <a:stretch/>
          </p:blipFill>
          <p:spPr>
            <a:xfrm>
              <a:off x="146160" y="5102280"/>
              <a:ext cx="1280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74760" y="5303880"/>
              <a:ext cx="982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Rectangle à coins arrondis 21"/>
          <p:cNvGrpSpPr/>
          <p:nvPr/>
        </p:nvGrpSpPr>
        <p:grpSpPr>
          <a:xfrm>
            <a:off x="6291360" y="2030400"/>
            <a:ext cx="920520" cy="4492800"/>
            <a:chOff x="6291360" y="2030400"/>
            <a:chExt cx="920520" cy="4492800"/>
          </a:xfrm>
        </p:grpSpPr>
        <p:pic>
          <p:nvPicPr>
            <p:cNvPr id="346" name="Rectangle à coins arrondis 21" descr=""/>
            <p:cNvPicPr/>
            <p:nvPr/>
          </p:nvPicPr>
          <p:blipFill>
            <a:blip r:embed="rId10"/>
            <a:stretch/>
          </p:blipFill>
          <p:spPr>
            <a:xfrm>
              <a:off x="6291360" y="2030400"/>
              <a:ext cx="92052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396120" y="2109960"/>
              <a:ext cx="709560" cy="42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8" name="Connecteur droit avec flèche 15"/>
          <p:cNvCxnSpPr/>
          <p:nvPr/>
        </p:nvCxnSpPr>
        <p:spPr>
          <a:xfrm>
            <a:off x="2000160" y="2998800"/>
            <a:ext cx="929520" cy="2160"/>
          </a:xfrm>
          <a:prstGeom prst="straightConnector1">
            <a:avLst/>
          </a:prstGeom>
          <a:ln w="31680">
            <a:solidFill>
              <a:srgbClr val="c4652d"/>
            </a:solidFill>
            <a:miter/>
            <a:tailEnd len="med" type="arrow" w="med"/>
          </a:ln>
        </p:spPr>
      </p:cxnSp>
      <p:cxnSp>
        <p:nvCxnSpPr>
          <p:cNvPr id="349" name="Connecteur droit avec flèche 20"/>
          <p:cNvCxnSpPr/>
          <p:nvPr/>
        </p:nvCxnSpPr>
        <p:spPr>
          <a:xfrm flipH="1" flipV="1">
            <a:off x="5071680" y="5214600"/>
            <a:ext cx="929520" cy="2160"/>
          </a:xfrm>
          <a:prstGeom prst="straightConnector1">
            <a:avLst/>
          </a:prstGeom>
          <a:ln w="31680">
            <a:solidFill>
              <a:srgbClr val="c4652d"/>
            </a:solidFill>
            <a:miter/>
            <a:tailEnd len="med" type="arrow" w="med"/>
          </a:ln>
        </p:spPr>
      </p:cxnSp>
      <p:cxnSp>
        <p:nvCxnSpPr>
          <p:cNvPr id="350" name="Connecteur droit avec flèche 46"/>
          <p:cNvCxnSpPr/>
          <p:nvPr/>
        </p:nvCxnSpPr>
        <p:spPr>
          <a:xfrm>
            <a:off x="3571920" y="2999880"/>
            <a:ext cx="929520" cy="2520"/>
          </a:xfrm>
          <a:prstGeom prst="straightConnector1">
            <a:avLst/>
          </a:prstGeom>
          <a:ln w="31680">
            <a:solidFill>
              <a:srgbClr val="c4652d"/>
            </a:solidFill>
            <a:miter/>
            <a:tailEnd len="med" type="arrow" w="med"/>
          </a:ln>
        </p:spPr>
      </p:cxnSp>
      <p:cxnSp>
        <p:nvCxnSpPr>
          <p:cNvPr id="351" name="Connecteur droit avec flèche 47"/>
          <p:cNvCxnSpPr/>
          <p:nvPr/>
        </p:nvCxnSpPr>
        <p:spPr>
          <a:xfrm>
            <a:off x="5072040" y="2999880"/>
            <a:ext cx="929520" cy="2520"/>
          </a:xfrm>
          <a:prstGeom prst="straightConnector1">
            <a:avLst/>
          </a:prstGeom>
          <a:ln w="31680">
            <a:solidFill>
              <a:srgbClr val="c4652d"/>
            </a:solidFill>
            <a:miter/>
            <a:tailEnd len="med" type="arrow" w="med"/>
          </a:ln>
        </p:spPr>
      </p:cxnSp>
      <p:cxnSp>
        <p:nvCxnSpPr>
          <p:cNvPr id="352" name="Connecteur droit avec flèche 50"/>
          <p:cNvCxnSpPr/>
          <p:nvPr/>
        </p:nvCxnSpPr>
        <p:spPr>
          <a:xfrm flipH="1" flipV="1">
            <a:off x="3571560" y="5214600"/>
            <a:ext cx="929520" cy="2160"/>
          </a:xfrm>
          <a:prstGeom prst="straightConnector1">
            <a:avLst/>
          </a:prstGeom>
          <a:ln w="31680">
            <a:solidFill>
              <a:srgbClr val="c4652d"/>
            </a:solidFill>
            <a:miter/>
            <a:tailEnd len="med" type="arrow" w="med"/>
          </a:ln>
        </p:spPr>
      </p:cxnSp>
      <p:cxnSp>
        <p:nvCxnSpPr>
          <p:cNvPr id="353" name="Connecteur droit avec flèche 51"/>
          <p:cNvCxnSpPr/>
          <p:nvPr/>
        </p:nvCxnSpPr>
        <p:spPr>
          <a:xfrm flipH="1" flipV="1">
            <a:off x="1999800" y="5213160"/>
            <a:ext cx="929520" cy="2160"/>
          </a:xfrm>
          <a:prstGeom prst="straightConnector1">
            <a:avLst/>
          </a:prstGeom>
          <a:ln w="31680">
            <a:solidFill>
              <a:srgbClr val="c4652d"/>
            </a:solidFill>
            <a:miter/>
            <a:tailEnd len="med" type="arrow" w="med"/>
          </a:ln>
        </p:spPr>
      </p:cxnSp>
      <p:grpSp>
        <p:nvGrpSpPr>
          <p:cNvPr id="354" name="Rectangle à coins arrondis 54"/>
          <p:cNvGrpSpPr/>
          <p:nvPr/>
        </p:nvGrpSpPr>
        <p:grpSpPr>
          <a:xfrm>
            <a:off x="7077240" y="2030400"/>
            <a:ext cx="1847520" cy="4492800"/>
            <a:chOff x="7077240" y="2030400"/>
            <a:chExt cx="1847520" cy="4492800"/>
          </a:xfrm>
        </p:grpSpPr>
        <p:pic>
          <p:nvPicPr>
            <p:cNvPr id="355" name="Rectangle à coins arrondis 54" descr=""/>
            <p:cNvPicPr/>
            <p:nvPr/>
          </p:nvPicPr>
          <p:blipFill>
            <a:blip r:embed="rId11"/>
            <a:stretch/>
          </p:blipFill>
          <p:spPr>
            <a:xfrm>
              <a:off x="7077240" y="2030400"/>
              <a:ext cx="184752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227720" y="2155680"/>
              <a:ext cx="1546560" cy="41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Applications compati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7" name="Connecteur droit avec flèche 55"/>
          <p:cNvCxnSpPr/>
          <p:nvPr/>
        </p:nvCxnSpPr>
        <p:spPr>
          <a:xfrm>
            <a:off x="6715080" y="2999880"/>
            <a:ext cx="929520" cy="2520"/>
          </a:xfrm>
          <a:prstGeom prst="straightConnector1">
            <a:avLst/>
          </a:prstGeom>
          <a:ln w="31680">
            <a:solidFill>
              <a:srgbClr val="c4652d"/>
            </a:solidFill>
            <a:miter/>
            <a:tailEnd len="med" type="arrow" w="med"/>
          </a:ln>
        </p:spPr>
      </p:cxnSp>
      <p:cxnSp>
        <p:nvCxnSpPr>
          <p:cNvPr id="358" name="Connecteur droit avec flèche 56"/>
          <p:cNvCxnSpPr/>
          <p:nvPr/>
        </p:nvCxnSpPr>
        <p:spPr>
          <a:xfrm flipH="1" flipV="1">
            <a:off x="6714720" y="5214600"/>
            <a:ext cx="929520" cy="2160"/>
          </a:xfrm>
          <a:prstGeom prst="straightConnector1">
            <a:avLst/>
          </a:prstGeom>
          <a:ln w="31680">
            <a:solidFill>
              <a:srgbClr val="c4652d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Pl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Bref historiq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mposantes d’un dispositif tacti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Hardwa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Softwa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pplications dans le monde d’aujourd’hu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ojets et avenir du tacti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émo : fabriquer son écran tacti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DE9E-34FA-468F-8EFF-CDBF015EA03C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pied de page 5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e la date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Architecture logicielle détaillé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0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FE21-8D54-4095-BA65-638163C69474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Rectangle à coins arrondis 11"/>
          <p:cNvGrpSpPr/>
          <p:nvPr/>
        </p:nvGrpSpPr>
        <p:grpSpPr>
          <a:xfrm>
            <a:off x="1646280" y="5888160"/>
            <a:ext cx="5492880" cy="774720"/>
            <a:chOff x="1646280" y="5888160"/>
            <a:chExt cx="5492880" cy="774720"/>
          </a:xfrm>
        </p:grpSpPr>
        <p:pic>
          <p:nvPicPr>
            <p:cNvPr id="364" name="Rectangle à coins arrondis 11" descr=""/>
            <p:cNvPicPr/>
            <p:nvPr/>
          </p:nvPicPr>
          <p:blipFill>
            <a:blip r:embed="rId1"/>
            <a:stretch/>
          </p:blipFill>
          <p:spPr>
            <a:xfrm>
              <a:off x="1646280" y="5888160"/>
              <a:ext cx="5492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1746360" y="5961240"/>
              <a:ext cx="5294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Hardware (multi-touch, souris, touch pad, etc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Rectangle à coins arrondis 21"/>
          <p:cNvGrpSpPr/>
          <p:nvPr/>
        </p:nvGrpSpPr>
        <p:grpSpPr>
          <a:xfrm>
            <a:off x="1646280" y="5029200"/>
            <a:ext cx="5492880" cy="781200"/>
            <a:chOff x="1646280" y="5029200"/>
            <a:chExt cx="5492880" cy="781200"/>
          </a:xfrm>
        </p:grpSpPr>
        <p:pic>
          <p:nvPicPr>
            <p:cNvPr id="367" name="Rectangle à coins arrondis 21" descr=""/>
            <p:cNvPicPr/>
            <p:nvPr/>
          </p:nvPicPr>
          <p:blipFill>
            <a:blip r:embed="rId2"/>
            <a:stretch/>
          </p:blipFill>
          <p:spPr>
            <a:xfrm>
              <a:off x="1646280" y="5029200"/>
              <a:ext cx="5492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746360" y="510372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Abstraction hard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Rectangle à coins arrondis 22"/>
          <p:cNvGrpSpPr/>
          <p:nvPr/>
        </p:nvGrpSpPr>
        <p:grpSpPr>
          <a:xfrm>
            <a:off x="1646280" y="4316400"/>
            <a:ext cx="5492880" cy="773280"/>
            <a:chOff x="1646280" y="4316400"/>
            <a:chExt cx="5492880" cy="773280"/>
          </a:xfrm>
        </p:grpSpPr>
        <p:pic>
          <p:nvPicPr>
            <p:cNvPr id="370" name="Rectangle à coins arrondis 22" descr=""/>
            <p:cNvPicPr/>
            <p:nvPr/>
          </p:nvPicPr>
          <p:blipFill>
            <a:blip r:embed="rId3"/>
            <a:stretch/>
          </p:blipFill>
          <p:spPr>
            <a:xfrm>
              <a:off x="1646280" y="4316400"/>
              <a:ext cx="54928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746360" y="4389480"/>
              <a:ext cx="5294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Trans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Rectangle à coins arrondis 23"/>
          <p:cNvGrpSpPr/>
          <p:nvPr/>
        </p:nvGrpSpPr>
        <p:grpSpPr>
          <a:xfrm>
            <a:off x="1646280" y="3602160"/>
            <a:ext cx="5492880" cy="774720"/>
            <a:chOff x="1646280" y="3602160"/>
            <a:chExt cx="5492880" cy="774720"/>
          </a:xfrm>
        </p:grpSpPr>
        <p:pic>
          <p:nvPicPr>
            <p:cNvPr id="373" name="Rectangle à coins arrondis 23" descr=""/>
            <p:cNvPicPr/>
            <p:nvPr/>
          </p:nvPicPr>
          <p:blipFill>
            <a:blip r:embed="rId4"/>
            <a:stretch/>
          </p:blipFill>
          <p:spPr>
            <a:xfrm>
              <a:off x="1646280" y="3602160"/>
              <a:ext cx="5492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746360" y="3675240"/>
              <a:ext cx="5294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Interpré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Rectangle à coins arrondis 24"/>
          <p:cNvGrpSpPr/>
          <p:nvPr/>
        </p:nvGrpSpPr>
        <p:grpSpPr>
          <a:xfrm>
            <a:off x="1646280" y="2816280"/>
            <a:ext cx="5492880" cy="774720"/>
            <a:chOff x="1646280" y="2816280"/>
            <a:chExt cx="5492880" cy="774720"/>
          </a:xfrm>
        </p:grpSpPr>
        <p:pic>
          <p:nvPicPr>
            <p:cNvPr id="376" name="Rectangle à coins arrondis 24" descr=""/>
            <p:cNvPicPr/>
            <p:nvPr/>
          </p:nvPicPr>
          <p:blipFill>
            <a:blip r:embed="rId5"/>
            <a:stretch/>
          </p:blipFill>
          <p:spPr>
            <a:xfrm>
              <a:off x="1646280" y="2816280"/>
              <a:ext cx="5492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746360" y="2889360"/>
              <a:ext cx="5294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Core API / Multi-touch A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Flèche courbée vers la droite 32"/>
          <p:cNvGrpSpPr/>
          <p:nvPr/>
        </p:nvGrpSpPr>
        <p:grpSpPr>
          <a:xfrm>
            <a:off x="7156440" y="4621320"/>
            <a:ext cx="403200" cy="1036440"/>
            <a:chOff x="7156440" y="4621320"/>
            <a:chExt cx="403200" cy="1036440"/>
          </a:xfrm>
        </p:grpSpPr>
        <p:pic>
          <p:nvPicPr>
            <p:cNvPr id="379" name="Flèche courbée vers la droite 32" descr=""/>
            <p:cNvPicPr/>
            <p:nvPr/>
          </p:nvPicPr>
          <p:blipFill>
            <a:blip r:embed="rId6"/>
            <a:stretch/>
          </p:blipFill>
          <p:spPr>
            <a:xfrm>
              <a:off x="7156440" y="4621320"/>
              <a:ext cx="4032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 rot="10800000">
              <a:off x="7215120" y="4643280"/>
              <a:ext cx="2858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ZoneTexte 33"/>
          <p:cNvSpPr/>
          <p:nvPr/>
        </p:nvSpPr>
        <p:spPr>
          <a:xfrm>
            <a:off x="7643880" y="471960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oints / zones d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Flèche courbée vers la droite 34"/>
          <p:cNvGrpSpPr/>
          <p:nvPr/>
        </p:nvGrpSpPr>
        <p:grpSpPr>
          <a:xfrm>
            <a:off x="7156440" y="3687840"/>
            <a:ext cx="403200" cy="1042920"/>
            <a:chOff x="7156440" y="3687840"/>
            <a:chExt cx="403200" cy="1042920"/>
          </a:xfrm>
        </p:grpSpPr>
        <p:pic>
          <p:nvPicPr>
            <p:cNvPr id="383" name="Flèche courbée vers la droite 34" descr=""/>
            <p:cNvPicPr/>
            <p:nvPr/>
          </p:nvPicPr>
          <p:blipFill>
            <a:blip r:embed="rId7"/>
            <a:stretch/>
          </p:blipFill>
          <p:spPr>
            <a:xfrm>
              <a:off x="7156440" y="3687840"/>
              <a:ext cx="4032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 rot="10800000">
              <a:off x="7215120" y="3714480"/>
              <a:ext cx="2858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Flèche courbée vers la droite 35"/>
          <p:cNvGrpSpPr/>
          <p:nvPr/>
        </p:nvGrpSpPr>
        <p:grpSpPr>
          <a:xfrm>
            <a:off x="7156440" y="2341440"/>
            <a:ext cx="403200" cy="1389240"/>
            <a:chOff x="7156440" y="2341440"/>
            <a:chExt cx="403200" cy="1389240"/>
          </a:xfrm>
        </p:grpSpPr>
        <p:pic>
          <p:nvPicPr>
            <p:cNvPr id="386" name="Flèche courbée vers la droite 35" descr=""/>
            <p:cNvPicPr/>
            <p:nvPr/>
          </p:nvPicPr>
          <p:blipFill>
            <a:blip r:embed="rId8"/>
            <a:stretch/>
          </p:blipFill>
          <p:spPr>
            <a:xfrm>
              <a:off x="7156440" y="2341440"/>
              <a:ext cx="4032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 rot="10800000">
              <a:off x="7215120" y="2357280"/>
              <a:ext cx="2858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ZoneTexte 36"/>
          <p:cNvSpPr/>
          <p:nvPr/>
        </p:nvSpPr>
        <p:spPr>
          <a:xfrm>
            <a:off x="7643880" y="37195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oints  / zones calib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oneTexte 37"/>
          <p:cNvSpPr/>
          <p:nvPr/>
        </p:nvSpPr>
        <p:spPr>
          <a:xfrm>
            <a:off x="7500960" y="257184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événements multi-touch / g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Flèche courbée vers la droite 38"/>
          <p:cNvGrpSpPr/>
          <p:nvPr/>
        </p:nvGrpSpPr>
        <p:grpSpPr>
          <a:xfrm>
            <a:off x="7156440" y="5546880"/>
            <a:ext cx="403200" cy="1036440"/>
            <a:chOff x="7156440" y="5546880"/>
            <a:chExt cx="403200" cy="1036440"/>
          </a:xfrm>
        </p:grpSpPr>
        <p:pic>
          <p:nvPicPr>
            <p:cNvPr id="391" name="Flèche courbée vers la droite 38" descr=""/>
            <p:cNvPicPr/>
            <p:nvPr/>
          </p:nvPicPr>
          <p:blipFill>
            <a:blip r:embed="rId9"/>
            <a:stretch/>
          </p:blipFill>
          <p:spPr>
            <a:xfrm>
              <a:off x="7156440" y="5546880"/>
              <a:ext cx="4032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 rot="10800000">
              <a:off x="7215120" y="5572080"/>
              <a:ext cx="2858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ZoneTexte 39"/>
          <p:cNvSpPr/>
          <p:nvPr/>
        </p:nvSpPr>
        <p:spPr>
          <a:xfrm>
            <a:off x="7643880" y="58546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données br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ccolade ouvrante 18"/>
          <p:cNvSpPr/>
          <p:nvPr/>
        </p:nvSpPr>
        <p:spPr>
          <a:xfrm>
            <a:off x="1357200" y="3571920"/>
            <a:ext cx="285840" cy="2143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143080"/>
              <a:gd name="textAreaBottom" fmla="*/ 213588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ZoneTexte 19"/>
          <p:cNvSpPr/>
          <p:nvPr/>
        </p:nvSpPr>
        <p:spPr>
          <a:xfrm>
            <a:off x="285840" y="414324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dr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Rectangle à coins arrondis 26"/>
          <p:cNvGrpSpPr/>
          <p:nvPr/>
        </p:nvGrpSpPr>
        <p:grpSpPr>
          <a:xfrm>
            <a:off x="1646280" y="2103480"/>
            <a:ext cx="5492880" cy="772920"/>
            <a:chOff x="1646280" y="2103480"/>
            <a:chExt cx="5492880" cy="772920"/>
          </a:xfrm>
        </p:grpSpPr>
        <p:pic>
          <p:nvPicPr>
            <p:cNvPr id="397" name="Rectangle à coins arrondis 26" descr=""/>
            <p:cNvPicPr/>
            <p:nvPr/>
          </p:nvPicPr>
          <p:blipFill>
            <a:blip r:embed="rId10"/>
            <a:stretch/>
          </p:blipFill>
          <p:spPr>
            <a:xfrm>
              <a:off x="1646280" y="2103480"/>
              <a:ext cx="54928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746360" y="217476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eorgia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Événements multi-touc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es événements multi-touch (ou gestes) sont une liste d’informations permettant d’interpréter le mouv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osition initia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direc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osition fina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vites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angle d’approch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ress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etc…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401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8F6-B0CF-453E-8C04-150320769F9C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24456"/>
                </a:solidFill>
                <a:latin typeface="Trebuchet MS"/>
              </a:rPr>
              <a:t>Cas pratique : rotation d’une photo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286000" y="2249640"/>
            <a:ext cx="640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La couche d’interprétation identifie le mouvement grâce à la position initiale, la direction et la position fina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L’application de gestion des photos reçoit l’événement multi-touch « rotation » avec ses caractéristiqu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L’application effectue le traitement et renvoie le résultat graphique correspondan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3AA3-3F25-4CB0-B059-56B61A44B9DD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Espace réservé du contenu 6" descr="test2.png"/>
          <p:cNvPicPr/>
          <p:nvPr/>
        </p:nvPicPr>
        <p:blipFill>
          <a:blip r:embed="rId1"/>
          <a:srcRect l="0" t="0" r="53875" b="0"/>
          <a:stretch/>
        </p:blipFill>
        <p:spPr>
          <a:xfrm>
            <a:off x="214200" y="2214720"/>
            <a:ext cx="1621080" cy="2143080"/>
          </a:xfrm>
          <a:prstGeom prst="rect">
            <a:avLst/>
          </a:prstGeom>
          <a:ln w="0">
            <a:noFill/>
          </a:ln>
        </p:spPr>
      </p:pic>
      <p:pic>
        <p:nvPicPr>
          <p:cNvPr id="410" name="Espace réservé du contenu 6" descr="test2.png"/>
          <p:cNvPicPr/>
          <p:nvPr/>
        </p:nvPicPr>
        <p:blipFill>
          <a:blip r:embed="rId2"/>
          <a:srcRect l="42709" t="0" r="353" b="0"/>
          <a:stretch/>
        </p:blipFill>
        <p:spPr>
          <a:xfrm>
            <a:off x="214200" y="4429080"/>
            <a:ext cx="200052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Architecture à 3 couches (3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Georgia"/>
              </a:rPr>
              <a:t>Dispositif de pointage (hardwar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6a6a6"/>
                </a:solidFill>
                <a:latin typeface="Georgia"/>
              </a:rPr>
              <a:t>Reçoit et détermi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Georgia"/>
              </a:rPr>
              <a:t>Couche logiciel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6a6a6"/>
                </a:solidFill>
                <a:latin typeface="Georgia"/>
              </a:rPr>
              <a:t>Traduit, calibre et interprèt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ispositif d’affich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Affich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413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9C0E-48DC-45BA-A40F-685F2AAE4C77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re 6" descr=""/>
          <p:cNvPicPr/>
          <p:nvPr/>
        </p:nvPicPr>
        <p:blipFill>
          <a:blip r:embed="rId1"/>
          <a:stretch/>
        </p:blipFill>
        <p:spPr>
          <a:xfrm>
            <a:off x="476280" y="1809720"/>
            <a:ext cx="8028000" cy="18669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424456"/>
                </a:solidFill>
                <a:latin typeface="Georgia"/>
              </a:rPr>
              <a:t>L’essor du multi-touch au quotidie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AAA3-4252-4549-A0C3-D0AEB8068409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Apple iPhone - iTouc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571840" y="2249280"/>
            <a:ext cx="61149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Écran capacitif  amélioré (grille d’électrod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8F83-F0CD-4D32-8465-2F312AB0823B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Image 6" descr="apple-iphone-3g-01.jpg"/>
          <p:cNvPicPr/>
          <p:nvPr/>
        </p:nvPicPr>
        <p:blipFill>
          <a:blip r:embed="rId1"/>
          <a:srcRect l="1868" t="0" r="32752" b="0"/>
          <a:stretch/>
        </p:blipFill>
        <p:spPr>
          <a:xfrm>
            <a:off x="71280" y="2143080"/>
            <a:ext cx="2500560" cy="4500720"/>
          </a:xfrm>
          <a:prstGeom prst="rect">
            <a:avLst/>
          </a:prstGeom>
          <a:ln w="0">
            <a:noFill/>
          </a:ln>
        </p:spPr>
      </p:pic>
      <p:pic>
        <p:nvPicPr>
          <p:cNvPr id="427" name="Image 7" descr="iphone.png"/>
          <p:cNvPicPr/>
          <p:nvPr/>
        </p:nvPicPr>
        <p:blipFill>
          <a:blip r:embed="rId2"/>
          <a:stretch/>
        </p:blipFill>
        <p:spPr>
          <a:xfrm>
            <a:off x="7143840" y="2765520"/>
            <a:ext cx="1479600" cy="1235160"/>
          </a:xfrm>
          <a:prstGeom prst="rect">
            <a:avLst/>
          </a:prstGeom>
          <a:ln w="0">
            <a:noFill/>
          </a:ln>
        </p:spPr>
      </p:pic>
      <p:sp>
        <p:nvSpPr>
          <p:cNvPr id="428" name="Espace réservé du contenu 2"/>
          <p:cNvSpPr/>
          <p:nvPr/>
        </p:nvSpPr>
        <p:spPr>
          <a:xfrm>
            <a:off x="2643120" y="3929040"/>
            <a:ext cx="61149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iPhone OS (dérivé de MAC OS X avec support multi-to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360 pages de brev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emier appareil multi-touch « grand public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Microsoft Surfac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499920" y="2249280"/>
            <a:ext cx="518652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Technologie de suivi vidéo à infraroug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Windows Vista avec support multi-touch  et .N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Multi-users (52 points de contact simultané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Destinée aux commerces, entreprises, etc. (~10 k$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580D-CDFA-4287-A7D1-04CA52CF08FC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Image 6" descr="microsoft-surface-diagram.jpg"/>
          <p:cNvPicPr/>
          <p:nvPr/>
        </p:nvPicPr>
        <p:blipFill>
          <a:blip r:embed="rId1"/>
          <a:stretch/>
        </p:blipFill>
        <p:spPr>
          <a:xfrm>
            <a:off x="71280" y="2428920"/>
            <a:ext cx="3537000" cy="2714760"/>
          </a:xfrm>
          <a:prstGeom prst="rect">
            <a:avLst/>
          </a:prstGeom>
          <a:ln w="0">
            <a:noFill/>
          </a:ln>
        </p:spPr>
      </p:pic>
      <p:sp>
        <p:nvSpPr>
          <p:cNvPr id="435" name="Espace réservé du contenu 2"/>
          <p:cNvSpPr/>
          <p:nvPr/>
        </p:nvSpPr>
        <p:spPr>
          <a:xfrm>
            <a:off x="214200" y="507204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apable d’identifier et d’interagir avec une multitude d’objets (non) communicants (formes ou code dominos) : WiFi, Bluetooth et RF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Perceptive Pixel (Jeff Han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857680" y="2249640"/>
            <a:ext cx="58291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Technologie FTI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OS dédié (Solaris 10) et interface revisitée (GNOM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Multi-user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Adaptable à des écrans de très grandes taill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Gestion de gestes complex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Très bon marché : « kit pour un écran à 542$ »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Encore à l’état de projet universitai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E3B7-953E-4445-961E-10111E5FFD4A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Image 6" descr="Perceptive_Pixel_02.png"/>
          <p:cNvPicPr/>
          <p:nvPr/>
        </p:nvPicPr>
        <p:blipFill>
          <a:blip r:embed="rId1"/>
          <a:stretch/>
        </p:blipFill>
        <p:spPr>
          <a:xfrm>
            <a:off x="63360" y="2500200"/>
            <a:ext cx="2897280" cy="371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MPX (Multi-Pointer X Server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643200" y="2249640"/>
            <a:ext cx="5043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Solution entièrement libre (Ubuntu Feisty, FreeBSD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Modification sur Server X UNIX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Multi-point (plusieurs curseurs indépendant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Multi-us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Compatible avec les applications existan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Couplé avec DiamondTouch (Mitsubishi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Abstraction totale du type de périphérique utilisé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D8C5-3EC2-4C7A-924C-38DBAE651C53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Image 6" descr="18cursors_2.png"/>
          <p:cNvPicPr/>
          <p:nvPr/>
        </p:nvPicPr>
        <p:blipFill>
          <a:blip r:embed="rId1"/>
          <a:srcRect l="0" t="0" r="0" b="19790"/>
          <a:stretch/>
        </p:blipFill>
        <p:spPr>
          <a:xfrm>
            <a:off x="71280" y="2786040"/>
            <a:ext cx="3714840" cy="3143160"/>
          </a:xfrm>
          <a:prstGeom prst="rect">
            <a:avLst/>
          </a:prstGeom>
          <a:ln w="9360">
            <a:solidFill>
              <a:srgbClr val="53548a"/>
            </a:solidFill>
            <a:miter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re 6" descr=""/>
          <p:cNvPicPr/>
          <p:nvPr/>
        </p:nvPicPr>
        <p:blipFill>
          <a:blip r:embed="rId1"/>
          <a:stretch/>
        </p:blipFill>
        <p:spPr>
          <a:xfrm>
            <a:off x="476280" y="1981080"/>
            <a:ext cx="8015400" cy="16956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424456"/>
                </a:solidFill>
                <a:latin typeface="Georgia"/>
              </a:rPr>
              <a:t>Limitations et évolutions des interfaces homme / machin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8393-D02B-42CA-A3F1-02FC96EAE2CB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re 6" descr=""/>
          <p:cNvPicPr/>
          <p:nvPr/>
        </p:nvPicPr>
        <p:blipFill>
          <a:blip r:embed="rId1"/>
          <a:stretch/>
        </p:blipFill>
        <p:spPr>
          <a:xfrm>
            <a:off x="476280" y="1981080"/>
            <a:ext cx="8015400" cy="16956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424456"/>
                </a:solidFill>
                <a:latin typeface="Georgia"/>
              </a:rPr>
              <a:t>Du synthétiseur électronique à l’iPhone d’Apple…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A10B-45BC-472E-A2E2-8CEFA9EB93BF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Limi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es interfaces d’aujourd’hui ne conviennent pas au tacti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e clavier reste indispens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a couche logicielle n’exploite pas toujours les possibilités qu’offrent les écra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ucune norme n’exis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« Everything is best for something, and worst for something else. » Bill Buxt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1F23-73E8-4AEE-8BE1-CA70ADF40AE6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Quel avenir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Oublier la sour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réer un standard pour la gestuel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Séparer distinctement les couches matérielle et logiciel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epenser entièrement les interfaces homme / mach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enser les applications de façon « multi-touch » et « multi-users 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Ordinateurs hybrides (tactile + clavi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A2D8-B6BF-4783-8E70-A78E1B34F98D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re 6" descr=""/>
          <p:cNvPicPr/>
          <p:nvPr/>
        </p:nvPicPr>
        <p:blipFill>
          <a:blip r:embed="rId1"/>
          <a:stretch/>
        </p:blipFill>
        <p:spPr>
          <a:xfrm>
            <a:off x="476280" y="1981080"/>
            <a:ext cx="8015400" cy="16956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424456"/>
                </a:solidFill>
                <a:latin typeface="Georgia"/>
              </a:rPr>
              <a:t>« L’écran tactile du pauvre » de Johnny Chung Lee, Université Carnegie Mellon (Pennsylvanie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C323-1C00-4A9D-830B-BA8BA64D1E6E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Image 19" descr="making-sense-of-the-sensor-bar-20061129061055470-000.jpg"/>
          <p:cNvPicPr/>
          <p:nvPr/>
        </p:nvPicPr>
        <p:blipFill>
          <a:blip r:embed="rId1"/>
          <a:stretch/>
        </p:blipFill>
        <p:spPr>
          <a:xfrm>
            <a:off x="5429160" y="2643120"/>
            <a:ext cx="2571840" cy="1575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Nintendo W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312-6429-42F9-B575-8598C84C8254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Espace réservé du contenu 8" descr="wiimote.png"/>
          <p:cNvPicPr/>
          <p:nvPr/>
        </p:nvPicPr>
        <p:blipFill>
          <a:blip r:embed="rId2"/>
          <a:srcRect l="19612" t="34377" r="20688" b="37507"/>
          <a:stretch/>
        </p:blipFill>
        <p:spPr>
          <a:xfrm>
            <a:off x="285840" y="3063960"/>
            <a:ext cx="2500200" cy="865080"/>
          </a:xfrm>
          <a:prstGeom prst="rect">
            <a:avLst/>
          </a:prstGeom>
          <a:ln w="0">
            <a:noFill/>
          </a:ln>
        </p:spPr>
      </p:pic>
      <p:grpSp>
        <p:nvGrpSpPr>
          <p:cNvPr id="474" name="Organigramme : Fusion 9"/>
          <p:cNvGrpSpPr/>
          <p:nvPr/>
        </p:nvGrpSpPr>
        <p:grpSpPr>
          <a:xfrm>
            <a:off x="2646360" y="2243160"/>
            <a:ext cx="2919240" cy="2560680"/>
            <a:chOff x="2646360" y="2243160"/>
            <a:chExt cx="2919240" cy="2560680"/>
          </a:xfrm>
        </p:grpSpPr>
        <p:pic>
          <p:nvPicPr>
            <p:cNvPr id="475" name="Organigramme : Fusion 9" descr=""/>
            <p:cNvPicPr/>
            <p:nvPr/>
          </p:nvPicPr>
          <p:blipFill>
            <a:blip r:embed="rId3"/>
            <a:stretch/>
          </p:blipFill>
          <p:spPr>
            <a:xfrm>
              <a:off x="2646360" y="2243160"/>
              <a:ext cx="291924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5400000">
              <a:off x="4197960" y="2802600"/>
              <a:ext cx="121428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ffff"/>
                  </a:solidFill>
                  <a:latin typeface="Georgia"/>
                </a:rPr>
                <a:t>45</a:t>
              </a:r>
              <a:r>
                <a:rPr b="1" lang="fr-FR" sz="1800" spc="-1" strike="noStrike">
                  <a:solidFill>
                    <a:srgbClr val="ffffff"/>
                  </a:solidFill>
                  <a:latin typeface="Georgia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7" name="Forme 11"/>
          <p:cNvCxnSpPr/>
          <p:nvPr/>
        </p:nvCxnSpPr>
        <p:spPr>
          <a:xfrm flipH="1" rot="16200000">
            <a:off x="3500280" y="3499920"/>
            <a:ext cx="1215000" cy="2160"/>
          </a:xfrm>
          <a:prstGeom prst="curvedConnector5">
            <a:avLst>
              <a:gd name="adj1" fmla="val -18820"/>
              <a:gd name="adj2" fmla="val 8340000"/>
              <a:gd name="adj3" fmla="val -18820"/>
            </a:avLst>
          </a:prstGeom>
          <a:ln w="316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478" name="Image 20" descr="console-wii.jpg"/>
          <p:cNvPicPr/>
          <p:nvPr/>
        </p:nvPicPr>
        <p:blipFill>
          <a:blip r:embed="rId4"/>
          <a:srcRect l="35000" t="0" r="0" b="0"/>
          <a:stretch/>
        </p:blipFill>
        <p:spPr>
          <a:xfrm>
            <a:off x="2428920" y="4500720"/>
            <a:ext cx="1346040" cy="2071440"/>
          </a:xfrm>
          <a:prstGeom prst="rect">
            <a:avLst/>
          </a:prstGeom>
          <a:ln w="0">
            <a:noFill/>
          </a:ln>
        </p:spPr>
      </p:pic>
      <p:cxnSp>
        <p:nvCxnSpPr>
          <p:cNvPr id="479" name="Forme 26"/>
          <p:cNvCxnSpPr/>
          <p:nvPr/>
        </p:nvCxnSpPr>
        <p:spPr>
          <a:xfrm flipH="1" rot="16200000">
            <a:off x="1176840" y="4285800"/>
            <a:ext cx="1608840" cy="89460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80" name="Image 27" descr="Bluetooth_logo.png"/>
          <p:cNvPicPr/>
          <p:nvPr/>
        </p:nvPicPr>
        <p:blipFill>
          <a:blip r:embed="rId5"/>
          <a:srcRect l="0" t="0" r="80485" b="0"/>
          <a:stretch/>
        </p:blipFill>
        <p:spPr>
          <a:xfrm>
            <a:off x="1428840" y="4429080"/>
            <a:ext cx="546120" cy="685800"/>
          </a:xfrm>
          <a:prstGeom prst="rect">
            <a:avLst/>
          </a:prstGeom>
          <a:ln w="0">
            <a:noFill/>
          </a:ln>
        </p:spPr>
      </p:pic>
      <p:cxnSp>
        <p:nvCxnSpPr>
          <p:cNvPr id="481" name="Forme 28"/>
          <p:cNvCxnSpPr/>
          <p:nvPr/>
        </p:nvCxnSpPr>
        <p:spPr>
          <a:xfrm flipV="1">
            <a:off x="3857400" y="4468320"/>
            <a:ext cx="3369240" cy="131832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2" name="Groupe 35"/>
          <p:cNvGrpSpPr/>
          <p:nvPr/>
        </p:nvGrpSpPr>
        <p:grpSpPr>
          <a:xfrm>
            <a:off x="7902720" y="2428920"/>
            <a:ext cx="955440" cy="2016000"/>
            <a:chOff x="7902720" y="2428920"/>
            <a:chExt cx="955440" cy="2016000"/>
          </a:xfrm>
        </p:grpSpPr>
        <p:pic>
          <p:nvPicPr>
            <p:cNvPr id="483" name="Image 31" descr="Red_led_x5.jpg"/>
            <p:cNvPicPr/>
            <p:nvPr/>
          </p:nvPicPr>
          <p:blipFill>
            <a:blip r:embed="rId6"/>
            <a:srcRect l="71977" t="13672" r="11330" b="45314"/>
            <a:stretch/>
          </p:blipFill>
          <p:spPr>
            <a:xfrm rot="16260000">
              <a:off x="8117280" y="3726000"/>
              <a:ext cx="50004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Image 32" descr="Red_led_x5.jpg"/>
            <p:cNvPicPr/>
            <p:nvPr/>
          </p:nvPicPr>
          <p:blipFill>
            <a:blip r:embed="rId7"/>
            <a:srcRect l="71977" t="13672" r="11330" b="45314"/>
            <a:stretch/>
          </p:blipFill>
          <p:spPr>
            <a:xfrm rot="16260000">
              <a:off x="8125920" y="3225960"/>
              <a:ext cx="50004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Image 33" descr="Red_led_x5.jpg"/>
            <p:cNvPicPr/>
            <p:nvPr/>
          </p:nvPicPr>
          <p:blipFill>
            <a:blip r:embed="rId8"/>
            <a:srcRect l="71977" t="13672" r="11330" b="45314"/>
            <a:stretch/>
          </p:blipFill>
          <p:spPr>
            <a:xfrm rot="16260000">
              <a:off x="8134560" y="2726280"/>
              <a:ext cx="50004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Image 34" descr="Red_led_x5.jpg"/>
            <p:cNvPicPr/>
            <p:nvPr/>
          </p:nvPicPr>
          <p:blipFill>
            <a:blip r:embed="rId9"/>
            <a:srcRect l="71977" t="13672" r="11330" b="45314"/>
            <a:stretch/>
          </p:blipFill>
          <p:spPr>
            <a:xfrm rot="16260000">
              <a:off x="8143200" y="2226240"/>
              <a:ext cx="500040" cy="92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7" name="Image 36" descr="camera.png"/>
          <p:cNvPicPr/>
          <p:nvPr/>
        </p:nvPicPr>
        <p:blipFill>
          <a:blip r:embed="rId10"/>
          <a:stretch/>
        </p:blipFill>
        <p:spPr>
          <a:xfrm>
            <a:off x="2714760" y="257184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Ingrédi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89" name="Espace réservé du contenu 8" descr="wiimote.png"/>
          <p:cNvPicPr/>
          <p:nvPr/>
        </p:nvPicPr>
        <p:blipFill>
          <a:blip r:embed="rId1"/>
          <a:srcRect l="34396" t="20679" r="37525" b="19603"/>
          <a:stretch/>
        </p:blipFill>
        <p:spPr>
          <a:xfrm>
            <a:off x="642960" y="2286000"/>
            <a:ext cx="865080" cy="2500200"/>
          </a:xfrm>
          <a:prstGeom prst="rect">
            <a:avLst/>
          </a:prstGeom>
          <a:ln w="0">
            <a:noFill/>
          </a:ln>
        </p:spPr>
      </p:pic>
      <p:sp>
        <p:nvSpPr>
          <p:cNvPr id="490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51ED-D847-439E-9F83-8454F54E75A2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14" descr="Red_led_x5.jpg"/>
          <p:cNvPicPr/>
          <p:nvPr/>
        </p:nvPicPr>
        <p:blipFill>
          <a:blip r:embed="rId2"/>
          <a:srcRect l="71977" t="13672" r="11330" b="45314"/>
          <a:stretch/>
        </p:blipFill>
        <p:spPr>
          <a:xfrm rot="16260000">
            <a:off x="6572880" y="1654200"/>
            <a:ext cx="500040" cy="9208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e 19"/>
          <p:cNvGrpSpPr/>
          <p:nvPr/>
        </p:nvGrpSpPr>
        <p:grpSpPr>
          <a:xfrm>
            <a:off x="2500200" y="2214720"/>
            <a:ext cx="2514600" cy="1857240"/>
            <a:chOff x="2500200" y="2214720"/>
            <a:chExt cx="2514600" cy="1857240"/>
          </a:xfrm>
        </p:grpSpPr>
        <p:pic>
          <p:nvPicPr>
            <p:cNvPr id="495" name="Image 9" descr="ScreenShot001.png"/>
            <p:cNvPicPr/>
            <p:nvPr/>
          </p:nvPicPr>
          <p:blipFill>
            <a:blip r:embed="rId3"/>
            <a:stretch/>
          </p:blipFill>
          <p:spPr>
            <a:xfrm>
              <a:off x="2500200" y="2214720"/>
              <a:ext cx="251460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Image 15" descr="Bluetooth_logo.png"/>
            <p:cNvPicPr/>
            <p:nvPr/>
          </p:nvPicPr>
          <p:blipFill>
            <a:blip r:embed="rId4"/>
            <a:srcRect l="0" t="0" r="80485" b="0"/>
            <a:stretch/>
          </p:blipFill>
          <p:spPr>
            <a:xfrm>
              <a:off x="2514240" y="3314880"/>
              <a:ext cx="54540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Image 16" descr="bureau_163.jpg"/>
          <p:cNvPicPr/>
          <p:nvPr/>
        </p:nvPicPr>
        <p:blipFill>
          <a:blip r:embed="rId5"/>
          <a:stretch/>
        </p:blipFill>
        <p:spPr>
          <a:xfrm>
            <a:off x="6715080" y="2643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8" name="Image 17" descr="Battery-2-icon.jpg"/>
          <p:cNvPicPr/>
          <p:nvPr/>
        </p:nvPicPr>
        <p:blipFill>
          <a:blip r:embed="rId6"/>
          <a:stretch/>
        </p:blipFill>
        <p:spPr>
          <a:xfrm>
            <a:off x="2428920" y="4572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18" descr="round metal push button.jpg"/>
          <p:cNvPicPr/>
          <p:nvPr/>
        </p:nvPicPr>
        <p:blipFill>
          <a:blip r:embed="rId7"/>
          <a:stretch/>
        </p:blipFill>
        <p:spPr>
          <a:xfrm>
            <a:off x="6357960" y="2928960"/>
            <a:ext cx="714240" cy="571320"/>
          </a:xfrm>
          <a:prstGeom prst="rect">
            <a:avLst/>
          </a:prstGeom>
          <a:ln w="0">
            <a:noFill/>
          </a:ln>
        </p:spPr>
      </p:pic>
      <p:pic>
        <p:nvPicPr>
          <p:cNvPr id="500" name="Image 20" descr="test-video-projecteur-sanyo-plv-z4.jpg"/>
          <p:cNvPicPr/>
          <p:nvPr/>
        </p:nvPicPr>
        <p:blipFill>
          <a:blip r:embed="rId8"/>
          <a:stretch/>
        </p:blipFill>
        <p:spPr>
          <a:xfrm>
            <a:off x="4071960" y="4000680"/>
            <a:ext cx="2428920" cy="1353960"/>
          </a:xfrm>
          <a:prstGeom prst="rect">
            <a:avLst/>
          </a:prstGeom>
          <a:ln w="0">
            <a:noFill/>
          </a:ln>
        </p:spPr>
      </p:pic>
      <p:sp>
        <p:nvSpPr>
          <p:cNvPr id="501" name="Espace réservé du contenu 7"/>
          <p:cNvSpPr/>
          <p:nvPr/>
        </p:nvSpPr>
        <p:spPr>
          <a:xfrm>
            <a:off x="457200" y="5572080"/>
            <a:ext cx="8229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Wiimote Whiteboar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67afbd"/>
                </a:solidFill>
                <a:uFillTx/>
                <a:latin typeface="Georgia"/>
                <a:hlinkClick r:id="rId9"/>
              </a:rPr>
              <a:t>http://www.cs.cmu.edu/~johnny/projects/w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L’idée de Johnny Chung Le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062C-AB36-4A69-A3CA-7751CE3B843B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Image 13" descr="ScreenShot001.png"/>
          <p:cNvPicPr/>
          <p:nvPr/>
        </p:nvPicPr>
        <p:blipFill>
          <a:blip r:embed="rId1"/>
          <a:stretch/>
        </p:blipFill>
        <p:spPr>
          <a:xfrm>
            <a:off x="1914480" y="5429160"/>
            <a:ext cx="1443240" cy="1071720"/>
          </a:xfrm>
          <a:prstGeom prst="rect">
            <a:avLst/>
          </a:prstGeom>
          <a:ln w="0">
            <a:noFill/>
          </a:ln>
        </p:spPr>
      </p:pic>
      <p:pic>
        <p:nvPicPr>
          <p:cNvPr id="507" name="Espace réservé du contenu 8" descr="wiimote.png"/>
          <p:cNvPicPr/>
          <p:nvPr/>
        </p:nvPicPr>
        <p:blipFill>
          <a:blip r:embed="rId2"/>
          <a:srcRect l="19612" t="34377" r="20688" b="37507"/>
          <a:stretch/>
        </p:blipFill>
        <p:spPr>
          <a:xfrm>
            <a:off x="128520" y="3184560"/>
            <a:ext cx="1943280" cy="673200"/>
          </a:xfrm>
          <a:prstGeom prst="rect">
            <a:avLst/>
          </a:prstGeom>
          <a:ln w="0">
            <a:noFill/>
          </a:ln>
        </p:spPr>
      </p:pic>
      <p:pic>
        <p:nvPicPr>
          <p:cNvPr id="508" name="Image 17" descr="test-video-projecteur-sanyo-plv-z4.jpg"/>
          <p:cNvPicPr/>
          <p:nvPr/>
        </p:nvPicPr>
        <p:blipFill>
          <a:blip r:embed="rId3"/>
          <a:stretch/>
        </p:blipFill>
        <p:spPr>
          <a:xfrm>
            <a:off x="3857760" y="5322960"/>
            <a:ext cx="1214280" cy="677880"/>
          </a:xfrm>
          <a:prstGeom prst="rect">
            <a:avLst/>
          </a:prstGeom>
          <a:ln w="0">
            <a:noFill/>
          </a:ln>
        </p:spPr>
      </p:pic>
      <p:grpSp>
        <p:nvGrpSpPr>
          <p:cNvPr id="509" name="Organigramme : Fusion 18"/>
          <p:cNvGrpSpPr/>
          <p:nvPr/>
        </p:nvGrpSpPr>
        <p:grpSpPr>
          <a:xfrm>
            <a:off x="2004840" y="2382840"/>
            <a:ext cx="2659320" cy="2298600"/>
            <a:chOff x="2004840" y="2382840"/>
            <a:chExt cx="2659320" cy="2298600"/>
          </a:xfrm>
        </p:grpSpPr>
        <p:pic>
          <p:nvPicPr>
            <p:cNvPr id="510" name="Organigramme : Fusion 18" descr=""/>
            <p:cNvPicPr/>
            <p:nvPr/>
          </p:nvPicPr>
          <p:blipFill>
            <a:blip r:embed="rId4"/>
            <a:stretch/>
          </p:blipFill>
          <p:spPr>
            <a:xfrm>
              <a:off x="2004840" y="2382840"/>
              <a:ext cx="265932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 rot="5400000">
              <a:off x="3423960" y="2877840"/>
              <a:ext cx="108108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Image 19" descr="61543_location_deskbar.jpg"/>
          <p:cNvPicPr/>
          <p:nvPr/>
        </p:nvPicPr>
        <p:blipFill>
          <a:blip r:embed="rId5"/>
          <a:stretch/>
        </p:blipFill>
        <p:spPr>
          <a:xfrm>
            <a:off x="5000760" y="2143080"/>
            <a:ext cx="3429000" cy="2571840"/>
          </a:xfrm>
          <a:prstGeom prst="rect">
            <a:avLst/>
          </a:prstGeom>
          <a:ln w="0">
            <a:noFill/>
          </a:ln>
        </p:spPr>
      </p:pic>
      <p:cxnSp>
        <p:nvCxnSpPr>
          <p:cNvPr id="513" name="Forme 21"/>
          <p:cNvCxnSpPr>
            <a:stCxn id="506" idx="2"/>
            <a:endCxn id="508" idx="2"/>
          </p:cNvCxnSpPr>
          <p:nvPr/>
        </p:nvCxnSpPr>
        <p:spPr>
          <a:xfrm flipH="1" flipV="1" rot="5400000">
            <a:off x="3299400" y="5335920"/>
            <a:ext cx="500760" cy="1829520"/>
          </a:xfrm>
          <a:prstGeom prst="curvedConnector5">
            <a:avLst>
              <a:gd name="adj1" fmla="val -45683"/>
              <a:gd name="adj2" fmla="val 49990"/>
              <a:gd name="adj3" fmla="val -45683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4" name="Forme 21"/>
          <p:cNvCxnSpPr>
            <a:stCxn id="508" idx="3"/>
            <a:endCxn id="512" idx="2"/>
          </p:cNvCxnSpPr>
          <p:nvPr/>
        </p:nvCxnSpPr>
        <p:spPr>
          <a:xfrm flipV="1">
            <a:off x="5072040" y="4714560"/>
            <a:ext cx="1643760" cy="94824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5" name="Forme 21"/>
          <p:cNvCxnSpPr>
            <a:stCxn id="507" idx="3"/>
            <a:endCxn id="506" idx="1"/>
          </p:cNvCxnSpPr>
          <p:nvPr/>
        </p:nvCxnSpPr>
        <p:spPr>
          <a:xfrm flipH="1" rot="16200000">
            <a:off x="453240" y="4504320"/>
            <a:ext cx="2108880" cy="81504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16" name="Image 14" descr="Bluetooth_logo.png"/>
          <p:cNvPicPr/>
          <p:nvPr/>
        </p:nvPicPr>
        <p:blipFill>
          <a:blip r:embed="rId6"/>
          <a:srcRect l="0" t="0" r="80476" b="0"/>
          <a:stretch/>
        </p:blipFill>
        <p:spPr>
          <a:xfrm>
            <a:off x="1143000" y="4786200"/>
            <a:ext cx="312840" cy="395280"/>
          </a:xfrm>
          <a:prstGeom prst="rect">
            <a:avLst/>
          </a:prstGeom>
          <a:ln w="0">
            <a:noFill/>
          </a:ln>
        </p:spPr>
      </p:pic>
      <p:grpSp>
        <p:nvGrpSpPr>
          <p:cNvPr id="517" name="ZoneTexte 31"/>
          <p:cNvGrpSpPr/>
          <p:nvPr/>
        </p:nvGrpSpPr>
        <p:grpSpPr>
          <a:xfrm>
            <a:off x="1792440" y="4522680"/>
            <a:ext cx="2206440" cy="927360"/>
            <a:chOff x="1792440" y="4522680"/>
            <a:chExt cx="2206440" cy="927360"/>
          </a:xfrm>
        </p:grpSpPr>
        <p:pic>
          <p:nvPicPr>
            <p:cNvPr id="518" name="ZoneTexte 31" descr=""/>
            <p:cNvPicPr/>
            <p:nvPr/>
          </p:nvPicPr>
          <p:blipFill>
            <a:blip r:embed="rId7"/>
            <a:stretch/>
          </p:blipFill>
          <p:spPr>
            <a:xfrm>
              <a:off x="1792440" y="4522680"/>
              <a:ext cx="220644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857240" y="4572000"/>
              <a:ext cx="2071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Georgia"/>
                </a:rPr>
                <a:t>Wiimote Whiteboard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Image 7" descr="bureau_163.jpg"/>
          <p:cNvPicPr/>
          <p:nvPr/>
        </p:nvPicPr>
        <p:blipFill>
          <a:blip r:embed="rId8"/>
          <a:stretch/>
        </p:blipFill>
        <p:spPr>
          <a:xfrm>
            <a:off x="7072200" y="485784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521" name="Image 6" descr="Red_led_x5.jpg"/>
          <p:cNvPicPr/>
          <p:nvPr/>
        </p:nvPicPr>
        <p:blipFill>
          <a:blip r:embed="rId9"/>
          <a:srcRect l="71985" t="13674" r="11339" b="45328"/>
          <a:stretch/>
        </p:blipFill>
        <p:spPr>
          <a:xfrm rot="12300000">
            <a:off x="7147080" y="5664240"/>
            <a:ext cx="317520" cy="582480"/>
          </a:xfrm>
          <a:prstGeom prst="rect">
            <a:avLst/>
          </a:prstGeom>
          <a:ln w="0">
            <a:noFill/>
          </a:ln>
        </p:spPr>
      </p:pic>
      <p:pic>
        <p:nvPicPr>
          <p:cNvPr id="522" name="Image 8" descr="Battery-2-icon.jpg"/>
          <p:cNvPicPr/>
          <p:nvPr/>
        </p:nvPicPr>
        <p:blipFill>
          <a:blip r:embed="rId10"/>
          <a:stretch/>
        </p:blipFill>
        <p:spPr>
          <a:xfrm>
            <a:off x="8501040" y="5643720"/>
            <a:ext cx="452520" cy="452160"/>
          </a:xfrm>
          <a:prstGeom prst="rect">
            <a:avLst/>
          </a:prstGeom>
          <a:ln w="0">
            <a:noFill/>
          </a:ln>
        </p:spPr>
      </p:pic>
      <p:pic>
        <p:nvPicPr>
          <p:cNvPr id="523" name="Image 9" descr="round metal push button.jpg"/>
          <p:cNvPicPr/>
          <p:nvPr/>
        </p:nvPicPr>
        <p:blipFill>
          <a:blip r:embed="rId11"/>
          <a:stretch/>
        </p:blipFill>
        <p:spPr>
          <a:xfrm>
            <a:off x="7500960" y="5357880"/>
            <a:ext cx="452520" cy="361800"/>
          </a:xfrm>
          <a:prstGeom prst="rect">
            <a:avLst/>
          </a:prstGeom>
          <a:ln w="0">
            <a:noFill/>
          </a:ln>
        </p:spPr>
      </p:pic>
      <p:cxnSp>
        <p:nvCxnSpPr>
          <p:cNvPr id="524" name="Connecteur en arc 11"/>
          <p:cNvCxnSpPr>
            <a:endCxn id="522" idx="0"/>
          </p:cNvCxnSpPr>
          <p:nvPr/>
        </p:nvCxnSpPr>
        <p:spPr>
          <a:xfrm flipH="1" rot="16200000">
            <a:off x="8221680" y="5136840"/>
            <a:ext cx="572400" cy="442080"/>
          </a:xfrm>
          <a:prstGeom prst="curvedConnector5">
            <a:avLst>
              <a:gd name="adj1" fmla="val 49968"/>
              <a:gd name="adj2" fmla="val 49959"/>
              <a:gd name="adj3" fmla="val 49968"/>
            </a:avLst>
          </a:prstGeom>
          <a:ln w="31680">
            <a:solidFill>
              <a:srgbClr val="000000"/>
            </a:solidFill>
            <a:miter/>
          </a:ln>
        </p:spPr>
      </p:cxnSp>
      <p:pic>
        <p:nvPicPr>
          <p:cNvPr id="525" name="Image 34" descr="camera.png"/>
          <p:cNvPicPr/>
          <p:nvPr/>
        </p:nvPicPr>
        <p:blipFill>
          <a:blip r:embed="rId12"/>
          <a:stretch/>
        </p:blipFill>
        <p:spPr>
          <a:xfrm>
            <a:off x="2000160" y="264312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Bibliograph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Jeff Han : </a:t>
            </a:r>
            <a:r>
              <a:rPr b="0" lang="fr-FR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cs.nyu.edu/~jhan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MPX : </a:t>
            </a:r>
            <a:r>
              <a:rPr b="0" lang="fr-FR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wearables.unisa.edu.au/mpx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lo TouchSystems : </a:t>
            </a:r>
            <a:r>
              <a:rPr b="0" lang="fr-FR" sz="2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http://www.elotouch.f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Bill Buxton : </a:t>
            </a:r>
            <a:r>
              <a:rPr b="0" lang="fr-FR" sz="28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http://www.billbuxton.c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« Touching the future » (The Economist 09/08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« Ecrans tactiles : la révolution est en marche » : </a:t>
            </a:r>
            <a:r>
              <a:rPr b="0" lang="fr-FR" sz="28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http://www.presence-pc.com/tests/ecran-tactile-22812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FB34-E3C4-4B52-A926-D9928AAFEB38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rebuchet MS"/>
              </a:rPr>
              <a:t>Merc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24456"/>
                </a:solidFill>
                <a:latin typeface="Georgia"/>
              </a:rPr>
              <a:t>des questions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Sous-titre 2"/>
          <p:cNvSpPr/>
          <p:nvPr/>
        </p:nvSpPr>
        <p:spPr>
          <a:xfrm>
            <a:off x="357120" y="5929200"/>
            <a:ext cx="85010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24456"/>
                </a:solidFill>
                <a:latin typeface="Georgia"/>
              </a:rPr>
              <a:t>Tom MI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36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24456"/>
                </a:solidFill>
                <a:latin typeface="Georgia"/>
              </a:rPr>
              <a:t>03/02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Image 4" descr="logo_ingenieurs2000.gif"/>
          <p:cNvPicPr/>
          <p:nvPr/>
        </p:nvPicPr>
        <p:blipFill>
          <a:blip r:embed="rId1"/>
          <a:stretch/>
        </p:blipFill>
        <p:spPr>
          <a:xfrm>
            <a:off x="119160" y="578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35" name="Image 5" descr="minority-report.jpg"/>
          <p:cNvPicPr/>
          <p:nvPr/>
        </p:nvPicPr>
        <p:blipFill>
          <a:blip r:embed="rId2"/>
          <a:stretch/>
        </p:blipFill>
        <p:spPr>
          <a:xfrm>
            <a:off x="3500280" y="411120"/>
            <a:ext cx="4100760" cy="53038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L’origine des temp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1953 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8086"/>
                </a:solidFill>
                <a:latin typeface="Georgia"/>
              </a:rPr>
              <a:t>Hugh Le Caine développe les premiers capteurs capacitifs pour son synthétiseur électroniqu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1960’s – 1972 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8086"/>
                </a:solidFill>
                <a:latin typeface="Georgia"/>
              </a:rPr>
              <a:t>PLATO IV (Université de l’Illinois, commercialisé par IBM), premier écran à infraroug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1971 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8086"/>
                </a:solidFill>
                <a:latin typeface="Georgia"/>
              </a:rPr>
              <a:t>Sam Hurst, chercheur à l’ORNL, imagine le premier écran tactile résistif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1973 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8086"/>
                </a:solidFill>
                <a:latin typeface="Georgia"/>
              </a:rPr>
              <a:t>Sam Hurst fonde Elo TouchSystem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37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8191-B52E-451E-82EC-5EB11BAD41C9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Les temps moderne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7120" y="2143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1982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Nimish Mehta, chercheur à l’Université de Toronto, conçoit le premier périphérique multi-touch (touch pad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1984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Bell Labs développe le premier écran multi-touch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1986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Apparition du premier terminal « bi-manual »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1991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Élaboration de la technologie bidirectionnel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2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1616-D9EF-460D-B03E-A3407B0AB7D7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Les prémices du futu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eorgia"/>
              </a:rPr>
              <a:t>2001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8086"/>
                </a:solidFill>
                <a:latin typeface="Georgia"/>
              </a:rPr>
              <a:t>Diamond Touch (Mitsubishi Research Labs), introduction des gestes complex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eorgia"/>
              </a:rPr>
              <a:t>2003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8086"/>
                </a:solidFill>
                <a:latin typeface="Georgia"/>
              </a:rPr>
              <a:t>Premier écran multi-utilisateur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eorgia"/>
              </a:rPr>
              <a:t>2006 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8086"/>
                </a:solidFill>
                <a:latin typeface="Georgia"/>
              </a:rPr>
              <a:t>Jeff Han, Université de New York, fonde Perceptive Pixe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eorgia"/>
              </a:rPr>
              <a:t>2007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8086"/>
                </a:solidFill>
                <a:latin typeface="Georgia"/>
              </a:rPr>
              <a:t>Apple iPhon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8086"/>
                </a:solidFill>
                <a:latin typeface="Georgia"/>
              </a:rPr>
              <a:t>Microsoft Surface Computing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eorgia"/>
              </a:rPr>
              <a:t>2008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8086"/>
                </a:solidFill>
                <a:latin typeface="Georgia"/>
              </a:rPr>
              <a:t>N-Trig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eorgia"/>
              </a:rPr>
              <a:t>2054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8086"/>
                </a:solidFill>
                <a:latin typeface="Georgia"/>
              </a:rPr>
              <a:t>Minority Report de Steven Spielberg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7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19BF-7ACD-46FE-8F2A-F350FF620477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24456"/>
                </a:solidFill>
                <a:latin typeface="Trebuchet MS"/>
              </a:rPr>
              <a:t>Pourquoi les technologies tactiles tardent-elles à apparaître 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aisons techniq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Capacités graphiques des terminaux trop faibl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OS inadaptés (« single-point »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eu adaptées aux interfaces homme / machine existant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aisons humai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Le public n’est pas encore prê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3548a"/>
                </a:solidFill>
                <a:latin typeface="Georgia"/>
              </a:rPr>
              <a:t>La souris a mis 30 ans à se démocratiser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37560" indent="-23868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Trop chères et encore trop fragil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52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A427-AD89-4DE8-84D4-3E7D73D2A1A8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re 6" descr=""/>
          <p:cNvPicPr/>
          <p:nvPr/>
        </p:nvPicPr>
        <p:blipFill>
          <a:blip r:embed="rId1"/>
          <a:stretch/>
        </p:blipFill>
        <p:spPr>
          <a:xfrm>
            <a:off x="476280" y="1809720"/>
            <a:ext cx="8045280" cy="18669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424456"/>
                </a:solidFill>
                <a:latin typeface="Georgia"/>
              </a:rPr>
              <a:t>Terminologie et architecture logiciell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9657-619A-4488-8413-2453D74093E2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24456"/>
                </a:solidFill>
                <a:latin typeface="Trebuchet MS"/>
              </a:rPr>
              <a:t>Single ou Multi-touch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Single-tou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Un seul point de conta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Un seul utilisateu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Multi-tou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lusieurs points de contact en même temp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38086"/>
                </a:solidFill>
                <a:latin typeface="Georgia"/>
              </a:rPr>
              <a:t>Plusieurs utilisateurs en même temp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62" name="Espace réservé de la date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03/0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438086"/>
                </a:solidFill>
                <a:latin typeface="Georgia"/>
              </a:rPr>
              <a:t>Tom MIETTE technologies tact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5D7E-BC01-4986-A452-D043FCA18C9E}" type="slidenum">
              <a:rPr b="0" lang="fr-FR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8:14:08Z</dcterms:created>
  <dc:creator>Tom MIETTE</dc:creator>
  <dc:description/>
  <dc:language>en-US</dc:language>
  <cp:lastModifiedBy>Benoit</cp:lastModifiedBy>
  <dcterms:modified xsi:type="dcterms:W3CDTF">2012-09-26T06:24:04Z</dcterms:modified>
  <cp:revision>357</cp:revision>
  <dc:subject/>
  <dc:title>Les technologies tactiles</dc:title>
</cp:coreProperties>
</file>