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699B-58D9-42B3-AE5A-192D56218E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246-F833-4424-92AD-A0D2EAAD86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5CE-41DC-4AC1-BFCF-A5F2575498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se en situa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'installation de nouveaux parcs éoliens est soumise à des réglementations de plus en plus restrictives en terme d’environnement Les opérateurs éoliens doivent réaliser des études d'impacts sur l'environnement d'un parc avant son impla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cas de l'installation d'un nouveau parc, il est souvent nécessaire de prendre un ensemble de prises de vues depuis le futur parc représentant un panoramique à 360° à l'altitude des futures éoliennes afin de détecter d'éventuel risque de perturbations (radars, activités économiques locales, co-visibilité avec les monuments ou sites protégés et/ou remarquables, paysag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est aussi nécessaire prendre des panoramiques en différents points à proximité du futur parc afin de mesurer le risque de saturation visuelle que représente cette nouvelle instal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4DC-2688-41C1-BEBE-52125C212B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se en situa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'installation de nouveaux parcs éoliens est soumise à des réglementations de plus en plus restrictives en terme d’environnement Les opérateurs éoliens doivent réaliser des études d'impacts sur l'environnement d'un parc avant son impla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cas de l'installation d'un nouveau parc, il est souvent nécessaire de prendre un ensemble de prises de vues depuis le futur parc représentant un panoramique à 360° à l'altitude des futures éoliennes afin de détecter d'éventuel risque de perturbations (radars, activités économiques locales, co-visibilité avec les monuments ou sites protégés et/ou remarquables, paysag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est aussi nécessaire prendre des panoramiques en différents points à proximité du futur parc afin de mesurer le risque de saturation visuelle que représente cette nouvelle instal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B7C-DC12-4E7F-8FD3-C1978208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495-2612-4F59-BB58-E066DF34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338-3F14-4C15-9D1F-17E5EF7E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F69-1616-47E9-BC3A-0F91021A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7B3-0F79-4429-A2EB-1B596175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2D9-190A-407F-8468-B7A3A3DB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AB8-6ECC-40B8-B2E8-9DDCD91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42A-B756-4D2B-A4AD-D90F6DF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5D3-BE37-4910-8E7B-AEBDB7D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53C-94CD-4813-9732-4B7D5E6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FEC-A1EB-4E54-B12C-0E65FB5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463-36FF-4616-A2D7-E9B1615C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A49-5481-42C5-B74C-644C670A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0800000">
            <a:off x="39600" y="3240"/>
            <a:ext cx="552600" cy="68562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txBody>
          <a:bodyPr anchor="t" vert="eaVert">
            <a:normAutofit/>
          </a:bodyPr>
          <a:p>
            <a:pPr marL="358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aramond"/>
              </a:rPr>
              <a:t>SUPPORT : AR DRONE P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 flipV="1">
            <a:off x="676440" y="685440"/>
            <a:ext cx="8467560" cy="111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76440" y="0"/>
            <a:ext cx="0" cy="685800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676440" y="6248160"/>
            <a:ext cx="8467560" cy="219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62120" y="6248520"/>
            <a:ext cx="838188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BOSSON Y.LONGER     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FCE0B84D-E673-470F-9C8C-FF7BCBA76661}" type="slidenum"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       1STI2D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969840" y="417600"/>
            <a:ext cx="17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258920" y="90792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Comic Sans MS"/>
              </a:rPr>
              <a:t>Décrire le comportement séquentiel d’un syst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66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ardrone1"/>
          <p:cNvPicPr/>
          <p:nvPr/>
        </p:nvPicPr>
        <p:blipFill>
          <a:blip r:embed="rId2"/>
          <a:stretch/>
        </p:blipFill>
        <p:spPr>
          <a:xfrm>
            <a:off x="1476360" y="2708280"/>
            <a:ext cx="2232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032280" cy="2271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9"/>
          <p:cNvSpPr/>
          <p:nvPr/>
        </p:nvSpPr>
        <p:spPr>
          <a:xfrm>
            <a:off x="860040" y="7128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QUENC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 rot="10800000">
            <a:off x="39600" y="3240"/>
            <a:ext cx="552600" cy="68562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txBody>
          <a:bodyPr anchor="t" vert="eaVert">
            <a:normAutofit/>
          </a:bodyPr>
          <a:p>
            <a:pPr marL="358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aramond"/>
              </a:rPr>
              <a:t>SUPPORT : AR DRONE P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676440" y="685440"/>
            <a:ext cx="8467560" cy="111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676440" y="0"/>
            <a:ext cx="0" cy="685800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V="1">
            <a:off x="676440" y="6248160"/>
            <a:ext cx="8467560" cy="219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69840" y="417600"/>
            <a:ext cx="17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1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665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481640" y="2651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7939" t="0" r="0" b="35949"/>
          <a:stretch/>
        </p:blipFill>
        <p:spPr>
          <a:xfrm>
            <a:off x="1785960" y="1428840"/>
            <a:ext cx="635328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481640" y="2813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857160" y="4643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e cas de l'installation d'un nouveau parc, il est souvent nécessaire de prendre un ensemble de prises de vues depuis le futur parc représentant un panoramique à 360° à l'altitude des futures éoliennes afin de détecter d'éventuel risque de perturbations (radars...) ainsi que les risques de saturation visuelle géné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1127520" y="71280"/>
            <a:ext cx="42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E EN SIT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2040840" y="92880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ATIQUE ENVIRONNEMENT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2120" y="6248520"/>
            <a:ext cx="838188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BOSSON Y.LONGER     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0016067B-05FC-454E-8D1A-060CA72AF7DC}" type="slidenum"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       1STI2D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 rot="10800000">
            <a:off x="39600" y="3240"/>
            <a:ext cx="552600" cy="68562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txBody>
          <a:bodyPr anchor="t" vert="eaVert">
            <a:normAutofit/>
          </a:bodyPr>
          <a:p>
            <a:pPr marL="358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aramond"/>
              </a:rPr>
              <a:t>SUPPORT : AR DRONE P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V="1">
            <a:off x="676440" y="685440"/>
            <a:ext cx="8467560" cy="111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676440" y="0"/>
            <a:ext cx="0" cy="685800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V="1">
            <a:off x="676440" y="6248160"/>
            <a:ext cx="8467560" cy="219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969840" y="417600"/>
            <a:ext cx="17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 1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665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481640" y="2651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481640" y="2813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785880" y="857160"/>
            <a:ext cx="80722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tte opération est généralement gourmande en temps et est aussi génératrice de coûts car elle nécessite une logistique assez lourde liée à l'utilisation de matériel spécif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1143000" y="350028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voir utiliser l'AR Drone de la société Parrot (objet grand public peu coûteux) pour réaliser automatiquement, et le plus simplement possible, les prises de vue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20"/>
          <p:cNvCxnSpPr/>
          <p:nvPr/>
        </p:nvCxnSpPr>
        <p:spPr>
          <a:xfrm flipH="1">
            <a:off x="4714560" y="1857240"/>
            <a:ext cx="2160" cy="8582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91" name="Rectangle 21"/>
          <p:cNvSpPr/>
          <p:nvPr/>
        </p:nvSpPr>
        <p:spPr>
          <a:xfrm>
            <a:off x="3148200" y="278604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 ENVISAGE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1127520" y="71280"/>
            <a:ext cx="42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E EN SIT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ardrone1"/>
          <p:cNvPicPr/>
          <p:nvPr/>
        </p:nvPicPr>
        <p:blipFill>
          <a:blip r:embed="rId2"/>
          <a:srcRect l="0" t="0" r="0" b="48078"/>
          <a:stretch/>
        </p:blipFill>
        <p:spPr>
          <a:xfrm>
            <a:off x="6429240" y="4929120"/>
            <a:ext cx="2232000" cy="1071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1"/>
          <p:cNvSpPr/>
          <p:nvPr/>
        </p:nvSpPr>
        <p:spPr>
          <a:xfrm>
            <a:off x="4960080" y="200016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62120" y="6248520"/>
            <a:ext cx="838188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BOSSON Y.LONGER     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FAABA8A9-07E2-4750-86CB-F3736F4BC9EE}" type="slidenum"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       1STI2D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6:36:48Z</dcterms:created>
  <dc:creator>Sébastien Morland</dc:creator>
  <dc:description/>
  <dc:language>en-US</dc:language>
  <cp:lastModifiedBy>LEGT.GRENET</cp:lastModifiedBy>
  <dcterms:modified xsi:type="dcterms:W3CDTF">2012-04-20T13:09:05Z</dcterms:modified>
  <cp:revision>117</cp:revision>
  <dc:subject/>
  <dc:title>Diapositive 1</dc:title>
</cp:coreProperties>
</file>