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02120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r>
              <a:rPr b="0" lang="en-US" sz="3600" spc="-1" strike="noStrike">
                <a:solidFill>
                  <a:srgbClr val="660033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5669D13-73F0-4DBD-8FEF-4EC2AADEEC8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CFC07D8-7A97-4E9F-9AF1-D7BD1818854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5999E4-5646-494E-A5DD-9E20404948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750EDC1-3DB2-4C42-BB58-75A7F5D44E2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3E9BA3-2262-416F-B4BC-87AC53632C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D9A57E1-FF08-4B43-9D28-8AEF8912BB9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5880A9-9760-4DC0-9A27-01D1DC841D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0AB64AD-8F51-43C7-9DDC-4D219CF980F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04410-C64F-45DF-B949-A98A7AC5E5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386B405-17E4-4D43-8695-2F491DDB89E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0975DF-ED43-414F-9B08-CD1A3BC362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4920A7C-5442-4215-B940-146DEDE00B6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0B04B4-B2F5-4B3A-A45F-360E370B47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D8249BD-5913-4B21-903B-36D98D8A295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AF1192-5CCA-4E78-A88F-58CFA6A446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F1DDDE0-C647-4C8A-8414-C1AFA4447EF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5AB44-7A3B-4F8C-8F06-41B8E0B873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5CD3078-5839-4C63-8F7C-B913804090F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8C7C09-3EF7-477C-BCDE-967B73BB21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9B1AE2D-1EAF-4397-B11D-64007FF6193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E3D1FA-9A63-4FA7-A678-54E6CF42DE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6F9EE32-8B0B-49A6-825F-DF5B0A0F6B1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F6DBCA-B36E-4680-80E2-B724C7B96D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3921E62-81F0-4D0B-887C-96979960810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EC38FE-046F-4A96-86E5-A1E7B1500E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0360"/>
                <a:tab algn="l" pos="3960720"/>
                <a:tab algn="l" pos="4951440"/>
                <a:tab algn="l" pos="594216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6F95086-5D2F-4D90-A489-DF83DA43674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A36520-CE1A-48D3-A4A8-C69D14C946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320" bIns="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B42-67ED-433C-98BA-30FB5723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CD7-CB1C-403B-9F21-2E8B223A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1B7-10C4-4291-ABDF-A79BE9B6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8A0-4FFD-46F9-8F40-D3268E11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B44-37AB-4E63-ADC6-87DEB337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FF2-13DA-407B-BA4F-F7C11E2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D5C-0279-4F7E-BA2B-82FF0C9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C41-6814-460D-994B-6F870BBB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3640" y="115920"/>
            <a:ext cx="77724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E67-512F-4C2A-9295-D37AB92E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9F7-C7CA-4D48-B14E-76E0FCB4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4CD-7A12-4D5D-956E-8E1F34A0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3640" y="10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335-E54D-4528-A0F2-81CA16F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75137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513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e751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763640" y="11592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66003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381360"/>
            <a:ext cx="35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715756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715756"/>
                </a:solidFill>
                <a:latin typeface="Arial"/>
                <a:ea typeface="Arial"/>
              </a:rPr>
              <a:t>Formation PRAP – LL-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01DFB0-941F-43F2-903E-EB75B8E7D77B}" type="datetime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81360"/>
            <a:ext cx="12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235C5E-C567-496E-9FAD-7AC68E58987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5" descr=""/>
          <p:cNvPicPr/>
          <p:nvPr/>
        </p:nvPicPr>
        <p:blipFill>
          <a:blip r:embed="rId1"/>
          <a:srcRect l="15923" t="18553" r="15447" b="9178"/>
          <a:stretch/>
        </p:blipFill>
        <p:spPr>
          <a:xfrm>
            <a:off x="196920" y="1143000"/>
            <a:ext cx="868824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age 5" descr=""/>
          <p:cNvPicPr/>
          <p:nvPr/>
        </p:nvPicPr>
        <p:blipFill>
          <a:blip r:embed="rId2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cxnSp>
        <p:nvCxnSpPr>
          <p:cNvPr id="52" name="Connecteur droit avec flèche 11"/>
          <p:cNvCxnSpPr/>
          <p:nvPr/>
        </p:nvCxnSpPr>
        <p:spPr>
          <a:xfrm>
            <a:off x="2570760" y="3357720"/>
            <a:ext cx="500760" cy="7862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" name="Connecteur droit avec flèche 12"/>
          <p:cNvCxnSpPr/>
          <p:nvPr/>
        </p:nvCxnSpPr>
        <p:spPr>
          <a:xfrm>
            <a:off x="3785040" y="3285720"/>
            <a:ext cx="500760" cy="7866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4" name="Connecteur droit avec flèche 13"/>
          <p:cNvCxnSpPr/>
          <p:nvPr/>
        </p:nvCxnSpPr>
        <p:spPr>
          <a:xfrm>
            <a:off x="7356960" y="3214440"/>
            <a:ext cx="500760" cy="7866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5" name="Connecteur droit avec flèche 14"/>
          <p:cNvCxnSpPr/>
          <p:nvPr/>
        </p:nvCxnSpPr>
        <p:spPr>
          <a:xfrm>
            <a:off x="5142600" y="3214440"/>
            <a:ext cx="500760" cy="7866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" name="Connecteur droit avec flèche 15"/>
          <p:cNvCxnSpPr/>
          <p:nvPr/>
        </p:nvCxnSpPr>
        <p:spPr>
          <a:xfrm>
            <a:off x="4428000" y="3285720"/>
            <a:ext cx="500760" cy="7866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" name="Connecteur droit avec flèche 16"/>
          <p:cNvCxnSpPr/>
          <p:nvPr/>
        </p:nvCxnSpPr>
        <p:spPr>
          <a:xfrm>
            <a:off x="6142680" y="3214440"/>
            <a:ext cx="500760" cy="7866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8" name="Text Box 6"/>
          <p:cNvSpPr/>
          <p:nvPr/>
        </p:nvSpPr>
        <p:spPr>
          <a:xfrm>
            <a:off x="1785960" y="14292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 et propositions d’améli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6057720" cy="121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0" y="1143000"/>
            <a:ext cx="2590920" cy="496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tretch/>
        </p:blipFill>
        <p:spPr>
          <a:xfrm>
            <a:off x="3000240" y="2857680"/>
            <a:ext cx="2581560" cy="1495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4857840" y="2500200"/>
            <a:ext cx="2838240" cy="315144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5"/>
          <p:cNvSpPr/>
          <p:nvPr/>
        </p:nvSpPr>
        <p:spPr>
          <a:xfrm>
            <a:off x="5643720" y="57150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 pencher vers l’a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Connecteur droit avec flèche 18"/>
          <p:cNvCxnSpPr/>
          <p:nvPr/>
        </p:nvCxnSpPr>
        <p:spPr>
          <a:xfrm flipH="1">
            <a:off x="7000560" y="3499200"/>
            <a:ext cx="92952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57120" y="1428840"/>
            <a:ext cx="8039160" cy="102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357120" y="2500200"/>
            <a:ext cx="3772080" cy="292896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12"/>
          <p:cNvSpPr/>
          <p:nvPr/>
        </p:nvSpPr>
        <p:spPr>
          <a:xfrm>
            <a:off x="214200" y="114300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achis lomb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nnecteur droit 14"/>
          <p:cNvSpPr/>
          <p:nvPr/>
        </p:nvSpPr>
        <p:spPr>
          <a:xfrm>
            <a:off x="1643040" y="1285920"/>
            <a:ext cx="7215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nnecteur droit 19"/>
          <p:cNvSpPr/>
          <p:nvPr/>
        </p:nvSpPr>
        <p:spPr>
          <a:xfrm flipH="1">
            <a:off x="7929360" y="1285920"/>
            <a:ext cx="9284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6172200" cy="463860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10"/>
          <p:cNvSpPr/>
          <p:nvPr/>
        </p:nvSpPr>
        <p:spPr>
          <a:xfrm>
            <a:off x="928800" y="11430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ONES DE MO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2"/>
          <a:srcRect l="21413" t="11718" r="12249" b="6250"/>
          <a:stretch/>
        </p:blipFill>
        <p:spPr>
          <a:xfrm>
            <a:off x="928800" y="1071720"/>
            <a:ext cx="7500960" cy="5286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rcRect l="0" t="0" r="0" b="77284"/>
          <a:stretch/>
        </p:blipFill>
        <p:spPr>
          <a:xfrm>
            <a:off x="517680" y="1428840"/>
            <a:ext cx="517824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10"/>
          <p:cNvSpPr/>
          <p:nvPr/>
        </p:nvSpPr>
        <p:spPr>
          <a:xfrm>
            <a:off x="571680" y="24289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Times New Roman"/>
              </a:rPr>
              <a:t>1. Réduire l’amplitude artic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571680" y="30002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Times New Roman"/>
              </a:rPr>
              <a:t>2. Réduire la répéti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12"/>
          <p:cNvSpPr/>
          <p:nvPr/>
        </p:nvSpPr>
        <p:spPr>
          <a:xfrm>
            <a:off x="571680" y="35719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Times New Roman"/>
              </a:rPr>
              <a:t>3. Réduire les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13"/>
          <p:cNvSpPr/>
          <p:nvPr/>
        </p:nvSpPr>
        <p:spPr>
          <a:xfrm>
            <a:off x="571680" y="4214880"/>
            <a:ext cx="47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Times New Roman"/>
              </a:rPr>
              <a:t>4. Réduire le travail en position st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ZoneTexte 14"/>
          <p:cNvSpPr/>
          <p:nvPr/>
        </p:nvSpPr>
        <p:spPr>
          <a:xfrm>
            <a:off x="6000840" y="2571840"/>
            <a:ext cx="257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: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Répéti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: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u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85960" y="28584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 et propositions d’améli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Espace réservé de la date 2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291356-A4D6-4E2B-83E1-4093556551D0}" type="datetime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Espace réservé du numéro de diapositive 4"/>
          <p:cNvSpPr/>
          <p:nvPr/>
        </p:nvSpPr>
        <p:spPr>
          <a:xfrm>
            <a:off x="6300720" y="6381720"/>
            <a:ext cx="129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0C2BC3-9665-4065-A7EE-99085779F66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mage 5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3500280" y="2982960"/>
            <a:ext cx="5045400" cy="387504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15"/>
          <p:cNvSpPr/>
          <p:nvPr/>
        </p:nvSpPr>
        <p:spPr>
          <a:xfrm>
            <a:off x="214200" y="57862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lexion vers l’a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85840" y="1071720"/>
            <a:ext cx="2581200" cy="5591160"/>
          </a:xfrm>
          <a:prstGeom prst="rect">
            <a:avLst/>
          </a:prstGeom>
          <a:ln w="0">
            <a:noFill/>
          </a:ln>
        </p:spPr>
      </p:pic>
      <p:cxnSp>
        <p:nvCxnSpPr>
          <p:cNvPr id="75" name="Connecteur droit avec flèche 18"/>
          <p:cNvCxnSpPr/>
          <p:nvPr/>
        </p:nvCxnSpPr>
        <p:spPr>
          <a:xfrm>
            <a:off x="1785960" y="1356840"/>
            <a:ext cx="2572560" cy="235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 Box 6"/>
          <p:cNvSpPr/>
          <p:nvPr/>
        </p:nvSpPr>
        <p:spPr>
          <a:xfrm>
            <a:off x="2500200" y="100008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Action réalisée.   Zone articulaire sollicitée.  </a:t>
            </a:r>
            <a:br>
              <a:rPr sz="1800"/>
            </a:b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Risques sur la san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4"/>
          <a:stretch/>
        </p:blipFill>
        <p:spPr>
          <a:xfrm>
            <a:off x="3152880" y="2000160"/>
            <a:ext cx="5991120" cy="52380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16"/>
          <p:cNvSpPr/>
          <p:nvPr/>
        </p:nvSpPr>
        <p:spPr>
          <a:xfrm>
            <a:off x="3714840" y="1571760"/>
            <a:ext cx="421488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ver le bras pour positionner la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71760" y="142920"/>
            <a:ext cx="678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3"/>
          <p:cNvSpPr/>
          <p:nvPr/>
        </p:nvSpPr>
        <p:spPr>
          <a:xfrm>
            <a:off x="214200" y="114300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pa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00120" y="114300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Observation et Évaluation de l’AMPLITUDE, la RÉPÉTITIVITÉ,   l’EFFORT, la DUR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0" r="0" b="4804"/>
          <a:stretch/>
        </p:blipFill>
        <p:spPr>
          <a:xfrm>
            <a:off x="285840" y="1928880"/>
            <a:ext cx="8564400" cy="4929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454040" y="14292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13"/>
          <p:cNvSpPr/>
          <p:nvPr/>
        </p:nvSpPr>
        <p:spPr>
          <a:xfrm>
            <a:off x="214200" y="114300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pa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571760" y="1143000"/>
            <a:ext cx="68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Observation et Évaluation de l’AMPLITUDE, la RÉPÉTITIVITÉ,   l’EFFORT, la DUR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357200" y="1790640"/>
            <a:ext cx="6600960" cy="4781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13"/>
          <p:cNvSpPr/>
          <p:nvPr/>
        </p:nvSpPr>
        <p:spPr>
          <a:xfrm>
            <a:off x="214200" y="114300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pa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4200" y="1785960"/>
            <a:ext cx="3370320" cy="4551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3714840" y="1785960"/>
            <a:ext cx="2744640" cy="157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3714840" y="3500280"/>
            <a:ext cx="2857320" cy="277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6753240" y="4500720"/>
            <a:ext cx="23907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571760" y="1071720"/>
            <a:ext cx="6118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Action réalisée.   Zone articulaire sollicitée.  </a:t>
            </a:r>
            <a:br>
              <a:rPr sz="1800"/>
            </a:b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Risques sur la santé.     Importance du ris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3"/>
          <p:cNvSpPr/>
          <p:nvPr/>
        </p:nvSpPr>
        <p:spPr>
          <a:xfrm>
            <a:off x="214200" y="114300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pa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4857480" cy="3770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71760" y="128592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Action réalisée.   Zone articulaire sollicitée.  </a:t>
            </a:r>
            <a:br>
              <a:rPr sz="1800"/>
            </a:br>
            <a:r>
              <a:rPr b="1" lang="fr-FR" sz="1800" spc="-1" strike="noStrike">
                <a:solidFill>
                  <a:srgbClr val="0070c0"/>
                </a:solidFill>
                <a:latin typeface="Arial"/>
              </a:rPr>
              <a:t>Risques sur la san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Espace réservé de la date 2"/>
          <p:cNvSpPr/>
          <p:nvPr/>
        </p:nvSpPr>
        <p:spPr>
          <a:xfrm>
            <a:off x="46836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CB56CE-C9CD-4BF5-9CDB-09AF53D6D2F0}" type="datetime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Espace réservé du numéro de diapositive 4"/>
          <p:cNvSpPr/>
          <p:nvPr/>
        </p:nvSpPr>
        <p:spPr>
          <a:xfrm>
            <a:off x="6300720" y="6381720"/>
            <a:ext cx="129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D0BD1-1088-4B73-8745-F14FF1D36694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6057720" cy="121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2571840" cy="580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4"/>
          <a:stretch/>
        </p:blipFill>
        <p:spPr>
          <a:xfrm>
            <a:off x="3286080" y="2857680"/>
            <a:ext cx="2428920" cy="268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5"/>
          <a:stretch/>
        </p:blipFill>
        <p:spPr>
          <a:xfrm>
            <a:off x="5857920" y="3000240"/>
            <a:ext cx="2500200" cy="2355840"/>
          </a:xfrm>
          <a:prstGeom prst="rect">
            <a:avLst/>
          </a:prstGeom>
          <a:ln w="0">
            <a:noFill/>
          </a:ln>
        </p:spPr>
      </p:pic>
      <p:cxnSp>
        <p:nvCxnSpPr>
          <p:cNvPr id="115" name="Connecteur droit avec flèche 14"/>
          <p:cNvCxnSpPr/>
          <p:nvPr/>
        </p:nvCxnSpPr>
        <p:spPr>
          <a:xfrm>
            <a:off x="1713600" y="1285920"/>
            <a:ext cx="3215160" cy="321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 Box 6"/>
          <p:cNvSpPr/>
          <p:nvPr/>
        </p:nvSpPr>
        <p:spPr>
          <a:xfrm>
            <a:off x="1785960" y="21420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2700360" y="836640"/>
            <a:ext cx="3384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Image 5" descr=""/>
          <p:cNvPicPr/>
          <p:nvPr/>
        </p:nvPicPr>
        <p:blipFill>
          <a:blip r:embed="rId1"/>
          <a:stretch/>
        </p:blipFill>
        <p:spPr>
          <a:xfrm>
            <a:off x="285840" y="247680"/>
            <a:ext cx="1214280" cy="519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6057720" cy="121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0" y="1857240"/>
            <a:ext cx="2581200" cy="3009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4"/>
          <a:stretch/>
        </p:blipFill>
        <p:spPr>
          <a:xfrm>
            <a:off x="2643120" y="2714760"/>
            <a:ext cx="3086280" cy="25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5"/>
          <a:stretch/>
        </p:blipFill>
        <p:spPr>
          <a:xfrm>
            <a:off x="5929200" y="3500280"/>
            <a:ext cx="2981520" cy="1279800"/>
          </a:xfrm>
          <a:prstGeom prst="rect">
            <a:avLst/>
          </a:prstGeom>
          <a:ln w="0">
            <a:noFill/>
          </a:ln>
        </p:spPr>
      </p:pic>
      <p:cxnSp>
        <p:nvCxnSpPr>
          <p:cNvPr id="123" name="Connecteur droit avec flèche 12"/>
          <p:cNvCxnSpPr/>
          <p:nvPr/>
        </p:nvCxnSpPr>
        <p:spPr>
          <a:xfrm>
            <a:off x="1714320" y="2285640"/>
            <a:ext cx="257220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 Box 6"/>
          <p:cNvSpPr/>
          <p:nvPr/>
        </p:nvSpPr>
        <p:spPr>
          <a:xfrm>
            <a:off x="1454040" y="210960"/>
            <a:ext cx="6118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Arial"/>
              </a:rPr>
              <a:t>Observation de situation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0T07:12:59Z</dcterms:created>
  <dc:creator/>
  <dc:description/>
  <dc:language>en-US</dc:language>
  <cp:lastModifiedBy/>
  <dcterms:modified xsi:type="dcterms:W3CDTF">2017-05-04T09:46:51Z</dcterms:modified>
  <cp:revision>1</cp:revision>
  <dc:subject/>
  <dc:title/>
</cp:coreProperties>
</file>