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4F71A-2770-43ED-B2EB-B4B26D48565E}"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1143000" y="685800"/>
            <a:ext cx="4572000" cy="3429000"/>
          </a:xfrm>
          <a:prstGeom prst="rect">
            <a:avLst/>
          </a:prstGeom>
          <a:ln w="0">
            <a:noFill/>
          </a:ln>
        </p:spPr>
      </p:sp>
      <p:sp>
        <p:nvSpPr>
          <p:cNvPr id="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F9828-EDCA-48BD-B587-84756ED7A5AA}"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7F8667-B0FC-4007-B208-8AD9FDE1C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4C4A4-7454-4886-B13E-1E4FFC431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C013B-83D2-4C38-8574-2F5B4D8CD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A2C88-C782-4AC6-8DCE-1BE98FC437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468FA-2DF2-4F03-840D-7F0507807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9562F-6949-4433-809D-BE9D0F1A1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2CE60-E924-4A43-9B04-46CF62217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747DE-2824-4641-9278-F59BDB14F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78078-48F6-4E45-8299-E99950D33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96037-9D2A-4F15-8B92-043EAF6C3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D8715-C14A-48E9-A869-1627DC2DB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F29C3-42CE-4418-9520-44CE9D747E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D9B12-064F-4315-903A-20FC35A54698}"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476360" y="115560"/>
            <a:ext cx="6189840" cy="74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La prévention</a:t>
            </a:r>
            <a:endParaRPr b="0" lang="en-US" sz="4000" spc="-1" strike="noStrike">
              <a:solidFill>
                <a:srgbClr val="000000"/>
              </a:solidFill>
              <a:latin typeface="Calibri"/>
            </a:endParaRPr>
          </a:p>
        </p:txBody>
      </p:sp>
      <p:sp>
        <p:nvSpPr>
          <p:cNvPr id="49" name="PlaceHolder 2"/>
          <p:cNvSpPr>
            <a:spLocks noGrp="1"/>
          </p:cNvSpPr>
          <p:nvPr>
            <p:ph type="subTitle"/>
          </p:nvPr>
        </p:nvSpPr>
        <p:spPr>
          <a:xfrm>
            <a:off x="-360" y="836640"/>
            <a:ext cx="8785080" cy="175248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Prévenir les accidents et maladies liés au travail, c’est …..</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empêcher qu’ils se produisent.</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La prévention des accidents et des maladies professionnelles profite aux salariés </a:t>
            </a:r>
            <a:r>
              <a:rPr b="0" lang="fr-FR" sz="2000" spc="-1" strike="noStrike">
                <a:solidFill>
                  <a:srgbClr val="000000"/>
                </a:solidFill>
                <a:latin typeface="Arial"/>
                <a:ea typeface="Arial"/>
              </a:rPr>
              <a:t>:</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0" name="ZoneTexte 3"/>
          <p:cNvSpPr/>
          <p:nvPr/>
        </p:nvSpPr>
        <p:spPr>
          <a:xfrm>
            <a:off x="179280" y="3716280"/>
            <a:ext cx="8496360" cy="260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ur santé est préservée,</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ur travail est moins pénible, avec moins d’efforts inutiles,</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mbiance de travail est meilleure.</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 accident grave, pour la victime, ce sont des souffrances, un handicap,</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une réadaptation difficile, une vie familiale perturbée,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arfois la perte d’un emplo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257040" y="1484280"/>
            <a:ext cx="8353440" cy="499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salariés ne sont pas tentés de quitter l’entreprise,</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casse et le gaspillage diminuent,</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qualité des produits ou des services est en hausse,</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climat social s’améliore, l’image de marque est plus favorable,</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performances de l’entreprise s’améliorent</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ur l’entreprise, un accident grave signifie souvent des interruptions de la production, des dégâts sur le matériel ou les produits, du temps perdu, des frais de toutes sortes…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e sont aussi des cotisations sociales plus lourdes :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ans les entreprises de plus de 19 salariés, la cotisation accidents du travail/maladie professionnelle subit une augmentation après un</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ccident ou une déclaration de maladie professionnelle.</a:t>
            </a:r>
            <a:endParaRPr b="0" lang="en-US" sz="2000" spc="-1" strike="noStrike">
              <a:solidFill>
                <a:srgbClr val="000000"/>
              </a:solidFill>
              <a:latin typeface="Calibri"/>
            </a:endParaRPr>
          </a:p>
        </p:txBody>
      </p:sp>
      <p:pic>
        <p:nvPicPr>
          <p:cNvPr id="52" name="Picture 3" descr=""/>
          <p:cNvPicPr/>
          <p:nvPr/>
        </p:nvPicPr>
        <p:blipFill>
          <a:blip r:embed="rId1"/>
          <a:stretch/>
        </p:blipFill>
        <p:spPr>
          <a:xfrm>
            <a:off x="539640" y="476280"/>
            <a:ext cx="5943600" cy="6397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ZoneTexte 1"/>
          <p:cNvSpPr/>
          <p:nvPr/>
        </p:nvSpPr>
        <p:spPr>
          <a:xfrm>
            <a:off x="611280" y="404640"/>
            <a:ext cx="82818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onnez des exemples d’actions de prévention faites dans la vie de tous les jou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onnez des exemples de prévention faites dans votre service professionne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ZoneTexte 2"/>
          <p:cNvSpPr/>
          <p:nvPr/>
        </p:nvSpPr>
        <p:spPr>
          <a:xfrm>
            <a:off x="250920" y="476280"/>
            <a:ext cx="8569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s personnes chargées de prévention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ZoneTexte 3"/>
          <p:cNvSpPr/>
          <p:nvPr/>
        </p:nvSpPr>
        <p:spPr>
          <a:xfrm>
            <a:off x="250920" y="1628640"/>
            <a:ext cx="85690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heSansLight-Plain"/>
              </a:rPr>
              <a:t>L’employeur est </a:t>
            </a:r>
            <a:r>
              <a:rPr b="1" lang="fr-FR" sz="2000" spc="-1" strike="noStrike">
                <a:solidFill>
                  <a:srgbClr val="000000"/>
                </a:solidFill>
                <a:latin typeface="TheSansBold-Plain"/>
              </a:rPr>
              <a:t>responsable de la santé au travail et de la sécurité </a:t>
            </a:r>
            <a:r>
              <a:rPr b="0" lang="fr-FR" sz="2000" spc="-1" strike="noStrike">
                <a:solidFill>
                  <a:srgbClr val="000000"/>
                </a:solidFill>
                <a:latin typeface="TheSansLight-Plain"/>
              </a:rPr>
              <a:t>de tous ceux qui travaillent dans l’entreprise (y compris les CDD, intérimaires, salariés d’entreprises extérieur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heSansLight-Plain"/>
              </a:rPr>
              <a:t>Bien d’autres personnes participent activement à la prévention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heSansLight-Plain"/>
              </a:rPr>
              <a:t>-les </a:t>
            </a:r>
            <a:r>
              <a:rPr b="1" lang="fr-FR" sz="2000" spc="-1" strike="noStrike">
                <a:solidFill>
                  <a:srgbClr val="ff4d00"/>
                </a:solidFill>
                <a:latin typeface="TheSansBold-Plain"/>
              </a:rPr>
              <a:t>cadres </a:t>
            </a:r>
            <a:r>
              <a:rPr b="0" lang="fr-FR" sz="2000" spc="-1" strike="noStrike">
                <a:solidFill>
                  <a:srgbClr val="000000"/>
                </a:solidFill>
                <a:latin typeface="TheSansLight-Plain"/>
              </a:rPr>
              <a:t>relayent les mesures de prévention décidées par l’employeur, ils veillent à ce qu’elles soient suivies, ils font remonter les remarques des travailleur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heSansLight-Plain"/>
              </a:rPr>
              <a:t>-les </a:t>
            </a:r>
            <a:r>
              <a:rPr b="1" lang="fr-FR" sz="2000" spc="-1" strike="noStrike">
                <a:solidFill>
                  <a:srgbClr val="ff4d00"/>
                </a:solidFill>
                <a:latin typeface="TheSansBold-Plain"/>
              </a:rPr>
              <a:t>employés </a:t>
            </a:r>
            <a:r>
              <a:rPr b="0" lang="fr-FR" sz="2000" spc="-1" strike="noStrike">
                <a:solidFill>
                  <a:srgbClr val="000000"/>
                </a:solidFill>
                <a:latin typeface="TheSansLight-Plain"/>
              </a:rPr>
              <a:t>et </a:t>
            </a:r>
            <a:r>
              <a:rPr b="1" lang="fr-FR" sz="2000" spc="-1" strike="noStrike">
                <a:solidFill>
                  <a:srgbClr val="ff4d00"/>
                </a:solidFill>
                <a:latin typeface="TheSansBold-Plain"/>
              </a:rPr>
              <a:t>opérateurs </a:t>
            </a:r>
            <a:r>
              <a:rPr b="0" lang="fr-FR" sz="2000" spc="-1" strike="noStrike">
                <a:solidFill>
                  <a:srgbClr val="000000"/>
                </a:solidFill>
                <a:latin typeface="TheSansLight-Plain"/>
              </a:rPr>
              <a:t>veillent à leur propre sécurité et à celle de leurs collègues, ils signalent les situations dangereus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heSansLight-Plain"/>
              </a:rPr>
              <a:t>ils proposent des amélioration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ZoneTexte 1"/>
          <p:cNvSpPr/>
          <p:nvPr/>
        </p:nvSpPr>
        <p:spPr>
          <a:xfrm>
            <a:off x="250920" y="549360"/>
            <a:ext cx="8713800" cy="515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 médecin du travail </a:t>
            </a:r>
            <a:r>
              <a:rPr b="0" lang="fr-FR" sz="2000" spc="-1" strike="noStrike">
                <a:solidFill>
                  <a:srgbClr val="000000"/>
                </a:solidFill>
                <a:latin typeface="Calibri"/>
              </a:rPr>
              <a:t>surveille la santé des travailleurs, il les écoute, il propose au besoin des aménagements de poste, il consacre une partie de son temps à visiter les entreprises pour étudier les postes de travail et proposer des améliorations…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t>
            </a:r>
            <a:r>
              <a:rPr b="0" lang="fr-FR" sz="2400" spc="-1" strike="noStrike">
                <a:solidFill>
                  <a:srgbClr val="000000"/>
                </a:solidFill>
                <a:latin typeface="Calibri"/>
              </a:rPr>
              <a:t>et aussi : l’infirmière</a:t>
            </a:r>
            <a:r>
              <a:rPr b="0" lang="fr-FR" sz="2000" spc="-1" strike="noStrike">
                <a:solidFill>
                  <a:srgbClr val="000000"/>
                </a:solidFill>
                <a:latin typeface="Calibri"/>
              </a:rPr>
              <a:t>, le service interne de pompiers, les sauveteur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secouristes du travail…</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t>
            </a:r>
            <a:r>
              <a:rPr b="0" lang="fr-FR" sz="2400" spc="-1" strike="noStrike">
                <a:solidFill>
                  <a:srgbClr val="000000"/>
                </a:solidFill>
                <a:latin typeface="Calibri"/>
              </a:rPr>
              <a:t>Le CHSCT </a:t>
            </a:r>
            <a:r>
              <a:rPr b="0" lang="fr-FR" sz="2000" spc="-1" strike="noStrike">
                <a:solidFill>
                  <a:srgbClr val="000000"/>
                </a:solidFill>
                <a:latin typeface="Calibri"/>
              </a:rPr>
              <a:t>joue un rôle très important (dans les entreprises de 50 salariés au moins)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il rassemble le chef d’entreprise (qui est président), des représentants du personnel (employés et cadres), le médecin du travail et convie le contrôleur ou l’inspecteur du travail et l’agent de l’organisme de Sécurité sociale chargé de la prévention (Carsa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Si l’entreprise est trop petite pour avoir un CHSCT, les délégués du personnel e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ssurent la fonc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179280" y="115920"/>
            <a:ext cx="8785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Exerc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Quel rôle pouvez-vous jouer dans la préventio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Voici ci-dessous une liste d’actions que chacun peut faire pour améliorer la santé et la sécurité au travai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Vous le faites déjà ?    Vous pensez le faire à l’issue de la formatio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Vous pensez que vous ne le ferez pas pour toutes sortes de raisons ? </a:t>
            </a:r>
            <a:endParaRPr b="0" lang="en-US" sz="1800" spc="-1" strike="noStrike">
              <a:solidFill>
                <a:srgbClr val="000000"/>
              </a:solidFill>
              <a:latin typeface="Calibri"/>
            </a:endParaRPr>
          </a:p>
        </p:txBody>
      </p:sp>
      <p:sp>
        <p:nvSpPr>
          <p:cNvPr id="58" name="Rectangle 2"/>
          <p:cNvSpPr/>
          <p:nvPr/>
        </p:nvSpPr>
        <p:spPr>
          <a:xfrm>
            <a:off x="431640" y="1911240"/>
            <a:ext cx="8280720" cy="466776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Repérer les situations dangereuses et les signaler</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Comprendre le pourquoi des consignes de sécurité</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Poser à l’encadrement des questions sur la sécurité</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Donner votre opinion au médecin du travail sur des questions de santé et sécurité</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Savoir qui alerter immédiatement en cas d’accident d’un collègue ou d’incendi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Signaler les incidents et les problèmes (fonctionnement des machines, par exempl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Proposer des améliorations sur votre post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Proposer des améliorations sur l’organisation du travail</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Participer à des groupes de travail (sécurité, qualité…)</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Devenir représentant du personnel (CHSCT, délégué, délégué syndical, C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Devenir sauveteur-secouriste du travail</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Devenir responsable d’évacuation en cas d’incendi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02T14:48:15Z</dcterms:created>
  <dc:creator>Didier</dc:creator>
  <dc:description/>
  <dc:language>en-US</dc:language>
  <cp:lastModifiedBy>Didier</cp:lastModifiedBy>
  <dcterms:modified xsi:type="dcterms:W3CDTF">2017-11-03T10:50:34Z</dcterms:modified>
  <cp:revision>9</cp:revision>
  <dc:subject/>
  <dc:title>La prévention</dc:title>
</cp:coreProperties>
</file>