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FDA-7E85-4880-B4E8-B8EC07CD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AB2-7058-43F7-8DE2-6AC60ADA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DB7E-925C-44E7-9509-9CF1B81C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E6EF-5DCF-4E07-AD70-0CF96937B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68E4-1979-4286-AC96-DE797D14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425-5A7F-418B-8C66-105B4CD6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772-10B5-4752-843C-3D5A1628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065-F882-4C57-95B0-BBEC0BF1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D38-EB51-41EC-A13F-7F4704D56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068-7898-4D5B-A25C-3D09751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87CE-0CF7-400C-8321-18A5B154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A60-A70A-4217-B6B8-E95965ED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CF83-10CA-4899-9E0A-A011A34FC4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Times New Roman"/>
              </a:rPr>
              <a:t>FORMATION   PR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492280"/>
            <a:ext cx="81928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C’est l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c00000"/>
                </a:solidFill>
                <a:latin typeface="Times New Roman"/>
              </a:rPr>
              <a:t>P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révention des </a:t>
            </a:r>
            <a:r>
              <a:rPr b="1" lang="fr-FR" sz="5400" spc="-1" strike="noStrike">
                <a:solidFill>
                  <a:srgbClr val="c00000"/>
                </a:solidFill>
                <a:latin typeface="Times New Roman"/>
              </a:rPr>
              <a:t>R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isques liés à l’</a:t>
            </a:r>
            <a:r>
              <a:rPr b="1" lang="fr-FR" sz="5400" spc="-1" strike="noStrike">
                <a:solidFill>
                  <a:srgbClr val="c00000"/>
                </a:solidFill>
                <a:latin typeface="Times New Roman"/>
              </a:rPr>
              <a:t>A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ctivité </a:t>
            </a:r>
            <a:r>
              <a:rPr b="1" lang="fr-FR" sz="5400" spc="-1" strike="noStrike">
                <a:solidFill>
                  <a:srgbClr val="c00000"/>
                </a:solidFill>
                <a:latin typeface="Times New Roman"/>
              </a:rPr>
              <a:t>P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hysiqu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057400" cy="89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7850160" y="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2286000" y="152280"/>
            <a:ext cx="763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Formation  PRA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143000" y="3429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</a:rPr>
              <a:t>12 heures  réparties en plusieurs ½ journé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423880" cy="1054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7329600" y="0"/>
            <a:ext cx="1814400" cy="181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2666880" y="0"/>
            <a:ext cx="15264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URQUOI   LA   PR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685800" y="4952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our optimiser les situations de travail au niveau individuel, personnel et professio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342900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838080" y="34290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ussi, pour le personnel, c’est formation est obligato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762120" y="182880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’est une obligation de l’employeur de former le perso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828800" cy="79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"/>
          <p:cNvPicPr/>
          <p:nvPr/>
        </p:nvPicPr>
        <p:blipFill>
          <a:blip r:embed="rId2"/>
          <a:stretch/>
        </p:blipFill>
        <p:spPr>
          <a:xfrm>
            <a:off x="7926480" y="0"/>
            <a:ext cx="12175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9"/>
          <p:cNvSpPr/>
          <p:nvPr/>
        </p:nvSpPr>
        <p:spPr>
          <a:xfrm>
            <a:off x="2057400" y="152280"/>
            <a:ext cx="152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TheSansLight-Plain"/>
              </a:rPr>
              <a:t>Pourquoi su</a:t>
            </a:r>
            <a:r>
              <a:rPr b="0" lang="fr-FR" sz="2800" spc="-1" strike="noStrike">
                <a:solidFill>
                  <a:srgbClr val="ff0000"/>
                </a:solidFill>
                <a:latin typeface="TheSansSemiBold-Plain"/>
              </a:rPr>
              <a:t>ivez-vous </a:t>
            </a:r>
            <a:r>
              <a:rPr b="0" lang="fr-FR" sz="2800" spc="-1" strike="noStrike">
                <a:solidFill>
                  <a:srgbClr val="ff0000"/>
                </a:solidFill>
                <a:latin typeface="TheSansExtraBold-Plain"/>
              </a:rPr>
              <a:t>cette formation ?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395280" y="981000"/>
            <a:ext cx="8424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Votre travail comprend une part d’activité physiqu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Lors d’une journée de travail, vous soulevez des charges, vous manipulez des objets, vous faites des efforts importan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vous répétez les mêmes gestes à longueur de temps, vous travaillez sur ordinateur, les mains sur le clavier, le regard rivé sur l’écra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À la fin de la journée, la fatigue est l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Parfois, c’est plus sérieux. Un faux mouvement et c’est le lumbago, la déchirure musculaire ou l’ento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Ou bien, à la longue, une douleur s’installe, dans le dos, l’épaule, le poign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heSans-Plain"/>
              </a:rPr>
              <a:t>D’abord, elle apparaît de temps en temps, puis en perman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CONTENU DE LA FORM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2120" y="1981080"/>
            <a:ext cx="769608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tude des statistiques des AT et des M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des risqu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tomie, patholog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echnique gestuelle de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Éventuellement technique gestuelles liés à la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et aménagement de postes de trava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904760" cy="82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7850160" y="0"/>
            <a:ext cx="1293840" cy="1295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2133720" y="0"/>
            <a:ext cx="1522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21:55:24Z</dcterms:created>
  <dc:creator>Didier</dc:creator>
  <dc:description/>
  <dc:language>en-US</dc:language>
  <cp:lastModifiedBy>Didier</cp:lastModifiedBy>
  <dcterms:modified xsi:type="dcterms:W3CDTF">2018-02-02T10:20:53Z</dcterms:modified>
  <cp:revision>21</cp:revision>
  <dc:subject/>
  <dc:title>Formation  PRAP</dc:title>
</cp:coreProperties>
</file>