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D712-357B-4461-AFE3-77D7AAC02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5799-20F4-4A94-819B-92B1E8B9C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7F55-174D-4FCF-8D3B-DBD13D1DA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E51E-6856-437E-9A70-CBD8259E2F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E7DB-DDB0-48A9-9872-78502F01C6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133F-E6AB-49FF-93A6-7AC2CEE39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4A6-325E-4B67-9FF9-E26FD7CD6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B97A-CF68-42FA-9D63-51D4B9176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E993-4510-4923-B5FE-C4B1370AC3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9AFF-680E-4B3E-8BF7-F372332B1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EFE1-4B07-457C-8FD6-A452A74D5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554D-662C-47AF-BE2C-41BA5DBFC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7162920" y="5586840"/>
            <a:ext cx="1676160" cy="1280160"/>
            <a:chOff x="7162920" y="5586840"/>
            <a:chExt cx="1676160" cy="1280160"/>
          </a:xfrm>
        </p:grpSpPr>
        <p:sp>
          <p:nvSpPr>
            <p:cNvPr id="31" name=""/>
            <p:cNvSpPr/>
            <p:nvPr/>
          </p:nvSpPr>
          <p:spPr>
            <a:xfrm>
              <a:off x="7391160" y="5586840"/>
              <a:ext cx="144756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" name="tw-trans-mvt2" descr=""/>
            <p:cNvPicPr/>
            <p:nvPr/>
          </p:nvPicPr>
          <p:blipFill>
            <a:blip r:embed="rId9"/>
            <a:stretch/>
          </p:blipFill>
          <p:spPr>
            <a:xfrm>
              <a:off x="7162920" y="5703480"/>
              <a:ext cx="1676160" cy="11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2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E35F58-3255-47AB-89C8-5BFD37C5D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8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2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3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4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7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8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9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1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2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3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1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648180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UIE-G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2840" y="14950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réalisé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6480" y="2532600"/>
            <a:ext cx="27500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DAURES, M. DREUIL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MELLA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7200" y="1780920"/>
            <a:ext cx="24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BARCET, M. BARD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4280" y="2209320"/>
            <a:ext cx="26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c la collaboration 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2480" y="312372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coordonn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7200" y="34272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GILA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57760" y="452160"/>
            <a:ext cx="5266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TRAVAU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4320" y="12564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1 : étude cin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3320" y="1675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2 : étude con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74940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TUDE DU COMPORTEMENT CINEMATIQUE D’UN MECANIS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64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RE D’INTE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80" y="18280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nc commun B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7280" y="1676520"/>
            <a:ext cx="2936880" cy="1096200"/>
            <a:chOff x="5867280" y="1676520"/>
            <a:chExt cx="2936880" cy="1096200"/>
          </a:xfrm>
        </p:grpSpPr>
        <p:sp>
          <p:nvSpPr>
            <p:cNvPr id="155" name=""/>
            <p:cNvSpPr/>
            <p:nvPr/>
          </p:nvSpPr>
          <p:spPr>
            <a:xfrm>
              <a:off x="5978520" y="1923840"/>
              <a:ext cx="2381400" cy="41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3800" y="1676520"/>
              <a:ext cx="0" cy="66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820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5400" y="186660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50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56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520" y="1923840"/>
              <a:ext cx="352440" cy="41868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7280" y="2465640"/>
              <a:ext cx="29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1 an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2 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0280" y="2437560"/>
            <a:ext cx="34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ée de l’activité : 2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0" y="9144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ES VIS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2240" y="1979640"/>
            <a:ext cx="7070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s liaisons entre sous-ensembles dans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et une fonction donn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20" y="3350880"/>
            <a:ext cx="75020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inématique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dentifier le mouvement d’un solide en rotation dans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finir, dans un repère imposé, la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 point d’un solide en mouvement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AISSANCES NOUV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élisation des liaisons mécaniques élémentai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 de mo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és de liberté d’une liaison mécan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éma cinématiqu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7320" y="3808800"/>
            <a:ext cx="8815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éma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u mouveme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e la trajectoire d’un poi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794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5135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300096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mécanisme de l’essuie-glace comp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6160" y="3440520"/>
            <a:ext cx="7500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 perspective transparente du mécanisme de transmission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vement moto-réducteur/porte-ba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20" y="403776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 micro-ordinateur avec modeleur 3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600" y="441864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fichier de ce mécanisme chargé sur le micro-ordi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640" y="479952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questionnaire avec mise en situation incl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ON DES ACTIV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s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le fonctionnement d’un mécanisme et vérifier un élément du cahier des char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60948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RENDRE 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CANI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w-trans-mvt%20im2" descr=""/>
          <p:cNvPicPr/>
          <p:nvPr/>
        </p:nvPicPr>
        <p:blipFill>
          <a:blip r:embed="rId1"/>
          <a:stretch/>
        </p:blipFill>
        <p:spPr>
          <a:xfrm>
            <a:off x="4029120" y="236232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81" name="tw-trans-mvt%20im1" descr=""/>
          <p:cNvPicPr/>
          <p:nvPr/>
        </p:nvPicPr>
        <p:blipFill>
          <a:blip r:embed="rId2"/>
          <a:stretch/>
        </p:blipFill>
        <p:spPr>
          <a:xfrm>
            <a:off x="0" y="259092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240" y="60192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-bal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09680" y="5867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6400" y="601920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-rédu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95680"/>
            <a:ext cx="129528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6477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599120"/>
            <a:ext cx="836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les positions du porte-balai et du moto-réd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0" y="1980000"/>
            <a:ext cx="8830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par coloriage les groupes fonctionnels du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2361240"/>
            <a:ext cx="4916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liaisons méca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40" y="2619720"/>
            <a:ext cx="75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rire par écrit le fonctionnement de c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442800" y="318600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IER ET COMPARER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UVEMENTS D’ENTREE ET DE SOR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4240" y="1675440"/>
            <a:ext cx="5389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re en mouvement l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4240" y="2437200"/>
            <a:ext cx="584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mouvements et trajecto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800" y="2818440"/>
            <a:ext cx="718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r ces trajectoires sur le schéma cinéma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199320"/>
            <a:ext cx="6578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 les mouvements d’entrée-sort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760" y="1904040"/>
            <a:ext cx="79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, sur le schéma cinématique, les éléments fi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798720" y="3643200"/>
            <a:ext cx="4762800" cy="2019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45320" y="4006800"/>
            <a:ext cx="1209600" cy="1252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272400">
            <a:off x="5084640" y="4377600"/>
            <a:ext cx="1336680" cy="2076480"/>
          </a:xfrm>
          <a:prstGeom prst="blockArc">
            <a:avLst>
              <a:gd name="adj1" fmla="val 12893702"/>
              <a:gd name="adj2" fmla="val 19506298"/>
              <a:gd name="adj3" fmla="val 0"/>
            </a:avLst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87040" y="547344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42320" y="5297040"/>
            <a:ext cx="85068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873400" y="5339880"/>
            <a:ext cx="46044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IFIER L’ANG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BALAY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2880" y="1599120"/>
            <a:ext cx="8871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apparaître les deux positions extrê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619520" cy="24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14760" y="3505320"/>
            <a:ext cx="4629240" cy="241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27680" y="5384880"/>
            <a:ext cx="838080" cy="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53160" y="4406760"/>
            <a:ext cx="304920" cy="99072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181480" y="48006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83b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0560" y="45709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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0320" y="2535120"/>
            <a:ext cx="8537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r une méthode pour mesurer l’angle de débat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le comparer avec celui donné par le constr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" y="1904040"/>
            <a:ext cx="42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imer ces deux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Michel BARDIN</dc:creator>
  <dc:description/>
  <dc:language>en-US</dc:language>
  <cp:lastModifiedBy>RASCOL</cp:lastModifiedBy>
  <cp:lastPrinted>1999-04-28T07:17:16Z</cp:lastPrinted>
  <dcterms:modified xsi:type="dcterms:W3CDTF">1999-04-29T08:29:06Z</dcterms:modified>
  <cp:revision>66</cp:revision>
  <dc:subject/>
  <dc:title>Essuie- glace de twingo</dc:title>
</cp:coreProperties>
</file>