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203-A4EE-43D3-9E7A-9287BAE7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07B3-B5AD-43B6-BD80-542914B7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A42-DF34-402C-8D25-01AA627F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C19-5B75-4CCF-A188-362B55A4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CBDD-473A-474E-9AAB-479BC49B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69E5-43E8-4155-8127-A2CE324D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BE92-4B5F-4155-BF78-FF2B55E4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1671-29E0-4D49-B1AD-2CB2B4AE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23E0-CEB8-43EA-848A-9A7FBA07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1FB9-EC94-40BC-B192-31AA1D96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669F-366A-4322-904A-88EB0DF9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DED-7A8F-4E53-B0FF-8BF3E35C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7CFC-0042-4071-88BA-8BF0CB5E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8A95-E3D3-4171-8883-F376AD97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4745-721C-412A-BD03-4C02D9FA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5322-7ECD-4709-AF13-A3DAEE44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2FB9-ECC3-4928-AAAC-0FF819A1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EFC-72AB-41AF-97B9-BD1E9AB1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DA3-FF4B-4B65-929C-D40C5DB4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EFC5-A863-4581-AA85-5E75AEFC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7D3-F2A3-480D-9F73-C4F8330F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F05C-9BCD-4DA4-9757-F5CE414C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FD97-75D1-43B6-9713-C28BFDED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7D4C-F1AA-4891-A8A1-18E5C6F0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8C51-7CA4-4DAF-8E97-4D9EEFA6EE3D}" type="slidenum">
              <a:rPr b="0" lang="fr-FR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90920" y="6854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">
            <a:hlinkClick r:id="" action="ppaction://hlinkshowjump?jump=firstslide"/>
          </p:cNvPr>
          <p:cNvSpPr/>
          <p:nvPr/>
        </p:nvSpPr>
        <p:spPr>
          <a:xfrm>
            <a:off x="6705720" y="6324480"/>
            <a:ext cx="153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999"/>
                </a:solidFill>
                <a:latin typeface="Arial"/>
              </a:rPr>
              <a:t>Passer à la première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0DD3-0181-4B09-B6A6-088F6A617F02}" type="slidenum">
              <a:rPr b="0" lang="fr-FR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hyperlink" Target="file:///0secateur.ppt" TargetMode="External"/><Relationship Id="rId4" Type="http://schemas.openxmlformats.org/officeDocument/2006/relationships/slide" Target="slide3.xml"/><Relationship Id="rId5" Type="http://schemas.openxmlformats.org/officeDocument/2006/relationships/slide" Target="slide2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2.xml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hyperlink" Target="file:///0secateur.ppt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9900"/>
                </a:solidFill>
                <a:latin typeface="Arial Narrow"/>
              </a:rPr>
              <a:t>ETUDE DE L ’ACTIONNEU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88" name="actionneur%20coupe%20volume" descr=""/>
          <p:cNvPicPr/>
          <p:nvPr/>
        </p:nvPicPr>
        <p:blipFill>
          <a:blip r:embed="rId1"/>
          <a:srcRect l="20248" t="34400" r="10331" b="4610"/>
          <a:stretch/>
        </p:blipFill>
        <p:spPr>
          <a:xfrm>
            <a:off x="2666880" y="1828800"/>
            <a:ext cx="4267440" cy="3276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14520" y="5333040"/>
            <a:ext cx="80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Times New Roman"/>
              </a:rPr>
              <a:t>L ’actionneur est composé de 3 groupes cinématique équivalen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">
            <a:hlinkClick r:id="rId3"/>
          </p:cNvPr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4022640" y="3016080"/>
            <a:ext cx="2313000" cy="1830600"/>
          </a:xfrm>
          <a:custGeom>
            <a:avLst/>
            <a:gdLst/>
            <a:ahLst/>
            <a:rect l="l" t="t" r="r" b="b"/>
            <a:pathLst>
              <a:path w="1457" h="1153">
                <a:moveTo>
                  <a:pt x="15" y="10"/>
                </a:moveTo>
                <a:cubicBezTo>
                  <a:pt x="10" y="259"/>
                  <a:pt x="7" y="250"/>
                  <a:pt x="15" y="481"/>
                </a:cubicBezTo>
                <a:cubicBezTo>
                  <a:pt x="16" y="518"/>
                  <a:pt x="17" y="578"/>
                  <a:pt x="34" y="615"/>
                </a:cubicBezTo>
                <a:cubicBezTo>
                  <a:pt x="43" y="635"/>
                  <a:pt x="92" y="649"/>
                  <a:pt x="92" y="649"/>
                </a:cubicBezTo>
                <a:cubicBezTo>
                  <a:pt x="134" y="644"/>
                  <a:pt x="134" y="643"/>
                  <a:pt x="164" y="625"/>
                </a:cubicBezTo>
                <a:cubicBezTo>
                  <a:pt x="175" y="585"/>
                  <a:pt x="187" y="590"/>
                  <a:pt x="226" y="582"/>
                </a:cubicBezTo>
                <a:cubicBezTo>
                  <a:pt x="231" y="583"/>
                  <a:pt x="263" y="587"/>
                  <a:pt x="269" y="591"/>
                </a:cubicBezTo>
                <a:cubicBezTo>
                  <a:pt x="275" y="595"/>
                  <a:pt x="278" y="603"/>
                  <a:pt x="284" y="606"/>
                </a:cubicBezTo>
                <a:cubicBezTo>
                  <a:pt x="314" y="623"/>
                  <a:pt x="307" y="606"/>
                  <a:pt x="332" y="625"/>
                </a:cubicBezTo>
                <a:cubicBezTo>
                  <a:pt x="370" y="653"/>
                  <a:pt x="329" y="640"/>
                  <a:pt x="380" y="649"/>
                </a:cubicBezTo>
                <a:cubicBezTo>
                  <a:pt x="428" y="673"/>
                  <a:pt x="490" y="692"/>
                  <a:pt x="543" y="702"/>
                </a:cubicBezTo>
                <a:cubicBezTo>
                  <a:pt x="565" y="706"/>
                  <a:pt x="610" y="711"/>
                  <a:pt x="610" y="711"/>
                </a:cubicBezTo>
                <a:cubicBezTo>
                  <a:pt x="639" y="721"/>
                  <a:pt x="669" y="731"/>
                  <a:pt x="692" y="754"/>
                </a:cubicBezTo>
                <a:cubicBezTo>
                  <a:pt x="756" y="819"/>
                  <a:pt x="723" y="803"/>
                  <a:pt x="778" y="822"/>
                </a:cubicBezTo>
                <a:cubicBezTo>
                  <a:pt x="788" y="851"/>
                  <a:pt x="841" y="917"/>
                  <a:pt x="874" y="932"/>
                </a:cubicBezTo>
                <a:cubicBezTo>
                  <a:pt x="892" y="941"/>
                  <a:pt x="913" y="943"/>
                  <a:pt x="932" y="951"/>
                </a:cubicBezTo>
                <a:cubicBezTo>
                  <a:pt x="960" y="981"/>
                  <a:pt x="928" y="953"/>
                  <a:pt x="975" y="970"/>
                </a:cubicBezTo>
                <a:cubicBezTo>
                  <a:pt x="1011" y="983"/>
                  <a:pt x="1044" y="1005"/>
                  <a:pt x="1080" y="1018"/>
                </a:cubicBezTo>
                <a:cubicBezTo>
                  <a:pt x="1102" y="1026"/>
                  <a:pt x="1126" y="1030"/>
                  <a:pt x="1148" y="1038"/>
                </a:cubicBezTo>
                <a:cubicBezTo>
                  <a:pt x="1174" y="1064"/>
                  <a:pt x="1195" y="1079"/>
                  <a:pt x="1229" y="1090"/>
                </a:cubicBezTo>
                <a:cubicBezTo>
                  <a:pt x="1263" y="1114"/>
                  <a:pt x="1300" y="1140"/>
                  <a:pt x="1340" y="1153"/>
                </a:cubicBezTo>
                <a:cubicBezTo>
                  <a:pt x="1351" y="1150"/>
                  <a:pt x="1363" y="1149"/>
                  <a:pt x="1373" y="1143"/>
                </a:cubicBezTo>
                <a:cubicBezTo>
                  <a:pt x="1379" y="1139"/>
                  <a:pt x="1379" y="1130"/>
                  <a:pt x="1383" y="1124"/>
                </a:cubicBezTo>
                <a:cubicBezTo>
                  <a:pt x="1403" y="1098"/>
                  <a:pt x="1429" y="1071"/>
                  <a:pt x="1450" y="1047"/>
                </a:cubicBezTo>
                <a:cubicBezTo>
                  <a:pt x="1457" y="1007"/>
                  <a:pt x="1451" y="975"/>
                  <a:pt x="1440" y="937"/>
                </a:cubicBezTo>
                <a:cubicBezTo>
                  <a:pt x="1436" y="924"/>
                  <a:pt x="1439" y="908"/>
                  <a:pt x="1431" y="898"/>
                </a:cubicBezTo>
                <a:cubicBezTo>
                  <a:pt x="1418" y="882"/>
                  <a:pt x="1392" y="886"/>
                  <a:pt x="1373" y="879"/>
                </a:cubicBezTo>
                <a:cubicBezTo>
                  <a:pt x="1326" y="861"/>
                  <a:pt x="1289" y="853"/>
                  <a:pt x="1239" y="846"/>
                </a:cubicBezTo>
                <a:cubicBezTo>
                  <a:pt x="1219" y="832"/>
                  <a:pt x="1197" y="834"/>
                  <a:pt x="1176" y="822"/>
                </a:cubicBezTo>
                <a:cubicBezTo>
                  <a:pt x="1138" y="801"/>
                  <a:pt x="1133" y="777"/>
                  <a:pt x="1085" y="769"/>
                </a:cubicBezTo>
                <a:cubicBezTo>
                  <a:pt x="1062" y="752"/>
                  <a:pt x="1036" y="750"/>
                  <a:pt x="1008" y="745"/>
                </a:cubicBezTo>
                <a:cubicBezTo>
                  <a:pt x="989" y="741"/>
                  <a:pt x="951" y="735"/>
                  <a:pt x="951" y="735"/>
                </a:cubicBezTo>
                <a:cubicBezTo>
                  <a:pt x="892" y="714"/>
                  <a:pt x="843" y="682"/>
                  <a:pt x="788" y="654"/>
                </a:cubicBezTo>
                <a:cubicBezTo>
                  <a:pt x="768" y="596"/>
                  <a:pt x="794" y="647"/>
                  <a:pt x="749" y="615"/>
                </a:cubicBezTo>
                <a:cubicBezTo>
                  <a:pt x="684" y="568"/>
                  <a:pt x="643" y="496"/>
                  <a:pt x="567" y="466"/>
                </a:cubicBezTo>
                <a:cubicBezTo>
                  <a:pt x="511" y="412"/>
                  <a:pt x="467" y="385"/>
                  <a:pt x="389" y="375"/>
                </a:cubicBezTo>
                <a:cubicBezTo>
                  <a:pt x="360" y="353"/>
                  <a:pt x="318" y="349"/>
                  <a:pt x="284" y="337"/>
                </a:cubicBezTo>
                <a:cubicBezTo>
                  <a:pt x="274" y="334"/>
                  <a:pt x="255" y="327"/>
                  <a:pt x="255" y="327"/>
                </a:cubicBezTo>
                <a:cubicBezTo>
                  <a:pt x="246" y="318"/>
                  <a:pt x="234" y="313"/>
                  <a:pt x="226" y="303"/>
                </a:cubicBezTo>
                <a:cubicBezTo>
                  <a:pt x="219" y="295"/>
                  <a:pt x="218" y="283"/>
                  <a:pt x="212" y="274"/>
                </a:cubicBezTo>
                <a:cubicBezTo>
                  <a:pt x="209" y="255"/>
                  <a:pt x="202" y="236"/>
                  <a:pt x="202" y="217"/>
                </a:cubicBezTo>
                <a:cubicBezTo>
                  <a:pt x="202" y="201"/>
                  <a:pt x="213" y="179"/>
                  <a:pt x="216" y="164"/>
                </a:cubicBezTo>
                <a:cubicBezTo>
                  <a:pt x="212" y="103"/>
                  <a:pt x="207" y="73"/>
                  <a:pt x="164" y="30"/>
                </a:cubicBezTo>
                <a:cubicBezTo>
                  <a:pt x="153" y="19"/>
                  <a:pt x="76" y="9"/>
                  <a:pt x="53" y="1"/>
                </a:cubicBezTo>
                <a:cubicBezTo>
                  <a:pt x="42" y="3"/>
                  <a:pt x="29" y="0"/>
                  <a:pt x="20" y="6"/>
                </a:cubicBezTo>
                <a:cubicBezTo>
                  <a:pt x="14" y="9"/>
                  <a:pt x="17" y="19"/>
                  <a:pt x="15" y="25"/>
                </a:cubicBezTo>
                <a:cubicBezTo>
                  <a:pt x="9" y="44"/>
                  <a:pt x="5" y="63"/>
                  <a:pt x="0" y="82"/>
                </a:cubicBezTo>
                <a:cubicBezTo>
                  <a:pt x="2" y="109"/>
                  <a:pt x="1" y="137"/>
                  <a:pt x="5" y="164"/>
                </a:cubicBezTo>
                <a:cubicBezTo>
                  <a:pt x="7" y="181"/>
                  <a:pt x="20" y="195"/>
                  <a:pt x="20" y="212"/>
                </a:cubicBezTo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2854440" y="2340000"/>
            <a:ext cx="1285920" cy="1219320"/>
          </a:xfrm>
          <a:custGeom>
            <a:avLst/>
            <a:gdLst/>
            <a:ahLst/>
            <a:rect l="l" t="t" r="r" b="b"/>
            <a:pathLst>
              <a:path w="810" h="768">
                <a:moveTo>
                  <a:pt x="26" y="19"/>
                </a:moveTo>
                <a:cubicBezTo>
                  <a:pt x="31" y="114"/>
                  <a:pt x="30" y="218"/>
                  <a:pt x="50" y="312"/>
                </a:cubicBezTo>
                <a:cubicBezTo>
                  <a:pt x="48" y="366"/>
                  <a:pt x="45" y="421"/>
                  <a:pt x="45" y="475"/>
                </a:cubicBezTo>
                <a:cubicBezTo>
                  <a:pt x="45" y="567"/>
                  <a:pt x="36" y="638"/>
                  <a:pt x="127" y="662"/>
                </a:cubicBezTo>
                <a:cubicBezTo>
                  <a:pt x="148" y="658"/>
                  <a:pt x="162" y="655"/>
                  <a:pt x="180" y="643"/>
                </a:cubicBezTo>
                <a:cubicBezTo>
                  <a:pt x="189" y="637"/>
                  <a:pt x="208" y="624"/>
                  <a:pt x="208" y="624"/>
                </a:cubicBezTo>
                <a:cubicBezTo>
                  <a:pt x="220" y="605"/>
                  <a:pt x="240" y="598"/>
                  <a:pt x="261" y="590"/>
                </a:cubicBezTo>
                <a:cubicBezTo>
                  <a:pt x="303" y="599"/>
                  <a:pt x="337" y="624"/>
                  <a:pt x="372" y="648"/>
                </a:cubicBezTo>
                <a:cubicBezTo>
                  <a:pt x="396" y="665"/>
                  <a:pt x="375" y="660"/>
                  <a:pt x="400" y="667"/>
                </a:cubicBezTo>
                <a:cubicBezTo>
                  <a:pt x="475" y="687"/>
                  <a:pt x="555" y="684"/>
                  <a:pt x="631" y="700"/>
                </a:cubicBezTo>
                <a:cubicBezTo>
                  <a:pt x="641" y="707"/>
                  <a:pt x="655" y="708"/>
                  <a:pt x="664" y="715"/>
                </a:cubicBezTo>
                <a:cubicBezTo>
                  <a:pt x="673" y="722"/>
                  <a:pt x="671" y="737"/>
                  <a:pt x="679" y="744"/>
                </a:cubicBezTo>
                <a:cubicBezTo>
                  <a:pt x="701" y="763"/>
                  <a:pt x="704" y="762"/>
                  <a:pt x="727" y="768"/>
                </a:cubicBezTo>
                <a:cubicBezTo>
                  <a:pt x="810" y="758"/>
                  <a:pt x="774" y="739"/>
                  <a:pt x="765" y="633"/>
                </a:cubicBezTo>
                <a:cubicBezTo>
                  <a:pt x="763" y="614"/>
                  <a:pt x="773" y="590"/>
                  <a:pt x="760" y="576"/>
                </a:cubicBezTo>
                <a:cubicBezTo>
                  <a:pt x="729" y="543"/>
                  <a:pt x="687" y="544"/>
                  <a:pt x="645" y="532"/>
                </a:cubicBezTo>
                <a:cubicBezTo>
                  <a:pt x="602" y="520"/>
                  <a:pt x="557" y="501"/>
                  <a:pt x="520" y="475"/>
                </a:cubicBezTo>
                <a:cubicBezTo>
                  <a:pt x="499" y="440"/>
                  <a:pt x="527" y="480"/>
                  <a:pt x="472" y="441"/>
                </a:cubicBezTo>
                <a:cubicBezTo>
                  <a:pt x="409" y="396"/>
                  <a:pt x="478" y="422"/>
                  <a:pt x="415" y="403"/>
                </a:cubicBezTo>
                <a:cubicBezTo>
                  <a:pt x="399" y="387"/>
                  <a:pt x="383" y="371"/>
                  <a:pt x="367" y="355"/>
                </a:cubicBezTo>
                <a:cubicBezTo>
                  <a:pt x="362" y="350"/>
                  <a:pt x="352" y="340"/>
                  <a:pt x="352" y="340"/>
                </a:cubicBezTo>
                <a:cubicBezTo>
                  <a:pt x="344" y="310"/>
                  <a:pt x="345" y="272"/>
                  <a:pt x="333" y="244"/>
                </a:cubicBezTo>
                <a:cubicBezTo>
                  <a:pt x="328" y="232"/>
                  <a:pt x="299" y="200"/>
                  <a:pt x="290" y="187"/>
                </a:cubicBezTo>
                <a:cubicBezTo>
                  <a:pt x="278" y="140"/>
                  <a:pt x="244" y="111"/>
                  <a:pt x="208" y="81"/>
                </a:cubicBezTo>
                <a:cubicBezTo>
                  <a:pt x="185" y="61"/>
                  <a:pt x="176" y="39"/>
                  <a:pt x="146" y="28"/>
                </a:cubicBezTo>
                <a:cubicBezTo>
                  <a:pt x="110" y="15"/>
                  <a:pt x="68" y="8"/>
                  <a:pt x="31" y="0"/>
                </a:cubicBezTo>
                <a:cubicBezTo>
                  <a:pt x="0" y="8"/>
                  <a:pt x="21" y="30"/>
                  <a:pt x="21" y="57"/>
                </a:cubicBezTo>
              </a:path>
            </a:pathLst>
          </a:custGeom>
          <a:noFill/>
          <a:ln w="255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>
            <a:hlinkClick r:id="rId6" action="ppaction://hlinksldjump"/>
          </p:cNvPr>
          <p:cNvSpPr/>
          <p:nvPr/>
        </p:nvSpPr>
        <p:spPr>
          <a:xfrm>
            <a:off x="2751120" y="2095560"/>
            <a:ext cx="3521160" cy="2133720"/>
          </a:xfrm>
          <a:custGeom>
            <a:avLst/>
            <a:gdLst/>
            <a:ahLst/>
            <a:rect l="l" t="t" r="r" b="b"/>
            <a:pathLst>
              <a:path w="2218" h="1344">
                <a:moveTo>
                  <a:pt x="0" y="110"/>
                </a:moveTo>
                <a:cubicBezTo>
                  <a:pt x="26" y="129"/>
                  <a:pt x="48" y="153"/>
                  <a:pt x="77" y="168"/>
                </a:cubicBezTo>
                <a:cubicBezTo>
                  <a:pt x="94" y="177"/>
                  <a:pt x="116" y="172"/>
                  <a:pt x="134" y="178"/>
                </a:cubicBezTo>
                <a:cubicBezTo>
                  <a:pt x="167" y="189"/>
                  <a:pt x="198" y="205"/>
                  <a:pt x="230" y="216"/>
                </a:cubicBezTo>
                <a:cubicBezTo>
                  <a:pt x="281" y="234"/>
                  <a:pt x="324" y="259"/>
                  <a:pt x="379" y="269"/>
                </a:cubicBezTo>
                <a:cubicBezTo>
                  <a:pt x="428" y="306"/>
                  <a:pt x="402" y="293"/>
                  <a:pt x="456" y="312"/>
                </a:cubicBezTo>
                <a:cubicBezTo>
                  <a:pt x="490" y="346"/>
                  <a:pt x="524" y="388"/>
                  <a:pt x="571" y="403"/>
                </a:cubicBezTo>
                <a:cubicBezTo>
                  <a:pt x="615" y="437"/>
                  <a:pt x="599" y="419"/>
                  <a:pt x="624" y="451"/>
                </a:cubicBezTo>
                <a:cubicBezTo>
                  <a:pt x="639" y="495"/>
                  <a:pt x="617" y="432"/>
                  <a:pt x="638" y="485"/>
                </a:cubicBezTo>
                <a:cubicBezTo>
                  <a:pt x="642" y="495"/>
                  <a:pt x="648" y="514"/>
                  <a:pt x="648" y="514"/>
                </a:cubicBezTo>
                <a:cubicBezTo>
                  <a:pt x="644" y="562"/>
                  <a:pt x="627" y="670"/>
                  <a:pt x="667" y="710"/>
                </a:cubicBezTo>
                <a:cubicBezTo>
                  <a:pt x="686" y="729"/>
                  <a:pt x="714" y="731"/>
                  <a:pt x="739" y="734"/>
                </a:cubicBezTo>
                <a:cubicBezTo>
                  <a:pt x="797" y="755"/>
                  <a:pt x="757" y="649"/>
                  <a:pt x="782" y="619"/>
                </a:cubicBezTo>
                <a:cubicBezTo>
                  <a:pt x="789" y="610"/>
                  <a:pt x="801" y="605"/>
                  <a:pt x="811" y="600"/>
                </a:cubicBezTo>
                <a:cubicBezTo>
                  <a:pt x="820" y="596"/>
                  <a:pt x="840" y="590"/>
                  <a:pt x="840" y="590"/>
                </a:cubicBezTo>
                <a:cubicBezTo>
                  <a:pt x="870" y="592"/>
                  <a:pt x="901" y="591"/>
                  <a:pt x="931" y="595"/>
                </a:cubicBezTo>
                <a:cubicBezTo>
                  <a:pt x="950" y="598"/>
                  <a:pt x="956" y="626"/>
                  <a:pt x="969" y="634"/>
                </a:cubicBezTo>
                <a:cubicBezTo>
                  <a:pt x="986" y="645"/>
                  <a:pt x="1008" y="646"/>
                  <a:pt x="1027" y="653"/>
                </a:cubicBezTo>
                <a:cubicBezTo>
                  <a:pt x="1052" y="678"/>
                  <a:pt x="1078" y="705"/>
                  <a:pt x="1099" y="734"/>
                </a:cubicBezTo>
                <a:cubicBezTo>
                  <a:pt x="1131" y="822"/>
                  <a:pt x="1169" y="829"/>
                  <a:pt x="1248" y="854"/>
                </a:cubicBezTo>
                <a:cubicBezTo>
                  <a:pt x="1280" y="888"/>
                  <a:pt x="1317" y="914"/>
                  <a:pt x="1349" y="946"/>
                </a:cubicBezTo>
                <a:cubicBezTo>
                  <a:pt x="1380" y="1011"/>
                  <a:pt x="1430" y="1025"/>
                  <a:pt x="1493" y="1051"/>
                </a:cubicBezTo>
                <a:cubicBezTo>
                  <a:pt x="1521" y="1063"/>
                  <a:pt x="1540" y="1079"/>
                  <a:pt x="1565" y="1094"/>
                </a:cubicBezTo>
                <a:cubicBezTo>
                  <a:pt x="1574" y="1109"/>
                  <a:pt x="1579" y="1124"/>
                  <a:pt x="1589" y="1138"/>
                </a:cubicBezTo>
                <a:cubicBezTo>
                  <a:pt x="1598" y="1170"/>
                  <a:pt x="1633" y="1239"/>
                  <a:pt x="1665" y="1253"/>
                </a:cubicBezTo>
                <a:cubicBezTo>
                  <a:pt x="1674" y="1257"/>
                  <a:pt x="1684" y="1256"/>
                  <a:pt x="1694" y="1258"/>
                </a:cubicBezTo>
                <a:cubicBezTo>
                  <a:pt x="1716" y="1274"/>
                  <a:pt x="1738" y="1272"/>
                  <a:pt x="1761" y="1286"/>
                </a:cubicBezTo>
                <a:cubicBezTo>
                  <a:pt x="1778" y="1296"/>
                  <a:pt x="1790" y="1309"/>
                  <a:pt x="1809" y="1315"/>
                </a:cubicBezTo>
                <a:cubicBezTo>
                  <a:pt x="1833" y="1322"/>
                  <a:pt x="1858" y="1326"/>
                  <a:pt x="1881" y="1334"/>
                </a:cubicBezTo>
                <a:cubicBezTo>
                  <a:pt x="1891" y="1337"/>
                  <a:pt x="1910" y="1344"/>
                  <a:pt x="1910" y="1344"/>
                </a:cubicBezTo>
                <a:cubicBezTo>
                  <a:pt x="1935" y="1336"/>
                  <a:pt x="1959" y="1332"/>
                  <a:pt x="1982" y="1320"/>
                </a:cubicBezTo>
                <a:cubicBezTo>
                  <a:pt x="2033" y="1331"/>
                  <a:pt x="2044" y="1331"/>
                  <a:pt x="2112" y="1334"/>
                </a:cubicBezTo>
                <a:cubicBezTo>
                  <a:pt x="2189" y="1324"/>
                  <a:pt x="2177" y="1340"/>
                  <a:pt x="2203" y="1291"/>
                </a:cubicBezTo>
                <a:cubicBezTo>
                  <a:pt x="2208" y="1251"/>
                  <a:pt x="2213" y="1211"/>
                  <a:pt x="2217" y="1171"/>
                </a:cubicBezTo>
                <a:cubicBezTo>
                  <a:pt x="2214" y="1111"/>
                  <a:pt x="2218" y="1028"/>
                  <a:pt x="2193" y="970"/>
                </a:cubicBezTo>
                <a:cubicBezTo>
                  <a:pt x="2168" y="913"/>
                  <a:pt x="2145" y="902"/>
                  <a:pt x="2097" y="854"/>
                </a:cubicBezTo>
                <a:cubicBezTo>
                  <a:pt x="2096" y="853"/>
                  <a:pt x="2040" y="797"/>
                  <a:pt x="2040" y="797"/>
                </a:cubicBezTo>
                <a:cubicBezTo>
                  <a:pt x="1973" y="780"/>
                  <a:pt x="1905" y="778"/>
                  <a:pt x="1838" y="763"/>
                </a:cubicBezTo>
                <a:cubicBezTo>
                  <a:pt x="1785" y="751"/>
                  <a:pt x="1738" y="736"/>
                  <a:pt x="1685" y="730"/>
                </a:cubicBezTo>
                <a:cubicBezTo>
                  <a:pt x="1649" y="703"/>
                  <a:pt x="1679" y="720"/>
                  <a:pt x="1617" y="710"/>
                </a:cubicBezTo>
                <a:cubicBezTo>
                  <a:pt x="1572" y="703"/>
                  <a:pt x="1529" y="688"/>
                  <a:pt x="1483" y="682"/>
                </a:cubicBezTo>
                <a:cubicBezTo>
                  <a:pt x="1445" y="669"/>
                  <a:pt x="1408" y="660"/>
                  <a:pt x="1368" y="653"/>
                </a:cubicBezTo>
                <a:cubicBezTo>
                  <a:pt x="1338" y="635"/>
                  <a:pt x="1312" y="610"/>
                  <a:pt x="1281" y="595"/>
                </a:cubicBezTo>
                <a:cubicBezTo>
                  <a:pt x="1221" y="566"/>
                  <a:pt x="1156" y="568"/>
                  <a:pt x="1099" y="528"/>
                </a:cubicBezTo>
                <a:cubicBezTo>
                  <a:pt x="1082" y="516"/>
                  <a:pt x="1066" y="504"/>
                  <a:pt x="1051" y="490"/>
                </a:cubicBezTo>
                <a:cubicBezTo>
                  <a:pt x="1028" y="468"/>
                  <a:pt x="1010" y="441"/>
                  <a:pt x="984" y="422"/>
                </a:cubicBezTo>
                <a:cubicBezTo>
                  <a:pt x="937" y="388"/>
                  <a:pt x="886" y="361"/>
                  <a:pt x="840" y="326"/>
                </a:cubicBezTo>
                <a:cubicBezTo>
                  <a:pt x="770" y="273"/>
                  <a:pt x="834" y="297"/>
                  <a:pt x="763" y="278"/>
                </a:cubicBezTo>
                <a:cubicBezTo>
                  <a:pt x="695" y="227"/>
                  <a:pt x="691" y="219"/>
                  <a:pt x="619" y="202"/>
                </a:cubicBezTo>
                <a:cubicBezTo>
                  <a:pt x="523" y="106"/>
                  <a:pt x="648" y="223"/>
                  <a:pt x="561" y="163"/>
                </a:cubicBezTo>
                <a:cubicBezTo>
                  <a:pt x="494" y="117"/>
                  <a:pt x="580" y="143"/>
                  <a:pt x="485" y="125"/>
                </a:cubicBezTo>
                <a:cubicBezTo>
                  <a:pt x="433" y="73"/>
                  <a:pt x="344" y="69"/>
                  <a:pt x="273" y="58"/>
                </a:cubicBezTo>
                <a:cubicBezTo>
                  <a:pt x="217" y="24"/>
                  <a:pt x="162" y="16"/>
                  <a:pt x="101" y="0"/>
                </a:cubicBezTo>
                <a:cubicBezTo>
                  <a:pt x="94" y="5"/>
                  <a:pt x="85" y="7"/>
                  <a:pt x="81" y="14"/>
                </a:cubicBezTo>
                <a:cubicBezTo>
                  <a:pt x="61" y="50"/>
                  <a:pt x="89" y="87"/>
                  <a:pt x="33" y="106"/>
                </a:cubicBezTo>
                <a:cubicBezTo>
                  <a:pt x="14" y="125"/>
                  <a:pt x="25" y="123"/>
                  <a:pt x="0" y="110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>
            <a:hlinkClick r:id="rId7" action="ppaction://hlinksldjump"/>
          </p:cNvPr>
          <p:cNvSpPr/>
          <p:nvPr/>
        </p:nvSpPr>
        <p:spPr>
          <a:xfrm>
            <a:off x="4267080" y="1676520"/>
            <a:ext cx="2840040" cy="1982520"/>
          </a:xfrm>
          <a:custGeom>
            <a:avLst/>
            <a:gdLst/>
            <a:ahLst/>
            <a:rect l="l" t="t" r="r" b="b"/>
            <a:pathLst>
              <a:path w="1789" h="1249">
                <a:moveTo>
                  <a:pt x="320" y="64"/>
                </a:moveTo>
                <a:cubicBezTo>
                  <a:pt x="292" y="78"/>
                  <a:pt x="244" y="91"/>
                  <a:pt x="217" y="108"/>
                </a:cubicBezTo>
                <a:cubicBezTo>
                  <a:pt x="141" y="156"/>
                  <a:pt x="88" y="196"/>
                  <a:pt x="32" y="268"/>
                </a:cubicBezTo>
                <a:cubicBezTo>
                  <a:pt x="19" y="302"/>
                  <a:pt x="8" y="330"/>
                  <a:pt x="0" y="364"/>
                </a:cubicBezTo>
                <a:cubicBezTo>
                  <a:pt x="4" y="458"/>
                  <a:pt x="2" y="584"/>
                  <a:pt x="83" y="652"/>
                </a:cubicBezTo>
                <a:cubicBezTo>
                  <a:pt x="103" y="669"/>
                  <a:pt x="126" y="671"/>
                  <a:pt x="147" y="684"/>
                </a:cubicBezTo>
                <a:cubicBezTo>
                  <a:pt x="195" y="714"/>
                  <a:pt x="146" y="700"/>
                  <a:pt x="211" y="710"/>
                </a:cubicBezTo>
                <a:cubicBezTo>
                  <a:pt x="304" y="741"/>
                  <a:pt x="261" y="733"/>
                  <a:pt x="339" y="742"/>
                </a:cubicBezTo>
                <a:cubicBezTo>
                  <a:pt x="378" y="755"/>
                  <a:pt x="400" y="774"/>
                  <a:pt x="441" y="780"/>
                </a:cubicBezTo>
                <a:cubicBezTo>
                  <a:pt x="483" y="794"/>
                  <a:pt x="525" y="805"/>
                  <a:pt x="569" y="812"/>
                </a:cubicBezTo>
                <a:cubicBezTo>
                  <a:pt x="583" y="821"/>
                  <a:pt x="593" y="836"/>
                  <a:pt x="608" y="844"/>
                </a:cubicBezTo>
                <a:cubicBezTo>
                  <a:pt x="646" y="865"/>
                  <a:pt x="694" y="882"/>
                  <a:pt x="736" y="896"/>
                </a:cubicBezTo>
                <a:cubicBezTo>
                  <a:pt x="785" y="945"/>
                  <a:pt x="733" y="901"/>
                  <a:pt x="800" y="934"/>
                </a:cubicBezTo>
                <a:cubicBezTo>
                  <a:pt x="831" y="950"/>
                  <a:pt x="852" y="990"/>
                  <a:pt x="883" y="1004"/>
                </a:cubicBezTo>
                <a:cubicBezTo>
                  <a:pt x="899" y="1011"/>
                  <a:pt x="917" y="1012"/>
                  <a:pt x="934" y="1017"/>
                </a:cubicBezTo>
                <a:cubicBezTo>
                  <a:pt x="964" y="1027"/>
                  <a:pt x="994" y="1038"/>
                  <a:pt x="1024" y="1049"/>
                </a:cubicBezTo>
                <a:cubicBezTo>
                  <a:pt x="1037" y="1053"/>
                  <a:pt x="1062" y="1062"/>
                  <a:pt x="1062" y="1062"/>
                </a:cubicBezTo>
                <a:cubicBezTo>
                  <a:pt x="1078" y="1109"/>
                  <a:pt x="1098" y="1129"/>
                  <a:pt x="1145" y="1145"/>
                </a:cubicBezTo>
                <a:cubicBezTo>
                  <a:pt x="1154" y="1151"/>
                  <a:pt x="1161" y="1159"/>
                  <a:pt x="1171" y="1164"/>
                </a:cubicBezTo>
                <a:cubicBezTo>
                  <a:pt x="1183" y="1170"/>
                  <a:pt x="1198" y="1170"/>
                  <a:pt x="1209" y="1177"/>
                </a:cubicBezTo>
                <a:cubicBezTo>
                  <a:pt x="1274" y="1217"/>
                  <a:pt x="1191" y="1196"/>
                  <a:pt x="1273" y="1209"/>
                </a:cubicBezTo>
                <a:cubicBezTo>
                  <a:pt x="1308" y="1235"/>
                  <a:pt x="1347" y="1234"/>
                  <a:pt x="1388" y="1248"/>
                </a:cubicBezTo>
                <a:cubicBezTo>
                  <a:pt x="1461" y="1246"/>
                  <a:pt x="1533" y="1244"/>
                  <a:pt x="1606" y="1241"/>
                </a:cubicBezTo>
                <a:cubicBezTo>
                  <a:pt x="1632" y="1240"/>
                  <a:pt x="1659" y="1244"/>
                  <a:pt x="1683" y="1235"/>
                </a:cubicBezTo>
                <a:cubicBezTo>
                  <a:pt x="1700" y="1228"/>
                  <a:pt x="1708" y="1209"/>
                  <a:pt x="1721" y="1196"/>
                </a:cubicBezTo>
                <a:cubicBezTo>
                  <a:pt x="1761" y="1080"/>
                  <a:pt x="1697" y="1249"/>
                  <a:pt x="1772" y="1120"/>
                </a:cubicBezTo>
                <a:cubicBezTo>
                  <a:pt x="1789" y="1090"/>
                  <a:pt x="1782" y="1051"/>
                  <a:pt x="1785" y="1017"/>
                </a:cubicBezTo>
                <a:cubicBezTo>
                  <a:pt x="1783" y="970"/>
                  <a:pt x="1782" y="923"/>
                  <a:pt x="1779" y="876"/>
                </a:cubicBezTo>
                <a:cubicBezTo>
                  <a:pt x="1778" y="859"/>
                  <a:pt x="1780" y="840"/>
                  <a:pt x="1772" y="825"/>
                </a:cubicBezTo>
                <a:cubicBezTo>
                  <a:pt x="1737" y="760"/>
                  <a:pt x="1704" y="731"/>
                  <a:pt x="1657" y="684"/>
                </a:cubicBezTo>
                <a:cubicBezTo>
                  <a:pt x="1630" y="606"/>
                  <a:pt x="1569" y="572"/>
                  <a:pt x="1491" y="556"/>
                </a:cubicBezTo>
                <a:cubicBezTo>
                  <a:pt x="1474" y="543"/>
                  <a:pt x="1459" y="527"/>
                  <a:pt x="1440" y="518"/>
                </a:cubicBezTo>
                <a:cubicBezTo>
                  <a:pt x="1428" y="512"/>
                  <a:pt x="1412" y="519"/>
                  <a:pt x="1401" y="512"/>
                </a:cubicBezTo>
                <a:cubicBezTo>
                  <a:pt x="1385" y="503"/>
                  <a:pt x="1379" y="482"/>
                  <a:pt x="1363" y="473"/>
                </a:cubicBezTo>
                <a:cubicBezTo>
                  <a:pt x="1339" y="460"/>
                  <a:pt x="1286" y="448"/>
                  <a:pt x="1286" y="448"/>
                </a:cubicBezTo>
                <a:cubicBezTo>
                  <a:pt x="1269" y="435"/>
                  <a:pt x="1254" y="419"/>
                  <a:pt x="1235" y="409"/>
                </a:cubicBezTo>
                <a:cubicBezTo>
                  <a:pt x="1219" y="401"/>
                  <a:pt x="1199" y="405"/>
                  <a:pt x="1184" y="396"/>
                </a:cubicBezTo>
                <a:cubicBezTo>
                  <a:pt x="1168" y="387"/>
                  <a:pt x="1160" y="369"/>
                  <a:pt x="1145" y="358"/>
                </a:cubicBezTo>
                <a:cubicBezTo>
                  <a:pt x="1090" y="317"/>
                  <a:pt x="1088" y="322"/>
                  <a:pt x="1030" y="307"/>
                </a:cubicBezTo>
                <a:cubicBezTo>
                  <a:pt x="830" y="185"/>
                  <a:pt x="1135" y="378"/>
                  <a:pt x="889" y="192"/>
                </a:cubicBezTo>
                <a:cubicBezTo>
                  <a:pt x="775" y="106"/>
                  <a:pt x="662" y="23"/>
                  <a:pt x="518" y="0"/>
                </a:cubicBezTo>
                <a:cubicBezTo>
                  <a:pt x="488" y="2"/>
                  <a:pt x="458" y="3"/>
                  <a:pt x="428" y="6"/>
                </a:cubicBezTo>
                <a:cubicBezTo>
                  <a:pt x="391" y="10"/>
                  <a:pt x="360" y="39"/>
                  <a:pt x="326" y="51"/>
                </a:cubicBezTo>
                <a:cubicBezTo>
                  <a:pt x="304" y="73"/>
                  <a:pt x="299" y="74"/>
                  <a:pt x="320" y="64"/>
                </a:cubicBez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>
            <a:hlinkClick r:id="rId8" action="ppaction://hlinksldjump"/>
          </p:cNvPr>
          <p:cNvSpPr/>
          <p:nvPr/>
        </p:nvSpPr>
        <p:spPr>
          <a:xfrm rot="18555600">
            <a:off x="2324160" y="3790800"/>
            <a:ext cx="1218960" cy="15228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>
            <a:hlinkClick r:id="rId9" action="ppaction://hlinksldjump"/>
          </p:cNvPr>
          <p:cNvSpPr/>
          <p:nvPr/>
        </p:nvSpPr>
        <p:spPr>
          <a:xfrm rot="18647400">
            <a:off x="3659040" y="4407120"/>
            <a:ext cx="1218960" cy="22860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1523880"/>
            <a:ext cx="3048120" cy="43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99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Cliquez sur la partie à schématiser</a:t>
            </a:r>
            <a:endParaRPr b="0" lang="en-US" sz="1400" spc="1" strike="noStrike">
              <a:ln w="9360">
                <a:solidFill>
                  <a:srgbClr val="0099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>
            <a:hlinkClick r:id="rId10" action="ppaction://hlinksldjump"/>
          </p:cNvPr>
          <p:cNvSpPr/>
          <p:nvPr/>
        </p:nvSpPr>
        <p:spPr>
          <a:xfrm rot="12759600">
            <a:off x="6168960" y="4228920"/>
            <a:ext cx="1371600" cy="1522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>
            <a:hlinkClick r:id="rId11" action="ppaction://hlinksldjump"/>
          </p:cNvPr>
          <p:cNvSpPr/>
          <p:nvPr/>
        </p:nvSpPr>
        <p:spPr>
          <a:xfrm>
            <a:off x="7394040" y="434340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GCE3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>
            <a:hlinkClick r:id="rId12" action="ppaction://hlinksldjump"/>
          </p:cNvPr>
          <p:cNvSpPr/>
          <p:nvPr/>
        </p:nvSpPr>
        <p:spPr>
          <a:xfrm>
            <a:off x="1679040" y="3962520"/>
            <a:ext cx="9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9900"/>
                </a:solidFill>
                <a:latin typeface="Times New Roman"/>
              </a:rPr>
              <a:t>GCE4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>
            <a:hlinkClick r:id="rId13" action="ppaction://hlinksldjump"/>
          </p:cNvPr>
          <p:cNvSpPr/>
          <p:nvPr/>
        </p:nvSpPr>
        <p:spPr>
          <a:xfrm>
            <a:off x="3050640" y="44956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Times New Roman"/>
              </a:rPr>
              <a:t>GCE5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gce4%20actionneur" descr=""/>
          <p:cNvPicPr/>
          <p:nvPr/>
        </p:nvPicPr>
        <p:blipFill>
          <a:blip r:embed="rId1"/>
          <a:srcRect l="15414" t="20494" r="23532" b="15453"/>
          <a:stretch/>
        </p:blipFill>
        <p:spPr>
          <a:xfrm>
            <a:off x="4114800" y="3505320"/>
            <a:ext cx="2438280" cy="1807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213560" y="1676520"/>
            <a:ext cx="685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Times New Roman"/>
              </a:rPr>
              <a:t>Schéma du Groupe cinématique équivalent4 (G.C.E.4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</a:rPr>
              <a:t>piston cour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191120" y="3580920"/>
            <a:ext cx="2286000" cy="1676880"/>
            <a:chOff x="4191120" y="3580920"/>
            <a:chExt cx="2286000" cy="1676880"/>
          </a:xfrm>
        </p:grpSpPr>
        <p:grpSp>
          <p:nvGrpSpPr>
            <p:cNvPr id="106" name=""/>
            <p:cNvGrpSpPr/>
            <p:nvPr/>
          </p:nvGrpSpPr>
          <p:grpSpPr>
            <a:xfrm>
              <a:off x="4191120" y="4317840"/>
              <a:ext cx="2115720" cy="208080"/>
              <a:chOff x="4191120" y="4317840"/>
              <a:chExt cx="2115720" cy="208080"/>
            </a:xfrm>
          </p:grpSpPr>
          <p:sp>
            <p:nvSpPr>
              <p:cNvPr id="107" name=""/>
              <p:cNvSpPr/>
              <p:nvPr/>
            </p:nvSpPr>
            <p:spPr>
              <a:xfrm>
                <a:off x="4191120" y="4317840"/>
                <a:ext cx="0" cy="20808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91120" y="4525920"/>
                <a:ext cx="211572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444920" y="4317840"/>
                <a:ext cx="186192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168960" y="3580920"/>
              <a:ext cx="308160" cy="1676880"/>
              <a:chOff x="6168960" y="3580920"/>
              <a:chExt cx="308160" cy="16768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175440" y="5049720"/>
                <a:ext cx="253440" cy="208080"/>
                <a:chOff x="6175440" y="5049720"/>
                <a:chExt cx="253440" cy="2080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175440" y="5049720"/>
                  <a:ext cx="253440" cy="208080"/>
                </a:xfrm>
                <a:custGeom>
                  <a:avLst/>
                  <a:gdLst/>
                  <a:ahLst/>
                  <a:rect l="l" t="t" r="r" b="b"/>
                  <a:pathLst>
                    <a:path w="144" h="144">
                      <a:moveTo>
                        <a:pt x="144" y="0"/>
                      </a:moveTo>
                      <a:lnTo>
                        <a:pt x="0" y="144"/>
                      </a:lnTo>
                    </a:path>
                  </a:pathLst>
                </a:custGeom>
                <a:noFill/>
                <a:ln w="32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185520" y="5049720"/>
                  <a:ext cx="237600" cy="199080"/>
                </a:xfrm>
                <a:custGeom>
                  <a:avLst/>
                  <a:gdLst/>
                  <a:ahLst/>
                  <a:rect l="l" t="t" r="r" b="b"/>
                  <a:pathLst>
                    <a:path w="135" h="138">
                      <a:moveTo>
                        <a:pt x="0" y="0"/>
                      </a:moveTo>
                      <a:lnTo>
                        <a:pt x="135" y="138"/>
                      </a:lnTo>
                    </a:path>
                  </a:pathLst>
                </a:custGeom>
                <a:noFill/>
                <a:ln w="32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6168960" y="3581280"/>
                <a:ext cx="253800" cy="208080"/>
                <a:chOff x="6168960" y="3581280"/>
                <a:chExt cx="253800" cy="2080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168960" y="3581280"/>
                  <a:ext cx="253800" cy="208080"/>
                </a:xfrm>
                <a:custGeom>
                  <a:avLst/>
                  <a:gdLst/>
                  <a:ahLst/>
                  <a:rect l="l" t="t" r="r" b="b"/>
                  <a:pathLst>
                    <a:path w="144" h="144">
                      <a:moveTo>
                        <a:pt x="144" y="0"/>
                      </a:moveTo>
                      <a:lnTo>
                        <a:pt x="0" y="144"/>
                      </a:lnTo>
                    </a:path>
                  </a:pathLst>
                </a:custGeom>
                <a:noFill/>
                <a:ln w="32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179040" y="3581280"/>
                  <a:ext cx="237960" cy="199080"/>
                </a:xfrm>
                <a:custGeom>
                  <a:avLst/>
                  <a:gdLst/>
                  <a:ahLst/>
                  <a:rect l="l" t="t" r="r" b="b"/>
                  <a:pathLst>
                    <a:path w="135" h="138">
                      <a:moveTo>
                        <a:pt x="0" y="0"/>
                      </a:moveTo>
                      <a:lnTo>
                        <a:pt x="135" y="138"/>
                      </a:lnTo>
                    </a:path>
                  </a:pathLst>
                </a:custGeom>
                <a:noFill/>
                <a:ln w="32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6180120" y="3580920"/>
                <a:ext cx="253800" cy="1668600"/>
                <a:chOff x="6180120" y="3580920"/>
                <a:chExt cx="253800" cy="16686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6306840" y="3789720"/>
                  <a:ext cx="0" cy="125136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180120" y="5041080"/>
                  <a:ext cx="253800" cy="208440"/>
                </a:xfrm>
                <a:custGeom>
                  <a:avLst/>
                  <a:gdLst/>
                  <a:ahLst/>
                  <a:rect l="l" t="t" r="r" b="b"/>
                  <a:pathLst>
                    <a:path w="192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192" y="0"/>
                      </a:lnTo>
                      <a:lnTo>
                        <a:pt x="192" y="96"/>
                      </a:lnTo>
                    </a:path>
                  </a:pathLst>
                </a:custGeom>
                <a:noFill/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V="1">
                  <a:off x="6180120" y="3580560"/>
                  <a:ext cx="253800" cy="208440"/>
                </a:xfrm>
                <a:custGeom>
                  <a:avLst/>
                  <a:gdLst/>
                  <a:ahLst/>
                  <a:rect l="l" t="t" r="r" b="b"/>
                  <a:pathLst>
                    <a:path w="192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192" y="0"/>
                      </a:lnTo>
                      <a:lnTo>
                        <a:pt x="192" y="96"/>
                      </a:lnTo>
                    </a:path>
                  </a:pathLst>
                </a:custGeom>
                <a:noFill/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6222960" y="4383000"/>
                <a:ext cx="254160" cy="6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2819520" y="2971800"/>
            <a:ext cx="2666880" cy="914400"/>
            <a:chOff x="2819520" y="2971800"/>
            <a:chExt cx="2666880" cy="914400"/>
          </a:xfrm>
        </p:grpSpPr>
        <p:sp>
          <p:nvSpPr>
            <p:cNvPr id="123" name=""/>
            <p:cNvSpPr/>
            <p:nvPr/>
          </p:nvSpPr>
          <p:spPr>
            <a:xfrm>
              <a:off x="2819520" y="2971800"/>
              <a:ext cx="2666880" cy="914400"/>
            </a:xfrm>
            <a:prstGeom prst="cloudCallout">
              <a:avLst>
                <a:gd name="adj1" fmla="val 28212"/>
                <a:gd name="adj2" fmla="val 74134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54960" y="3124080"/>
              <a:ext cx="2213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9999"/>
                  </a:solidFill>
                  <a:latin typeface="Times New Roman"/>
                </a:rPr>
                <a:t>Je veux être schématisé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9999"/>
                  </a:solidFill>
                  <a:latin typeface="Times New Roman"/>
                </a:rPr>
                <a:t>(</a:t>
              </a:r>
              <a:r>
                <a:rPr b="1" lang="fr-FR" sz="1600" spc="-1" strike="noStrike">
                  <a:solidFill>
                    <a:srgbClr val="009999"/>
                  </a:solidFill>
                  <a:latin typeface="Times New Roman"/>
                </a:rPr>
                <a:t>cliquez</a:t>
              </a:r>
              <a:r>
                <a:rPr b="0" lang="fr-FR" sz="1600" spc="-1" strike="noStrike">
                  <a:solidFill>
                    <a:srgbClr val="009999"/>
                  </a:solidFill>
                  <a:latin typeface="Times New Roman"/>
                </a:rPr>
                <a:t> encore une fois)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flipH="1">
            <a:off x="2819520" y="4419720"/>
            <a:ext cx="1676160" cy="106668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82200" y="529920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Times New Roman"/>
              </a:rPr>
              <a:t>Trou de passage de l ’ai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9900"/>
                </a:solidFill>
                <a:latin typeface="Arial Narrow"/>
              </a:rPr>
              <a:t>ETUDE DE L ’ACTIONNEU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">
            <a:hlinkClick r:id="rId3"/>
          </p:cNvPr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981080" y="2612880"/>
          <a:ext cx="5334120" cy="285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612880"/>
                    <a:ext cx="533412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3560" y="1676520"/>
            <a:ext cx="685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Times New Roman"/>
              </a:rPr>
              <a:t>Schéma du Groupe cinématique équivalent5 (G.C.E.5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</a:rPr>
              <a:t>piston lo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85800" y="3048120"/>
            <a:ext cx="2666880" cy="914400"/>
            <a:chOff x="685800" y="3048120"/>
            <a:chExt cx="2666880" cy="914400"/>
          </a:xfrm>
        </p:grpSpPr>
        <p:sp>
          <p:nvSpPr>
            <p:cNvPr id="135" name=""/>
            <p:cNvSpPr/>
            <p:nvPr/>
          </p:nvSpPr>
          <p:spPr>
            <a:xfrm>
              <a:off x="685800" y="3048120"/>
              <a:ext cx="2666880" cy="914400"/>
            </a:xfrm>
            <a:prstGeom prst="cloudCallout">
              <a:avLst>
                <a:gd name="adj1" fmla="val 28212"/>
                <a:gd name="adj2" fmla="val 74134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97560" y="3200400"/>
              <a:ext cx="2213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9999"/>
                  </a:solidFill>
                  <a:latin typeface="Times New Roman"/>
                </a:rPr>
                <a:t>Je veux être schématisé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9999"/>
                  </a:solidFill>
                  <a:latin typeface="Times New Roman"/>
                </a:rPr>
                <a:t>(</a:t>
              </a:r>
              <a:r>
                <a:rPr b="1" lang="fr-FR" sz="1600" spc="-1" strike="noStrike">
                  <a:solidFill>
                    <a:srgbClr val="009999"/>
                  </a:solidFill>
                  <a:latin typeface="Times New Roman"/>
                </a:rPr>
                <a:t>cliquez</a:t>
              </a:r>
              <a:r>
                <a:rPr b="0" lang="fr-FR" sz="1600" spc="-1" strike="noStrike">
                  <a:solidFill>
                    <a:srgbClr val="009999"/>
                  </a:solidFill>
                  <a:latin typeface="Times New Roman"/>
                </a:rPr>
                <a:t> encore une fois)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438280" y="3580920"/>
            <a:ext cx="4457880" cy="1838880"/>
            <a:chOff x="2438280" y="3580920"/>
            <a:chExt cx="4457880" cy="1838880"/>
          </a:xfrm>
        </p:grpSpPr>
        <p:grpSp>
          <p:nvGrpSpPr>
            <p:cNvPr id="138" name=""/>
            <p:cNvGrpSpPr/>
            <p:nvPr/>
          </p:nvGrpSpPr>
          <p:grpSpPr>
            <a:xfrm>
              <a:off x="2438280" y="3580920"/>
              <a:ext cx="4457880" cy="1829160"/>
              <a:chOff x="2438280" y="3580920"/>
              <a:chExt cx="4457880" cy="182916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2438280" y="4343400"/>
                <a:ext cx="4343400" cy="304560"/>
                <a:chOff x="2438280" y="4343400"/>
                <a:chExt cx="4343400" cy="3045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438280" y="4343400"/>
                  <a:ext cx="304920" cy="304560"/>
                </a:xfrm>
                <a:prstGeom prst="ellipse">
                  <a:avLst/>
                </a:prstGeom>
                <a:noFill/>
                <a:ln w="255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743200" y="4495320"/>
                  <a:ext cx="4038480" cy="0"/>
                </a:xfrm>
                <a:prstGeom prst="line">
                  <a:avLst/>
                </a:prstGeom>
                <a:ln w="255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667560" y="3580920"/>
                <a:ext cx="228600" cy="1829160"/>
                <a:chOff x="6667560" y="3580920"/>
                <a:chExt cx="228600" cy="18291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6781680" y="3809880"/>
                  <a:ext cx="0" cy="1371600"/>
                </a:xfrm>
                <a:prstGeom prst="line">
                  <a:avLst/>
                </a:prstGeom>
                <a:ln w="255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667560" y="5181480"/>
                  <a:ext cx="228600" cy="228600"/>
                </a:xfrm>
                <a:custGeom>
                  <a:avLst/>
                  <a:gdLst/>
                  <a:ahLst/>
                  <a:rect l="l" t="t" r="r" b="b"/>
                  <a:pathLst>
                    <a:path w="192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192" y="0"/>
                      </a:lnTo>
                      <a:lnTo>
                        <a:pt x="192" y="96"/>
                      </a:lnTo>
                    </a:path>
                  </a:pathLst>
                </a:custGeom>
                <a:noFill/>
                <a:ln w="255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6667560" y="3580560"/>
                  <a:ext cx="228600" cy="228600"/>
                </a:xfrm>
                <a:custGeom>
                  <a:avLst/>
                  <a:gdLst/>
                  <a:ahLst/>
                  <a:rect l="l" t="t" r="r" b="b"/>
                  <a:pathLst>
                    <a:path w="192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192" y="0"/>
                      </a:lnTo>
                      <a:lnTo>
                        <a:pt x="192" y="96"/>
                      </a:lnTo>
                    </a:path>
                  </a:pathLst>
                </a:custGeom>
                <a:noFill/>
                <a:ln w="255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6662880" y="5191200"/>
              <a:ext cx="228600" cy="228600"/>
              <a:chOff x="6662880" y="5191200"/>
              <a:chExt cx="228600" cy="228600"/>
            </a:xfrm>
          </p:grpSpPr>
          <p:sp>
            <p:nvSpPr>
              <p:cNvPr id="147" name=""/>
              <p:cNvSpPr/>
              <p:nvPr/>
            </p:nvSpPr>
            <p:spPr>
              <a:xfrm>
                <a:off x="6662880" y="519120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144" h="144">
                    <a:moveTo>
                      <a:pt x="144" y="0"/>
                    </a:moveTo>
                    <a:lnTo>
                      <a:pt x="0" y="144"/>
                    </a:lnTo>
                  </a:path>
                </a:pathLst>
              </a:custGeom>
              <a:noFill/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672240" y="5191200"/>
                <a:ext cx="214200" cy="21888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0" y="0"/>
                    </a:moveTo>
                    <a:lnTo>
                      <a:pt x="135" y="138"/>
                    </a:lnTo>
                  </a:path>
                </a:pathLst>
              </a:custGeom>
              <a:noFill/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6656400" y="3581280"/>
              <a:ext cx="228600" cy="228600"/>
              <a:chOff x="6656400" y="3581280"/>
              <a:chExt cx="228600" cy="228600"/>
            </a:xfrm>
          </p:grpSpPr>
          <p:sp>
            <p:nvSpPr>
              <p:cNvPr id="150" name=""/>
              <p:cNvSpPr/>
              <p:nvPr/>
            </p:nvSpPr>
            <p:spPr>
              <a:xfrm>
                <a:off x="6656400" y="358128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144" h="144">
                    <a:moveTo>
                      <a:pt x="144" y="0"/>
                    </a:moveTo>
                    <a:lnTo>
                      <a:pt x="0" y="144"/>
                    </a:lnTo>
                  </a:path>
                </a:pathLst>
              </a:custGeom>
              <a:noFill/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665760" y="3581280"/>
                <a:ext cx="214200" cy="21888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0" y="0"/>
                    </a:moveTo>
                    <a:lnTo>
                      <a:pt x="135" y="138"/>
                    </a:lnTo>
                  </a:path>
                </a:pathLst>
              </a:custGeom>
              <a:noFill/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9900"/>
                </a:solidFill>
                <a:latin typeface="Arial Narrow"/>
              </a:rPr>
              <a:t>ETUDE DE L ’ACTIONNEU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5" name="gce3%20actionneur" descr=""/>
          <p:cNvPicPr/>
          <p:nvPr/>
        </p:nvPicPr>
        <p:blipFill>
          <a:blip r:embed="rId2"/>
          <a:srcRect l="26351" t="23553" r="26351" b="0"/>
          <a:stretch/>
        </p:blipFill>
        <p:spPr>
          <a:xfrm>
            <a:off x="1295280" y="2438280"/>
            <a:ext cx="5867640" cy="3570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13560" y="1676520"/>
            <a:ext cx="685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Times New Roman"/>
              </a:rPr>
              <a:t>Schéma du Groupe cinématique équivalent 3(G.C.E.3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ccff"/>
                </a:solidFill>
                <a:latin typeface="Times New Roman"/>
              </a:rPr>
              <a:t>corps tub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23880" y="3222720"/>
            <a:ext cx="5410440" cy="1828800"/>
            <a:chOff x="1523880" y="3222720"/>
            <a:chExt cx="5410440" cy="1828800"/>
          </a:xfrm>
        </p:grpSpPr>
        <p:sp>
          <p:nvSpPr>
            <p:cNvPr id="158" name=""/>
            <p:cNvSpPr/>
            <p:nvPr/>
          </p:nvSpPr>
          <p:spPr>
            <a:xfrm>
              <a:off x="1523880" y="3222720"/>
              <a:ext cx="114300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3755880"/>
              <a:ext cx="0" cy="38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66880" y="4572000"/>
              <a:ext cx="1800" cy="479520"/>
            </a:xfrm>
            <a:custGeom>
              <a:avLst/>
              <a:gdLst/>
              <a:ahLst/>
              <a:rect l="l" t="t" r="r" b="b"/>
              <a:pathLst>
                <a:path w="1" h="302">
                  <a:moveTo>
                    <a:pt x="0" y="0"/>
                  </a:moveTo>
                  <a:lnTo>
                    <a:pt x="1" y="30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66880" y="4822920"/>
              <a:ext cx="1197000" cy="2880"/>
            </a:xfrm>
            <a:custGeom>
              <a:avLst/>
              <a:gdLst/>
              <a:ahLst/>
              <a:rect l="l" t="t" r="r" b="b"/>
              <a:pathLst>
                <a:path w="754" h="2">
                  <a:moveTo>
                    <a:pt x="0" y="0"/>
                  </a:moveTo>
                  <a:lnTo>
                    <a:pt x="754" y="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666880" y="3895560"/>
              <a:ext cx="1219320" cy="12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6200" y="480996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6200" y="5038560"/>
              <a:ext cx="3048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6200" y="3697200"/>
              <a:ext cx="4680" cy="198360"/>
            </a:xfrm>
            <a:custGeom>
              <a:avLst/>
              <a:gdLst/>
              <a:ahLst/>
              <a:rect l="l" t="t" r="r" b="b"/>
              <a:pathLst>
                <a:path w="3" h="125">
                  <a:moveTo>
                    <a:pt x="0" y="125"/>
                  </a:moveTo>
                  <a:lnTo>
                    <a:pt x="3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86200" y="3692520"/>
              <a:ext cx="3038400" cy="15840"/>
            </a:xfrm>
            <a:custGeom>
              <a:avLst/>
              <a:gdLst/>
              <a:ahLst/>
              <a:rect l="l" t="t" r="r" b="b"/>
              <a:pathLst>
                <a:path w="1914" h="10">
                  <a:moveTo>
                    <a:pt x="0" y="0"/>
                  </a:moveTo>
                  <a:lnTo>
                    <a:pt x="1914" y="1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880" bIns="-298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257440" y="3666960"/>
              <a:ext cx="155880" cy="1371240"/>
              <a:chOff x="5257440" y="3666960"/>
              <a:chExt cx="155880" cy="137124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5261040" y="3666960"/>
                <a:ext cx="152280" cy="533520"/>
                <a:chOff x="5261040" y="3666960"/>
                <a:chExt cx="152280" cy="5335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334120" y="3666960"/>
                  <a:ext cx="0" cy="3812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261040" y="4048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96" y="0"/>
                      </a:lnTo>
                      <a:lnTo>
                        <a:pt x="96" y="96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257800" y="4505400"/>
                <a:ext cx="152280" cy="532800"/>
                <a:chOff x="5257800" y="4505400"/>
                <a:chExt cx="152280" cy="532800"/>
              </a:xfrm>
            </p:grpSpPr>
            <p:sp>
              <p:nvSpPr>
                <p:cNvPr id="172" name=""/>
                <p:cNvSpPr/>
                <p:nvPr/>
              </p:nvSpPr>
              <p:spPr>
                <a:xfrm flipV="1">
                  <a:off x="5330880" y="4657320"/>
                  <a:ext cx="0" cy="3808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5257800" y="450540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96" y="0"/>
                      </a:lnTo>
                      <a:lnTo>
                        <a:pt x="96" y="96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257440" y="4048200"/>
                <a:ext cx="152640" cy="152280"/>
                <a:chOff x="5257440" y="4048200"/>
                <a:chExt cx="152640" cy="152280"/>
              </a:xfrm>
            </p:grpSpPr>
            <p:sp>
              <p:nvSpPr>
                <p:cNvPr id="175" name=""/>
                <p:cNvSpPr/>
                <p:nvPr/>
              </p:nvSpPr>
              <p:spPr>
                <a:xfrm flipH="1">
                  <a:off x="5257440" y="404820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257800" y="404820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257440" y="4505400"/>
                <a:ext cx="152640" cy="152280"/>
                <a:chOff x="5257440" y="4505400"/>
                <a:chExt cx="152640" cy="152280"/>
              </a:xfrm>
            </p:grpSpPr>
            <p:sp>
              <p:nvSpPr>
                <p:cNvPr id="178" name=""/>
                <p:cNvSpPr/>
                <p:nvPr/>
              </p:nvSpPr>
              <p:spPr>
                <a:xfrm flipH="1">
                  <a:off x="5257440" y="450540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257800" y="450540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0" name=""/>
          <p:cNvGrpSpPr/>
          <p:nvPr/>
        </p:nvGrpSpPr>
        <p:grpSpPr>
          <a:xfrm>
            <a:off x="3048120" y="2438280"/>
            <a:ext cx="2666880" cy="914400"/>
            <a:chOff x="3048120" y="2438280"/>
            <a:chExt cx="2666880" cy="914400"/>
          </a:xfrm>
        </p:grpSpPr>
        <p:sp>
          <p:nvSpPr>
            <p:cNvPr id="181" name=""/>
            <p:cNvSpPr/>
            <p:nvPr/>
          </p:nvSpPr>
          <p:spPr>
            <a:xfrm>
              <a:off x="3048120" y="2438280"/>
              <a:ext cx="2666880" cy="914400"/>
            </a:xfrm>
            <a:prstGeom prst="cloudCallout">
              <a:avLst>
                <a:gd name="adj1" fmla="val 28212"/>
                <a:gd name="adj2" fmla="val 74134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59880" y="2590560"/>
              <a:ext cx="2213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9999"/>
                  </a:solidFill>
                  <a:latin typeface="Times New Roman"/>
                </a:rPr>
                <a:t>Je veux être schématisé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9999"/>
                  </a:solidFill>
                  <a:latin typeface="Times New Roman"/>
                </a:rPr>
                <a:t>(</a:t>
              </a:r>
              <a:r>
                <a:rPr b="1" lang="fr-FR" sz="1600" spc="-1" strike="noStrike">
                  <a:solidFill>
                    <a:srgbClr val="009999"/>
                  </a:solidFill>
                  <a:latin typeface="Times New Roman"/>
                </a:rPr>
                <a:t>cliquez</a:t>
              </a:r>
              <a:r>
                <a:rPr b="0" lang="fr-FR" sz="1600" spc="-1" strike="noStrike">
                  <a:solidFill>
                    <a:srgbClr val="009999"/>
                  </a:solidFill>
                  <a:latin typeface="Times New Roman"/>
                </a:rPr>
                <a:t> encore une fois)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9900"/>
                </a:solidFill>
                <a:latin typeface="Arial Narrow"/>
              </a:rPr>
              <a:t>ETUDE DE L ’ACTIONNEU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4" name=""/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7160" y="1676520"/>
            <a:ext cx="37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Times New Roman"/>
              </a:rPr>
              <a:t>Schéma du Ressort de rappe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87" name="ressort%20rappel" descr=""/>
          <p:cNvPicPr/>
          <p:nvPr/>
        </p:nvPicPr>
        <p:blipFill>
          <a:blip r:embed="rId2"/>
          <a:srcRect l="20043" t="23110" r="22089" b="16391"/>
          <a:stretch/>
        </p:blipFill>
        <p:spPr>
          <a:xfrm>
            <a:off x="2590920" y="4114800"/>
            <a:ext cx="42670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143000" y="3048120"/>
            <a:ext cx="2666880" cy="914400"/>
            <a:chOff x="1143000" y="3048120"/>
            <a:chExt cx="2666880" cy="914400"/>
          </a:xfrm>
        </p:grpSpPr>
        <p:sp>
          <p:nvSpPr>
            <p:cNvPr id="189" name=""/>
            <p:cNvSpPr/>
            <p:nvPr/>
          </p:nvSpPr>
          <p:spPr>
            <a:xfrm>
              <a:off x="1143000" y="3048120"/>
              <a:ext cx="2666880" cy="914400"/>
            </a:xfrm>
            <a:prstGeom prst="cloudCallout">
              <a:avLst>
                <a:gd name="adj1" fmla="val 28212"/>
                <a:gd name="adj2" fmla="val 74134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54760" y="3124080"/>
              <a:ext cx="2213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9999"/>
                  </a:solidFill>
                  <a:latin typeface="Times New Roman"/>
                </a:rPr>
                <a:t>Je veux être schématisé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9999"/>
                  </a:solidFill>
                  <a:latin typeface="Times New Roman"/>
                </a:rPr>
                <a:t>(</a:t>
              </a:r>
              <a:r>
                <a:rPr b="1" lang="fr-FR" sz="1600" spc="-1" strike="noStrike">
                  <a:solidFill>
                    <a:srgbClr val="009999"/>
                  </a:solidFill>
                  <a:latin typeface="Times New Roman"/>
                </a:rPr>
                <a:t>cliquez</a:t>
              </a:r>
              <a:r>
                <a:rPr b="0" lang="fr-FR" sz="1600" spc="-1" strike="noStrike">
                  <a:solidFill>
                    <a:srgbClr val="009999"/>
                  </a:solidFill>
                  <a:latin typeface="Times New Roman"/>
                </a:rPr>
                <a:t> encore une fois)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743200" y="4343400"/>
            <a:ext cx="3873600" cy="1066680"/>
          </a:xfrm>
          <a:custGeom>
            <a:avLst/>
            <a:gdLst/>
            <a:ahLst/>
            <a:rect l="l" t="t" r="r" b="b"/>
            <a:pathLst>
              <a:path w="2440" h="672">
                <a:moveTo>
                  <a:pt x="0" y="624"/>
                </a:moveTo>
                <a:lnTo>
                  <a:pt x="144" y="0"/>
                </a:lnTo>
                <a:lnTo>
                  <a:pt x="336" y="672"/>
                </a:lnTo>
                <a:lnTo>
                  <a:pt x="480" y="0"/>
                </a:lnTo>
                <a:lnTo>
                  <a:pt x="672" y="672"/>
                </a:lnTo>
                <a:lnTo>
                  <a:pt x="864" y="0"/>
                </a:lnTo>
                <a:lnTo>
                  <a:pt x="1008" y="672"/>
                </a:lnTo>
                <a:lnTo>
                  <a:pt x="1200" y="0"/>
                </a:lnTo>
                <a:lnTo>
                  <a:pt x="1392" y="672"/>
                </a:lnTo>
                <a:lnTo>
                  <a:pt x="1536" y="0"/>
                </a:lnTo>
                <a:lnTo>
                  <a:pt x="1728" y="672"/>
                </a:lnTo>
                <a:lnTo>
                  <a:pt x="1872" y="0"/>
                </a:lnTo>
                <a:lnTo>
                  <a:pt x="2064" y="672"/>
                </a:lnTo>
                <a:lnTo>
                  <a:pt x="2208" y="0"/>
                </a:lnTo>
                <a:lnTo>
                  <a:pt x="2420" y="644"/>
                </a:lnTo>
                <a:lnTo>
                  <a:pt x="2440" y="12"/>
                </a:lnTo>
              </a:path>
            </a:pathLst>
          </a:custGeom>
          <a:noFill/>
          <a:ln w="2556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9900"/>
                </a:solidFill>
                <a:latin typeface="Arial Narrow"/>
              </a:rPr>
              <a:t>ETUDE DE L ’ACTIONNEU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3" name=""/>
          <p:cNvSpPr/>
          <p:nvPr/>
        </p:nvSpPr>
        <p:spPr>
          <a:xfrm>
            <a:off x="77724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7301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5456" y="7394"/>
                </a:lnTo>
                <a:lnTo>
                  <a:pt x="5456" y="21406"/>
                </a:lnTo>
                <a:lnTo>
                  <a:pt x="3794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4T07:28:04Z</dcterms:created>
  <dc:creator>Utilisateur sous licence</dc:creator>
  <dc:description/>
  <dc:language>en-US</dc:language>
  <cp:lastModifiedBy>Utilisateur sous licence</cp:lastModifiedBy>
  <dcterms:modified xsi:type="dcterms:W3CDTF">2001-04-10T09:26:53Z</dcterms:modified>
  <cp:revision>8</cp:revision>
  <dc:subject/>
  <dc:title>ETUDE DE L ’ACTIONNEUR</dc:title>
</cp:coreProperties>
</file>