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jpeg" ContentType="image/jpeg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2.wmf" ContentType="image/x-wmf"/>
  <Override PartName="/ppt/media/image4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61920" y="691920"/>
            <a:ext cx="493416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61920" y="692280"/>
            <a:ext cx="4934160" cy="34160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BA1-2AAB-4303-B344-94DCCA70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D73-5C47-456B-B173-DF8D0BB9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899D-7C22-4004-9E3B-0DE5156D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D76-6211-4D25-A042-8619DBA5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4CFC-BDAA-40A4-8EA5-6FF7121F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F15B-0F6D-48BE-9C87-FD6B4C3B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BA12-76E7-4816-90A7-76E89A6D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FA40-AE90-4E78-A671-B99BCDA5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C033-8C3E-4D4D-8CCC-04821822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1B35-105C-4DFD-8A74-9E9BED0C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B250-3135-4B4F-A680-752406F4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3D2-E9D1-40F2-B65E-BBF1EED3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3C9A-78B9-4980-99B8-5B2D4F7B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4D7F-822E-498F-B37D-45BD2F05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E318-B67E-4F3D-B453-783DCC07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1D7A-EF69-4E22-9A15-DE0E2C13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5A99-09C4-4CFA-A4FD-0DA09914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837-E448-428E-9689-35C48892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C7A-1FDE-43FA-9483-449CA4EE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373-62A9-4980-A1C8-40E03748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05C-2A1B-491A-B456-4D947FD2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658-5481-415E-B97E-5CD2A2BE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5D9-FE80-4F50-9DA3-70FED117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75C-B1D8-4DA8-8401-F0DA16A9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40720" y="0"/>
            <a:ext cx="3654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1160" y="4489560"/>
            <a:ext cx="623736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84700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90612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90612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90612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90612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90867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95936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FF85-16FD-4E41-84EF-2FBBE7961D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540720" y="0"/>
            <a:ext cx="3654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1160" y="4489560"/>
            <a:ext cx="623736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84700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90612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90612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90612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90612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90867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95936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AC05-3153-4CAF-A080-9DE433281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hyperlink" Target="file:///../1%20documents/2tp%20eleves/secateur%20securite.avi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01/04/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540720" y="0"/>
            <a:ext cx="365400" cy="6858000"/>
          </a:xfrm>
          <a:prstGeom prst="rect">
            <a:avLst/>
          </a:prstGeom>
          <a:gradFill rotWithShape="0">
            <a:gsLst>
              <a:gs pos="0">
                <a:srgbClr val="040918"/>
              </a:gs>
              <a:gs pos="50000">
                <a:srgbClr val="3366ff"/>
              </a:gs>
              <a:gs pos="100000">
                <a:srgbClr val="04091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1160" y="4489560"/>
            <a:ext cx="623736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817800"/>
            <a:ext cx="884700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146400"/>
            <a:ext cx="990612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09680"/>
            <a:ext cx="990612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793880"/>
            <a:ext cx="990612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-20520"/>
            <a:ext cx="990612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-20520"/>
            <a:ext cx="90867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-20520"/>
            <a:ext cx="495936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16200" y="1752120"/>
            <a:ext cx="709920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T.P. avec aides en lignes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3240" y="5335560"/>
            <a:ext cx="660096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Mrs   GIRARDOT  &amp;  TEYSS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Lycée Théodore Deck - GUEBWI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0240" y="533520"/>
            <a:ext cx="2887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ude Des Constru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267080" y="152280"/>
            <a:ext cx="4496040" cy="636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64080" y="235080"/>
            <a:ext cx="396720" cy="71424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4473720" y="228600"/>
            <a:ext cx="4291920" cy="5042880"/>
            <a:chOff x="4473720" y="228600"/>
            <a:chExt cx="4291920" cy="5042880"/>
          </a:xfrm>
        </p:grpSpPr>
        <p:sp>
          <p:nvSpPr>
            <p:cNvPr id="171" name=""/>
            <p:cNvSpPr/>
            <p:nvPr/>
          </p:nvSpPr>
          <p:spPr>
            <a:xfrm>
              <a:off x="5206320" y="363600"/>
              <a:ext cx="43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ACADEMI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67800" y="463680"/>
              <a:ext cx="5432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Times New Roman"/>
                </a:rPr>
                <a:t>STRASBOUR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8200" y="33660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Lycé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95120" y="336600"/>
              <a:ext cx="1546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:THEODORE DECK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29160" y="2286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29160" y="2286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29160" y="22860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9160" y="2286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29160" y="2286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29160" y="22860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35640" y="228600"/>
              <a:ext cx="5220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35640" y="228600"/>
              <a:ext cx="522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57640" y="2286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57640" y="2286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57640" y="2286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64120" y="228600"/>
              <a:ext cx="603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64120" y="228600"/>
              <a:ext cx="60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67480" y="2286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67480" y="22860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67480" y="22860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73600" y="228600"/>
              <a:ext cx="28209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73600" y="228600"/>
              <a:ext cx="2820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494560" y="2286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94560" y="2286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94560" y="2286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94560" y="2286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94560" y="2286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94560" y="2286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29160" y="235080"/>
              <a:ext cx="6480" cy="48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29160" y="235080"/>
              <a:ext cx="1440" cy="48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494560" y="235080"/>
              <a:ext cx="6480" cy="48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94560" y="235080"/>
              <a:ext cx="1800" cy="485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73400" y="723960"/>
              <a:ext cx="663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fesseur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73960" y="723960"/>
              <a:ext cx="1276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:TEYSSIER/GIRARDO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29160" y="720720"/>
              <a:ext cx="6480" cy="13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29160" y="720720"/>
              <a:ext cx="144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29160" y="85716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29160" y="8571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29160" y="8571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29160" y="85716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29160" y="8571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29160" y="8571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35640" y="857160"/>
              <a:ext cx="5220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35640" y="857160"/>
              <a:ext cx="522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57640" y="85716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57640" y="8571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57640" y="8571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64120" y="857160"/>
              <a:ext cx="34304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64120" y="857160"/>
              <a:ext cx="3430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494560" y="720720"/>
              <a:ext cx="6480" cy="13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494560" y="720720"/>
              <a:ext cx="1800" cy="13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94560" y="85716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94560" y="8571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94560" y="8571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94560" y="85716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94560" y="8571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94560" y="8571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37080" y="974880"/>
              <a:ext cx="788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TEU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39600" y="1150920"/>
              <a:ext cx="1099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NEUMATIQU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50520" y="977760"/>
              <a:ext cx="2341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Préparation TP De Construction.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93640" y="1216080"/>
              <a:ext cx="201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Structure des chaînes fonctionnelle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886160" y="12160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: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5640" y="140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«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26400" y="1403280"/>
              <a:ext cx="1450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ASSURER L'ETANCHEIT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13480" y="1403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».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70720" y="96372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70720" y="9637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70720" y="96372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70720" y="96372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70720" y="9637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70720" y="96372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76840" y="963720"/>
              <a:ext cx="30178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76840" y="963720"/>
              <a:ext cx="3017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694720" y="96372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94720" y="9637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94720" y="96372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694720" y="96372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694720" y="9637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694720" y="96372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70720" y="969840"/>
              <a:ext cx="6120" cy="56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70720" y="969840"/>
              <a:ext cx="1440" cy="56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694720" y="969840"/>
              <a:ext cx="6480" cy="56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694720" y="969840"/>
              <a:ext cx="1440" cy="56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0320" y="155088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AC S.T.I.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37440" y="1746360"/>
              <a:ext cx="38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8000"/>
                  </a:solidFill>
                  <a:latin typeface="Times New Roman"/>
                </a:rPr>
                <a:t>GM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64600" y="1546200"/>
              <a:ext cx="3079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                                                          1an                                                2 an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74760" y="1844640"/>
              <a:ext cx="675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urée du T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15920" y="184464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42640" y="1844640"/>
              <a:ext cx="50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2 heures.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73720" y="153684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73720" y="153684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73720" y="153684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73720" y="153684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73720" y="153684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73720" y="153684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79840" y="1536840"/>
              <a:ext cx="11908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79840" y="1536840"/>
              <a:ext cx="119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70720" y="153684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70720" y="153684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70720" y="153684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76840" y="1536840"/>
              <a:ext cx="30178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76840" y="1536840"/>
              <a:ext cx="3017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694720" y="153684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694720" y="15368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694720" y="153684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73720" y="1542960"/>
              <a:ext cx="6120" cy="43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73720" y="1542960"/>
              <a:ext cx="1440" cy="435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70720" y="1542960"/>
              <a:ext cx="6120" cy="43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70720" y="1542960"/>
              <a:ext cx="1440" cy="435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94720" y="1542960"/>
              <a:ext cx="6480" cy="435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694720" y="1542960"/>
              <a:ext cx="1440" cy="435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82800" y="1989000"/>
              <a:ext cx="84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entre d’intérê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87040" y="198900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45440" y="1989000"/>
              <a:ext cx="1093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Assurer l'étanchéité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98640" y="2225520"/>
              <a:ext cx="1137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mpétences visée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71440" y="222552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31640" y="2225520"/>
              <a:ext cx="1117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Un mécanisme étan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57680" y="2362320"/>
              <a:ext cx="22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défini par tout ou partie de son CDCF, u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57680" y="2500200"/>
              <a:ext cx="2178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ensemble de plans , pour une chaîne d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58040" y="2637000"/>
              <a:ext cx="220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composants et de liaisons relative à un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22760" y="2774880"/>
              <a:ext cx="158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fonction technique spécifiée,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47880" y="2908440"/>
              <a:ext cx="4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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88920" y="291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62800" y="2917800"/>
              <a:ext cx="201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identifier une condition fonctionnell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45520" y="3056040"/>
              <a:ext cx="168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relative à la fonction techniqu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47880" y="3189240"/>
              <a:ext cx="4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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88920" y="3198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77920" y="3198960"/>
              <a:ext cx="225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représenter et justifier le dessin de proje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82960" y="3336840"/>
              <a:ext cx="238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de la solution constructive(aux instrument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49840" y="3473280"/>
              <a:ext cx="178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ou à l’aide d’un système D.A.O.).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13760" y="3747960"/>
              <a:ext cx="1405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naissances nouvelle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34960" y="3747960"/>
              <a:ext cx="102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01200" y="374796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Solution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00720" y="3886200"/>
              <a:ext cx="1730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constructives pour l’étanchéité.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95320" y="1989000"/>
              <a:ext cx="1434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utres supports du centr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41680" y="2125800"/>
              <a:ext cx="45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’intérêt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71520" y="212580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29080" y="2259000"/>
              <a:ext cx="4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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70120" y="22683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15560" y="2268360"/>
              <a:ext cx="1450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ride d’ablocage FENWICK.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29080" y="2400480"/>
              <a:ext cx="4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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70120" y="2409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09080" y="2409840"/>
              <a:ext cx="1372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se de rotation BARNAY.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29080" y="2541600"/>
              <a:ext cx="4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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70120" y="2550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90360" y="2550960"/>
              <a:ext cx="105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ince de préhensio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60840" y="2687760"/>
              <a:ext cx="502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RKER.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73720" y="197820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73720" y="197820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73720" y="19782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79840" y="1978200"/>
              <a:ext cx="11908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79840" y="1978200"/>
              <a:ext cx="119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70720" y="197820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70720" y="197820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70720" y="19782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76840" y="1978200"/>
              <a:ext cx="1376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76840" y="1978200"/>
              <a:ext cx="1376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53120" y="197820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53120" y="19782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53120" y="197820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59600" y="1978200"/>
              <a:ext cx="1635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59600" y="1978200"/>
              <a:ext cx="1635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694720" y="197820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94720" y="19782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94720" y="19782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73720" y="1984320"/>
              <a:ext cx="6120" cy="203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73720" y="1984320"/>
              <a:ext cx="1440" cy="203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53120" y="1984320"/>
              <a:ext cx="6480" cy="203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53120" y="1984320"/>
              <a:ext cx="1800" cy="203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694720" y="1984320"/>
              <a:ext cx="6480" cy="203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694720" y="1984320"/>
              <a:ext cx="1440" cy="203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72360" y="4029120"/>
              <a:ext cx="65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ssource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8680" y="40291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84680" y="4167360"/>
              <a:ext cx="2683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1 sécateur démonté pour une équipe de 2 élèves,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33560" y="4303800"/>
              <a:ext cx="180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Fichier vidéo de fonctionnement,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98920" y="4441680"/>
              <a:ext cx="2445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1 Ordinateur multimédia avec accès internet,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61560" y="457848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Logiciel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61160" y="4578480"/>
              <a:ext cx="2727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SolidWorks et fichier mécanique de l’assemblage,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03600" y="4716360"/>
              <a:ext cx="213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CD-ROM Le Joint Français PAULSTRA,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14920" y="4853160"/>
              <a:ext cx="321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Extrait du  CDCF, plan d’ensemble, éclaté et nomenclature.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73720" y="4019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73720" y="401940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73720" y="401940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79840" y="4019400"/>
              <a:ext cx="2573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79840" y="4019400"/>
              <a:ext cx="2573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53120" y="4019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53120" y="401940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53120" y="40194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59600" y="4019400"/>
              <a:ext cx="1635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59600" y="4019400"/>
              <a:ext cx="1635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94720" y="4019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694720" y="401940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94720" y="401940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73720" y="4025880"/>
              <a:ext cx="6120" cy="109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73720" y="4025880"/>
              <a:ext cx="1440" cy="109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94720" y="4025880"/>
              <a:ext cx="6480" cy="109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694720" y="4025880"/>
              <a:ext cx="1440" cy="1098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04760" y="5133960"/>
              <a:ext cx="1250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rganisation du travail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80520" y="5133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78720" y="513396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: binôme.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473720" y="51246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73720" y="5124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473720" y="51246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79840" y="5124600"/>
            <a:ext cx="42148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79840" y="5124600"/>
            <a:ext cx="421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94720" y="51246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694720" y="5124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694720" y="51246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73720" y="5130720"/>
            <a:ext cx="612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73720" y="5130720"/>
            <a:ext cx="1440" cy="23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4720" y="5130720"/>
            <a:ext cx="6480" cy="23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694720" y="5130720"/>
            <a:ext cx="1440" cy="236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01080" y="5376960"/>
            <a:ext cx="1526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aissances prérequis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25480" y="5376960"/>
            <a:ext cx="102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86320" y="5376960"/>
            <a:ext cx="220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Arial"/>
              </a:rPr>
              <a:t>Décodage de  dessin de sous ensemble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05400" y="5514840"/>
            <a:ext cx="468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Arial"/>
              </a:rPr>
              <a:t>Cinématique : identification des mouvements relatifs, définition rotatoin e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3600" y="5651640"/>
            <a:ext cx="61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Arial"/>
              </a:rPr>
              <a:t>translation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73720" y="53672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73720" y="536724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3720" y="53672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79840" y="5367240"/>
            <a:ext cx="4214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79840" y="5367240"/>
            <a:ext cx="4214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694720" y="5367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4720" y="53672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694720" y="53672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73720" y="5373720"/>
            <a:ext cx="6120" cy="41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73720" y="5373720"/>
            <a:ext cx="1440" cy="41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694720" y="5373720"/>
            <a:ext cx="6480" cy="41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694720" y="5373720"/>
            <a:ext cx="1440" cy="411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64960" y="5794200"/>
            <a:ext cx="4065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ticulation du TP ou centre d’intérêt avec les autres TP, les cours, les  T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584560" y="579420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33480" y="593244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85920" y="5934240"/>
            <a:ext cx="362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Arial"/>
              </a:rPr>
              <a:t>Synthèse pour l’ensemble des TP, mise en commun après le cyc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289360" y="593424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02480" y="6072120"/>
            <a:ext cx="391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Arial"/>
              </a:rPr>
              <a:t>recensement des solutions constructives observées, relation à d’autr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84760" y="6208560"/>
            <a:ext cx="18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Arial"/>
              </a:rPr>
              <a:t>solutions constructives connues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33480" y="6346800"/>
            <a:ext cx="3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640" y="6348240"/>
            <a:ext cx="720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Arial"/>
              </a:rPr>
              <a:t>Structur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58680" y="6348240"/>
            <a:ext cx="97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8000"/>
                </a:solidFill>
                <a:latin typeface="Arial"/>
              </a:rPr>
              <a:t>:  Les principal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67040" y="6348240"/>
            <a:ext cx="171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8000"/>
                </a:solidFill>
                <a:latin typeface="Arial"/>
              </a:rPr>
              <a:t>familles d’étanchéité en R et T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3720" y="5784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73720" y="578484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73720" y="57848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79840" y="5784840"/>
            <a:ext cx="4214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79840" y="5784840"/>
            <a:ext cx="421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694720" y="5784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694720" y="57848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694720" y="57848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73720" y="5791320"/>
            <a:ext cx="6120" cy="69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73720" y="5791320"/>
            <a:ext cx="1440" cy="69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73720" y="64818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73720" y="64818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73720" y="64818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73720" y="64818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73720" y="64818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73720" y="64818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79840" y="6481800"/>
            <a:ext cx="4214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79840" y="6481800"/>
            <a:ext cx="4214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694720" y="5791320"/>
            <a:ext cx="6480" cy="69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4720" y="5791320"/>
            <a:ext cx="1440" cy="69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694720" y="64818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694720" y="64818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4720" y="64818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694720" y="64818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694720" y="64818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694720" y="64818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905440" y="1689120"/>
            <a:ext cx="2443320" cy="114120"/>
            <a:chOff x="5905440" y="1689120"/>
            <a:chExt cx="2443320" cy="114120"/>
          </a:xfrm>
        </p:grpSpPr>
        <p:sp>
          <p:nvSpPr>
            <p:cNvPr id="438" name=""/>
            <p:cNvSpPr/>
            <p:nvPr/>
          </p:nvSpPr>
          <p:spPr>
            <a:xfrm>
              <a:off x="5905440" y="1733400"/>
              <a:ext cx="2335320" cy="24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237520" y="1689120"/>
              <a:ext cx="111240" cy="11412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0" y="72"/>
                  </a:moveTo>
                  <a:lnTo>
                    <a:pt x="70" y="36"/>
                  </a:lnTo>
                  <a:lnTo>
                    <a:pt x="0" y="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705720" y="1673280"/>
            <a:ext cx="1440" cy="60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78520" y="1684440"/>
            <a:ext cx="1440" cy="586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83440" y="1673280"/>
            <a:ext cx="1440" cy="60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118280" y="1673280"/>
            <a:ext cx="23760" cy="6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507440" y="1673280"/>
            <a:ext cx="1440" cy="60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6942240" y="1555920"/>
            <a:ext cx="141120" cy="166680"/>
            <a:chOff x="6942240" y="1555920"/>
            <a:chExt cx="141120" cy="166680"/>
          </a:xfrm>
        </p:grpSpPr>
        <p:sp>
          <p:nvSpPr>
            <p:cNvPr id="446" name=""/>
            <p:cNvSpPr/>
            <p:nvPr/>
          </p:nvSpPr>
          <p:spPr>
            <a:xfrm>
              <a:off x="6942240" y="1555920"/>
              <a:ext cx="141120" cy="166680"/>
            </a:xfrm>
            <a:custGeom>
              <a:avLst/>
              <a:gdLst/>
              <a:ahLst/>
              <a:rect l="l" t="t" r="r" b="b"/>
              <a:pathLst>
                <a:path w="89" h="105">
                  <a:moveTo>
                    <a:pt x="0" y="78"/>
                  </a:moveTo>
                  <a:lnTo>
                    <a:pt x="22" y="78"/>
                  </a:lnTo>
                  <a:lnTo>
                    <a:pt x="22" y="0"/>
                  </a:lnTo>
                  <a:lnTo>
                    <a:pt x="66" y="0"/>
                  </a:lnTo>
                  <a:lnTo>
                    <a:pt x="66" y="78"/>
                  </a:lnTo>
                  <a:lnTo>
                    <a:pt x="89" y="78"/>
                  </a:lnTo>
                  <a:lnTo>
                    <a:pt x="45" y="105"/>
                  </a:lnTo>
                  <a:lnTo>
                    <a:pt x="0" y="7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42240" y="1555920"/>
              <a:ext cx="141120" cy="166680"/>
            </a:xfrm>
            <a:custGeom>
              <a:avLst/>
              <a:gdLst/>
              <a:ahLst/>
              <a:rect l="l" t="t" r="r" b="b"/>
              <a:pathLst>
                <a:path w="89" h="105">
                  <a:moveTo>
                    <a:pt x="0" y="78"/>
                  </a:moveTo>
                  <a:lnTo>
                    <a:pt x="22" y="78"/>
                  </a:lnTo>
                  <a:lnTo>
                    <a:pt x="22" y="0"/>
                  </a:lnTo>
                  <a:lnTo>
                    <a:pt x="66" y="0"/>
                  </a:lnTo>
                  <a:lnTo>
                    <a:pt x="66" y="78"/>
                  </a:lnTo>
                  <a:lnTo>
                    <a:pt x="89" y="78"/>
                  </a:lnTo>
                  <a:lnTo>
                    <a:pt x="45" y="105"/>
                  </a:lnTo>
                  <a:lnTo>
                    <a:pt x="0" y="7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7908840" y="1673280"/>
            <a:ext cx="1800" cy="60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1569600"/>
            <a:ext cx="4295880" cy="924840"/>
          </a:xfrm>
          <a:prstGeom prst="rightArrowCallout">
            <a:avLst>
              <a:gd name="adj1" fmla="val 27929"/>
              <a:gd name="adj2" fmla="val 13963"/>
              <a:gd name="adj3" fmla="val 110813"/>
              <a:gd name="adj4" fmla="val 76144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entre d’intérêt:fonction techn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« Assurer l ’étanchéité 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04920" y="2590920"/>
            <a:ext cx="5762520" cy="2539800"/>
          </a:xfrm>
          <a:prstGeom prst="rightArrowCallout">
            <a:avLst>
              <a:gd name="adj1" fmla="val 30725"/>
              <a:gd name="adj2" fmla="val 15361"/>
              <a:gd name="adj3" fmla="val 73423"/>
              <a:gd name="adj4" fmla="val 67639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naissances nouvelles 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tanchéit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critères de choix et solutions constructives) 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pièces mobiles en 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fi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5400" y="304560"/>
            <a:ext cx="84200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e9b03"/>
                </a:solidFill>
                <a:latin typeface="Times New Roman"/>
              </a:rPr>
              <a:t>EXTRAITS DU QUETIONNAIRE ELEV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533520" y="990720"/>
          <a:ext cx="409572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409572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4994280" y="990720"/>
          <a:ext cx="4130640" cy="556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94280" y="990720"/>
                    <a:ext cx="413064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353320" y="4072680"/>
            <a:ext cx="2397240" cy="1650600"/>
          </a:xfrm>
          <a:prstGeom prst="leftArrow">
            <a:avLst>
              <a:gd name="adj1" fmla="val 50000"/>
              <a:gd name="adj2" fmla="val 36309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ude du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ction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66080" y="1253880"/>
            <a:ext cx="3323880" cy="919080"/>
          </a:xfrm>
          <a:prstGeom prst="leftArrow">
            <a:avLst>
              <a:gd name="adj1" fmla="val 50000"/>
              <a:gd name="adj2" fmla="val 90413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érification du CDC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371600" y="914400"/>
            <a:ext cx="632448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 travau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71240" y="138240"/>
            <a:ext cx="56588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e9b03"/>
                </a:solidFill>
                <a:latin typeface="Times New Roman"/>
              </a:rPr>
              <a:t>- concernant l'exploitation de l'aide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e9b03"/>
                </a:solidFill>
                <a:latin typeface="Times New Roman"/>
              </a:rPr>
              <a:t>EXTRAIT DU QUETIONNAIRE ELE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3520" y="990720"/>
            <a:ext cx="7181640" cy="4474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ffffff"/>
                </a:solidFill>
                <a:uFillTx/>
                <a:latin typeface="Arial"/>
              </a:rPr>
              <a:t>IV</a:t>
            </a:r>
            <a:r>
              <a:rPr b="1" lang="fr-FR" sz="1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fr-FR" sz="1200" spc="-1" strike="noStrike" u="sng">
                <a:solidFill>
                  <a:srgbClr val="ffffff"/>
                </a:solidFill>
                <a:uFillTx/>
                <a:latin typeface="Arial"/>
              </a:rPr>
              <a:t>VERIFICATION DU CDCF 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Afin de justifier les solutions constructives du fabricant ,vis à vis du Cahier des Charges Fonctionnel, on étudie un certain nombre de fonctions techniqu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200" spc="-1" strike="noStrike" u="sng">
                <a:solidFill>
                  <a:srgbClr val="ffffff"/>
                </a:solidFill>
                <a:uFillTx/>
                <a:latin typeface="Arial"/>
              </a:rPr>
              <a:t>Etude de l’étanchéité 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tude préliminaire 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Question 5 : Compléter le tableau du document réponse sur le type d’étanchéité entre les pièces en suivant les indications ci-dessous 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- Préciser le type  d’étanchéité : statique ou dynamique (dans ce cas, préciser le mouvement relatif entre les pièce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- Donner le repère de l’élément  qui assure l’étanchéité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4.1.2 Etude de chacune des étanchéités 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tude de l’étanchéité entre 1 et 17 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Question 6 : A l’aide du </a:t>
            </a: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CD-ROM le “ joint français ”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déterminer la référence du joint en </a:t>
            </a: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indiquant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sur le document réponse</a:t>
            </a: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 les critères de choix utilisés au cours de la recherche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Question 7 : Le logiciel propose-t-il le joint utilisé dans le mécanisme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Question 8 : Faire une impression du bilan (noter dessus l’étanchéité étudiée). </a:t>
            </a: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tourer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sur le bilan</a:t>
            </a: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 les critères de choix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d ’un joint toriqu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2895480"/>
            <a:ext cx="5943600" cy="825480"/>
          </a:xfrm>
          <a:prstGeom prst="rect">
            <a:avLst/>
          </a:prstGeom>
          <a:solidFill>
            <a:srgbClr val="ffcc66"/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’aide d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-ROM le “ joint français 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éterminer la référence du j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3920" y="3886200"/>
            <a:ext cx="5943600" cy="459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e une impression du bi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733920" y="4495680"/>
            <a:ext cx="5943600" cy="8254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our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 le bil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s critères de choi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 ’un joint tor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09480" y="4495680"/>
            <a:ext cx="4114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 travaux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60240" y="304920"/>
            <a:ext cx="8420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remière étape : Généralité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384720" y="1600200"/>
            <a:ext cx="5962320" cy="4987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577800" y="4800600"/>
            <a:ext cx="3713040" cy="987480"/>
          </a:xfrm>
          <a:prstGeom prst="rightArrow">
            <a:avLst>
              <a:gd name="adj1" fmla="val 50000"/>
              <a:gd name="adj2" fmla="val 94072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énéral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4960" y="2590920"/>
            <a:ext cx="8928000" cy="820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L’élève recherche dans un catalogue au format pdf , les critè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généraux, nécessaires à l’étude qui lui est proposé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073160" y="914400"/>
            <a:ext cx="8364600" cy="53053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12560" y="30456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Times New Roman"/>
              </a:rPr>
              <a:t>Extrait : Page 2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456760" y="2610000"/>
            <a:ext cx="725400" cy="699840"/>
          </a:xfrm>
          <a:custGeom>
            <a:avLst/>
            <a:gdLst/>
            <a:ahLst/>
            <a:rect l="l" t="t" r="r" b="b"/>
            <a:pathLst>
              <a:path w="421" h="441">
                <a:moveTo>
                  <a:pt x="0" y="70"/>
                </a:moveTo>
                <a:lnTo>
                  <a:pt x="51" y="40"/>
                </a:lnTo>
                <a:lnTo>
                  <a:pt x="103" y="20"/>
                </a:lnTo>
                <a:lnTo>
                  <a:pt x="146" y="3"/>
                </a:lnTo>
                <a:lnTo>
                  <a:pt x="197" y="0"/>
                </a:lnTo>
                <a:lnTo>
                  <a:pt x="240" y="0"/>
                </a:lnTo>
                <a:lnTo>
                  <a:pt x="283" y="10"/>
                </a:lnTo>
                <a:lnTo>
                  <a:pt x="317" y="30"/>
                </a:lnTo>
                <a:lnTo>
                  <a:pt x="343" y="57"/>
                </a:lnTo>
                <a:lnTo>
                  <a:pt x="403" y="143"/>
                </a:lnTo>
                <a:lnTo>
                  <a:pt x="420" y="170"/>
                </a:lnTo>
                <a:lnTo>
                  <a:pt x="420" y="197"/>
                </a:lnTo>
                <a:lnTo>
                  <a:pt x="420" y="260"/>
                </a:lnTo>
                <a:lnTo>
                  <a:pt x="395" y="327"/>
                </a:lnTo>
                <a:lnTo>
                  <a:pt x="343" y="397"/>
                </a:lnTo>
                <a:lnTo>
                  <a:pt x="369" y="440"/>
                </a:lnTo>
                <a:lnTo>
                  <a:pt x="240" y="417"/>
                </a:lnTo>
                <a:lnTo>
                  <a:pt x="249" y="267"/>
                </a:lnTo>
                <a:lnTo>
                  <a:pt x="283" y="310"/>
                </a:lnTo>
                <a:lnTo>
                  <a:pt x="326" y="260"/>
                </a:lnTo>
                <a:lnTo>
                  <a:pt x="352" y="207"/>
                </a:lnTo>
                <a:lnTo>
                  <a:pt x="360" y="153"/>
                </a:lnTo>
                <a:lnTo>
                  <a:pt x="360" y="107"/>
                </a:lnTo>
                <a:lnTo>
                  <a:pt x="326" y="93"/>
                </a:lnTo>
                <a:lnTo>
                  <a:pt x="292" y="87"/>
                </a:lnTo>
                <a:lnTo>
                  <a:pt x="257" y="83"/>
                </a:lnTo>
                <a:lnTo>
                  <a:pt x="223" y="87"/>
                </a:lnTo>
                <a:lnTo>
                  <a:pt x="180" y="97"/>
                </a:lnTo>
                <a:lnTo>
                  <a:pt x="137" y="113"/>
                </a:lnTo>
                <a:lnTo>
                  <a:pt x="103" y="133"/>
                </a:lnTo>
                <a:lnTo>
                  <a:pt x="60" y="157"/>
                </a:lnTo>
                <a:lnTo>
                  <a:pt x="0" y="70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06960" y="4830840"/>
            <a:ext cx="695520" cy="728640"/>
          </a:xfrm>
          <a:custGeom>
            <a:avLst/>
            <a:gdLst/>
            <a:ahLst/>
            <a:rect l="l" t="t" r="r" b="b"/>
            <a:pathLst>
              <a:path w="403" h="459">
                <a:moveTo>
                  <a:pt x="0" y="413"/>
                </a:moveTo>
                <a:lnTo>
                  <a:pt x="51" y="435"/>
                </a:lnTo>
                <a:lnTo>
                  <a:pt x="107" y="452"/>
                </a:lnTo>
                <a:lnTo>
                  <a:pt x="157" y="458"/>
                </a:lnTo>
                <a:lnTo>
                  <a:pt x="201" y="458"/>
                </a:lnTo>
                <a:lnTo>
                  <a:pt x="245" y="452"/>
                </a:lnTo>
                <a:lnTo>
                  <a:pt x="283" y="435"/>
                </a:lnTo>
                <a:lnTo>
                  <a:pt x="314" y="413"/>
                </a:lnTo>
                <a:lnTo>
                  <a:pt x="339" y="384"/>
                </a:lnTo>
                <a:lnTo>
                  <a:pt x="389" y="288"/>
                </a:lnTo>
                <a:lnTo>
                  <a:pt x="402" y="260"/>
                </a:lnTo>
                <a:lnTo>
                  <a:pt x="402" y="232"/>
                </a:lnTo>
                <a:lnTo>
                  <a:pt x="402" y="204"/>
                </a:lnTo>
                <a:lnTo>
                  <a:pt x="396" y="170"/>
                </a:lnTo>
                <a:lnTo>
                  <a:pt x="358" y="108"/>
                </a:lnTo>
                <a:lnTo>
                  <a:pt x="302" y="46"/>
                </a:lnTo>
                <a:lnTo>
                  <a:pt x="327" y="0"/>
                </a:lnTo>
                <a:lnTo>
                  <a:pt x="195" y="40"/>
                </a:lnTo>
                <a:lnTo>
                  <a:pt x="226" y="187"/>
                </a:lnTo>
                <a:lnTo>
                  <a:pt x="251" y="142"/>
                </a:lnTo>
                <a:lnTo>
                  <a:pt x="295" y="187"/>
                </a:lnTo>
                <a:lnTo>
                  <a:pt x="333" y="232"/>
                </a:lnTo>
                <a:lnTo>
                  <a:pt x="352" y="283"/>
                </a:lnTo>
                <a:lnTo>
                  <a:pt x="352" y="328"/>
                </a:lnTo>
                <a:lnTo>
                  <a:pt x="327" y="345"/>
                </a:lnTo>
                <a:lnTo>
                  <a:pt x="289" y="356"/>
                </a:lnTo>
                <a:lnTo>
                  <a:pt x="258" y="367"/>
                </a:lnTo>
                <a:lnTo>
                  <a:pt x="220" y="367"/>
                </a:lnTo>
                <a:lnTo>
                  <a:pt x="138" y="350"/>
                </a:lnTo>
                <a:lnTo>
                  <a:pt x="51" y="317"/>
                </a:lnTo>
                <a:lnTo>
                  <a:pt x="0" y="413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08920" y="5097600"/>
            <a:ext cx="631800" cy="825480"/>
          </a:xfrm>
          <a:custGeom>
            <a:avLst/>
            <a:gdLst/>
            <a:ahLst/>
            <a:rect l="l" t="t" r="r" b="b"/>
            <a:pathLst>
              <a:path w="365" h="520">
                <a:moveTo>
                  <a:pt x="146" y="519"/>
                </a:moveTo>
                <a:lnTo>
                  <a:pt x="194" y="495"/>
                </a:lnTo>
                <a:lnTo>
                  <a:pt x="243" y="465"/>
                </a:lnTo>
                <a:lnTo>
                  <a:pt x="283" y="435"/>
                </a:lnTo>
                <a:lnTo>
                  <a:pt x="315" y="400"/>
                </a:lnTo>
                <a:lnTo>
                  <a:pt x="340" y="358"/>
                </a:lnTo>
                <a:lnTo>
                  <a:pt x="356" y="322"/>
                </a:lnTo>
                <a:lnTo>
                  <a:pt x="364" y="280"/>
                </a:lnTo>
                <a:lnTo>
                  <a:pt x="356" y="244"/>
                </a:lnTo>
                <a:lnTo>
                  <a:pt x="315" y="149"/>
                </a:lnTo>
                <a:lnTo>
                  <a:pt x="283" y="101"/>
                </a:lnTo>
                <a:lnTo>
                  <a:pt x="235" y="65"/>
                </a:lnTo>
                <a:lnTo>
                  <a:pt x="162" y="48"/>
                </a:lnTo>
                <a:lnTo>
                  <a:pt x="73" y="48"/>
                </a:lnTo>
                <a:lnTo>
                  <a:pt x="57" y="0"/>
                </a:lnTo>
                <a:lnTo>
                  <a:pt x="0" y="119"/>
                </a:lnTo>
                <a:lnTo>
                  <a:pt x="130" y="197"/>
                </a:lnTo>
                <a:lnTo>
                  <a:pt x="113" y="149"/>
                </a:lnTo>
                <a:lnTo>
                  <a:pt x="178" y="143"/>
                </a:lnTo>
                <a:lnTo>
                  <a:pt x="235" y="155"/>
                </a:lnTo>
                <a:lnTo>
                  <a:pt x="283" y="173"/>
                </a:lnTo>
                <a:lnTo>
                  <a:pt x="323" y="203"/>
                </a:lnTo>
                <a:lnTo>
                  <a:pt x="307" y="268"/>
                </a:lnTo>
                <a:lnTo>
                  <a:pt x="259" y="328"/>
                </a:lnTo>
                <a:lnTo>
                  <a:pt x="186" y="376"/>
                </a:lnTo>
                <a:lnTo>
                  <a:pt x="105" y="418"/>
                </a:lnTo>
                <a:lnTo>
                  <a:pt x="146" y="519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381800" y="3679920"/>
            <a:ext cx="730440" cy="693720"/>
          </a:xfrm>
          <a:custGeom>
            <a:avLst/>
            <a:gdLst/>
            <a:ahLst/>
            <a:rect l="l" t="t" r="r" b="b"/>
            <a:pathLst>
              <a:path w="425" h="437">
                <a:moveTo>
                  <a:pt x="0" y="75"/>
                </a:moveTo>
                <a:lnTo>
                  <a:pt x="53" y="44"/>
                </a:lnTo>
                <a:lnTo>
                  <a:pt x="98" y="22"/>
                </a:lnTo>
                <a:lnTo>
                  <a:pt x="151" y="4"/>
                </a:lnTo>
                <a:lnTo>
                  <a:pt x="197" y="0"/>
                </a:lnTo>
                <a:lnTo>
                  <a:pt x="242" y="0"/>
                </a:lnTo>
                <a:lnTo>
                  <a:pt x="280" y="9"/>
                </a:lnTo>
                <a:lnTo>
                  <a:pt x="311" y="26"/>
                </a:lnTo>
                <a:lnTo>
                  <a:pt x="341" y="53"/>
                </a:lnTo>
                <a:lnTo>
                  <a:pt x="402" y="141"/>
                </a:lnTo>
                <a:lnTo>
                  <a:pt x="424" y="194"/>
                </a:lnTo>
                <a:lnTo>
                  <a:pt x="424" y="255"/>
                </a:lnTo>
                <a:lnTo>
                  <a:pt x="394" y="326"/>
                </a:lnTo>
                <a:lnTo>
                  <a:pt x="348" y="392"/>
                </a:lnTo>
                <a:lnTo>
                  <a:pt x="379" y="436"/>
                </a:lnTo>
                <a:lnTo>
                  <a:pt x="242" y="414"/>
                </a:lnTo>
                <a:lnTo>
                  <a:pt x="257" y="264"/>
                </a:lnTo>
                <a:lnTo>
                  <a:pt x="288" y="308"/>
                </a:lnTo>
                <a:lnTo>
                  <a:pt x="326" y="255"/>
                </a:lnTo>
                <a:lnTo>
                  <a:pt x="348" y="202"/>
                </a:lnTo>
                <a:lnTo>
                  <a:pt x="356" y="150"/>
                </a:lnTo>
                <a:lnTo>
                  <a:pt x="356" y="101"/>
                </a:lnTo>
                <a:lnTo>
                  <a:pt x="326" y="88"/>
                </a:lnTo>
                <a:lnTo>
                  <a:pt x="295" y="83"/>
                </a:lnTo>
                <a:lnTo>
                  <a:pt x="257" y="83"/>
                </a:lnTo>
                <a:lnTo>
                  <a:pt x="220" y="88"/>
                </a:lnTo>
                <a:lnTo>
                  <a:pt x="182" y="97"/>
                </a:lnTo>
                <a:lnTo>
                  <a:pt x="136" y="114"/>
                </a:lnTo>
                <a:lnTo>
                  <a:pt x="98" y="132"/>
                </a:lnTo>
                <a:lnTo>
                  <a:pt x="60" y="158"/>
                </a:lnTo>
                <a:lnTo>
                  <a:pt x="0" y="75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5120" y="533520"/>
            <a:ext cx="8420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Deuxième étape : Validation de choix de joint toriqu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3879720" y="2057400"/>
            <a:ext cx="4972320" cy="45306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496800" y="4268880"/>
            <a:ext cx="3959280" cy="987480"/>
          </a:xfrm>
          <a:prstGeom prst="rightArrow">
            <a:avLst>
              <a:gd name="adj1" fmla="val 50000"/>
              <a:gd name="adj2" fmla="val 100311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et un choix interact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7680" y="2133720"/>
            <a:ext cx="3300480" cy="1551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1- influence du flui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2- choix du mont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3- choix dimensionn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4- résulta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12920" y="776160"/>
            <a:ext cx="6622920" cy="56595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 flipH="1" rot="20220000">
            <a:off x="5495400" y="968400"/>
            <a:ext cx="4421520" cy="1216080"/>
          </a:xfrm>
          <a:prstGeom prst="rightArrow">
            <a:avLst>
              <a:gd name="adj1" fmla="val 50000"/>
              <a:gd name="adj2" fmla="val 9093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x du mél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10280" y="5030640"/>
            <a:ext cx="3794040" cy="14446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X DU J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choix du mél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4705200" y="1981080"/>
            <a:ext cx="4869000" cy="3159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660240" y="457200"/>
            <a:ext cx="4889520" cy="352116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5612760" y="2147760"/>
            <a:ext cx="3879720" cy="2155680"/>
            <a:chOff x="5612760" y="2147760"/>
            <a:chExt cx="3879720" cy="2155680"/>
          </a:xfrm>
        </p:grpSpPr>
        <p:sp>
          <p:nvSpPr>
            <p:cNvPr id="489" name=""/>
            <p:cNvSpPr/>
            <p:nvPr/>
          </p:nvSpPr>
          <p:spPr>
            <a:xfrm flipV="1" rot="1320000">
              <a:off x="5613480" y="2846160"/>
              <a:ext cx="3877920" cy="758160"/>
            </a:xfrm>
            <a:prstGeom prst="rightArrow">
              <a:avLst>
                <a:gd name="adj1" fmla="val 50000"/>
                <a:gd name="adj2" fmla="val 127967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320000">
              <a:off x="5716440" y="2743200"/>
              <a:ext cx="25300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élanges proposé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 rot="21000000">
            <a:off x="661680" y="4268880"/>
            <a:ext cx="5940360" cy="758880"/>
          </a:xfrm>
          <a:prstGeom prst="rightArrow">
            <a:avLst>
              <a:gd name="adj1" fmla="val 50000"/>
              <a:gd name="adj2" fmla="val 19584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quer la température d’util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10280" y="5411880"/>
            <a:ext cx="3794040" cy="14446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X DU J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choix du mél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6110280" y="5408640"/>
            <a:ext cx="3794040" cy="14446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X DU J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choix du mon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86080" y="582480"/>
            <a:ext cx="6110280" cy="50198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 flipH="1" rot="20220000">
            <a:off x="6192360" y="1220400"/>
            <a:ext cx="3381480" cy="1216440"/>
          </a:xfrm>
          <a:prstGeom prst="rightArrow">
            <a:avLst>
              <a:gd name="adj1" fmla="val 50000"/>
              <a:gd name="adj2" fmla="val 6952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x du mon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5996160" cy="53989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6110280" y="5411880"/>
            <a:ext cx="3794040" cy="14446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X DU J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choix du mon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1219320"/>
            <a:ext cx="1650960" cy="190476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nchéit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et 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éca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7026480" y="1299600"/>
            <a:ext cx="2647800" cy="192240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1922400"/>
              <a:gd name="textAreaBottom" fmla="*/ 1922760 h 19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79" y="0"/>
                </a:lnTo>
                <a:lnTo>
                  <a:pt x="21600" y="10800"/>
                </a:lnTo>
                <a:lnTo>
                  <a:pt x="148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nchéit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t 17 (dynamiqu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t 6 (statiqu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éca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1055520"/>
            <a:ext cx="9144000" cy="8258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825840"/>
              <a:gd name="textAreaBottom" fmla="*/ 826200 h 82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nce de cycles de TP (en group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c des cycles bilan (en classe entiè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286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cc"/>
                </a:solidFill>
                <a:uFillTx/>
                <a:latin typeface="Times New Roman"/>
              </a:rPr>
              <a:t>SCENARIO GENERAL  D ’ENSEIGN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259360"/>
            <a:ext cx="9144000" cy="2288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8520"/>
              <a:gd name="textAreaBottom" fmla="*/ 2288880 h 228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256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oix de sit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fonctions techniques prises comme centre d ’intérê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 centres d ’intérêt par cycle déclinés autour de 4 supports techniq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ravail élève en binô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952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P de 2 he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867920"/>
            <a:ext cx="9068040" cy="1557360"/>
          </a:xfrm>
          <a:custGeom>
            <a:avLst/>
            <a:gdLst>
              <a:gd name="textAreaLeft" fmla="*/ 0 w 9068040"/>
              <a:gd name="textAreaRight" fmla="*/ 9068400 w 9068040"/>
              <a:gd name="textAreaTop" fmla="*/ 0 h 1557360"/>
              <a:gd name="textAreaBottom" fmla="*/ 1557720 h 155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63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équences  pour un groupe de 16 élèv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semaines par cy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supports en double exempl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8 TP par cy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110280" y="5408640"/>
            <a:ext cx="3794040" cy="14446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X DU J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choix dimensio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825480" y="457200"/>
            <a:ext cx="6308640" cy="50562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 flipH="1" rot="20040000">
            <a:off x="3748680" y="895320"/>
            <a:ext cx="4949640" cy="669960"/>
          </a:xfrm>
          <a:prstGeom prst="rightArrow">
            <a:avLst>
              <a:gd name="adj1" fmla="val 50000"/>
              <a:gd name="adj2" fmla="val 184767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Entrer le diamètre du pis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rot="19860000">
            <a:off x="5036040" y="1601640"/>
            <a:ext cx="5116680" cy="606240"/>
          </a:xfrm>
          <a:prstGeom prst="rightArrow">
            <a:avLst>
              <a:gd name="adj1" fmla="val 50000"/>
              <a:gd name="adj2" fmla="val 211079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Préciser le type d ’étanché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rot="20040000">
            <a:off x="6572520" y="2527920"/>
            <a:ext cx="3340080" cy="1962000"/>
          </a:xfrm>
          <a:prstGeom prst="rightArrow">
            <a:avLst>
              <a:gd name="adj1" fmla="val 51102"/>
              <a:gd name="adj2" fmla="val 29516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5- sélectionner 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joint rete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ritères économique et techniqu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rot="3360000">
            <a:off x="5439600" y="3364560"/>
            <a:ext cx="677880" cy="657000"/>
          </a:xfrm>
          <a:prstGeom prst="rightArrow">
            <a:avLst>
              <a:gd name="adj1" fmla="val 50000"/>
              <a:gd name="adj2" fmla="val 25804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rot="3360000">
            <a:off x="4035240" y="3364560"/>
            <a:ext cx="677880" cy="657360"/>
          </a:xfrm>
          <a:prstGeom prst="rightArrow">
            <a:avLst>
              <a:gd name="adj1" fmla="val 50000"/>
              <a:gd name="adj2" fmla="val 2579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43040" y="4419720"/>
            <a:ext cx="4787640" cy="1371600"/>
          </a:xfrm>
          <a:prstGeom prst="upArrowCallout">
            <a:avLst>
              <a:gd name="adj1" fmla="val 87272"/>
              <a:gd name="adj2" fmla="val 87264"/>
              <a:gd name="adj3" fmla="val 16667"/>
              <a:gd name="adj4" fmla="val 66660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- les joints adap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arais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568520" y="152280"/>
            <a:ext cx="5844960" cy="64263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6110280" y="5408640"/>
            <a:ext cx="3794040" cy="14446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X DU J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 résult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0"/>
            <a:ext cx="2889360" cy="459720"/>
          </a:xfrm>
          <a:prstGeom prst="rect">
            <a:avLst/>
          </a:prstGeom>
          <a:solidFill>
            <a:srgbClr val="0000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tilisation CD-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2920" y="5029200"/>
            <a:ext cx="3300120" cy="1551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L ’élève obtient l ’é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des caractérist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du joint tor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71960" y="138240"/>
            <a:ext cx="6028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e9b03"/>
                </a:solidFill>
                <a:latin typeface="Times New Roman"/>
              </a:rPr>
              <a:t>- concernant l'exploitation de l'aide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e9b03"/>
                </a:solidFill>
                <a:latin typeface="Times New Roman"/>
              </a:rPr>
              <a:t>EXTRAIT DU QUETIONNAIRE ELE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" y="762120"/>
            <a:ext cx="825516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ffffff"/>
                </a:solidFill>
                <a:uFillTx/>
                <a:latin typeface="Arial"/>
              </a:rPr>
              <a:t>Etude du distributeur 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L’énergie pneumatique est communiquée aux pistons par l’intermédiaire d’un distributeur composé du bloc arrière 3 et du piston distributeur 3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noncer à l’aide du FAST la fonction technique concernée et préciser les composants intervenant dans la solution techniqu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Le distributeur est muni de deux orifices dont l’un est celui d’alimentation en air comprimé . A l’aide du diagramme FAST, énoncer la fonction du deuxième orifi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Quelle pièce permet la fermeture du distributeur 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n se connectant sur le site </a:t>
            </a: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www.thyreau.com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, définir le type du ressort 32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A l’aide du site précédent, </a:t>
            </a: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éterminer les paramètres (dimensions) à donner</a:t>
            </a: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 pour définir complètement ce ressort (donner les valeur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7800" y="3352680"/>
            <a:ext cx="8997840" cy="825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se connectant sur le sit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www.thyreau.com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définir le type du ress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95360" y="4876920"/>
            <a:ext cx="8997840" cy="825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l’aide du site précédent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les paramètres (dimensions) à donn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our définir complètement le ress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resentation%20site" descr=""/>
          <p:cNvPicPr/>
          <p:nvPr/>
        </p:nvPicPr>
        <p:blipFill>
          <a:blip r:embed="rId1"/>
          <a:stretch/>
        </p:blipFill>
        <p:spPr>
          <a:xfrm>
            <a:off x="1568520" y="1523880"/>
            <a:ext cx="6638760" cy="49914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746720" y="457200"/>
            <a:ext cx="64731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ge d ’accueil du site internet WWW.thyreau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sation d ’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 rot="10765200">
            <a:off x="3714120" y="2057040"/>
            <a:ext cx="1320840" cy="609480"/>
          </a:xfrm>
          <a:prstGeom prst="leftArrow">
            <a:avLst>
              <a:gd name="adj1" fmla="val 50000"/>
              <a:gd name="adj2" fmla="val 54179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 rot="10789800">
            <a:off x="3714120" y="2742480"/>
            <a:ext cx="1320840" cy="609480"/>
          </a:xfrm>
          <a:prstGeom prst="leftArrow">
            <a:avLst>
              <a:gd name="adj1" fmla="val 50000"/>
              <a:gd name="adj2" fmla="val 54179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21586800">
            <a:off x="7594560" y="2285640"/>
            <a:ext cx="1320840" cy="609480"/>
          </a:xfrm>
          <a:prstGeom prst="leftArrow">
            <a:avLst>
              <a:gd name="adj1" fmla="val 50000"/>
              <a:gd name="adj2" fmla="val 54179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7" name=""/>
          <p:cNvGraphicFramePr/>
          <p:nvPr/>
        </p:nvGraphicFramePr>
        <p:xfrm>
          <a:off x="993600" y="533520"/>
          <a:ext cx="4040280" cy="601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33520"/>
                    <a:ext cx="404028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4375080" y="1981080"/>
            <a:ext cx="4705560" cy="2362320"/>
          </a:xfrm>
          <a:prstGeom prst="leftArrow">
            <a:avLst>
              <a:gd name="adj1" fmla="val 50000"/>
              <a:gd name="adj2" fmla="val 49798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348520" y="2743200"/>
            <a:ext cx="362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Recherche des paramèt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actéristiques du ress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34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sation d ’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79680" y="228600"/>
            <a:ext cx="31996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ge proposée sur le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1295280" y="1066680"/>
          <a:ext cx="5761080" cy="25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066680"/>
                    <a:ext cx="5761080" cy="25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1981080" y="3962520"/>
            <a:ext cx="6858000" cy="5814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iser le fichier vidé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57400" y="4876920"/>
            <a:ext cx="678168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quer su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3"/>
              </a:rPr>
              <a:t>simulation mou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71960" y="138240"/>
            <a:ext cx="41346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e9b03"/>
                </a:solidFill>
                <a:latin typeface="Times New Roman"/>
              </a:rPr>
              <a:t>- concernant les liens hypertex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e9b03"/>
                </a:solidFill>
                <a:latin typeface="Times New Roman"/>
              </a:rPr>
              <a:t>EXTRAIT DU QUETIONNAIRE ELE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400800" y="4648320"/>
            <a:ext cx="2914560" cy="19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 cours de mod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vec méca3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38400" y="456840"/>
            <a:ext cx="82548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cc"/>
                </a:solidFill>
                <a:uFillTx/>
                <a:latin typeface="Times New Roman"/>
              </a:rPr>
              <a:t>Types d’aides en lign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360" y="3048120"/>
            <a:ext cx="4209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emple de TP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40320" y="3200400"/>
            <a:ext cx="49528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ATEUR pneumatique FEL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0240" y="4648320"/>
            <a:ext cx="206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ides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06560" y="4876920"/>
            <a:ext cx="610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D-rom PAULS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ww.thyreau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5480" y="762120"/>
            <a:ext cx="419040" cy="1068120"/>
          </a:xfrm>
          <a:custGeom>
            <a:avLst/>
            <a:gdLst/>
            <a:ahLst/>
            <a:rect l="l" t="t" r="r" b="b"/>
            <a:pathLst>
              <a:path w="244" h="673">
                <a:moveTo>
                  <a:pt x="243" y="479"/>
                </a:moveTo>
                <a:lnTo>
                  <a:pt x="162" y="288"/>
                </a:lnTo>
                <a:lnTo>
                  <a:pt x="162" y="384"/>
                </a:lnTo>
                <a:lnTo>
                  <a:pt x="82" y="384"/>
                </a:lnTo>
                <a:lnTo>
                  <a:pt x="80" y="0"/>
                </a:lnTo>
                <a:lnTo>
                  <a:pt x="0" y="1"/>
                </a:lnTo>
                <a:lnTo>
                  <a:pt x="3" y="577"/>
                </a:lnTo>
                <a:lnTo>
                  <a:pt x="163" y="576"/>
                </a:lnTo>
                <a:lnTo>
                  <a:pt x="164" y="672"/>
                </a:lnTo>
                <a:lnTo>
                  <a:pt x="243" y="479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09120" y="121932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tes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99480" y="1676520"/>
            <a:ext cx="4227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CD-</a:t>
            </a:r>
            <a:r>
              <a:rPr b="1" i="1" lang="fr-FR" sz="32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 constructe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50160" y="1219320"/>
            <a:ext cx="582840" cy="992160"/>
          </a:xfrm>
          <a:custGeom>
            <a:avLst/>
            <a:gdLst/>
            <a:ahLst/>
            <a:rect l="l" t="t" r="r" b="b"/>
            <a:pathLst>
              <a:path w="339" h="625">
                <a:moveTo>
                  <a:pt x="0" y="445"/>
                </a:moveTo>
                <a:lnTo>
                  <a:pt x="113" y="267"/>
                </a:lnTo>
                <a:lnTo>
                  <a:pt x="113" y="356"/>
                </a:lnTo>
                <a:lnTo>
                  <a:pt x="225" y="357"/>
                </a:lnTo>
                <a:lnTo>
                  <a:pt x="226" y="0"/>
                </a:lnTo>
                <a:lnTo>
                  <a:pt x="338" y="1"/>
                </a:lnTo>
                <a:lnTo>
                  <a:pt x="336" y="536"/>
                </a:lnTo>
                <a:lnTo>
                  <a:pt x="112" y="535"/>
                </a:lnTo>
                <a:lnTo>
                  <a:pt x="112" y="624"/>
                </a:lnTo>
                <a:lnTo>
                  <a:pt x="0" y="445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50280" y="2286000"/>
            <a:ext cx="634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ien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hypertext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sous POWER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76440" y="1905120"/>
            <a:ext cx="419040" cy="1068120"/>
          </a:xfrm>
          <a:custGeom>
            <a:avLst/>
            <a:gdLst/>
            <a:ahLst/>
            <a:rect l="l" t="t" r="r" b="b"/>
            <a:pathLst>
              <a:path w="244" h="673">
                <a:moveTo>
                  <a:pt x="243" y="479"/>
                </a:moveTo>
                <a:lnTo>
                  <a:pt x="162" y="288"/>
                </a:lnTo>
                <a:lnTo>
                  <a:pt x="162" y="384"/>
                </a:lnTo>
                <a:lnTo>
                  <a:pt x="82" y="384"/>
                </a:lnTo>
                <a:lnTo>
                  <a:pt x="80" y="0"/>
                </a:lnTo>
                <a:lnTo>
                  <a:pt x="0" y="1"/>
                </a:lnTo>
                <a:lnTo>
                  <a:pt x="3" y="577"/>
                </a:lnTo>
                <a:lnTo>
                  <a:pt x="163" y="576"/>
                </a:lnTo>
                <a:lnTo>
                  <a:pt x="164" y="672"/>
                </a:lnTo>
                <a:lnTo>
                  <a:pt x="243" y="479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res d ’intérêt du cycle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Hypothèse : partir de fonctions techniques)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51920" y="609480"/>
            <a:ext cx="9448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cc"/>
                </a:solidFill>
                <a:uFillTx/>
                <a:latin typeface="Times New Roman"/>
              </a:rPr>
              <a:t>Intégration du TP sécateur dans un cycl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24382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ssurer l ’étanchéité (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2819520"/>
            <a:ext cx="67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ransmettre un effort (T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4952880"/>
            <a:ext cx="505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Bride pivotante pneumatiq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Base de ro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ince pneumatiq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657600"/>
            <a:ext cx="883944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que centre d ’ intérêt est décliné autour des 4 supports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vant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cc"/>
                </a:solidFill>
                <a:uFillTx/>
                <a:latin typeface="Times New Roman"/>
              </a:rPr>
              <a:t>Identité technologique supports 1 et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95360" y="838080"/>
          <a:ext cx="39625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838080"/>
                    <a:ext cx="39625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035680" y="838080"/>
          <a:ext cx="404496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5680" y="838080"/>
                    <a:ext cx="40449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cc"/>
                </a:solidFill>
                <a:uFillTx/>
                <a:latin typeface="Times New Roman"/>
              </a:rPr>
              <a:t>Identité technologique supports 3 et 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77800" y="838080"/>
          <a:ext cx="429264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838080"/>
                    <a:ext cx="4292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432400" y="838080"/>
          <a:ext cx="3940200" cy="5715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2400" y="838080"/>
                    <a:ext cx="39402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60240" y="1066680"/>
            <a:ext cx="8420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ée des TP : 2 heu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e de 16 élèves travaillant en binô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30120" y="304920"/>
            <a:ext cx="908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cc"/>
                </a:solidFill>
                <a:uFillTx/>
                <a:latin typeface="Times New Roman"/>
              </a:rPr>
              <a:t>Organisation temporelle du cycl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266688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1880" y="648828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1880" y="6488280"/>
            <a:ext cx="12960" cy="14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666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2743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219320" y="2286000"/>
          <a:ext cx="701028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70102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55600" y="228600"/>
            <a:ext cx="78580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ésentation du suppor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P aide en lig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Felco" descr=""/>
          <p:cNvPicPr/>
          <p:nvPr/>
        </p:nvPicPr>
        <p:blipFill>
          <a:blip r:embed="rId1"/>
          <a:stretch/>
        </p:blipFill>
        <p:spPr>
          <a:xfrm>
            <a:off x="495360" y="2133720"/>
            <a:ext cx="9245520" cy="3568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12920" y="5715000"/>
            <a:ext cx="924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térêt du pneumatiq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forte puissance de coupe et possibilité d ’une pulvérisation simultanée d ’un produit de cicatris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eclate" descr=""/>
          <p:cNvPicPr/>
          <p:nvPr/>
        </p:nvPicPr>
        <p:blipFill>
          <a:blip r:embed="rId1"/>
          <a:stretch/>
        </p:blipFill>
        <p:spPr>
          <a:xfrm>
            <a:off x="577800" y="609480"/>
            <a:ext cx="8667720" cy="52246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rot="1426800">
            <a:off x="1765080" y="2212560"/>
            <a:ext cx="5200560" cy="22017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452000">
            <a:off x="6912000" y="2549520"/>
            <a:ext cx="2565360" cy="382104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28760" y="304920"/>
            <a:ext cx="2724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DISTRIBU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233000">
            <a:off x="423360" y="347760"/>
            <a:ext cx="1573200" cy="327636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10200" y="1676520"/>
            <a:ext cx="26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ACTIONN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82000" y="2133720"/>
            <a:ext cx="2228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EFFEC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6:51:34Z</dcterms:created>
  <dc:creator>TEYSSIER</dc:creator>
  <dc:description/>
  <dc:language>en-US</dc:language>
  <cp:lastModifiedBy>Teyssier</cp:lastModifiedBy>
  <dcterms:modified xsi:type="dcterms:W3CDTF">2001-02-03T07:48:53Z</dcterms:modified>
  <cp:revision>42</cp:revision>
  <dc:subject/>
  <dc:title>T.P. avec aides en lignes</dc:title>
</cp:coreProperties>
</file>