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C04D-2A1C-4A05-8C0F-30534343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B76A-7F02-4E9A-8E89-C4E29A41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065A-FA21-42F2-9AA9-47854FE1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DFDC-583C-4500-A79F-AF27C9D0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EEAD-836A-40A3-BE6D-D42AA5A4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1C26-5209-4EB2-9351-25B487AE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A623-8EC5-4BF1-8D2C-CED32183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C6F7-8C44-49E4-8C5B-C7BC3CAC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EC4C-DE5C-48D7-A816-580F7126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1A6B-5A99-4530-A69A-78F2A9B3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682A-7288-4CD9-B780-00E7911D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6C7-17BA-4B15-8316-0BC16CC8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7457-3F4D-4F36-8BC9-42F26571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A709-5859-4F57-A789-F802F92B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19BF-0906-44EF-A120-48CA0428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8654-7571-4735-96B3-078FC2FD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BE20-7258-4203-8BD8-CBCEE99F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5E47-187A-48D8-8A83-BC9F7F41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B489-C1C8-4F06-9F69-CC14AC8F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A415-485D-4EA2-85F9-34BA99FE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A3FB-88D5-4E45-8420-0A4E99A3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FF96-EF66-42F2-913A-302B7AC7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912F-20C3-41F5-B2A8-2685FF1C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F8ED-3AFA-437B-AD0D-DF7F4A39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1A07-15B0-47F2-AF35-84D542CA09FD}" type="slidenum">
              <a:rPr b="0" lang="fr-FR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90920" y="6854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">
            <a:hlinkClick r:id="" action="ppaction://hlinkshowjump?jump=firstslide"/>
          </p:cNvPr>
          <p:cNvSpPr/>
          <p:nvPr/>
        </p:nvSpPr>
        <p:spPr>
          <a:xfrm>
            <a:off x="6705720" y="6324480"/>
            <a:ext cx="153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999"/>
                </a:solidFill>
                <a:latin typeface="Arial"/>
              </a:rPr>
              <a:t>Passer à la première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459B-983A-4103-8ED2-A34A1C37ED3F}" type="slidenum">
              <a:rPr b="0" lang="fr-FR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1.xml"/><Relationship Id="rId4" Type="http://schemas.openxmlformats.org/officeDocument/2006/relationships/hyperlink" Target="file:///0secateur.ppt" TargetMode="Externa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2.xml"/><Relationship Id="rId9" Type="http://schemas.openxmlformats.org/officeDocument/2006/relationships/slide" Target="slide3.xml"/><Relationship Id="rId10" Type="http://schemas.openxmlformats.org/officeDocument/2006/relationships/slide" Target="slide4.xml"/><Relationship Id="rId11" Type="http://schemas.openxmlformats.org/officeDocument/2006/relationships/slide" Target="slide2.xml"/><Relationship Id="rId12" Type="http://schemas.openxmlformats.org/officeDocument/2006/relationships/slide" Target="slide3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7c80"/>
                </a:solidFill>
                <a:latin typeface="Arial Narrow"/>
              </a:rPr>
              <a:t>ETUDE DE L’EFFECTEU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88" name="perspective%20effecteur%20synthese" descr=""/>
          <p:cNvPicPr/>
          <p:nvPr/>
        </p:nvPicPr>
        <p:blipFill>
          <a:blip r:embed="rId1"/>
          <a:srcRect l="0" t="23052" r="0" b="11700"/>
          <a:stretch/>
        </p:blipFill>
        <p:spPr>
          <a:xfrm>
            <a:off x="1498680" y="1981080"/>
            <a:ext cx="6146640" cy="3505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54200" y="5408640"/>
            <a:ext cx="783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Times New Roman"/>
              </a:rPr>
              <a:t>L ’effecteur est composé de 3 groupes cinématique équivalen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2428920" y="2227320"/>
            <a:ext cx="3227400" cy="2479680"/>
          </a:xfrm>
          <a:custGeom>
            <a:avLst/>
            <a:gdLst/>
            <a:ahLst/>
            <a:rect l="l" t="t" r="r" b="b"/>
            <a:pathLst>
              <a:path w="2033" h="1562">
                <a:moveTo>
                  <a:pt x="480" y="69"/>
                </a:moveTo>
                <a:cubicBezTo>
                  <a:pt x="430" y="76"/>
                  <a:pt x="420" y="87"/>
                  <a:pt x="377" y="101"/>
                </a:cubicBezTo>
                <a:cubicBezTo>
                  <a:pt x="337" y="160"/>
                  <a:pt x="239" y="199"/>
                  <a:pt x="185" y="248"/>
                </a:cubicBezTo>
                <a:cubicBezTo>
                  <a:pt x="135" y="293"/>
                  <a:pt x="125" y="349"/>
                  <a:pt x="89" y="402"/>
                </a:cubicBezTo>
                <a:cubicBezTo>
                  <a:pt x="78" y="438"/>
                  <a:pt x="58" y="475"/>
                  <a:pt x="44" y="511"/>
                </a:cubicBezTo>
                <a:cubicBezTo>
                  <a:pt x="42" y="528"/>
                  <a:pt x="41" y="545"/>
                  <a:pt x="38" y="562"/>
                </a:cubicBezTo>
                <a:cubicBezTo>
                  <a:pt x="35" y="579"/>
                  <a:pt x="28" y="596"/>
                  <a:pt x="25" y="613"/>
                </a:cubicBezTo>
                <a:cubicBezTo>
                  <a:pt x="5" y="745"/>
                  <a:pt x="30" y="650"/>
                  <a:pt x="12" y="715"/>
                </a:cubicBezTo>
                <a:cubicBezTo>
                  <a:pt x="7" y="763"/>
                  <a:pt x="0" y="801"/>
                  <a:pt x="12" y="850"/>
                </a:cubicBezTo>
                <a:cubicBezTo>
                  <a:pt x="28" y="913"/>
                  <a:pt x="55" y="922"/>
                  <a:pt x="96" y="959"/>
                </a:cubicBezTo>
                <a:cubicBezTo>
                  <a:pt x="160" y="1017"/>
                  <a:pt x="177" y="1050"/>
                  <a:pt x="268" y="1061"/>
                </a:cubicBezTo>
                <a:cubicBezTo>
                  <a:pt x="293" y="1085"/>
                  <a:pt x="325" y="1090"/>
                  <a:pt x="352" y="1112"/>
                </a:cubicBezTo>
                <a:cubicBezTo>
                  <a:pt x="437" y="1181"/>
                  <a:pt x="360" y="1123"/>
                  <a:pt x="403" y="1176"/>
                </a:cubicBezTo>
                <a:cubicBezTo>
                  <a:pt x="472" y="1263"/>
                  <a:pt x="412" y="1181"/>
                  <a:pt x="467" y="1234"/>
                </a:cubicBezTo>
                <a:cubicBezTo>
                  <a:pt x="518" y="1284"/>
                  <a:pt x="457" y="1239"/>
                  <a:pt x="505" y="1272"/>
                </a:cubicBezTo>
                <a:cubicBezTo>
                  <a:pt x="520" y="1294"/>
                  <a:pt x="534" y="1309"/>
                  <a:pt x="556" y="1323"/>
                </a:cubicBezTo>
                <a:cubicBezTo>
                  <a:pt x="596" y="1385"/>
                  <a:pt x="646" y="1437"/>
                  <a:pt x="697" y="1490"/>
                </a:cubicBezTo>
                <a:cubicBezTo>
                  <a:pt x="704" y="1497"/>
                  <a:pt x="703" y="1508"/>
                  <a:pt x="710" y="1515"/>
                </a:cubicBezTo>
                <a:cubicBezTo>
                  <a:pt x="747" y="1552"/>
                  <a:pt x="747" y="1549"/>
                  <a:pt x="780" y="1560"/>
                </a:cubicBezTo>
                <a:cubicBezTo>
                  <a:pt x="907" y="1556"/>
                  <a:pt x="1046" y="1562"/>
                  <a:pt x="1171" y="1528"/>
                </a:cubicBezTo>
                <a:cubicBezTo>
                  <a:pt x="1206" y="1474"/>
                  <a:pt x="1189" y="1504"/>
                  <a:pt x="1222" y="1439"/>
                </a:cubicBezTo>
                <a:cubicBezTo>
                  <a:pt x="1231" y="1422"/>
                  <a:pt x="1248" y="1410"/>
                  <a:pt x="1260" y="1394"/>
                </a:cubicBezTo>
                <a:cubicBezTo>
                  <a:pt x="1274" y="1355"/>
                  <a:pt x="1276" y="1312"/>
                  <a:pt x="1260" y="1272"/>
                </a:cubicBezTo>
                <a:cubicBezTo>
                  <a:pt x="1256" y="1262"/>
                  <a:pt x="1247" y="1256"/>
                  <a:pt x="1241" y="1247"/>
                </a:cubicBezTo>
                <a:cubicBezTo>
                  <a:pt x="1214" y="1209"/>
                  <a:pt x="1189" y="1177"/>
                  <a:pt x="1177" y="1131"/>
                </a:cubicBezTo>
                <a:cubicBezTo>
                  <a:pt x="1180" y="1065"/>
                  <a:pt x="1152" y="951"/>
                  <a:pt x="1241" y="939"/>
                </a:cubicBezTo>
                <a:cubicBezTo>
                  <a:pt x="1262" y="936"/>
                  <a:pt x="1284" y="935"/>
                  <a:pt x="1305" y="933"/>
                </a:cubicBezTo>
                <a:cubicBezTo>
                  <a:pt x="1331" y="931"/>
                  <a:pt x="1356" y="929"/>
                  <a:pt x="1382" y="927"/>
                </a:cubicBezTo>
                <a:cubicBezTo>
                  <a:pt x="1414" y="919"/>
                  <a:pt x="1441" y="904"/>
                  <a:pt x="1472" y="895"/>
                </a:cubicBezTo>
                <a:cubicBezTo>
                  <a:pt x="1518" y="863"/>
                  <a:pt x="1614" y="909"/>
                  <a:pt x="1670" y="920"/>
                </a:cubicBezTo>
                <a:cubicBezTo>
                  <a:pt x="1756" y="916"/>
                  <a:pt x="1839" y="916"/>
                  <a:pt x="1920" y="888"/>
                </a:cubicBezTo>
                <a:cubicBezTo>
                  <a:pt x="1961" y="847"/>
                  <a:pt x="1958" y="785"/>
                  <a:pt x="1984" y="735"/>
                </a:cubicBezTo>
                <a:cubicBezTo>
                  <a:pt x="2008" y="581"/>
                  <a:pt x="2033" y="432"/>
                  <a:pt x="1932" y="306"/>
                </a:cubicBezTo>
                <a:cubicBezTo>
                  <a:pt x="1919" y="221"/>
                  <a:pt x="1856" y="203"/>
                  <a:pt x="1779" y="191"/>
                </a:cubicBezTo>
                <a:cubicBezTo>
                  <a:pt x="1730" y="153"/>
                  <a:pt x="1685" y="155"/>
                  <a:pt x="1625" y="146"/>
                </a:cubicBezTo>
                <a:cubicBezTo>
                  <a:pt x="1588" y="141"/>
                  <a:pt x="1552" y="130"/>
                  <a:pt x="1516" y="120"/>
                </a:cubicBezTo>
                <a:cubicBezTo>
                  <a:pt x="1384" y="29"/>
                  <a:pt x="1162" y="23"/>
                  <a:pt x="1004" y="11"/>
                </a:cubicBezTo>
                <a:cubicBezTo>
                  <a:pt x="932" y="0"/>
                  <a:pt x="865" y="0"/>
                  <a:pt x="793" y="5"/>
                </a:cubicBezTo>
                <a:cubicBezTo>
                  <a:pt x="712" y="123"/>
                  <a:pt x="816" y="61"/>
                  <a:pt x="512" y="69"/>
                </a:cubicBezTo>
                <a:cubicBezTo>
                  <a:pt x="492" y="72"/>
                  <a:pt x="405" y="100"/>
                  <a:pt x="480" y="69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" name="">
            <a:hlinkClick r:id="rId4"/>
          </p:cNvPr>
          <p:cNvSpPr/>
          <p:nvPr/>
        </p:nvSpPr>
        <p:spPr>
          <a:xfrm>
            <a:off x="77724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7301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5456" y="7394"/>
                </a:lnTo>
                <a:lnTo>
                  <a:pt x="5456" y="21406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4359240" y="3672000"/>
            <a:ext cx="961920" cy="1052280"/>
          </a:xfrm>
          <a:custGeom>
            <a:avLst/>
            <a:gdLst/>
            <a:ahLst/>
            <a:rect l="l" t="t" r="r" b="b"/>
            <a:pathLst>
              <a:path w="606" h="663">
                <a:moveTo>
                  <a:pt x="467" y="61"/>
                </a:moveTo>
                <a:cubicBezTo>
                  <a:pt x="411" y="5"/>
                  <a:pt x="324" y="10"/>
                  <a:pt x="249" y="4"/>
                </a:cubicBezTo>
                <a:cubicBezTo>
                  <a:pt x="179" y="6"/>
                  <a:pt x="108" y="0"/>
                  <a:pt x="38" y="10"/>
                </a:cubicBezTo>
                <a:cubicBezTo>
                  <a:pt x="11" y="14"/>
                  <a:pt x="18" y="76"/>
                  <a:pt x="12" y="113"/>
                </a:cubicBezTo>
                <a:cubicBezTo>
                  <a:pt x="9" y="130"/>
                  <a:pt x="0" y="164"/>
                  <a:pt x="0" y="164"/>
                </a:cubicBezTo>
                <a:cubicBezTo>
                  <a:pt x="1" y="181"/>
                  <a:pt x="6" y="339"/>
                  <a:pt x="12" y="381"/>
                </a:cubicBezTo>
                <a:cubicBezTo>
                  <a:pt x="41" y="579"/>
                  <a:pt x="198" y="602"/>
                  <a:pt x="364" y="625"/>
                </a:cubicBezTo>
                <a:cubicBezTo>
                  <a:pt x="418" y="641"/>
                  <a:pt x="476" y="650"/>
                  <a:pt x="531" y="663"/>
                </a:cubicBezTo>
                <a:cubicBezTo>
                  <a:pt x="544" y="659"/>
                  <a:pt x="558" y="658"/>
                  <a:pt x="569" y="650"/>
                </a:cubicBezTo>
                <a:cubicBezTo>
                  <a:pt x="592" y="633"/>
                  <a:pt x="590" y="573"/>
                  <a:pt x="595" y="548"/>
                </a:cubicBezTo>
                <a:cubicBezTo>
                  <a:pt x="601" y="372"/>
                  <a:pt x="606" y="332"/>
                  <a:pt x="595" y="138"/>
                </a:cubicBezTo>
                <a:cubicBezTo>
                  <a:pt x="591" y="72"/>
                  <a:pt x="592" y="40"/>
                  <a:pt x="544" y="4"/>
                </a:cubicBezTo>
                <a:cubicBezTo>
                  <a:pt x="520" y="6"/>
                  <a:pt x="496" y="5"/>
                  <a:pt x="473" y="10"/>
                </a:cubicBezTo>
                <a:cubicBezTo>
                  <a:pt x="452" y="14"/>
                  <a:pt x="453" y="42"/>
                  <a:pt x="435" y="42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" name="">
            <a:hlinkClick r:id="rId6" action="ppaction://hlinksldjump"/>
          </p:cNvPr>
          <p:cNvSpPr/>
          <p:nvPr/>
        </p:nvSpPr>
        <p:spPr>
          <a:xfrm>
            <a:off x="5079960" y="3209760"/>
            <a:ext cx="2154240" cy="2125800"/>
          </a:xfrm>
          <a:custGeom>
            <a:avLst/>
            <a:gdLst/>
            <a:ahLst/>
            <a:rect l="l" t="t" r="r" b="b"/>
            <a:pathLst>
              <a:path w="1357" h="1339">
                <a:moveTo>
                  <a:pt x="493" y="0"/>
                </a:moveTo>
                <a:cubicBezTo>
                  <a:pt x="504" y="6"/>
                  <a:pt x="615" y="67"/>
                  <a:pt x="634" y="90"/>
                </a:cubicBezTo>
                <a:cubicBezTo>
                  <a:pt x="687" y="154"/>
                  <a:pt x="595" y="111"/>
                  <a:pt x="685" y="141"/>
                </a:cubicBezTo>
                <a:cubicBezTo>
                  <a:pt x="719" y="211"/>
                  <a:pt x="697" y="179"/>
                  <a:pt x="755" y="237"/>
                </a:cubicBezTo>
                <a:cubicBezTo>
                  <a:pt x="768" y="250"/>
                  <a:pt x="768" y="275"/>
                  <a:pt x="781" y="288"/>
                </a:cubicBezTo>
                <a:cubicBezTo>
                  <a:pt x="790" y="297"/>
                  <a:pt x="806" y="297"/>
                  <a:pt x="819" y="301"/>
                </a:cubicBezTo>
                <a:cubicBezTo>
                  <a:pt x="836" y="318"/>
                  <a:pt x="850" y="338"/>
                  <a:pt x="870" y="352"/>
                </a:cubicBezTo>
                <a:cubicBezTo>
                  <a:pt x="885" y="363"/>
                  <a:pt x="909" y="358"/>
                  <a:pt x="922" y="372"/>
                </a:cubicBezTo>
                <a:cubicBezTo>
                  <a:pt x="971" y="424"/>
                  <a:pt x="962" y="500"/>
                  <a:pt x="1011" y="551"/>
                </a:cubicBezTo>
                <a:cubicBezTo>
                  <a:pt x="1023" y="599"/>
                  <a:pt x="1028" y="630"/>
                  <a:pt x="1062" y="666"/>
                </a:cubicBezTo>
                <a:cubicBezTo>
                  <a:pt x="1093" y="789"/>
                  <a:pt x="1052" y="662"/>
                  <a:pt x="1101" y="743"/>
                </a:cubicBezTo>
                <a:cubicBezTo>
                  <a:pt x="1108" y="754"/>
                  <a:pt x="1108" y="769"/>
                  <a:pt x="1114" y="781"/>
                </a:cubicBezTo>
                <a:cubicBezTo>
                  <a:pt x="1119" y="791"/>
                  <a:pt x="1127" y="798"/>
                  <a:pt x="1133" y="807"/>
                </a:cubicBezTo>
                <a:cubicBezTo>
                  <a:pt x="1153" y="866"/>
                  <a:pt x="1150" y="876"/>
                  <a:pt x="1197" y="922"/>
                </a:cubicBezTo>
                <a:cubicBezTo>
                  <a:pt x="1222" y="996"/>
                  <a:pt x="1244" y="1068"/>
                  <a:pt x="1274" y="1140"/>
                </a:cubicBezTo>
                <a:cubicBezTo>
                  <a:pt x="1279" y="1152"/>
                  <a:pt x="1279" y="1167"/>
                  <a:pt x="1286" y="1178"/>
                </a:cubicBezTo>
                <a:cubicBezTo>
                  <a:pt x="1292" y="1189"/>
                  <a:pt x="1304" y="1195"/>
                  <a:pt x="1312" y="1204"/>
                </a:cubicBezTo>
                <a:cubicBezTo>
                  <a:pt x="1333" y="1229"/>
                  <a:pt x="1346" y="1263"/>
                  <a:pt x="1357" y="1293"/>
                </a:cubicBezTo>
                <a:cubicBezTo>
                  <a:pt x="1340" y="1339"/>
                  <a:pt x="1344" y="1333"/>
                  <a:pt x="1286" y="1325"/>
                </a:cubicBezTo>
                <a:cubicBezTo>
                  <a:pt x="1251" y="1307"/>
                  <a:pt x="1211" y="1296"/>
                  <a:pt x="1178" y="1274"/>
                </a:cubicBezTo>
                <a:cubicBezTo>
                  <a:pt x="1159" y="1222"/>
                  <a:pt x="1183" y="1280"/>
                  <a:pt x="1107" y="1191"/>
                </a:cubicBezTo>
                <a:cubicBezTo>
                  <a:pt x="1086" y="1167"/>
                  <a:pt x="1050" y="1114"/>
                  <a:pt x="1050" y="1114"/>
                </a:cubicBezTo>
                <a:cubicBezTo>
                  <a:pt x="1036" y="1036"/>
                  <a:pt x="946" y="978"/>
                  <a:pt x="890" y="922"/>
                </a:cubicBezTo>
                <a:cubicBezTo>
                  <a:pt x="871" y="903"/>
                  <a:pt x="813" y="896"/>
                  <a:pt x="813" y="896"/>
                </a:cubicBezTo>
                <a:cubicBezTo>
                  <a:pt x="745" y="846"/>
                  <a:pt x="530" y="884"/>
                  <a:pt x="429" y="896"/>
                </a:cubicBezTo>
                <a:cubicBezTo>
                  <a:pt x="353" y="916"/>
                  <a:pt x="313" y="940"/>
                  <a:pt x="237" y="967"/>
                </a:cubicBezTo>
                <a:cubicBezTo>
                  <a:pt x="212" y="976"/>
                  <a:pt x="193" y="997"/>
                  <a:pt x="166" y="1005"/>
                </a:cubicBezTo>
                <a:cubicBezTo>
                  <a:pt x="143" y="1003"/>
                  <a:pt x="119" y="1005"/>
                  <a:pt x="96" y="999"/>
                </a:cubicBezTo>
                <a:cubicBezTo>
                  <a:pt x="69" y="991"/>
                  <a:pt x="51" y="924"/>
                  <a:pt x="45" y="909"/>
                </a:cubicBezTo>
                <a:cubicBezTo>
                  <a:pt x="39" y="876"/>
                  <a:pt x="31" y="845"/>
                  <a:pt x="19" y="813"/>
                </a:cubicBezTo>
                <a:cubicBezTo>
                  <a:pt x="12" y="766"/>
                  <a:pt x="7" y="719"/>
                  <a:pt x="0" y="672"/>
                </a:cubicBezTo>
                <a:lnTo>
                  <a:pt x="38" y="314"/>
                </a:lnTo>
                <a:cubicBezTo>
                  <a:pt x="38" y="314"/>
                  <a:pt x="38" y="314"/>
                  <a:pt x="38" y="314"/>
                </a:cubicBezTo>
                <a:cubicBezTo>
                  <a:pt x="61" y="187"/>
                  <a:pt x="90" y="118"/>
                  <a:pt x="218" y="71"/>
                </a:cubicBezTo>
                <a:cubicBezTo>
                  <a:pt x="254" y="44"/>
                  <a:pt x="274" y="44"/>
                  <a:pt x="320" y="39"/>
                </a:cubicBezTo>
                <a:cubicBezTo>
                  <a:pt x="415" y="44"/>
                  <a:pt x="502" y="60"/>
                  <a:pt x="595" y="71"/>
                </a:cubicBezTo>
                <a:cubicBezTo>
                  <a:pt x="616" y="78"/>
                  <a:pt x="607" y="77"/>
                  <a:pt x="621" y="77"/>
                </a:cubicBezTo>
              </a:path>
            </a:pathLst>
          </a:custGeom>
          <a:noFill/>
          <a:ln w="2556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" name="">
            <a:hlinkClick r:id="rId7" action="ppaction://hlinksldjump"/>
          </p:cNvPr>
          <p:cNvSpPr/>
          <p:nvPr/>
        </p:nvSpPr>
        <p:spPr>
          <a:xfrm flipV="1" rot="19138200">
            <a:off x="1995120" y="4079520"/>
            <a:ext cx="914400" cy="152280"/>
          </a:xfrm>
          <a:custGeom>
            <a:avLst/>
            <a:gdLst>
              <a:gd name="textAreaLeft" fmla="*/ 142920 w 914400"/>
              <a:gd name="textAreaRight" fmla="*/ 800280 w 914400"/>
              <a:gd name="textAreaTop" fmla="*/ 37800 h 152280"/>
              <a:gd name="textAreaBottom" fmla="*/ 11412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">
            <a:hlinkClick r:id="rId8" action="ppaction://hlinksldjump"/>
          </p:cNvPr>
          <p:cNvSpPr/>
          <p:nvPr/>
        </p:nvSpPr>
        <p:spPr>
          <a:xfrm rot="19581000">
            <a:off x="3848040" y="4697280"/>
            <a:ext cx="838440" cy="152640"/>
          </a:xfrm>
          <a:custGeom>
            <a:avLst/>
            <a:gdLst>
              <a:gd name="textAreaLeft" fmla="*/ 131040 w 838440"/>
              <a:gd name="textAreaRight" fmla="*/ 733680 w 83844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" name="">
            <a:hlinkClick r:id="rId9" action="ppaction://hlinksldjump"/>
          </p:cNvPr>
          <p:cNvSpPr/>
          <p:nvPr/>
        </p:nvSpPr>
        <p:spPr>
          <a:xfrm rot="9879600">
            <a:off x="7149600" y="4403160"/>
            <a:ext cx="1067040" cy="152280"/>
          </a:xfrm>
          <a:custGeom>
            <a:avLst/>
            <a:gdLst>
              <a:gd name="textAreaLeft" fmla="*/ 166680 w 1067040"/>
              <a:gd name="textAreaRight" fmla="*/ 933840 w 106704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715000" y="1676520"/>
            <a:ext cx="3048120" cy="43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99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Cliquez sur la partie à schématiser</a:t>
            </a:r>
            <a:endParaRPr b="0" lang="en-US" sz="1400" spc="1" strike="noStrike">
              <a:ln w="9360">
                <a:solidFill>
                  <a:srgbClr val="0099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>
            <a:hlinkClick r:id="rId10" action="ppaction://hlinksldjump"/>
          </p:cNvPr>
          <p:cNvSpPr/>
          <p:nvPr/>
        </p:nvSpPr>
        <p:spPr>
          <a:xfrm>
            <a:off x="1297800" y="403848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GCE3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>
            <a:hlinkClick r:id="rId11" action="ppaction://hlinksldjump"/>
          </p:cNvPr>
          <p:cNvSpPr/>
          <p:nvPr/>
        </p:nvSpPr>
        <p:spPr>
          <a:xfrm>
            <a:off x="3812400" y="495288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ff"/>
                </a:solidFill>
                <a:latin typeface="Times New Roman"/>
              </a:rPr>
              <a:t>GCE6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>
            <a:hlinkClick r:id="rId12" action="ppaction://hlinksldjump"/>
          </p:cNvPr>
          <p:cNvSpPr/>
          <p:nvPr/>
        </p:nvSpPr>
        <p:spPr>
          <a:xfrm>
            <a:off x="7774920" y="388620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99cc"/>
                </a:solidFill>
                <a:latin typeface="Times New Roman"/>
              </a:rPr>
              <a:t>GCE7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13200" y="1676520"/>
            <a:ext cx="701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Times New Roman"/>
              </a:rPr>
              <a:t>Schéma du Groupe cinématique équivalent 6 (G.C.E. 6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</a:rPr>
              <a:t>Ensemble: BIELLET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3" name="gce6%20effecteur" descr=""/>
          <p:cNvPicPr/>
          <p:nvPr/>
        </p:nvPicPr>
        <p:blipFill>
          <a:blip r:embed="rId1"/>
          <a:srcRect l="24712" t="25723" r="25708" b="34041"/>
          <a:stretch/>
        </p:blipFill>
        <p:spPr>
          <a:xfrm>
            <a:off x="4038480" y="3657600"/>
            <a:ext cx="2057400" cy="132876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4419720" y="4191120"/>
            <a:ext cx="1371600" cy="304560"/>
            <a:chOff x="4419720" y="4191120"/>
            <a:chExt cx="1371600" cy="304560"/>
          </a:xfrm>
        </p:grpSpPr>
        <p:sp>
          <p:nvSpPr>
            <p:cNvPr id="105" name=""/>
            <p:cNvSpPr/>
            <p:nvPr/>
          </p:nvSpPr>
          <p:spPr>
            <a:xfrm>
              <a:off x="5562720" y="4191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19720" y="4267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67400" y="4314960"/>
              <a:ext cx="895320" cy="56880"/>
            </a:xfrm>
            <a:custGeom>
              <a:avLst/>
              <a:gdLst/>
              <a:ahLst/>
              <a:rect l="l" t="t" r="r" b="b"/>
              <a:pathLst>
                <a:path w="564" h="36">
                  <a:moveTo>
                    <a:pt x="0" y="36"/>
                  </a:moveTo>
                  <a:lnTo>
                    <a:pt x="564" y="0"/>
                  </a:lnTo>
                </a:path>
              </a:pathLst>
            </a:custGeom>
            <a:noFill/>
            <a:ln w="2844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1160" bIns="11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895480" y="2819520"/>
            <a:ext cx="2667240" cy="914400"/>
            <a:chOff x="2895480" y="2819520"/>
            <a:chExt cx="2667240" cy="914400"/>
          </a:xfrm>
        </p:grpSpPr>
        <p:sp>
          <p:nvSpPr>
            <p:cNvPr id="109" name=""/>
            <p:cNvSpPr/>
            <p:nvPr/>
          </p:nvSpPr>
          <p:spPr>
            <a:xfrm>
              <a:off x="2895480" y="2819520"/>
              <a:ext cx="2667240" cy="914400"/>
            </a:xfrm>
            <a:prstGeom prst="cloudCallout">
              <a:avLst>
                <a:gd name="adj1" fmla="val 28212"/>
                <a:gd name="adj2" fmla="val 74134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81760" y="2895480"/>
              <a:ext cx="2136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9999"/>
                  </a:solidFill>
                  <a:latin typeface="Times New Roman"/>
                </a:rPr>
                <a:t>Je veux être schématisé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9999"/>
                  </a:solidFill>
                  <a:latin typeface="Times New Roman"/>
                </a:rPr>
                <a:t>Cliquez</a:t>
              </a:r>
              <a:r>
                <a:rPr b="0" lang="fr-FR" sz="1600" spc="-1" strike="noStrike">
                  <a:solidFill>
                    <a:srgbClr val="009999"/>
                  </a:solidFill>
                  <a:latin typeface="Times New Roman"/>
                </a:rPr>
                <a:t> encore une foi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7c80"/>
                </a:solidFill>
                <a:latin typeface="Arial Narrow"/>
              </a:rPr>
              <a:t>ETUDE DE L’EFFECTEU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7301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5456" y="7394"/>
                </a:lnTo>
                <a:lnTo>
                  <a:pt x="5456" y="21406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3200" y="1676520"/>
            <a:ext cx="701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Times New Roman"/>
              </a:rPr>
              <a:t>Schéma du Groupe cinématique équivalent 7 (G.C.E. 7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</a:rPr>
              <a:t>Ensemble: LAME MOBIL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5" name="gce7%20effecteur" descr=""/>
          <p:cNvPicPr/>
          <p:nvPr/>
        </p:nvPicPr>
        <p:blipFill>
          <a:blip r:embed="rId1"/>
          <a:srcRect l="18629" t="6841" r="6854" b="15546"/>
          <a:stretch/>
        </p:blipFill>
        <p:spPr>
          <a:xfrm>
            <a:off x="3657600" y="3505320"/>
            <a:ext cx="2362320" cy="16286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3790800" y="3733920"/>
            <a:ext cx="1627200" cy="1218960"/>
            <a:chOff x="3790800" y="3733920"/>
            <a:chExt cx="1627200" cy="1218960"/>
          </a:xfrm>
        </p:grpSpPr>
        <p:grpSp>
          <p:nvGrpSpPr>
            <p:cNvPr id="117" name=""/>
            <p:cNvGrpSpPr/>
            <p:nvPr/>
          </p:nvGrpSpPr>
          <p:grpSpPr>
            <a:xfrm>
              <a:off x="3790800" y="3733920"/>
              <a:ext cx="1627200" cy="971280"/>
              <a:chOff x="3790800" y="3733920"/>
              <a:chExt cx="1627200" cy="971280"/>
            </a:xfrm>
          </p:grpSpPr>
          <p:sp>
            <p:nvSpPr>
              <p:cNvPr id="118" name=""/>
              <p:cNvSpPr/>
              <p:nvPr/>
            </p:nvSpPr>
            <p:spPr>
              <a:xfrm>
                <a:off x="5037120" y="3733920"/>
                <a:ext cx="380880" cy="380880"/>
              </a:xfrm>
              <a:prstGeom prst="ellipse">
                <a:avLst/>
              </a:prstGeom>
              <a:noFill/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790800" y="3876840"/>
                <a:ext cx="1219320" cy="828360"/>
              </a:xfrm>
              <a:custGeom>
                <a:avLst/>
                <a:gdLst/>
                <a:ahLst/>
                <a:rect l="l" t="t" r="r" b="b"/>
                <a:pathLst>
                  <a:path w="768" h="522">
                    <a:moveTo>
                      <a:pt x="768" y="12"/>
                    </a:moveTo>
                    <a:cubicBezTo>
                      <a:pt x="750" y="8"/>
                      <a:pt x="732" y="0"/>
                      <a:pt x="714" y="0"/>
                    </a:cubicBezTo>
                    <a:cubicBezTo>
                      <a:pt x="663" y="9"/>
                      <a:pt x="513" y="39"/>
                      <a:pt x="456" y="54"/>
                    </a:cubicBezTo>
                    <a:cubicBezTo>
                      <a:pt x="399" y="69"/>
                      <a:pt x="411" y="69"/>
                      <a:pt x="372" y="90"/>
                    </a:cubicBezTo>
                    <a:cubicBezTo>
                      <a:pt x="300" y="126"/>
                      <a:pt x="279" y="123"/>
                      <a:pt x="222" y="180"/>
                    </a:cubicBezTo>
                    <a:cubicBezTo>
                      <a:pt x="199" y="203"/>
                      <a:pt x="134" y="267"/>
                      <a:pt x="114" y="294"/>
                    </a:cubicBezTo>
                    <a:cubicBezTo>
                      <a:pt x="90" y="327"/>
                      <a:pt x="82" y="320"/>
                      <a:pt x="66" y="360"/>
                    </a:cubicBezTo>
                    <a:cubicBezTo>
                      <a:pt x="61" y="372"/>
                      <a:pt x="34" y="414"/>
                      <a:pt x="30" y="426"/>
                    </a:cubicBezTo>
                    <a:cubicBezTo>
                      <a:pt x="28" y="432"/>
                      <a:pt x="24" y="444"/>
                      <a:pt x="24" y="444"/>
                    </a:cubicBezTo>
                    <a:cubicBezTo>
                      <a:pt x="20" y="484"/>
                      <a:pt x="25" y="497"/>
                      <a:pt x="0" y="522"/>
                    </a:cubicBezTo>
                  </a:path>
                </a:pathLst>
              </a:custGeom>
              <a:noFill/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105520" y="4800600"/>
              <a:ext cx="152280" cy="152280"/>
            </a:xfrm>
            <a:prstGeom prst="ellipse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5181480" y="4114800"/>
              <a:ext cx="76320" cy="68580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743200" y="2590920"/>
            <a:ext cx="2666880" cy="914400"/>
            <a:chOff x="2743200" y="2590920"/>
            <a:chExt cx="2666880" cy="914400"/>
          </a:xfrm>
        </p:grpSpPr>
        <p:sp>
          <p:nvSpPr>
            <p:cNvPr id="123" name=""/>
            <p:cNvSpPr/>
            <p:nvPr/>
          </p:nvSpPr>
          <p:spPr>
            <a:xfrm>
              <a:off x="2743200" y="2590920"/>
              <a:ext cx="2666880" cy="914400"/>
            </a:xfrm>
            <a:prstGeom prst="cloudCallout">
              <a:avLst>
                <a:gd name="adj1" fmla="val 28212"/>
                <a:gd name="adj2" fmla="val 74134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53160" y="2743200"/>
              <a:ext cx="2136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9999"/>
                  </a:solidFill>
                  <a:latin typeface="Times New Roman"/>
                </a:rPr>
                <a:t>Je veux être schématisé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9999"/>
                  </a:solidFill>
                  <a:latin typeface="Times New Roman"/>
                </a:rPr>
                <a:t>Cliquez</a:t>
              </a:r>
              <a:r>
                <a:rPr b="0" lang="fr-FR" sz="1600" spc="-1" strike="noStrike">
                  <a:solidFill>
                    <a:srgbClr val="009999"/>
                  </a:solidFill>
                  <a:latin typeface="Times New Roman"/>
                </a:rPr>
                <a:t> encore une foi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7c80"/>
                </a:solidFill>
                <a:latin typeface="Arial Narrow"/>
              </a:rPr>
              <a:t>ETUDE DE L’EFFECTEU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"/>
          <p:cNvSpPr/>
          <p:nvPr/>
        </p:nvSpPr>
        <p:spPr>
          <a:xfrm>
            <a:off x="77724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7301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5456" y="7394"/>
                </a:lnTo>
                <a:lnTo>
                  <a:pt x="5456" y="21406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ce3%20effecteur2" descr=""/>
          <p:cNvPicPr/>
          <p:nvPr/>
        </p:nvPicPr>
        <p:blipFill>
          <a:blip r:embed="rId1"/>
          <a:srcRect l="3687" t="21305" r="21314" b="24826"/>
          <a:stretch/>
        </p:blipFill>
        <p:spPr>
          <a:xfrm>
            <a:off x="2514600" y="3276720"/>
            <a:ext cx="4648320" cy="2894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213200" y="1676520"/>
            <a:ext cx="701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Times New Roman"/>
              </a:rPr>
              <a:t>Schéma du Groupe cinématique équivalent 3 (G.C.E. 3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</a:rPr>
              <a:t>Ensemble: LAME FIX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495680" y="2362320"/>
            <a:ext cx="2667240" cy="914400"/>
            <a:chOff x="4495680" y="2362320"/>
            <a:chExt cx="2667240" cy="914400"/>
          </a:xfrm>
        </p:grpSpPr>
        <p:sp>
          <p:nvSpPr>
            <p:cNvPr id="131" name=""/>
            <p:cNvSpPr/>
            <p:nvPr/>
          </p:nvSpPr>
          <p:spPr>
            <a:xfrm>
              <a:off x="4495680" y="2362320"/>
              <a:ext cx="2667240" cy="914400"/>
            </a:xfrm>
            <a:prstGeom prst="cloudCallout">
              <a:avLst>
                <a:gd name="adj1" fmla="val -34287"/>
                <a:gd name="adj2" fmla="val 94097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05640" y="2514600"/>
              <a:ext cx="2136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9999"/>
                  </a:solidFill>
                  <a:latin typeface="Times New Roman"/>
                </a:rPr>
                <a:t>Je veux être schématisé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9999"/>
                  </a:solidFill>
                  <a:latin typeface="Times New Roman"/>
                </a:rPr>
                <a:t>Cliquez</a:t>
              </a:r>
              <a:r>
                <a:rPr b="0" lang="fr-FR" sz="1600" spc="-1" strike="noStrike">
                  <a:solidFill>
                    <a:srgbClr val="009999"/>
                  </a:solidFill>
                  <a:latin typeface="Times New Roman"/>
                </a:rPr>
                <a:t> encore une foi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590920" y="3416400"/>
            <a:ext cx="4495680" cy="2679480"/>
            <a:chOff x="2590920" y="3416400"/>
            <a:chExt cx="4495680" cy="2679480"/>
          </a:xfrm>
        </p:grpSpPr>
        <p:sp>
          <p:nvSpPr>
            <p:cNvPr id="134" name=""/>
            <p:cNvSpPr/>
            <p:nvPr/>
          </p:nvSpPr>
          <p:spPr>
            <a:xfrm>
              <a:off x="4648320" y="4038480"/>
              <a:ext cx="30456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90920" y="3416400"/>
              <a:ext cx="2209680" cy="622080"/>
            </a:xfrm>
            <a:custGeom>
              <a:avLst/>
              <a:gdLst/>
              <a:ahLst/>
              <a:rect l="l" t="t" r="r" b="b"/>
              <a:pathLst>
                <a:path w="1392" h="392">
                  <a:moveTo>
                    <a:pt x="1392" y="392"/>
                  </a:moveTo>
                  <a:cubicBezTo>
                    <a:pt x="1352" y="348"/>
                    <a:pt x="1312" y="304"/>
                    <a:pt x="1248" y="248"/>
                  </a:cubicBezTo>
                  <a:cubicBezTo>
                    <a:pt x="1184" y="192"/>
                    <a:pt x="1112" y="96"/>
                    <a:pt x="1008" y="56"/>
                  </a:cubicBezTo>
                  <a:cubicBezTo>
                    <a:pt x="904" y="16"/>
                    <a:pt x="744" y="0"/>
                    <a:pt x="624" y="8"/>
                  </a:cubicBezTo>
                  <a:cubicBezTo>
                    <a:pt x="504" y="16"/>
                    <a:pt x="392" y="64"/>
                    <a:pt x="288" y="104"/>
                  </a:cubicBezTo>
                  <a:cubicBezTo>
                    <a:pt x="184" y="144"/>
                    <a:pt x="48" y="224"/>
                    <a:pt x="0" y="24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52880" y="4267080"/>
              <a:ext cx="114300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95880" y="480060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5880" y="5562720"/>
              <a:ext cx="0" cy="533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95880" y="5867280"/>
              <a:ext cx="990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95880" y="4952880"/>
              <a:ext cx="990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7c80"/>
                </a:solidFill>
                <a:latin typeface="Arial Narrow"/>
              </a:rPr>
              <a:t>ETUDE DE L’EFFECTEU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3" name=""/>
          <p:cNvSpPr/>
          <p:nvPr/>
        </p:nvSpPr>
        <p:spPr>
          <a:xfrm>
            <a:off x="77724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7301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5456" y="7394"/>
                </a:lnTo>
                <a:lnTo>
                  <a:pt x="5456" y="21406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4T07:28:04Z</dcterms:created>
  <dc:creator>Utilisateur sous licence</dc:creator>
  <dc:description/>
  <dc:language>en-US</dc:language>
  <cp:lastModifiedBy>Utilisateur sous licence</cp:lastModifiedBy>
  <dcterms:modified xsi:type="dcterms:W3CDTF">2001-04-10T09:23:14Z</dcterms:modified>
  <cp:revision>11</cp:revision>
  <dc:subject/>
  <dc:title>ETUDE DE L ’ACTIONNEUR</dc:title>
</cp:coreProperties>
</file>