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222-0843-4CC6-8D5E-9D47254F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A26-9217-4E3D-94BE-1FFB03B5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D5B7-BC23-4748-B148-795B67FF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9243-0FC6-484D-B2D5-926BDC4A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7479-07D4-4939-8E33-81F7B893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4862-1B4F-404B-B189-ABBD4FAF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86DB-31F3-4BC4-92B3-6DA1367A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04DF-561E-4DEA-961E-95A6F43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EAC2-A79E-4992-A002-EFABC567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EB12-C456-4620-9888-0C8EF03C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2567-FE8A-4E90-B873-89BDE8CA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714-3939-44A7-BB0C-FE05530B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6D08-73A3-4056-8ADC-7B7C6F16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05EA-D555-49DA-B9CC-5D19410C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8B34-25D3-4BD5-B886-F80AAB6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3174-88F7-41BE-82FB-C5D7D9D1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69D6-43EB-491B-BFE2-4DB8AAAA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16F-5933-4CBD-9D78-A2A7E70D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162-3EE8-415D-A3DD-D2AF1AB9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A453-2E9B-414F-AF4B-64639B58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8C2-50E9-4CC8-9162-0E4B573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51BF-172B-4C3B-BDB3-4B9D5360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478-B4DB-46C7-A5BE-22ABBFFB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4E9-E364-4237-BBB8-E5F9052D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4742-B945-4BFD-A5CD-99BE980A9530}" type="slidenum">
              <a:rPr b="0" lang="fr-F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048E-5B4C-4DC6-BFB2-EE3EC9F1606F}" type="slidenum">
              <a:rPr b="0" lang="fr-F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1etude%20du%20distributeur.ppt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Arial Narrow"/>
              </a:rPr>
              <a:t>SECATEUR PNEUMATIQUE FELCO</a:t>
            </a:r>
            <a:br>
              <a:rPr sz="4400"/>
            </a:br>
            <a:r>
              <a:rPr b="1" lang="fr-FR" sz="2000" spc="-1" strike="noStrike">
                <a:solidFill>
                  <a:srgbClr val="336699"/>
                </a:solidFill>
                <a:latin typeface="Arial Narrow"/>
              </a:rPr>
              <a:t>Consignes générales :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934320" y="58672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5791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4000" y="1690560"/>
            <a:ext cx="72979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Vous avez à votre disposition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- 1 sécateur pneumatique dont le démontage est autorisé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- un plan d’ensemble et une nomenclature pour définir le repèrage des pièces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- un compte rendu de TP que chacun de vous compléter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3782520"/>
            <a:ext cx="82072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nseils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- soyez précis dans la rédaction du compte rendu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- des aides       vous sont proposées au cours du TP, essayez cependant de ne les utiliser qu’après un minimum de reflexion sur les questions 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724280"/>
            <a:ext cx="304560" cy="281160"/>
          </a:xfrm>
          <a:custGeom>
            <a:avLst/>
            <a:gdLst>
              <a:gd name="textAreaLeft" fmla="*/ 18000 w 304560"/>
              <a:gd name="textAreaRight" fmla="*/ 286560 w 30456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3395" h="21600">
                <a:moveTo>
                  <a:pt x="0" y="0"/>
                </a:moveTo>
                <a:lnTo>
                  <a:pt x="23395" y="0"/>
                </a:lnTo>
                <a:lnTo>
                  <a:pt x="23395" y="21600"/>
                </a:lnTo>
                <a:lnTo>
                  <a:pt x="0" y="21600"/>
                </a:lnTo>
                <a:close/>
              </a:path>
              <a:path fill="lightenLess" w="23395" h="21600">
                <a:moveTo>
                  <a:pt x="0" y="0"/>
                </a:moveTo>
                <a:lnTo>
                  <a:pt x="23395" y="0"/>
                </a:lnTo>
                <a:lnTo>
                  <a:pt x="21995" y="1400"/>
                </a:lnTo>
                <a:lnTo>
                  <a:pt x="1400" y="1400"/>
                </a:lnTo>
                <a:close/>
              </a:path>
              <a:path fill="darken" w="23395" h="21600">
                <a:moveTo>
                  <a:pt x="23395" y="0"/>
                </a:moveTo>
                <a:lnTo>
                  <a:pt x="23395" y="21600"/>
                </a:lnTo>
                <a:lnTo>
                  <a:pt x="21995" y="20200"/>
                </a:lnTo>
                <a:lnTo>
                  <a:pt x="21995" y="1400"/>
                </a:lnTo>
                <a:close/>
              </a:path>
              <a:path fill="darkenLess" w="23395" h="21600">
                <a:moveTo>
                  <a:pt x="23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5" y="20200"/>
                </a:lnTo>
                <a:close/>
              </a:path>
              <a:path fill="lighten" w="23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5" h="21600">
                <a:moveTo>
                  <a:pt x="116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95" h="21600">
                <a:moveTo>
                  <a:pt x="12803" y="14281"/>
                </a:moveTo>
                <a:lnTo>
                  <a:pt x="12803" y="12323"/>
                </a:lnTo>
                <a:cubicBezTo>
                  <a:pt x="12803" y="11496"/>
                  <a:pt x="13134" y="10800"/>
                  <a:pt x="13734" y="10800"/>
                </a:cubicBezTo>
                <a:cubicBezTo>
                  <a:pt x="14866" y="10800"/>
                  <a:pt x="15762" y="9434"/>
                  <a:pt x="15762" y="7849"/>
                </a:cubicBezTo>
                <a:cubicBezTo>
                  <a:pt x="15762" y="5534"/>
                  <a:pt x="13908" y="3794"/>
                  <a:pt x="11698" y="3794"/>
                </a:cubicBezTo>
                <a:cubicBezTo>
                  <a:pt x="9487" y="3794"/>
                  <a:pt x="7816" y="5534"/>
                  <a:pt x="7816" y="7849"/>
                </a:cubicBezTo>
                <a:lnTo>
                  <a:pt x="9670" y="7849"/>
                </a:lnTo>
                <a:cubicBezTo>
                  <a:pt x="9670" y="6709"/>
                  <a:pt x="10592" y="5821"/>
                  <a:pt x="11698" y="5821"/>
                </a:cubicBezTo>
                <a:cubicBezTo>
                  <a:pt x="12803" y="5821"/>
                  <a:pt x="13734" y="6709"/>
                  <a:pt x="13734" y="7849"/>
                </a:cubicBezTo>
                <a:cubicBezTo>
                  <a:pt x="13734" y="8589"/>
                  <a:pt x="13264" y="9320"/>
                  <a:pt x="12803" y="9320"/>
                </a:cubicBezTo>
                <a:cubicBezTo>
                  <a:pt x="11698" y="9320"/>
                  <a:pt x="10592" y="10800"/>
                  <a:pt x="10592" y="12323"/>
                </a:cubicBezTo>
                <a:lnTo>
                  <a:pt x="10592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47000" y="3543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2971800" y="4191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10800"/>
                </a:moveTo>
                <a:lnTo>
                  <a:pt x="22441" y="3794"/>
                </a:lnTo>
                <a:lnTo>
                  <a:pt x="2244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213372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7524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6699"/>
                </a:solidFill>
                <a:latin typeface="Times New Roman"/>
              </a:rPr>
              <a:t>Vous disposez à présent d ’un schéma complet du sécateu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Times New Roman"/>
              </a:rPr>
              <a:t>Si votre explication de fonctionnement a été validée par le professeur, vous pouvez passer à l ’étude de l ’étanchéité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1911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Times New Roman"/>
              </a:rPr>
              <a:t>Sinon retour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2120" y="1752480"/>
            <a:ext cx="7010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Vous pouvez à présent </a:t>
            </a:r>
            <a:br>
              <a:rPr sz="4400"/>
            </a:br>
            <a:br>
              <a:rPr sz="4400"/>
            </a:br>
            <a:r>
              <a:rPr b="1" lang="fr-FR" sz="4400" spc="-1" strike="noStrike">
                <a:solidFill>
                  <a:srgbClr val="336699"/>
                </a:solidFill>
                <a:latin typeface="Bassoon"/>
              </a:rPr>
              <a:t>passer à la partie 2 du tp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3886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1447920"/>
            <a:ext cx="609624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Déjà de l’aide mais le TP n’est pas encore commencé.</a:t>
            </a:r>
            <a:br>
              <a:rPr sz="4800"/>
            </a:br>
            <a:r>
              <a:rPr b="1" lang="fr-FR" sz="4800" spc="-1" strike="noStrike">
                <a:solidFill>
                  <a:srgbClr val="336699"/>
                </a:solidFill>
                <a:latin typeface="Bassoon"/>
              </a:rPr>
              <a:t>Essaie enco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6934320" y="58672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038480" y="19476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e par sa puissance et la possibilité d ’intégrer un  système de pulvérisation de produit cicatrisant,</a:t>
            </a:r>
            <a:r>
              <a:rPr b="1" lang="fr-FR" sz="2400" spc="-1" strike="noStrike">
                <a:solidFill>
                  <a:srgbClr val="009999"/>
                </a:solidFill>
                <a:latin typeface="Arial"/>
              </a:rPr>
              <a:t>le sécateur pneumatique FELCO 70</a:t>
            </a: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 permet de faciliter la taille en arboriculture,par rapport à un sécateur classique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Arial Narrow"/>
              </a:rPr>
              <a:t>SECATEUR PNEUMATIQUE FELCO</a:t>
            </a:r>
            <a:br>
              <a:rPr sz="4400"/>
            </a:br>
            <a:r>
              <a:rPr b="1" lang="fr-FR" sz="2000" spc="-1" strike="noStrike">
                <a:solidFill>
                  <a:srgbClr val="336699"/>
                </a:solidFill>
                <a:latin typeface="Arial Narrow"/>
              </a:rPr>
              <a:t>Mise en situation :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6934320" y="58672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5791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828800"/>
          <a:ext cx="4038480" cy="169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038480" cy="16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scie%5B1%5D" descr=""/>
          <p:cNvPicPr/>
          <p:nvPr/>
        </p:nvPicPr>
        <p:blipFill>
          <a:blip r:embed="rId3"/>
          <a:stretch/>
        </p:blipFill>
        <p:spPr>
          <a:xfrm>
            <a:off x="1676520" y="3962520"/>
            <a:ext cx="2133360" cy="157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Arial Narrow"/>
              </a:rPr>
              <a:t>SECATEUR PNEUMATIQUE FELCO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Bassoon"/>
              </a:rPr>
              <a:t>CI : ETANCHEI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e TP se décompose en trois phases 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1- explication du fonctionnement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2- utilisation d’un logiciel de choix de composant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3- exploitation d’un site internet de choix de composant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6858000" y="52578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36120"/>
            <a:ext cx="861048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2680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assoon"/>
              </a:rPr>
              <a:t>1-EXPLICATION DU fonctionnement </a:t>
            </a:r>
            <a:br>
              <a:rPr sz="36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étape 0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590560" y="3048120"/>
            <a:ext cx="114300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3048120"/>
            <a:ext cx="114300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3809880"/>
            <a:ext cx="3809880" cy="19378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vous sentez prêts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à expliquer le fonctionneme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montrer au professeu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4864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809880"/>
            <a:ext cx="3733920" cy="1905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pensez avoir besoin d’aide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lémentaire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cliqu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6095880" y="54100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03" h="21600">
                <a:moveTo>
                  <a:pt x="13107" y="14281"/>
                </a:moveTo>
                <a:lnTo>
                  <a:pt x="13107" y="12323"/>
                </a:lnTo>
                <a:cubicBezTo>
                  <a:pt x="13107" y="11496"/>
                  <a:pt x="13437" y="10800"/>
                  <a:pt x="14038" y="10800"/>
                </a:cubicBezTo>
                <a:cubicBezTo>
                  <a:pt x="15169" y="10800"/>
                  <a:pt x="16066" y="9434"/>
                  <a:pt x="16066" y="7849"/>
                </a:cubicBezTo>
                <a:cubicBezTo>
                  <a:pt x="16066" y="5534"/>
                  <a:pt x="14212" y="3794"/>
                  <a:pt x="12001" y="3794"/>
                </a:cubicBezTo>
                <a:cubicBezTo>
                  <a:pt x="9791" y="3794"/>
                  <a:pt x="8119" y="5534"/>
                  <a:pt x="8119" y="7849"/>
                </a:cubicBezTo>
                <a:lnTo>
                  <a:pt x="9973" y="7849"/>
                </a:lnTo>
                <a:cubicBezTo>
                  <a:pt x="9973" y="6709"/>
                  <a:pt x="10896" y="5821"/>
                  <a:pt x="12001" y="5821"/>
                </a:cubicBezTo>
                <a:cubicBezTo>
                  <a:pt x="13107" y="5821"/>
                  <a:pt x="14038" y="6709"/>
                  <a:pt x="14038" y="7849"/>
                </a:cubicBezTo>
                <a:cubicBezTo>
                  <a:pt x="14038" y="8589"/>
                  <a:pt x="13568" y="9320"/>
                  <a:pt x="13107" y="9320"/>
                </a:cubicBezTo>
                <a:cubicBezTo>
                  <a:pt x="12001" y="9320"/>
                  <a:pt x="10896" y="10800"/>
                  <a:pt x="10896" y="12323"/>
                </a:cubicBezTo>
                <a:lnTo>
                  <a:pt x="10896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133720"/>
            <a:ext cx="8076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Expliquez le fonctionnement du sécateur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217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ur ce travail vous pouvez démonter le sécateur et décoder le plan d’ensemble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assoon"/>
              </a:rPr>
              <a:t>1-EXPLICATION DU fonctionnement </a:t>
            </a:r>
            <a:br>
              <a:rPr sz="36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ide 1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Visualisez un fichier vidéo en cliqua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Proposez un ou plusieurs schémas annotés expliquant le fonctionnement du sécateur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657600"/>
            <a:ext cx="3429000" cy="2669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vous sentez prêts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à réaliser le schéma du fonctionnement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montrer le ou les schémas au professeu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58672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3794"/>
                </a:moveTo>
                <a:lnTo>
                  <a:pt x="20502" y="10800"/>
                </a:lnTo>
                <a:lnTo>
                  <a:pt x="6489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95480" y="2895480"/>
            <a:ext cx="106704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2920" y="1295280"/>
            <a:ext cx="784080" cy="611280"/>
          </a:xfrm>
          <a:custGeom>
            <a:avLst/>
            <a:gdLst>
              <a:gd name="textAreaLeft" fmla="*/ 39600 w 784080"/>
              <a:gd name="textAreaRight" fmla="*/ 744480 w 7840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7702" h="21600">
                <a:moveTo>
                  <a:pt x="0" y="0"/>
                </a:moveTo>
                <a:lnTo>
                  <a:pt x="27702" y="0"/>
                </a:lnTo>
                <a:lnTo>
                  <a:pt x="27702" y="21600"/>
                </a:lnTo>
                <a:lnTo>
                  <a:pt x="0" y="21600"/>
                </a:lnTo>
                <a:close/>
              </a:path>
              <a:path fill="lightenLess" w="27702" h="21600">
                <a:moveTo>
                  <a:pt x="0" y="0"/>
                </a:moveTo>
                <a:lnTo>
                  <a:pt x="27702" y="0"/>
                </a:lnTo>
                <a:lnTo>
                  <a:pt x="26302" y="1400"/>
                </a:lnTo>
                <a:lnTo>
                  <a:pt x="1400" y="1400"/>
                </a:lnTo>
                <a:close/>
              </a:path>
              <a:path fill="darken" w="27702" h="21600">
                <a:moveTo>
                  <a:pt x="27702" y="0"/>
                </a:moveTo>
                <a:lnTo>
                  <a:pt x="27702" y="21600"/>
                </a:lnTo>
                <a:lnTo>
                  <a:pt x="26302" y="20200"/>
                </a:lnTo>
                <a:lnTo>
                  <a:pt x="26302" y="1400"/>
                </a:lnTo>
                <a:close/>
              </a:path>
              <a:path fill="darkenLess" w="27702" h="21600">
                <a:moveTo>
                  <a:pt x="27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02" y="20200"/>
                </a:lnTo>
                <a:close/>
              </a:path>
              <a:path fill="lighten" w="27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02" h="21600">
                <a:moveTo>
                  <a:pt x="6845" y="7301"/>
                </a:moveTo>
                <a:lnTo>
                  <a:pt x="7759" y="7301"/>
                </a:lnTo>
                <a:lnTo>
                  <a:pt x="8142" y="7667"/>
                </a:lnTo>
                <a:lnTo>
                  <a:pt x="17350" y="7667"/>
                </a:lnTo>
                <a:lnTo>
                  <a:pt x="17907" y="8224"/>
                </a:lnTo>
                <a:lnTo>
                  <a:pt x="17907" y="8772"/>
                </a:lnTo>
                <a:lnTo>
                  <a:pt x="19752" y="8772"/>
                </a:lnTo>
                <a:lnTo>
                  <a:pt x="20118" y="8224"/>
                </a:lnTo>
                <a:lnTo>
                  <a:pt x="20858" y="8224"/>
                </a:lnTo>
                <a:lnTo>
                  <a:pt x="20858" y="13376"/>
                </a:lnTo>
                <a:lnTo>
                  <a:pt x="20118" y="13376"/>
                </a:lnTo>
                <a:lnTo>
                  <a:pt x="19752" y="12828"/>
                </a:lnTo>
                <a:lnTo>
                  <a:pt x="17907" y="12828"/>
                </a:lnTo>
                <a:lnTo>
                  <a:pt x="17907" y="14107"/>
                </a:lnTo>
                <a:lnTo>
                  <a:pt x="8324" y="14107"/>
                </a:lnTo>
                <a:lnTo>
                  <a:pt x="8324" y="9877"/>
                </a:lnTo>
                <a:lnTo>
                  <a:pt x="8142" y="9877"/>
                </a:lnTo>
                <a:lnTo>
                  <a:pt x="7759" y="10243"/>
                </a:lnTo>
                <a:lnTo>
                  <a:pt x="6845" y="10243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895480"/>
            <a:ext cx="106668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3657600"/>
            <a:ext cx="3429000" cy="17474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pensez avoir besoin d’aide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lémentaire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cliqu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172200" y="49528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03" h="21600">
                <a:moveTo>
                  <a:pt x="13107" y="14281"/>
                </a:moveTo>
                <a:lnTo>
                  <a:pt x="13107" y="12323"/>
                </a:lnTo>
                <a:cubicBezTo>
                  <a:pt x="13107" y="11496"/>
                  <a:pt x="13437" y="10800"/>
                  <a:pt x="14038" y="10800"/>
                </a:cubicBezTo>
                <a:cubicBezTo>
                  <a:pt x="15169" y="10800"/>
                  <a:pt x="16066" y="9434"/>
                  <a:pt x="16066" y="7849"/>
                </a:cubicBezTo>
                <a:cubicBezTo>
                  <a:pt x="16066" y="5534"/>
                  <a:pt x="14212" y="3794"/>
                  <a:pt x="12001" y="3794"/>
                </a:cubicBezTo>
                <a:cubicBezTo>
                  <a:pt x="9791" y="3794"/>
                  <a:pt x="8119" y="5534"/>
                  <a:pt x="8119" y="7849"/>
                </a:cubicBezTo>
                <a:lnTo>
                  <a:pt x="9973" y="7849"/>
                </a:lnTo>
                <a:cubicBezTo>
                  <a:pt x="9973" y="6709"/>
                  <a:pt x="10896" y="5821"/>
                  <a:pt x="12001" y="5821"/>
                </a:cubicBezTo>
                <a:cubicBezTo>
                  <a:pt x="13107" y="5821"/>
                  <a:pt x="14038" y="6709"/>
                  <a:pt x="14038" y="7849"/>
                </a:cubicBezTo>
                <a:cubicBezTo>
                  <a:pt x="14038" y="8589"/>
                  <a:pt x="13568" y="9320"/>
                  <a:pt x="13107" y="9320"/>
                </a:cubicBezTo>
                <a:cubicBezTo>
                  <a:pt x="12001" y="9320"/>
                  <a:pt x="10896" y="10800"/>
                  <a:pt x="10896" y="12323"/>
                </a:cubicBezTo>
                <a:lnTo>
                  <a:pt x="10896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assoon"/>
              </a:rPr>
              <a:t>1-EXPLICATION DU fonctionnement </a:t>
            </a:r>
            <a:br>
              <a:rPr sz="36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ide 2  : analyse structurelle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Le sécateur se décompose en trois principales parties</a:t>
            </a: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11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11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11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11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11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116640" indent="-116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Proposez un ou plusieurs schémas annotés expliquant le fonctionnement du sécateur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3" name="eclate" descr=""/>
          <p:cNvPicPr/>
          <p:nvPr/>
        </p:nvPicPr>
        <p:blipFill>
          <a:blip r:embed="rId1"/>
          <a:stretch/>
        </p:blipFill>
        <p:spPr>
          <a:xfrm>
            <a:off x="2533680" y="1905120"/>
            <a:ext cx="4030560" cy="2428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rot="1452000">
            <a:off x="5551560" y="3006360"/>
            <a:ext cx="1193760" cy="1776240"/>
          </a:xfrm>
          <a:prstGeom prst="ellipse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207648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ff9966"/>
                </a:solidFill>
                <a:uFillTx/>
                <a:latin typeface="Times New Roman"/>
                <a:hlinkClick r:id="rId2" action="ppaction://hlinksldjump"/>
              </a:rPr>
              <a:t>DISTRIBUTEU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233000">
            <a:off x="2533680" y="1982880"/>
            <a:ext cx="731880" cy="1522440"/>
          </a:xfrm>
          <a:prstGeom prst="ellipse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247644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ff9966"/>
                </a:solidFill>
                <a:uFillTx/>
                <a:latin typeface="Times New Roman"/>
                <a:hlinkClick r:id="rId3" action="ppaction://hlinksldjump"/>
              </a:rPr>
              <a:t>ACTIONNEU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34080" y="270504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ff9966"/>
                </a:solidFill>
                <a:uFillTx/>
                <a:latin typeface="Times New Roman"/>
                <a:hlinkClick r:id="rId4" action="ppaction://hlinksldjump"/>
              </a:rPr>
              <a:t>EFFECTEU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5412960"/>
            <a:ext cx="4343400" cy="1191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Pour une aide complémentaire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cliquez sur la partie que vous souhaitez modélis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408280"/>
            <a:ext cx="2743200" cy="1191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montrez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 le ou les schémas au professeur pui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63760" y="3022560"/>
            <a:ext cx="1130400" cy="939960"/>
          </a:xfrm>
          <a:custGeom>
            <a:avLst/>
            <a:gdLst/>
            <a:ahLst/>
            <a:rect l="l" t="t" r="r" b="b"/>
            <a:pathLst>
              <a:path w="712" h="592">
                <a:moveTo>
                  <a:pt x="152" y="16"/>
                </a:moveTo>
                <a:cubicBezTo>
                  <a:pt x="72" y="32"/>
                  <a:pt x="0" y="168"/>
                  <a:pt x="8" y="256"/>
                </a:cubicBezTo>
                <a:cubicBezTo>
                  <a:pt x="16" y="344"/>
                  <a:pt x="96" y="496"/>
                  <a:pt x="200" y="544"/>
                </a:cubicBezTo>
                <a:cubicBezTo>
                  <a:pt x="304" y="592"/>
                  <a:pt x="552" y="576"/>
                  <a:pt x="632" y="544"/>
                </a:cubicBezTo>
                <a:cubicBezTo>
                  <a:pt x="712" y="512"/>
                  <a:pt x="680" y="400"/>
                  <a:pt x="680" y="352"/>
                </a:cubicBezTo>
                <a:cubicBezTo>
                  <a:pt x="680" y="304"/>
                  <a:pt x="648" y="264"/>
                  <a:pt x="632" y="256"/>
                </a:cubicBezTo>
                <a:cubicBezTo>
                  <a:pt x="616" y="248"/>
                  <a:pt x="600" y="312"/>
                  <a:pt x="584" y="304"/>
                </a:cubicBezTo>
                <a:cubicBezTo>
                  <a:pt x="568" y="296"/>
                  <a:pt x="552" y="232"/>
                  <a:pt x="536" y="208"/>
                </a:cubicBezTo>
                <a:cubicBezTo>
                  <a:pt x="520" y="184"/>
                  <a:pt x="552" y="192"/>
                  <a:pt x="488" y="160"/>
                </a:cubicBezTo>
                <a:cubicBezTo>
                  <a:pt x="424" y="128"/>
                  <a:pt x="232" y="0"/>
                  <a:pt x="152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426800">
            <a:off x="3157560" y="2849400"/>
            <a:ext cx="2419200" cy="1024200"/>
          </a:xfrm>
          <a:prstGeom prst="ellipse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assoon"/>
              </a:rPr>
              <a:t>1-EXPLICATION DU fonctionnement </a:t>
            </a:r>
            <a:br>
              <a:rPr sz="36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ide 3 distributeur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Proposez un ou plusieurs schémas annotés expliquant le fonctionnement du distributeur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352680"/>
            <a:ext cx="3429000" cy="2669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vous sentez prêts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à réaliser le schéma du fonctionnement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montrer le schéma au professeu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2209680" y="55627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742840" y="2514600"/>
            <a:ext cx="114300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4572000"/>
            <a:ext cx="761760" cy="76212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5410080"/>
            <a:ext cx="3429000" cy="1191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pensez avoir besoin d’aide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lémentaire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562720" y="2362320"/>
            <a:ext cx="3276000" cy="2988720"/>
            <a:chOff x="5562720" y="2362320"/>
            <a:chExt cx="3276000" cy="2988720"/>
          </a:xfrm>
        </p:grpSpPr>
        <p:pic>
          <p:nvPicPr>
            <p:cNvPr id="142" name="eclate" descr=""/>
            <p:cNvPicPr/>
            <p:nvPr/>
          </p:nvPicPr>
          <p:blipFill>
            <a:blip r:embed="rId1"/>
            <a:srcRect l="0" t="0" r="66368" b="46692"/>
            <a:stretch/>
          </p:blipFill>
          <p:spPr>
            <a:xfrm>
              <a:off x="5562720" y="2362320"/>
              <a:ext cx="3047760" cy="29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476760" y="3217680"/>
              <a:ext cx="2361960" cy="2133360"/>
            </a:xfrm>
            <a:custGeom>
              <a:avLst/>
              <a:gdLst/>
              <a:ahLst/>
              <a:rect l="l" t="t" r="r" b="b"/>
              <a:pathLst>
                <a:path w="1488" h="1344">
                  <a:moveTo>
                    <a:pt x="576" y="0"/>
                  </a:moveTo>
                  <a:lnTo>
                    <a:pt x="336" y="432"/>
                  </a:lnTo>
                  <a:lnTo>
                    <a:pt x="144" y="816"/>
                  </a:lnTo>
                  <a:lnTo>
                    <a:pt x="0" y="912"/>
                  </a:lnTo>
                  <a:lnTo>
                    <a:pt x="192" y="1152"/>
                  </a:lnTo>
                  <a:lnTo>
                    <a:pt x="912" y="1344"/>
                  </a:lnTo>
                  <a:lnTo>
                    <a:pt x="1488" y="1296"/>
                  </a:lnTo>
                  <a:lnTo>
                    <a:pt x="1392" y="576"/>
                  </a:lnTo>
                  <a:lnTo>
                    <a:pt x="5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44" name="">
            <a:hlinkClick r:id="rId2"/>
          </p:cNvPr>
          <p:cNvSpPr/>
          <p:nvPr/>
        </p:nvSpPr>
        <p:spPr>
          <a:xfrm>
            <a:off x="78487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91" h="21600">
                <a:moveTo>
                  <a:pt x="13101" y="14281"/>
                </a:moveTo>
                <a:lnTo>
                  <a:pt x="13101" y="12323"/>
                </a:lnTo>
                <a:cubicBezTo>
                  <a:pt x="13101" y="11496"/>
                  <a:pt x="13432" y="10800"/>
                  <a:pt x="14032" y="10800"/>
                </a:cubicBezTo>
                <a:cubicBezTo>
                  <a:pt x="15164" y="10800"/>
                  <a:pt x="16060" y="9434"/>
                  <a:pt x="16060" y="7849"/>
                </a:cubicBezTo>
                <a:cubicBezTo>
                  <a:pt x="16060" y="5534"/>
                  <a:pt x="14206" y="3794"/>
                  <a:pt x="11996" y="3794"/>
                </a:cubicBezTo>
                <a:cubicBezTo>
                  <a:pt x="9785" y="3794"/>
                  <a:pt x="8114" y="5534"/>
                  <a:pt x="8114" y="7849"/>
                </a:cubicBezTo>
                <a:lnTo>
                  <a:pt x="9968" y="7849"/>
                </a:lnTo>
                <a:cubicBezTo>
                  <a:pt x="9968" y="6709"/>
                  <a:pt x="10890" y="5821"/>
                  <a:pt x="11996" y="5821"/>
                </a:cubicBezTo>
                <a:cubicBezTo>
                  <a:pt x="13101" y="5821"/>
                  <a:pt x="14032" y="6709"/>
                  <a:pt x="14032" y="7849"/>
                </a:cubicBezTo>
                <a:cubicBezTo>
                  <a:pt x="14032" y="8589"/>
                  <a:pt x="13562" y="9320"/>
                  <a:pt x="13101" y="9320"/>
                </a:cubicBezTo>
                <a:cubicBezTo>
                  <a:pt x="11996" y="9320"/>
                  <a:pt x="10890" y="10800"/>
                  <a:pt x="10890" y="12323"/>
                </a:cubicBezTo>
                <a:lnTo>
                  <a:pt x="10890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114800" y="2286000"/>
            <a:ext cx="4954680" cy="3747960"/>
            <a:chOff x="4114800" y="2286000"/>
            <a:chExt cx="4954680" cy="3747960"/>
          </a:xfrm>
        </p:grpSpPr>
        <p:pic>
          <p:nvPicPr>
            <p:cNvPr id="146" name="eclate" descr=""/>
            <p:cNvPicPr/>
            <p:nvPr/>
          </p:nvPicPr>
          <p:blipFill>
            <a:blip r:embed="rId1"/>
            <a:srcRect l="12763" t="18824" r="30525" b="12155"/>
            <a:stretch/>
          </p:blipFill>
          <p:spPr>
            <a:xfrm>
              <a:off x="4294080" y="2414520"/>
              <a:ext cx="4496040" cy="32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114800" y="2286000"/>
              <a:ext cx="380880" cy="1362240"/>
            </a:xfrm>
            <a:custGeom>
              <a:avLst/>
              <a:gdLst/>
              <a:ahLst/>
              <a:rect l="l" t="t" r="r" b="b"/>
              <a:pathLst>
                <a:path w="369" h="858">
                  <a:moveTo>
                    <a:pt x="67" y="0"/>
                  </a:moveTo>
                  <a:cubicBezTo>
                    <a:pt x="134" y="8"/>
                    <a:pt x="194" y="29"/>
                    <a:pt x="259" y="45"/>
                  </a:cubicBezTo>
                  <a:cubicBezTo>
                    <a:pt x="276" y="56"/>
                    <a:pt x="292" y="67"/>
                    <a:pt x="311" y="75"/>
                  </a:cubicBezTo>
                  <a:cubicBezTo>
                    <a:pt x="326" y="81"/>
                    <a:pt x="356" y="89"/>
                    <a:pt x="356" y="89"/>
                  </a:cubicBezTo>
                  <a:cubicBezTo>
                    <a:pt x="368" y="128"/>
                    <a:pt x="369" y="115"/>
                    <a:pt x="341" y="171"/>
                  </a:cubicBezTo>
                  <a:cubicBezTo>
                    <a:pt x="333" y="187"/>
                    <a:pt x="311" y="215"/>
                    <a:pt x="311" y="215"/>
                  </a:cubicBezTo>
                  <a:cubicBezTo>
                    <a:pt x="295" y="268"/>
                    <a:pt x="295" y="324"/>
                    <a:pt x="282" y="378"/>
                  </a:cubicBezTo>
                  <a:cubicBezTo>
                    <a:pt x="245" y="359"/>
                    <a:pt x="240" y="341"/>
                    <a:pt x="215" y="378"/>
                  </a:cubicBezTo>
                  <a:cubicBezTo>
                    <a:pt x="210" y="393"/>
                    <a:pt x="204" y="408"/>
                    <a:pt x="200" y="423"/>
                  </a:cubicBezTo>
                  <a:cubicBezTo>
                    <a:pt x="197" y="437"/>
                    <a:pt x="202" y="455"/>
                    <a:pt x="193" y="467"/>
                  </a:cubicBezTo>
                  <a:cubicBezTo>
                    <a:pt x="183" y="482"/>
                    <a:pt x="148" y="497"/>
                    <a:pt x="148" y="497"/>
                  </a:cubicBezTo>
                  <a:cubicBezTo>
                    <a:pt x="118" y="544"/>
                    <a:pt x="130" y="594"/>
                    <a:pt x="111" y="645"/>
                  </a:cubicBezTo>
                  <a:cubicBezTo>
                    <a:pt x="112" y="652"/>
                    <a:pt x="116" y="708"/>
                    <a:pt x="126" y="726"/>
                  </a:cubicBezTo>
                  <a:cubicBezTo>
                    <a:pt x="135" y="742"/>
                    <a:pt x="146" y="756"/>
                    <a:pt x="156" y="771"/>
                  </a:cubicBezTo>
                  <a:cubicBezTo>
                    <a:pt x="161" y="778"/>
                    <a:pt x="171" y="793"/>
                    <a:pt x="171" y="793"/>
                  </a:cubicBezTo>
                  <a:cubicBezTo>
                    <a:pt x="154" y="858"/>
                    <a:pt x="107" y="828"/>
                    <a:pt x="37" y="823"/>
                  </a:cubicBezTo>
                  <a:cubicBezTo>
                    <a:pt x="5" y="776"/>
                    <a:pt x="20" y="736"/>
                    <a:pt x="30" y="682"/>
                  </a:cubicBezTo>
                  <a:cubicBezTo>
                    <a:pt x="25" y="577"/>
                    <a:pt x="14" y="493"/>
                    <a:pt x="0" y="393"/>
                  </a:cubicBezTo>
                  <a:cubicBezTo>
                    <a:pt x="3" y="351"/>
                    <a:pt x="3" y="309"/>
                    <a:pt x="8" y="267"/>
                  </a:cubicBezTo>
                  <a:cubicBezTo>
                    <a:pt x="12" y="237"/>
                    <a:pt x="26" y="208"/>
                    <a:pt x="30" y="178"/>
                  </a:cubicBezTo>
                  <a:cubicBezTo>
                    <a:pt x="33" y="158"/>
                    <a:pt x="33" y="138"/>
                    <a:pt x="37" y="119"/>
                  </a:cubicBezTo>
                  <a:cubicBezTo>
                    <a:pt x="38" y="111"/>
                    <a:pt x="45" y="97"/>
                    <a:pt x="45" y="97"/>
                  </a:cubicBezTo>
                  <a:lnTo>
                    <a:pt x="6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60840" y="3760920"/>
              <a:ext cx="2298600" cy="1739880"/>
            </a:xfrm>
            <a:custGeom>
              <a:avLst/>
              <a:gdLst/>
              <a:ahLst/>
              <a:rect l="l" t="t" r="r" b="b"/>
              <a:pathLst>
                <a:path w="1448" h="1096">
                  <a:moveTo>
                    <a:pt x="408" y="64"/>
                  </a:moveTo>
                  <a:cubicBezTo>
                    <a:pt x="536" y="0"/>
                    <a:pt x="768" y="200"/>
                    <a:pt x="888" y="256"/>
                  </a:cubicBezTo>
                  <a:cubicBezTo>
                    <a:pt x="1008" y="312"/>
                    <a:pt x="1072" y="352"/>
                    <a:pt x="1128" y="400"/>
                  </a:cubicBezTo>
                  <a:cubicBezTo>
                    <a:pt x="1184" y="448"/>
                    <a:pt x="1192" y="528"/>
                    <a:pt x="1224" y="544"/>
                  </a:cubicBezTo>
                  <a:cubicBezTo>
                    <a:pt x="1256" y="560"/>
                    <a:pt x="1288" y="504"/>
                    <a:pt x="1320" y="496"/>
                  </a:cubicBezTo>
                  <a:cubicBezTo>
                    <a:pt x="1352" y="488"/>
                    <a:pt x="1448" y="400"/>
                    <a:pt x="1416" y="496"/>
                  </a:cubicBezTo>
                  <a:cubicBezTo>
                    <a:pt x="1384" y="592"/>
                    <a:pt x="1344" y="1048"/>
                    <a:pt x="1128" y="1072"/>
                  </a:cubicBezTo>
                  <a:cubicBezTo>
                    <a:pt x="912" y="1096"/>
                    <a:pt x="240" y="808"/>
                    <a:pt x="120" y="640"/>
                  </a:cubicBezTo>
                  <a:cubicBezTo>
                    <a:pt x="0" y="472"/>
                    <a:pt x="280" y="128"/>
                    <a:pt x="408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88320" y="3951360"/>
              <a:ext cx="1181160" cy="2082600"/>
            </a:xfrm>
            <a:custGeom>
              <a:avLst/>
              <a:gdLst/>
              <a:ahLst/>
              <a:rect l="l" t="t" r="r" b="b"/>
              <a:pathLst>
                <a:path w="744" h="1312">
                  <a:moveTo>
                    <a:pt x="568" y="136"/>
                  </a:moveTo>
                  <a:cubicBezTo>
                    <a:pt x="512" y="0"/>
                    <a:pt x="376" y="248"/>
                    <a:pt x="328" y="328"/>
                  </a:cubicBezTo>
                  <a:cubicBezTo>
                    <a:pt x="280" y="408"/>
                    <a:pt x="312" y="536"/>
                    <a:pt x="280" y="616"/>
                  </a:cubicBezTo>
                  <a:cubicBezTo>
                    <a:pt x="248" y="696"/>
                    <a:pt x="168" y="720"/>
                    <a:pt x="136" y="808"/>
                  </a:cubicBezTo>
                  <a:cubicBezTo>
                    <a:pt x="104" y="896"/>
                    <a:pt x="0" y="1088"/>
                    <a:pt x="88" y="1144"/>
                  </a:cubicBezTo>
                  <a:cubicBezTo>
                    <a:pt x="176" y="1200"/>
                    <a:pt x="584" y="1312"/>
                    <a:pt x="664" y="1144"/>
                  </a:cubicBezTo>
                  <a:cubicBezTo>
                    <a:pt x="744" y="976"/>
                    <a:pt x="624" y="272"/>
                    <a:pt x="568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assoon"/>
              </a:rPr>
              <a:t>1-EXPLICATION DU fonctionnement </a:t>
            </a:r>
            <a:br>
              <a:rPr sz="36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ide 3 actionneur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Proposez un ou plusieurs schémas annotés expliquant le fonctionnement de l ’actionneur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3429000" cy="2669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vous sentez prêts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à réaliser le schéma du fonctionnement :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montrer le ou les schémas au professeu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2209680" y="55627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3429000" cy="1191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pensez avoir besoin d’aide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lémentaire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24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03" h="21600">
                <a:moveTo>
                  <a:pt x="13107" y="14281"/>
                </a:moveTo>
                <a:lnTo>
                  <a:pt x="13107" y="12323"/>
                </a:lnTo>
                <a:cubicBezTo>
                  <a:pt x="13107" y="11496"/>
                  <a:pt x="13437" y="10800"/>
                  <a:pt x="14038" y="10800"/>
                </a:cubicBezTo>
                <a:cubicBezTo>
                  <a:pt x="15169" y="10800"/>
                  <a:pt x="16066" y="9434"/>
                  <a:pt x="16066" y="7849"/>
                </a:cubicBezTo>
                <a:cubicBezTo>
                  <a:pt x="16066" y="5534"/>
                  <a:pt x="14212" y="3794"/>
                  <a:pt x="12001" y="3794"/>
                </a:cubicBezTo>
                <a:cubicBezTo>
                  <a:pt x="9791" y="3794"/>
                  <a:pt x="8119" y="5534"/>
                  <a:pt x="8119" y="7849"/>
                </a:cubicBezTo>
                <a:lnTo>
                  <a:pt x="9973" y="7849"/>
                </a:lnTo>
                <a:cubicBezTo>
                  <a:pt x="9973" y="6709"/>
                  <a:pt x="10896" y="5821"/>
                  <a:pt x="12001" y="5821"/>
                </a:cubicBezTo>
                <a:cubicBezTo>
                  <a:pt x="13107" y="5821"/>
                  <a:pt x="14038" y="6709"/>
                  <a:pt x="14038" y="7849"/>
                </a:cubicBezTo>
                <a:cubicBezTo>
                  <a:pt x="14038" y="8589"/>
                  <a:pt x="13568" y="9320"/>
                  <a:pt x="13107" y="9320"/>
                </a:cubicBezTo>
                <a:cubicBezTo>
                  <a:pt x="12001" y="9320"/>
                  <a:pt x="10896" y="10800"/>
                  <a:pt x="10896" y="12323"/>
                </a:cubicBezTo>
                <a:lnTo>
                  <a:pt x="10896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590560" y="2590920"/>
            <a:ext cx="114300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4495680"/>
            <a:ext cx="68580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5181480" y="2286000"/>
            <a:ext cx="2703600" cy="2733840"/>
            <a:chOff x="5181480" y="2286000"/>
            <a:chExt cx="2703600" cy="2733840"/>
          </a:xfrm>
        </p:grpSpPr>
        <p:pic>
          <p:nvPicPr>
            <p:cNvPr id="159" name="eclate" descr=""/>
            <p:cNvPicPr/>
            <p:nvPr/>
          </p:nvPicPr>
          <p:blipFill>
            <a:blip r:embed="rId1"/>
            <a:srcRect l="65700" t="40785" r="0" b="0"/>
            <a:stretch/>
          </p:blipFill>
          <p:spPr>
            <a:xfrm>
              <a:off x="5257800" y="2286000"/>
              <a:ext cx="262728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5181480" y="3200400"/>
              <a:ext cx="457200" cy="914400"/>
            </a:xfrm>
            <a:custGeom>
              <a:avLst/>
              <a:gdLst/>
              <a:ahLst/>
              <a:rect l="l" t="t" r="r" b="b"/>
              <a:pathLst>
                <a:path w="288" h="576">
                  <a:moveTo>
                    <a:pt x="0" y="0"/>
                  </a:moveTo>
                  <a:lnTo>
                    <a:pt x="288" y="192"/>
                  </a:lnTo>
                  <a:lnTo>
                    <a:pt x="0" y="5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Bassoon"/>
              </a:rPr>
              <a:t>1-EXPLICATION DU fonctionnement </a:t>
            </a:r>
            <a:br>
              <a:rPr sz="3600"/>
            </a:b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ide 3 effecteur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Arial"/>
              </a:rPr>
              <a:t>Proposez un ou plusieurs schémas annotés expliquant le fonctionnement de l ’effecteur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352680"/>
            <a:ext cx="3429000" cy="2669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vous sentez prêts  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à réaliser le schéma du fonctionnement :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montrer le ou les schémas au professeu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- sui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2209680" y="55627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742840" y="2514600"/>
            <a:ext cx="1143000" cy="68580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343400"/>
            <a:ext cx="609480" cy="609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5105520"/>
            <a:ext cx="3429000" cy="1191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Vous pensez avoir besoin d’aide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omplémentaire :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57150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003" h="21600">
                <a:moveTo>
                  <a:pt x="13107" y="14281"/>
                </a:moveTo>
                <a:lnTo>
                  <a:pt x="13107" y="12323"/>
                </a:lnTo>
                <a:cubicBezTo>
                  <a:pt x="13107" y="11496"/>
                  <a:pt x="13437" y="10800"/>
                  <a:pt x="14038" y="10800"/>
                </a:cubicBezTo>
                <a:cubicBezTo>
                  <a:pt x="15169" y="10800"/>
                  <a:pt x="16066" y="9434"/>
                  <a:pt x="16066" y="7849"/>
                </a:cubicBezTo>
                <a:cubicBezTo>
                  <a:pt x="16066" y="5534"/>
                  <a:pt x="14212" y="3794"/>
                  <a:pt x="12001" y="3794"/>
                </a:cubicBezTo>
                <a:cubicBezTo>
                  <a:pt x="9791" y="3794"/>
                  <a:pt x="8119" y="5534"/>
                  <a:pt x="8119" y="7849"/>
                </a:cubicBezTo>
                <a:lnTo>
                  <a:pt x="9973" y="7849"/>
                </a:lnTo>
                <a:cubicBezTo>
                  <a:pt x="9973" y="6709"/>
                  <a:pt x="10896" y="5821"/>
                  <a:pt x="12001" y="5821"/>
                </a:cubicBezTo>
                <a:cubicBezTo>
                  <a:pt x="13107" y="5821"/>
                  <a:pt x="14038" y="6709"/>
                  <a:pt x="14038" y="7849"/>
                </a:cubicBezTo>
                <a:cubicBezTo>
                  <a:pt x="14038" y="8589"/>
                  <a:pt x="13568" y="9320"/>
                  <a:pt x="13107" y="9320"/>
                </a:cubicBezTo>
                <a:cubicBezTo>
                  <a:pt x="12001" y="9320"/>
                  <a:pt x="10896" y="10800"/>
                  <a:pt x="10896" y="12323"/>
                </a:cubicBezTo>
                <a:lnTo>
                  <a:pt x="10896" y="14281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08:10:39Z</dcterms:created>
  <dc:creator>Teyssier</dc:creator>
  <dc:description/>
  <dc:language>en-US</dc:language>
  <cp:lastModifiedBy>Teyssier</cp:lastModifiedBy>
  <dcterms:modified xsi:type="dcterms:W3CDTF">2001-05-29T22:31:19Z</dcterms:modified>
  <cp:revision>37</cp:revision>
  <dc:subject/>
  <dc:title>SECATEUR PNEUMATIQUE FELCO</dc:title>
</cp:coreProperties>
</file>