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05D-8E79-4711-A8FB-8FB48F55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1EB-A9EC-4F4C-87C9-ED69D0E8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D334-3450-4C4C-B872-E11BB3EE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AF1-48AA-459D-A687-E601DF20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FB4D-48DC-4E92-9C62-3FDCA2D4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734F-C372-4854-B200-30D5AABC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003A-74EC-46E9-BE68-506A6C9D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AB759-5E29-4FEB-9DC1-F04609D3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5604-A521-47E1-82CF-31C20760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FEC1-11CE-4932-A8FA-25399744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A742-EA26-4AE6-A866-1AD592E0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B770-F542-4535-AB88-9752E68E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5798-D8A8-45B1-BDBA-44F4FACA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AAF7-411E-4204-B733-9DC1C68D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17FA-3569-4C28-A7AD-7368804C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5BC3-4599-45DF-9496-127B8F2E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B447-A764-4A7E-AEA4-FBA73CF0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F983-5B07-4589-8047-56DDF1E0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775-7EC0-4DB9-9A47-5E077987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0B5-8A72-4936-B8FC-87380343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B24-7C34-4D89-805F-32B65829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5AB-008E-4B01-918D-6F8221C6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09B-0FEB-48C7-AE56-588EB26D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007-9F1F-4F74-924F-91E39195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4398-2998-4D1C-9118-268B9DC21093}" type="slidenum">
              <a:rPr b="0" lang="fr-F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">
            <a:hlinkClick r:id="" action="ppaction://hlinkshowjump?jump=firstslide"/>
          </p:cNvPr>
          <p:cNvSpPr/>
          <p:nvPr/>
        </p:nvSpPr>
        <p:spPr>
          <a:xfrm>
            <a:off x="6705720" y="6324480"/>
            <a:ext cx="153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999"/>
                </a:solidFill>
                <a:latin typeface="Arial"/>
              </a:rPr>
              <a:t>Passer à la première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850D-DA0A-401D-A285-F9ADCE58238D}" type="slidenum">
              <a:rPr b="0" lang="fr-F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0secateur.ppt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0secateur.ppt" TargetMode="External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hyperlink" Target="file:///0secateur.ppt" TargetMode="External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hyperlink" Target="file:///0secateur.ppt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3.ETUDE DU DISTRIBUTEU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Donnez la liste des pièces du distributeur et la fonction technique réalisé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999"/>
                </a:solidFill>
                <a:latin typeface="Arial"/>
              </a:rPr>
              <a:t>Document ressource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Eclaté du sécateur à imprimer pour réponse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Document d ’aide diagramme FAST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75438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>
            <a:hlinkClick r:id="rId1"/>
          </p:cNvPr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3657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4343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rssorr4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3174840" cy="37180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LISTE2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Relisez la liste elle est incomplèt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ssorr4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3174840" cy="3718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LISTE3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Relisez la liste elle ne correspond pas aux caractéristique d ’un ressort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Bassoon"/>
              </a:rPr>
              <a:t>Détail du distributeu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6720" y="1905120"/>
            <a:ext cx="1903680" cy="4266360"/>
            <a:chOff x="3276720" y="1905120"/>
            <a:chExt cx="1903680" cy="4266360"/>
          </a:xfrm>
        </p:grpSpPr>
        <p:grpSp>
          <p:nvGrpSpPr>
            <p:cNvPr id="185" name=""/>
            <p:cNvGrpSpPr/>
            <p:nvPr/>
          </p:nvGrpSpPr>
          <p:grpSpPr>
            <a:xfrm>
              <a:off x="3515040" y="2647080"/>
              <a:ext cx="1427040" cy="2595600"/>
              <a:chOff x="3515040" y="2647080"/>
              <a:chExt cx="1427040" cy="2595600"/>
            </a:xfrm>
          </p:grpSpPr>
          <p:sp>
            <p:nvSpPr>
              <p:cNvPr id="186" name=""/>
              <p:cNvSpPr/>
              <p:nvPr/>
            </p:nvSpPr>
            <p:spPr>
              <a:xfrm>
                <a:off x="3515040" y="2647080"/>
                <a:ext cx="1427040" cy="12981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15040" y="3945240"/>
                <a:ext cx="1427040" cy="12974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flipV="1">
              <a:off x="3515040" y="3017520"/>
              <a:ext cx="1428120" cy="556200"/>
            </a:xfrm>
            <a:prstGeom prst="line">
              <a:avLst/>
            </a:prstGeom>
            <a:ln w="158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514680" y="4316400"/>
              <a:ext cx="1428120" cy="0"/>
            </a:xfrm>
            <a:prstGeom prst="line">
              <a:avLst/>
            </a:prstGeom>
            <a:ln w="158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515040" y="2832840"/>
              <a:ext cx="474480" cy="369720"/>
              <a:chOff x="3515040" y="2832840"/>
              <a:chExt cx="474480" cy="369720"/>
            </a:xfrm>
          </p:grpSpPr>
          <p:sp>
            <p:nvSpPr>
              <p:cNvPr id="191" name=""/>
              <p:cNvSpPr/>
              <p:nvPr/>
            </p:nvSpPr>
            <p:spPr>
              <a:xfrm>
                <a:off x="3515040" y="3017160"/>
                <a:ext cx="474480" cy="0"/>
              </a:xfrm>
              <a:prstGeom prst="line">
                <a:avLst/>
              </a:prstGeom>
              <a:ln w="158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989520" y="2832840"/>
                <a:ext cx="0" cy="369720"/>
              </a:xfrm>
              <a:prstGeom prst="line">
                <a:avLst/>
              </a:prstGeom>
              <a:ln w="158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515040" y="4687200"/>
              <a:ext cx="474480" cy="370800"/>
              <a:chOff x="3515040" y="4687200"/>
              <a:chExt cx="474480" cy="370800"/>
            </a:xfrm>
          </p:grpSpPr>
          <p:sp>
            <p:nvSpPr>
              <p:cNvPr id="194" name=""/>
              <p:cNvSpPr/>
              <p:nvPr/>
            </p:nvSpPr>
            <p:spPr>
              <a:xfrm>
                <a:off x="3515040" y="4872240"/>
                <a:ext cx="474480" cy="0"/>
              </a:xfrm>
              <a:prstGeom prst="line">
                <a:avLst/>
              </a:prstGeom>
              <a:ln w="158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989520" y="4687200"/>
                <a:ext cx="0" cy="370800"/>
              </a:xfrm>
              <a:prstGeom prst="line">
                <a:avLst/>
              </a:prstGeom>
              <a:ln w="158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3990600" y="5243400"/>
              <a:ext cx="713880" cy="185760"/>
            </a:xfrm>
            <a:prstGeom prst="line">
              <a:avLst/>
            </a:prstGeom>
            <a:ln w="158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990240" y="5429160"/>
              <a:ext cx="713880" cy="185760"/>
            </a:xfrm>
            <a:prstGeom prst="line">
              <a:avLst/>
            </a:prstGeom>
            <a:ln w="158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90600" y="5614920"/>
              <a:ext cx="713880" cy="184680"/>
            </a:xfrm>
            <a:prstGeom prst="line">
              <a:avLst/>
            </a:prstGeom>
            <a:ln w="158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90240" y="5799960"/>
              <a:ext cx="713880" cy="185760"/>
            </a:xfrm>
            <a:prstGeom prst="line">
              <a:avLst/>
            </a:prstGeom>
            <a:ln w="158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90600" y="5985720"/>
              <a:ext cx="713880" cy="185760"/>
            </a:xfrm>
            <a:prstGeom prst="line">
              <a:avLst/>
            </a:prstGeom>
            <a:ln w="158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990600" y="2276280"/>
              <a:ext cx="0" cy="370440"/>
            </a:xfrm>
            <a:prstGeom prst="line">
              <a:avLst/>
            </a:prstGeom>
            <a:ln w="158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114440" y="2276280"/>
              <a:ext cx="0" cy="370440"/>
            </a:xfrm>
            <a:prstGeom prst="line">
              <a:avLst/>
            </a:prstGeom>
            <a:ln w="158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276720" y="2090520"/>
              <a:ext cx="1428120" cy="370440"/>
            </a:xfrm>
            <a:prstGeom prst="line">
              <a:avLst/>
            </a:prstGeom>
            <a:ln w="158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04840" y="1905120"/>
              <a:ext cx="475560" cy="371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257800" y="1752480"/>
            <a:ext cx="2933640" cy="914400"/>
            <a:chOff x="5257800" y="1752480"/>
            <a:chExt cx="2933640" cy="914400"/>
          </a:xfrm>
        </p:grpSpPr>
        <p:sp>
          <p:nvSpPr>
            <p:cNvPr id="206" name=""/>
            <p:cNvSpPr/>
            <p:nvPr/>
          </p:nvSpPr>
          <p:spPr>
            <a:xfrm>
              <a:off x="5257800" y="1752480"/>
              <a:ext cx="457200" cy="9144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90240" y="198108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9999"/>
                  </a:solidFill>
                  <a:latin typeface="Times New Roman"/>
                </a:rPr>
                <a:t>Schéma du Levi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257800" y="2666880"/>
            <a:ext cx="2876040" cy="1295640"/>
            <a:chOff x="5257800" y="2666880"/>
            <a:chExt cx="2876040" cy="1295640"/>
          </a:xfrm>
        </p:grpSpPr>
        <p:sp>
          <p:nvSpPr>
            <p:cNvPr id="209" name=""/>
            <p:cNvSpPr/>
            <p:nvPr/>
          </p:nvSpPr>
          <p:spPr>
            <a:xfrm>
              <a:off x="5257800" y="2666880"/>
              <a:ext cx="457200" cy="129564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89160" y="3124080"/>
              <a:ext cx="234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9999"/>
                  </a:solidFill>
                  <a:latin typeface="Times New Roman"/>
                </a:rPr>
                <a:t>Première positi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257800" y="3962520"/>
            <a:ext cx="3027600" cy="1295280"/>
            <a:chOff x="5257800" y="3962520"/>
            <a:chExt cx="3027600" cy="1295280"/>
          </a:xfrm>
        </p:grpSpPr>
        <p:sp>
          <p:nvSpPr>
            <p:cNvPr id="212" name=""/>
            <p:cNvSpPr/>
            <p:nvPr/>
          </p:nvSpPr>
          <p:spPr>
            <a:xfrm>
              <a:off x="5257800" y="3962520"/>
              <a:ext cx="457200" cy="12952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89880" y="4343400"/>
              <a:ext cx="24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9999"/>
                  </a:solidFill>
                  <a:latin typeface="Times New Roman"/>
                </a:rPr>
                <a:t>Deuxième positi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257800" y="5257800"/>
            <a:ext cx="2952360" cy="914400"/>
            <a:chOff x="5257800" y="5257800"/>
            <a:chExt cx="2952360" cy="914400"/>
          </a:xfrm>
        </p:grpSpPr>
        <p:sp>
          <p:nvSpPr>
            <p:cNvPr id="215" name=""/>
            <p:cNvSpPr/>
            <p:nvPr/>
          </p:nvSpPr>
          <p:spPr>
            <a:xfrm>
              <a:off x="5257800" y="5257800"/>
              <a:ext cx="457200" cy="9144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90600" y="5410080"/>
              <a:ext cx="24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9999"/>
                  </a:solidFill>
                  <a:latin typeface="Times New Roman"/>
                </a:rPr>
                <a:t>Schéma du ressor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50120" y="3581280"/>
            <a:ext cx="4752000" cy="1295280"/>
            <a:chOff x="150120" y="3581280"/>
            <a:chExt cx="4752000" cy="1295280"/>
          </a:xfrm>
        </p:grpSpPr>
        <p:sp>
          <p:nvSpPr>
            <p:cNvPr id="218" name=""/>
            <p:cNvSpPr/>
            <p:nvPr/>
          </p:nvSpPr>
          <p:spPr>
            <a:xfrm>
              <a:off x="2514600" y="3809880"/>
              <a:ext cx="990720" cy="533520"/>
            </a:xfrm>
            <a:custGeom>
              <a:avLst/>
              <a:gdLst/>
              <a:ahLst/>
              <a:rect l="l" t="t" r="r" b="b"/>
              <a:pathLst>
                <a:path w="616" h="288">
                  <a:moveTo>
                    <a:pt x="616" y="288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89040" y="4012920"/>
              <a:ext cx="1016280" cy="863640"/>
            </a:xfrm>
            <a:custGeom>
              <a:avLst/>
              <a:gdLst/>
              <a:ahLst/>
              <a:rect l="l" t="t" r="r" b="b"/>
              <a:pathLst>
                <a:path w="640" h="544">
                  <a:moveTo>
                    <a:pt x="0" y="0"/>
                  </a:moveTo>
                  <a:lnTo>
                    <a:pt x="640" y="54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14600" y="3657600"/>
              <a:ext cx="2387520" cy="660240"/>
            </a:xfrm>
            <a:custGeom>
              <a:avLst/>
              <a:gdLst/>
              <a:ahLst/>
              <a:rect l="l" t="t" r="r" b="b"/>
              <a:pathLst>
                <a:path w="1504" h="416">
                  <a:moveTo>
                    <a:pt x="0" y="0"/>
                  </a:moveTo>
                  <a:lnTo>
                    <a:pt x="1504" y="41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0120" y="3581280"/>
              <a:ext cx="24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9999"/>
                  </a:solidFill>
                  <a:latin typeface="Times New Roman"/>
                </a:rPr>
                <a:t>Orifice de cablag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Bassoon"/>
              </a:rPr>
              <a:t>Votre TP et maintenant achevé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fr-FR" sz="4800" spc="-1" strike="noStrike">
                <a:solidFill>
                  <a:srgbClr val="336699"/>
                </a:solidFill>
                <a:latin typeface="Bassoon"/>
              </a:rPr>
              <a:t>Bravo pour votre</a:t>
            </a:r>
            <a:r>
              <a:rPr b="1" lang="fr-FR" sz="4800" spc="-1" strike="noStrike">
                <a:solidFill>
                  <a:srgbClr val="336699"/>
                </a:solidFill>
                <a:latin typeface="Bassoon"/>
              </a:rPr>
              <a:t>	</a:t>
            </a:r>
            <a:r>
              <a:rPr b="1" lang="fr-FR" sz="4800" spc="-1" strike="noStrike">
                <a:solidFill>
                  <a:srgbClr val="336699"/>
                </a:solidFill>
                <a:latin typeface="Bassoon"/>
              </a:rPr>
              <a:t>	</a:t>
            </a:r>
            <a:r>
              <a:rPr b="1" lang="fr-FR" sz="4800" spc="-1" strike="noStrike">
                <a:solidFill>
                  <a:srgbClr val="336699"/>
                </a:solidFill>
                <a:latin typeface="Bassoon"/>
              </a:rPr>
              <a:t>	</a:t>
            </a:r>
            <a:r>
              <a:rPr b="1" lang="fr-FR" sz="4800" spc="-1" strike="noStrike">
                <a:solidFill>
                  <a:srgbClr val="336699"/>
                </a:solidFill>
                <a:latin typeface="Bassoon"/>
              </a:rPr>
              <a:t>	</a:t>
            </a:r>
            <a:r>
              <a:rPr b="1" lang="fr-FR" sz="4800" spc="-1" strike="noStrike">
                <a:solidFill>
                  <a:srgbClr val="336699"/>
                </a:solidFill>
                <a:latin typeface="Bassoon"/>
              </a:rPr>
              <a:t>	</a:t>
            </a:r>
            <a:r>
              <a:rPr b="1" lang="fr-FR" sz="4800" spc="-1" strike="noStrike">
                <a:solidFill>
                  <a:srgbClr val="336699"/>
                </a:solidFill>
                <a:latin typeface="Bassoon"/>
              </a:rPr>
              <a:t>                 persévéranc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Le distributeur peut être symbolisé par un distributeur 3/2 à commande par levier et rappel par ressort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Entourez sur le plan d ’ensemble chacun des orifices, le levier, le ressort et définissez la fonction de chacun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75438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3.ETUDE DU DISTRIBUTEU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">
            <a:hlinkClick r:id="rId1"/>
          </p:cNvPr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28800" y="1828800"/>
            <a:ext cx="609480" cy="1752120"/>
            <a:chOff x="1828800" y="1828800"/>
            <a:chExt cx="609480" cy="1752120"/>
          </a:xfrm>
        </p:grpSpPr>
        <p:grpSp>
          <p:nvGrpSpPr>
            <p:cNvPr id="99" name=""/>
            <p:cNvGrpSpPr/>
            <p:nvPr/>
          </p:nvGrpSpPr>
          <p:grpSpPr>
            <a:xfrm>
              <a:off x="1905120" y="2133360"/>
              <a:ext cx="457200" cy="1065960"/>
              <a:chOff x="1905120" y="2133360"/>
              <a:chExt cx="457200" cy="1065960"/>
            </a:xfrm>
          </p:grpSpPr>
          <p:sp>
            <p:nvSpPr>
              <p:cNvPr id="100" name=""/>
              <p:cNvSpPr/>
              <p:nvPr/>
            </p:nvSpPr>
            <p:spPr>
              <a:xfrm>
                <a:off x="1905120" y="2133360"/>
                <a:ext cx="45720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05120" y="2666520"/>
                <a:ext cx="457200" cy="532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 flipV="1">
              <a:off x="1905120" y="2285640"/>
              <a:ext cx="457200" cy="2282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905120" y="2819160"/>
              <a:ext cx="4572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905120" y="2209680"/>
              <a:ext cx="152280" cy="151920"/>
              <a:chOff x="1905120" y="2209680"/>
              <a:chExt cx="152280" cy="151920"/>
            </a:xfrm>
          </p:grpSpPr>
          <p:sp>
            <p:nvSpPr>
              <p:cNvPr id="105" name=""/>
              <p:cNvSpPr/>
              <p:nvPr/>
            </p:nvSpPr>
            <p:spPr>
              <a:xfrm>
                <a:off x="1905120" y="2285280"/>
                <a:ext cx="15228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057400" y="2209680"/>
                <a:ext cx="0" cy="15192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905120" y="2971440"/>
              <a:ext cx="152280" cy="152280"/>
              <a:chOff x="1905120" y="2971440"/>
              <a:chExt cx="152280" cy="152280"/>
            </a:xfrm>
          </p:grpSpPr>
          <p:sp>
            <p:nvSpPr>
              <p:cNvPr id="108" name=""/>
              <p:cNvSpPr/>
              <p:nvPr/>
            </p:nvSpPr>
            <p:spPr>
              <a:xfrm>
                <a:off x="1905120" y="3047400"/>
                <a:ext cx="15228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57400" y="2971440"/>
                <a:ext cx="0" cy="15228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2057400" y="3200040"/>
              <a:ext cx="228600" cy="759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057040" y="3276360"/>
              <a:ext cx="228600" cy="759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7400" y="3352680"/>
              <a:ext cx="228600" cy="756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057040" y="3428640"/>
              <a:ext cx="228600" cy="759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57400" y="3504960"/>
              <a:ext cx="228600" cy="759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057400" y="1981080"/>
              <a:ext cx="0" cy="1519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097000" y="1981080"/>
              <a:ext cx="0" cy="1519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828800" y="1904760"/>
              <a:ext cx="457200" cy="1519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2514600" y="3124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2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Parmi les choix proposés, entourez dans le compte rendu   le type du ressort 32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3270600" y="4770360"/>
            <a:ext cx="36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9966"/>
                </a:solidFill>
                <a:uFillTx/>
                <a:latin typeface="Arial"/>
                <a:hlinkClick r:id="rId2" action="ppaction://hlinksldjump"/>
              </a:rPr>
              <a:t>Type3 ressort de compressio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3920" y="6066000"/>
            <a:ext cx="46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Site d ’aide sur Internet  www.thyreau.f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4948560" y="5380200"/>
            <a:ext cx="29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9966"/>
                </a:solidFill>
                <a:uFillTx/>
                <a:latin typeface="Arial"/>
                <a:hlinkClick r:id="rId4" action="ppaction://hlinksldjump"/>
              </a:rPr>
              <a:t>Type4 ressort de tractio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1214280" y="3322800"/>
            <a:ext cx="381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9966"/>
                </a:solidFill>
                <a:uFillTx/>
                <a:latin typeface="Arial"/>
                <a:hlinkClick r:id="rId6" action="ppaction://hlinksldjump"/>
              </a:rPr>
              <a:t>Type1 ressort à action angulaire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>
            <a:hlinkClick r:id="rId7" action="ppaction://hlinksldjump"/>
          </p:cNvPr>
          <p:cNvSpPr/>
          <p:nvPr/>
        </p:nvSpPr>
        <p:spPr>
          <a:xfrm>
            <a:off x="2282760" y="4084560"/>
            <a:ext cx="28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9966"/>
                </a:solidFill>
                <a:uFillTx/>
                <a:latin typeface="Arial"/>
                <a:hlinkClick r:id="rId8" action="ppaction://hlinksldjump"/>
              </a:rPr>
              <a:t>Type2 ressort de flexio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75438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3.ETUDE DU DISTRIBUTEU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">
            <a:hlinkClick r:id="rId9" action="ppaction://hlinksldjump"/>
          </p:cNvPr>
          <p:cNvSpPr/>
          <p:nvPr/>
        </p:nvSpPr>
        <p:spPr>
          <a:xfrm>
            <a:off x="4952880" y="34290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>
            <a:hlinkClick r:id="rId10" action="ppaction://hlinksldjump"/>
          </p:cNvPr>
          <p:cNvSpPr/>
          <p:nvPr/>
        </p:nvSpPr>
        <p:spPr>
          <a:xfrm>
            <a:off x="5105520" y="4191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>
            <a:hlinkClick r:id="rId11" action="ppaction://hlinksldjump"/>
          </p:cNvPr>
          <p:cNvSpPr/>
          <p:nvPr/>
        </p:nvSpPr>
        <p:spPr>
          <a:xfrm>
            <a:off x="6781680" y="4876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>
            <a:hlinkClick r:id="rId12" action="ppaction://hlinksldjump"/>
          </p:cNvPr>
          <p:cNvSpPr/>
          <p:nvPr/>
        </p:nvSpPr>
        <p:spPr>
          <a:xfrm>
            <a:off x="7848720" y="5486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>
            <a:hlinkClick r:id="rId13"/>
          </p:cNvPr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819160" y="1676520"/>
            <a:ext cx="609588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Déterminez la liste qui comporte tous les paramètres d ’un ressort et consignez les dans le compte-rendu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982440" y="3048120"/>
            <a:ext cx="255636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Liste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Diamètre du fil.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Diamètre intérieur du ressort.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Diamètre extérieu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Longueur lib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Raideu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Nombre de spi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Longueur à bloc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3651480" y="3657600"/>
            <a:ext cx="215856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3" action="ppaction://hlinksldjump"/>
              </a:rPr>
              <a:t>Liste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Nombre de spi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Longueur lib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Raideu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Pas des spires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Longueur d ’accrochag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6242760" y="4038480"/>
            <a:ext cx="184176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Liste3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Module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Nombre de dents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Pas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Entrax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rapport de rédu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0400" y="6018120"/>
            <a:ext cx="55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Site d ’aide sur Internet  www.thyreau.f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3.ETUDE DU DISTRIBUTEUR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1" name="">
            <a:hlinkClick r:id="rId5"/>
          </p:cNvPr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1066680" y="1523880"/>
            <a:ext cx="4635720" cy="2239920"/>
            <a:chOff x="1066680" y="1523880"/>
            <a:chExt cx="4635720" cy="2239920"/>
          </a:xfrm>
        </p:grpSpPr>
        <p:pic>
          <p:nvPicPr>
            <p:cNvPr id="144" name="compression" descr=""/>
            <p:cNvPicPr/>
            <p:nvPr/>
          </p:nvPicPr>
          <p:blipFill>
            <a:blip r:embed="rId1"/>
            <a:stretch/>
          </p:blipFill>
          <p:spPr>
            <a:xfrm>
              <a:off x="1066680" y="1600200"/>
              <a:ext cx="463572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362320" y="1523880"/>
              <a:ext cx="5331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9999"/>
                  </a:solidFill>
                  <a:latin typeface="Arial"/>
                </a:rPr>
                <a:t>Charg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590200" y="1733400"/>
              <a:ext cx="533160" cy="152640"/>
            </a:xfrm>
            <a:prstGeom prst="rightArrow">
              <a:avLst>
                <a:gd name="adj1" fmla="val 50000"/>
                <a:gd name="adj2" fmla="val 87323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57400" y="173340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3300"/>
                </a:solidFill>
                <a:latin typeface="Arial"/>
              </a:rPr>
              <a:t>RESSORT DE COMPRESSION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1283760" y="42307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Bonne répons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0" name="P3564" descr=""/>
          <p:cNvPicPr/>
          <p:nvPr/>
        </p:nvPicPr>
        <p:blipFill>
          <a:blip r:embed="rId2"/>
          <a:stretch/>
        </p:blipFill>
        <p:spPr>
          <a:xfrm>
            <a:off x="3886200" y="3618000"/>
            <a:ext cx="4267080" cy="250344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3300"/>
                </a:solidFill>
                <a:latin typeface="Arial"/>
              </a:rPr>
              <a:t>RESSORT DE TRACTION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5945400" y="2209680"/>
            <a:ext cx="27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Essaie encore 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Ce n ’est pas exac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4" name="traction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4711680" cy="2200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86000" y="1905120"/>
            <a:ext cx="1143000" cy="228600"/>
          </a:xfrm>
          <a:prstGeom prst="leftRightArrow">
            <a:avLst>
              <a:gd name="adj1" fmla="val 31250"/>
              <a:gd name="adj2" fmla="val 11159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1752480"/>
            <a:ext cx="533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9999"/>
                </a:solidFill>
                <a:latin typeface="Arial"/>
              </a:rPr>
              <a:t>charge</a:t>
            </a: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7" name="P3565" descr=""/>
          <p:cNvPicPr/>
          <p:nvPr/>
        </p:nvPicPr>
        <p:blipFill>
          <a:blip r:embed="rId2"/>
          <a:stretch/>
        </p:blipFill>
        <p:spPr>
          <a:xfrm>
            <a:off x="4114800" y="3733920"/>
            <a:ext cx="4305240" cy="246852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066680" y="1523880"/>
            <a:ext cx="3753000" cy="2082960"/>
            <a:chOff x="1066680" y="1523880"/>
            <a:chExt cx="3753000" cy="2082960"/>
          </a:xfrm>
        </p:grpSpPr>
        <p:pic>
          <p:nvPicPr>
            <p:cNvPr id="160" name="Torsion" descr=""/>
            <p:cNvPicPr/>
            <p:nvPr/>
          </p:nvPicPr>
          <p:blipFill>
            <a:blip r:embed="rId1"/>
            <a:stretch/>
          </p:blipFill>
          <p:spPr>
            <a:xfrm>
              <a:off x="1066680" y="1523880"/>
              <a:ext cx="3753000" cy="20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200400" y="1778040"/>
              <a:ext cx="380880" cy="533520"/>
            </a:xfrm>
            <a:custGeom>
              <a:avLst/>
              <a:gdLst>
                <a:gd name="textAreaLeft" fmla="*/ 50760 w 380880"/>
                <a:gd name="textAreaRight" fmla="*/ 330120 w 38088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98000" y="1930320"/>
              <a:ext cx="49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9999"/>
                  </a:solidFill>
                  <a:latin typeface="Arial"/>
                </a:rPr>
                <a:t>charge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163" name="P3563" descr=""/>
          <p:cNvPicPr/>
          <p:nvPr/>
        </p:nvPicPr>
        <p:blipFill>
          <a:blip r:embed="rId2"/>
          <a:stretch/>
        </p:blipFill>
        <p:spPr>
          <a:xfrm>
            <a:off x="3505320" y="3346560"/>
            <a:ext cx="5295960" cy="314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945400" y="2209680"/>
            <a:ext cx="27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Essaie encore 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Ce n ’est pas exac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>
            <a:hlinkClick r:id="rId3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3300"/>
                </a:solidFill>
                <a:latin typeface="Arial"/>
              </a:rPr>
              <a:t>RESSORT A ACTION ANGULAIRE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3300"/>
                </a:solidFill>
                <a:latin typeface="Arial"/>
              </a:rPr>
              <a:t>RESSORT DE FLEXION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168" name="P3566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5105160" cy="2977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945400" y="2209680"/>
            <a:ext cx="27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Essaie encore 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Ce n ’est pas exac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ssorr4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3174840" cy="371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LISTE1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BONNE REPONS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4T07:28:04Z</dcterms:created>
  <dc:creator>Utilisateur sous licence</dc:creator>
  <dc:description/>
  <dc:language>en-US</dc:language>
  <cp:lastModifiedBy>Teyssier</cp:lastModifiedBy>
  <dcterms:modified xsi:type="dcterms:W3CDTF">2001-05-29T23:55:16Z</dcterms:modified>
  <cp:revision>23</cp:revision>
  <dc:subject/>
  <dc:title>ETUDE DE L ’ACTIONNEUR</dc:title>
</cp:coreProperties>
</file>