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F53-4A33-4387-A8E5-6A2F47DC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9AA-F28B-41F3-8C06-9CFCDB16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BB15-368B-47E2-934B-32114138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834-9365-4718-B996-6F617AC4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C6E5-280E-4A69-A30F-525B3F67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2B52-16B4-4231-973F-9624AC31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F8C8-4044-4F1F-ACD2-ADD758DE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C68E-F13B-402F-B63D-98C5BB9C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04C6-2C3C-4E5C-A2F6-C616100E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885C-9516-40BE-9988-9D99E2B9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C2EA-9816-4FD3-9158-D09F042D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5D1-97AA-4941-9D32-699D2598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DE92-A71F-470C-9E5D-3980373B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65C7-A6C2-4BC7-A911-E4680FFB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D10A-1F96-4EC2-84FD-423E5D00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6560-B5BF-4D50-9BEE-8F66FB76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8DD7-B55F-46BE-8F5A-7A9139C6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53F-C581-43C1-9035-91B6CAFF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C4D-CBD7-4357-B172-8DBF1CEB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62C-FA63-460B-A5D6-B2A839B6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FFE-FA0C-4E4E-92B8-DC40C21C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1B0-3970-4EC5-8C6A-5AE99354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2E4-6AAD-40B2-817D-766ACA0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5E9-6888-43D1-99EA-62917F5E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06C0-9B70-412F-A03F-798D32520726}" type="slidenum">
              <a:rPr b="0" lang="fr-F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565D-1FF4-4828-AAF5-CF4AC62CD677}" type="slidenum">
              <a:rPr b="0" lang="fr-F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TP\Documents annexes TP\joint francais\R-expert.exe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D:\TP\Documents annexes TP\joint francais\R-expert.exe" TargetMode="Externa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hyperlink" Target="D:\TP\Documents annexes TP\joint francais\R-expert.exe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assoon"/>
              </a:rPr>
              <a:t>2-ETUDE DE l’étanchéité</a:t>
            </a:r>
            <a:br>
              <a:rPr sz="3600"/>
            </a:b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3124080"/>
            <a:ext cx="6172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9133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ette étude se limitera à l’étude de </a:t>
            </a:r>
            <a:r>
              <a:rPr b="0" lang="en-US" sz="2400" spc="-1" strike="noStrike" u="sng">
                <a:solidFill>
                  <a:srgbClr val="ff9966"/>
                </a:solidFill>
                <a:uFillTx/>
                <a:latin typeface="Times New Roman"/>
                <a:hlinkClick r:id="rId1" action="ppaction://hlinksldjump"/>
              </a:rPr>
              <a:t>l’étanchéité</a:t>
            </a:r>
            <a:r>
              <a:rPr b="0" lang="en-US" sz="2400" spc="-1" strike="noStrike" u="sng">
                <a:solidFill>
                  <a:srgbClr val="ff9966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de la partie actionneu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4479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Sur le schéma complet du sécateur, identifiez par coloriage, les zones de basse pression et les zones de haute pression du </a:t>
            </a:r>
            <a:r>
              <a:rPr b="0" lang="fr-FR" sz="2400" spc="-1" strike="noStrike" u="sng">
                <a:solidFill>
                  <a:srgbClr val="ff9966"/>
                </a:solidFill>
                <a:uFillTx/>
                <a:latin typeface="Arial"/>
                <a:hlinkClick r:id="rId3" action="ppaction://hlinksldjump"/>
              </a:rPr>
              <a:t>fluide</a:t>
            </a: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666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Indiquez les repères les élèments assurant l ’étanchéité entre ces zone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343400"/>
            <a:ext cx="3810240" cy="2113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connaissez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e nom de l’élément assurant l’étanchéité : consignez dans le compte rendu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</a:t>
            </a:r>
            <a:r>
              <a:rPr b="0" lang="en-US" sz="9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886200"/>
            <a:ext cx="609480" cy="3808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58128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4343400"/>
            <a:ext cx="3809880" cy="2025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ne connaissez pas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e nom de l’élément assurant l’étanchéité.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6781680" y="54864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03" h="21600">
                <a:moveTo>
                  <a:pt x="13107" y="14281"/>
                </a:moveTo>
                <a:lnTo>
                  <a:pt x="13107" y="12323"/>
                </a:lnTo>
                <a:cubicBezTo>
                  <a:pt x="13107" y="11496"/>
                  <a:pt x="13437" y="10800"/>
                  <a:pt x="14038" y="10800"/>
                </a:cubicBezTo>
                <a:cubicBezTo>
                  <a:pt x="15169" y="10800"/>
                  <a:pt x="16066" y="9434"/>
                  <a:pt x="16066" y="7849"/>
                </a:cubicBezTo>
                <a:cubicBezTo>
                  <a:pt x="16066" y="5534"/>
                  <a:pt x="14212" y="3794"/>
                  <a:pt x="12001" y="3794"/>
                </a:cubicBezTo>
                <a:cubicBezTo>
                  <a:pt x="9791" y="3794"/>
                  <a:pt x="8119" y="5534"/>
                  <a:pt x="8119" y="7849"/>
                </a:cubicBezTo>
                <a:lnTo>
                  <a:pt x="9973" y="7849"/>
                </a:lnTo>
                <a:cubicBezTo>
                  <a:pt x="9973" y="6709"/>
                  <a:pt x="10896" y="5821"/>
                  <a:pt x="12001" y="5821"/>
                </a:cubicBezTo>
                <a:cubicBezTo>
                  <a:pt x="13107" y="5821"/>
                  <a:pt x="14038" y="6709"/>
                  <a:pt x="14038" y="7849"/>
                </a:cubicBezTo>
                <a:cubicBezTo>
                  <a:pt x="14038" y="8589"/>
                  <a:pt x="13568" y="9320"/>
                  <a:pt x="13107" y="9320"/>
                </a:cubicBezTo>
                <a:cubicBezTo>
                  <a:pt x="12001" y="9320"/>
                  <a:pt x="10896" y="10800"/>
                  <a:pt x="10896" y="12323"/>
                </a:cubicBezTo>
                <a:lnTo>
                  <a:pt x="10896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3886200"/>
            <a:ext cx="609480" cy="3808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61760" y="3886200"/>
            <a:ext cx="388620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>
            <a:hlinkClick r:id="rId5" action="ppaction://hlinksldjump"/>
          </p:cNvPr>
          <p:cNvSpPr/>
          <p:nvPr/>
        </p:nvSpPr>
        <p:spPr>
          <a:xfrm>
            <a:off x="190512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Étanchéité </a:t>
            </a:r>
            <a:br>
              <a:rPr sz="44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u point de vue mécanique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On parle d ’étanchéité statique entre deux piéces lorsqu ’elles n ’ont aucun mouvement relatif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160020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336699"/>
                </a:solidFill>
                <a:uFillTx/>
                <a:latin typeface="Bassoon"/>
              </a:rPr>
              <a:t>Étanchéité  statique</a:t>
            </a:r>
            <a:br>
              <a:rPr sz="4400"/>
            </a:b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3687480"/>
            <a:ext cx="6096240" cy="6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336699"/>
                </a:solidFill>
                <a:uFillTx/>
                <a:latin typeface="Bassoon"/>
              </a:rPr>
              <a:t>Étanchéité  dynamique</a:t>
            </a:r>
            <a:br>
              <a:rPr sz="2000"/>
            </a:b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41911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On parle d ’étanchéité dynamique entre deux piéces lorsqu ’elles ont un mouvement relatif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3794" y="14383"/>
                </a:moveTo>
                <a:lnTo>
                  <a:pt x="17806" y="7377"/>
                </a:lnTo>
                <a:lnTo>
                  <a:pt x="17806" y="2139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5486400"/>
            <a:ext cx="8610480" cy="1191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onsignez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dans le compte les critères de selection d’un joint qu’il a fallut mentionner pour obtenir le bilan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</a:t>
            </a:r>
            <a:r>
              <a:rPr b="0" lang="en-US" sz="9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514600" y="1752480"/>
            <a:ext cx="3504960" cy="3352680"/>
            <a:chOff x="2514600" y="1752480"/>
            <a:chExt cx="3504960" cy="3352680"/>
          </a:xfrm>
        </p:grpSpPr>
        <p:pic>
          <p:nvPicPr>
            <p:cNvPr id="186" name="page%20paulstra" descr=""/>
            <p:cNvPicPr/>
            <p:nvPr/>
          </p:nvPicPr>
          <p:blipFill>
            <a:blip r:embed="rId1"/>
            <a:stretch/>
          </p:blipFill>
          <p:spPr>
            <a:xfrm>
              <a:off x="2514600" y="1752480"/>
              <a:ext cx="35049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03600" y="2025720"/>
              <a:ext cx="1800000" cy="182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Pour obtenir les références des joints ,vous allez accéder au catalogue « le joint français » de Paulstra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3724560"/>
            <a:ext cx="2708280" cy="1983960"/>
          </a:xfrm>
          <a:prstGeom prst="rightArrow">
            <a:avLst>
              <a:gd name="adj1" fmla="val 78454"/>
              <a:gd name="adj2" fmla="val 35429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-N’oubliez pas de quitter après avoir imprimer le bilan proposé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399200">
            <a:off x="151560" y="2506320"/>
            <a:ext cx="2971800" cy="1051560"/>
          </a:xfrm>
          <a:prstGeom prst="rightArrow">
            <a:avLst>
              <a:gd name="adj1" fmla="val 78454"/>
              <a:gd name="adj2" fmla="val 7334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1-Informations recherché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48758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llons-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315200" y="4952880"/>
            <a:ext cx="304920" cy="1526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095880" y="1676520"/>
            <a:ext cx="2638080" cy="1752480"/>
            <a:chOff x="6095880" y="1676520"/>
            <a:chExt cx="2638080" cy="1752480"/>
          </a:xfrm>
        </p:grpSpPr>
        <p:sp>
          <p:nvSpPr>
            <p:cNvPr id="194" name=""/>
            <p:cNvSpPr/>
            <p:nvPr/>
          </p:nvSpPr>
          <p:spPr>
            <a:xfrm>
              <a:off x="7315200" y="1676520"/>
              <a:ext cx="228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43800" y="1676520"/>
              <a:ext cx="0" cy="9144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94840" y="2589480"/>
              <a:ext cx="2139120" cy="4597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Fenêtre obten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3048120"/>
              <a:ext cx="0" cy="3808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095880" y="3429000"/>
              <a:ext cx="14479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6960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04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2-Étanchéité </a:t>
            </a:r>
            <a:br>
              <a:rPr sz="4400"/>
            </a:br>
            <a:r>
              <a:rPr b="1" lang="fr-FR" sz="1800" spc="-1" strike="noStrike">
                <a:solidFill>
                  <a:srgbClr val="336699"/>
                </a:solidFill>
                <a:latin typeface="Bassoon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étermination de la référence des joints toriques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>
            <a:hlinkClick r:id="rId2"/>
          </p:cNvPr>
          <p:cNvSpPr/>
          <p:nvPr/>
        </p:nvSpPr>
        <p:spPr>
          <a:xfrm>
            <a:off x="7696080" y="4572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499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003">
                <a:moveTo>
                  <a:pt x="10800" y="536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003">
                <a:moveTo>
                  <a:pt x="8224" y="9425"/>
                </a:moveTo>
                <a:lnTo>
                  <a:pt x="12088" y="9425"/>
                </a:lnTo>
                <a:lnTo>
                  <a:pt x="12088" y="16423"/>
                </a:lnTo>
                <a:lnTo>
                  <a:pt x="13376" y="16423"/>
                </a:lnTo>
                <a:lnTo>
                  <a:pt x="13376" y="17345"/>
                </a:lnTo>
                <a:lnTo>
                  <a:pt x="8224" y="17345"/>
                </a:lnTo>
                <a:lnTo>
                  <a:pt x="8224" y="16423"/>
                </a:lnTo>
                <a:lnTo>
                  <a:pt x="9512" y="16423"/>
                </a:lnTo>
                <a:lnTo>
                  <a:pt x="9512" y="10330"/>
                </a:lnTo>
                <a:lnTo>
                  <a:pt x="8224" y="1033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1752480"/>
            <a:ext cx="70102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Vous pouvez à présent </a:t>
            </a:r>
            <a:br>
              <a:rPr sz="4400"/>
            </a:br>
            <a:br>
              <a:rPr sz="4400"/>
            </a:b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passer à la partie 3 du tp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3733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Fluide</a:t>
            </a:r>
            <a:br>
              <a:rPr sz="4400"/>
            </a:br>
            <a:r>
              <a:rPr b="1" lang="fr-FR" sz="1800" spc="-1" strike="noStrike">
                <a:solidFill>
                  <a:srgbClr val="336699"/>
                </a:solidFill>
                <a:latin typeface="Bassoon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éfinition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On appelle fluide, tout élément qui prend la forme du récipient qui le contient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</a:rPr>
              <a:t>3 états sont possible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Gazeux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critère de valeur: pression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Liquide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critère de valeur: pression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SzPct val="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Solide </a:t>
            </a:r>
            <a:r>
              <a:rPr b="0" lang="fr-FR" sz="2000" spc="-1" strike="noStrike">
                <a:solidFill>
                  <a:srgbClr val="009999"/>
                </a:solidFill>
                <a:latin typeface="Arial"/>
              </a:rPr>
              <a:t>critère de valeur: densité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étanchéité</a:t>
            </a:r>
            <a:br>
              <a:rPr sz="4400"/>
            </a:br>
            <a:r>
              <a:rPr b="1" lang="fr-FR" sz="1800" spc="-1" strike="noStrike">
                <a:solidFill>
                  <a:srgbClr val="336699"/>
                </a:solidFill>
                <a:latin typeface="Bassoon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éfinition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Caractère de ce qui est étanch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895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étanche</a:t>
            </a:r>
            <a:br>
              <a:rPr sz="4400"/>
            </a:br>
            <a:r>
              <a:rPr b="1" lang="fr-FR" sz="1800" spc="-1" strike="noStrike">
                <a:solidFill>
                  <a:srgbClr val="336699"/>
                </a:solidFill>
                <a:latin typeface="Bassoon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éfinition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191120"/>
            <a:ext cx="769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Qui ne laisse pas passer les fluides, ne fuit pa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5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39440" y="59806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Sources : Le Rober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2-Élément d’étanchéité</a:t>
            </a:r>
            <a:br>
              <a:rPr sz="4400"/>
            </a:br>
            <a:r>
              <a:rPr b="1" lang="fr-FR" sz="1600" spc="-1" strike="noStrike">
                <a:solidFill>
                  <a:srgbClr val="336699"/>
                </a:solidFill>
                <a:latin typeface="Bassoon"/>
              </a:rPr>
              <a:t> aide :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élément d’étanchéité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562720"/>
            <a:ext cx="7315200" cy="8254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onsignez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le nom de l’élément assurant l’étanchéité dans le compte rendu.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</a:t>
            </a:r>
            <a:r>
              <a:rPr b="0" lang="en-US" sz="9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14600" y="1752480"/>
            <a:ext cx="3504960" cy="3352680"/>
            <a:chOff x="2514600" y="1752480"/>
            <a:chExt cx="3504960" cy="3352680"/>
          </a:xfrm>
        </p:grpSpPr>
        <p:pic>
          <p:nvPicPr>
            <p:cNvPr id="109" name="page%20paulstra" descr=""/>
            <p:cNvPicPr/>
            <p:nvPr/>
          </p:nvPicPr>
          <p:blipFill>
            <a:blip r:embed="rId1"/>
            <a:stretch/>
          </p:blipFill>
          <p:spPr>
            <a:xfrm>
              <a:off x="2514600" y="1752480"/>
              <a:ext cx="35049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2703600" y="2025720"/>
              <a:ext cx="1800000" cy="182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1" name="">
            <a:hlinkClick r:id="rId2"/>
          </p:cNvPr>
          <p:cNvSpPr/>
          <p:nvPr/>
        </p:nvSpPr>
        <p:spPr>
          <a:xfrm>
            <a:off x="7696080" y="4572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10800" y="499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003">
                <a:moveTo>
                  <a:pt x="10800" y="536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003">
                <a:moveTo>
                  <a:pt x="8224" y="9425"/>
                </a:moveTo>
                <a:lnTo>
                  <a:pt x="12088" y="9425"/>
                </a:lnTo>
                <a:lnTo>
                  <a:pt x="12088" y="16423"/>
                </a:lnTo>
                <a:lnTo>
                  <a:pt x="13376" y="16423"/>
                </a:lnTo>
                <a:lnTo>
                  <a:pt x="13376" y="17345"/>
                </a:lnTo>
                <a:lnTo>
                  <a:pt x="8224" y="17345"/>
                </a:lnTo>
                <a:lnTo>
                  <a:pt x="8224" y="16423"/>
                </a:lnTo>
                <a:lnTo>
                  <a:pt x="9512" y="16423"/>
                </a:lnTo>
                <a:lnTo>
                  <a:pt x="9512" y="10330"/>
                </a:lnTo>
                <a:lnTo>
                  <a:pt x="8224" y="1033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Pour des informations sur l ’élément d ’étanchéité,vous allez accéder à la présentation  « le joint français » de Paulstra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182840"/>
            <a:ext cx="2708280" cy="1051560"/>
          </a:xfrm>
          <a:prstGeom prst="rightArrow">
            <a:avLst>
              <a:gd name="adj1" fmla="val 78454"/>
              <a:gd name="adj2" fmla="val 66843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-N’oubliez pas de quit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734920"/>
            <a:ext cx="2708280" cy="1051560"/>
          </a:xfrm>
          <a:prstGeom prst="rightArrow">
            <a:avLst>
              <a:gd name="adj1" fmla="val 78454"/>
              <a:gd name="adj2" fmla="val 66843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1-Informations recherché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8758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llons-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315200" y="4952880"/>
            <a:ext cx="304920" cy="1526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638680" y="1600200"/>
            <a:ext cx="2866680" cy="1600200"/>
            <a:chOff x="5638680" y="1600200"/>
            <a:chExt cx="2866680" cy="1600200"/>
          </a:xfrm>
        </p:grpSpPr>
        <p:sp>
          <p:nvSpPr>
            <p:cNvPr id="118" name=""/>
            <p:cNvSpPr/>
            <p:nvPr/>
          </p:nvSpPr>
          <p:spPr>
            <a:xfrm>
              <a:off x="5638680" y="1600200"/>
              <a:ext cx="16765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15200" y="1600200"/>
              <a:ext cx="0" cy="7621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66240" y="2360880"/>
              <a:ext cx="2139120" cy="4597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Fenêtre obten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5200" y="2819520"/>
              <a:ext cx="0" cy="3808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095520" y="3200400"/>
              <a:ext cx="12193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7315200" y="6019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2-Étanchéité </a:t>
            </a:r>
            <a:br>
              <a:rPr sz="44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rincipe du joint torique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581280"/>
            <a:ext cx="3809880" cy="2303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vous sentez capable d’expliquer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nsignez dans le compte rendu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</a:t>
            </a:r>
            <a:r>
              <a:rPr b="0" lang="en-US" sz="9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Expliquez le principe de fonctionnement de l ’étanchéité par joint torique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438280" y="2209680"/>
            <a:ext cx="457200" cy="13716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209680"/>
            <a:ext cx="1600200" cy="12956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3581280"/>
            <a:ext cx="3809880" cy="2215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avez besoin d’une aid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6629400" y="46483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03" h="21600">
                <a:moveTo>
                  <a:pt x="13107" y="14281"/>
                </a:moveTo>
                <a:lnTo>
                  <a:pt x="13107" y="12323"/>
                </a:lnTo>
                <a:cubicBezTo>
                  <a:pt x="13107" y="11496"/>
                  <a:pt x="13437" y="10800"/>
                  <a:pt x="14038" y="10800"/>
                </a:cubicBezTo>
                <a:cubicBezTo>
                  <a:pt x="15169" y="10800"/>
                  <a:pt x="16066" y="9434"/>
                  <a:pt x="16066" y="7849"/>
                </a:cubicBezTo>
                <a:cubicBezTo>
                  <a:pt x="16066" y="5534"/>
                  <a:pt x="14212" y="3794"/>
                  <a:pt x="12001" y="3794"/>
                </a:cubicBezTo>
                <a:cubicBezTo>
                  <a:pt x="9791" y="3794"/>
                  <a:pt x="8119" y="5534"/>
                  <a:pt x="8119" y="7849"/>
                </a:cubicBezTo>
                <a:lnTo>
                  <a:pt x="9973" y="7849"/>
                </a:lnTo>
                <a:cubicBezTo>
                  <a:pt x="9973" y="6709"/>
                  <a:pt x="10896" y="5821"/>
                  <a:pt x="12001" y="5821"/>
                </a:cubicBezTo>
                <a:cubicBezTo>
                  <a:pt x="13107" y="5821"/>
                  <a:pt x="14038" y="6709"/>
                  <a:pt x="14038" y="7849"/>
                </a:cubicBezTo>
                <a:cubicBezTo>
                  <a:pt x="14038" y="8589"/>
                  <a:pt x="13568" y="9320"/>
                  <a:pt x="13107" y="9320"/>
                </a:cubicBezTo>
                <a:cubicBezTo>
                  <a:pt x="12001" y="9320"/>
                  <a:pt x="10896" y="10800"/>
                  <a:pt x="10896" y="12323"/>
                </a:cubicBezTo>
                <a:lnTo>
                  <a:pt x="10896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1828800" y="51814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6"/>
                </a:lnTo>
                <a:lnTo>
                  <a:pt x="3794" y="17813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2-Élément d’étanchéité</a:t>
            </a:r>
            <a:br>
              <a:rPr sz="4400"/>
            </a:br>
            <a:r>
              <a:rPr b="1" lang="fr-FR" sz="1600" spc="-1" strike="noStrike">
                <a:solidFill>
                  <a:srgbClr val="336699"/>
                </a:solidFill>
                <a:latin typeface="Bassoon"/>
              </a:rPr>
              <a:t> aide :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principe du joint torique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5486400"/>
            <a:ext cx="8610480" cy="1191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Consignez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dans le compte rendu le principe et l’implication sur la dimension de la gorge recevant le joint.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</a:t>
            </a:r>
            <a:r>
              <a:rPr b="0" lang="en-US" sz="9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514600" y="1752480"/>
            <a:ext cx="3504960" cy="3352680"/>
            <a:chOff x="2514600" y="1752480"/>
            <a:chExt cx="3504960" cy="3352680"/>
          </a:xfrm>
        </p:grpSpPr>
        <p:pic>
          <p:nvPicPr>
            <p:cNvPr id="136" name="page%20paulstra" descr=""/>
            <p:cNvPicPr/>
            <p:nvPr/>
          </p:nvPicPr>
          <p:blipFill>
            <a:blip r:embed="rId1"/>
            <a:stretch/>
          </p:blipFill>
          <p:spPr>
            <a:xfrm>
              <a:off x="2514600" y="1752480"/>
              <a:ext cx="350496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703600" y="2025720"/>
              <a:ext cx="1800000" cy="1821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Arial"/>
              </a:rPr>
              <a:t>Pour des informations sur le principe d ’étanchéité par joint torique ,vous allez accéder au catalogue technique « le joint français » de Paulstra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11440"/>
            <a:ext cx="2708280" cy="1051560"/>
          </a:xfrm>
          <a:prstGeom prst="rightArrow">
            <a:avLst>
              <a:gd name="adj1" fmla="val 78454"/>
              <a:gd name="adj2" fmla="val 66843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2-N’oubliez pas de quit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649320"/>
            <a:ext cx="2708280" cy="1051560"/>
          </a:xfrm>
          <a:prstGeom prst="rightArrow">
            <a:avLst>
              <a:gd name="adj1" fmla="val 78454"/>
              <a:gd name="adj2" fmla="val 66843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1-Informations recherchée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8758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llons-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315200" y="4952880"/>
            <a:ext cx="304920" cy="1526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095880" y="1676520"/>
            <a:ext cx="2638080" cy="1752480"/>
            <a:chOff x="6095880" y="1676520"/>
            <a:chExt cx="2638080" cy="1752480"/>
          </a:xfrm>
        </p:grpSpPr>
        <p:sp>
          <p:nvSpPr>
            <p:cNvPr id="144" name=""/>
            <p:cNvSpPr/>
            <p:nvPr/>
          </p:nvSpPr>
          <p:spPr>
            <a:xfrm>
              <a:off x="7315200" y="1676520"/>
              <a:ext cx="2286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1676520"/>
              <a:ext cx="0" cy="9144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94840" y="2589480"/>
              <a:ext cx="2139120" cy="4597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Fenêtre obten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3048120"/>
              <a:ext cx="0" cy="3808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095880" y="3429000"/>
              <a:ext cx="14479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76960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>
            <a:hlinkClick r:id="rId3"/>
          </p:cNvPr>
          <p:cNvSpPr/>
          <p:nvPr/>
        </p:nvSpPr>
        <p:spPr>
          <a:xfrm>
            <a:off x="7696080" y="4648320"/>
            <a:ext cx="685800" cy="7617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1760"/>
              <a:gd name="textAreaBottom" fmla="*/ 717480 h 761760"/>
            </a:gdLst>
            <a:ahLst/>
            <a:rect l="textAreaLeft" t="textAreaTop" r="textAreaRight" b="textAreaBottom"/>
            <a:pathLst>
              <a:path w="21600" h="23991">
                <a:moveTo>
                  <a:pt x="0" y="0"/>
                </a:moveTo>
                <a:lnTo>
                  <a:pt x="21600" y="0"/>
                </a:lnTo>
                <a:lnTo>
                  <a:pt x="21600" y="23991"/>
                </a:lnTo>
                <a:lnTo>
                  <a:pt x="0" y="23991"/>
                </a:lnTo>
                <a:close/>
              </a:path>
              <a:path fill="lightenLess" w="21600" h="23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1">
                <a:moveTo>
                  <a:pt x="21600" y="0"/>
                </a:moveTo>
                <a:lnTo>
                  <a:pt x="21600" y="23991"/>
                </a:lnTo>
                <a:lnTo>
                  <a:pt x="20200" y="22591"/>
                </a:lnTo>
                <a:lnTo>
                  <a:pt x="20200" y="1400"/>
                </a:lnTo>
                <a:close/>
              </a:path>
              <a:path fill="darkenLess" w="21600" h="23991">
                <a:moveTo>
                  <a:pt x="21600" y="23991"/>
                </a:moveTo>
                <a:lnTo>
                  <a:pt x="0" y="23991"/>
                </a:lnTo>
                <a:lnTo>
                  <a:pt x="1400" y="22591"/>
                </a:lnTo>
                <a:lnTo>
                  <a:pt x="20200" y="22591"/>
                </a:lnTo>
                <a:close/>
              </a:path>
              <a:path fill="lighten" w="21600" h="23991">
                <a:moveTo>
                  <a:pt x="0" y="23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1"/>
                </a:lnTo>
                <a:close/>
              </a:path>
              <a:path fill="darken" w="21600" h="23991">
                <a:moveTo>
                  <a:pt x="10800" y="498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991">
                <a:moveTo>
                  <a:pt x="10800" y="536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991">
                <a:moveTo>
                  <a:pt x="8224" y="9419"/>
                </a:moveTo>
                <a:lnTo>
                  <a:pt x="12088" y="9419"/>
                </a:lnTo>
                <a:lnTo>
                  <a:pt x="12088" y="16417"/>
                </a:lnTo>
                <a:lnTo>
                  <a:pt x="13376" y="16417"/>
                </a:lnTo>
                <a:lnTo>
                  <a:pt x="13376" y="17340"/>
                </a:lnTo>
                <a:lnTo>
                  <a:pt x="8224" y="17340"/>
                </a:lnTo>
                <a:lnTo>
                  <a:pt x="8224" y="16417"/>
                </a:lnTo>
                <a:lnTo>
                  <a:pt x="9512" y="16417"/>
                </a:lnTo>
                <a:lnTo>
                  <a:pt x="9512" y="10324"/>
                </a:lnTo>
                <a:lnTo>
                  <a:pt x="8224" y="10324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2-Étanchéité </a:t>
            </a:r>
            <a:br>
              <a:rPr sz="4400"/>
            </a:br>
            <a:r>
              <a:rPr b="1" lang="fr-FR" sz="1800" spc="-1" strike="noStrike">
                <a:solidFill>
                  <a:srgbClr val="336699"/>
                </a:solidFill>
                <a:latin typeface="Bassoon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étermination de la référence des joints toriques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Indiquer pour chaque joint le type d ’étanchéité dont il s ’agit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293840"/>
            <a:ext cx="83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ette étude à pour but de déterminer les références des joints de la </a:t>
            </a:r>
            <a:r>
              <a:rPr b="0" lang="en-US" sz="2400" spc="-1" strike="noStrike" u="sng">
                <a:solidFill>
                  <a:srgbClr val="ff9966"/>
                </a:solidFill>
                <a:uFillTx/>
                <a:latin typeface="Times New Roman"/>
                <a:hlinkClick r:id="rId1" action="ppaction://hlinksldjump"/>
              </a:rPr>
              <a:t>cloison</a:t>
            </a:r>
            <a:r>
              <a:rPr b="0" lang="en-US" sz="2400" spc="-1" strike="noStrike" u="sng">
                <a:solidFill>
                  <a:srgbClr val="ff9966"/>
                </a:solidFill>
                <a:uFillTx/>
                <a:latin typeface="Times New Roman"/>
                <a:hlinkClick r:id="rId2" action="ppaction://hlinksldjump"/>
              </a:rPr>
              <a:t> 6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et du </a:t>
            </a:r>
            <a:r>
              <a:rPr b="0" lang="en-US" sz="2400" spc="-1" strike="noStrike" u="sng">
                <a:solidFill>
                  <a:srgbClr val="ff9966"/>
                </a:solidFill>
                <a:uFillTx/>
                <a:latin typeface="Times New Roman"/>
                <a:hlinkClick r:id="rId3" action="ppaction://hlinksldjump"/>
              </a:rPr>
              <a:t>piston 20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343400"/>
            <a:ext cx="3810240" cy="2113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connaissez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es différents types d’étanchéité : consignez dans le compte rendu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</a:t>
            </a:r>
            <a:r>
              <a:rPr b="0" lang="en-US" sz="9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343400"/>
            <a:ext cx="3809880" cy="2133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ne connaissez pas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les différents types d’étanchéité 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uis consignez dans le compte rendu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>
            <a:hlinkClick r:id="rId4" action="ppaction://hlinksldjump"/>
          </p:cNvPr>
          <p:cNvSpPr/>
          <p:nvPr/>
        </p:nvSpPr>
        <p:spPr>
          <a:xfrm>
            <a:off x="4724280" y="51814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03" h="21600">
                <a:moveTo>
                  <a:pt x="13107" y="14281"/>
                </a:moveTo>
                <a:lnTo>
                  <a:pt x="13107" y="12323"/>
                </a:lnTo>
                <a:cubicBezTo>
                  <a:pt x="13107" y="11496"/>
                  <a:pt x="13437" y="10800"/>
                  <a:pt x="14038" y="10800"/>
                </a:cubicBezTo>
                <a:cubicBezTo>
                  <a:pt x="15169" y="10800"/>
                  <a:pt x="16066" y="9434"/>
                  <a:pt x="16066" y="7849"/>
                </a:cubicBezTo>
                <a:cubicBezTo>
                  <a:pt x="16066" y="5534"/>
                  <a:pt x="14212" y="3794"/>
                  <a:pt x="12001" y="3794"/>
                </a:cubicBezTo>
                <a:cubicBezTo>
                  <a:pt x="9791" y="3794"/>
                  <a:pt x="8119" y="5534"/>
                  <a:pt x="8119" y="7849"/>
                </a:cubicBezTo>
                <a:lnTo>
                  <a:pt x="9973" y="7849"/>
                </a:lnTo>
                <a:cubicBezTo>
                  <a:pt x="9973" y="6709"/>
                  <a:pt x="10896" y="5821"/>
                  <a:pt x="12001" y="5821"/>
                </a:cubicBezTo>
                <a:cubicBezTo>
                  <a:pt x="13107" y="5821"/>
                  <a:pt x="14038" y="6709"/>
                  <a:pt x="14038" y="7849"/>
                </a:cubicBezTo>
                <a:cubicBezTo>
                  <a:pt x="14038" y="8589"/>
                  <a:pt x="13568" y="9320"/>
                  <a:pt x="13107" y="9320"/>
                </a:cubicBezTo>
                <a:cubicBezTo>
                  <a:pt x="12001" y="9320"/>
                  <a:pt x="10896" y="10800"/>
                  <a:pt x="10896" y="12323"/>
                </a:cubicBezTo>
                <a:lnTo>
                  <a:pt x="10896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3200400"/>
            <a:ext cx="533160" cy="10666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3124080"/>
            <a:ext cx="3352680" cy="1143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57913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assoon"/>
              </a:rPr>
              <a:t>ETUDE DE l’étanchéité </a:t>
            </a:r>
            <a:br>
              <a:rPr sz="20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Bassoon"/>
              </a:rPr>
              <a:t>Aide: cloison 6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Joints de la cloison 6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4290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4" name="secateur%20pneumatique%20fini%20coupe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80880" y="2514600"/>
            <a:ext cx="8229600" cy="3564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56160" y="4381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4952880"/>
            <a:ext cx="83808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9080" y="5808960"/>
            <a:ext cx="1937880" cy="459720"/>
          </a:xfrm>
          <a:prstGeom prst="borderCallout1">
            <a:avLst>
              <a:gd name="adj1" fmla="val 18750"/>
              <a:gd name="adj2" fmla="val -8333"/>
              <a:gd name="adj3" fmla="val -320342"/>
              <a:gd name="adj4" fmla="val 127023"/>
            </a:avLst>
          </a:prstGeom>
          <a:solidFill>
            <a:srgbClr val="ccecff"/>
          </a:solidFill>
          <a:ln w="28440">
            <a:solidFill>
              <a:srgbClr val="009999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Joint extérieu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75920" y="2527560"/>
            <a:ext cx="1887480" cy="459720"/>
          </a:xfrm>
          <a:prstGeom prst="borderCallout1">
            <a:avLst>
              <a:gd name="adj1" fmla="val 18750"/>
              <a:gd name="adj2" fmla="val -8333"/>
              <a:gd name="adj3" fmla="val 249842"/>
              <a:gd name="adj4" fmla="val -59606"/>
            </a:avLst>
          </a:prstGeom>
          <a:solidFill>
            <a:srgbClr val="ccecff"/>
          </a:solidFill>
          <a:ln w="28440">
            <a:solidFill>
              <a:srgbClr val="009999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Joint intérieu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762012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3794" y="14383"/>
                </a:moveTo>
                <a:lnTo>
                  <a:pt x="17806" y="7377"/>
                </a:lnTo>
                <a:lnTo>
                  <a:pt x="17806" y="2139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assoon"/>
              </a:rPr>
              <a:t>ETUDE DE l’étanchéité </a:t>
            </a:r>
            <a:br>
              <a:rPr sz="2000"/>
            </a:br>
            <a:r>
              <a:rPr b="1" lang="en-US" sz="2000" spc="-1" strike="noStrike">
                <a:solidFill>
                  <a:srgbClr val="336699"/>
                </a:solidFill>
                <a:latin typeface="Bassoon"/>
              </a:rPr>
              <a:t>Aide: piston 20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4290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73" name="secateur%20pneumatique%20fini%20coupe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80880" y="2514600"/>
            <a:ext cx="8229600" cy="3564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38080" y="12952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Joint du piston 20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5720" y="2222640"/>
            <a:ext cx="775080" cy="459720"/>
          </a:xfrm>
          <a:prstGeom prst="borderCallout1">
            <a:avLst>
              <a:gd name="adj1" fmla="val 18750"/>
              <a:gd name="adj2" fmla="val -8333"/>
              <a:gd name="adj3" fmla="val 249763"/>
              <a:gd name="adj4" fmla="val -246842"/>
            </a:avLst>
          </a:prstGeom>
          <a:solidFill>
            <a:srgbClr val="ccecff"/>
          </a:solidFill>
          <a:ln w="28440">
            <a:solidFill>
              <a:srgbClr val="009999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Join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4952880"/>
            <a:ext cx="685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6248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  <a:path fill="darken" w="21600" h="28766">
                <a:moveTo>
                  <a:pt x="3794" y="14383"/>
                </a:moveTo>
                <a:lnTo>
                  <a:pt x="17806" y="7377"/>
                </a:lnTo>
                <a:lnTo>
                  <a:pt x="17806" y="2139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09:51:08Z</dcterms:created>
  <dc:creator>Teyssier</dc:creator>
  <dc:description/>
  <dc:language>en-US</dc:language>
  <cp:lastModifiedBy>Teyssier</cp:lastModifiedBy>
  <dcterms:modified xsi:type="dcterms:W3CDTF">2001-05-29T22:46:53Z</dcterms:modified>
  <cp:revision>39</cp:revision>
  <dc:subject/>
  <dc:title>ETUDE DE l’étanchéité</dc:title>
</cp:coreProperties>
</file>