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553-2A2E-4339-B7D0-4CEC2C6D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CB0-7406-4E2C-9B31-E5F9AA16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3D7-2093-41AC-B18F-413F0F0C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0B9-7291-4DF8-B303-27DD30F5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5F3F-243E-49CA-BE89-79B69157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1628-1F1B-43D6-A87D-E2F25252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0E70-2AD3-4458-A322-6E0F0D0F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E3C7-676C-4DFC-9A1D-1ACB6DFA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5BC5-6BC5-435C-93A9-F1C8DEC1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E47A-2525-4000-BBCA-3DFD9174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A860-0B57-4FFA-BA88-37BFA57B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F90-43DB-4054-9A7F-61624D47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6E41-28CE-4144-AEA6-F6660A1E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DC86-2522-4CF9-B0ED-4957753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D007-92D4-4ABF-BF8E-CACFF2DB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1CF8-BB8F-408E-BEED-88BF5AFD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F599-DB06-4458-AE85-A0939559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948-5396-4953-AC85-08A7DDB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B6F-286B-44AA-998D-6D3106A0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4AD-39DE-40D5-A198-F00D6777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583-A1DA-4FC3-9E23-4D1882EF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70C-A4AC-4457-85E2-C0E1C8FC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37F-F686-428B-B7C2-8A3C4D9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A6D7-6890-4EB2-A75E-422BC5A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130B-5129-45EE-91D3-2C6E65EB2D16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6705720" y="6324480"/>
            <a:ext cx="153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999"/>
                </a:solidFill>
                <a:latin typeface="Arial"/>
              </a:rPr>
              <a:t>Passer à la première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F9C6-1F74-4E5A-8C29-BCEBD7D52C69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hyperlink" Target="file:///0secateur.ppt" TargetMode="Externa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slide" Target="slide4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distributeur%20coupe%20volume" descr=""/>
          <p:cNvPicPr/>
          <p:nvPr/>
        </p:nvPicPr>
        <p:blipFill>
          <a:blip r:embed="rId1"/>
          <a:srcRect l="4131" t="10342" r="10331" b="4137"/>
          <a:stretch/>
        </p:blipFill>
        <p:spPr>
          <a:xfrm>
            <a:off x="2514600" y="838080"/>
            <a:ext cx="5257800" cy="459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 Narrow"/>
              </a:rPr>
              <a:t>ETUDE DU DISTRIBUT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419040" y="5333040"/>
            <a:ext cx="84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Le distributeur est composé de 3 groupes cinématiques équivalent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>
            <a:hlinkClick r:id="rId3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3200400" y="1900080"/>
            <a:ext cx="4581360" cy="1452600"/>
          </a:xfrm>
          <a:custGeom>
            <a:avLst/>
            <a:gdLst/>
            <a:ahLst/>
            <a:rect l="l" t="t" r="r" b="b"/>
            <a:pathLst>
              <a:path w="2886" h="915">
                <a:moveTo>
                  <a:pt x="262" y="0"/>
                </a:moveTo>
                <a:cubicBezTo>
                  <a:pt x="196" y="45"/>
                  <a:pt x="84" y="25"/>
                  <a:pt x="32" y="96"/>
                </a:cubicBezTo>
                <a:cubicBezTo>
                  <a:pt x="13" y="122"/>
                  <a:pt x="9" y="155"/>
                  <a:pt x="0" y="185"/>
                </a:cubicBezTo>
                <a:cubicBezTo>
                  <a:pt x="23" y="283"/>
                  <a:pt x="135" y="291"/>
                  <a:pt x="218" y="301"/>
                </a:cubicBezTo>
                <a:cubicBezTo>
                  <a:pt x="316" y="313"/>
                  <a:pt x="414" y="316"/>
                  <a:pt x="512" y="326"/>
                </a:cubicBezTo>
                <a:cubicBezTo>
                  <a:pt x="618" y="337"/>
                  <a:pt x="720" y="365"/>
                  <a:pt x="826" y="377"/>
                </a:cubicBezTo>
                <a:cubicBezTo>
                  <a:pt x="876" y="411"/>
                  <a:pt x="941" y="403"/>
                  <a:pt x="998" y="422"/>
                </a:cubicBezTo>
                <a:cubicBezTo>
                  <a:pt x="1051" y="440"/>
                  <a:pt x="1000" y="428"/>
                  <a:pt x="1043" y="448"/>
                </a:cubicBezTo>
                <a:cubicBezTo>
                  <a:pt x="1084" y="467"/>
                  <a:pt x="1127" y="479"/>
                  <a:pt x="1171" y="486"/>
                </a:cubicBezTo>
                <a:cubicBezTo>
                  <a:pt x="1195" y="520"/>
                  <a:pt x="1236" y="525"/>
                  <a:pt x="1274" y="537"/>
                </a:cubicBezTo>
                <a:cubicBezTo>
                  <a:pt x="1424" y="640"/>
                  <a:pt x="1209" y="498"/>
                  <a:pt x="1350" y="576"/>
                </a:cubicBezTo>
                <a:cubicBezTo>
                  <a:pt x="1474" y="645"/>
                  <a:pt x="1377" y="617"/>
                  <a:pt x="1491" y="640"/>
                </a:cubicBezTo>
                <a:cubicBezTo>
                  <a:pt x="1634" y="726"/>
                  <a:pt x="1571" y="706"/>
                  <a:pt x="1670" y="729"/>
                </a:cubicBezTo>
                <a:cubicBezTo>
                  <a:pt x="1694" y="800"/>
                  <a:pt x="1733" y="798"/>
                  <a:pt x="1805" y="806"/>
                </a:cubicBezTo>
                <a:cubicBezTo>
                  <a:pt x="1839" y="815"/>
                  <a:pt x="1876" y="816"/>
                  <a:pt x="1907" y="832"/>
                </a:cubicBezTo>
                <a:cubicBezTo>
                  <a:pt x="1933" y="845"/>
                  <a:pt x="1957" y="861"/>
                  <a:pt x="1984" y="870"/>
                </a:cubicBezTo>
                <a:cubicBezTo>
                  <a:pt x="2055" y="895"/>
                  <a:pt x="2155" y="891"/>
                  <a:pt x="2227" y="896"/>
                </a:cubicBezTo>
                <a:cubicBezTo>
                  <a:pt x="2314" y="902"/>
                  <a:pt x="2395" y="911"/>
                  <a:pt x="2483" y="915"/>
                </a:cubicBezTo>
                <a:cubicBezTo>
                  <a:pt x="2609" y="913"/>
                  <a:pt x="2735" y="913"/>
                  <a:pt x="2861" y="909"/>
                </a:cubicBezTo>
                <a:cubicBezTo>
                  <a:pt x="2868" y="909"/>
                  <a:pt x="2879" y="909"/>
                  <a:pt x="2880" y="902"/>
                </a:cubicBezTo>
                <a:cubicBezTo>
                  <a:pt x="2886" y="841"/>
                  <a:pt x="2864" y="843"/>
                  <a:pt x="2822" y="819"/>
                </a:cubicBezTo>
                <a:cubicBezTo>
                  <a:pt x="2787" y="770"/>
                  <a:pt x="2761" y="740"/>
                  <a:pt x="2701" y="729"/>
                </a:cubicBezTo>
                <a:cubicBezTo>
                  <a:pt x="2670" y="639"/>
                  <a:pt x="2568" y="623"/>
                  <a:pt x="2483" y="614"/>
                </a:cubicBezTo>
                <a:cubicBezTo>
                  <a:pt x="2395" y="562"/>
                  <a:pt x="2311" y="554"/>
                  <a:pt x="2214" y="531"/>
                </a:cubicBezTo>
                <a:cubicBezTo>
                  <a:pt x="2120" y="509"/>
                  <a:pt x="2027" y="486"/>
                  <a:pt x="1933" y="467"/>
                </a:cubicBezTo>
                <a:cubicBezTo>
                  <a:pt x="1841" y="422"/>
                  <a:pt x="1751" y="410"/>
                  <a:pt x="1651" y="390"/>
                </a:cubicBezTo>
                <a:cubicBezTo>
                  <a:pt x="1573" y="374"/>
                  <a:pt x="1501" y="347"/>
                  <a:pt x="1421" y="339"/>
                </a:cubicBezTo>
                <a:cubicBezTo>
                  <a:pt x="1267" y="308"/>
                  <a:pt x="1116" y="261"/>
                  <a:pt x="960" y="243"/>
                </a:cubicBezTo>
                <a:cubicBezTo>
                  <a:pt x="923" y="216"/>
                  <a:pt x="832" y="198"/>
                  <a:pt x="832" y="198"/>
                </a:cubicBezTo>
                <a:cubicBezTo>
                  <a:pt x="674" y="104"/>
                  <a:pt x="493" y="104"/>
                  <a:pt x="320" y="57"/>
                </a:cubicBezTo>
                <a:cubicBezTo>
                  <a:pt x="282" y="32"/>
                  <a:pt x="258" y="19"/>
                  <a:pt x="211" y="19"/>
                </a:cubicBezTo>
              </a:path>
            </a:pathLst>
          </a:custGeom>
          <a:noFill/>
          <a:ln w="255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3753000" y="2346480"/>
            <a:ext cx="585720" cy="1944360"/>
          </a:xfrm>
          <a:custGeom>
            <a:avLst/>
            <a:gdLst/>
            <a:ahLst/>
            <a:rect l="l" t="t" r="r" b="b"/>
            <a:pathLst>
              <a:path w="369" h="1225">
                <a:moveTo>
                  <a:pt x="279" y="1223"/>
                </a:moveTo>
                <a:cubicBezTo>
                  <a:pt x="325" y="1206"/>
                  <a:pt x="316" y="1097"/>
                  <a:pt x="318" y="1063"/>
                </a:cubicBezTo>
                <a:cubicBezTo>
                  <a:pt x="327" y="939"/>
                  <a:pt x="341" y="816"/>
                  <a:pt x="356" y="692"/>
                </a:cubicBezTo>
                <a:cubicBezTo>
                  <a:pt x="358" y="656"/>
                  <a:pt x="360" y="619"/>
                  <a:pt x="362" y="583"/>
                </a:cubicBezTo>
                <a:cubicBezTo>
                  <a:pt x="364" y="536"/>
                  <a:pt x="369" y="489"/>
                  <a:pt x="369" y="442"/>
                </a:cubicBezTo>
                <a:cubicBezTo>
                  <a:pt x="369" y="344"/>
                  <a:pt x="359" y="255"/>
                  <a:pt x="343" y="160"/>
                </a:cubicBezTo>
                <a:cubicBezTo>
                  <a:pt x="337" y="122"/>
                  <a:pt x="334" y="81"/>
                  <a:pt x="298" y="58"/>
                </a:cubicBezTo>
                <a:cubicBezTo>
                  <a:pt x="278" y="45"/>
                  <a:pt x="252" y="48"/>
                  <a:pt x="228" y="45"/>
                </a:cubicBezTo>
                <a:cubicBezTo>
                  <a:pt x="56" y="52"/>
                  <a:pt x="59" y="0"/>
                  <a:pt x="36" y="96"/>
                </a:cubicBezTo>
                <a:cubicBezTo>
                  <a:pt x="0" y="489"/>
                  <a:pt x="18" y="239"/>
                  <a:pt x="30" y="1024"/>
                </a:cubicBezTo>
                <a:cubicBezTo>
                  <a:pt x="31" y="1110"/>
                  <a:pt x="74" y="1150"/>
                  <a:pt x="119" y="1216"/>
                </a:cubicBezTo>
                <a:cubicBezTo>
                  <a:pt x="124" y="1223"/>
                  <a:pt x="136" y="1223"/>
                  <a:pt x="145" y="1223"/>
                </a:cubicBezTo>
                <a:cubicBezTo>
                  <a:pt x="190" y="1225"/>
                  <a:pt x="234" y="1223"/>
                  <a:pt x="279" y="1223"/>
                </a:cubicBezTo>
                <a:close/>
              </a:path>
            </a:pathLst>
          </a:custGeom>
          <a:noFill/>
          <a:ln w="255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3048120" y="2362320"/>
            <a:ext cx="2582640" cy="2606400"/>
          </a:xfrm>
          <a:custGeom>
            <a:avLst/>
            <a:gdLst/>
            <a:ahLst/>
            <a:rect l="l" t="t" r="r" b="b"/>
            <a:pathLst>
              <a:path w="1627" h="1642">
                <a:moveTo>
                  <a:pt x="1601" y="319"/>
                </a:moveTo>
                <a:cubicBezTo>
                  <a:pt x="1556" y="288"/>
                  <a:pt x="1578" y="296"/>
                  <a:pt x="1537" y="287"/>
                </a:cubicBezTo>
                <a:cubicBezTo>
                  <a:pt x="1502" y="269"/>
                  <a:pt x="1519" y="275"/>
                  <a:pt x="1473" y="267"/>
                </a:cubicBezTo>
                <a:cubicBezTo>
                  <a:pt x="1448" y="263"/>
                  <a:pt x="1397" y="255"/>
                  <a:pt x="1397" y="255"/>
                </a:cubicBezTo>
                <a:cubicBezTo>
                  <a:pt x="1350" y="239"/>
                  <a:pt x="1311" y="211"/>
                  <a:pt x="1262" y="197"/>
                </a:cubicBezTo>
                <a:cubicBezTo>
                  <a:pt x="1208" y="182"/>
                  <a:pt x="1151" y="177"/>
                  <a:pt x="1096" y="171"/>
                </a:cubicBezTo>
                <a:cubicBezTo>
                  <a:pt x="995" y="177"/>
                  <a:pt x="974" y="159"/>
                  <a:pt x="923" y="229"/>
                </a:cubicBezTo>
                <a:cubicBezTo>
                  <a:pt x="911" y="276"/>
                  <a:pt x="904" y="322"/>
                  <a:pt x="897" y="370"/>
                </a:cubicBezTo>
                <a:cubicBezTo>
                  <a:pt x="891" y="534"/>
                  <a:pt x="876" y="628"/>
                  <a:pt x="840" y="779"/>
                </a:cubicBezTo>
                <a:cubicBezTo>
                  <a:pt x="838" y="832"/>
                  <a:pt x="851" y="1059"/>
                  <a:pt x="814" y="1131"/>
                </a:cubicBezTo>
                <a:cubicBezTo>
                  <a:pt x="804" y="1151"/>
                  <a:pt x="786" y="1172"/>
                  <a:pt x="763" y="1176"/>
                </a:cubicBezTo>
                <a:cubicBezTo>
                  <a:pt x="740" y="1180"/>
                  <a:pt x="693" y="1189"/>
                  <a:pt x="693" y="1189"/>
                </a:cubicBezTo>
                <a:cubicBezTo>
                  <a:pt x="618" y="1185"/>
                  <a:pt x="591" y="1195"/>
                  <a:pt x="539" y="1157"/>
                </a:cubicBezTo>
                <a:cubicBezTo>
                  <a:pt x="511" y="1090"/>
                  <a:pt x="498" y="1033"/>
                  <a:pt x="475" y="965"/>
                </a:cubicBezTo>
                <a:cubicBezTo>
                  <a:pt x="466" y="907"/>
                  <a:pt x="459" y="849"/>
                  <a:pt x="449" y="792"/>
                </a:cubicBezTo>
                <a:cubicBezTo>
                  <a:pt x="443" y="718"/>
                  <a:pt x="438" y="641"/>
                  <a:pt x="424" y="568"/>
                </a:cubicBezTo>
                <a:cubicBezTo>
                  <a:pt x="413" y="443"/>
                  <a:pt x="426" y="299"/>
                  <a:pt x="392" y="178"/>
                </a:cubicBezTo>
                <a:cubicBezTo>
                  <a:pt x="387" y="161"/>
                  <a:pt x="379" y="144"/>
                  <a:pt x="373" y="127"/>
                </a:cubicBezTo>
                <a:cubicBezTo>
                  <a:pt x="342" y="38"/>
                  <a:pt x="374" y="55"/>
                  <a:pt x="309" y="43"/>
                </a:cubicBezTo>
                <a:cubicBezTo>
                  <a:pt x="250" y="0"/>
                  <a:pt x="173" y="21"/>
                  <a:pt x="104" y="24"/>
                </a:cubicBezTo>
                <a:cubicBezTo>
                  <a:pt x="75" y="45"/>
                  <a:pt x="55" y="67"/>
                  <a:pt x="33" y="95"/>
                </a:cubicBezTo>
                <a:cubicBezTo>
                  <a:pt x="26" y="142"/>
                  <a:pt x="20" y="188"/>
                  <a:pt x="14" y="235"/>
                </a:cubicBezTo>
                <a:cubicBezTo>
                  <a:pt x="0" y="476"/>
                  <a:pt x="18" y="713"/>
                  <a:pt x="40" y="952"/>
                </a:cubicBezTo>
                <a:cubicBezTo>
                  <a:pt x="48" y="1042"/>
                  <a:pt x="55" y="1121"/>
                  <a:pt x="110" y="1195"/>
                </a:cubicBezTo>
                <a:cubicBezTo>
                  <a:pt x="124" y="1236"/>
                  <a:pt x="137" y="1329"/>
                  <a:pt x="161" y="1362"/>
                </a:cubicBezTo>
                <a:cubicBezTo>
                  <a:pt x="222" y="1444"/>
                  <a:pt x="373" y="1487"/>
                  <a:pt x="469" y="1509"/>
                </a:cubicBezTo>
                <a:cubicBezTo>
                  <a:pt x="547" y="1527"/>
                  <a:pt x="620" y="1549"/>
                  <a:pt x="699" y="1560"/>
                </a:cubicBezTo>
                <a:cubicBezTo>
                  <a:pt x="853" y="1582"/>
                  <a:pt x="1006" y="1590"/>
                  <a:pt x="1160" y="1618"/>
                </a:cubicBezTo>
                <a:cubicBezTo>
                  <a:pt x="1206" y="1642"/>
                  <a:pt x="1236" y="1636"/>
                  <a:pt x="1288" y="1631"/>
                </a:cubicBezTo>
                <a:cubicBezTo>
                  <a:pt x="1334" y="1584"/>
                  <a:pt x="1358" y="1535"/>
                  <a:pt x="1403" y="1490"/>
                </a:cubicBezTo>
                <a:cubicBezTo>
                  <a:pt x="1418" y="1446"/>
                  <a:pt x="1428" y="1387"/>
                  <a:pt x="1454" y="1349"/>
                </a:cubicBezTo>
                <a:cubicBezTo>
                  <a:pt x="1476" y="1316"/>
                  <a:pt x="1508" y="1291"/>
                  <a:pt x="1531" y="1259"/>
                </a:cubicBezTo>
                <a:cubicBezTo>
                  <a:pt x="1545" y="1138"/>
                  <a:pt x="1567" y="1021"/>
                  <a:pt x="1582" y="901"/>
                </a:cubicBezTo>
                <a:cubicBezTo>
                  <a:pt x="1599" y="766"/>
                  <a:pt x="1582" y="825"/>
                  <a:pt x="1608" y="747"/>
                </a:cubicBezTo>
                <a:cubicBezTo>
                  <a:pt x="1614" y="661"/>
                  <a:pt x="1622" y="577"/>
                  <a:pt x="1627" y="491"/>
                </a:cubicBezTo>
                <a:cubicBezTo>
                  <a:pt x="1625" y="436"/>
                  <a:pt x="1625" y="380"/>
                  <a:pt x="1621" y="325"/>
                </a:cubicBezTo>
                <a:cubicBezTo>
                  <a:pt x="1619" y="293"/>
                  <a:pt x="1613" y="307"/>
                  <a:pt x="1601" y="319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 rot="20604600">
            <a:off x="1855800" y="3927600"/>
            <a:ext cx="1219320" cy="228600"/>
          </a:xfrm>
          <a:custGeom>
            <a:avLst/>
            <a:gdLst>
              <a:gd name="textAreaLeft" fmla="*/ 190440 w 1219320"/>
              <a:gd name="textAreaRight" fmla="*/ 1116000 w 1219320"/>
              <a:gd name="textAreaTop" fmla="*/ 75240 h 228600"/>
              <a:gd name="textAreaBottom" fmla="*/ 15336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7099"/>
                </a:moveTo>
                <a:lnTo>
                  <a:pt x="16244" y="7099"/>
                </a:lnTo>
                <a:lnTo>
                  <a:pt x="16244" y="0"/>
                </a:lnTo>
                <a:lnTo>
                  <a:pt x="21600" y="10800"/>
                </a:lnTo>
                <a:lnTo>
                  <a:pt x="16244" y="21600"/>
                </a:lnTo>
                <a:lnTo>
                  <a:pt x="16244" y="14501"/>
                </a:lnTo>
                <a:lnTo>
                  <a:pt x="3375" y="14501"/>
                </a:lnTo>
                <a:close/>
              </a:path>
              <a:path w="21600" h="21600">
                <a:moveTo>
                  <a:pt x="0" y="7099"/>
                </a:moveTo>
                <a:lnTo>
                  <a:pt x="675" y="7099"/>
                </a:lnTo>
                <a:lnTo>
                  <a:pt x="675" y="14501"/>
                </a:lnTo>
                <a:lnTo>
                  <a:pt x="0" y="14501"/>
                </a:lnTo>
                <a:close/>
              </a:path>
              <a:path w="21600" h="21600">
                <a:moveTo>
                  <a:pt x="1350" y="7099"/>
                </a:moveTo>
                <a:lnTo>
                  <a:pt x="2700" y="7099"/>
                </a:lnTo>
                <a:lnTo>
                  <a:pt x="2700" y="14501"/>
                </a:lnTo>
                <a:lnTo>
                  <a:pt x="1350" y="1450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>
            <a:hlinkClick r:id="rId8" action="ppaction://hlinksldjump"/>
          </p:cNvPr>
          <p:cNvSpPr/>
          <p:nvPr/>
        </p:nvSpPr>
        <p:spPr>
          <a:xfrm rot="867000">
            <a:off x="2292120" y="2533320"/>
            <a:ext cx="1600200" cy="15228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>
            <a:hlinkClick r:id="rId9" action="ppaction://hlinksldjump"/>
          </p:cNvPr>
          <p:cNvSpPr/>
          <p:nvPr/>
        </p:nvSpPr>
        <p:spPr>
          <a:xfrm rot="14085000">
            <a:off x="6360120" y="3501000"/>
            <a:ext cx="1177920" cy="211320"/>
          </a:xfrm>
          <a:custGeom>
            <a:avLst/>
            <a:gdLst>
              <a:gd name="textAreaLeft" fmla="*/ 183960 w 1177920"/>
              <a:gd name="textAreaRight" fmla="*/ 1030680 w 1177920"/>
              <a:gd name="textAreaTop" fmla="*/ 52920 h 211320"/>
              <a:gd name="textAreaBottom" fmla="*/ 158760 h 211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91320" y="1752480"/>
            <a:ext cx="304776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Cliquez sur la partie à schématiser</a:t>
            </a:r>
            <a:endParaRPr b="0" lang="en-US" sz="14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>
            <a:hlinkClick r:id="rId10" action="ppaction://hlinksldjump"/>
          </p:cNvPr>
          <p:cNvSpPr/>
          <p:nvPr/>
        </p:nvSpPr>
        <p:spPr>
          <a:xfrm>
            <a:off x="7241400" y="37339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99"/>
                </a:solidFill>
                <a:latin typeface="Times New Roman"/>
              </a:rPr>
              <a:t>GCE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>
            <a:hlinkClick r:id="rId11" action="ppaction://hlinksldjump"/>
          </p:cNvPr>
          <p:cNvSpPr/>
          <p:nvPr/>
        </p:nvSpPr>
        <p:spPr>
          <a:xfrm>
            <a:off x="2059920" y="19810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GCE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>
            <a:hlinkClick r:id="rId12" action="ppaction://hlinksldjump"/>
          </p:cNvPr>
          <p:cNvSpPr/>
          <p:nvPr/>
        </p:nvSpPr>
        <p:spPr>
          <a:xfrm>
            <a:off x="1297800" y="36576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GCE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ce1%20distributeur" descr=""/>
          <p:cNvPicPr/>
          <p:nvPr/>
        </p:nvPicPr>
        <p:blipFill>
          <a:blip r:embed="rId1"/>
          <a:srcRect l="5851" t="27734" r="0" b="29919"/>
          <a:stretch/>
        </p:blipFill>
        <p:spPr>
          <a:xfrm>
            <a:off x="2590920" y="3124080"/>
            <a:ext cx="4495680" cy="1752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13200" y="1676520"/>
            <a:ext cx="701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Groupe cinématique équivalent 1 (G.C.E. 1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</a:rPr>
              <a:t>Ensemble: LEVI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267080"/>
            <a:ext cx="2666880" cy="914400"/>
          </a:xfrm>
          <a:prstGeom prst="cloudCallout">
            <a:avLst>
              <a:gd name="adj1" fmla="val 44879"/>
              <a:gd name="adj2" fmla="val -9843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7920" y="4343400"/>
            <a:ext cx="214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Times New Roman"/>
              </a:rPr>
              <a:t>Je veux être schématisé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Times New Roman"/>
              </a:rPr>
              <a:t>cliquez</a:t>
            </a:r>
            <a:r>
              <a:rPr b="0" lang="fr-FR" sz="1600" spc="-1" strike="noStrike">
                <a:solidFill>
                  <a:srgbClr val="009999"/>
                </a:solidFill>
                <a:latin typeface="Times New Roman"/>
              </a:rPr>
              <a:t> une fois de plu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743200" y="3352680"/>
            <a:ext cx="3886200" cy="1295640"/>
            <a:chOff x="2743200" y="3352680"/>
            <a:chExt cx="3886200" cy="1295640"/>
          </a:xfrm>
        </p:grpSpPr>
        <p:sp>
          <p:nvSpPr>
            <p:cNvPr id="108" name=""/>
            <p:cNvSpPr/>
            <p:nvPr/>
          </p:nvSpPr>
          <p:spPr>
            <a:xfrm>
              <a:off x="6400800" y="44197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743200" y="3352680"/>
              <a:ext cx="3733920" cy="1067040"/>
            </a:xfrm>
            <a:prstGeom prst="line">
              <a:avLst/>
            </a:prstGeom>
            <a:ln w="255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37016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 Narrow"/>
              </a:rPr>
              <a:t>ETUDE DU DISTRIBUTEUR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gce2%20distributeur" descr=""/>
          <p:cNvPicPr/>
          <p:nvPr/>
        </p:nvPicPr>
        <p:blipFill>
          <a:blip r:embed="rId1"/>
          <a:srcRect l="36479" t="7447" r="36475" b="8868"/>
          <a:stretch/>
        </p:blipFill>
        <p:spPr>
          <a:xfrm>
            <a:off x="3962520" y="2895480"/>
            <a:ext cx="116496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13200" y="1676520"/>
            <a:ext cx="701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Groupe cinématique équivalent 2 (G.C.E. 2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</a:rPr>
              <a:t>Ensemble: PISTON DE COMMAN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048120"/>
            <a:ext cx="2667240" cy="914400"/>
          </a:xfrm>
          <a:prstGeom prst="cloudCallout">
            <a:avLst>
              <a:gd name="adj1" fmla="val 28212"/>
              <a:gd name="adj2" fmla="val 74134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9800" y="3200400"/>
            <a:ext cx="212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Times New Roman"/>
              </a:rPr>
              <a:t>Je veux être schématisé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Times New Roman"/>
              </a:rPr>
              <a:t>cliquez</a:t>
            </a:r>
            <a:r>
              <a:rPr b="0" lang="fr-FR" sz="1600" spc="-1" strike="noStrike">
                <a:solidFill>
                  <a:srgbClr val="009999"/>
                </a:solidFill>
                <a:latin typeface="Times New Roman"/>
              </a:rPr>
              <a:t> une fois de plu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038480" y="2981160"/>
            <a:ext cx="990720" cy="2733840"/>
            <a:chOff x="4038480" y="2981160"/>
            <a:chExt cx="990720" cy="2733840"/>
          </a:xfrm>
        </p:grpSpPr>
        <p:sp>
          <p:nvSpPr>
            <p:cNvPr id="118" name=""/>
            <p:cNvSpPr/>
            <p:nvPr/>
          </p:nvSpPr>
          <p:spPr>
            <a:xfrm>
              <a:off x="4548240" y="3002040"/>
              <a:ext cx="1440" cy="2401920"/>
            </a:xfrm>
            <a:custGeom>
              <a:avLst/>
              <a:gdLst/>
              <a:ahLst/>
              <a:rect l="l" t="t" r="r" b="b"/>
              <a:pathLst>
                <a:path w="1" h="1513">
                  <a:moveTo>
                    <a:pt x="0" y="0"/>
                  </a:moveTo>
                  <a:lnTo>
                    <a:pt x="0" y="1513"/>
                  </a:lnTo>
                </a:path>
              </a:pathLst>
            </a:custGeom>
            <a:noFill/>
            <a:ln w="255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24320" y="2981160"/>
              <a:ext cx="430200" cy="115920"/>
            </a:xfrm>
            <a:custGeom>
              <a:avLst/>
              <a:gdLst/>
              <a:ahLst/>
              <a:rect l="l" t="t" r="r" b="b"/>
              <a:pathLst>
                <a:path w="271" h="73">
                  <a:moveTo>
                    <a:pt x="271" y="71"/>
                  </a:moveTo>
                  <a:cubicBezTo>
                    <a:pt x="267" y="66"/>
                    <a:pt x="262" y="50"/>
                    <a:pt x="247" y="40"/>
                  </a:cubicBezTo>
                  <a:cubicBezTo>
                    <a:pt x="232" y="30"/>
                    <a:pt x="211" y="13"/>
                    <a:pt x="182" y="8"/>
                  </a:cubicBezTo>
                  <a:cubicBezTo>
                    <a:pt x="153" y="3"/>
                    <a:pt x="104" y="0"/>
                    <a:pt x="74" y="11"/>
                  </a:cubicBezTo>
                  <a:cubicBezTo>
                    <a:pt x="44" y="22"/>
                    <a:pt x="16" y="60"/>
                    <a:pt x="0" y="73"/>
                  </a:cubicBezTo>
                </a:path>
              </a:pathLst>
            </a:custGeom>
            <a:noFill/>
            <a:ln w="255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114440" y="5334120"/>
              <a:ext cx="838440" cy="380880"/>
              <a:chOff x="4114440" y="5334120"/>
              <a:chExt cx="838440" cy="380880"/>
            </a:xfrm>
          </p:grpSpPr>
          <p:sp>
            <p:nvSpPr>
              <p:cNvPr id="121" name=""/>
              <p:cNvSpPr/>
              <p:nvPr/>
            </p:nvSpPr>
            <p:spPr>
              <a:xfrm>
                <a:off x="4114800" y="533412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0"/>
                    </a:moveTo>
                    <a:lnTo>
                      <a:pt x="144" y="0"/>
                    </a:lnTo>
                    <a:lnTo>
                      <a:pt x="144" y="240"/>
                    </a:lnTo>
                    <a:lnTo>
                      <a:pt x="0" y="240"/>
                    </a:lnTo>
                  </a:path>
                </a:pathLst>
              </a:custGeom>
              <a:noFill/>
              <a:ln w="255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4723560" y="533412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0"/>
                    </a:moveTo>
                    <a:lnTo>
                      <a:pt x="144" y="0"/>
                    </a:lnTo>
                    <a:lnTo>
                      <a:pt x="144" y="240"/>
                    </a:lnTo>
                    <a:lnTo>
                      <a:pt x="0" y="240"/>
                    </a:lnTo>
                  </a:path>
                </a:pathLst>
              </a:custGeom>
              <a:noFill/>
              <a:ln w="255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43400" y="5410080"/>
                <a:ext cx="380880" cy="0"/>
              </a:xfrm>
              <a:prstGeom prst="line">
                <a:avLst/>
              </a:prstGeom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4723920" y="5334120"/>
                <a:ext cx="228960" cy="380880"/>
                <a:chOff x="4723920" y="5334120"/>
                <a:chExt cx="228960" cy="380880"/>
              </a:xfrm>
            </p:grpSpPr>
            <p:sp>
              <p:nvSpPr>
                <p:cNvPr id="125" name=""/>
                <p:cNvSpPr/>
                <p:nvPr/>
              </p:nvSpPr>
              <p:spPr>
                <a:xfrm flipH="1">
                  <a:off x="4723920" y="5334120"/>
                  <a:ext cx="228600" cy="38088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724280" y="5334120"/>
                  <a:ext cx="228600" cy="38088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114440" y="5334120"/>
                <a:ext cx="228960" cy="380880"/>
                <a:chOff x="4114440" y="5334120"/>
                <a:chExt cx="228960" cy="380880"/>
              </a:xfrm>
            </p:grpSpPr>
            <p:sp>
              <p:nvSpPr>
                <p:cNvPr id="128" name=""/>
                <p:cNvSpPr/>
                <p:nvPr/>
              </p:nvSpPr>
              <p:spPr>
                <a:xfrm flipH="1">
                  <a:off x="4114440" y="5334120"/>
                  <a:ext cx="228600" cy="38088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114800" y="5334120"/>
                  <a:ext cx="228600" cy="38088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" name=""/>
            <p:cNvSpPr/>
            <p:nvPr/>
          </p:nvSpPr>
          <p:spPr>
            <a:xfrm>
              <a:off x="4038480" y="4038480"/>
              <a:ext cx="990720" cy="0"/>
            </a:xfrm>
            <a:prstGeom prst="line">
              <a:avLst/>
            </a:prstGeom>
            <a:ln w="255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 Narrow"/>
              </a:rPr>
              <a:t>ETUDE DU DISTRIBUT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gce3%20distributeur" descr=""/>
          <p:cNvPicPr/>
          <p:nvPr/>
        </p:nvPicPr>
        <p:blipFill>
          <a:blip r:embed="rId1"/>
          <a:srcRect l="9426" t="8868" r="-6026" b="9426"/>
          <a:stretch/>
        </p:blipFill>
        <p:spPr>
          <a:xfrm>
            <a:off x="2133720" y="3429000"/>
            <a:ext cx="4190760" cy="3073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13200" y="1676520"/>
            <a:ext cx="701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Groupe cinématique équivalent 3 (G.C.E. 3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</a:rPr>
              <a:t>Ensemble: BLOC ARRIER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2362320"/>
            <a:ext cx="2667240" cy="914400"/>
          </a:xfrm>
          <a:prstGeom prst="cloudCallout">
            <a:avLst>
              <a:gd name="adj1" fmla="val -34287"/>
              <a:gd name="adj2" fmla="val 9409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8960" y="2514600"/>
            <a:ext cx="212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999"/>
                </a:solidFill>
                <a:latin typeface="Times New Roman"/>
              </a:rPr>
              <a:t>Je veux être schématisé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Times New Roman"/>
              </a:rPr>
              <a:t>cliquez</a:t>
            </a:r>
            <a:r>
              <a:rPr b="0" lang="fr-FR" sz="1600" spc="-1" strike="noStrike">
                <a:solidFill>
                  <a:srgbClr val="009999"/>
                </a:solidFill>
                <a:latin typeface="Times New Roman"/>
              </a:rPr>
              <a:t> une fois de plu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362320" y="3571920"/>
            <a:ext cx="2971800" cy="2905200"/>
            <a:chOff x="2362320" y="3571920"/>
            <a:chExt cx="2971800" cy="2905200"/>
          </a:xfrm>
        </p:grpSpPr>
        <p:sp>
          <p:nvSpPr>
            <p:cNvPr id="139" name=""/>
            <p:cNvSpPr/>
            <p:nvPr/>
          </p:nvSpPr>
          <p:spPr>
            <a:xfrm>
              <a:off x="4394160" y="3886200"/>
              <a:ext cx="863640" cy="339840"/>
            </a:xfrm>
            <a:custGeom>
              <a:avLst/>
              <a:gdLst/>
              <a:ahLst/>
              <a:rect l="l" t="t" r="r" b="b"/>
              <a:pathLst>
                <a:path w="544" h="214">
                  <a:moveTo>
                    <a:pt x="544" y="0"/>
                  </a:moveTo>
                  <a:lnTo>
                    <a:pt x="0" y="21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03880" y="4191120"/>
              <a:ext cx="930240" cy="320400"/>
            </a:xfrm>
            <a:custGeom>
              <a:avLst/>
              <a:gdLst/>
              <a:ahLst/>
              <a:rect l="l" t="t" r="r" b="b"/>
              <a:pathLst>
                <a:path w="586" h="202">
                  <a:moveTo>
                    <a:pt x="586" y="0"/>
                  </a:moveTo>
                  <a:lnTo>
                    <a:pt x="0" y="20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84800" y="3576600"/>
              <a:ext cx="4680" cy="649440"/>
            </a:xfrm>
            <a:custGeom>
              <a:avLst/>
              <a:gdLst/>
              <a:ahLst/>
              <a:rect l="l" t="t" r="r" b="b"/>
              <a:pathLst>
                <a:path w="3" h="409">
                  <a:moveTo>
                    <a:pt x="3" y="40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7600" y="3571920"/>
              <a:ext cx="1440" cy="1152360"/>
            </a:xfrm>
            <a:custGeom>
              <a:avLst/>
              <a:gdLst/>
              <a:ahLst/>
              <a:rect l="l" t="t" r="r" b="b"/>
              <a:pathLst>
                <a:path w="1" h="726">
                  <a:moveTo>
                    <a:pt x="0" y="0"/>
                  </a:moveTo>
                  <a:lnTo>
                    <a:pt x="1" y="72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4973760"/>
              <a:ext cx="1440" cy="1503360"/>
            </a:xfrm>
            <a:custGeom>
              <a:avLst/>
              <a:gdLst/>
              <a:ahLst/>
              <a:rect l="l" t="t" r="r" b="b"/>
              <a:pathLst>
                <a:path w="1" h="947">
                  <a:moveTo>
                    <a:pt x="0" y="0"/>
                  </a:moveTo>
                  <a:lnTo>
                    <a:pt x="1" y="94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6319800"/>
              <a:ext cx="1290600" cy="6480"/>
            </a:xfrm>
            <a:custGeom>
              <a:avLst/>
              <a:gdLst/>
              <a:ahLst/>
              <a:rect l="l" t="t" r="r" b="b"/>
              <a:pathLst>
                <a:path w="813" h="4">
                  <a:moveTo>
                    <a:pt x="813" y="0"/>
                  </a:moveTo>
                  <a:lnTo>
                    <a:pt x="0" y="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9240" bIns="-392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62320" y="3583080"/>
              <a:ext cx="1279440" cy="3240"/>
            </a:xfrm>
            <a:custGeom>
              <a:avLst/>
              <a:gdLst/>
              <a:ahLst/>
              <a:rect l="l" t="t" r="r" b="b"/>
              <a:pathLst>
                <a:path w="806" h="2">
                  <a:moveTo>
                    <a:pt x="806" y="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4800" y="4491000"/>
              <a:ext cx="4680" cy="568440"/>
            </a:xfrm>
            <a:custGeom>
              <a:avLst/>
              <a:gdLst/>
              <a:ahLst/>
              <a:rect l="l" t="t" r="r" b="b"/>
              <a:pathLst>
                <a:path w="3" h="358">
                  <a:moveTo>
                    <a:pt x="3" y="0"/>
                  </a:moveTo>
                  <a:lnTo>
                    <a:pt x="0" y="35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43400" y="5181480"/>
              <a:ext cx="0" cy="12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48240" y="6472080"/>
              <a:ext cx="695160" cy="5040"/>
            </a:xfrm>
            <a:custGeom>
              <a:avLst/>
              <a:gdLst/>
              <a:ahLst/>
              <a:rect l="l" t="t" r="r" b="b"/>
              <a:pathLst>
                <a:path w="438" h="3">
                  <a:moveTo>
                    <a:pt x="438" y="3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0680" bIns="-406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502920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3400" y="5181480"/>
              <a:ext cx="9144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57600" y="358128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70240" y="3581280"/>
              <a:ext cx="214560" cy="233640"/>
            </a:xfrm>
            <a:custGeom>
              <a:avLst/>
              <a:gdLst/>
              <a:ahLst/>
              <a:rect l="l" t="t" r="r" b="b"/>
              <a:pathLst>
                <a:path w="135" h="147">
                  <a:moveTo>
                    <a:pt x="0" y="0"/>
                  </a:moveTo>
                  <a:lnTo>
                    <a:pt x="135" y="0"/>
                  </a:lnTo>
                  <a:lnTo>
                    <a:pt x="135" y="141"/>
                  </a:lnTo>
                  <a:lnTo>
                    <a:pt x="0" y="14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1120" y="3581280"/>
              <a:ext cx="182520" cy="228600"/>
              <a:chOff x="4191120" y="3581280"/>
              <a:chExt cx="182520" cy="228600"/>
            </a:xfrm>
          </p:grpSpPr>
          <p:sp>
            <p:nvSpPr>
              <p:cNvPr id="154" name=""/>
              <p:cNvSpPr/>
              <p:nvPr/>
            </p:nvSpPr>
            <p:spPr>
              <a:xfrm>
                <a:off x="4191120" y="3591000"/>
                <a:ext cx="177840" cy="218880"/>
              </a:xfrm>
              <a:custGeom>
                <a:avLst/>
                <a:gdLst/>
                <a:ahLst/>
                <a:rect l="l" t="t" r="r" b="b"/>
                <a:pathLst>
                  <a:path w="112" h="138">
                    <a:moveTo>
                      <a:pt x="112" y="0"/>
                    </a:moveTo>
                    <a:lnTo>
                      <a:pt x="0" y="138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91120" y="3581280"/>
                <a:ext cx="182520" cy="223920"/>
              </a:xfrm>
              <a:custGeom>
                <a:avLst/>
                <a:gdLst/>
                <a:ahLst/>
                <a:rect l="l" t="t" r="r" b="b"/>
                <a:pathLst>
                  <a:path w="115" h="141">
                    <a:moveTo>
                      <a:pt x="0" y="0"/>
                    </a:moveTo>
                    <a:lnTo>
                      <a:pt x="115" y="14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690720" y="3581280"/>
              <a:ext cx="182520" cy="228600"/>
              <a:chOff x="3690720" y="3581280"/>
              <a:chExt cx="182520" cy="22860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3695400" y="3591000"/>
                <a:ext cx="177840" cy="218880"/>
              </a:xfrm>
              <a:custGeom>
                <a:avLst/>
                <a:gdLst/>
                <a:ahLst/>
                <a:rect l="l" t="t" r="r" b="b"/>
                <a:pathLst>
                  <a:path w="112" h="138">
                    <a:moveTo>
                      <a:pt x="112" y="0"/>
                    </a:moveTo>
                    <a:lnTo>
                      <a:pt x="0" y="138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690360" y="3581280"/>
                <a:ext cx="182520" cy="223920"/>
              </a:xfrm>
              <a:custGeom>
                <a:avLst/>
                <a:gdLst/>
                <a:ahLst/>
                <a:rect l="l" t="t" r="r" b="b"/>
                <a:pathLst>
                  <a:path w="115" h="141">
                    <a:moveTo>
                      <a:pt x="0" y="0"/>
                    </a:moveTo>
                    <a:lnTo>
                      <a:pt x="115" y="14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Arial Narrow"/>
              </a:rPr>
              <a:t>ETUDE DU DISTRIBUT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4T07:28:04Z</dcterms:created>
  <dc:creator>Utilisateur sous licence</dc:creator>
  <dc:description/>
  <dc:language>en-US</dc:language>
  <cp:lastModifiedBy>Utilisateur sous licence</cp:lastModifiedBy>
  <dcterms:modified xsi:type="dcterms:W3CDTF">2001-04-10T09:30:50Z</dcterms:modified>
  <cp:revision>12</cp:revision>
  <dc:subject/>
  <dc:title>ETUDE DE L ’ACTIONNEUR</dc:title>
</cp:coreProperties>
</file>