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  <p:custShowLst>
    <p:custShow name="Diaporama personnalisé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custShow id="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9AE-BF5F-4C91-A848-F7FFE49E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408-1BE0-4550-B5F8-9E689E88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598-F9AD-4213-B0C8-06666A09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6C8-89D0-4AE7-B1C0-61D243090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E9A2-1874-40C1-B0F1-854BDEB5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A895-0DFD-4C3B-B4E0-820469CB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968B-F821-4547-B5DC-CAE34252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D141-DA01-407F-9FA9-37BFC020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7476-A612-4A20-BF2D-B09A61F2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D382-7EA9-4BB4-B32C-6B0C0C1B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F73F-F73A-4844-9C1F-B6372FD2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FCC-E1E2-44FD-B54A-6BF08DAF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776E-D5F6-43E9-B231-01BBD78A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3B87-9D05-44F5-8670-1A5A9222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D978-39CE-4E41-9B76-7FBCD6CE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2EDB-76A2-4B6D-AAC7-4B859180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849B-610B-4034-A037-3D0449E2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9E5-A125-49E4-84DA-F31EA6B1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BA2-A712-43ED-A518-271FC936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6AF8-0056-459F-98DE-DF8D76E0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CE0-B840-4552-91BF-81CE7310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9C1-7D24-4D91-B49D-FB2A38DB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ED5-8620-4392-B702-15983195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908-A08C-4176-858B-6A6B9909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F7BB-4264-4509-AB0D-CF501C0F9CAB}" type="slidenum">
              <a:rPr b="0" lang="fr-FR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6485-11E5-465E-B6F7-D41DFE5B2B8F}" type="slidenum">
              <a:rPr b="0" lang="fr-FR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66680" y="304920"/>
            <a:ext cx="7772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ecff"/>
                </a:solidFill>
                <a:uFillTx/>
                <a:latin typeface="Arial"/>
              </a:rPr>
              <a:t>DIAGRAMME DES INTERACTEURS :</a:t>
            </a:r>
            <a:r>
              <a:rPr b="0" lang="fr-FR" sz="2400" spc="-1" strike="noStrike">
                <a:solidFill>
                  <a:srgbClr val="ccecff"/>
                </a:solidFill>
                <a:latin typeface="Arial"/>
              </a:rPr>
              <a:t>en fonctionnement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882800" y="1239840"/>
            <a:ext cx="2260440" cy="1386000"/>
            <a:chOff x="1882800" y="1239840"/>
            <a:chExt cx="2260440" cy="1386000"/>
          </a:xfrm>
        </p:grpSpPr>
        <p:sp>
          <p:nvSpPr>
            <p:cNvPr id="86" name=""/>
            <p:cNvSpPr/>
            <p:nvPr/>
          </p:nvSpPr>
          <p:spPr>
            <a:xfrm>
              <a:off x="1882800" y="1239840"/>
              <a:ext cx="2260440" cy="1386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93560" y="1470600"/>
              <a:ext cx="1438920" cy="9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66"/>
                  </a:solidFill>
                  <a:latin typeface="Arial"/>
                </a:rPr>
                <a:t>MILIEU AMBIANT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 flipV="1">
            <a:off x="2300760" y="3133440"/>
            <a:ext cx="1650240" cy="46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936960" y="1697760"/>
            <a:ext cx="82512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0680" y="2162160"/>
            <a:ext cx="2260440" cy="254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029760" y="4359960"/>
            <a:ext cx="1640160" cy="46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022480" y="4633920"/>
            <a:ext cx="2265480" cy="1386000"/>
            <a:chOff x="2022480" y="4633920"/>
            <a:chExt cx="2265480" cy="1386000"/>
          </a:xfrm>
        </p:grpSpPr>
        <p:sp>
          <p:nvSpPr>
            <p:cNvPr id="93" name=""/>
            <p:cNvSpPr/>
            <p:nvPr/>
          </p:nvSpPr>
          <p:spPr>
            <a:xfrm>
              <a:off x="2022480" y="4633920"/>
              <a:ext cx="2265480" cy="1386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33960" y="4864680"/>
              <a:ext cx="1442160" cy="9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66"/>
                  </a:solidFill>
                  <a:latin typeface="Arial"/>
                </a:rPr>
                <a:t>NORMES EN VIGUEUR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730680" y="2162160"/>
            <a:ext cx="2260440" cy="254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36960" y="3084480"/>
            <a:ext cx="1847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66"/>
                </a:solidFill>
                <a:latin typeface="Arial"/>
              </a:rPr>
              <a:t>SECATEUR PNEUMATIQU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95960" y="4894200"/>
            <a:ext cx="6188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FC3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4203720" y="1727280"/>
            <a:ext cx="6192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FC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5116680" y="1638360"/>
            <a:ext cx="6174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FP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784840" y="3316320"/>
            <a:ext cx="1237680" cy="138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5784840" y="3314160"/>
            <a:ext cx="1650240" cy="138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72280" y="4470480"/>
            <a:ext cx="2265120" cy="1387440"/>
            <a:chOff x="5372280" y="4470480"/>
            <a:chExt cx="2265120" cy="1387440"/>
          </a:xfrm>
        </p:grpSpPr>
        <p:sp>
          <p:nvSpPr>
            <p:cNvPr id="103" name=""/>
            <p:cNvSpPr/>
            <p:nvPr/>
          </p:nvSpPr>
          <p:spPr>
            <a:xfrm>
              <a:off x="5372280" y="4470480"/>
              <a:ext cx="2265120" cy="1387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84120" y="4701240"/>
              <a:ext cx="144180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66"/>
                  </a:solidFill>
                  <a:latin typeface="Arial"/>
                </a:rPr>
                <a:t>BRANCHE A COUPER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197760" y="2620800"/>
            <a:ext cx="2260440" cy="1390680"/>
            <a:chOff x="6197760" y="2620800"/>
            <a:chExt cx="2260440" cy="1390680"/>
          </a:xfrm>
        </p:grpSpPr>
        <p:sp>
          <p:nvSpPr>
            <p:cNvPr id="106" name=""/>
            <p:cNvSpPr/>
            <p:nvPr/>
          </p:nvSpPr>
          <p:spPr>
            <a:xfrm>
              <a:off x="6197760" y="2620800"/>
              <a:ext cx="2260440" cy="1390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2440" y="2914200"/>
              <a:ext cx="1687680" cy="92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66"/>
                  </a:solidFill>
                  <a:latin typeface="Arial"/>
                </a:rPr>
                <a:t>ENERGIE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66"/>
                  </a:solidFill>
                  <a:latin typeface="Arial"/>
                </a:rPr>
                <a:t>PNEUMATIQUE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042920" y="2906640"/>
            <a:ext cx="2263680" cy="1386000"/>
            <a:chOff x="1042920" y="2906640"/>
            <a:chExt cx="2263680" cy="1386000"/>
          </a:xfrm>
        </p:grpSpPr>
        <p:sp>
          <p:nvSpPr>
            <p:cNvPr id="109" name=""/>
            <p:cNvSpPr/>
            <p:nvPr/>
          </p:nvSpPr>
          <p:spPr>
            <a:xfrm>
              <a:off x="1042920" y="2906640"/>
              <a:ext cx="2263680" cy="1386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29680" y="3364920"/>
              <a:ext cx="212184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66"/>
                  </a:solidFill>
                  <a:latin typeface="Arial"/>
                </a:rPr>
                <a:t>ENVIRONNEMENT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3267000" y="3755880"/>
            <a:ext cx="6192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FC2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394240" y="1755720"/>
            <a:ext cx="1237680" cy="139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394240" y="1761120"/>
            <a:ext cx="1650240" cy="138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784840" y="1008000"/>
            <a:ext cx="2265480" cy="1386000"/>
            <a:chOff x="5784840" y="1008000"/>
            <a:chExt cx="2265480" cy="1386000"/>
          </a:xfrm>
        </p:grpSpPr>
        <p:sp>
          <p:nvSpPr>
            <p:cNvPr id="115" name=""/>
            <p:cNvSpPr/>
            <p:nvPr/>
          </p:nvSpPr>
          <p:spPr>
            <a:xfrm>
              <a:off x="5784840" y="1008000"/>
              <a:ext cx="2265480" cy="1386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96320" y="1238760"/>
              <a:ext cx="1442160" cy="92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66"/>
                  </a:solidFill>
                  <a:latin typeface="Arial"/>
                </a:rPr>
                <a:t>MAIN DE L’USAGER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019920" y="3809880"/>
            <a:ext cx="6174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FP1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Tahoma"/>
              </a:rPr>
              <a:t>FP1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20415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280" y="1676520"/>
          <a:ext cx="8728200" cy="4816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676520"/>
                    <a:ext cx="872820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52280" y="2057400"/>
          <a:ext cx="8763120" cy="3792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057400"/>
                    <a:ext cx="8763120" cy="37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Tahoma"/>
              </a:rPr>
              <a:t>FP2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1757520"/>
          <a:ext cx="8889840" cy="3890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7520"/>
                    <a:ext cx="888984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Tahoma"/>
              </a:rPr>
              <a:t>FC1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Tahoma"/>
              </a:rPr>
              <a:t>FC2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04920" y="1909800"/>
          <a:ext cx="8808840" cy="295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9800"/>
                    <a:ext cx="88088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33280" y="2824200"/>
          <a:ext cx="8596440" cy="1727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2824200"/>
                    <a:ext cx="859644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Tahoma"/>
              </a:rPr>
              <a:t>FC3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07:05:11Z</dcterms:created>
  <dc:creator>GIRARDOT</dc:creator>
  <dc:description/>
  <dc:language>en-US</dc:language>
  <cp:lastModifiedBy>Utilisateur sous licence</cp:lastModifiedBy>
  <dcterms:modified xsi:type="dcterms:W3CDTF">2001-01-31T12:26:54Z</dcterms:modified>
  <cp:revision>12</cp:revision>
  <dc:subject/>
  <dc:title>Aucun titre de diapositive</dc:title>
</cp:coreProperties>
</file>