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61920" y="691920"/>
            <a:ext cx="4934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9B3-4D32-4F55-8B43-2B39AC04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BA2-7F31-4657-A8A7-18B062D1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4B1-C116-43EB-B255-4DCC8FB0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B14-74BD-40D3-98FB-BC2AFBB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4DC-2E1F-47EB-961B-B54FDF48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9A73-6796-48FC-B234-28F36E67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A841-6CDD-41F0-9F15-ECC61DCA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657D-93E2-44DD-9AEE-0495B543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E84A-E47E-4A50-B41A-D0D1F8FB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ED5-E8A5-4602-8BA3-B8964B8F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256A-8FAB-47E7-B030-B27135C2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0B4-95AD-46F8-9BBC-A1F7DD39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6784-4D82-4397-915A-B8AC09AA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24B-A9BC-401D-A560-631AB5B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3BF7-8F85-4832-8B12-8FF568EB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10EF-9962-4C01-B9CF-AE9E7B9E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004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4360" y="38862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8572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3004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4360" y="48020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32D-37C8-4981-A2B3-9B15790E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CBA-E7B6-4C79-B4FE-687FB89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F90-6626-465B-B1A5-D06FB72A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434-589E-4D9A-A5CD-E558A62D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42680" y="22856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70E-CB68-44B3-AF15-9F46CBB4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C9F-2F26-4BD8-B5F0-3DACD2F0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8920" y="48020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9D9-112F-49A4-A7F7-DFE9D4B0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38862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48020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77F-E65C-4DA0-BABD-4FE072D3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40720" y="0"/>
            <a:ext cx="3654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4489560"/>
            <a:ext cx="623736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8470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770-862A-4F24-9962-973D18213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40720" y="0"/>
            <a:ext cx="3654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4489560"/>
            <a:ext cx="623736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8470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6564-34B0-4C9E-8426-DACDD40B49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0240" y="30492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emière étape : Généralité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384720" y="1600200"/>
            <a:ext cx="5962320" cy="498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7800" y="4800600"/>
            <a:ext cx="3713040" cy="987480"/>
          </a:xfrm>
          <a:prstGeom prst="rightArrow">
            <a:avLst>
              <a:gd name="adj1" fmla="val 50000"/>
              <a:gd name="adj2" fmla="val 9407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énéral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4960" y="2590920"/>
            <a:ext cx="8928000" cy="820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’élève recherche parmi un catalogue de 35 pages, les critè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énéraux, nécessaires à l’étude qui lui est propos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resentation%20site" descr=""/>
          <p:cNvPicPr/>
          <p:nvPr/>
        </p:nvPicPr>
        <p:blipFill>
          <a:blip r:embed="rId1"/>
          <a:stretch/>
        </p:blipFill>
        <p:spPr>
          <a:xfrm>
            <a:off x="1568520" y="1523880"/>
            <a:ext cx="6638760" cy="4991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46720" y="457200"/>
            <a:ext cx="6473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ge d ’accueil du site internet WWW.thyreau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sation d ’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 rot="10765200">
            <a:off x="3714120" y="2057040"/>
            <a:ext cx="1320840" cy="609480"/>
          </a:xfrm>
          <a:prstGeom prst="leftArrow">
            <a:avLst>
              <a:gd name="adj1" fmla="val 50000"/>
              <a:gd name="adj2" fmla="val 541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 rot="10789800">
            <a:off x="3714120" y="2742480"/>
            <a:ext cx="1320840" cy="609480"/>
          </a:xfrm>
          <a:prstGeom prst="leftArrow">
            <a:avLst>
              <a:gd name="adj1" fmla="val 50000"/>
              <a:gd name="adj2" fmla="val 541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1586800">
            <a:off x="7594560" y="2285640"/>
            <a:ext cx="1320840" cy="609480"/>
          </a:xfrm>
          <a:prstGeom prst="leftArrow">
            <a:avLst>
              <a:gd name="adj1" fmla="val 50000"/>
              <a:gd name="adj2" fmla="val 541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73160" y="914400"/>
            <a:ext cx="8364600" cy="5305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mple : Page 2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56760" y="2610000"/>
            <a:ext cx="725400" cy="699840"/>
          </a:xfrm>
          <a:custGeom>
            <a:avLst/>
            <a:gdLst/>
            <a:ahLst/>
            <a:rect l="l" t="t" r="r" b="b"/>
            <a:pathLst>
              <a:path w="421" h="441">
                <a:moveTo>
                  <a:pt x="0" y="70"/>
                </a:moveTo>
                <a:lnTo>
                  <a:pt x="51" y="40"/>
                </a:lnTo>
                <a:lnTo>
                  <a:pt x="103" y="20"/>
                </a:lnTo>
                <a:lnTo>
                  <a:pt x="146" y="3"/>
                </a:lnTo>
                <a:lnTo>
                  <a:pt x="197" y="0"/>
                </a:lnTo>
                <a:lnTo>
                  <a:pt x="240" y="0"/>
                </a:lnTo>
                <a:lnTo>
                  <a:pt x="283" y="10"/>
                </a:lnTo>
                <a:lnTo>
                  <a:pt x="317" y="30"/>
                </a:lnTo>
                <a:lnTo>
                  <a:pt x="343" y="57"/>
                </a:lnTo>
                <a:lnTo>
                  <a:pt x="403" y="143"/>
                </a:lnTo>
                <a:lnTo>
                  <a:pt x="420" y="170"/>
                </a:lnTo>
                <a:lnTo>
                  <a:pt x="420" y="197"/>
                </a:lnTo>
                <a:lnTo>
                  <a:pt x="420" y="260"/>
                </a:lnTo>
                <a:lnTo>
                  <a:pt x="395" y="327"/>
                </a:lnTo>
                <a:lnTo>
                  <a:pt x="343" y="397"/>
                </a:lnTo>
                <a:lnTo>
                  <a:pt x="369" y="440"/>
                </a:lnTo>
                <a:lnTo>
                  <a:pt x="240" y="417"/>
                </a:lnTo>
                <a:lnTo>
                  <a:pt x="249" y="267"/>
                </a:lnTo>
                <a:lnTo>
                  <a:pt x="283" y="310"/>
                </a:lnTo>
                <a:lnTo>
                  <a:pt x="326" y="260"/>
                </a:lnTo>
                <a:lnTo>
                  <a:pt x="352" y="207"/>
                </a:lnTo>
                <a:lnTo>
                  <a:pt x="360" y="153"/>
                </a:lnTo>
                <a:lnTo>
                  <a:pt x="360" y="107"/>
                </a:lnTo>
                <a:lnTo>
                  <a:pt x="326" y="93"/>
                </a:lnTo>
                <a:lnTo>
                  <a:pt x="292" y="87"/>
                </a:lnTo>
                <a:lnTo>
                  <a:pt x="257" y="83"/>
                </a:lnTo>
                <a:lnTo>
                  <a:pt x="223" y="87"/>
                </a:lnTo>
                <a:lnTo>
                  <a:pt x="180" y="97"/>
                </a:lnTo>
                <a:lnTo>
                  <a:pt x="137" y="113"/>
                </a:lnTo>
                <a:lnTo>
                  <a:pt x="103" y="133"/>
                </a:lnTo>
                <a:lnTo>
                  <a:pt x="60" y="157"/>
                </a:lnTo>
                <a:lnTo>
                  <a:pt x="0" y="70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06960" y="4830840"/>
            <a:ext cx="695520" cy="728640"/>
          </a:xfrm>
          <a:custGeom>
            <a:avLst/>
            <a:gdLst/>
            <a:ahLst/>
            <a:rect l="l" t="t" r="r" b="b"/>
            <a:pathLst>
              <a:path w="403" h="459">
                <a:moveTo>
                  <a:pt x="0" y="413"/>
                </a:moveTo>
                <a:lnTo>
                  <a:pt x="51" y="435"/>
                </a:lnTo>
                <a:lnTo>
                  <a:pt x="107" y="452"/>
                </a:lnTo>
                <a:lnTo>
                  <a:pt x="157" y="458"/>
                </a:lnTo>
                <a:lnTo>
                  <a:pt x="201" y="458"/>
                </a:lnTo>
                <a:lnTo>
                  <a:pt x="245" y="452"/>
                </a:lnTo>
                <a:lnTo>
                  <a:pt x="283" y="435"/>
                </a:lnTo>
                <a:lnTo>
                  <a:pt x="314" y="413"/>
                </a:lnTo>
                <a:lnTo>
                  <a:pt x="339" y="384"/>
                </a:lnTo>
                <a:lnTo>
                  <a:pt x="389" y="288"/>
                </a:lnTo>
                <a:lnTo>
                  <a:pt x="402" y="260"/>
                </a:lnTo>
                <a:lnTo>
                  <a:pt x="402" y="232"/>
                </a:lnTo>
                <a:lnTo>
                  <a:pt x="402" y="204"/>
                </a:lnTo>
                <a:lnTo>
                  <a:pt x="396" y="170"/>
                </a:lnTo>
                <a:lnTo>
                  <a:pt x="358" y="108"/>
                </a:lnTo>
                <a:lnTo>
                  <a:pt x="302" y="46"/>
                </a:lnTo>
                <a:lnTo>
                  <a:pt x="327" y="0"/>
                </a:lnTo>
                <a:lnTo>
                  <a:pt x="195" y="40"/>
                </a:lnTo>
                <a:lnTo>
                  <a:pt x="226" y="187"/>
                </a:lnTo>
                <a:lnTo>
                  <a:pt x="251" y="142"/>
                </a:lnTo>
                <a:lnTo>
                  <a:pt x="295" y="187"/>
                </a:lnTo>
                <a:lnTo>
                  <a:pt x="333" y="232"/>
                </a:lnTo>
                <a:lnTo>
                  <a:pt x="352" y="283"/>
                </a:lnTo>
                <a:lnTo>
                  <a:pt x="352" y="328"/>
                </a:lnTo>
                <a:lnTo>
                  <a:pt x="327" y="345"/>
                </a:lnTo>
                <a:lnTo>
                  <a:pt x="289" y="356"/>
                </a:lnTo>
                <a:lnTo>
                  <a:pt x="258" y="367"/>
                </a:lnTo>
                <a:lnTo>
                  <a:pt x="220" y="367"/>
                </a:lnTo>
                <a:lnTo>
                  <a:pt x="138" y="350"/>
                </a:lnTo>
                <a:lnTo>
                  <a:pt x="51" y="317"/>
                </a:lnTo>
                <a:lnTo>
                  <a:pt x="0" y="41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8920" y="5097600"/>
            <a:ext cx="631800" cy="825480"/>
          </a:xfrm>
          <a:custGeom>
            <a:avLst/>
            <a:gdLst/>
            <a:ahLst/>
            <a:rect l="l" t="t" r="r" b="b"/>
            <a:pathLst>
              <a:path w="365" h="520">
                <a:moveTo>
                  <a:pt x="146" y="519"/>
                </a:moveTo>
                <a:lnTo>
                  <a:pt x="194" y="495"/>
                </a:lnTo>
                <a:lnTo>
                  <a:pt x="243" y="465"/>
                </a:lnTo>
                <a:lnTo>
                  <a:pt x="283" y="435"/>
                </a:lnTo>
                <a:lnTo>
                  <a:pt x="315" y="400"/>
                </a:lnTo>
                <a:lnTo>
                  <a:pt x="340" y="358"/>
                </a:lnTo>
                <a:lnTo>
                  <a:pt x="356" y="322"/>
                </a:lnTo>
                <a:lnTo>
                  <a:pt x="364" y="280"/>
                </a:lnTo>
                <a:lnTo>
                  <a:pt x="356" y="244"/>
                </a:lnTo>
                <a:lnTo>
                  <a:pt x="315" y="149"/>
                </a:lnTo>
                <a:lnTo>
                  <a:pt x="283" y="101"/>
                </a:lnTo>
                <a:lnTo>
                  <a:pt x="235" y="65"/>
                </a:lnTo>
                <a:lnTo>
                  <a:pt x="162" y="48"/>
                </a:lnTo>
                <a:lnTo>
                  <a:pt x="73" y="48"/>
                </a:lnTo>
                <a:lnTo>
                  <a:pt x="57" y="0"/>
                </a:lnTo>
                <a:lnTo>
                  <a:pt x="0" y="119"/>
                </a:lnTo>
                <a:lnTo>
                  <a:pt x="130" y="197"/>
                </a:lnTo>
                <a:lnTo>
                  <a:pt x="113" y="149"/>
                </a:lnTo>
                <a:lnTo>
                  <a:pt x="178" y="143"/>
                </a:lnTo>
                <a:lnTo>
                  <a:pt x="235" y="155"/>
                </a:lnTo>
                <a:lnTo>
                  <a:pt x="283" y="173"/>
                </a:lnTo>
                <a:lnTo>
                  <a:pt x="323" y="203"/>
                </a:lnTo>
                <a:lnTo>
                  <a:pt x="307" y="268"/>
                </a:lnTo>
                <a:lnTo>
                  <a:pt x="259" y="328"/>
                </a:lnTo>
                <a:lnTo>
                  <a:pt x="186" y="376"/>
                </a:lnTo>
                <a:lnTo>
                  <a:pt x="105" y="418"/>
                </a:lnTo>
                <a:lnTo>
                  <a:pt x="146" y="519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81800" y="3679920"/>
            <a:ext cx="730440" cy="693720"/>
          </a:xfrm>
          <a:custGeom>
            <a:avLst/>
            <a:gdLst/>
            <a:ahLst/>
            <a:rect l="l" t="t" r="r" b="b"/>
            <a:pathLst>
              <a:path w="425" h="437">
                <a:moveTo>
                  <a:pt x="0" y="75"/>
                </a:moveTo>
                <a:lnTo>
                  <a:pt x="53" y="44"/>
                </a:lnTo>
                <a:lnTo>
                  <a:pt x="98" y="22"/>
                </a:lnTo>
                <a:lnTo>
                  <a:pt x="151" y="4"/>
                </a:lnTo>
                <a:lnTo>
                  <a:pt x="197" y="0"/>
                </a:lnTo>
                <a:lnTo>
                  <a:pt x="242" y="0"/>
                </a:lnTo>
                <a:lnTo>
                  <a:pt x="280" y="9"/>
                </a:lnTo>
                <a:lnTo>
                  <a:pt x="311" y="26"/>
                </a:lnTo>
                <a:lnTo>
                  <a:pt x="341" y="53"/>
                </a:lnTo>
                <a:lnTo>
                  <a:pt x="402" y="141"/>
                </a:lnTo>
                <a:lnTo>
                  <a:pt x="424" y="194"/>
                </a:lnTo>
                <a:lnTo>
                  <a:pt x="424" y="255"/>
                </a:lnTo>
                <a:lnTo>
                  <a:pt x="394" y="326"/>
                </a:lnTo>
                <a:lnTo>
                  <a:pt x="348" y="392"/>
                </a:lnTo>
                <a:lnTo>
                  <a:pt x="379" y="436"/>
                </a:lnTo>
                <a:lnTo>
                  <a:pt x="242" y="414"/>
                </a:lnTo>
                <a:lnTo>
                  <a:pt x="257" y="264"/>
                </a:lnTo>
                <a:lnTo>
                  <a:pt x="288" y="308"/>
                </a:lnTo>
                <a:lnTo>
                  <a:pt x="326" y="255"/>
                </a:lnTo>
                <a:lnTo>
                  <a:pt x="348" y="202"/>
                </a:lnTo>
                <a:lnTo>
                  <a:pt x="356" y="150"/>
                </a:lnTo>
                <a:lnTo>
                  <a:pt x="356" y="101"/>
                </a:lnTo>
                <a:lnTo>
                  <a:pt x="326" y="88"/>
                </a:lnTo>
                <a:lnTo>
                  <a:pt x="295" y="83"/>
                </a:lnTo>
                <a:lnTo>
                  <a:pt x="257" y="83"/>
                </a:lnTo>
                <a:lnTo>
                  <a:pt x="220" y="88"/>
                </a:lnTo>
                <a:lnTo>
                  <a:pt x="182" y="97"/>
                </a:lnTo>
                <a:lnTo>
                  <a:pt x="136" y="114"/>
                </a:lnTo>
                <a:lnTo>
                  <a:pt x="98" y="132"/>
                </a:lnTo>
                <a:lnTo>
                  <a:pt x="60" y="158"/>
                </a:lnTo>
                <a:lnTo>
                  <a:pt x="0" y="75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5120" y="5335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uxième étape : Validation de choix de joint toriqu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79720" y="2057400"/>
            <a:ext cx="4972320" cy="453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96800" y="4268880"/>
            <a:ext cx="3959280" cy="987480"/>
          </a:xfrm>
          <a:prstGeom prst="rightArrow">
            <a:avLst>
              <a:gd name="adj1" fmla="val 50000"/>
              <a:gd name="adj2" fmla="val 100311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et un choix inter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7680" y="2133720"/>
            <a:ext cx="3300480" cy="1551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- choix du mélan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- choix du mon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- choix dimensionn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4- résulta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2920" y="776160"/>
            <a:ext cx="6622920" cy="5659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H="1" rot="20220000">
            <a:off x="5495400" y="968400"/>
            <a:ext cx="4421520" cy="1216080"/>
          </a:xfrm>
          <a:prstGeom prst="rightArrow">
            <a:avLst>
              <a:gd name="adj1" fmla="val 50000"/>
              <a:gd name="adj2" fmla="val 9093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mé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0280" y="5030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choix du mé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4869000" cy="3159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0240" y="457200"/>
            <a:ext cx="4889520" cy="35211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5612760" y="2147760"/>
            <a:ext cx="3879720" cy="2155680"/>
            <a:chOff x="5612760" y="2147760"/>
            <a:chExt cx="3879720" cy="2155680"/>
          </a:xfrm>
        </p:grpSpPr>
        <p:sp>
          <p:nvSpPr>
            <p:cNvPr id="127" name=""/>
            <p:cNvSpPr/>
            <p:nvPr/>
          </p:nvSpPr>
          <p:spPr>
            <a:xfrm flipV="1" rot="1320000">
              <a:off x="5613480" y="2846160"/>
              <a:ext cx="3877920" cy="758160"/>
            </a:xfrm>
            <a:prstGeom prst="rightArrow">
              <a:avLst>
                <a:gd name="adj1" fmla="val 50000"/>
                <a:gd name="adj2" fmla="val 127967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320000">
              <a:off x="5716440" y="2743200"/>
              <a:ext cx="2530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langes propos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21000000">
            <a:off x="661680" y="4268880"/>
            <a:ext cx="5940360" cy="75888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quer la température d’uti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0280" y="541188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choix du mé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0280" y="5408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choix du mo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86080" y="582480"/>
            <a:ext cx="6110280" cy="5019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H="1" rot="20220000">
            <a:off x="6192360" y="1220400"/>
            <a:ext cx="3381480" cy="1216440"/>
          </a:xfrm>
          <a:prstGeom prst="rightArrow">
            <a:avLst>
              <a:gd name="adj1" fmla="val 50000"/>
              <a:gd name="adj2" fmla="val 6952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mo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96160" cy="5398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0280" y="541188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choix du mo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19320"/>
            <a:ext cx="1650960" cy="19047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nché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et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éc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0800000">
            <a:off x="7026480" y="1299600"/>
            <a:ext cx="2647800" cy="1922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79" y="0"/>
                </a:lnTo>
                <a:lnTo>
                  <a:pt x="21600" y="10800"/>
                </a:lnTo>
                <a:lnTo>
                  <a:pt x="14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nché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t 17 (dynamiq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t 6 (statiq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éc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0280" y="5408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hoix dimensio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5480" y="457200"/>
            <a:ext cx="6308640" cy="505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 rot="20040000">
            <a:off x="3748680" y="895320"/>
            <a:ext cx="4949640" cy="669960"/>
          </a:xfrm>
          <a:prstGeom prst="rightArrow">
            <a:avLst>
              <a:gd name="adj1" fmla="val 50000"/>
              <a:gd name="adj2" fmla="val 18476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Entrer le diamètre du pis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9860000">
            <a:off x="5036040" y="1601640"/>
            <a:ext cx="5116680" cy="606240"/>
          </a:xfrm>
          <a:prstGeom prst="rightArrow">
            <a:avLst>
              <a:gd name="adj1" fmla="val 50000"/>
              <a:gd name="adj2" fmla="val 2110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Préciser le type d ’étanché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20040000">
            <a:off x="6245640" y="3336480"/>
            <a:ext cx="2799000" cy="606960"/>
          </a:xfrm>
          <a:prstGeom prst="rightArrow">
            <a:avLst>
              <a:gd name="adj1" fmla="val 50000"/>
              <a:gd name="adj2" fmla="val 11533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sélection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3360000">
            <a:off x="5439600" y="3364560"/>
            <a:ext cx="677880" cy="657000"/>
          </a:xfrm>
          <a:prstGeom prst="rightArrow">
            <a:avLst>
              <a:gd name="adj1" fmla="val 50000"/>
              <a:gd name="adj2" fmla="val 25804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3360000">
            <a:off x="4035240" y="3364560"/>
            <a:ext cx="677880" cy="657360"/>
          </a:xfrm>
          <a:prstGeom prst="rightArrow">
            <a:avLst>
              <a:gd name="adj1" fmla="val 50000"/>
              <a:gd name="adj2" fmla="val 2579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3040" y="4419720"/>
            <a:ext cx="4787640" cy="1371600"/>
          </a:xfrm>
          <a:prstGeom prst="upArrowCallout">
            <a:avLst>
              <a:gd name="adj1" fmla="val 87272"/>
              <a:gd name="adj2" fmla="val 87264"/>
              <a:gd name="adj3" fmla="val 16667"/>
              <a:gd name="adj4" fmla="val 6666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les joints correspond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arais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68520" y="152280"/>
            <a:ext cx="5844960" cy="6426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110280" y="5408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résul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889360" cy="459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2920" y="5029200"/>
            <a:ext cx="3300120" cy="1551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 ’élève obtient 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renseigne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demandés et imprime le bi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6:51:34Z</dcterms:created>
  <dc:creator>TEYSSIER</dc:creator>
  <dc:description/>
  <dc:language>en-US</dc:language>
  <cp:lastModifiedBy>Teyssier</cp:lastModifiedBy>
  <dcterms:modified xsi:type="dcterms:W3CDTF">2001-02-02T16:56:54Z</dcterms:modified>
  <cp:revision>38</cp:revision>
  <dc:subject/>
  <dc:title>T.P. avec aides en lignes</dc:title>
</cp:coreProperties>
</file>