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C3C-DCEE-44C2-8434-231F73AB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687-205F-4B03-AE57-580B829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AA3-649B-4420-BC9A-2006BA38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2FC-20A9-4A79-A6BA-85A94283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E73-B0CC-465E-94C9-48A615BD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F7D0-D0EF-46D4-AB7A-3E166039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C6FC-5D27-4AB8-A627-912115CB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C621-141B-43AC-A1C1-5905FF1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D4CE-3B0F-4314-8441-F031A5D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B3ED-B565-443B-8A3F-9D883E9C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3AB7-84AA-475A-A295-AB558815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523-9CD8-42E1-9380-88CB83D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B8D8-481D-4049-B6D9-553951C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1BB8-1E72-4FF1-82AB-0849093E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958A-40A3-48D1-BA36-F851D05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7A0-4A58-4E6F-8F10-37B50512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B286-6234-4130-99AD-CA96BCDC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533-2C53-4D73-B141-304038BC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0A7-10F1-48D9-ABAF-04BD0656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8B1-2BCF-4A28-9BB7-F387AE97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B67-1411-4489-A0D9-F74D439B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0C8-C06E-4F5D-8BCF-DA7299D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48D-6E30-4109-A558-F6A41833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0AE-5615-49CE-AAB2-F38B14E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950A-5F86-4160-BC7E-413105DF70D5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0B53-03EB-4AC4-800F-9C28654B7A59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secateur%20&#233;tude%20distributeur.ppt" TargetMode="Externa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secateur.ppt" TargetMode="External"/><Relationship Id="rId2" Type="http://schemas.openxmlformats.org/officeDocument/2006/relationships/slide" Target="slide11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5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1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rId1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62600" y="1143000"/>
            <a:ext cx="2706480" cy="520200"/>
            <a:chOff x="462600" y="1143000"/>
            <a:chExt cx="2706480" cy="520200"/>
          </a:xfrm>
        </p:grpSpPr>
        <p:sp>
          <p:nvSpPr>
            <p:cNvPr id="89" name=""/>
            <p:cNvSpPr/>
            <p:nvPr/>
          </p:nvSpPr>
          <p:spPr>
            <a:xfrm>
              <a:off x="462600" y="1143000"/>
              <a:ext cx="468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P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040" y="1143000"/>
              <a:ext cx="225504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Cisailler une branch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ar une énergie pneumatiq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739320" y="1295280"/>
            <a:ext cx="3382200" cy="307080"/>
            <a:chOff x="3739320" y="1295280"/>
            <a:chExt cx="3382200" cy="307080"/>
          </a:xfrm>
        </p:grpSpPr>
        <p:sp>
          <p:nvSpPr>
            <p:cNvPr id="92" name=""/>
            <p:cNvSpPr/>
            <p:nvPr/>
          </p:nvSpPr>
          <p:spPr>
            <a:xfrm>
              <a:off x="3739320" y="1295280"/>
              <a:ext cx="478080" cy="30708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97600" y="1295280"/>
              <a:ext cx="2923920" cy="30708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Gérer l’énergie pneumat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739320" y="1981080"/>
            <a:ext cx="3382200" cy="520200"/>
            <a:chOff x="3739320" y="1981080"/>
            <a:chExt cx="3382200" cy="520200"/>
          </a:xfrm>
        </p:grpSpPr>
        <p:sp>
          <p:nvSpPr>
            <p:cNvPr id="95" name=""/>
            <p:cNvSpPr/>
            <p:nvPr/>
          </p:nvSpPr>
          <p:spPr>
            <a:xfrm>
              <a:off x="3739320" y="1981080"/>
              <a:ext cx="4780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97600" y="1981080"/>
              <a:ext cx="29239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Convertir l’énergi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neumatique en énergie mécan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739320" y="2895480"/>
            <a:ext cx="3382200" cy="520200"/>
            <a:chOff x="3739320" y="2895480"/>
            <a:chExt cx="3382200" cy="520200"/>
          </a:xfrm>
        </p:grpSpPr>
        <p:sp>
          <p:nvSpPr>
            <p:cNvPr id="98" name=""/>
            <p:cNvSpPr/>
            <p:nvPr/>
          </p:nvSpPr>
          <p:spPr>
            <a:xfrm>
              <a:off x="3739320" y="2895480"/>
              <a:ext cx="4780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7600" y="2895480"/>
              <a:ext cx="29239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Transmettre l’effort ver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la lame mobile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39320" y="3809880"/>
            <a:ext cx="3382200" cy="307080"/>
            <a:chOff x="3739320" y="3809880"/>
            <a:chExt cx="3382200" cy="307080"/>
          </a:xfrm>
        </p:grpSpPr>
        <p:sp>
          <p:nvSpPr>
            <p:cNvPr id="101" name=""/>
            <p:cNvSpPr/>
            <p:nvPr/>
          </p:nvSpPr>
          <p:spPr>
            <a:xfrm>
              <a:off x="3739320" y="3809880"/>
              <a:ext cx="478080" cy="30708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7600" y="3809880"/>
              <a:ext cx="2923920" cy="30708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Réaliser un cisaillement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200400" y="1447920"/>
            <a:ext cx="5335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1447920"/>
            <a:ext cx="295200" cy="2514600"/>
          </a:xfrm>
          <a:custGeom>
            <a:avLst/>
            <a:gdLst/>
            <a:ahLst/>
            <a:rect l="l" t="t" r="r" b="b"/>
            <a:pathLst>
              <a:path w="186" h="1014">
                <a:moveTo>
                  <a:pt x="0" y="0"/>
                </a:moveTo>
                <a:lnTo>
                  <a:pt x="0" y="1014"/>
                </a:lnTo>
                <a:lnTo>
                  <a:pt x="186" y="1014"/>
                </a:lnTo>
              </a:path>
            </a:pathLst>
          </a:custGeom>
          <a:noFill/>
          <a:ln w="1908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124080"/>
            <a:ext cx="3049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209680"/>
            <a:ext cx="304920" cy="0"/>
          </a:xfrm>
          <a:prstGeom prst="line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5257800"/>
            <a:ext cx="1523880" cy="22860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0080" y="4648320"/>
            <a:ext cx="303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Times New Roman"/>
              </a:rPr>
              <a:t>Cliquez sur les flèches pour connaît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009999"/>
                </a:solidFill>
                <a:latin typeface="Times New Roman"/>
              </a:rPr>
              <a:t>les pièces concernées par les fonctions.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1160" y="5638680"/>
            <a:ext cx="221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Times New Roman"/>
              </a:rPr>
              <a:t>Cliquez sur les flèches pour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Times New Roman"/>
              </a:rPr>
              <a:t>voir le niveau suiva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6172200"/>
            <a:ext cx="1295280" cy="228600"/>
          </a:xfrm>
          <a:prstGeom prst="rightArrow">
            <a:avLst>
              <a:gd name="adj1" fmla="val 5556"/>
              <a:gd name="adj2" fmla="val 147215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162920" y="1295280"/>
            <a:ext cx="1295280" cy="228600"/>
          </a:xfrm>
          <a:prstGeom prst="rightArrow">
            <a:avLst>
              <a:gd name="adj1" fmla="val 5556"/>
              <a:gd name="adj2" fmla="val 147215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7162920" y="3886200"/>
            <a:ext cx="1295280" cy="228600"/>
          </a:xfrm>
          <a:prstGeom prst="rightArrow">
            <a:avLst>
              <a:gd name="adj1" fmla="val 5556"/>
              <a:gd name="adj2" fmla="val 147215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>
            <a:hlinkClick r:id="rId4" action="ppaction://hlinksldjump"/>
          </p:cNvPr>
          <p:cNvSpPr/>
          <p:nvPr/>
        </p:nvSpPr>
        <p:spPr>
          <a:xfrm>
            <a:off x="7162920" y="3048120"/>
            <a:ext cx="1295280" cy="228600"/>
          </a:xfrm>
          <a:prstGeom prst="rightArrow">
            <a:avLst>
              <a:gd name="adj1" fmla="val 5556"/>
              <a:gd name="adj2" fmla="val 147215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>
            <a:hlinkClick r:id="rId5" action="ppaction://hlinksldjump"/>
          </p:cNvPr>
          <p:cNvSpPr/>
          <p:nvPr/>
        </p:nvSpPr>
        <p:spPr>
          <a:xfrm>
            <a:off x="7162920" y="2133720"/>
            <a:ext cx="1295280" cy="228600"/>
          </a:xfrm>
          <a:prstGeom prst="rightArrow">
            <a:avLst>
              <a:gd name="adj1" fmla="val 5556"/>
              <a:gd name="adj2" fmla="val 147215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9999"/>
                </a:solidFill>
                <a:latin typeface="Times New Roman"/>
              </a:rPr>
              <a:t>DIAGRAMME FAST FP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309240" y="1523880"/>
            <a:ext cx="2625480" cy="520200"/>
            <a:chOff x="309240" y="1523880"/>
            <a:chExt cx="2625480" cy="520200"/>
          </a:xfrm>
        </p:grpSpPr>
        <p:sp>
          <p:nvSpPr>
            <p:cNvPr id="352" name=""/>
            <p:cNvSpPr/>
            <p:nvPr/>
          </p:nvSpPr>
          <p:spPr>
            <a:xfrm>
              <a:off x="309240" y="15238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46440" y="1523880"/>
              <a:ext cx="19882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aintenir la différenc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 press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661560" y="2590920"/>
            <a:ext cx="3657240" cy="520200"/>
            <a:chOff x="3661560" y="2590920"/>
            <a:chExt cx="3657240" cy="520200"/>
          </a:xfrm>
        </p:grpSpPr>
        <p:sp>
          <p:nvSpPr>
            <p:cNvPr id="356" name=""/>
            <p:cNvSpPr/>
            <p:nvPr/>
          </p:nvSpPr>
          <p:spPr>
            <a:xfrm>
              <a:off x="3661560" y="25909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3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77960" y="2590920"/>
              <a:ext cx="294084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aintenir la différence de press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our la chambre droite secondair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358" name=""/>
          <p:cNvCxnSpPr>
            <a:endCxn id="356" idx="1"/>
          </p:cNvCxnSpPr>
          <p:nvPr/>
        </p:nvCxnSpPr>
        <p:spPr>
          <a:xfrm>
            <a:off x="2935440" y="1787400"/>
            <a:ext cx="722520" cy="1067760"/>
          </a:xfrm>
          <a:prstGeom prst="bentConnector3">
            <a:avLst>
              <a:gd name="adj1" fmla="val 499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>
            <a:off x="2935440" y="1787040"/>
            <a:ext cx="722520" cy="1080"/>
          </a:xfrm>
          <a:prstGeom prst="straightConnector1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360" name=""/>
          <p:cNvGrpSpPr/>
          <p:nvPr/>
        </p:nvGrpSpPr>
        <p:grpSpPr>
          <a:xfrm>
            <a:off x="3661560" y="1523880"/>
            <a:ext cx="3628440" cy="520200"/>
            <a:chOff x="3661560" y="1523880"/>
            <a:chExt cx="3628440" cy="520200"/>
          </a:xfrm>
        </p:grpSpPr>
        <p:sp>
          <p:nvSpPr>
            <p:cNvPr id="361" name=""/>
            <p:cNvSpPr/>
            <p:nvPr/>
          </p:nvSpPr>
          <p:spPr>
            <a:xfrm>
              <a:off x="3661560" y="15238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3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78320" y="1523880"/>
              <a:ext cx="29116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aintenir la différence de press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our la chambre droite principal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315200" y="1676520"/>
            <a:ext cx="1371600" cy="152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5200" y="2743200"/>
            <a:ext cx="1371600" cy="152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Times New Roman"/>
              </a:rPr>
              <a:t>FT213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36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1 Recevoir l’énergie pneumatique du réseau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72" name="Ft11" descr=""/>
          <p:cNvPicPr/>
          <p:nvPr/>
        </p:nvPicPr>
        <p:blipFill>
          <a:blip r:embed="rId1"/>
          <a:srcRect l="9552" t="21205" r="29555" b="17922"/>
          <a:stretch/>
        </p:blipFill>
        <p:spPr>
          <a:xfrm>
            <a:off x="3200400" y="1905120"/>
            <a:ext cx="3886200" cy="3386160"/>
          </a:xfrm>
          <a:prstGeom prst="rect">
            <a:avLst/>
          </a:prstGeom>
          <a:ln w="0">
            <a:noFill/>
          </a:ln>
        </p:spPr>
      </p:pic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211 Alimenter en énergie pneumatiqu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75" name="ft1212" descr=""/>
          <p:cNvPicPr/>
          <p:nvPr/>
        </p:nvPicPr>
        <p:blipFill>
          <a:blip r:embed="rId1"/>
          <a:srcRect l="4776" t="16438" r="30747" b="19691"/>
          <a:stretch/>
        </p:blipFill>
        <p:spPr>
          <a:xfrm>
            <a:off x="2895480" y="2057400"/>
            <a:ext cx="3733920" cy="3224160"/>
          </a:xfrm>
          <a:prstGeom prst="rect">
            <a:avLst/>
          </a:prstGeom>
          <a:ln w="0">
            <a:noFill/>
          </a:ln>
        </p:spPr>
      </p:pic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212 Evacuer la pression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124080" y="1523880"/>
            <a:ext cx="3581640" cy="3413160"/>
            <a:chOff x="3124080" y="1523880"/>
            <a:chExt cx="3581640" cy="3413160"/>
          </a:xfrm>
        </p:grpSpPr>
        <p:pic>
          <p:nvPicPr>
            <p:cNvPr id="380" name="ft1211" descr=""/>
            <p:cNvPicPr/>
            <p:nvPr/>
          </p:nvPicPr>
          <p:blipFill>
            <a:blip r:embed="rId1">
              <a:lum contrast="48000"/>
            </a:blip>
            <a:srcRect l="11940" t="0" r="11643" b="16438"/>
            <a:stretch/>
          </p:blipFill>
          <p:spPr>
            <a:xfrm>
              <a:off x="3124080" y="1523880"/>
              <a:ext cx="3581640" cy="34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4994280" y="3606840"/>
              <a:ext cx="14400" cy="1249200"/>
            </a:xfrm>
            <a:custGeom>
              <a:avLst/>
              <a:gdLst/>
              <a:ahLst/>
              <a:rect l="l" t="t" r="r" b="b"/>
              <a:pathLst>
                <a:path w="9" h="787">
                  <a:moveTo>
                    <a:pt x="9" y="787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1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221 Déplacer le tiroir (Piston distributeur)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84" name="ft1221" descr=""/>
          <p:cNvPicPr/>
          <p:nvPr/>
        </p:nvPicPr>
        <p:blipFill>
          <a:blip r:embed="rId1"/>
          <a:srcRect l="4985" t="14537" r="3802" b="15958"/>
          <a:stretch/>
        </p:blipFill>
        <p:spPr>
          <a:xfrm>
            <a:off x="2819520" y="1523880"/>
            <a:ext cx="5867280" cy="3733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222 Rappeler le tiroir (Piston distributeur31) en position initial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87" name="ft1222" descr=""/>
          <p:cNvPicPr/>
          <p:nvPr/>
        </p:nvPicPr>
        <p:blipFill>
          <a:blip r:embed="rId1"/>
          <a:srcRect l="8315" t="25889" r="2001" b="20215"/>
          <a:stretch/>
        </p:blipFill>
        <p:spPr>
          <a:xfrm>
            <a:off x="2666880" y="1295280"/>
            <a:ext cx="6324840" cy="3384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123 Maintenir la différence de pression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90" name="ft123" descr=""/>
          <p:cNvPicPr/>
          <p:nvPr/>
        </p:nvPicPr>
        <p:blipFill>
          <a:blip r:embed="rId1"/>
          <a:srcRect l="14633" t="11700" r="8315" b="27305"/>
          <a:stretch/>
        </p:blipFill>
        <p:spPr>
          <a:xfrm>
            <a:off x="2819520" y="1371600"/>
            <a:ext cx="6172200" cy="4351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ft2111" descr=""/>
          <p:cNvPicPr/>
          <p:nvPr/>
        </p:nvPicPr>
        <p:blipFill>
          <a:blip r:embed="rId1"/>
          <a:srcRect l="9697" t="25343" r="8399" b="21236"/>
          <a:stretch/>
        </p:blipFill>
        <p:spPr>
          <a:xfrm>
            <a:off x="3048120" y="1828800"/>
            <a:ext cx="4800600" cy="297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11 Former la chambre droite principal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ft211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4911480" cy="4172040"/>
          </a:xfrm>
          <a:prstGeom prst="rect">
            <a:avLst/>
          </a:prstGeom>
          <a:ln w="0">
            <a:noFill/>
          </a:ln>
        </p:spPr>
      </p:pic>
      <p:pic>
        <p:nvPicPr>
          <p:cNvPr id="395" name="ft2112%20en%20plan" descr=""/>
          <p:cNvPicPr/>
          <p:nvPr/>
        </p:nvPicPr>
        <p:blipFill>
          <a:blip r:embed="rId2">
            <a:lum contrast="96000"/>
          </a:blip>
          <a:stretch/>
        </p:blipFill>
        <p:spPr>
          <a:xfrm>
            <a:off x="5486400" y="1523880"/>
            <a:ext cx="2666880" cy="22654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12 Former la chambre droite secondair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13 Alimenter la chambre droite principal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399" name="ft1212" descr=""/>
          <p:cNvPicPr/>
          <p:nvPr/>
        </p:nvPicPr>
        <p:blipFill>
          <a:blip r:embed="rId1"/>
          <a:srcRect l="4776" t="16438" r="30747" b="19691"/>
          <a:stretch/>
        </p:blipFill>
        <p:spPr>
          <a:xfrm>
            <a:off x="2895480" y="2057400"/>
            <a:ext cx="3733920" cy="3224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6280" y="1371600"/>
            <a:ext cx="1766880" cy="520200"/>
            <a:chOff x="386280" y="1371600"/>
            <a:chExt cx="1766880" cy="520200"/>
          </a:xfrm>
        </p:grpSpPr>
        <p:sp>
          <p:nvSpPr>
            <p:cNvPr id="119" name=""/>
            <p:cNvSpPr/>
            <p:nvPr/>
          </p:nvSpPr>
          <p:spPr>
            <a:xfrm>
              <a:off x="386280" y="1371600"/>
              <a:ext cx="4780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1680" y="1371600"/>
              <a:ext cx="13114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Gérer l’énergi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neumatiq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595960" y="1371600"/>
            <a:ext cx="2620440" cy="520200"/>
            <a:chOff x="2595960" y="1371600"/>
            <a:chExt cx="2620440" cy="520200"/>
          </a:xfrm>
        </p:grpSpPr>
        <p:sp>
          <p:nvSpPr>
            <p:cNvPr id="122" name=""/>
            <p:cNvSpPr/>
            <p:nvPr/>
          </p:nvSpPr>
          <p:spPr>
            <a:xfrm>
              <a:off x="2595960" y="137160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6880" y="137160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Recevoir l ’énergi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neumatique du réseau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95960" y="2514600"/>
            <a:ext cx="2620440" cy="520200"/>
            <a:chOff x="2595960" y="2514600"/>
            <a:chExt cx="2620440" cy="520200"/>
          </a:xfrm>
        </p:grpSpPr>
        <p:sp>
          <p:nvSpPr>
            <p:cNvPr id="125" name=""/>
            <p:cNvSpPr/>
            <p:nvPr/>
          </p:nvSpPr>
          <p:spPr>
            <a:xfrm>
              <a:off x="2595960" y="251460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06880" y="251460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Distribuer l ’énergi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neumat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127" name=""/>
          <p:cNvCxnSpPr>
            <a:stCxn id="120" idx="3"/>
            <a:endCxn id="122" idx="1"/>
          </p:cNvCxnSpPr>
          <p:nvPr/>
        </p:nvCxnSpPr>
        <p:spPr>
          <a:xfrm>
            <a:off x="2157480" y="1634760"/>
            <a:ext cx="434160" cy="1080"/>
          </a:xfrm>
          <a:prstGeom prst="bentConnector2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0" idx="3"/>
            <a:endCxn id="125" idx="1"/>
          </p:cNvCxnSpPr>
          <p:nvPr/>
        </p:nvCxnSpPr>
        <p:spPr>
          <a:xfrm>
            <a:off x="2157480" y="1634760"/>
            <a:ext cx="434160" cy="1143720"/>
          </a:xfrm>
          <a:prstGeom prst="bentConnector3">
            <a:avLst>
              <a:gd name="adj1" fmla="val 49792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129" name=""/>
          <p:cNvGrpSpPr/>
          <p:nvPr/>
        </p:nvGrpSpPr>
        <p:grpSpPr>
          <a:xfrm>
            <a:off x="5643000" y="2514600"/>
            <a:ext cx="2704320" cy="520200"/>
            <a:chOff x="5643000" y="2514600"/>
            <a:chExt cx="2704320" cy="520200"/>
          </a:xfrm>
        </p:grpSpPr>
        <p:sp>
          <p:nvSpPr>
            <p:cNvPr id="130" name=""/>
            <p:cNvSpPr/>
            <p:nvPr/>
          </p:nvSpPr>
          <p:spPr>
            <a:xfrm>
              <a:off x="5643000" y="251460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79840" y="2514600"/>
              <a:ext cx="20674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Transmettre l ’énergie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neumatique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43000" y="3352680"/>
            <a:ext cx="2694960" cy="520200"/>
            <a:chOff x="5643000" y="3352680"/>
            <a:chExt cx="2694960" cy="520200"/>
          </a:xfrm>
        </p:grpSpPr>
        <p:sp>
          <p:nvSpPr>
            <p:cNvPr id="133" name=""/>
            <p:cNvSpPr/>
            <p:nvPr/>
          </p:nvSpPr>
          <p:spPr>
            <a:xfrm>
              <a:off x="5643000" y="33526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81280" y="3352680"/>
              <a:ext cx="20566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ssurer l ’échapp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643000" y="4191120"/>
            <a:ext cx="2675520" cy="520200"/>
            <a:chOff x="5643000" y="4191120"/>
            <a:chExt cx="2675520" cy="520200"/>
          </a:xfrm>
        </p:grpSpPr>
        <p:sp>
          <p:nvSpPr>
            <p:cNvPr id="136" name=""/>
            <p:cNvSpPr/>
            <p:nvPr/>
          </p:nvSpPr>
          <p:spPr>
            <a:xfrm>
              <a:off x="5643000" y="419112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80200" y="4191120"/>
              <a:ext cx="20383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aintenir la différence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 pression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138" name=""/>
          <p:cNvCxnSpPr>
            <a:stCxn id="126" idx="3"/>
            <a:endCxn id="130" idx="1"/>
          </p:cNvCxnSpPr>
          <p:nvPr/>
        </p:nvCxnSpPr>
        <p:spPr>
          <a:xfrm>
            <a:off x="5222520" y="2777760"/>
            <a:ext cx="416520" cy="1080"/>
          </a:xfrm>
          <a:prstGeom prst="bentConnector2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6" idx="3"/>
            <a:endCxn id="133" idx="1"/>
          </p:cNvCxnSpPr>
          <p:nvPr/>
        </p:nvCxnSpPr>
        <p:spPr>
          <a:xfrm>
            <a:off x="5222520" y="2778120"/>
            <a:ext cx="416520" cy="83880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26" idx="3"/>
            <a:endCxn id="136" idx="1"/>
          </p:cNvCxnSpPr>
          <p:nvPr/>
        </p:nvCxnSpPr>
        <p:spPr>
          <a:xfrm>
            <a:off x="5222520" y="2777760"/>
            <a:ext cx="416520" cy="167724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5257800" y="1523880"/>
            <a:ext cx="3657600" cy="15264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8381880" y="2666880"/>
            <a:ext cx="533520" cy="228600"/>
          </a:xfrm>
          <a:prstGeom prst="rightArrow">
            <a:avLst>
              <a:gd name="adj1" fmla="val 5556"/>
              <a:gd name="adj2" fmla="val 60637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3" name="">
            <a:hlinkClick r:id="rId4" action="ppaction://hlinksldjump"/>
          </p:cNvPr>
          <p:cNvSpPr/>
          <p:nvPr/>
        </p:nvSpPr>
        <p:spPr>
          <a:xfrm>
            <a:off x="8381880" y="3505320"/>
            <a:ext cx="533520" cy="228600"/>
          </a:xfrm>
          <a:prstGeom prst="rightArrow">
            <a:avLst>
              <a:gd name="adj1" fmla="val 5556"/>
              <a:gd name="adj2" fmla="val 60637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>
            <a:hlinkClick r:id="rId5" action="ppaction://hlinksldjump"/>
          </p:cNvPr>
          <p:cNvSpPr/>
          <p:nvPr/>
        </p:nvSpPr>
        <p:spPr>
          <a:xfrm>
            <a:off x="8381880" y="4343400"/>
            <a:ext cx="609840" cy="152280"/>
          </a:xfrm>
          <a:custGeom>
            <a:avLst/>
            <a:gdLst>
              <a:gd name="textAreaLeft" fmla="*/ 95040 w 609840"/>
              <a:gd name="textAreaRight" fmla="*/ 533880 w 6098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Times New Roman"/>
              </a:rPr>
              <a:t>FT1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14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ft2114" descr=""/>
          <p:cNvPicPr/>
          <p:nvPr/>
        </p:nvPicPr>
        <p:blipFill>
          <a:blip r:embed="rId1"/>
          <a:srcRect l="4618" t="0" r="0" b="0"/>
          <a:stretch/>
        </p:blipFill>
        <p:spPr>
          <a:xfrm>
            <a:off x="2819520" y="1600200"/>
            <a:ext cx="4724280" cy="38354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14 Alimenter la chambre droite secondair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21 Mettre la chambre gauche principale à l’échappement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05" name="ft2121" descr=""/>
          <p:cNvPicPr/>
          <p:nvPr/>
        </p:nvPicPr>
        <p:blipFill>
          <a:blip r:embed="rId1"/>
          <a:srcRect l="9460" t="11700" r="0" b="6031"/>
          <a:stretch/>
        </p:blipFill>
        <p:spPr>
          <a:xfrm>
            <a:off x="2895480" y="1371600"/>
            <a:ext cx="595656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22 Mettre la chambre gauche secondaire à l’échappement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07" name="ft2122" descr=""/>
          <p:cNvPicPr/>
          <p:nvPr/>
        </p:nvPicPr>
        <p:blipFill>
          <a:blip r:embed="rId1"/>
          <a:srcRect l="8540" t="8868" r="3802" b="17374"/>
          <a:stretch/>
        </p:blipFill>
        <p:spPr>
          <a:xfrm>
            <a:off x="2895480" y="1828800"/>
            <a:ext cx="5639040" cy="39625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31 Maintenir la différence de pression pour la chambre droite principal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11" name="ft2131" descr=""/>
          <p:cNvPicPr/>
          <p:nvPr/>
        </p:nvPicPr>
        <p:blipFill>
          <a:blip r:embed="rId1"/>
          <a:srcRect l="8300" t="7447" r="3670" b="7447"/>
          <a:stretch/>
        </p:blipFill>
        <p:spPr>
          <a:xfrm>
            <a:off x="2895480" y="1295280"/>
            <a:ext cx="5791320" cy="4572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132 Maintenir la différence de pression pour la chambre droite secondair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14" name="ft2132" descr=""/>
          <p:cNvPicPr/>
          <p:nvPr/>
        </p:nvPicPr>
        <p:blipFill>
          <a:blip r:embed="rId1"/>
          <a:srcRect l="2510" t="7447" r="7143" b="6031"/>
          <a:stretch/>
        </p:blipFill>
        <p:spPr>
          <a:xfrm>
            <a:off x="3048120" y="1143000"/>
            <a:ext cx="594360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2 Convertir Δp en effort F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17" name="ft22" descr=""/>
          <p:cNvPicPr/>
          <p:nvPr/>
        </p:nvPicPr>
        <p:blipFill>
          <a:blip r:embed="rId1"/>
          <a:srcRect l="12936" t="21632" r="0" b="23052"/>
          <a:stretch/>
        </p:blipFill>
        <p:spPr>
          <a:xfrm>
            <a:off x="2895480" y="1905120"/>
            <a:ext cx="5715000" cy="2971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231 Emmagasiner une énergie mécaniqu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20" name="ft231" descr=""/>
          <p:cNvPicPr/>
          <p:nvPr/>
        </p:nvPicPr>
        <p:blipFill>
          <a:blip r:embed="rId1"/>
          <a:srcRect l="3473" t="3194" r="0" b="10284"/>
          <a:stretch/>
        </p:blipFill>
        <p:spPr>
          <a:xfrm>
            <a:off x="2895480" y="1371600"/>
            <a:ext cx="6019920" cy="4406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31 Transmettre le flux d’action mécaniqu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22" name="ft31" descr=""/>
          <p:cNvPicPr/>
          <p:nvPr/>
        </p:nvPicPr>
        <p:blipFill>
          <a:blip r:embed="rId1"/>
          <a:srcRect l="9460" t="15958" r="0" b="15958"/>
          <a:stretch/>
        </p:blipFill>
        <p:spPr>
          <a:xfrm>
            <a:off x="2819520" y="1600200"/>
            <a:ext cx="5956200" cy="36576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32 Guider en translation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25" name="ft32" descr=""/>
          <p:cNvPicPr/>
          <p:nvPr/>
        </p:nvPicPr>
        <p:blipFill>
          <a:blip r:embed="rId1"/>
          <a:srcRect l="0" t="14537" r="4985" b="17378"/>
          <a:stretch/>
        </p:blipFill>
        <p:spPr>
          <a:xfrm>
            <a:off x="2819520" y="1828800"/>
            <a:ext cx="6111720" cy="3657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33 Transformer le flux d’action mécaniqu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29" name="ft33" descr=""/>
          <p:cNvPicPr/>
          <p:nvPr/>
        </p:nvPicPr>
        <p:blipFill>
          <a:blip r:embed="rId1"/>
          <a:srcRect l="4985" t="28726" r="4985" b="25889"/>
          <a:stretch/>
        </p:blipFill>
        <p:spPr>
          <a:xfrm>
            <a:off x="2743200" y="2209680"/>
            <a:ext cx="579132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57680" y="1371600"/>
            <a:ext cx="2195640" cy="733320"/>
            <a:chOff x="157680" y="1371600"/>
            <a:chExt cx="2195640" cy="733320"/>
          </a:xfrm>
        </p:grpSpPr>
        <p:sp>
          <p:nvSpPr>
            <p:cNvPr id="152" name=""/>
            <p:cNvSpPr/>
            <p:nvPr/>
          </p:nvSpPr>
          <p:spPr>
            <a:xfrm>
              <a:off x="157680" y="1371600"/>
              <a:ext cx="478080" cy="73332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2000" y="1371600"/>
              <a:ext cx="1741320" cy="73332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Convertir l’énergi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pneumatiqu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en énergie mécaniq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48240" y="1447920"/>
            <a:ext cx="2620440" cy="520200"/>
            <a:chOff x="2748240" y="1447920"/>
            <a:chExt cx="2620440" cy="520200"/>
          </a:xfrm>
        </p:grpSpPr>
        <p:sp>
          <p:nvSpPr>
            <p:cNvPr id="156" name=""/>
            <p:cNvSpPr/>
            <p:nvPr/>
          </p:nvSpPr>
          <p:spPr>
            <a:xfrm>
              <a:off x="2748240" y="144792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9160" y="1447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isposer d’un écar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 pression </a:t>
              </a:r>
              <a:r>
                <a:rPr b="0" lang="fr-FR" sz="1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748240" y="3886200"/>
            <a:ext cx="2632320" cy="523440"/>
            <a:chOff x="2748240" y="3886200"/>
            <a:chExt cx="2632320" cy="523440"/>
          </a:xfrm>
        </p:grpSpPr>
        <p:sp>
          <p:nvSpPr>
            <p:cNvPr id="159" name=""/>
            <p:cNvSpPr/>
            <p:nvPr/>
          </p:nvSpPr>
          <p:spPr>
            <a:xfrm>
              <a:off x="2748240" y="388944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50880" y="3886200"/>
              <a:ext cx="20296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Convertir </a:t>
              </a:r>
              <a:r>
                <a:rPr b="0" lang="fr-FR" sz="1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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 en effort F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48240" y="4876920"/>
            <a:ext cx="2620440" cy="520200"/>
            <a:chOff x="2748240" y="4876920"/>
            <a:chExt cx="2620440" cy="520200"/>
          </a:xfrm>
        </p:grpSpPr>
        <p:sp>
          <p:nvSpPr>
            <p:cNvPr id="162" name=""/>
            <p:cNvSpPr/>
            <p:nvPr/>
          </p:nvSpPr>
          <p:spPr>
            <a:xfrm>
              <a:off x="2748240" y="487692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4876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Initialiser l’ensembl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obil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719320" y="1447920"/>
            <a:ext cx="2654640" cy="520200"/>
            <a:chOff x="5719320" y="1447920"/>
            <a:chExt cx="2654640" cy="520200"/>
          </a:xfrm>
        </p:grpSpPr>
        <p:sp>
          <p:nvSpPr>
            <p:cNvPr id="165" name=""/>
            <p:cNvSpPr/>
            <p:nvPr/>
          </p:nvSpPr>
          <p:spPr>
            <a:xfrm>
              <a:off x="5719320" y="144792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64440" y="1447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Recevoir la pression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otrice Pm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719320" y="2209680"/>
            <a:ext cx="2645280" cy="520200"/>
            <a:chOff x="5719320" y="2209680"/>
            <a:chExt cx="2645280" cy="520200"/>
          </a:xfrm>
        </p:grpSpPr>
        <p:sp>
          <p:nvSpPr>
            <p:cNvPr id="168" name=""/>
            <p:cNvSpPr/>
            <p:nvPr/>
          </p:nvSpPr>
          <p:spPr>
            <a:xfrm>
              <a:off x="5719320" y="22096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57960" y="2209680"/>
              <a:ext cx="200664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ssurer l’échapp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719320" y="4876920"/>
            <a:ext cx="2337120" cy="520200"/>
            <a:chOff x="5719320" y="4876920"/>
            <a:chExt cx="2337120" cy="520200"/>
          </a:xfrm>
        </p:grpSpPr>
        <p:sp>
          <p:nvSpPr>
            <p:cNvPr id="171" name=""/>
            <p:cNvSpPr/>
            <p:nvPr/>
          </p:nvSpPr>
          <p:spPr>
            <a:xfrm>
              <a:off x="5719320" y="487692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3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9400" y="4876920"/>
              <a:ext cx="169704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Emmagasiner un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énergie mécaniq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719320" y="2971800"/>
            <a:ext cx="2625840" cy="520200"/>
            <a:chOff x="5719320" y="2971800"/>
            <a:chExt cx="2625840" cy="520200"/>
          </a:xfrm>
        </p:grpSpPr>
        <p:sp>
          <p:nvSpPr>
            <p:cNvPr id="174" name=""/>
            <p:cNvSpPr/>
            <p:nvPr/>
          </p:nvSpPr>
          <p:spPr>
            <a:xfrm>
              <a:off x="5719320" y="297180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56880" y="2971800"/>
              <a:ext cx="19882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aintenir la différenc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 press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176" name=""/>
          <p:cNvCxnSpPr>
            <a:stCxn id="153" idx="3"/>
            <a:endCxn id="159" idx="1"/>
          </p:cNvCxnSpPr>
          <p:nvPr/>
        </p:nvCxnSpPr>
        <p:spPr>
          <a:xfrm>
            <a:off x="2355840" y="1740960"/>
            <a:ext cx="388080" cy="2412360"/>
          </a:xfrm>
          <a:prstGeom prst="bentConnector3">
            <a:avLst>
              <a:gd name="adj1" fmla="val 49953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53" idx="3"/>
            <a:endCxn id="162" idx="1"/>
          </p:cNvCxnSpPr>
          <p:nvPr/>
        </p:nvCxnSpPr>
        <p:spPr>
          <a:xfrm>
            <a:off x="2355840" y="1741320"/>
            <a:ext cx="388080" cy="3399840"/>
          </a:xfrm>
          <a:prstGeom prst="bentConnector3">
            <a:avLst>
              <a:gd name="adj1" fmla="val 49953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53" idx="3"/>
            <a:endCxn id="156" idx="1"/>
          </p:cNvCxnSpPr>
          <p:nvPr/>
        </p:nvCxnSpPr>
        <p:spPr>
          <a:xfrm flipV="1">
            <a:off x="2355840" y="1710720"/>
            <a:ext cx="388080" cy="30600"/>
          </a:xfrm>
          <a:prstGeom prst="bentConnector3">
            <a:avLst>
              <a:gd name="adj1" fmla="val 49953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57" idx="3"/>
            <a:endCxn id="165" idx="1"/>
          </p:cNvCxnSpPr>
          <p:nvPr/>
        </p:nvCxnSpPr>
        <p:spPr>
          <a:xfrm>
            <a:off x="5375160" y="1711080"/>
            <a:ext cx="340200" cy="1080"/>
          </a:xfrm>
          <a:prstGeom prst="bentConnector2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57" idx="3"/>
            <a:endCxn id="174" idx="1"/>
          </p:cNvCxnSpPr>
          <p:nvPr/>
        </p:nvCxnSpPr>
        <p:spPr>
          <a:xfrm>
            <a:off x="5375160" y="1711080"/>
            <a:ext cx="340200" cy="152460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57" idx="3"/>
            <a:endCxn id="168" idx="1"/>
          </p:cNvCxnSpPr>
          <p:nvPr/>
        </p:nvCxnSpPr>
        <p:spPr>
          <a:xfrm>
            <a:off x="5375160" y="1711440"/>
            <a:ext cx="340200" cy="76248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3" idx="3"/>
            <a:endCxn id="171" idx="1"/>
          </p:cNvCxnSpPr>
          <p:nvPr/>
        </p:nvCxnSpPr>
        <p:spPr>
          <a:xfrm>
            <a:off x="5375160" y="5140080"/>
            <a:ext cx="340200" cy="1080"/>
          </a:xfrm>
          <a:prstGeom prst="bentConnector2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8077320" y="5029200"/>
            <a:ext cx="914400" cy="152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5410080" y="4038480"/>
            <a:ext cx="3581640" cy="152640"/>
          </a:xfrm>
          <a:custGeom>
            <a:avLst/>
            <a:gdLst>
              <a:gd name="textAreaLeft" fmla="*/ 559440 w 3581640"/>
              <a:gd name="textAreaRight" fmla="*/ 3134160 w 35816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8381880" y="1600200"/>
            <a:ext cx="533520" cy="228600"/>
          </a:xfrm>
          <a:prstGeom prst="rightArrow">
            <a:avLst>
              <a:gd name="adj1" fmla="val 5556"/>
              <a:gd name="adj2" fmla="val 60637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2362320"/>
            <a:ext cx="533520" cy="228600"/>
          </a:xfrm>
          <a:prstGeom prst="rightArrow">
            <a:avLst>
              <a:gd name="adj1" fmla="val 5556"/>
              <a:gd name="adj2" fmla="val 60637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8381880" y="3124080"/>
            <a:ext cx="533520" cy="228600"/>
          </a:xfrm>
          <a:prstGeom prst="rightArrow">
            <a:avLst>
              <a:gd name="adj1" fmla="val 5556"/>
              <a:gd name="adj2" fmla="val 60637"/>
            </a:avLst>
          </a:prstGeom>
          <a:solidFill>
            <a:srgbClr val="ffffff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Times New Roman"/>
              </a:rPr>
              <a:t>FT2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190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34 Arrêter en fin de cours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31" name="ft34" descr=""/>
          <p:cNvPicPr/>
          <p:nvPr/>
        </p:nvPicPr>
        <p:blipFill>
          <a:blip r:embed="rId1"/>
          <a:srcRect l="9460" t="23052" r="5983" b="21632"/>
          <a:stretch/>
        </p:blipFill>
        <p:spPr>
          <a:xfrm>
            <a:off x="2819520" y="1981080"/>
            <a:ext cx="5562360" cy="2971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41 Former une lame et une contre lame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35" name="ft41" descr=""/>
          <p:cNvPicPr/>
          <p:nvPr/>
        </p:nvPicPr>
        <p:blipFill>
          <a:blip r:embed="rId1"/>
          <a:srcRect l="4985" t="7447" r="3802" b="10284"/>
          <a:stretch/>
        </p:blipFill>
        <p:spPr>
          <a:xfrm>
            <a:off x="2895480" y="1371600"/>
            <a:ext cx="586764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421 Former un axe de rotation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37" name="ft421" descr=""/>
          <p:cNvPicPr/>
          <p:nvPr/>
        </p:nvPicPr>
        <p:blipFill>
          <a:blip r:embed="rId1"/>
          <a:srcRect l="9723" t="21632" r="4985" b="17378"/>
          <a:stretch/>
        </p:blipFill>
        <p:spPr>
          <a:xfrm>
            <a:off x="2819520" y="1905120"/>
            <a:ext cx="5486400" cy="32763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99"/>
                </a:solidFill>
                <a:latin typeface="Arial Narrow"/>
              </a:rPr>
              <a:t>FT422 Contrôler l’écart des lames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440" name="ft422" descr=""/>
          <p:cNvPicPr/>
          <p:nvPr/>
        </p:nvPicPr>
        <p:blipFill>
          <a:blip r:embed="rId1">
            <a:lum contrast="36000"/>
          </a:blip>
          <a:srcRect l="22199" t="17374" r="8300" b="21632"/>
          <a:stretch/>
        </p:blipFill>
        <p:spPr>
          <a:xfrm>
            <a:off x="2895480" y="1295280"/>
            <a:ext cx="6096240" cy="43689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14880" y="1371600"/>
            <a:ext cx="2093760" cy="520200"/>
            <a:chOff x="614880" y="1371600"/>
            <a:chExt cx="2093760" cy="520200"/>
          </a:xfrm>
        </p:grpSpPr>
        <p:sp>
          <p:nvSpPr>
            <p:cNvPr id="195" name=""/>
            <p:cNvSpPr/>
            <p:nvPr/>
          </p:nvSpPr>
          <p:spPr>
            <a:xfrm>
              <a:off x="614880" y="1371600"/>
              <a:ext cx="4780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7760" y="1371600"/>
              <a:ext cx="16408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Transmettre l’effort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vers la lame mobil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662640" y="1371600"/>
            <a:ext cx="2620440" cy="520200"/>
            <a:chOff x="3662640" y="1371600"/>
            <a:chExt cx="2620440" cy="520200"/>
          </a:xfrm>
        </p:grpSpPr>
        <p:sp>
          <p:nvSpPr>
            <p:cNvPr id="199" name=""/>
            <p:cNvSpPr/>
            <p:nvPr/>
          </p:nvSpPr>
          <p:spPr>
            <a:xfrm>
              <a:off x="3662640" y="137160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3560" y="137160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Transmettre le flux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 ’action mécan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662640" y="2133720"/>
            <a:ext cx="2620440" cy="520200"/>
            <a:chOff x="3662640" y="2133720"/>
            <a:chExt cx="2620440" cy="520200"/>
          </a:xfrm>
        </p:grpSpPr>
        <p:sp>
          <p:nvSpPr>
            <p:cNvPr id="202" name=""/>
            <p:cNvSpPr/>
            <p:nvPr/>
          </p:nvSpPr>
          <p:spPr>
            <a:xfrm>
              <a:off x="3662640" y="213372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73560" y="21337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Guider en translation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3662640" y="2895480"/>
            <a:ext cx="2620440" cy="520200"/>
            <a:chOff x="3662640" y="2895480"/>
            <a:chExt cx="2620440" cy="520200"/>
          </a:xfrm>
        </p:grpSpPr>
        <p:sp>
          <p:nvSpPr>
            <p:cNvPr id="205" name=""/>
            <p:cNvSpPr/>
            <p:nvPr/>
          </p:nvSpPr>
          <p:spPr>
            <a:xfrm>
              <a:off x="3662640" y="289548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73560" y="289548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Transformer le flux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 ’action mécan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62640" y="3733920"/>
            <a:ext cx="2620440" cy="520200"/>
            <a:chOff x="3662640" y="3733920"/>
            <a:chExt cx="2620440" cy="520200"/>
          </a:xfrm>
        </p:grpSpPr>
        <p:sp>
          <p:nvSpPr>
            <p:cNvPr id="208" name=""/>
            <p:cNvSpPr/>
            <p:nvPr/>
          </p:nvSpPr>
          <p:spPr>
            <a:xfrm>
              <a:off x="3662640" y="373392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73560" y="3733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rrêter en fin d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cours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196" idx="3"/>
            <a:endCxn id="199" idx="1"/>
          </p:cNvCxnSpPr>
          <p:nvPr/>
        </p:nvCxnSpPr>
        <p:spPr>
          <a:xfrm>
            <a:off x="2709360" y="1634760"/>
            <a:ext cx="948600" cy="1080"/>
          </a:xfrm>
          <a:prstGeom prst="bentConnector2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6" idx="3"/>
            <a:endCxn id="202" idx="1"/>
          </p:cNvCxnSpPr>
          <p:nvPr/>
        </p:nvCxnSpPr>
        <p:spPr>
          <a:xfrm>
            <a:off x="2709360" y="1634760"/>
            <a:ext cx="948600" cy="762840"/>
          </a:xfrm>
          <a:prstGeom prst="bentConnector3">
            <a:avLst>
              <a:gd name="adj1" fmla="val 4988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96" idx="3"/>
            <a:endCxn id="205" idx="1"/>
          </p:cNvCxnSpPr>
          <p:nvPr/>
        </p:nvCxnSpPr>
        <p:spPr>
          <a:xfrm>
            <a:off x="2709360" y="1634760"/>
            <a:ext cx="948600" cy="1524600"/>
          </a:xfrm>
          <a:prstGeom prst="bentConnector3">
            <a:avLst>
              <a:gd name="adj1" fmla="val 4988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96" idx="3"/>
            <a:endCxn id="208" idx="1"/>
          </p:cNvCxnSpPr>
          <p:nvPr/>
        </p:nvCxnSpPr>
        <p:spPr>
          <a:xfrm>
            <a:off x="2709360" y="1635120"/>
            <a:ext cx="948600" cy="2363040"/>
          </a:xfrm>
          <a:prstGeom prst="bentConnector3">
            <a:avLst>
              <a:gd name="adj1" fmla="val 4988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6324480" y="1523880"/>
            <a:ext cx="2210040" cy="152640"/>
          </a:xfrm>
          <a:custGeom>
            <a:avLst/>
            <a:gdLst>
              <a:gd name="textAreaLeft" fmla="*/ 345240 w 2210040"/>
              <a:gd name="textAreaRight" fmla="*/ 1933920 w 22100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6324480" y="2286000"/>
            <a:ext cx="2210040" cy="152280"/>
          </a:xfrm>
          <a:custGeom>
            <a:avLst/>
            <a:gdLst>
              <a:gd name="textAreaLeft" fmla="*/ 345240 w 2210040"/>
              <a:gd name="textAreaRight" fmla="*/ 1933920 w 2210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>
            <a:hlinkClick r:id="rId3" action="ppaction://hlinksldjump"/>
          </p:cNvPr>
          <p:cNvSpPr/>
          <p:nvPr/>
        </p:nvSpPr>
        <p:spPr>
          <a:xfrm>
            <a:off x="6324480" y="3048120"/>
            <a:ext cx="2210040" cy="152280"/>
          </a:xfrm>
          <a:custGeom>
            <a:avLst/>
            <a:gdLst>
              <a:gd name="textAreaLeft" fmla="*/ 345240 w 2210040"/>
              <a:gd name="textAreaRight" fmla="*/ 1933920 w 2210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>
            <a:hlinkClick r:id="rId4" action="ppaction://hlinksldjump"/>
          </p:cNvPr>
          <p:cNvSpPr/>
          <p:nvPr/>
        </p:nvSpPr>
        <p:spPr>
          <a:xfrm>
            <a:off x="6324480" y="3886200"/>
            <a:ext cx="2210040" cy="152280"/>
          </a:xfrm>
          <a:custGeom>
            <a:avLst/>
            <a:gdLst>
              <a:gd name="textAreaLeft" fmla="*/ 345240 w 2210040"/>
              <a:gd name="textAreaRight" fmla="*/ 1933920 w 2210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662640" y="1371600"/>
            <a:ext cx="2620440" cy="520200"/>
            <a:chOff x="3662640" y="1371600"/>
            <a:chExt cx="2620440" cy="520200"/>
          </a:xfrm>
        </p:grpSpPr>
        <p:sp>
          <p:nvSpPr>
            <p:cNvPr id="219" name=""/>
            <p:cNvSpPr/>
            <p:nvPr/>
          </p:nvSpPr>
          <p:spPr>
            <a:xfrm>
              <a:off x="3662640" y="137160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3560" y="137160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Transmettre le flux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 ’action mécaniqu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662640" y="2133720"/>
            <a:ext cx="2620440" cy="520200"/>
            <a:chOff x="3662640" y="2133720"/>
            <a:chExt cx="2620440" cy="520200"/>
          </a:xfrm>
        </p:grpSpPr>
        <p:sp>
          <p:nvSpPr>
            <p:cNvPr id="222" name=""/>
            <p:cNvSpPr/>
            <p:nvPr/>
          </p:nvSpPr>
          <p:spPr>
            <a:xfrm>
              <a:off x="3662640" y="213372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3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3560" y="21337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Guider en translation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24" name=""/>
          <p:cNvCxnSpPr>
            <a:endCxn id="219" idx="1"/>
          </p:cNvCxnSpPr>
          <p:nvPr/>
        </p:nvCxnSpPr>
        <p:spPr>
          <a:xfrm>
            <a:off x="2709360" y="1634760"/>
            <a:ext cx="948600" cy="1080"/>
          </a:xfrm>
          <a:prstGeom prst="bentConnector2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endCxn id="222" idx="1"/>
          </p:cNvCxnSpPr>
          <p:nvPr/>
        </p:nvCxnSpPr>
        <p:spPr>
          <a:xfrm>
            <a:off x="2709360" y="1634760"/>
            <a:ext cx="948600" cy="762840"/>
          </a:xfrm>
          <a:prstGeom prst="bentConnector3">
            <a:avLst>
              <a:gd name="adj1" fmla="val 49886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Times New Roman"/>
              </a:rPr>
              <a:t>FT3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228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310320" y="1371600"/>
            <a:ext cx="1502640" cy="520200"/>
            <a:chOff x="310320" y="1371600"/>
            <a:chExt cx="1502640" cy="520200"/>
          </a:xfrm>
        </p:grpSpPr>
        <p:sp>
          <p:nvSpPr>
            <p:cNvPr id="233" name=""/>
            <p:cNvSpPr/>
            <p:nvPr/>
          </p:nvSpPr>
          <p:spPr>
            <a:xfrm>
              <a:off x="310320" y="1371600"/>
              <a:ext cx="4780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5000" y="1371600"/>
              <a:ext cx="104796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Réaliser un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cisaill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291040" y="1371600"/>
            <a:ext cx="2620440" cy="520200"/>
            <a:chOff x="2291040" y="1371600"/>
            <a:chExt cx="2620440" cy="520200"/>
          </a:xfrm>
        </p:grpSpPr>
        <p:sp>
          <p:nvSpPr>
            <p:cNvPr id="237" name=""/>
            <p:cNvSpPr/>
            <p:nvPr/>
          </p:nvSpPr>
          <p:spPr>
            <a:xfrm>
              <a:off x="2291040" y="137160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01960" y="137160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Former une lame et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une contre lam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39" name=""/>
          <p:cNvCxnSpPr>
            <a:stCxn id="234" idx="3"/>
            <a:endCxn id="237" idx="1"/>
          </p:cNvCxnSpPr>
          <p:nvPr/>
        </p:nvCxnSpPr>
        <p:spPr>
          <a:xfrm>
            <a:off x="1815840" y="1634760"/>
            <a:ext cx="470520" cy="1080"/>
          </a:xfrm>
          <a:prstGeom prst="bentConnector2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240" name=""/>
          <p:cNvGrpSpPr/>
          <p:nvPr/>
        </p:nvGrpSpPr>
        <p:grpSpPr>
          <a:xfrm>
            <a:off x="2291040" y="2209680"/>
            <a:ext cx="2620440" cy="520200"/>
            <a:chOff x="2291040" y="2209680"/>
            <a:chExt cx="2620440" cy="520200"/>
          </a:xfrm>
        </p:grpSpPr>
        <p:sp>
          <p:nvSpPr>
            <p:cNvPr id="241" name=""/>
            <p:cNvSpPr/>
            <p:nvPr/>
          </p:nvSpPr>
          <p:spPr>
            <a:xfrm>
              <a:off x="2291040" y="2209680"/>
              <a:ext cx="56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01960" y="220968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rticuler la lam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obil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34" idx="3"/>
            <a:endCxn id="241" idx="1"/>
          </p:cNvCxnSpPr>
          <p:nvPr/>
        </p:nvCxnSpPr>
        <p:spPr>
          <a:xfrm>
            <a:off x="1815840" y="1635120"/>
            <a:ext cx="47052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244" name=""/>
          <p:cNvGrpSpPr/>
          <p:nvPr/>
        </p:nvGrpSpPr>
        <p:grpSpPr>
          <a:xfrm>
            <a:off x="5567040" y="2209680"/>
            <a:ext cx="2146680" cy="520200"/>
            <a:chOff x="5567040" y="2209680"/>
            <a:chExt cx="2146680" cy="520200"/>
          </a:xfrm>
        </p:grpSpPr>
        <p:sp>
          <p:nvSpPr>
            <p:cNvPr id="245" name=""/>
            <p:cNvSpPr/>
            <p:nvPr/>
          </p:nvSpPr>
          <p:spPr>
            <a:xfrm>
              <a:off x="5567040" y="22096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2209680"/>
              <a:ext cx="1541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Former un axe 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 rotation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7" name="">
            <a:hlinkClick r:id="rId1" action="ppaction://hlinksldjump"/>
          </p:cNvPr>
          <p:cNvSpPr/>
          <p:nvPr/>
        </p:nvSpPr>
        <p:spPr>
          <a:xfrm>
            <a:off x="7772400" y="23623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67040" y="3124080"/>
            <a:ext cx="2147400" cy="520200"/>
            <a:chOff x="5567040" y="3124080"/>
            <a:chExt cx="2147400" cy="520200"/>
          </a:xfrm>
        </p:grpSpPr>
        <p:sp>
          <p:nvSpPr>
            <p:cNvPr id="249" name=""/>
            <p:cNvSpPr/>
            <p:nvPr/>
          </p:nvSpPr>
          <p:spPr>
            <a:xfrm>
              <a:off x="5567040" y="31240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4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2920" y="3124080"/>
              <a:ext cx="1541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Contrôler l ’écart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es lames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51" name=""/>
          <p:cNvCxnSpPr>
            <a:stCxn id="242" idx="3"/>
            <a:endCxn id="245" idx="1"/>
          </p:cNvCxnSpPr>
          <p:nvPr/>
        </p:nvCxnSpPr>
        <p:spPr>
          <a:xfrm>
            <a:off x="4917600" y="2472840"/>
            <a:ext cx="645480" cy="1080"/>
          </a:xfrm>
          <a:prstGeom prst="bentConnector2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2" idx="3"/>
            <a:endCxn id="249" idx="1"/>
          </p:cNvCxnSpPr>
          <p:nvPr/>
        </p:nvCxnSpPr>
        <p:spPr>
          <a:xfrm>
            <a:off x="4917600" y="2473200"/>
            <a:ext cx="645480" cy="915120"/>
          </a:xfrm>
          <a:prstGeom prst="bentConnector3">
            <a:avLst>
              <a:gd name="adj1" fmla="val 50000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7772400" y="327672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>
            <a:hlinkClick r:id="rId3" action="ppaction://hlinksldjump"/>
          </p:cNvPr>
          <p:cNvSpPr/>
          <p:nvPr/>
        </p:nvSpPr>
        <p:spPr>
          <a:xfrm>
            <a:off x="4952880" y="1523880"/>
            <a:ext cx="3429000" cy="1526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99"/>
                </a:solidFill>
                <a:latin typeface="Times New Roman"/>
              </a:rPr>
              <a:t>FT4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25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232920" y="1523880"/>
            <a:ext cx="2704320" cy="520200"/>
            <a:chOff x="232920" y="1523880"/>
            <a:chExt cx="2704320" cy="520200"/>
          </a:xfrm>
        </p:grpSpPr>
        <p:sp>
          <p:nvSpPr>
            <p:cNvPr id="262" name=""/>
            <p:cNvSpPr/>
            <p:nvPr/>
          </p:nvSpPr>
          <p:spPr>
            <a:xfrm>
              <a:off x="232920" y="15238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9760" y="1523880"/>
              <a:ext cx="20674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Transmettre l ’énergie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neumatique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661560" y="2590920"/>
            <a:ext cx="2737440" cy="520200"/>
            <a:chOff x="3661560" y="2590920"/>
            <a:chExt cx="2737440" cy="520200"/>
          </a:xfrm>
        </p:grpSpPr>
        <p:sp>
          <p:nvSpPr>
            <p:cNvPr id="266" name=""/>
            <p:cNvSpPr/>
            <p:nvPr/>
          </p:nvSpPr>
          <p:spPr>
            <a:xfrm>
              <a:off x="3661560" y="25909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1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89480" y="2590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Evacuer la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ression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68" name=""/>
          <p:cNvCxnSpPr>
            <a:stCxn id="263" idx="3"/>
            <a:endCxn id="266" idx="1"/>
          </p:cNvCxnSpPr>
          <p:nvPr/>
        </p:nvCxnSpPr>
        <p:spPr>
          <a:xfrm>
            <a:off x="2935440" y="1787400"/>
            <a:ext cx="722520" cy="1067760"/>
          </a:xfrm>
          <a:prstGeom prst="bentConnector3">
            <a:avLst>
              <a:gd name="adj1" fmla="val 499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3" idx="3"/>
          </p:cNvCxnSpPr>
          <p:nvPr/>
        </p:nvCxnSpPr>
        <p:spPr>
          <a:xfrm>
            <a:off x="2935440" y="1787040"/>
            <a:ext cx="722520" cy="1080"/>
          </a:xfrm>
          <a:prstGeom prst="straightConnector1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270" name=""/>
          <p:cNvGrpSpPr/>
          <p:nvPr/>
        </p:nvGrpSpPr>
        <p:grpSpPr>
          <a:xfrm>
            <a:off x="3661560" y="1523880"/>
            <a:ext cx="2698560" cy="520200"/>
            <a:chOff x="3661560" y="1523880"/>
            <a:chExt cx="2698560" cy="520200"/>
          </a:xfrm>
        </p:grpSpPr>
        <p:sp>
          <p:nvSpPr>
            <p:cNvPr id="271" name=""/>
            <p:cNvSpPr/>
            <p:nvPr/>
          </p:nvSpPr>
          <p:spPr>
            <a:xfrm>
              <a:off x="3661560" y="15238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1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82640" y="1523880"/>
              <a:ext cx="19774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limenter en énergie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neumatiqu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6400800" y="167652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6477120" y="274320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Times New Roman"/>
              </a:rPr>
              <a:t>FT121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27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32920" y="1523880"/>
            <a:ext cx="2694960" cy="520200"/>
            <a:chOff x="232920" y="1523880"/>
            <a:chExt cx="2694960" cy="520200"/>
          </a:xfrm>
        </p:grpSpPr>
        <p:sp>
          <p:nvSpPr>
            <p:cNvPr id="282" name=""/>
            <p:cNvSpPr/>
            <p:nvPr/>
          </p:nvSpPr>
          <p:spPr>
            <a:xfrm>
              <a:off x="232920" y="15238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1200" y="1523880"/>
              <a:ext cx="20566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ssurer l ’échapp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661560" y="2590920"/>
            <a:ext cx="2737440" cy="520200"/>
            <a:chOff x="3661560" y="2590920"/>
            <a:chExt cx="2737440" cy="520200"/>
          </a:xfrm>
        </p:grpSpPr>
        <p:sp>
          <p:nvSpPr>
            <p:cNvPr id="286" name=""/>
            <p:cNvSpPr/>
            <p:nvPr/>
          </p:nvSpPr>
          <p:spPr>
            <a:xfrm>
              <a:off x="3661560" y="25909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89480" y="2590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Rappeler le tiroir en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osition initiale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288" name=""/>
          <p:cNvCxnSpPr>
            <a:endCxn id="286" idx="1"/>
          </p:cNvCxnSpPr>
          <p:nvPr/>
        </p:nvCxnSpPr>
        <p:spPr>
          <a:xfrm>
            <a:off x="2935440" y="1787400"/>
            <a:ext cx="722520" cy="1067760"/>
          </a:xfrm>
          <a:prstGeom prst="bentConnector3">
            <a:avLst>
              <a:gd name="adj1" fmla="val 499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89" name=""/>
          <p:cNvCxnSpPr/>
          <p:nvPr/>
        </p:nvCxnSpPr>
        <p:spPr>
          <a:xfrm>
            <a:off x="2935440" y="1787040"/>
            <a:ext cx="722520" cy="1080"/>
          </a:xfrm>
          <a:prstGeom prst="straightConnector1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290" name=""/>
          <p:cNvGrpSpPr/>
          <p:nvPr/>
        </p:nvGrpSpPr>
        <p:grpSpPr>
          <a:xfrm>
            <a:off x="3661560" y="1523880"/>
            <a:ext cx="2737440" cy="520200"/>
            <a:chOff x="3661560" y="1523880"/>
            <a:chExt cx="2737440" cy="520200"/>
          </a:xfrm>
        </p:grpSpPr>
        <p:sp>
          <p:nvSpPr>
            <p:cNvPr id="291" name=""/>
            <p:cNvSpPr/>
            <p:nvPr/>
          </p:nvSpPr>
          <p:spPr>
            <a:xfrm>
              <a:off x="3661560" y="15238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89480" y="152388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éplacer le tiroi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(Piston distributeur)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6477120" y="167652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6477120" y="274320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Times New Roman"/>
              </a:rPr>
              <a:t>FT122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29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32920" y="1523880"/>
            <a:ext cx="2687040" cy="520200"/>
            <a:chOff x="232920" y="1523880"/>
            <a:chExt cx="2687040" cy="520200"/>
          </a:xfrm>
        </p:grpSpPr>
        <p:sp>
          <p:nvSpPr>
            <p:cNvPr id="302" name=""/>
            <p:cNvSpPr/>
            <p:nvPr/>
          </p:nvSpPr>
          <p:spPr>
            <a:xfrm>
              <a:off x="232920" y="15238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9400" y="1523880"/>
              <a:ext cx="205056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Recevoir la pression  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otrice Pm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661560" y="2590920"/>
            <a:ext cx="2737440" cy="520200"/>
            <a:chOff x="3661560" y="2590920"/>
            <a:chExt cx="2737440" cy="520200"/>
          </a:xfrm>
        </p:grpSpPr>
        <p:sp>
          <p:nvSpPr>
            <p:cNvPr id="306" name=""/>
            <p:cNvSpPr/>
            <p:nvPr/>
          </p:nvSpPr>
          <p:spPr>
            <a:xfrm>
              <a:off x="3661560" y="25909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1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89480" y="25909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Former la chambr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roite secondaire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308" name=""/>
          <p:cNvCxnSpPr>
            <a:endCxn id="306" idx="1"/>
          </p:cNvCxnSpPr>
          <p:nvPr/>
        </p:nvCxnSpPr>
        <p:spPr>
          <a:xfrm>
            <a:off x="2935440" y="1787400"/>
            <a:ext cx="722520" cy="1067760"/>
          </a:xfrm>
          <a:prstGeom prst="bentConnector3">
            <a:avLst>
              <a:gd name="adj1" fmla="val 499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>
            <a:off x="2935440" y="1787040"/>
            <a:ext cx="722520" cy="1080"/>
          </a:xfrm>
          <a:prstGeom prst="straightConnector1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3661560" y="1523880"/>
            <a:ext cx="2737440" cy="520200"/>
            <a:chOff x="3661560" y="1523880"/>
            <a:chExt cx="2737440" cy="520200"/>
          </a:xfrm>
        </p:grpSpPr>
        <p:sp>
          <p:nvSpPr>
            <p:cNvPr id="311" name=""/>
            <p:cNvSpPr/>
            <p:nvPr/>
          </p:nvSpPr>
          <p:spPr>
            <a:xfrm>
              <a:off x="3661560" y="15238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1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89480" y="152388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Former la chambr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roite principal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77120" y="167652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6477120" y="274320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661560" y="4648320"/>
            <a:ext cx="2737440" cy="520200"/>
            <a:chOff x="3661560" y="4648320"/>
            <a:chExt cx="2737440" cy="520200"/>
          </a:xfrm>
        </p:grpSpPr>
        <p:sp>
          <p:nvSpPr>
            <p:cNvPr id="316" name=""/>
            <p:cNvSpPr/>
            <p:nvPr/>
          </p:nvSpPr>
          <p:spPr>
            <a:xfrm>
              <a:off x="3661560" y="46483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12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89480" y="464832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limenter la chambr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roite secondaire 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318" name=""/>
          <p:cNvCxnSpPr>
            <a:stCxn id="303" idx="3"/>
            <a:endCxn id="316" idx="1"/>
          </p:cNvCxnSpPr>
          <p:nvPr/>
        </p:nvCxnSpPr>
        <p:spPr>
          <a:xfrm>
            <a:off x="2917440" y="1787040"/>
            <a:ext cx="740520" cy="312516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319" name=""/>
          <p:cNvGrpSpPr/>
          <p:nvPr/>
        </p:nvGrpSpPr>
        <p:grpSpPr>
          <a:xfrm>
            <a:off x="3661560" y="3581280"/>
            <a:ext cx="2737440" cy="520200"/>
            <a:chOff x="3661560" y="3581280"/>
            <a:chExt cx="2737440" cy="520200"/>
          </a:xfrm>
        </p:grpSpPr>
        <p:sp>
          <p:nvSpPr>
            <p:cNvPr id="320" name=""/>
            <p:cNvSpPr/>
            <p:nvPr/>
          </p:nvSpPr>
          <p:spPr>
            <a:xfrm>
              <a:off x="3661560" y="35812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1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89480" y="3581280"/>
              <a:ext cx="20095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limenter la chambre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droite principale</a:t>
              </a: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2" name="">
            <a:hlinkClick r:id="rId3" action="ppaction://hlinksldjump"/>
          </p:cNvPr>
          <p:cNvSpPr/>
          <p:nvPr/>
        </p:nvSpPr>
        <p:spPr>
          <a:xfrm>
            <a:off x="6477120" y="373392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3" name="">
            <a:hlinkClick r:id="rId4" action="ppaction://hlinksldjump"/>
          </p:cNvPr>
          <p:cNvSpPr/>
          <p:nvPr/>
        </p:nvSpPr>
        <p:spPr>
          <a:xfrm>
            <a:off x="6477120" y="480060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03" idx="3"/>
            <a:endCxn id="320" idx="1"/>
          </p:cNvCxnSpPr>
          <p:nvPr/>
        </p:nvCxnSpPr>
        <p:spPr>
          <a:xfrm>
            <a:off x="2917440" y="1787040"/>
            <a:ext cx="740520" cy="2057760"/>
          </a:xfrm>
          <a:prstGeom prst="bentConnector3">
            <a:avLst>
              <a:gd name="adj1" fmla="val 500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Times New Roman"/>
              </a:rPr>
              <a:t>FT211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32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232920" y="1523880"/>
            <a:ext cx="2694960" cy="520200"/>
            <a:chOff x="232920" y="1523880"/>
            <a:chExt cx="2694960" cy="520200"/>
          </a:xfrm>
        </p:grpSpPr>
        <p:sp>
          <p:nvSpPr>
            <p:cNvPr id="332" name=""/>
            <p:cNvSpPr/>
            <p:nvPr/>
          </p:nvSpPr>
          <p:spPr>
            <a:xfrm>
              <a:off x="232920" y="1523880"/>
              <a:ext cx="65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1200" y="1523880"/>
              <a:ext cx="20566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Assurer l’échappement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661560" y="2590920"/>
            <a:ext cx="3232800" cy="520200"/>
            <a:chOff x="3661560" y="2590920"/>
            <a:chExt cx="3232800" cy="520200"/>
          </a:xfrm>
        </p:grpSpPr>
        <p:sp>
          <p:nvSpPr>
            <p:cNvPr id="336" name=""/>
            <p:cNvSpPr/>
            <p:nvPr/>
          </p:nvSpPr>
          <p:spPr>
            <a:xfrm>
              <a:off x="3661560" y="259092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2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0480" y="2590920"/>
              <a:ext cx="251388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ettre la chambre gauche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secondaire à l ’échappement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cxnSp>
        <p:nvCxnSpPr>
          <p:cNvPr id="338" name=""/>
          <p:cNvCxnSpPr>
            <a:endCxn id="336" idx="1"/>
          </p:cNvCxnSpPr>
          <p:nvPr/>
        </p:nvCxnSpPr>
        <p:spPr>
          <a:xfrm>
            <a:off x="2935440" y="1787400"/>
            <a:ext cx="722520" cy="1067760"/>
          </a:xfrm>
          <a:prstGeom prst="bentConnector3">
            <a:avLst>
              <a:gd name="adj1" fmla="val 49900"/>
            </a:avLst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339" name=""/>
          <p:cNvCxnSpPr/>
          <p:nvPr/>
        </p:nvCxnSpPr>
        <p:spPr>
          <a:xfrm>
            <a:off x="2935440" y="1787040"/>
            <a:ext cx="722520" cy="1080"/>
          </a:xfrm>
          <a:prstGeom prst="straightConnector1">
            <a:avLst/>
          </a:prstGeom>
          <a:ln w="19080">
            <a:solidFill>
              <a:srgbClr val="009999"/>
            </a:solidFill>
            <a:miter/>
            <a:tailEnd len="med" type="triangle" w="med"/>
          </a:ln>
        </p:spPr>
      </p:cxnSp>
      <p:grpSp>
        <p:nvGrpSpPr>
          <p:cNvPr id="340" name=""/>
          <p:cNvGrpSpPr/>
          <p:nvPr/>
        </p:nvGrpSpPr>
        <p:grpSpPr>
          <a:xfrm>
            <a:off x="3661560" y="1523880"/>
            <a:ext cx="3223440" cy="520200"/>
            <a:chOff x="3661560" y="1523880"/>
            <a:chExt cx="3223440" cy="520200"/>
          </a:xfrm>
        </p:grpSpPr>
        <p:sp>
          <p:nvSpPr>
            <p:cNvPr id="341" name=""/>
            <p:cNvSpPr/>
            <p:nvPr/>
          </p:nvSpPr>
          <p:spPr>
            <a:xfrm>
              <a:off x="3661560" y="1523880"/>
              <a:ext cx="7477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Times New Roman"/>
                </a:rPr>
                <a:t>FT212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78680" y="1523880"/>
              <a:ext cx="2506320" cy="520200"/>
            </a:xfrm>
            <a:prstGeom prst="rect">
              <a:avLst/>
            </a:prstGeom>
            <a:noFill/>
            <a:ln w="936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Mettre la chambre gauche     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9999"/>
                  </a:solidFill>
                  <a:latin typeface="Arial"/>
                </a:rPr>
                <a:t>principale à l ’échappement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6934320" y="1676520"/>
            <a:ext cx="1752480" cy="1522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6934320" y="2743200"/>
            <a:ext cx="1752480" cy="15228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99"/>
                </a:solidFill>
                <a:latin typeface="Times New Roman"/>
              </a:rPr>
              <a:t>FT212</a:t>
            </a:r>
            <a:br>
              <a:rPr sz="2400"/>
            </a:b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9720" y="5230800"/>
            <a:ext cx="2206080" cy="1245960"/>
            <a:chOff x="459720" y="5230800"/>
            <a:chExt cx="2206080" cy="1245960"/>
          </a:xfrm>
        </p:grpSpPr>
        <p:sp>
          <p:nvSpPr>
            <p:cNvPr id="347" name=""/>
            <p:cNvSpPr/>
            <p:nvPr/>
          </p:nvSpPr>
          <p:spPr>
            <a:xfrm>
              <a:off x="949320" y="5631840"/>
              <a:ext cx="1230840" cy="168840"/>
            </a:xfrm>
            <a:custGeom>
              <a:avLst/>
              <a:gdLst>
                <a:gd name="textAreaLeft" fmla="*/ 192240 w 1230840"/>
                <a:gd name="textAreaRight" fmla="*/ 1077120 w 1230840"/>
                <a:gd name="textAreaTop" fmla="*/ 42120 h 168840"/>
                <a:gd name="textAreaBottom" fmla="*/ 126720 h 16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1160" y="5230800"/>
              <a:ext cx="2204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connaîtr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les pièces concernées par les fonctions.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9720" y="596268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Cliquez sur les flèches pour 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9999"/>
                  </a:solidFill>
                  <a:latin typeface="Times New Roman"/>
                </a:rPr>
                <a:t>voir le niveau suivant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34000" y="6307920"/>
              <a:ext cx="1046160" cy="168840"/>
            </a:xfrm>
            <a:prstGeom prst="rightArrow">
              <a:avLst>
                <a:gd name="adj1" fmla="val 5556"/>
                <a:gd name="adj2" fmla="val 160985"/>
              </a:avLst>
            </a:prstGeom>
            <a:solidFill>
              <a:srgbClr val="ffffff"/>
            </a:solidFill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24:11Z</dcterms:created>
  <dc:creator>Girardot Stéphane</dc:creator>
  <dc:description/>
  <dc:language>en-US</dc:language>
  <cp:lastModifiedBy>Utilisateur sous licence</cp:lastModifiedBy>
  <dcterms:modified xsi:type="dcterms:W3CDTF">2001-04-10T09:52:47Z</dcterms:modified>
  <cp:revision>15</cp:revision>
  <dc:subject/>
  <dc:title>Aucun titre de diapositive</dc:title>
</cp:coreProperties>
</file>