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390-2031-4658-ABC1-3DB66CE4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1662-CBE3-409E-8715-7A879062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D3AD-1177-4BFA-A28A-E52D8F988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0AA7-6498-4F46-A3AD-EC01F7BE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F0A1-F6CC-4FE1-AD75-5DB7B179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B126-9E8A-420E-9598-106E2E19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3BFD-40A9-4926-B4F8-DC794213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CACC-2C68-474B-A299-0FC557F3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F4EF-B8A8-4057-90EC-431070B6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532-C612-44FD-9C63-8804F012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C601-E3AB-4380-A008-370D3F38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6D41-3144-4BE2-81C1-24F84413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FDBA-7ACA-4BC6-81C4-22CEEBA353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age%20348-1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005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978680" y="6470640"/>
            <a:ext cx="115596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ge 3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age%20348-2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853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978680" y="6470640"/>
            <a:ext cx="115596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ge 3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age%20349-1" descr=""/>
          <p:cNvPicPr/>
          <p:nvPr/>
        </p:nvPicPr>
        <p:blipFill>
          <a:blip r:embed="rId1"/>
          <a:stretch/>
        </p:blipFill>
        <p:spPr>
          <a:xfrm>
            <a:off x="380880" y="0"/>
            <a:ext cx="7543800" cy="6791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978680" y="6470640"/>
            <a:ext cx="115596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ge 3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age%20350-1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4226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978680" y="6470640"/>
            <a:ext cx="115596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ge 3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age%20349-2" descr=""/>
          <p:cNvPicPr/>
          <p:nvPr/>
        </p:nvPicPr>
        <p:blipFill>
          <a:blip r:embed="rId1"/>
          <a:stretch/>
        </p:blipFill>
        <p:spPr>
          <a:xfrm>
            <a:off x="228600" y="1440"/>
            <a:ext cx="85345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978680" y="6470640"/>
            <a:ext cx="115596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ge 3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age%20369-1" descr=""/>
          <p:cNvPicPr/>
          <p:nvPr/>
        </p:nvPicPr>
        <p:blipFill>
          <a:blip r:embed="rId1"/>
          <a:stretch/>
        </p:blipFill>
        <p:spPr>
          <a:xfrm>
            <a:off x="1066680" y="0"/>
            <a:ext cx="682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age%20369-1" descr=""/>
          <p:cNvPicPr/>
          <p:nvPr/>
        </p:nvPicPr>
        <p:blipFill>
          <a:blip r:embed="rId1"/>
          <a:stretch/>
        </p:blipFill>
        <p:spPr>
          <a:xfrm>
            <a:off x="0" y="0"/>
            <a:ext cx="5713560" cy="6019920"/>
          </a:xfrm>
          <a:prstGeom prst="rect">
            <a:avLst/>
          </a:prstGeom>
          <a:ln w="0">
            <a:noFill/>
          </a:ln>
        </p:spPr>
      </p:pic>
      <p:pic>
        <p:nvPicPr>
          <p:cNvPr id="53" name="Page%20369-2" descr=""/>
          <p:cNvPicPr/>
          <p:nvPr/>
        </p:nvPicPr>
        <p:blipFill>
          <a:blip r:embed="rId2"/>
          <a:stretch/>
        </p:blipFill>
        <p:spPr>
          <a:xfrm>
            <a:off x="5738760" y="0"/>
            <a:ext cx="3405240" cy="6019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978680" y="6470640"/>
            <a:ext cx="115596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ge 3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9T08:12:41Z</dcterms:created>
  <dc:creator>Christian DEPLAT</dc:creator>
  <dc:description/>
  <dc:language>en-US</dc:language>
  <cp:lastModifiedBy>GINHOUX</cp:lastModifiedBy>
  <dcterms:modified xsi:type="dcterms:W3CDTF">2006-04-03T13:11:01Z</dcterms:modified>
  <cp:revision>5</cp:revision>
  <dc:subject/>
  <dc:title>Présentation PowerPoint</dc:title>
</cp:coreProperties>
</file>