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gif" ContentType="image/gif"/>
  <Override PartName="/ppt/media/image15.png" ContentType="image/png"/>
  <Override PartName="/ppt/media/image14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13.png" ContentType="image/png"/>
  <Override PartName="/ppt/media/image1.jpeg" ContentType="image/jpeg"/>
  <Override PartName="/ppt/media/image4.gif" ContentType="image/gi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430A-E3FF-4419-9524-7D893C73A9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925B-8F72-444A-AE3F-292CA4FBD1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B7C-77C8-418D-9B35-E1D32F21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154-1DAB-4378-90FA-82AA8234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4EA3-0D69-40E6-B768-2DAD87F4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368-D972-4226-94E1-BE39E6E4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811-B54E-406B-896D-C984376E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37D-18B4-43AF-81F5-8C945D11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6FBB-FC03-49DC-B416-4FD545AA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951E-D8E6-4330-9B67-AC1E6BF4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D70-331A-40D3-BC32-330B0DCF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92A-7F22-4D66-A6CF-9ED776D3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B36-C836-4D05-8071-5B632FF6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1590-A1EE-42D2-BA0C-66FE1779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BDBC-B173-4362-9290-3EAFE2B790B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file:///1-%20Maquette%20numerique%20et%20plans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Calibri"/>
              </a:rPr>
              <a:t>PRESENTATION D’UN « ENTRAINEUR GYROSCOPIQUE 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000080" y="22860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50" name="Titre 1"/>
          <p:cNvSpPr/>
          <p:nvPr/>
        </p:nvSpPr>
        <p:spPr>
          <a:xfrm>
            <a:off x="1785960" y="5929200"/>
            <a:ext cx="5715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jean-vital.peyronnet@ac-orleans-tours.f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mage 25" descr="anim-rings.gif"/>
          <p:cNvPicPr/>
          <p:nvPr/>
        </p:nvPicPr>
        <p:blipFill>
          <a:blip r:embed="rId2"/>
          <a:stretch/>
        </p:blipFill>
        <p:spPr>
          <a:xfrm>
            <a:off x="5000760" y="1928880"/>
            <a:ext cx="3357360" cy="3357360"/>
          </a:xfrm>
          <a:prstGeom prst="rect">
            <a:avLst/>
          </a:prstGeom>
          <a:ln w="0">
            <a:noFill/>
          </a:ln>
        </p:spPr>
      </p:pic>
      <p:sp>
        <p:nvSpPr>
          <p:cNvPr id="52" name="Titre 1"/>
          <p:cNvSpPr/>
          <p:nvPr/>
        </p:nvSpPr>
        <p:spPr>
          <a:xfrm>
            <a:off x="4786200" y="4357800"/>
            <a:ext cx="4071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Calibri"/>
              </a:rPr>
              <a:t>QUID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Calibri"/>
              </a:rPr>
              <a:t>Pourquoi cette contribution ?        1/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re 1"/>
          <p:cNvSpPr/>
          <p:nvPr/>
        </p:nvSpPr>
        <p:spPr>
          <a:xfrm>
            <a:off x="285840" y="1000080"/>
            <a:ext cx="885816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alibri"/>
              </a:rPr>
              <a:t>L’arrivée dans les bureaux d’études et salles de classe de bases de données  informatisées  pousse à des évolutions de résolution de la problématique  PRODUIT-PROCEDE-MATERIAU (PPM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alibri"/>
              </a:rPr>
              <a:t>On peut exploiter désormais des outils associés  à ces bases de données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alibri"/>
              </a:rPr>
              <a:t>Tri sélectif à partir de critè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fr-FR" sz="2200" spc="-1" strike="noStrike">
                <a:solidFill>
                  <a:srgbClr val="ffff00"/>
                </a:solidFill>
                <a:latin typeface="Calibri"/>
              </a:rPr>
              <a:t>Edition de logigrammes binair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alibri"/>
              </a:rPr>
              <a:t>Des travaux universitaires  (Pr. Michael ASHBY) ont amené des méthodes d’optimisation de choix. Ces méthodes reposent sur l’identification formelle </a:t>
            </a:r>
            <a:r>
              <a:rPr b="0" lang="fr-FR" sz="2200" spc="-1" strike="noStrike" u="sng">
                <a:solidFill>
                  <a:srgbClr val="ffff00"/>
                </a:solidFill>
                <a:uFillTx/>
                <a:latin typeface="Calibri"/>
              </a:rPr>
              <a:t>d’indices de performance</a:t>
            </a:r>
            <a:r>
              <a:rPr b="0" lang="fr-FR" sz="2200" spc="-1" strike="noStrike">
                <a:solidFill>
                  <a:srgbClr val="ffff00"/>
                </a:solidFill>
                <a:latin typeface="Calibri"/>
              </a:rPr>
              <a:t>. Un traitement singulier de logigrammes binaires permet une optimisation « visuelle » de ces indic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Calibri"/>
              </a:rPr>
              <a:t>Pourquoi cette contribution ?        2/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0" y="928800"/>
            <a:ext cx="91440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alibri"/>
              </a:rPr>
              <a:t>La présente contribution poursuit 2 objectifs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ffff00"/>
                </a:solidFill>
                <a:uFillTx/>
                <a:latin typeface="Calibri"/>
              </a:rPr>
              <a:t>1</a:t>
            </a:r>
            <a:r>
              <a:rPr b="0" lang="fr-FR" sz="2200" spc="-1" strike="noStrike" u="sng" baseline="30000">
                <a:solidFill>
                  <a:srgbClr val="ffff00"/>
                </a:solidFill>
                <a:uFillTx/>
                <a:latin typeface="Calibri"/>
              </a:rPr>
              <a:t>er</a:t>
            </a:r>
            <a:r>
              <a:rPr b="0" lang="fr-FR" sz="2200" spc="-1" strike="noStrike" u="sng">
                <a:solidFill>
                  <a:srgbClr val="ffff00"/>
                </a:solidFill>
                <a:uFillTx/>
                <a:latin typeface="Calibri"/>
              </a:rPr>
              <a:t> OBJECTIF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alibri"/>
              </a:rPr>
              <a:t>Proposer un support  au traitement de la problématique PPM (fichier tableur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Calibri"/>
              </a:rPr>
              <a:t>Ce support est utilisé avec profit, en projet industriel de 2</a:t>
            </a:r>
            <a:r>
              <a:rPr b="0" i="1" lang="fr-FR" sz="2000" spc="-1" strike="noStrike" baseline="30000">
                <a:solidFill>
                  <a:srgbClr val="ffff00"/>
                </a:solidFill>
                <a:latin typeface="Calibri"/>
              </a:rPr>
              <a:t>ème</a:t>
            </a:r>
            <a:r>
              <a:rPr b="0" i="1" lang="fr-FR" sz="2000" spc="-1" strike="noStrike">
                <a:solidFill>
                  <a:srgbClr val="ffff00"/>
                </a:solidFill>
                <a:latin typeface="Calibri"/>
              </a:rPr>
              <a:t> de BTS CPI depuis 3 a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ffff00"/>
                </a:solidFill>
                <a:uFillTx/>
                <a:latin typeface="Calibri"/>
              </a:rPr>
              <a:t>2</a:t>
            </a:r>
            <a:r>
              <a:rPr b="0" lang="fr-FR" sz="2200" spc="-1" strike="noStrike" u="sng" baseline="30000">
                <a:solidFill>
                  <a:srgbClr val="ffff00"/>
                </a:solidFill>
                <a:uFillTx/>
                <a:latin typeface="Calibri"/>
              </a:rPr>
              <a:t>ème</a:t>
            </a:r>
            <a:r>
              <a:rPr b="0" lang="fr-FR" sz="2200" spc="-1" strike="noStrike" u="sng">
                <a:solidFill>
                  <a:srgbClr val="ffff00"/>
                </a:solidFill>
                <a:uFillTx/>
                <a:latin typeface="Calibri"/>
              </a:rPr>
              <a:t> OBJECTI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alibri"/>
              </a:rPr>
              <a:t>Opérationnaliser  la méthode d’optimisation par </a:t>
            </a:r>
            <a:r>
              <a:rPr b="0" lang="fr-FR" sz="2200" spc="-1" strike="noStrike" u="sng">
                <a:solidFill>
                  <a:srgbClr val="ffff00"/>
                </a:solidFill>
                <a:uFillTx/>
                <a:latin typeface="Calibri"/>
              </a:rPr>
              <a:t>indices de performance </a:t>
            </a:r>
            <a:r>
              <a:rPr b="0" lang="fr-FR" sz="2200" spc="-1" strike="noStrike">
                <a:solidFill>
                  <a:srgbClr val="ffff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Calibri"/>
              </a:rPr>
              <a:t>Des tableaux rassemblent les indices de performance et les objectifs de conception associés. La consultation de ces tableaux simplifie l’édition du logigramme et de la droite d’inspection associés à un cas d’étude donn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 25" descr="anim-rings.gif"/>
          <p:cNvPicPr/>
          <p:nvPr/>
        </p:nvPicPr>
        <p:blipFill>
          <a:blip r:embed="rId1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Titre 1"/>
          <p:cNvSpPr/>
          <p:nvPr/>
        </p:nvSpPr>
        <p:spPr>
          <a:xfrm>
            <a:off x="1071720" y="0"/>
            <a:ext cx="77151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Calibri"/>
              </a:rPr>
              <a:t>L’ENTRAINEUR GYROSCOP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0" y="1714680"/>
            <a:ext cx="528624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alibri"/>
              </a:rPr>
              <a:t>Ce produit, vendu 20 euros environ, est apparu au début  des années 2000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alibri"/>
              </a:rPr>
              <a:t>Il s’agit d’un objet de « FITNESS 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alibri"/>
              </a:rPr>
              <a:t>Il permet un exercice physique des membres supérieurs (poignet, bras et épaule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alibri"/>
              </a:rPr>
              <a:t>Par des mouvements et des efforts appropriés de l’avant-bras, l’utilisateur cherche à entretenir ou augmenter la fréquence de rotation d’un rotor enfermé dans une coque en plastique transparent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alibri"/>
              </a:rPr>
              <a:t>La marque POWERBALL garanti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alibri"/>
              </a:rPr>
              <a:t>ses produits à vie 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NSD Powerball Our Video Archive.wmv" descr=""/>
          <p:cNvPicPr/>
          <p:nvPr/>
        </p:nvPicPr>
        <p:blipFill>
          <a:blip r:embed="rId2"/>
          <a:stretch/>
        </p:blipFill>
        <p:spPr>
          <a:xfrm>
            <a:off x="5486400" y="3500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Image 11" descr="pbgif3.gif"/>
          <p:cNvPicPr/>
          <p:nvPr/>
        </p:nvPicPr>
        <p:blipFill>
          <a:blip r:embed="rId3"/>
          <a:stretch/>
        </p:blipFill>
        <p:spPr>
          <a:xfrm>
            <a:off x="6000840" y="1000080"/>
            <a:ext cx="2286000" cy="1876320"/>
          </a:xfrm>
          <a:prstGeom prst="rect">
            <a:avLst/>
          </a:prstGeom>
          <a:ln w="0">
            <a:noFill/>
          </a:ln>
        </p:spPr>
      </p:pic>
      <p:sp>
        <p:nvSpPr>
          <p:cNvPr id="62" name="Titre 1"/>
          <p:cNvSpPr/>
          <p:nvPr/>
        </p:nvSpPr>
        <p:spPr>
          <a:xfrm>
            <a:off x="-714240" y="6500880"/>
            <a:ext cx="3643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0000"/>
                </a:solidFill>
                <a:latin typeface="Calibri"/>
              </a:rPr>
              <a:t>L’entraineur gyroscop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13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re 1"/>
          <p:cNvSpPr/>
          <p:nvPr/>
        </p:nvSpPr>
        <p:spPr>
          <a:xfrm>
            <a:off x="-714240" y="6500880"/>
            <a:ext cx="3643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0000"/>
                </a:solidFill>
                <a:latin typeface="Calibri"/>
              </a:rPr>
              <a:t>L’entraineur gyroscop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Image 25" descr="anim-rings.gif"/>
          <p:cNvPicPr/>
          <p:nvPr/>
        </p:nvPicPr>
        <p:blipFill>
          <a:blip r:embed="rId1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5" name="Titre 1"/>
          <p:cNvSpPr/>
          <p:nvPr/>
        </p:nvSpPr>
        <p:spPr>
          <a:xfrm>
            <a:off x="2143080" y="142920"/>
            <a:ext cx="6072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ffff00"/>
                </a:solidFill>
                <a:latin typeface="Calibri"/>
              </a:rPr>
              <a:t>UN OBJET COMMUNAUTAIRE …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214200" y="1071720"/>
            <a:ext cx="492948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es « démonstrations » en tout genre ont fleuri sur le net (you tube …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On trouve de tout : vitesse maxi, démarrage d’une seule main, rotation jusqu’à la casse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La société taïwanaise NSD (Nano Second Technology, détentrice des brevets) propose des versions lumineuses, sonores, à compteur intégré au rotor et même une version  « métal »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6357960" y="928800"/>
            <a:ext cx="176220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5500800" y="2857680"/>
            <a:ext cx="3286080" cy="166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4"/>
          <a:stretch/>
        </p:blipFill>
        <p:spPr>
          <a:xfrm>
            <a:off x="6786720" y="4929120"/>
            <a:ext cx="1833480" cy="1706760"/>
          </a:xfrm>
          <a:prstGeom prst="rect">
            <a:avLst/>
          </a:prstGeom>
          <a:ln w="0">
            <a:noFill/>
          </a:ln>
        </p:spPr>
      </p:pic>
      <p:pic>
        <p:nvPicPr>
          <p:cNvPr id="70" name="Image 10" descr="pblb53.gif"/>
          <p:cNvPicPr/>
          <p:nvPr/>
        </p:nvPicPr>
        <p:blipFill>
          <a:blip r:embed="rId5"/>
          <a:stretch/>
        </p:blipFill>
        <p:spPr>
          <a:xfrm>
            <a:off x="5143680" y="507204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1"/>
          <p:cNvSpPr/>
          <p:nvPr/>
        </p:nvSpPr>
        <p:spPr>
          <a:xfrm>
            <a:off x="285840" y="585792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Citons des marques concurrentes : GYROTWISTER, DYNAB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25" descr="anim-rings.gif"/>
          <p:cNvPicPr/>
          <p:nvPr/>
        </p:nvPicPr>
        <p:blipFill>
          <a:blip r:embed="rId1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3" name="Titre 1"/>
          <p:cNvSpPr/>
          <p:nvPr/>
        </p:nvSpPr>
        <p:spPr>
          <a:xfrm>
            <a:off x="2143080" y="142920"/>
            <a:ext cx="6072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ffff00"/>
                </a:solidFill>
                <a:latin typeface="Calibri"/>
              </a:rPr>
              <a:t>UN OBJET  « MECANICIEN » (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tre 1"/>
          <p:cNvSpPr/>
          <p:nvPr/>
        </p:nvSpPr>
        <p:spPr>
          <a:xfrm>
            <a:off x="285840" y="1571760"/>
            <a:ext cx="50004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La fonction principale de cet objet, </a:t>
            </a:r>
            <a:r>
              <a:rPr b="0" lang="fr-FR" sz="2400" spc="-1" strike="noStrike" u="sng">
                <a:solidFill>
                  <a:srgbClr val="ffff00"/>
                </a:solidFill>
                <a:uFillTx/>
                <a:latin typeface="Calibri"/>
              </a:rPr>
              <a:t>la « génération d’efforts »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, est basée sur un phénomène physique bien connu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00"/>
                </a:solidFill>
                <a:latin typeface="Calibri"/>
              </a:rPr>
              <a:t>le couple gyroscopiq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3000240" y="2857680"/>
            <a:ext cx="2238480" cy="22381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5429160" y="3214800"/>
            <a:ext cx="371484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00"/>
                </a:solidFill>
                <a:latin typeface="Calibri"/>
              </a:rPr>
              <a:t>COUPLE GYROSCOPIQUE  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00"/>
                </a:solidFill>
                <a:latin typeface="Calibri"/>
              </a:rPr>
              <a:t>Imaginez-vous tenir dans vos 2 mains, une roue tournant autour de l’axe B (appelé axe de « spin » ou axe de « rotation propre »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00"/>
                </a:solidFill>
                <a:latin typeface="Calibri"/>
              </a:rPr>
              <a:t>Et bien si vous cherchez à imprimer à la roue, un mouvement de rotation autour de l’axe A (appelé axe de « précession »), vous allez ressentir un couple (« une volonté de tourner ») </a:t>
            </a:r>
            <a:r>
              <a:rPr b="0" i="1" lang="fr-FR" sz="1400" spc="-1" strike="noStrike" u="sng">
                <a:solidFill>
                  <a:srgbClr val="ffff00"/>
                </a:solidFill>
                <a:uFillTx/>
                <a:latin typeface="Calibri"/>
              </a:rPr>
              <a:t>autour de l’axe C !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alibri"/>
              </a:rPr>
              <a:t>Ce phénomène surprend toujours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5786280" y="928800"/>
            <a:ext cx="2857680" cy="2438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0"/>
          <p:cNvSpPr/>
          <p:nvPr/>
        </p:nvSpPr>
        <p:spPr>
          <a:xfrm>
            <a:off x="357120" y="350028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Calibri"/>
              </a:rPr>
              <a:t>1- Une fois le ro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i="1" lang="fr-FR" sz="2400" spc="-1" strike="noStrike">
                <a:solidFill>
                  <a:srgbClr val="ffff00"/>
                </a:solidFill>
                <a:latin typeface="Calibri"/>
              </a:rPr>
              <a:t>lancé, le simple fa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i="1" lang="fr-FR" sz="2400" spc="-1" strike="noStrike">
                <a:solidFill>
                  <a:srgbClr val="ffff00"/>
                </a:solidFill>
                <a:latin typeface="Calibri"/>
              </a:rPr>
              <a:t>de faire chang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Calibri"/>
              </a:rPr>
              <a:t>la position de 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i="1" lang="fr-FR" sz="2400" spc="-1" strike="noStrike">
                <a:solidFill>
                  <a:srgbClr val="ffff00"/>
                </a:solidFill>
                <a:latin typeface="Calibri"/>
              </a:rPr>
              <a:t>POWERBA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Calibri"/>
              </a:rPr>
              <a:t>provoque l’apparition d’efforts «surprenants 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re 1"/>
          <p:cNvSpPr/>
          <p:nvPr/>
        </p:nvSpPr>
        <p:spPr>
          <a:xfrm>
            <a:off x="-714240" y="6500880"/>
            <a:ext cx="3643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0000"/>
                </a:solidFill>
                <a:latin typeface="Calibri"/>
              </a:rPr>
              <a:t>L’entraineur gyroscop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 25" descr="anim-rings.gif"/>
          <p:cNvPicPr/>
          <p:nvPr/>
        </p:nvPicPr>
        <p:blipFill>
          <a:blip r:embed="rId1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Titre 1"/>
          <p:cNvSpPr/>
          <p:nvPr/>
        </p:nvSpPr>
        <p:spPr>
          <a:xfrm>
            <a:off x="2143080" y="142920"/>
            <a:ext cx="6072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ffff00"/>
                </a:solidFill>
                <a:latin typeface="Calibri"/>
              </a:rPr>
              <a:t>UN OBJET  « MECANICIEN » (2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tre 1"/>
          <p:cNvSpPr/>
          <p:nvPr/>
        </p:nvSpPr>
        <p:spPr>
          <a:xfrm>
            <a:off x="285840" y="1785960"/>
            <a:ext cx="51433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2- Encore faut-il que le rotor tourne … c’est d’ailleurs là que ce petit gyroscope trouve sa fonction d’appareil de musculation : a</a:t>
            </a:r>
            <a:r>
              <a:rPr b="0" i="1" lang="fr-FR" sz="2400" spc="-1" strike="noStrike">
                <a:solidFill>
                  <a:srgbClr val="ffff00"/>
                </a:solidFill>
                <a:latin typeface="Calibri"/>
              </a:rPr>
              <a:t>près avoir donné une fréquence de rotation initiale au rotor (axe de « spin ») à l’aide d’une ficelle ou directement avec la pulpe du pouc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00"/>
                </a:solidFill>
                <a:uFillTx/>
                <a:latin typeface="Calibri"/>
              </a:rPr>
              <a:t>on arrive par des mouvements et des actions appropriés du poignet à augmenter et/ou à maintenir la fréquence de rotation propre du rotor … jusqu’à 16000 tr/mn pour les meilleurs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re 1"/>
          <p:cNvSpPr/>
          <p:nvPr/>
        </p:nvSpPr>
        <p:spPr>
          <a:xfrm>
            <a:off x="-714240" y="6500880"/>
            <a:ext cx="3643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0000"/>
                </a:solidFill>
                <a:latin typeface="Calibri"/>
              </a:rPr>
              <a:t>L’entraineur gyroscop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6072120" y="1143000"/>
            <a:ext cx="2467080" cy="2600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6143760" y="4076640"/>
            <a:ext cx="2800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afterEffect" fill="hold" presetClass="emph" presetID="8" repeatCount="indefinite">
                                  <p:stCondLst>
                                    <p:cond delay="4000"/>
                                  </p:stCondLst>
                                  <p:childTnLst>
                                    <p:animRot by="-900000">
                                      <p:cBhvr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5929200" y="3500280"/>
            <a:ext cx="2943360" cy="3067200"/>
          </a:xfrm>
          <a:prstGeom prst="rect">
            <a:avLst/>
          </a:prstGeom>
          <a:ln w="0">
            <a:noFill/>
          </a:ln>
        </p:spPr>
      </p:pic>
      <p:pic>
        <p:nvPicPr>
          <p:cNvPr id="87" name="Image 25" descr="anim-rings.gif"/>
          <p:cNvPicPr/>
          <p:nvPr/>
        </p:nvPicPr>
        <p:blipFill>
          <a:blip r:embed="rId2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Titre 1"/>
          <p:cNvSpPr/>
          <p:nvPr/>
        </p:nvSpPr>
        <p:spPr>
          <a:xfrm>
            <a:off x="2143080" y="142920"/>
            <a:ext cx="6072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ffff00"/>
                </a:solidFill>
                <a:latin typeface="Calibri"/>
              </a:rPr>
              <a:t>UN OBJET  « MECANICIEN » (3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tre 1"/>
          <p:cNvSpPr/>
          <p:nvPr/>
        </p:nvSpPr>
        <p:spPr>
          <a:xfrm>
            <a:off x="285840" y="1357200"/>
            <a:ext cx="58579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alibri"/>
              </a:rPr>
              <a:t>Le rotor se charge d’énergie « cinétique 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ffff00"/>
                </a:solidFill>
                <a:latin typeface="Calibri"/>
              </a:rPr>
              <a:t>Les effets sont d’autant plus intenses et durent d’autant plus longtemps que le niveau d ’énergie stockable est grand et que les pertes par frottement sont fai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alibri"/>
              </a:rPr>
              <a:t>Les grandes fréquences atteintes par le rotor imposent  son « équilibrage 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alibri"/>
              </a:rPr>
              <a:t>Ces perçages l’attest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alibri"/>
              </a:rPr>
              <a:t>Objectif ? Eviter les vibrations parasi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ffff00"/>
                </a:solidFill>
                <a:latin typeface="Calibri"/>
              </a:rPr>
              <a:t>La conception de l’objet (structure, dimensions, choix matériaux), la qualité de fabrication et d’assemblage ont placé le modèle observé parmi les plus réputés.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6218640" y="26431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Adaptateur pour jamb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4492440" y="648828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Regardez bien ! Rotor cassé … flexion rotative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Connecteur droit avec flèche 12"/>
          <p:cNvCxnSpPr/>
          <p:nvPr/>
        </p:nvCxnSpPr>
        <p:spPr>
          <a:xfrm>
            <a:off x="6215040" y="4143240"/>
            <a:ext cx="714960" cy="21672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3" name="Connecteur droit avec flèche 14"/>
          <p:cNvCxnSpPr/>
          <p:nvPr/>
        </p:nvCxnSpPr>
        <p:spPr>
          <a:xfrm>
            <a:off x="4642920" y="4142880"/>
            <a:ext cx="3358440" cy="252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94" name="Titre 1"/>
          <p:cNvSpPr/>
          <p:nvPr/>
        </p:nvSpPr>
        <p:spPr>
          <a:xfrm>
            <a:off x="-714240" y="6500880"/>
            <a:ext cx="3643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0000"/>
                </a:solidFill>
                <a:latin typeface="Calibri"/>
              </a:rPr>
              <a:t>L’entraineur gyroscop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6315120" y="1000080"/>
            <a:ext cx="28288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 25" descr="anim-rings.gif"/>
          <p:cNvPicPr/>
          <p:nvPr/>
        </p:nvPicPr>
        <p:blipFill>
          <a:blip r:embed="rId1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Titre 1"/>
          <p:cNvSpPr/>
          <p:nvPr/>
        </p:nvSpPr>
        <p:spPr>
          <a:xfrm>
            <a:off x="714240" y="2428920"/>
            <a:ext cx="84297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00"/>
                </a:solidFill>
                <a:uFillTx/>
                <a:latin typeface="Calibri"/>
              </a:rPr>
              <a:t>Supports mis à disposition pour la découverte du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Maquette numérique et plans : 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- Maquette numérique et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00"/>
                </a:solidFill>
                <a:uFillTx/>
                <a:latin typeface="Calibri"/>
              </a:rPr>
              <a:t>Supports mis à disposition pour des activités complément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Recherche et analyse de brevets : ESPACENET et 2- Brev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Fichiers TP TS CPI</a:t>
            </a:r>
            <a:r>
              <a:rPr b="0" i="1" lang="fr-FR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Analyse PPM (Produit Procédé Matériau), mise en œuvre de la méthode ASHBY, utilisation du logiciel CES (Cambridge Engineering Selector)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3- TP CES 2h BTS C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00"/>
                </a:solidFill>
                <a:uFillTx/>
                <a:latin typeface="Calibri"/>
              </a:rPr>
              <a:t>D’autres s’y sont intéressé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Conception d’un lanceur : Académie d'Amie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tre 1"/>
          <p:cNvSpPr/>
          <p:nvPr/>
        </p:nvSpPr>
        <p:spPr>
          <a:xfrm>
            <a:off x="0" y="6392880"/>
            <a:ext cx="9358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0000"/>
                </a:solidFill>
                <a:latin typeface="Calibri"/>
              </a:rPr>
              <a:t>Pour toute info complémentaire : jean-vital.peyronnet@ac-orleans-tours.f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4629240" y="0"/>
            <a:ext cx="4514760" cy="2343240"/>
          </a:xfrm>
          <a:prstGeom prst="rect">
            <a:avLst/>
          </a:prstGeom>
          <a:ln w="0">
            <a:noFill/>
          </a:ln>
        </p:spPr>
      </p:pic>
      <p:sp>
        <p:nvSpPr>
          <p:cNvPr id="100" name="Titre 1"/>
          <p:cNvSpPr/>
          <p:nvPr/>
        </p:nvSpPr>
        <p:spPr>
          <a:xfrm>
            <a:off x="1000080" y="1428840"/>
            <a:ext cx="85010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Calibri"/>
              </a:rPr>
              <a:t>Cet objet peut être un sup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Calibri"/>
              </a:rPr>
              <a:t>pédagogique pertinent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Calibri"/>
              </a:rPr>
              <a:t>coût d’acquisition faibl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Calibri"/>
              </a:rPr>
              <a:t>technologie « ludique »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 NADALON</dc:creator>
  <dc:description/>
  <dc:language>en-US</dc:language>
  <cp:lastModifiedBy>lnadalon</cp:lastModifiedBy>
  <dcterms:modified xsi:type="dcterms:W3CDTF">2009-05-25T12:51:29Z</dcterms:modified>
  <cp:revision>121</cp:revision>
  <dc:subject/>
  <dc:title>Diapositive 1</dc:title>
</cp:coreProperties>
</file>