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266-6199-4122-BD1B-68DB6CF7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8AC-2B40-447D-AB60-3E5B3FF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D6C-6239-4DC2-8C3C-603CFE34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5A7-14F7-4520-A1E2-1B3F3440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FDD-A126-4EE1-97D3-AB0E7AC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867-CB46-4A92-9E85-B8345215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1B3-7B8D-45FB-9EF9-0BE095A8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76C-E7C2-465E-9693-2C133F5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277-A7F4-4FF4-BA31-DCC381DF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057-969C-4EE2-A2FD-B2CB8296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773-03F5-4489-AB11-6B33F11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762-2694-4320-9BBB-E96A4B7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82F-286B-4E5C-97DC-C02DB39B8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609480"/>
          <a:ext cx="5554800" cy="45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5554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4495680"/>
            <a:ext cx="7472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Cliquez sur l'écran pour continu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572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143000"/>
            <a:ext cx="7315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3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éterminer les types de contacts entres l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lé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5146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ypes de contac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Su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2971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505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omic Sans MS"/>
              </a:rPr>
              <a:t>Cylind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449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Lin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4191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ectili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4800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Ann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5638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Ponctu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7" idx="3"/>
            <a:endCxn id="208" idx="1"/>
          </p:cNvCxnSpPr>
          <p:nvPr/>
        </p:nvCxnSpPr>
        <p:spPr>
          <a:xfrm flipV="1">
            <a:off x="2895120" y="3169440"/>
            <a:ext cx="2210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7" idx="3"/>
            <a:endCxn id="209" idx="1"/>
          </p:cNvCxnSpPr>
          <p:nvPr/>
        </p:nvCxnSpPr>
        <p:spPr>
          <a:xfrm>
            <a:off x="2895120" y="3551040"/>
            <a:ext cx="21344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0" idx="3"/>
            <a:endCxn id="211" idx="1"/>
          </p:cNvCxnSpPr>
          <p:nvPr/>
        </p:nvCxnSpPr>
        <p:spPr>
          <a:xfrm flipV="1">
            <a:off x="2666880" y="4388760"/>
            <a:ext cx="2363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0" idx="3"/>
            <a:endCxn id="212" idx="1"/>
          </p:cNvCxnSpPr>
          <p:nvPr/>
        </p:nvCxnSpPr>
        <p:spPr>
          <a:xfrm>
            <a:off x="2666880" y="4694400"/>
            <a:ext cx="23630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4572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371600"/>
            <a:ext cx="716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4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éter le tabl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4267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mple de repè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5410080"/>
            <a:ext cx="45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514760" y="3327480"/>
                <a:ext cx="1126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4191120" y="4495680"/>
            <a:ext cx="99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4114800"/>
            <a:ext cx="114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29200" y="2616120"/>
            <a:ext cx="3215880" cy="3027240"/>
            <a:chOff x="5029200" y="2616120"/>
            <a:chExt cx="3215880" cy="3027240"/>
          </a:xfrm>
        </p:grpSpPr>
        <p:sp>
          <p:nvSpPr>
            <p:cNvPr id="229" name=""/>
            <p:cNvSpPr/>
            <p:nvPr/>
          </p:nvSpPr>
          <p:spPr>
            <a:xfrm flipV="1">
              <a:off x="5650560" y="2793240"/>
              <a:ext cx="0" cy="22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0560" y="5014440"/>
              <a:ext cx="239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5640" y="4968360"/>
              <a:ext cx="8820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7400" y="4927680"/>
              <a:ext cx="177480" cy="177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50560" y="5191920"/>
              <a:ext cx="5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82480" y="5103360"/>
                  <a:ext cx="46260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206680" y="2616120"/>
                  <a:ext cx="390240" cy="56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029200" y="4658760"/>
                  <a:ext cx="408600" cy="53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z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7" name=""/>
          <p:cNvSpPr/>
          <p:nvPr/>
        </p:nvSpPr>
        <p:spPr>
          <a:xfrm>
            <a:off x="1066680" y="54864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ère à placer sur le plan d ’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514600"/>
            <a:ext cx="2286000" cy="1789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ue de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4572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52388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5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éter le graphe des liai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90920" y="3124080"/>
            <a:ext cx="4022280" cy="2651040"/>
            <a:chOff x="2590920" y="3124080"/>
            <a:chExt cx="4022280" cy="2651040"/>
          </a:xfrm>
        </p:grpSpPr>
        <p:sp>
          <p:nvSpPr>
            <p:cNvPr id="245" name=""/>
            <p:cNvSpPr/>
            <p:nvPr/>
          </p:nvSpPr>
          <p:spPr>
            <a:xfrm>
              <a:off x="2590920" y="5135400"/>
              <a:ext cx="639720" cy="63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27920" y="3124080"/>
              <a:ext cx="639720" cy="63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73480" y="5135400"/>
              <a:ext cx="639720" cy="63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65080" y="3259080"/>
              <a:ext cx="3654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7440" y="5282280"/>
              <a:ext cx="35964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22160" y="5259240"/>
              <a:ext cx="3654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047760" y="3647880"/>
              <a:ext cx="134460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4572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1066680"/>
            <a:ext cx="5715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6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érer les classes d ’équivalen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 le schém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né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09680" y="2514600"/>
            <a:ext cx="4525920" cy="3396960"/>
            <a:chOff x="2209680" y="2514600"/>
            <a:chExt cx="4525920" cy="3396960"/>
          </a:xfrm>
        </p:grpSpPr>
        <p:grpSp>
          <p:nvGrpSpPr>
            <p:cNvPr id="258" name=""/>
            <p:cNvGrpSpPr/>
            <p:nvPr/>
          </p:nvGrpSpPr>
          <p:grpSpPr>
            <a:xfrm>
              <a:off x="2209680" y="2514600"/>
              <a:ext cx="4525920" cy="3297960"/>
              <a:chOff x="2209680" y="2514600"/>
              <a:chExt cx="4525920" cy="3297960"/>
            </a:xfrm>
          </p:grpSpPr>
          <p:sp>
            <p:nvSpPr>
              <p:cNvPr id="259" name=""/>
              <p:cNvSpPr/>
              <p:nvPr/>
            </p:nvSpPr>
            <p:spPr>
              <a:xfrm>
                <a:off x="3876480" y="4575600"/>
                <a:ext cx="2599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513040" y="2516040"/>
                <a:ext cx="360" cy="19098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3365280" y="2514600"/>
                <a:ext cx="2176560" cy="18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5160" y="2516400"/>
                <a:ext cx="0" cy="32943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4069080" y="3648600"/>
                <a:ext cx="0" cy="926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49280" y="3648960"/>
                <a:ext cx="308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14760" y="2769480"/>
                <a:ext cx="0" cy="144108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58160" y="3237120"/>
                <a:ext cx="288720" cy="72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906000" y="2564280"/>
                <a:ext cx="1251720" cy="205560"/>
              </a:xfrm>
              <a:custGeom>
                <a:avLst/>
                <a:gdLst>
                  <a:gd name="textAreaLeft" fmla="*/ 126720 w 1251720"/>
                  <a:gd name="textAreaRight" fmla="*/ 1125000 w 1251720"/>
                  <a:gd name="textAreaTop" fmla="*/ 20520 h 205560"/>
                  <a:gd name="textAreaBottom" fmla="*/ 185040 h 20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15" y="21600"/>
                    </a:lnTo>
                    <a:lnTo>
                      <a:pt x="7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3365280" y="5810760"/>
                <a:ext cx="2176560" cy="18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511240" y="4723560"/>
                <a:ext cx="1800" cy="10872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98680" y="4442760"/>
                <a:ext cx="770400" cy="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05880" y="4706640"/>
                <a:ext cx="770400" cy="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36400" y="4418280"/>
                <a:ext cx="1080" cy="32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37120" y="4422960"/>
                <a:ext cx="2520" cy="32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06560" y="2997000"/>
                <a:ext cx="329040" cy="31284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209680" y="4015800"/>
                <a:ext cx="481320" cy="11772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402280" y="4878000"/>
              <a:ext cx="329040" cy="209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83880" y="5500080"/>
              <a:ext cx="577800" cy="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61680" y="5191200"/>
              <a:ext cx="0" cy="7203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61680" y="5705640"/>
              <a:ext cx="19260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061680" y="5602680"/>
              <a:ext cx="19260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61680" y="5499720"/>
              <a:ext cx="19260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061680" y="5396760"/>
              <a:ext cx="19260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061680" y="5293800"/>
              <a:ext cx="19260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061680" y="5190840"/>
              <a:ext cx="19260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061680" y="5190840"/>
              <a:ext cx="9612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30492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4. MOUVEMENTS et TRAJEC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281952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7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lle est la classe d ’équivalence considérée com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lide de réf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6172200"/>
            <a:ext cx="67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 ’hésiter pas à consulter votre dossier de réfé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30492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4. MOUVEMENTS et TRAJEC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1219320"/>
            <a:ext cx="6477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8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ier la nature des mouveme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v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étez le table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30481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us préciserez les centres de rotation lorsque cela est nécess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ous utiliserez dans l’ordre les points  D,E,F,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51055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ouveme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solu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et mouveme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61722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 ’hésiter pas à consulter votre dossier de réfé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30492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4. MOUVEMENTS et TRAJEC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2057400"/>
            <a:ext cx="6400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9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écisez et tracez l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jectoires sur le document annexe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61722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N ’hésiter pas à consulter votre dossier de réfé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35053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 point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st représenté sur le plan d ’ensemble (document annexe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86000" y="1905120"/>
            <a:ext cx="182880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10160" y="4952880"/>
            <a:ext cx="681120" cy="581040"/>
          </a:xfrm>
          <a:custGeom>
            <a:avLst/>
            <a:gdLst/>
            <a:ahLst/>
            <a:rect l="l" t="t" r="r" b="b"/>
            <a:pathLst>
              <a:path w="429" h="366">
                <a:moveTo>
                  <a:pt x="429" y="0"/>
                </a:moveTo>
                <a:lnTo>
                  <a:pt x="297" y="126"/>
                </a:lnTo>
                <a:lnTo>
                  <a:pt x="186" y="297"/>
                </a:lnTo>
                <a:lnTo>
                  <a:pt x="126" y="366"/>
                </a:lnTo>
                <a:lnTo>
                  <a:pt x="0" y="360"/>
                </a:lnTo>
                <a:lnTo>
                  <a:pt x="30" y="276"/>
                </a:lnTo>
                <a:lnTo>
                  <a:pt x="60" y="225"/>
                </a:lnTo>
                <a:lnTo>
                  <a:pt x="108" y="153"/>
                </a:lnTo>
                <a:lnTo>
                  <a:pt x="168" y="102"/>
                </a:lnTo>
                <a:lnTo>
                  <a:pt x="261" y="48"/>
                </a:lnTo>
                <a:lnTo>
                  <a:pt x="342" y="15"/>
                </a:lnTo>
                <a:lnTo>
                  <a:pt x="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33880" y="4948200"/>
            <a:ext cx="2033640" cy="590760"/>
          </a:xfrm>
          <a:custGeom>
            <a:avLst/>
            <a:gdLst/>
            <a:ahLst/>
            <a:rect l="l" t="t" r="r" b="b"/>
            <a:pathLst>
              <a:path w="1281" h="372">
                <a:moveTo>
                  <a:pt x="9" y="120"/>
                </a:moveTo>
                <a:lnTo>
                  <a:pt x="1017" y="123"/>
                </a:lnTo>
                <a:lnTo>
                  <a:pt x="1083" y="72"/>
                </a:lnTo>
                <a:lnTo>
                  <a:pt x="1185" y="24"/>
                </a:lnTo>
                <a:lnTo>
                  <a:pt x="1281" y="0"/>
                </a:lnTo>
                <a:lnTo>
                  <a:pt x="1092" y="165"/>
                </a:lnTo>
                <a:lnTo>
                  <a:pt x="1035" y="282"/>
                </a:lnTo>
                <a:lnTo>
                  <a:pt x="1014" y="372"/>
                </a:lnTo>
                <a:lnTo>
                  <a:pt x="864" y="369"/>
                </a:lnTo>
                <a:lnTo>
                  <a:pt x="903" y="255"/>
                </a:lnTo>
                <a:lnTo>
                  <a:pt x="951" y="195"/>
                </a:lnTo>
                <a:lnTo>
                  <a:pt x="0" y="189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5478480" y="4944960"/>
            <a:ext cx="1608120" cy="1608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02240" y="4944960"/>
            <a:ext cx="1562040" cy="1608120"/>
            <a:chOff x="5502240" y="4944960"/>
            <a:chExt cx="1562040" cy="1608120"/>
          </a:xfrm>
        </p:grpSpPr>
        <p:sp>
          <p:nvSpPr>
            <p:cNvPr id="315" name=""/>
            <p:cNvSpPr/>
            <p:nvPr/>
          </p:nvSpPr>
          <p:spPr>
            <a:xfrm flipH="1">
              <a:off x="5502240" y="5496120"/>
              <a:ext cx="712080" cy="91800"/>
            </a:xfrm>
            <a:custGeom>
              <a:avLst/>
              <a:gdLst>
                <a:gd name="textAreaLeft" fmla="*/ 360 w 712080"/>
                <a:gd name="textAreaRight" fmla="*/ 712800 w 7120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6237000" y="4944960"/>
              <a:ext cx="827280" cy="1608120"/>
              <a:chOff x="6237000" y="4944960"/>
              <a:chExt cx="827280" cy="1608120"/>
            </a:xfrm>
          </p:grpSpPr>
          <p:sp>
            <p:nvSpPr>
              <p:cNvPr id="317" name=""/>
              <p:cNvSpPr/>
              <p:nvPr/>
            </p:nvSpPr>
            <p:spPr>
              <a:xfrm rot="16200000">
                <a:off x="5927040" y="5254920"/>
                <a:ext cx="712080" cy="9180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52200" y="5496120"/>
                <a:ext cx="712080" cy="9180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400000">
                <a:off x="5926680" y="6150960"/>
                <a:ext cx="712080" cy="9180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5708520" y="4962600"/>
            <a:ext cx="1148040" cy="11476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9920" y="6461280"/>
            <a:ext cx="41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6208560"/>
            <a:ext cx="13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397120" y="5141880"/>
            <a:ext cx="35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07200" y="5257800"/>
            <a:ext cx="23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47242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21280" y="5143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114800" y="5257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1371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rvo-Fr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29360" y="489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mpe à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38088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Lors du freinage, le rôle de </a:t>
            </a:r>
            <a:r>
              <a:rPr b="1" lang="fr-FR" sz="1600" spc="-1" strike="noStrike">
                <a:solidFill>
                  <a:srgbClr val="3333cc"/>
                </a:solidFill>
                <a:latin typeface="Comic Sans MS"/>
              </a:rPr>
              <a:t>la pompe à vide</a:t>
            </a: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 est de diminuer la pression dans </a:t>
            </a:r>
            <a:r>
              <a:rPr b="0" lang="fr-FR" sz="1600" spc="-1" strike="noStrike">
                <a:solidFill>
                  <a:srgbClr val="00cc99"/>
                </a:solidFill>
                <a:latin typeface="Comic Sans MS"/>
              </a:rPr>
              <a:t>la chambre B</a:t>
            </a: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 du servo-frein de façon à se que l ’effort du conducteur sur la pédale de frein soit moindre pour déplacer </a:t>
            </a:r>
            <a:r>
              <a:rPr b="0" lang="fr-FR" sz="1600" spc="-1" strike="noStrike">
                <a:solidFill>
                  <a:srgbClr val="ff0000"/>
                </a:solidFill>
                <a:latin typeface="Comic Sans MS"/>
              </a:rPr>
              <a:t>le piston</a:t>
            </a: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66920" y="3638520"/>
            <a:ext cx="268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905120"/>
            <a:ext cx="29718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90800" y="5276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981080"/>
            <a:ext cx="0" cy="327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197172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6360" y="5162400"/>
            <a:ext cx="7596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762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2"/>
            <a:endCxn id="334" idx="0"/>
          </p:cNvCxnSpPr>
          <p:nvPr/>
        </p:nvCxnSpPr>
        <p:spPr>
          <a:xfrm flipH="1">
            <a:off x="2285640" y="1158480"/>
            <a:ext cx="991440" cy="78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rot="16200000">
            <a:off x="357120" y="29728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mbr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2757600" y="29728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mb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57800" y="3581280"/>
            <a:ext cx="1371600" cy="1526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276720"/>
            <a:ext cx="19051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ître-cylin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114240" y="5340240"/>
            <a:ext cx="381240" cy="38124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5274558"/>
                <a:lnTo>
                  <a:pt x="7928" y="21211"/>
                </a:lnTo>
                <a:arcTo wR="10800" hR="10800" stAng="6325442" swAng="1527455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42880" y="2090880"/>
            <a:ext cx="814680" cy="2931840"/>
            <a:chOff x="1442880" y="2090880"/>
            <a:chExt cx="814680" cy="2931840"/>
          </a:xfrm>
        </p:grpSpPr>
        <p:grpSp>
          <p:nvGrpSpPr>
            <p:cNvPr id="345" name=""/>
            <p:cNvGrpSpPr/>
            <p:nvPr/>
          </p:nvGrpSpPr>
          <p:grpSpPr>
            <a:xfrm>
              <a:off x="1447920" y="2090880"/>
              <a:ext cx="809640" cy="865080"/>
              <a:chOff x="1447920" y="2090880"/>
              <a:chExt cx="809640" cy="865080"/>
            </a:xfrm>
          </p:grpSpPr>
          <p:sp>
            <p:nvSpPr>
              <p:cNvPr id="346" name=""/>
              <p:cNvSpPr/>
              <p:nvPr/>
            </p:nvSpPr>
            <p:spPr>
              <a:xfrm>
                <a:off x="1447920" y="209088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57280" y="234324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452600" y="261000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57280" y="288144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442880" y="3119400"/>
              <a:ext cx="809640" cy="865080"/>
              <a:chOff x="1442880" y="3119400"/>
              <a:chExt cx="809640" cy="865080"/>
            </a:xfrm>
          </p:grpSpPr>
          <p:sp>
            <p:nvSpPr>
              <p:cNvPr id="351" name=""/>
              <p:cNvSpPr/>
              <p:nvPr/>
            </p:nvSpPr>
            <p:spPr>
              <a:xfrm>
                <a:off x="1442880" y="311940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52240" y="337176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47560" y="363852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52240" y="390996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447920" y="4157640"/>
              <a:ext cx="809640" cy="865080"/>
              <a:chOff x="1447920" y="4157640"/>
              <a:chExt cx="809640" cy="86508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7920" y="415764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57280" y="441000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52600" y="467676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57280" y="494820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 flipH="1">
            <a:off x="2324160" y="494820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24160" y="468648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33520" y="441468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328840" y="416736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324160" y="391464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328840" y="363852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28840" y="337644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324160" y="311940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33520" y="288144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324160" y="260496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24160" y="234324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328840" y="209088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48769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4876920"/>
            <a:ext cx="304920" cy="838080"/>
          </a:xfrm>
          <a:custGeom>
            <a:avLst/>
            <a:gdLst>
              <a:gd name="textAreaLeft" fmla="*/ 0 w 304920"/>
              <a:gd name="textAreaRight" fmla="*/ 305280 w 3049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5867280"/>
            <a:ext cx="2971800" cy="703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sion due à l ’effort sur la pédale de fr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905120" y="749160"/>
            <a:ext cx="2901960" cy="1987560"/>
          </a:xfrm>
          <a:custGeom>
            <a:avLst/>
            <a:gdLst/>
            <a:ahLst/>
            <a:rect l="l" t="t" r="r" b="b"/>
            <a:pathLst>
              <a:path w="1828" h="1252">
                <a:moveTo>
                  <a:pt x="0" y="392"/>
                </a:moveTo>
                <a:lnTo>
                  <a:pt x="768" y="392"/>
                </a:lnTo>
                <a:lnTo>
                  <a:pt x="840" y="324"/>
                </a:lnTo>
                <a:lnTo>
                  <a:pt x="992" y="224"/>
                </a:lnTo>
                <a:lnTo>
                  <a:pt x="1200" y="124"/>
                </a:lnTo>
                <a:lnTo>
                  <a:pt x="1376" y="64"/>
                </a:lnTo>
                <a:lnTo>
                  <a:pt x="1576" y="28"/>
                </a:lnTo>
                <a:lnTo>
                  <a:pt x="1708" y="8"/>
                </a:lnTo>
                <a:lnTo>
                  <a:pt x="1828" y="0"/>
                </a:lnTo>
                <a:lnTo>
                  <a:pt x="1824" y="56"/>
                </a:lnTo>
                <a:lnTo>
                  <a:pt x="1592" y="132"/>
                </a:lnTo>
                <a:lnTo>
                  <a:pt x="1000" y="436"/>
                </a:lnTo>
                <a:lnTo>
                  <a:pt x="836" y="628"/>
                </a:lnTo>
                <a:lnTo>
                  <a:pt x="760" y="792"/>
                </a:lnTo>
                <a:lnTo>
                  <a:pt x="680" y="968"/>
                </a:lnTo>
                <a:lnTo>
                  <a:pt x="656" y="1148"/>
                </a:lnTo>
                <a:lnTo>
                  <a:pt x="648" y="1248"/>
                </a:lnTo>
                <a:lnTo>
                  <a:pt x="200" y="1252"/>
                </a:lnTo>
                <a:lnTo>
                  <a:pt x="232" y="1144"/>
                </a:lnTo>
                <a:lnTo>
                  <a:pt x="264" y="1056"/>
                </a:lnTo>
                <a:lnTo>
                  <a:pt x="316" y="944"/>
                </a:lnTo>
                <a:lnTo>
                  <a:pt x="368" y="848"/>
                </a:lnTo>
                <a:lnTo>
                  <a:pt x="420" y="768"/>
                </a:lnTo>
                <a:lnTo>
                  <a:pt x="476" y="680"/>
                </a:lnTo>
                <a:lnTo>
                  <a:pt x="204" y="680"/>
                </a:lnTo>
                <a:lnTo>
                  <a:pt x="16" y="676"/>
                </a:lnTo>
                <a:lnTo>
                  <a:pt x="16" y="420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380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382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33720" y="781200"/>
            <a:ext cx="2286000" cy="2419200"/>
          </a:xfrm>
          <a:custGeom>
            <a:avLst/>
            <a:gdLst/>
            <a:ahLst/>
            <a:rect l="l" t="t" r="r" b="b"/>
            <a:pathLst>
              <a:path w="1440" h="1524">
                <a:moveTo>
                  <a:pt x="1440" y="84"/>
                </a:moveTo>
                <a:lnTo>
                  <a:pt x="528" y="1428"/>
                </a:lnTo>
                <a:lnTo>
                  <a:pt x="0" y="1524"/>
                </a:lnTo>
                <a:lnTo>
                  <a:pt x="24" y="1356"/>
                </a:lnTo>
                <a:lnTo>
                  <a:pt x="112" y="1064"/>
                </a:lnTo>
                <a:lnTo>
                  <a:pt x="172" y="928"/>
                </a:lnTo>
                <a:lnTo>
                  <a:pt x="248" y="780"/>
                </a:lnTo>
                <a:lnTo>
                  <a:pt x="348" y="648"/>
                </a:lnTo>
                <a:lnTo>
                  <a:pt x="600" y="384"/>
                </a:lnTo>
                <a:lnTo>
                  <a:pt x="708" y="296"/>
                </a:lnTo>
                <a:lnTo>
                  <a:pt x="840" y="208"/>
                </a:lnTo>
                <a:lnTo>
                  <a:pt x="964" y="140"/>
                </a:lnTo>
                <a:lnTo>
                  <a:pt x="1148" y="72"/>
                </a:lnTo>
                <a:lnTo>
                  <a:pt x="1288" y="28"/>
                </a:lnTo>
                <a:lnTo>
                  <a:pt x="1428" y="0"/>
                </a:lnTo>
                <a:lnTo>
                  <a:pt x="1440" y="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408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276200" y="1390680"/>
            <a:ext cx="1828800" cy="438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4120" y="5257800"/>
            <a:ext cx="1600200" cy="1371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057400"/>
            <a:ext cx="1600200" cy="24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685800"/>
            <a:ext cx="373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1. MISE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 EN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295280"/>
            <a:ext cx="7772400" cy="5101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2. Principe de fonctionnement de la pompe à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1337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2209680"/>
            <a:ext cx="167652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Ques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Ques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5" action="ppaction://hlinksldjump"/>
              </a:rPr>
              <a:t>Questio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6" action="ppaction://hlinksldjump"/>
              </a:rPr>
              <a:t>Ques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7" action="ppaction://hlinksldjump"/>
              </a:rPr>
              <a:t>Question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8" action="ppaction://hlinksldjump"/>
              </a:rPr>
              <a:t>Question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72428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4. MOUVEMENTS et TRAJEC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5334120"/>
            <a:ext cx="1676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Question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Question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Question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124000" y="914400"/>
            <a:ext cx="1838520" cy="3124080"/>
          </a:xfrm>
          <a:custGeom>
            <a:avLst/>
            <a:gdLst/>
            <a:ahLst/>
            <a:rect l="l" t="t" r="r" b="b"/>
            <a:pathLst>
              <a:path w="1158" h="1968">
                <a:moveTo>
                  <a:pt x="1158" y="144"/>
                </a:moveTo>
                <a:lnTo>
                  <a:pt x="630" y="1584"/>
                </a:lnTo>
                <a:lnTo>
                  <a:pt x="54" y="1968"/>
                </a:lnTo>
                <a:lnTo>
                  <a:pt x="18" y="1860"/>
                </a:lnTo>
                <a:lnTo>
                  <a:pt x="0" y="1656"/>
                </a:lnTo>
                <a:lnTo>
                  <a:pt x="0" y="1488"/>
                </a:lnTo>
                <a:lnTo>
                  <a:pt x="30" y="1314"/>
                </a:lnTo>
                <a:lnTo>
                  <a:pt x="60" y="1140"/>
                </a:lnTo>
                <a:lnTo>
                  <a:pt x="138" y="930"/>
                </a:lnTo>
                <a:lnTo>
                  <a:pt x="240" y="714"/>
                </a:lnTo>
                <a:lnTo>
                  <a:pt x="336" y="576"/>
                </a:lnTo>
                <a:lnTo>
                  <a:pt x="648" y="276"/>
                </a:lnTo>
                <a:lnTo>
                  <a:pt x="798" y="162"/>
                </a:lnTo>
                <a:lnTo>
                  <a:pt x="984" y="54"/>
                </a:lnTo>
                <a:lnTo>
                  <a:pt x="1098" y="0"/>
                </a:lnTo>
                <a:lnTo>
                  <a:pt x="1158" y="1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428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276200" y="1390680"/>
            <a:ext cx="1828800" cy="442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133720" y="1266840"/>
            <a:ext cx="1371600" cy="3781440"/>
          </a:xfrm>
          <a:custGeom>
            <a:avLst/>
            <a:gdLst/>
            <a:ahLst/>
            <a:rect l="l" t="t" r="r" b="b"/>
            <a:pathLst>
              <a:path w="864" h="2382">
                <a:moveTo>
                  <a:pt x="864" y="162"/>
                </a:moveTo>
                <a:lnTo>
                  <a:pt x="864" y="1794"/>
                </a:lnTo>
                <a:lnTo>
                  <a:pt x="348" y="2382"/>
                </a:lnTo>
                <a:lnTo>
                  <a:pt x="258" y="2244"/>
                </a:lnTo>
                <a:lnTo>
                  <a:pt x="174" y="2100"/>
                </a:lnTo>
                <a:lnTo>
                  <a:pt x="84" y="1878"/>
                </a:lnTo>
                <a:lnTo>
                  <a:pt x="18" y="1638"/>
                </a:lnTo>
                <a:lnTo>
                  <a:pt x="0" y="1452"/>
                </a:lnTo>
                <a:lnTo>
                  <a:pt x="0" y="1158"/>
                </a:lnTo>
                <a:lnTo>
                  <a:pt x="42" y="966"/>
                </a:lnTo>
                <a:lnTo>
                  <a:pt x="108" y="762"/>
                </a:lnTo>
                <a:lnTo>
                  <a:pt x="186" y="588"/>
                </a:lnTo>
                <a:lnTo>
                  <a:pt x="276" y="438"/>
                </a:lnTo>
                <a:lnTo>
                  <a:pt x="624" y="48"/>
                </a:lnTo>
                <a:lnTo>
                  <a:pt x="684" y="0"/>
                </a:lnTo>
                <a:lnTo>
                  <a:pt x="864" y="1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447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76200" y="1390680"/>
            <a:ext cx="1828800" cy="41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905120" y="752400"/>
            <a:ext cx="3671640" cy="1081080"/>
          </a:xfrm>
          <a:custGeom>
            <a:avLst/>
            <a:gdLst/>
            <a:ahLst/>
            <a:rect l="l" t="t" r="r" b="b"/>
            <a:pathLst>
              <a:path w="2313" h="681">
                <a:moveTo>
                  <a:pt x="0" y="390"/>
                </a:moveTo>
                <a:lnTo>
                  <a:pt x="768" y="390"/>
                </a:lnTo>
                <a:lnTo>
                  <a:pt x="855" y="315"/>
                </a:lnTo>
                <a:lnTo>
                  <a:pt x="960" y="240"/>
                </a:lnTo>
                <a:lnTo>
                  <a:pt x="1089" y="177"/>
                </a:lnTo>
                <a:lnTo>
                  <a:pt x="1278" y="96"/>
                </a:lnTo>
                <a:lnTo>
                  <a:pt x="1428" y="45"/>
                </a:lnTo>
                <a:lnTo>
                  <a:pt x="1581" y="24"/>
                </a:lnTo>
                <a:lnTo>
                  <a:pt x="1773" y="0"/>
                </a:lnTo>
                <a:lnTo>
                  <a:pt x="2100" y="24"/>
                </a:lnTo>
                <a:lnTo>
                  <a:pt x="2313" y="78"/>
                </a:lnTo>
                <a:lnTo>
                  <a:pt x="2286" y="147"/>
                </a:lnTo>
                <a:lnTo>
                  <a:pt x="1971" y="75"/>
                </a:lnTo>
                <a:lnTo>
                  <a:pt x="1470" y="120"/>
                </a:lnTo>
                <a:lnTo>
                  <a:pt x="1173" y="279"/>
                </a:lnTo>
                <a:lnTo>
                  <a:pt x="993" y="426"/>
                </a:lnTo>
                <a:lnTo>
                  <a:pt x="867" y="573"/>
                </a:lnTo>
                <a:lnTo>
                  <a:pt x="771" y="681"/>
                </a:lnTo>
                <a:lnTo>
                  <a:pt x="516" y="633"/>
                </a:lnTo>
                <a:lnTo>
                  <a:pt x="483" y="678"/>
                </a:lnTo>
                <a:lnTo>
                  <a:pt x="3" y="672"/>
                </a:lnTo>
                <a:lnTo>
                  <a:pt x="0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1765440"/>
            <a:ext cx="1969920" cy="3949560"/>
          </a:xfrm>
          <a:custGeom>
            <a:avLst/>
            <a:gdLst/>
            <a:ahLst/>
            <a:rect l="l" t="t" r="r" b="b"/>
            <a:pathLst>
              <a:path w="1241" h="2488">
                <a:moveTo>
                  <a:pt x="792" y="152"/>
                </a:moveTo>
                <a:cubicBezTo>
                  <a:pt x="809" y="301"/>
                  <a:pt x="832" y="445"/>
                  <a:pt x="856" y="592"/>
                </a:cubicBezTo>
                <a:cubicBezTo>
                  <a:pt x="864" y="706"/>
                  <a:pt x="868" y="835"/>
                  <a:pt x="904" y="944"/>
                </a:cubicBezTo>
                <a:cubicBezTo>
                  <a:pt x="914" y="1021"/>
                  <a:pt x="938" y="1107"/>
                  <a:pt x="976" y="1176"/>
                </a:cubicBezTo>
                <a:cubicBezTo>
                  <a:pt x="989" y="1200"/>
                  <a:pt x="1023" y="1233"/>
                  <a:pt x="1040" y="1256"/>
                </a:cubicBezTo>
                <a:cubicBezTo>
                  <a:pt x="1062" y="1321"/>
                  <a:pt x="1104" y="1363"/>
                  <a:pt x="1160" y="1400"/>
                </a:cubicBezTo>
                <a:cubicBezTo>
                  <a:pt x="1241" y="1521"/>
                  <a:pt x="1180" y="1701"/>
                  <a:pt x="1136" y="1832"/>
                </a:cubicBezTo>
                <a:cubicBezTo>
                  <a:pt x="1132" y="1844"/>
                  <a:pt x="1128" y="1896"/>
                  <a:pt x="1120" y="1912"/>
                </a:cubicBezTo>
                <a:cubicBezTo>
                  <a:pt x="1111" y="1929"/>
                  <a:pt x="1102" y="1946"/>
                  <a:pt x="1088" y="1960"/>
                </a:cubicBezTo>
                <a:cubicBezTo>
                  <a:pt x="1080" y="1968"/>
                  <a:pt x="1064" y="1984"/>
                  <a:pt x="1064" y="1984"/>
                </a:cubicBezTo>
                <a:lnTo>
                  <a:pt x="816" y="2488"/>
                </a:lnTo>
                <a:lnTo>
                  <a:pt x="696" y="2408"/>
                </a:lnTo>
                <a:lnTo>
                  <a:pt x="536" y="2288"/>
                </a:lnTo>
                <a:lnTo>
                  <a:pt x="432" y="2176"/>
                </a:lnTo>
                <a:lnTo>
                  <a:pt x="320" y="2032"/>
                </a:lnTo>
                <a:lnTo>
                  <a:pt x="232" y="1912"/>
                </a:lnTo>
                <a:lnTo>
                  <a:pt x="160" y="1760"/>
                </a:lnTo>
                <a:lnTo>
                  <a:pt x="88" y="1592"/>
                </a:lnTo>
                <a:lnTo>
                  <a:pt x="32" y="1384"/>
                </a:lnTo>
                <a:lnTo>
                  <a:pt x="0" y="1224"/>
                </a:lnTo>
                <a:lnTo>
                  <a:pt x="0" y="920"/>
                </a:lnTo>
                <a:lnTo>
                  <a:pt x="40" y="664"/>
                </a:lnTo>
                <a:lnTo>
                  <a:pt x="96" y="472"/>
                </a:lnTo>
                <a:lnTo>
                  <a:pt x="160" y="320"/>
                </a:lnTo>
                <a:lnTo>
                  <a:pt x="232" y="192"/>
                </a:lnTo>
                <a:lnTo>
                  <a:pt x="320" y="64"/>
                </a:lnTo>
                <a:lnTo>
                  <a:pt x="360" y="0"/>
                </a:lnTo>
                <a:lnTo>
                  <a:pt x="792" y="15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468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905120" y="762120"/>
            <a:ext cx="3152520" cy="1552320"/>
          </a:xfrm>
          <a:custGeom>
            <a:avLst/>
            <a:gdLst/>
            <a:ahLst/>
            <a:rect l="l" t="t" r="r" b="b"/>
            <a:pathLst>
              <a:path w="1986" h="978">
                <a:moveTo>
                  <a:pt x="0" y="384"/>
                </a:moveTo>
                <a:lnTo>
                  <a:pt x="768" y="384"/>
                </a:lnTo>
                <a:lnTo>
                  <a:pt x="870" y="294"/>
                </a:lnTo>
                <a:lnTo>
                  <a:pt x="1086" y="174"/>
                </a:lnTo>
                <a:lnTo>
                  <a:pt x="1344" y="66"/>
                </a:lnTo>
                <a:lnTo>
                  <a:pt x="1671" y="6"/>
                </a:lnTo>
                <a:lnTo>
                  <a:pt x="1986" y="0"/>
                </a:lnTo>
                <a:lnTo>
                  <a:pt x="1974" y="72"/>
                </a:lnTo>
                <a:lnTo>
                  <a:pt x="1638" y="78"/>
                </a:lnTo>
                <a:lnTo>
                  <a:pt x="1224" y="231"/>
                </a:lnTo>
                <a:lnTo>
                  <a:pt x="906" y="528"/>
                </a:lnTo>
                <a:lnTo>
                  <a:pt x="744" y="807"/>
                </a:lnTo>
                <a:lnTo>
                  <a:pt x="681" y="969"/>
                </a:lnTo>
                <a:lnTo>
                  <a:pt x="297" y="978"/>
                </a:lnTo>
                <a:lnTo>
                  <a:pt x="411" y="768"/>
                </a:lnTo>
                <a:lnTo>
                  <a:pt x="480" y="669"/>
                </a:lnTo>
                <a:lnTo>
                  <a:pt x="6" y="666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33720" y="2333520"/>
            <a:ext cx="2438280" cy="3705480"/>
          </a:xfrm>
          <a:custGeom>
            <a:avLst/>
            <a:gdLst/>
            <a:ahLst/>
            <a:rect l="l" t="t" r="r" b="b"/>
            <a:pathLst>
              <a:path w="1536" h="2334">
                <a:moveTo>
                  <a:pt x="576" y="66"/>
                </a:moveTo>
                <a:lnTo>
                  <a:pt x="1536" y="1362"/>
                </a:lnTo>
                <a:lnTo>
                  <a:pt x="1368" y="2334"/>
                </a:lnTo>
                <a:lnTo>
                  <a:pt x="1212" y="2304"/>
                </a:lnTo>
                <a:lnTo>
                  <a:pt x="1062" y="2250"/>
                </a:lnTo>
                <a:lnTo>
                  <a:pt x="912" y="2184"/>
                </a:lnTo>
                <a:lnTo>
                  <a:pt x="738" y="2082"/>
                </a:lnTo>
                <a:lnTo>
                  <a:pt x="594" y="1974"/>
                </a:lnTo>
                <a:lnTo>
                  <a:pt x="462" y="1848"/>
                </a:lnTo>
                <a:lnTo>
                  <a:pt x="360" y="1722"/>
                </a:lnTo>
                <a:lnTo>
                  <a:pt x="270" y="1602"/>
                </a:lnTo>
                <a:lnTo>
                  <a:pt x="186" y="1464"/>
                </a:lnTo>
                <a:lnTo>
                  <a:pt x="108" y="1290"/>
                </a:lnTo>
                <a:lnTo>
                  <a:pt x="54" y="1122"/>
                </a:lnTo>
                <a:lnTo>
                  <a:pt x="12" y="906"/>
                </a:lnTo>
                <a:lnTo>
                  <a:pt x="0" y="720"/>
                </a:lnTo>
                <a:lnTo>
                  <a:pt x="0" y="552"/>
                </a:lnTo>
                <a:lnTo>
                  <a:pt x="24" y="390"/>
                </a:lnTo>
                <a:lnTo>
                  <a:pt x="54" y="258"/>
                </a:lnTo>
                <a:lnTo>
                  <a:pt x="90" y="126"/>
                </a:lnTo>
                <a:lnTo>
                  <a:pt x="144" y="0"/>
                </a:lnTo>
                <a:lnTo>
                  <a:pt x="576" y="6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488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500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502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905120" y="781200"/>
            <a:ext cx="2514600" cy="2482560"/>
          </a:xfrm>
          <a:custGeom>
            <a:avLst/>
            <a:gdLst/>
            <a:ahLst/>
            <a:rect l="l" t="t" r="r" b="b"/>
            <a:pathLst>
              <a:path w="1584" h="1564">
                <a:moveTo>
                  <a:pt x="0" y="372"/>
                </a:moveTo>
                <a:lnTo>
                  <a:pt x="768" y="372"/>
                </a:lnTo>
                <a:lnTo>
                  <a:pt x="884" y="280"/>
                </a:lnTo>
                <a:lnTo>
                  <a:pt x="1080" y="160"/>
                </a:lnTo>
                <a:lnTo>
                  <a:pt x="1348" y="60"/>
                </a:lnTo>
                <a:lnTo>
                  <a:pt x="1576" y="0"/>
                </a:lnTo>
                <a:lnTo>
                  <a:pt x="1584" y="72"/>
                </a:lnTo>
                <a:lnTo>
                  <a:pt x="1208" y="236"/>
                </a:lnTo>
                <a:lnTo>
                  <a:pt x="828" y="628"/>
                </a:lnTo>
                <a:lnTo>
                  <a:pt x="692" y="1012"/>
                </a:lnTo>
                <a:lnTo>
                  <a:pt x="648" y="1468"/>
                </a:lnTo>
                <a:lnTo>
                  <a:pt x="148" y="1564"/>
                </a:lnTo>
                <a:lnTo>
                  <a:pt x="184" y="1276"/>
                </a:lnTo>
                <a:lnTo>
                  <a:pt x="276" y="1016"/>
                </a:lnTo>
                <a:lnTo>
                  <a:pt x="380" y="816"/>
                </a:lnTo>
                <a:lnTo>
                  <a:pt x="472" y="656"/>
                </a:lnTo>
                <a:lnTo>
                  <a:pt x="4" y="656"/>
                </a:lnTo>
                <a:lnTo>
                  <a:pt x="0" y="3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33720" y="3124080"/>
            <a:ext cx="3352680" cy="2952720"/>
          </a:xfrm>
          <a:custGeom>
            <a:avLst/>
            <a:gdLst/>
            <a:ahLst/>
            <a:rect l="l" t="t" r="r" b="b"/>
            <a:pathLst>
              <a:path w="2112" h="1860">
                <a:moveTo>
                  <a:pt x="624" y="0"/>
                </a:moveTo>
                <a:lnTo>
                  <a:pt x="1872" y="864"/>
                </a:lnTo>
                <a:lnTo>
                  <a:pt x="2112" y="1824"/>
                </a:lnTo>
                <a:lnTo>
                  <a:pt x="1866" y="1860"/>
                </a:lnTo>
                <a:lnTo>
                  <a:pt x="1518" y="1854"/>
                </a:lnTo>
                <a:lnTo>
                  <a:pt x="1146" y="1788"/>
                </a:lnTo>
                <a:lnTo>
                  <a:pt x="732" y="1590"/>
                </a:lnTo>
                <a:lnTo>
                  <a:pt x="426" y="1314"/>
                </a:lnTo>
                <a:lnTo>
                  <a:pt x="168" y="930"/>
                </a:lnTo>
                <a:lnTo>
                  <a:pt x="66" y="666"/>
                </a:lnTo>
                <a:lnTo>
                  <a:pt x="6" y="420"/>
                </a:lnTo>
                <a:lnTo>
                  <a:pt x="0" y="90"/>
                </a:lnTo>
                <a:lnTo>
                  <a:pt x="62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528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905120" y="914400"/>
            <a:ext cx="2000160" cy="3114720"/>
          </a:xfrm>
          <a:custGeom>
            <a:avLst/>
            <a:gdLst/>
            <a:ahLst/>
            <a:rect l="l" t="t" r="r" b="b"/>
            <a:pathLst>
              <a:path w="1260" h="1962">
                <a:moveTo>
                  <a:pt x="12" y="294"/>
                </a:moveTo>
                <a:lnTo>
                  <a:pt x="744" y="288"/>
                </a:lnTo>
                <a:lnTo>
                  <a:pt x="882" y="180"/>
                </a:lnTo>
                <a:lnTo>
                  <a:pt x="1074" y="72"/>
                </a:lnTo>
                <a:lnTo>
                  <a:pt x="1242" y="0"/>
                </a:lnTo>
                <a:lnTo>
                  <a:pt x="1260" y="108"/>
                </a:lnTo>
                <a:lnTo>
                  <a:pt x="924" y="420"/>
                </a:lnTo>
                <a:lnTo>
                  <a:pt x="684" y="1140"/>
                </a:lnTo>
                <a:lnTo>
                  <a:pt x="702" y="1398"/>
                </a:lnTo>
                <a:lnTo>
                  <a:pt x="762" y="1632"/>
                </a:lnTo>
                <a:lnTo>
                  <a:pt x="186" y="1962"/>
                </a:lnTo>
                <a:lnTo>
                  <a:pt x="138" y="1584"/>
                </a:lnTo>
                <a:lnTo>
                  <a:pt x="174" y="1242"/>
                </a:lnTo>
                <a:lnTo>
                  <a:pt x="240" y="1026"/>
                </a:lnTo>
                <a:lnTo>
                  <a:pt x="336" y="792"/>
                </a:lnTo>
                <a:lnTo>
                  <a:pt x="480" y="570"/>
                </a:lnTo>
                <a:lnTo>
                  <a:pt x="0" y="570"/>
                </a:lnTo>
                <a:lnTo>
                  <a:pt x="12" y="2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97080" y="1600200"/>
            <a:ext cx="6883560" cy="4584600"/>
          </a:xfrm>
          <a:custGeom>
            <a:avLst/>
            <a:gdLst/>
            <a:ahLst/>
            <a:rect l="l" t="t" r="r" b="b"/>
            <a:pathLst>
              <a:path w="4336" h="2888">
                <a:moveTo>
                  <a:pt x="632" y="1200"/>
                </a:moveTo>
                <a:lnTo>
                  <a:pt x="2888" y="0"/>
                </a:lnTo>
                <a:lnTo>
                  <a:pt x="3056" y="256"/>
                </a:lnTo>
                <a:lnTo>
                  <a:pt x="3160" y="440"/>
                </a:lnTo>
                <a:lnTo>
                  <a:pt x="3232" y="616"/>
                </a:lnTo>
                <a:lnTo>
                  <a:pt x="3288" y="864"/>
                </a:lnTo>
                <a:lnTo>
                  <a:pt x="3320" y="1040"/>
                </a:lnTo>
                <a:lnTo>
                  <a:pt x="3312" y="1336"/>
                </a:lnTo>
                <a:lnTo>
                  <a:pt x="3248" y="1584"/>
                </a:lnTo>
                <a:lnTo>
                  <a:pt x="3216" y="1728"/>
                </a:lnTo>
                <a:lnTo>
                  <a:pt x="3152" y="1856"/>
                </a:lnTo>
                <a:lnTo>
                  <a:pt x="3072" y="2024"/>
                </a:lnTo>
                <a:lnTo>
                  <a:pt x="3008" y="2128"/>
                </a:lnTo>
                <a:lnTo>
                  <a:pt x="3304" y="2120"/>
                </a:lnTo>
                <a:lnTo>
                  <a:pt x="3608" y="2096"/>
                </a:lnTo>
                <a:lnTo>
                  <a:pt x="3840" y="2016"/>
                </a:lnTo>
                <a:lnTo>
                  <a:pt x="4040" y="1848"/>
                </a:lnTo>
                <a:lnTo>
                  <a:pt x="4184" y="1696"/>
                </a:lnTo>
                <a:lnTo>
                  <a:pt x="4272" y="1608"/>
                </a:lnTo>
                <a:lnTo>
                  <a:pt x="4128" y="1896"/>
                </a:lnTo>
                <a:lnTo>
                  <a:pt x="4032" y="2112"/>
                </a:lnTo>
                <a:lnTo>
                  <a:pt x="4016" y="2192"/>
                </a:lnTo>
                <a:lnTo>
                  <a:pt x="4096" y="2216"/>
                </a:lnTo>
                <a:lnTo>
                  <a:pt x="4272" y="2248"/>
                </a:lnTo>
                <a:lnTo>
                  <a:pt x="4336" y="2248"/>
                </a:lnTo>
                <a:lnTo>
                  <a:pt x="4184" y="2304"/>
                </a:lnTo>
                <a:lnTo>
                  <a:pt x="3976" y="2424"/>
                </a:lnTo>
                <a:lnTo>
                  <a:pt x="4048" y="2480"/>
                </a:lnTo>
                <a:lnTo>
                  <a:pt x="4208" y="2616"/>
                </a:lnTo>
                <a:lnTo>
                  <a:pt x="4280" y="2712"/>
                </a:lnTo>
                <a:lnTo>
                  <a:pt x="4328" y="2792"/>
                </a:lnTo>
                <a:lnTo>
                  <a:pt x="4336" y="2888"/>
                </a:lnTo>
                <a:lnTo>
                  <a:pt x="4280" y="2784"/>
                </a:lnTo>
                <a:lnTo>
                  <a:pt x="4216" y="2728"/>
                </a:lnTo>
                <a:lnTo>
                  <a:pt x="4040" y="2664"/>
                </a:lnTo>
                <a:lnTo>
                  <a:pt x="3800" y="2648"/>
                </a:lnTo>
                <a:lnTo>
                  <a:pt x="3608" y="2624"/>
                </a:lnTo>
                <a:lnTo>
                  <a:pt x="3376" y="2616"/>
                </a:lnTo>
                <a:lnTo>
                  <a:pt x="3272" y="2632"/>
                </a:lnTo>
                <a:lnTo>
                  <a:pt x="3064" y="2632"/>
                </a:lnTo>
                <a:lnTo>
                  <a:pt x="2872" y="2632"/>
                </a:lnTo>
                <a:lnTo>
                  <a:pt x="2688" y="2632"/>
                </a:lnTo>
                <a:lnTo>
                  <a:pt x="2408" y="2624"/>
                </a:lnTo>
                <a:lnTo>
                  <a:pt x="2280" y="2688"/>
                </a:lnTo>
                <a:lnTo>
                  <a:pt x="2088" y="2752"/>
                </a:lnTo>
                <a:lnTo>
                  <a:pt x="1944" y="2800"/>
                </a:lnTo>
                <a:lnTo>
                  <a:pt x="1784" y="2824"/>
                </a:lnTo>
                <a:lnTo>
                  <a:pt x="1456" y="2816"/>
                </a:lnTo>
                <a:lnTo>
                  <a:pt x="1224" y="2768"/>
                </a:lnTo>
                <a:lnTo>
                  <a:pt x="952" y="2664"/>
                </a:lnTo>
                <a:lnTo>
                  <a:pt x="744" y="2560"/>
                </a:lnTo>
                <a:lnTo>
                  <a:pt x="448" y="2328"/>
                </a:lnTo>
                <a:lnTo>
                  <a:pt x="312" y="2160"/>
                </a:lnTo>
                <a:lnTo>
                  <a:pt x="200" y="2000"/>
                </a:lnTo>
                <a:lnTo>
                  <a:pt x="128" y="1856"/>
                </a:lnTo>
                <a:lnTo>
                  <a:pt x="48" y="1664"/>
                </a:lnTo>
                <a:lnTo>
                  <a:pt x="0" y="1528"/>
                </a:lnTo>
                <a:lnTo>
                  <a:pt x="632" y="1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548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905120" y="1276200"/>
            <a:ext cx="1581120" cy="3781440"/>
          </a:xfrm>
          <a:custGeom>
            <a:avLst/>
            <a:gdLst/>
            <a:ahLst/>
            <a:rect l="l" t="t" r="r" b="b"/>
            <a:pathLst>
              <a:path w="996" h="2382">
                <a:moveTo>
                  <a:pt x="0" y="60"/>
                </a:moveTo>
                <a:lnTo>
                  <a:pt x="720" y="60"/>
                </a:lnTo>
                <a:lnTo>
                  <a:pt x="834" y="0"/>
                </a:lnTo>
                <a:lnTo>
                  <a:pt x="912" y="180"/>
                </a:lnTo>
                <a:lnTo>
                  <a:pt x="720" y="606"/>
                </a:lnTo>
                <a:lnTo>
                  <a:pt x="726" y="972"/>
                </a:lnTo>
                <a:lnTo>
                  <a:pt x="804" y="1440"/>
                </a:lnTo>
                <a:lnTo>
                  <a:pt x="996" y="1734"/>
                </a:lnTo>
                <a:lnTo>
                  <a:pt x="972" y="1818"/>
                </a:lnTo>
                <a:lnTo>
                  <a:pt x="486" y="2382"/>
                </a:lnTo>
                <a:lnTo>
                  <a:pt x="360" y="2190"/>
                </a:lnTo>
                <a:lnTo>
                  <a:pt x="228" y="1896"/>
                </a:lnTo>
                <a:lnTo>
                  <a:pt x="162" y="1632"/>
                </a:lnTo>
                <a:lnTo>
                  <a:pt x="138" y="1368"/>
                </a:lnTo>
                <a:lnTo>
                  <a:pt x="156" y="1116"/>
                </a:lnTo>
                <a:lnTo>
                  <a:pt x="210" y="888"/>
                </a:lnTo>
                <a:lnTo>
                  <a:pt x="294" y="648"/>
                </a:lnTo>
                <a:lnTo>
                  <a:pt x="384" y="480"/>
                </a:lnTo>
                <a:lnTo>
                  <a:pt x="468" y="348"/>
                </a:lnTo>
                <a:lnTo>
                  <a:pt x="6" y="348"/>
                </a:lnTo>
                <a:lnTo>
                  <a:pt x="0" y="6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95680" y="3886200"/>
            <a:ext cx="6162480" cy="2190600"/>
          </a:xfrm>
          <a:custGeom>
            <a:avLst/>
            <a:gdLst/>
            <a:ahLst/>
            <a:rect l="l" t="t" r="r" b="b"/>
            <a:pathLst>
              <a:path w="3882" h="1380">
                <a:moveTo>
                  <a:pt x="606" y="0"/>
                </a:moveTo>
                <a:lnTo>
                  <a:pt x="2238" y="48"/>
                </a:lnTo>
                <a:lnTo>
                  <a:pt x="2784" y="552"/>
                </a:lnTo>
                <a:lnTo>
                  <a:pt x="2718" y="654"/>
                </a:lnTo>
                <a:lnTo>
                  <a:pt x="2934" y="672"/>
                </a:lnTo>
                <a:lnTo>
                  <a:pt x="2994" y="660"/>
                </a:lnTo>
                <a:lnTo>
                  <a:pt x="3846" y="666"/>
                </a:lnTo>
                <a:lnTo>
                  <a:pt x="3882" y="1290"/>
                </a:lnTo>
                <a:lnTo>
                  <a:pt x="3444" y="1218"/>
                </a:lnTo>
                <a:lnTo>
                  <a:pt x="3228" y="1176"/>
                </a:lnTo>
                <a:lnTo>
                  <a:pt x="2964" y="1182"/>
                </a:lnTo>
                <a:lnTo>
                  <a:pt x="2118" y="1176"/>
                </a:lnTo>
                <a:lnTo>
                  <a:pt x="2022" y="1224"/>
                </a:lnTo>
                <a:lnTo>
                  <a:pt x="1878" y="1296"/>
                </a:lnTo>
                <a:lnTo>
                  <a:pt x="1758" y="1326"/>
                </a:lnTo>
                <a:lnTo>
                  <a:pt x="1602" y="1356"/>
                </a:lnTo>
                <a:lnTo>
                  <a:pt x="1458" y="1380"/>
                </a:lnTo>
                <a:lnTo>
                  <a:pt x="1272" y="1374"/>
                </a:lnTo>
                <a:lnTo>
                  <a:pt x="1116" y="1368"/>
                </a:lnTo>
                <a:lnTo>
                  <a:pt x="930" y="1332"/>
                </a:lnTo>
                <a:lnTo>
                  <a:pt x="726" y="1266"/>
                </a:lnTo>
                <a:lnTo>
                  <a:pt x="570" y="1194"/>
                </a:lnTo>
                <a:lnTo>
                  <a:pt x="438" y="1116"/>
                </a:lnTo>
                <a:lnTo>
                  <a:pt x="288" y="1008"/>
                </a:lnTo>
                <a:lnTo>
                  <a:pt x="114" y="870"/>
                </a:lnTo>
                <a:lnTo>
                  <a:pt x="36" y="768"/>
                </a:lnTo>
                <a:lnTo>
                  <a:pt x="0" y="732"/>
                </a:lnTo>
                <a:lnTo>
                  <a:pt x="606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567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133720" y="1752480"/>
            <a:ext cx="1904760" cy="3962520"/>
          </a:xfrm>
          <a:custGeom>
            <a:avLst/>
            <a:gdLst/>
            <a:ahLst/>
            <a:rect l="l" t="t" r="r" b="b"/>
            <a:pathLst>
              <a:path w="1200" h="2496">
                <a:moveTo>
                  <a:pt x="336" y="0"/>
                </a:moveTo>
                <a:lnTo>
                  <a:pt x="624" y="192"/>
                </a:lnTo>
                <a:lnTo>
                  <a:pt x="576" y="576"/>
                </a:lnTo>
                <a:lnTo>
                  <a:pt x="672" y="1152"/>
                </a:lnTo>
                <a:lnTo>
                  <a:pt x="960" y="1536"/>
                </a:lnTo>
                <a:lnTo>
                  <a:pt x="1200" y="1680"/>
                </a:lnTo>
                <a:lnTo>
                  <a:pt x="816" y="2496"/>
                </a:lnTo>
                <a:lnTo>
                  <a:pt x="688" y="2408"/>
                </a:lnTo>
                <a:lnTo>
                  <a:pt x="528" y="2272"/>
                </a:lnTo>
                <a:lnTo>
                  <a:pt x="384" y="2128"/>
                </a:lnTo>
                <a:lnTo>
                  <a:pt x="248" y="1944"/>
                </a:lnTo>
                <a:lnTo>
                  <a:pt x="112" y="1672"/>
                </a:lnTo>
                <a:lnTo>
                  <a:pt x="40" y="1424"/>
                </a:lnTo>
                <a:lnTo>
                  <a:pt x="8" y="1192"/>
                </a:lnTo>
                <a:lnTo>
                  <a:pt x="0" y="1032"/>
                </a:lnTo>
                <a:lnTo>
                  <a:pt x="16" y="848"/>
                </a:lnTo>
                <a:lnTo>
                  <a:pt x="48" y="640"/>
                </a:lnTo>
                <a:lnTo>
                  <a:pt x="112" y="456"/>
                </a:lnTo>
                <a:lnTo>
                  <a:pt x="168" y="312"/>
                </a:lnTo>
                <a:lnTo>
                  <a:pt x="272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19160" y="752400"/>
            <a:ext cx="3662640" cy="1157400"/>
          </a:xfrm>
          <a:custGeom>
            <a:avLst/>
            <a:gdLst/>
            <a:ahLst/>
            <a:rect l="l" t="t" r="r" b="b"/>
            <a:pathLst>
              <a:path w="2307" h="729">
                <a:moveTo>
                  <a:pt x="3" y="390"/>
                </a:moveTo>
                <a:lnTo>
                  <a:pt x="747" y="387"/>
                </a:lnTo>
                <a:lnTo>
                  <a:pt x="930" y="258"/>
                </a:lnTo>
                <a:lnTo>
                  <a:pt x="1140" y="147"/>
                </a:lnTo>
                <a:lnTo>
                  <a:pt x="1386" y="60"/>
                </a:lnTo>
                <a:lnTo>
                  <a:pt x="1680" y="9"/>
                </a:lnTo>
                <a:lnTo>
                  <a:pt x="1917" y="0"/>
                </a:lnTo>
                <a:lnTo>
                  <a:pt x="2190" y="42"/>
                </a:lnTo>
                <a:lnTo>
                  <a:pt x="2307" y="78"/>
                </a:lnTo>
                <a:lnTo>
                  <a:pt x="2289" y="147"/>
                </a:lnTo>
                <a:lnTo>
                  <a:pt x="1929" y="81"/>
                </a:lnTo>
                <a:lnTo>
                  <a:pt x="1482" y="135"/>
                </a:lnTo>
                <a:lnTo>
                  <a:pt x="1014" y="387"/>
                </a:lnTo>
                <a:lnTo>
                  <a:pt x="795" y="654"/>
                </a:lnTo>
                <a:lnTo>
                  <a:pt x="762" y="729"/>
                </a:lnTo>
                <a:lnTo>
                  <a:pt x="504" y="636"/>
                </a:lnTo>
                <a:lnTo>
                  <a:pt x="471" y="678"/>
                </a:lnTo>
                <a:lnTo>
                  <a:pt x="162" y="675"/>
                </a:lnTo>
                <a:lnTo>
                  <a:pt x="0" y="669"/>
                </a:lnTo>
                <a:lnTo>
                  <a:pt x="3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587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133720" y="2286000"/>
            <a:ext cx="2361960" cy="3762360"/>
          </a:xfrm>
          <a:custGeom>
            <a:avLst/>
            <a:gdLst/>
            <a:ahLst/>
            <a:rect l="l" t="t" r="r" b="b"/>
            <a:pathLst>
              <a:path w="1488" h="2370">
                <a:moveTo>
                  <a:pt x="144" y="0"/>
                </a:moveTo>
                <a:lnTo>
                  <a:pt x="528" y="144"/>
                </a:lnTo>
                <a:lnTo>
                  <a:pt x="564" y="588"/>
                </a:lnTo>
                <a:lnTo>
                  <a:pt x="696" y="900"/>
                </a:lnTo>
                <a:lnTo>
                  <a:pt x="972" y="1176"/>
                </a:lnTo>
                <a:lnTo>
                  <a:pt x="1404" y="1386"/>
                </a:lnTo>
                <a:lnTo>
                  <a:pt x="1488" y="1476"/>
                </a:lnTo>
                <a:lnTo>
                  <a:pt x="1368" y="2370"/>
                </a:lnTo>
                <a:lnTo>
                  <a:pt x="1098" y="2292"/>
                </a:lnTo>
                <a:lnTo>
                  <a:pt x="918" y="2214"/>
                </a:lnTo>
                <a:lnTo>
                  <a:pt x="690" y="2076"/>
                </a:lnTo>
                <a:lnTo>
                  <a:pt x="522" y="1932"/>
                </a:lnTo>
                <a:lnTo>
                  <a:pt x="336" y="1734"/>
                </a:lnTo>
                <a:lnTo>
                  <a:pt x="222" y="1554"/>
                </a:lnTo>
                <a:lnTo>
                  <a:pt x="108" y="1314"/>
                </a:lnTo>
                <a:lnTo>
                  <a:pt x="54" y="1116"/>
                </a:lnTo>
                <a:lnTo>
                  <a:pt x="12" y="906"/>
                </a:lnTo>
                <a:lnTo>
                  <a:pt x="0" y="726"/>
                </a:lnTo>
                <a:lnTo>
                  <a:pt x="12" y="486"/>
                </a:lnTo>
                <a:lnTo>
                  <a:pt x="72" y="246"/>
                </a:lnTo>
                <a:lnTo>
                  <a:pt x="102" y="120"/>
                </a:lnTo>
                <a:lnTo>
                  <a:pt x="180" y="12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749160"/>
            <a:ext cx="3162240" cy="1657440"/>
          </a:xfrm>
          <a:custGeom>
            <a:avLst/>
            <a:gdLst/>
            <a:ahLst/>
            <a:rect l="l" t="t" r="r" b="b"/>
            <a:pathLst>
              <a:path w="1992" h="1044">
                <a:moveTo>
                  <a:pt x="0" y="392"/>
                </a:moveTo>
                <a:lnTo>
                  <a:pt x="768" y="392"/>
                </a:lnTo>
                <a:lnTo>
                  <a:pt x="880" y="296"/>
                </a:lnTo>
                <a:lnTo>
                  <a:pt x="1104" y="164"/>
                </a:lnTo>
                <a:lnTo>
                  <a:pt x="1348" y="72"/>
                </a:lnTo>
                <a:lnTo>
                  <a:pt x="1544" y="28"/>
                </a:lnTo>
                <a:lnTo>
                  <a:pt x="1720" y="0"/>
                </a:lnTo>
                <a:lnTo>
                  <a:pt x="1904" y="4"/>
                </a:lnTo>
                <a:lnTo>
                  <a:pt x="1984" y="12"/>
                </a:lnTo>
                <a:lnTo>
                  <a:pt x="1992" y="84"/>
                </a:lnTo>
                <a:lnTo>
                  <a:pt x="1520" y="132"/>
                </a:lnTo>
                <a:lnTo>
                  <a:pt x="1020" y="444"/>
                </a:lnTo>
                <a:lnTo>
                  <a:pt x="744" y="880"/>
                </a:lnTo>
                <a:lnTo>
                  <a:pt x="632" y="1044"/>
                </a:lnTo>
                <a:lnTo>
                  <a:pt x="296" y="996"/>
                </a:lnTo>
                <a:lnTo>
                  <a:pt x="396" y="800"/>
                </a:lnTo>
                <a:lnTo>
                  <a:pt x="480" y="672"/>
                </a:lnTo>
                <a:lnTo>
                  <a:pt x="12" y="672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607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8" name="Pompe%20vide%20Jpeg" descr=""/>
          <p:cNvPicPr/>
          <p:nvPr/>
        </p:nvPicPr>
        <p:blipFill>
          <a:blip r:embed="rId1"/>
          <a:stretch/>
        </p:blipFill>
        <p:spPr>
          <a:xfrm>
            <a:off x="685800" y="0"/>
            <a:ext cx="5029200" cy="5019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4191120"/>
            <a:ext cx="23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ue globale de la Pompe à vide que l ’on appellera aussi pompe à palet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876920" y="2732040"/>
          <a:ext cx="4267080" cy="412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2732040"/>
                    <a:ext cx="426708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486400" y="1905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mpe sans le couvercle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let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4089000">
            <a:off x="7408440" y="3440160"/>
            <a:ext cx="1181160" cy="190440"/>
          </a:xfrm>
          <a:prstGeom prst="rightArrow">
            <a:avLst>
              <a:gd name="adj1" fmla="val 50000"/>
              <a:gd name="adj2" fmla="val 1550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6855000">
            <a:off x="6514920" y="3390480"/>
            <a:ext cx="1181160" cy="190800"/>
          </a:xfrm>
          <a:prstGeom prst="rightArrow">
            <a:avLst>
              <a:gd name="adj1" fmla="val 50000"/>
              <a:gd name="adj2" fmla="val 15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619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621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781200"/>
            <a:ext cx="2514600" cy="2482560"/>
          </a:xfrm>
          <a:custGeom>
            <a:avLst/>
            <a:gdLst/>
            <a:ahLst/>
            <a:rect l="l" t="t" r="r" b="b"/>
            <a:pathLst>
              <a:path w="1584" h="1564">
                <a:moveTo>
                  <a:pt x="0" y="372"/>
                </a:moveTo>
                <a:lnTo>
                  <a:pt x="768" y="372"/>
                </a:lnTo>
                <a:lnTo>
                  <a:pt x="884" y="280"/>
                </a:lnTo>
                <a:lnTo>
                  <a:pt x="1080" y="160"/>
                </a:lnTo>
                <a:lnTo>
                  <a:pt x="1348" y="60"/>
                </a:lnTo>
                <a:lnTo>
                  <a:pt x="1576" y="0"/>
                </a:lnTo>
                <a:lnTo>
                  <a:pt x="1584" y="72"/>
                </a:lnTo>
                <a:lnTo>
                  <a:pt x="1208" y="236"/>
                </a:lnTo>
                <a:lnTo>
                  <a:pt x="828" y="628"/>
                </a:lnTo>
                <a:lnTo>
                  <a:pt x="692" y="1012"/>
                </a:lnTo>
                <a:lnTo>
                  <a:pt x="648" y="1468"/>
                </a:lnTo>
                <a:lnTo>
                  <a:pt x="148" y="1564"/>
                </a:lnTo>
                <a:lnTo>
                  <a:pt x="184" y="1276"/>
                </a:lnTo>
                <a:lnTo>
                  <a:pt x="276" y="1016"/>
                </a:lnTo>
                <a:lnTo>
                  <a:pt x="380" y="816"/>
                </a:lnTo>
                <a:lnTo>
                  <a:pt x="472" y="656"/>
                </a:lnTo>
                <a:lnTo>
                  <a:pt x="4" y="656"/>
                </a:lnTo>
                <a:lnTo>
                  <a:pt x="0" y="3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3124080"/>
            <a:ext cx="3352680" cy="2952720"/>
          </a:xfrm>
          <a:custGeom>
            <a:avLst/>
            <a:gdLst/>
            <a:ahLst/>
            <a:rect l="l" t="t" r="r" b="b"/>
            <a:pathLst>
              <a:path w="2112" h="1860">
                <a:moveTo>
                  <a:pt x="624" y="0"/>
                </a:moveTo>
                <a:lnTo>
                  <a:pt x="1872" y="864"/>
                </a:lnTo>
                <a:lnTo>
                  <a:pt x="2112" y="1824"/>
                </a:lnTo>
                <a:lnTo>
                  <a:pt x="1866" y="1860"/>
                </a:lnTo>
                <a:lnTo>
                  <a:pt x="1518" y="1854"/>
                </a:lnTo>
                <a:lnTo>
                  <a:pt x="1146" y="1788"/>
                </a:lnTo>
                <a:lnTo>
                  <a:pt x="732" y="1590"/>
                </a:lnTo>
                <a:lnTo>
                  <a:pt x="426" y="1314"/>
                </a:lnTo>
                <a:lnTo>
                  <a:pt x="168" y="930"/>
                </a:lnTo>
                <a:lnTo>
                  <a:pt x="66" y="666"/>
                </a:lnTo>
                <a:lnTo>
                  <a:pt x="6" y="420"/>
                </a:lnTo>
                <a:lnTo>
                  <a:pt x="0" y="90"/>
                </a:lnTo>
                <a:lnTo>
                  <a:pt x="62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647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05120" y="914400"/>
            <a:ext cx="2000160" cy="3114720"/>
          </a:xfrm>
          <a:custGeom>
            <a:avLst/>
            <a:gdLst/>
            <a:ahLst/>
            <a:rect l="l" t="t" r="r" b="b"/>
            <a:pathLst>
              <a:path w="1260" h="1962">
                <a:moveTo>
                  <a:pt x="12" y="294"/>
                </a:moveTo>
                <a:lnTo>
                  <a:pt x="744" y="288"/>
                </a:lnTo>
                <a:lnTo>
                  <a:pt x="882" y="180"/>
                </a:lnTo>
                <a:lnTo>
                  <a:pt x="1074" y="72"/>
                </a:lnTo>
                <a:lnTo>
                  <a:pt x="1242" y="0"/>
                </a:lnTo>
                <a:lnTo>
                  <a:pt x="1260" y="108"/>
                </a:lnTo>
                <a:lnTo>
                  <a:pt x="924" y="420"/>
                </a:lnTo>
                <a:lnTo>
                  <a:pt x="684" y="1140"/>
                </a:lnTo>
                <a:lnTo>
                  <a:pt x="702" y="1398"/>
                </a:lnTo>
                <a:lnTo>
                  <a:pt x="762" y="1632"/>
                </a:lnTo>
                <a:lnTo>
                  <a:pt x="186" y="1962"/>
                </a:lnTo>
                <a:lnTo>
                  <a:pt x="138" y="1584"/>
                </a:lnTo>
                <a:lnTo>
                  <a:pt x="174" y="1242"/>
                </a:lnTo>
                <a:lnTo>
                  <a:pt x="240" y="1026"/>
                </a:lnTo>
                <a:lnTo>
                  <a:pt x="336" y="792"/>
                </a:lnTo>
                <a:lnTo>
                  <a:pt x="480" y="570"/>
                </a:lnTo>
                <a:lnTo>
                  <a:pt x="0" y="570"/>
                </a:lnTo>
                <a:lnTo>
                  <a:pt x="12" y="2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97080" y="1600200"/>
            <a:ext cx="6883560" cy="4584600"/>
          </a:xfrm>
          <a:custGeom>
            <a:avLst/>
            <a:gdLst/>
            <a:ahLst/>
            <a:rect l="l" t="t" r="r" b="b"/>
            <a:pathLst>
              <a:path w="4336" h="2888">
                <a:moveTo>
                  <a:pt x="632" y="1200"/>
                </a:moveTo>
                <a:lnTo>
                  <a:pt x="2888" y="0"/>
                </a:lnTo>
                <a:lnTo>
                  <a:pt x="3056" y="256"/>
                </a:lnTo>
                <a:lnTo>
                  <a:pt x="3160" y="440"/>
                </a:lnTo>
                <a:lnTo>
                  <a:pt x="3232" y="616"/>
                </a:lnTo>
                <a:lnTo>
                  <a:pt x="3288" y="864"/>
                </a:lnTo>
                <a:lnTo>
                  <a:pt x="3320" y="1040"/>
                </a:lnTo>
                <a:lnTo>
                  <a:pt x="3312" y="1336"/>
                </a:lnTo>
                <a:lnTo>
                  <a:pt x="3248" y="1584"/>
                </a:lnTo>
                <a:lnTo>
                  <a:pt x="3216" y="1728"/>
                </a:lnTo>
                <a:lnTo>
                  <a:pt x="3152" y="1856"/>
                </a:lnTo>
                <a:lnTo>
                  <a:pt x="3072" y="2024"/>
                </a:lnTo>
                <a:lnTo>
                  <a:pt x="3008" y="2128"/>
                </a:lnTo>
                <a:lnTo>
                  <a:pt x="3304" y="2120"/>
                </a:lnTo>
                <a:lnTo>
                  <a:pt x="3608" y="2096"/>
                </a:lnTo>
                <a:lnTo>
                  <a:pt x="3840" y="2016"/>
                </a:lnTo>
                <a:lnTo>
                  <a:pt x="4040" y="1848"/>
                </a:lnTo>
                <a:lnTo>
                  <a:pt x="4184" y="1696"/>
                </a:lnTo>
                <a:lnTo>
                  <a:pt x="4272" y="1608"/>
                </a:lnTo>
                <a:lnTo>
                  <a:pt x="4128" y="1896"/>
                </a:lnTo>
                <a:lnTo>
                  <a:pt x="4032" y="2112"/>
                </a:lnTo>
                <a:lnTo>
                  <a:pt x="4016" y="2192"/>
                </a:lnTo>
                <a:lnTo>
                  <a:pt x="4096" y="2216"/>
                </a:lnTo>
                <a:lnTo>
                  <a:pt x="4272" y="2248"/>
                </a:lnTo>
                <a:lnTo>
                  <a:pt x="4336" y="2248"/>
                </a:lnTo>
                <a:lnTo>
                  <a:pt x="4184" y="2304"/>
                </a:lnTo>
                <a:lnTo>
                  <a:pt x="3976" y="2424"/>
                </a:lnTo>
                <a:lnTo>
                  <a:pt x="4048" y="2480"/>
                </a:lnTo>
                <a:lnTo>
                  <a:pt x="4208" y="2616"/>
                </a:lnTo>
                <a:lnTo>
                  <a:pt x="4280" y="2712"/>
                </a:lnTo>
                <a:lnTo>
                  <a:pt x="4328" y="2792"/>
                </a:lnTo>
                <a:lnTo>
                  <a:pt x="4336" y="2888"/>
                </a:lnTo>
                <a:lnTo>
                  <a:pt x="4280" y="2784"/>
                </a:lnTo>
                <a:lnTo>
                  <a:pt x="4216" y="2728"/>
                </a:lnTo>
                <a:lnTo>
                  <a:pt x="4040" y="2664"/>
                </a:lnTo>
                <a:lnTo>
                  <a:pt x="3800" y="2648"/>
                </a:lnTo>
                <a:lnTo>
                  <a:pt x="3608" y="2624"/>
                </a:lnTo>
                <a:lnTo>
                  <a:pt x="3376" y="2616"/>
                </a:lnTo>
                <a:lnTo>
                  <a:pt x="3272" y="2632"/>
                </a:lnTo>
                <a:lnTo>
                  <a:pt x="3064" y="2632"/>
                </a:lnTo>
                <a:lnTo>
                  <a:pt x="2872" y="2632"/>
                </a:lnTo>
                <a:lnTo>
                  <a:pt x="2688" y="2632"/>
                </a:lnTo>
                <a:lnTo>
                  <a:pt x="2408" y="2624"/>
                </a:lnTo>
                <a:lnTo>
                  <a:pt x="2280" y="2688"/>
                </a:lnTo>
                <a:lnTo>
                  <a:pt x="2088" y="2752"/>
                </a:lnTo>
                <a:lnTo>
                  <a:pt x="1944" y="2800"/>
                </a:lnTo>
                <a:lnTo>
                  <a:pt x="1784" y="2824"/>
                </a:lnTo>
                <a:lnTo>
                  <a:pt x="1456" y="2816"/>
                </a:lnTo>
                <a:lnTo>
                  <a:pt x="1224" y="2768"/>
                </a:lnTo>
                <a:lnTo>
                  <a:pt x="952" y="2664"/>
                </a:lnTo>
                <a:lnTo>
                  <a:pt x="744" y="2560"/>
                </a:lnTo>
                <a:lnTo>
                  <a:pt x="448" y="2328"/>
                </a:lnTo>
                <a:lnTo>
                  <a:pt x="312" y="2160"/>
                </a:lnTo>
                <a:lnTo>
                  <a:pt x="200" y="2000"/>
                </a:lnTo>
                <a:lnTo>
                  <a:pt x="128" y="1856"/>
                </a:lnTo>
                <a:lnTo>
                  <a:pt x="48" y="1664"/>
                </a:lnTo>
                <a:lnTo>
                  <a:pt x="0" y="1528"/>
                </a:lnTo>
                <a:lnTo>
                  <a:pt x="632" y="1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667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5120" y="1276200"/>
            <a:ext cx="1581120" cy="3781440"/>
          </a:xfrm>
          <a:custGeom>
            <a:avLst/>
            <a:gdLst/>
            <a:ahLst/>
            <a:rect l="l" t="t" r="r" b="b"/>
            <a:pathLst>
              <a:path w="996" h="2382">
                <a:moveTo>
                  <a:pt x="0" y="60"/>
                </a:moveTo>
                <a:lnTo>
                  <a:pt x="720" y="60"/>
                </a:lnTo>
                <a:lnTo>
                  <a:pt x="834" y="0"/>
                </a:lnTo>
                <a:lnTo>
                  <a:pt x="912" y="180"/>
                </a:lnTo>
                <a:lnTo>
                  <a:pt x="720" y="606"/>
                </a:lnTo>
                <a:lnTo>
                  <a:pt x="726" y="972"/>
                </a:lnTo>
                <a:lnTo>
                  <a:pt x="804" y="1440"/>
                </a:lnTo>
                <a:lnTo>
                  <a:pt x="996" y="1734"/>
                </a:lnTo>
                <a:lnTo>
                  <a:pt x="972" y="1818"/>
                </a:lnTo>
                <a:lnTo>
                  <a:pt x="486" y="2382"/>
                </a:lnTo>
                <a:lnTo>
                  <a:pt x="360" y="2190"/>
                </a:lnTo>
                <a:lnTo>
                  <a:pt x="228" y="1896"/>
                </a:lnTo>
                <a:lnTo>
                  <a:pt x="162" y="1632"/>
                </a:lnTo>
                <a:lnTo>
                  <a:pt x="138" y="1368"/>
                </a:lnTo>
                <a:lnTo>
                  <a:pt x="156" y="1116"/>
                </a:lnTo>
                <a:lnTo>
                  <a:pt x="210" y="888"/>
                </a:lnTo>
                <a:lnTo>
                  <a:pt x="294" y="648"/>
                </a:lnTo>
                <a:lnTo>
                  <a:pt x="384" y="480"/>
                </a:lnTo>
                <a:lnTo>
                  <a:pt x="468" y="348"/>
                </a:lnTo>
                <a:lnTo>
                  <a:pt x="6" y="348"/>
                </a:lnTo>
                <a:lnTo>
                  <a:pt x="0" y="6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95680" y="3886200"/>
            <a:ext cx="6162480" cy="2190600"/>
          </a:xfrm>
          <a:custGeom>
            <a:avLst/>
            <a:gdLst/>
            <a:ahLst/>
            <a:rect l="l" t="t" r="r" b="b"/>
            <a:pathLst>
              <a:path w="3882" h="1380">
                <a:moveTo>
                  <a:pt x="606" y="0"/>
                </a:moveTo>
                <a:lnTo>
                  <a:pt x="2238" y="48"/>
                </a:lnTo>
                <a:lnTo>
                  <a:pt x="2784" y="552"/>
                </a:lnTo>
                <a:lnTo>
                  <a:pt x="2718" y="654"/>
                </a:lnTo>
                <a:lnTo>
                  <a:pt x="2934" y="672"/>
                </a:lnTo>
                <a:lnTo>
                  <a:pt x="2994" y="660"/>
                </a:lnTo>
                <a:lnTo>
                  <a:pt x="3846" y="666"/>
                </a:lnTo>
                <a:lnTo>
                  <a:pt x="3882" y="1290"/>
                </a:lnTo>
                <a:lnTo>
                  <a:pt x="3444" y="1218"/>
                </a:lnTo>
                <a:lnTo>
                  <a:pt x="3228" y="1176"/>
                </a:lnTo>
                <a:lnTo>
                  <a:pt x="2964" y="1182"/>
                </a:lnTo>
                <a:lnTo>
                  <a:pt x="2118" y="1176"/>
                </a:lnTo>
                <a:lnTo>
                  <a:pt x="2022" y="1224"/>
                </a:lnTo>
                <a:lnTo>
                  <a:pt x="1878" y="1296"/>
                </a:lnTo>
                <a:lnTo>
                  <a:pt x="1758" y="1326"/>
                </a:lnTo>
                <a:lnTo>
                  <a:pt x="1602" y="1356"/>
                </a:lnTo>
                <a:lnTo>
                  <a:pt x="1458" y="1380"/>
                </a:lnTo>
                <a:lnTo>
                  <a:pt x="1272" y="1374"/>
                </a:lnTo>
                <a:lnTo>
                  <a:pt x="1116" y="1368"/>
                </a:lnTo>
                <a:lnTo>
                  <a:pt x="930" y="1332"/>
                </a:lnTo>
                <a:lnTo>
                  <a:pt x="726" y="1266"/>
                </a:lnTo>
                <a:lnTo>
                  <a:pt x="570" y="1194"/>
                </a:lnTo>
                <a:lnTo>
                  <a:pt x="438" y="1116"/>
                </a:lnTo>
                <a:lnTo>
                  <a:pt x="288" y="1008"/>
                </a:lnTo>
                <a:lnTo>
                  <a:pt x="114" y="870"/>
                </a:lnTo>
                <a:lnTo>
                  <a:pt x="36" y="768"/>
                </a:lnTo>
                <a:lnTo>
                  <a:pt x="0" y="732"/>
                </a:lnTo>
                <a:lnTo>
                  <a:pt x="606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686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1752480"/>
            <a:ext cx="1904760" cy="3962520"/>
          </a:xfrm>
          <a:custGeom>
            <a:avLst/>
            <a:gdLst/>
            <a:ahLst/>
            <a:rect l="l" t="t" r="r" b="b"/>
            <a:pathLst>
              <a:path w="1200" h="2496">
                <a:moveTo>
                  <a:pt x="336" y="0"/>
                </a:moveTo>
                <a:lnTo>
                  <a:pt x="624" y="192"/>
                </a:lnTo>
                <a:lnTo>
                  <a:pt x="576" y="576"/>
                </a:lnTo>
                <a:lnTo>
                  <a:pt x="672" y="1152"/>
                </a:lnTo>
                <a:lnTo>
                  <a:pt x="960" y="1536"/>
                </a:lnTo>
                <a:lnTo>
                  <a:pt x="1200" y="1680"/>
                </a:lnTo>
                <a:lnTo>
                  <a:pt x="816" y="2496"/>
                </a:lnTo>
                <a:lnTo>
                  <a:pt x="688" y="2408"/>
                </a:lnTo>
                <a:lnTo>
                  <a:pt x="528" y="2272"/>
                </a:lnTo>
                <a:lnTo>
                  <a:pt x="384" y="2128"/>
                </a:lnTo>
                <a:lnTo>
                  <a:pt x="248" y="1944"/>
                </a:lnTo>
                <a:lnTo>
                  <a:pt x="112" y="1672"/>
                </a:lnTo>
                <a:lnTo>
                  <a:pt x="40" y="1424"/>
                </a:lnTo>
                <a:lnTo>
                  <a:pt x="8" y="1192"/>
                </a:lnTo>
                <a:lnTo>
                  <a:pt x="0" y="1032"/>
                </a:lnTo>
                <a:lnTo>
                  <a:pt x="16" y="848"/>
                </a:lnTo>
                <a:lnTo>
                  <a:pt x="48" y="640"/>
                </a:lnTo>
                <a:lnTo>
                  <a:pt x="112" y="456"/>
                </a:lnTo>
                <a:lnTo>
                  <a:pt x="168" y="312"/>
                </a:lnTo>
                <a:lnTo>
                  <a:pt x="272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19160" y="752400"/>
            <a:ext cx="3662640" cy="1157400"/>
          </a:xfrm>
          <a:custGeom>
            <a:avLst/>
            <a:gdLst/>
            <a:ahLst/>
            <a:rect l="l" t="t" r="r" b="b"/>
            <a:pathLst>
              <a:path w="2307" h="729">
                <a:moveTo>
                  <a:pt x="3" y="390"/>
                </a:moveTo>
                <a:lnTo>
                  <a:pt x="747" y="387"/>
                </a:lnTo>
                <a:lnTo>
                  <a:pt x="930" y="258"/>
                </a:lnTo>
                <a:lnTo>
                  <a:pt x="1140" y="147"/>
                </a:lnTo>
                <a:lnTo>
                  <a:pt x="1386" y="60"/>
                </a:lnTo>
                <a:lnTo>
                  <a:pt x="1680" y="9"/>
                </a:lnTo>
                <a:lnTo>
                  <a:pt x="1917" y="0"/>
                </a:lnTo>
                <a:lnTo>
                  <a:pt x="2190" y="42"/>
                </a:lnTo>
                <a:lnTo>
                  <a:pt x="2307" y="78"/>
                </a:lnTo>
                <a:lnTo>
                  <a:pt x="2289" y="147"/>
                </a:lnTo>
                <a:lnTo>
                  <a:pt x="1929" y="81"/>
                </a:lnTo>
                <a:lnTo>
                  <a:pt x="1482" y="135"/>
                </a:lnTo>
                <a:lnTo>
                  <a:pt x="1014" y="387"/>
                </a:lnTo>
                <a:lnTo>
                  <a:pt x="795" y="654"/>
                </a:lnTo>
                <a:lnTo>
                  <a:pt x="762" y="729"/>
                </a:lnTo>
                <a:lnTo>
                  <a:pt x="504" y="636"/>
                </a:lnTo>
                <a:lnTo>
                  <a:pt x="471" y="678"/>
                </a:lnTo>
                <a:lnTo>
                  <a:pt x="162" y="675"/>
                </a:lnTo>
                <a:lnTo>
                  <a:pt x="0" y="669"/>
                </a:lnTo>
                <a:lnTo>
                  <a:pt x="3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706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2286000"/>
            <a:ext cx="2361960" cy="3762360"/>
          </a:xfrm>
          <a:custGeom>
            <a:avLst/>
            <a:gdLst/>
            <a:ahLst/>
            <a:rect l="l" t="t" r="r" b="b"/>
            <a:pathLst>
              <a:path w="1488" h="2370">
                <a:moveTo>
                  <a:pt x="144" y="0"/>
                </a:moveTo>
                <a:lnTo>
                  <a:pt x="528" y="144"/>
                </a:lnTo>
                <a:lnTo>
                  <a:pt x="564" y="588"/>
                </a:lnTo>
                <a:lnTo>
                  <a:pt x="696" y="900"/>
                </a:lnTo>
                <a:lnTo>
                  <a:pt x="972" y="1176"/>
                </a:lnTo>
                <a:lnTo>
                  <a:pt x="1404" y="1386"/>
                </a:lnTo>
                <a:lnTo>
                  <a:pt x="1488" y="1476"/>
                </a:lnTo>
                <a:lnTo>
                  <a:pt x="1368" y="2370"/>
                </a:lnTo>
                <a:lnTo>
                  <a:pt x="1098" y="2292"/>
                </a:lnTo>
                <a:lnTo>
                  <a:pt x="918" y="2214"/>
                </a:lnTo>
                <a:lnTo>
                  <a:pt x="690" y="2076"/>
                </a:lnTo>
                <a:lnTo>
                  <a:pt x="522" y="1932"/>
                </a:lnTo>
                <a:lnTo>
                  <a:pt x="336" y="1734"/>
                </a:lnTo>
                <a:lnTo>
                  <a:pt x="222" y="1554"/>
                </a:lnTo>
                <a:lnTo>
                  <a:pt x="108" y="1314"/>
                </a:lnTo>
                <a:lnTo>
                  <a:pt x="54" y="1116"/>
                </a:lnTo>
                <a:lnTo>
                  <a:pt x="12" y="906"/>
                </a:lnTo>
                <a:lnTo>
                  <a:pt x="0" y="726"/>
                </a:lnTo>
                <a:lnTo>
                  <a:pt x="12" y="486"/>
                </a:lnTo>
                <a:lnTo>
                  <a:pt x="72" y="246"/>
                </a:lnTo>
                <a:lnTo>
                  <a:pt x="102" y="120"/>
                </a:lnTo>
                <a:lnTo>
                  <a:pt x="180" y="12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5120" y="749160"/>
            <a:ext cx="3162240" cy="1657440"/>
          </a:xfrm>
          <a:custGeom>
            <a:avLst/>
            <a:gdLst/>
            <a:ahLst/>
            <a:rect l="l" t="t" r="r" b="b"/>
            <a:pathLst>
              <a:path w="1992" h="1044">
                <a:moveTo>
                  <a:pt x="0" y="392"/>
                </a:moveTo>
                <a:lnTo>
                  <a:pt x="768" y="392"/>
                </a:lnTo>
                <a:lnTo>
                  <a:pt x="880" y="296"/>
                </a:lnTo>
                <a:lnTo>
                  <a:pt x="1104" y="164"/>
                </a:lnTo>
                <a:lnTo>
                  <a:pt x="1348" y="72"/>
                </a:lnTo>
                <a:lnTo>
                  <a:pt x="1544" y="28"/>
                </a:lnTo>
                <a:lnTo>
                  <a:pt x="1720" y="0"/>
                </a:lnTo>
                <a:lnTo>
                  <a:pt x="1904" y="4"/>
                </a:lnTo>
                <a:lnTo>
                  <a:pt x="1984" y="12"/>
                </a:lnTo>
                <a:lnTo>
                  <a:pt x="1992" y="84"/>
                </a:lnTo>
                <a:lnTo>
                  <a:pt x="1520" y="132"/>
                </a:lnTo>
                <a:lnTo>
                  <a:pt x="1020" y="444"/>
                </a:lnTo>
                <a:lnTo>
                  <a:pt x="744" y="880"/>
                </a:lnTo>
                <a:lnTo>
                  <a:pt x="632" y="1044"/>
                </a:lnTo>
                <a:lnTo>
                  <a:pt x="296" y="996"/>
                </a:lnTo>
                <a:lnTo>
                  <a:pt x="396" y="800"/>
                </a:lnTo>
                <a:lnTo>
                  <a:pt x="480" y="672"/>
                </a:lnTo>
                <a:lnTo>
                  <a:pt x="12" y="672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726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738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740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3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781200"/>
            <a:ext cx="2514600" cy="2482560"/>
          </a:xfrm>
          <a:custGeom>
            <a:avLst/>
            <a:gdLst/>
            <a:ahLst/>
            <a:rect l="l" t="t" r="r" b="b"/>
            <a:pathLst>
              <a:path w="1584" h="1564">
                <a:moveTo>
                  <a:pt x="0" y="372"/>
                </a:moveTo>
                <a:lnTo>
                  <a:pt x="768" y="372"/>
                </a:lnTo>
                <a:lnTo>
                  <a:pt x="884" y="280"/>
                </a:lnTo>
                <a:lnTo>
                  <a:pt x="1080" y="160"/>
                </a:lnTo>
                <a:lnTo>
                  <a:pt x="1348" y="60"/>
                </a:lnTo>
                <a:lnTo>
                  <a:pt x="1576" y="0"/>
                </a:lnTo>
                <a:lnTo>
                  <a:pt x="1584" y="72"/>
                </a:lnTo>
                <a:lnTo>
                  <a:pt x="1208" y="236"/>
                </a:lnTo>
                <a:lnTo>
                  <a:pt x="828" y="628"/>
                </a:lnTo>
                <a:lnTo>
                  <a:pt x="692" y="1012"/>
                </a:lnTo>
                <a:lnTo>
                  <a:pt x="648" y="1468"/>
                </a:lnTo>
                <a:lnTo>
                  <a:pt x="148" y="1564"/>
                </a:lnTo>
                <a:lnTo>
                  <a:pt x="184" y="1276"/>
                </a:lnTo>
                <a:lnTo>
                  <a:pt x="276" y="1016"/>
                </a:lnTo>
                <a:lnTo>
                  <a:pt x="380" y="816"/>
                </a:lnTo>
                <a:lnTo>
                  <a:pt x="472" y="656"/>
                </a:lnTo>
                <a:lnTo>
                  <a:pt x="4" y="656"/>
                </a:lnTo>
                <a:lnTo>
                  <a:pt x="0" y="3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33720" y="3124080"/>
            <a:ext cx="3352680" cy="2952720"/>
          </a:xfrm>
          <a:custGeom>
            <a:avLst/>
            <a:gdLst/>
            <a:ahLst/>
            <a:rect l="l" t="t" r="r" b="b"/>
            <a:pathLst>
              <a:path w="2112" h="1860">
                <a:moveTo>
                  <a:pt x="624" y="0"/>
                </a:moveTo>
                <a:lnTo>
                  <a:pt x="1872" y="864"/>
                </a:lnTo>
                <a:lnTo>
                  <a:pt x="2112" y="1824"/>
                </a:lnTo>
                <a:lnTo>
                  <a:pt x="1866" y="1860"/>
                </a:lnTo>
                <a:lnTo>
                  <a:pt x="1518" y="1854"/>
                </a:lnTo>
                <a:lnTo>
                  <a:pt x="1146" y="1788"/>
                </a:lnTo>
                <a:lnTo>
                  <a:pt x="732" y="1590"/>
                </a:lnTo>
                <a:lnTo>
                  <a:pt x="426" y="1314"/>
                </a:lnTo>
                <a:lnTo>
                  <a:pt x="168" y="930"/>
                </a:lnTo>
                <a:lnTo>
                  <a:pt x="66" y="666"/>
                </a:lnTo>
                <a:lnTo>
                  <a:pt x="6" y="420"/>
                </a:lnTo>
                <a:lnTo>
                  <a:pt x="0" y="90"/>
                </a:lnTo>
                <a:lnTo>
                  <a:pt x="62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766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05120" y="914400"/>
            <a:ext cx="2000160" cy="3114720"/>
          </a:xfrm>
          <a:custGeom>
            <a:avLst/>
            <a:gdLst/>
            <a:ahLst/>
            <a:rect l="l" t="t" r="r" b="b"/>
            <a:pathLst>
              <a:path w="1260" h="1962">
                <a:moveTo>
                  <a:pt x="12" y="294"/>
                </a:moveTo>
                <a:lnTo>
                  <a:pt x="744" y="288"/>
                </a:lnTo>
                <a:lnTo>
                  <a:pt x="882" y="180"/>
                </a:lnTo>
                <a:lnTo>
                  <a:pt x="1074" y="72"/>
                </a:lnTo>
                <a:lnTo>
                  <a:pt x="1242" y="0"/>
                </a:lnTo>
                <a:lnTo>
                  <a:pt x="1260" y="108"/>
                </a:lnTo>
                <a:lnTo>
                  <a:pt x="924" y="420"/>
                </a:lnTo>
                <a:lnTo>
                  <a:pt x="684" y="1140"/>
                </a:lnTo>
                <a:lnTo>
                  <a:pt x="702" y="1398"/>
                </a:lnTo>
                <a:lnTo>
                  <a:pt x="762" y="1632"/>
                </a:lnTo>
                <a:lnTo>
                  <a:pt x="186" y="1962"/>
                </a:lnTo>
                <a:lnTo>
                  <a:pt x="138" y="1584"/>
                </a:lnTo>
                <a:lnTo>
                  <a:pt x="174" y="1242"/>
                </a:lnTo>
                <a:lnTo>
                  <a:pt x="240" y="1026"/>
                </a:lnTo>
                <a:lnTo>
                  <a:pt x="336" y="792"/>
                </a:lnTo>
                <a:lnTo>
                  <a:pt x="480" y="570"/>
                </a:lnTo>
                <a:lnTo>
                  <a:pt x="0" y="570"/>
                </a:lnTo>
                <a:lnTo>
                  <a:pt x="12" y="2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197080" y="1600200"/>
            <a:ext cx="6883560" cy="4584600"/>
          </a:xfrm>
          <a:custGeom>
            <a:avLst/>
            <a:gdLst/>
            <a:ahLst/>
            <a:rect l="l" t="t" r="r" b="b"/>
            <a:pathLst>
              <a:path w="4336" h="2888">
                <a:moveTo>
                  <a:pt x="632" y="1200"/>
                </a:moveTo>
                <a:lnTo>
                  <a:pt x="2888" y="0"/>
                </a:lnTo>
                <a:lnTo>
                  <a:pt x="3056" y="256"/>
                </a:lnTo>
                <a:lnTo>
                  <a:pt x="3160" y="440"/>
                </a:lnTo>
                <a:lnTo>
                  <a:pt x="3232" y="616"/>
                </a:lnTo>
                <a:lnTo>
                  <a:pt x="3288" y="864"/>
                </a:lnTo>
                <a:lnTo>
                  <a:pt x="3320" y="1040"/>
                </a:lnTo>
                <a:lnTo>
                  <a:pt x="3312" y="1336"/>
                </a:lnTo>
                <a:lnTo>
                  <a:pt x="3248" y="1584"/>
                </a:lnTo>
                <a:lnTo>
                  <a:pt x="3216" y="1728"/>
                </a:lnTo>
                <a:lnTo>
                  <a:pt x="3152" y="1856"/>
                </a:lnTo>
                <a:lnTo>
                  <a:pt x="3072" y="2024"/>
                </a:lnTo>
                <a:lnTo>
                  <a:pt x="3008" y="2128"/>
                </a:lnTo>
                <a:lnTo>
                  <a:pt x="3304" y="2120"/>
                </a:lnTo>
                <a:lnTo>
                  <a:pt x="3608" y="2096"/>
                </a:lnTo>
                <a:lnTo>
                  <a:pt x="3840" y="2016"/>
                </a:lnTo>
                <a:lnTo>
                  <a:pt x="4040" y="1848"/>
                </a:lnTo>
                <a:lnTo>
                  <a:pt x="4184" y="1696"/>
                </a:lnTo>
                <a:lnTo>
                  <a:pt x="4272" y="1608"/>
                </a:lnTo>
                <a:lnTo>
                  <a:pt x="4128" y="1896"/>
                </a:lnTo>
                <a:lnTo>
                  <a:pt x="4032" y="2112"/>
                </a:lnTo>
                <a:lnTo>
                  <a:pt x="4016" y="2192"/>
                </a:lnTo>
                <a:lnTo>
                  <a:pt x="4096" y="2216"/>
                </a:lnTo>
                <a:lnTo>
                  <a:pt x="4272" y="2248"/>
                </a:lnTo>
                <a:lnTo>
                  <a:pt x="4336" y="2248"/>
                </a:lnTo>
                <a:lnTo>
                  <a:pt x="4184" y="2304"/>
                </a:lnTo>
                <a:lnTo>
                  <a:pt x="3976" y="2424"/>
                </a:lnTo>
                <a:lnTo>
                  <a:pt x="4048" y="2480"/>
                </a:lnTo>
                <a:lnTo>
                  <a:pt x="4208" y="2616"/>
                </a:lnTo>
                <a:lnTo>
                  <a:pt x="4280" y="2712"/>
                </a:lnTo>
                <a:lnTo>
                  <a:pt x="4328" y="2792"/>
                </a:lnTo>
                <a:lnTo>
                  <a:pt x="4336" y="2888"/>
                </a:lnTo>
                <a:lnTo>
                  <a:pt x="4280" y="2784"/>
                </a:lnTo>
                <a:lnTo>
                  <a:pt x="4216" y="2728"/>
                </a:lnTo>
                <a:lnTo>
                  <a:pt x="4040" y="2664"/>
                </a:lnTo>
                <a:lnTo>
                  <a:pt x="3800" y="2648"/>
                </a:lnTo>
                <a:lnTo>
                  <a:pt x="3608" y="2624"/>
                </a:lnTo>
                <a:lnTo>
                  <a:pt x="3376" y="2616"/>
                </a:lnTo>
                <a:lnTo>
                  <a:pt x="3272" y="2632"/>
                </a:lnTo>
                <a:lnTo>
                  <a:pt x="3064" y="2632"/>
                </a:lnTo>
                <a:lnTo>
                  <a:pt x="2872" y="2632"/>
                </a:lnTo>
                <a:lnTo>
                  <a:pt x="2688" y="2632"/>
                </a:lnTo>
                <a:lnTo>
                  <a:pt x="2408" y="2624"/>
                </a:lnTo>
                <a:lnTo>
                  <a:pt x="2280" y="2688"/>
                </a:lnTo>
                <a:lnTo>
                  <a:pt x="2088" y="2752"/>
                </a:lnTo>
                <a:lnTo>
                  <a:pt x="1944" y="2800"/>
                </a:lnTo>
                <a:lnTo>
                  <a:pt x="1784" y="2824"/>
                </a:lnTo>
                <a:lnTo>
                  <a:pt x="1456" y="2816"/>
                </a:lnTo>
                <a:lnTo>
                  <a:pt x="1224" y="2768"/>
                </a:lnTo>
                <a:lnTo>
                  <a:pt x="952" y="2664"/>
                </a:lnTo>
                <a:lnTo>
                  <a:pt x="744" y="2560"/>
                </a:lnTo>
                <a:lnTo>
                  <a:pt x="448" y="2328"/>
                </a:lnTo>
                <a:lnTo>
                  <a:pt x="312" y="2160"/>
                </a:lnTo>
                <a:lnTo>
                  <a:pt x="200" y="2000"/>
                </a:lnTo>
                <a:lnTo>
                  <a:pt x="128" y="1856"/>
                </a:lnTo>
                <a:lnTo>
                  <a:pt x="48" y="1664"/>
                </a:lnTo>
                <a:lnTo>
                  <a:pt x="0" y="1528"/>
                </a:lnTo>
                <a:lnTo>
                  <a:pt x="632" y="1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786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5120" y="1276200"/>
            <a:ext cx="1581120" cy="3781440"/>
          </a:xfrm>
          <a:custGeom>
            <a:avLst/>
            <a:gdLst/>
            <a:ahLst/>
            <a:rect l="l" t="t" r="r" b="b"/>
            <a:pathLst>
              <a:path w="996" h="2382">
                <a:moveTo>
                  <a:pt x="0" y="60"/>
                </a:moveTo>
                <a:lnTo>
                  <a:pt x="720" y="60"/>
                </a:lnTo>
                <a:lnTo>
                  <a:pt x="834" y="0"/>
                </a:lnTo>
                <a:lnTo>
                  <a:pt x="912" y="180"/>
                </a:lnTo>
                <a:lnTo>
                  <a:pt x="720" y="606"/>
                </a:lnTo>
                <a:lnTo>
                  <a:pt x="726" y="972"/>
                </a:lnTo>
                <a:lnTo>
                  <a:pt x="804" y="1440"/>
                </a:lnTo>
                <a:lnTo>
                  <a:pt x="996" y="1734"/>
                </a:lnTo>
                <a:lnTo>
                  <a:pt x="972" y="1818"/>
                </a:lnTo>
                <a:lnTo>
                  <a:pt x="486" y="2382"/>
                </a:lnTo>
                <a:lnTo>
                  <a:pt x="360" y="2190"/>
                </a:lnTo>
                <a:lnTo>
                  <a:pt x="228" y="1896"/>
                </a:lnTo>
                <a:lnTo>
                  <a:pt x="162" y="1632"/>
                </a:lnTo>
                <a:lnTo>
                  <a:pt x="138" y="1368"/>
                </a:lnTo>
                <a:lnTo>
                  <a:pt x="156" y="1116"/>
                </a:lnTo>
                <a:lnTo>
                  <a:pt x="210" y="888"/>
                </a:lnTo>
                <a:lnTo>
                  <a:pt x="294" y="648"/>
                </a:lnTo>
                <a:lnTo>
                  <a:pt x="384" y="480"/>
                </a:lnTo>
                <a:lnTo>
                  <a:pt x="468" y="348"/>
                </a:lnTo>
                <a:lnTo>
                  <a:pt x="6" y="348"/>
                </a:lnTo>
                <a:lnTo>
                  <a:pt x="0" y="6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95680" y="3886200"/>
            <a:ext cx="6162480" cy="2190600"/>
          </a:xfrm>
          <a:custGeom>
            <a:avLst/>
            <a:gdLst/>
            <a:ahLst/>
            <a:rect l="l" t="t" r="r" b="b"/>
            <a:pathLst>
              <a:path w="3882" h="1380">
                <a:moveTo>
                  <a:pt x="606" y="0"/>
                </a:moveTo>
                <a:lnTo>
                  <a:pt x="2238" y="48"/>
                </a:lnTo>
                <a:lnTo>
                  <a:pt x="2784" y="552"/>
                </a:lnTo>
                <a:lnTo>
                  <a:pt x="2718" y="654"/>
                </a:lnTo>
                <a:lnTo>
                  <a:pt x="2934" y="672"/>
                </a:lnTo>
                <a:lnTo>
                  <a:pt x="2994" y="660"/>
                </a:lnTo>
                <a:lnTo>
                  <a:pt x="3846" y="666"/>
                </a:lnTo>
                <a:lnTo>
                  <a:pt x="3882" y="1290"/>
                </a:lnTo>
                <a:lnTo>
                  <a:pt x="3444" y="1218"/>
                </a:lnTo>
                <a:lnTo>
                  <a:pt x="3228" y="1176"/>
                </a:lnTo>
                <a:lnTo>
                  <a:pt x="2964" y="1182"/>
                </a:lnTo>
                <a:lnTo>
                  <a:pt x="2118" y="1176"/>
                </a:lnTo>
                <a:lnTo>
                  <a:pt x="2022" y="1224"/>
                </a:lnTo>
                <a:lnTo>
                  <a:pt x="1878" y="1296"/>
                </a:lnTo>
                <a:lnTo>
                  <a:pt x="1758" y="1326"/>
                </a:lnTo>
                <a:lnTo>
                  <a:pt x="1602" y="1356"/>
                </a:lnTo>
                <a:lnTo>
                  <a:pt x="1458" y="1380"/>
                </a:lnTo>
                <a:lnTo>
                  <a:pt x="1272" y="1374"/>
                </a:lnTo>
                <a:lnTo>
                  <a:pt x="1116" y="1368"/>
                </a:lnTo>
                <a:lnTo>
                  <a:pt x="930" y="1332"/>
                </a:lnTo>
                <a:lnTo>
                  <a:pt x="726" y="1266"/>
                </a:lnTo>
                <a:lnTo>
                  <a:pt x="570" y="1194"/>
                </a:lnTo>
                <a:lnTo>
                  <a:pt x="438" y="1116"/>
                </a:lnTo>
                <a:lnTo>
                  <a:pt x="288" y="1008"/>
                </a:lnTo>
                <a:lnTo>
                  <a:pt x="114" y="870"/>
                </a:lnTo>
                <a:lnTo>
                  <a:pt x="36" y="768"/>
                </a:lnTo>
                <a:lnTo>
                  <a:pt x="0" y="732"/>
                </a:lnTo>
                <a:lnTo>
                  <a:pt x="606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805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8" name="freinage%20eclaté" descr=""/>
          <p:cNvPicPr/>
          <p:nvPr/>
        </p:nvPicPr>
        <p:blipFill>
          <a:blip r:embed="rId1"/>
          <a:stretch/>
        </p:blipFill>
        <p:spPr>
          <a:xfrm>
            <a:off x="838080" y="2565360"/>
            <a:ext cx="7848720" cy="4292640"/>
          </a:xfrm>
          <a:prstGeom prst="rect">
            <a:avLst/>
          </a:prstGeom>
          <a:ln w="0">
            <a:noFill/>
          </a:ln>
        </p:spPr>
      </p:pic>
      <p:pic>
        <p:nvPicPr>
          <p:cNvPr id="69" name="Pompe%20tuyau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2523960" cy="233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02200" y="2286000"/>
            <a:ext cx="317520" cy="1219320"/>
          </a:xfrm>
          <a:custGeom>
            <a:avLst/>
            <a:gdLst/>
            <a:ahLst/>
            <a:rect l="l" t="t" r="r" b="b"/>
            <a:pathLst>
              <a:path w="200" h="768">
                <a:moveTo>
                  <a:pt x="104" y="0"/>
                </a:moveTo>
                <a:cubicBezTo>
                  <a:pt x="152" y="80"/>
                  <a:pt x="200" y="160"/>
                  <a:pt x="200" y="240"/>
                </a:cubicBezTo>
                <a:cubicBezTo>
                  <a:pt x="200" y="320"/>
                  <a:pt x="136" y="416"/>
                  <a:pt x="104" y="480"/>
                </a:cubicBezTo>
                <a:cubicBezTo>
                  <a:pt x="72" y="544"/>
                  <a:pt x="0" y="576"/>
                  <a:pt x="8" y="624"/>
                </a:cubicBezTo>
                <a:cubicBezTo>
                  <a:pt x="16" y="672"/>
                  <a:pt x="128" y="744"/>
                  <a:pt x="152" y="76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3352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a pompe à vide est reliée par l ’intermédiaire d ’un </a:t>
            </a:r>
            <a:r>
              <a:rPr b="0" lang="fr-FR" sz="1600" spc="-1" strike="noStrike">
                <a:solidFill>
                  <a:srgbClr val="3399ff"/>
                </a:solidFill>
                <a:latin typeface="Comic Sans MS"/>
              </a:rPr>
              <a:t>flexibl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u Servo-fr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endCxn id="70" idx="0"/>
          </p:cNvCxnSpPr>
          <p:nvPr/>
        </p:nvCxnSpPr>
        <p:spPr>
          <a:xfrm flipH="1" rot="16200000">
            <a:off x="2709000" y="1521360"/>
            <a:ext cx="1991520" cy="1126080"/>
          </a:xfrm>
          <a:prstGeom prst="curvedConnector5">
            <a:avLst>
              <a:gd name="adj1" fmla="val 68974"/>
              <a:gd name="adj2" fmla="val 49984"/>
              <a:gd name="adj3" fmla="val 68974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 rot="20343000">
            <a:off x="5943600" y="60912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313600">
            <a:off x="6368400" y="67716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pompe est accouplée en bout d ’arbre à c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943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ystème complet de fre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763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MISE EN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33720" y="1752480"/>
            <a:ext cx="1904760" cy="3962520"/>
          </a:xfrm>
          <a:custGeom>
            <a:avLst/>
            <a:gdLst/>
            <a:ahLst/>
            <a:rect l="l" t="t" r="r" b="b"/>
            <a:pathLst>
              <a:path w="1200" h="2496">
                <a:moveTo>
                  <a:pt x="336" y="0"/>
                </a:moveTo>
                <a:lnTo>
                  <a:pt x="624" y="192"/>
                </a:lnTo>
                <a:lnTo>
                  <a:pt x="576" y="576"/>
                </a:lnTo>
                <a:lnTo>
                  <a:pt x="672" y="1152"/>
                </a:lnTo>
                <a:lnTo>
                  <a:pt x="960" y="1536"/>
                </a:lnTo>
                <a:lnTo>
                  <a:pt x="1200" y="1680"/>
                </a:lnTo>
                <a:lnTo>
                  <a:pt x="816" y="2496"/>
                </a:lnTo>
                <a:lnTo>
                  <a:pt x="688" y="2408"/>
                </a:lnTo>
                <a:lnTo>
                  <a:pt x="528" y="2272"/>
                </a:lnTo>
                <a:lnTo>
                  <a:pt x="384" y="2128"/>
                </a:lnTo>
                <a:lnTo>
                  <a:pt x="248" y="1944"/>
                </a:lnTo>
                <a:lnTo>
                  <a:pt x="112" y="1672"/>
                </a:lnTo>
                <a:lnTo>
                  <a:pt x="40" y="1424"/>
                </a:lnTo>
                <a:lnTo>
                  <a:pt x="8" y="1192"/>
                </a:lnTo>
                <a:lnTo>
                  <a:pt x="0" y="1032"/>
                </a:lnTo>
                <a:lnTo>
                  <a:pt x="16" y="848"/>
                </a:lnTo>
                <a:lnTo>
                  <a:pt x="48" y="640"/>
                </a:lnTo>
                <a:lnTo>
                  <a:pt x="112" y="456"/>
                </a:lnTo>
                <a:lnTo>
                  <a:pt x="168" y="312"/>
                </a:lnTo>
                <a:lnTo>
                  <a:pt x="272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19160" y="752400"/>
            <a:ext cx="3662640" cy="1157400"/>
          </a:xfrm>
          <a:custGeom>
            <a:avLst/>
            <a:gdLst/>
            <a:ahLst/>
            <a:rect l="l" t="t" r="r" b="b"/>
            <a:pathLst>
              <a:path w="2307" h="729">
                <a:moveTo>
                  <a:pt x="3" y="390"/>
                </a:moveTo>
                <a:lnTo>
                  <a:pt x="747" y="387"/>
                </a:lnTo>
                <a:lnTo>
                  <a:pt x="930" y="258"/>
                </a:lnTo>
                <a:lnTo>
                  <a:pt x="1140" y="147"/>
                </a:lnTo>
                <a:lnTo>
                  <a:pt x="1386" y="60"/>
                </a:lnTo>
                <a:lnTo>
                  <a:pt x="1680" y="9"/>
                </a:lnTo>
                <a:lnTo>
                  <a:pt x="1917" y="0"/>
                </a:lnTo>
                <a:lnTo>
                  <a:pt x="2190" y="42"/>
                </a:lnTo>
                <a:lnTo>
                  <a:pt x="2307" y="78"/>
                </a:lnTo>
                <a:lnTo>
                  <a:pt x="2289" y="147"/>
                </a:lnTo>
                <a:lnTo>
                  <a:pt x="1929" y="81"/>
                </a:lnTo>
                <a:lnTo>
                  <a:pt x="1482" y="135"/>
                </a:lnTo>
                <a:lnTo>
                  <a:pt x="1014" y="387"/>
                </a:lnTo>
                <a:lnTo>
                  <a:pt x="795" y="654"/>
                </a:lnTo>
                <a:lnTo>
                  <a:pt x="762" y="729"/>
                </a:lnTo>
                <a:lnTo>
                  <a:pt x="504" y="636"/>
                </a:lnTo>
                <a:lnTo>
                  <a:pt x="471" y="678"/>
                </a:lnTo>
                <a:lnTo>
                  <a:pt x="162" y="675"/>
                </a:lnTo>
                <a:lnTo>
                  <a:pt x="0" y="669"/>
                </a:lnTo>
                <a:lnTo>
                  <a:pt x="3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825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133720" y="2286000"/>
            <a:ext cx="2361960" cy="3762360"/>
          </a:xfrm>
          <a:custGeom>
            <a:avLst/>
            <a:gdLst/>
            <a:ahLst/>
            <a:rect l="l" t="t" r="r" b="b"/>
            <a:pathLst>
              <a:path w="1488" h="2370">
                <a:moveTo>
                  <a:pt x="144" y="0"/>
                </a:moveTo>
                <a:lnTo>
                  <a:pt x="528" y="144"/>
                </a:lnTo>
                <a:lnTo>
                  <a:pt x="564" y="588"/>
                </a:lnTo>
                <a:lnTo>
                  <a:pt x="696" y="900"/>
                </a:lnTo>
                <a:lnTo>
                  <a:pt x="972" y="1176"/>
                </a:lnTo>
                <a:lnTo>
                  <a:pt x="1404" y="1386"/>
                </a:lnTo>
                <a:lnTo>
                  <a:pt x="1488" y="1476"/>
                </a:lnTo>
                <a:lnTo>
                  <a:pt x="1368" y="2370"/>
                </a:lnTo>
                <a:lnTo>
                  <a:pt x="1098" y="2292"/>
                </a:lnTo>
                <a:lnTo>
                  <a:pt x="918" y="2214"/>
                </a:lnTo>
                <a:lnTo>
                  <a:pt x="690" y="2076"/>
                </a:lnTo>
                <a:lnTo>
                  <a:pt x="522" y="1932"/>
                </a:lnTo>
                <a:lnTo>
                  <a:pt x="336" y="1734"/>
                </a:lnTo>
                <a:lnTo>
                  <a:pt x="222" y="1554"/>
                </a:lnTo>
                <a:lnTo>
                  <a:pt x="108" y="1314"/>
                </a:lnTo>
                <a:lnTo>
                  <a:pt x="54" y="1116"/>
                </a:lnTo>
                <a:lnTo>
                  <a:pt x="12" y="906"/>
                </a:lnTo>
                <a:lnTo>
                  <a:pt x="0" y="726"/>
                </a:lnTo>
                <a:lnTo>
                  <a:pt x="12" y="486"/>
                </a:lnTo>
                <a:lnTo>
                  <a:pt x="72" y="246"/>
                </a:lnTo>
                <a:lnTo>
                  <a:pt x="102" y="120"/>
                </a:lnTo>
                <a:lnTo>
                  <a:pt x="180" y="12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05120" y="749160"/>
            <a:ext cx="3162240" cy="1657440"/>
          </a:xfrm>
          <a:custGeom>
            <a:avLst/>
            <a:gdLst/>
            <a:ahLst/>
            <a:rect l="l" t="t" r="r" b="b"/>
            <a:pathLst>
              <a:path w="1992" h="1044">
                <a:moveTo>
                  <a:pt x="0" y="392"/>
                </a:moveTo>
                <a:lnTo>
                  <a:pt x="768" y="392"/>
                </a:lnTo>
                <a:lnTo>
                  <a:pt x="880" y="296"/>
                </a:lnTo>
                <a:lnTo>
                  <a:pt x="1104" y="164"/>
                </a:lnTo>
                <a:lnTo>
                  <a:pt x="1348" y="72"/>
                </a:lnTo>
                <a:lnTo>
                  <a:pt x="1544" y="28"/>
                </a:lnTo>
                <a:lnTo>
                  <a:pt x="1720" y="0"/>
                </a:lnTo>
                <a:lnTo>
                  <a:pt x="1904" y="4"/>
                </a:lnTo>
                <a:lnTo>
                  <a:pt x="1984" y="12"/>
                </a:lnTo>
                <a:lnTo>
                  <a:pt x="1992" y="84"/>
                </a:lnTo>
                <a:lnTo>
                  <a:pt x="1520" y="132"/>
                </a:lnTo>
                <a:lnTo>
                  <a:pt x="1020" y="444"/>
                </a:lnTo>
                <a:lnTo>
                  <a:pt x="744" y="880"/>
                </a:lnTo>
                <a:lnTo>
                  <a:pt x="632" y="1044"/>
                </a:lnTo>
                <a:lnTo>
                  <a:pt x="296" y="996"/>
                </a:lnTo>
                <a:lnTo>
                  <a:pt x="396" y="800"/>
                </a:lnTo>
                <a:lnTo>
                  <a:pt x="480" y="672"/>
                </a:lnTo>
                <a:lnTo>
                  <a:pt x="12" y="672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844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857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859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19920" y="258840"/>
            <a:ext cx="2057400" cy="1295280"/>
          </a:xfrm>
          <a:custGeom>
            <a:avLst/>
            <a:gdLst>
              <a:gd name="textAreaLeft" fmla="*/ 83880 w 2057400"/>
              <a:gd name="textAreaRight" fmla="*/ 1973520 w 20574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4306" h="21600">
                <a:moveTo>
                  <a:pt x="0" y="0"/>
                </a:moveTo>
                <a:lnTo>
                  <a:pt x="34306" y="0"/>
                </a:lnTo>
                <a:lnTo>
                  <a:pt x="34306" y="21600"/>
                </a:lnTo>
                <a:lnTo>
                  <a:pt x="0" y="21600"/>
                </a:lnTo>
                <a:close/>
              </a:path>
              <a:path fill="lightenLess" w="34306" h="21600">
                <a:moveTo>
                  <a:pt x="0" y="0"/>
                </a:moveTo>
                <a:lnTo>
                  <a:pt x="34306" y="0"/>
                </a:lnTo>
                <a:lnTo>
                  <a:pt x="32906" y="1400"/>
                </a:lnTo>
                <a:lnTo>
                  <a:pt x="1400" y="1400"/>
                </a:lnTo>
                <a:close/>
              </a:path>
              <a:path fill="darken" w="34306" h="21600">
                <a:moveTo>
                  <a:pt x="34306" y="0"/>
                </a:moveTo>
                <a:lnTo>
                  <a:pt x="34306" y="21600"/>
                </a:lnTo>
                <a:lnTo>
                  <a:pt x="32906" y="20200"/>
                </a:lnTo>
                <a:lnTo>
                  <a:pt x="32906" y="1400"/>
                </a:lnTo>
                <a:close/>
              </a:path>
              <a:path fill="darkenLess" w="34306" h="21600">
                <a:moveTo>
                  <a:pt x="34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6" y="20200"/>
                </a:lnTo>
                <a:close/>
              </a:path>
              <a:path fill="lighten" w="34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 dé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l ’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533520" y="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Quelques définitio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45720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Solide de référen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Un solide de référence est un solide qui reste dans un état statique par rapport aux autres pièces du système mécanique étudi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 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e bâti d ’un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25146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ouvement absolu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U n mouvement est dit absolu s ’il est défini par rapport à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un repère ou un référentiel abso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358128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ouvement relati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n mouvement est dit relatif s ’il est défini pa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apport à un repère ou un référentiel rela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3520" y="61722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ur plus de renseignements consultez le DOSSIER DE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>
            <a:hlinkClick r:id="" action="ppaction://hlinkshowjump?jump=previousslide"/>
          </p:cNvPr>
          <p:cNvSpPr/>
          <p:nvPr/>
        </p:nvSpPr>
        <p:spPr>
          <a:xfrm>
            <a:off x="7696080" y="51055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895480" y="4724280"/>
            <a:ext cx="34290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962520" y="3124080"/>
            <a:ext cx="1447560" cy="2590920"/>
            <a:chOff x="3962520" y="3124080"/>
            <a:chExt cx="1447560" cy="2590920"/>
          </a:xfrm>
        </p:grpSpPr>
        <p:sp>
          <p:nvSpPr>
            <p:cNvPr id="884" name=""/>
            <p:cNvSpPr/>
            <p:nvPr/>
          </p:nvSpPr>
          <p:spPr>
            <a:xfrm>
              <a:off x="4191120" y="4343400"/>
              <a:ext cx="99036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91120" y="5410080"/>
              <a:ext cx="990360" cy="30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0" y="3124080"/>
              <a:ext cx="228600" cy="236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2520" y="31240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889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5680" y="1828800"/>
            <a:ext cx="304920" cy="1066680"/>
          </a:xfrm>
          <a:prstGeom prst="upArrow">
            <a:avLst>
              <a:gd name="adj1" fmla="val 50000"/>
              <a:gd name="adj2" fmla="val 8745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0880" y="457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cipe de base des pomp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0880" y="12193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éforme, on fait varier un volume pour déplacer le fl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2895480" y="4800600"/>
            <a:ext cx="3429000" cy="1523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3962520" y="2971800"/>
            <a:ext cx="1447560" cy="2590920"/>
            <a:chOff x="3962520" y="2971800"/>
            <a:chExt cx="1447560" cy="2590920"/>
          </a:xfrm>
        </p:grpSpPr>
        <p:sp>
          <p:nvSpPr>
            <p:cNvPr id="904" name=""/>
            <p:cNvSpPr/>
            <p:nvPr/>
          </p:nvSpPr>
          <p:spPr>
            <a:xfrm>
              <a:off x="4191120" y="4191120"/>
              <a:ext cx="99036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91120" y="5257800"/>
              <a:ext cx="990360" cy="30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72000" y="2971800"/>
              <a:ext cx="228600" cy="236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2520" y="297180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909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895480" y="4876920"/>
            <a:ext cx="3429000" cy="144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962520" y="2819520"/>
            <a:ext cx="1447560" cy="2590200"/>
            <a:chOff x="3962520" y="2819520"/>
            <a:chExt cx="1447560" cy="2590200"/>
          </a:xfrm>
        </p:grpSpPr>
        <p:sp>
          <p:nvSpPr>
            <p:cNvPr id="921" name=""/>
            <p:cNvSpPr/>
            <p:nvPr/>
          </p:nvSpPr>
          <p:spPr>
            <a:xfrm>
              <a:off x="4191120" y="4038480"/>
              <a:ext cx="990360" cy="10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91120" y="5105160"/>
              <a:ext cx="990360" cy="30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819520"/>
              <a:ext cx="228600" cy="2361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62520" y="281952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926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2895480" y="4952880"/>
            <a:ext cx="342900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962520" y="2666880"/>
            <a:ext cx="1447560" cy="2590920"/>
            <a:chOff x="3962520" y="2666880"/>
            <a:chExt cx="1447560" cy="2590920"/>
          </a:xfrm>
        </p:grpSpPr>
        <p:sp>
          <p:nvSpPr>
            <p:cNvPr id="938" name=""/>
            <p:cNvSpPr/>
            <p:nvPr/>
          </p:nvSpPr>
          <p:spPr>
            <a:xfrm>
              <a:off x="4191120" y="3886200"/>
              <a:ext cx="99036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91120" y="4952880"/>
              <a:ext cx="990360" cy="30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72000" y="2666880"/>
              <a:ext cx="228600" cy="236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62520" y="26668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943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4191120" y="4572000"/>
            <a:ext cx="990360" cy="68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95480" y="5181480"/>
            <a:ext cx="342900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962520" y="1981080"/>
            <a:ext cx="1447560" cy="2590920"/>
            <a:chOff x="3962520" y="1981080"/>
            <a:chExt cx="1447560" cy="2590920"/>
          </a:xfrm>
        </p:grpSpPr>
        <p:sp>
          <p:nvSpPr>
            <p:cNvPr id="956" name=""/>
            <p:cNvSpPr/>
            <p:nvPr/>
          </p:nvSpPr>
          <p:spPr>
            <a:xfrm>
              <a:off x="4191120" y="3200400"/>
              <a:ext cx="99036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91120" y="4267080"/>
              <a:ext cx="990360" cy="30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72000" y="1981080"/>
              <a:ext cx="228600" cy="236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62520" y="19810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961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4191120" y="4267080"/>
            <a:ext cx="990360" cy="121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95480" y="5410080"/>
            <a:ext cx="34290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3962520" y="1676520"/>
            <a:ext cx="1447560" cy="2590200"/>
            <a:chOff x="3962520" y="1676520"/>
            <a:chExt cx="1447560" cy="2590200"/>
          </a:xfrm>
        </p:grpSpPr>
        <p:sp>
          <p:nvSpPr>
            <p:cNvPr id="974" name=""/>
            <p:cNvSpPr/>
            <p:nvPr/>
          </p:nvSpPr>
          <p:spPr>
            <a:xfrm>
              <a:off x="4191120" y="2895480"/>
              <a:ext cx="990360" cy="10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91120" y="3962160"/>
              <a:ext cx="990360" cy="30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72000" y="1676520"/>
              <a:ext cx="228600" cy="2361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62520" y="167652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979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éma simplifié du système de fre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763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. MISE EN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19320" y="1447920"/>
            <a:ext cx="6705360" cy="4873680"/>
            <a:chOff x="1219320" y="1447920"/>
            <a:chExt cx="6705360" cy="4873680"/>
          </a:xfrm>
        </p:grpSpPr>
        <p:grpSp>
          <p:nvGrpSpPr>
            <p:cNvPr id="83" name=""/>
            <p:cNvGrpSpPr/>
            <p:nvPr/>
          </p:nvGrpSpPr>
          <p:grpSpPr>
            <a:xfrm>
              <a:off x="1219320" y="1447920"/>
              <a:ext cx="6705360" cy="4873680"/>
              <a:chOff x="1219320" y="1447920"/>
              <a:chExt cx="6705360" cy="4873680"/>
            </a:xfrm>
          </p:grpSpPr>
          <p:sp>
            <p:nvSpPr>
              <p:cNvPr id="84" name=""/>
              <p:cNvSpPr/>
              <p:nvPr/>
            </p:nvSpPr>
            <p:spPr>
              <a:xfrm>
                <a:off x="1550520" y="3184200"/>
                <a:ext cx="2539440" cy="1434960"/>
              </a:xfrm>
              <a:prstGeom prst="roundRect">
                <a:avLst>
                  <a:gd name="adj" fmla="val 50000"/>
                </a:avLst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693080" y="3326760"/>
                <a:ext cx="1104120" cy="110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61640" y="3326760"/>
                <a:ext cx="1104120" cy="110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71040" y="1447920"/>
                <a:ext cx="1324800" cy="132480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01480" y="3908880"/>
                <a:ext cx="331236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22440" y="3326760"/>
                <a:ext cx="1104120" cy="1103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54720" y="2107800"/>
                <a:ext cx="0" cy="3643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07000" y="2117160"/>
                <a:ext cx="0" cy="3643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08040" y="5744160"/>
                <a:ext cx="993600" cy="220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83120" y="5721120"/>
                <a:ext cx="993600" cy="220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96520" y="1891440"/>
                <a:ext cx="993600" cy="220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71600" y="1891440"/>
                <a:ext cx="993600" cy="220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79760" y="1976760"/>
                <a:ext cx="331200" cy="331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43920" y="1988280"/>
                <a:ext cx="331200" cy="331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79760" y="5507280"/>
                <a:ext cx="331200" cy="331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43920" y="5514120"/>
                <a:ext cx="331200" cy="331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63360" y="1861560"/>
                <a:ext cx="883080" cy="496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POMPE à VI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89960" y="5978880"/>
                <a:ext cx="1104120" cy="33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oue A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31080" y="5990400"/>
                <a:ext cx="993600" cy="33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oue 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23600" y="3660480"/>
                <a:ext cx="906120" cy="441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épartiteur de pr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15120" y="5171400"/>
                <a:ext cx="1214280" cy="33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ctionneu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5525280" y="5389920"/>
                <a:ext cx="777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641840" y="5392440"/>
                <a:ext cx="88308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98200" y="5392440"/>
                <a:ext cx="99360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4760" y="3552480"/>
                <a:ext cx="772920" cy="29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Circui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31280" y="2756520"/>
                <a:ext cx="0" cy="6001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70920" y="3875760"/>
                <a:ext cx="11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19320" y="3846600"/>
                <a:ext cx="441360" cy="110160"/>
              </a:xfrm>
              <a:custGeom>
                <a:avLst/>
                <a:gdLst>
                  <a:gd name="textAreaLeft" fmla="*/ 68760 w 441360"/>
                  <a:gd name="textAreaRight" fmla="*/ 386280 w 441360"/>
                  <a:gd name="textAreaTop" fmla="*/ 27360 h 110160"/>
                  <a:gd name="textAreaBottom" fmla="*/ 8280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872360" y="3690360"/>
              <a:ext cx="7012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ERVO FR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60280" y="3687840"/>
              <a:ext cx="91080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AITRE CYLIND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4191120" y="3886200"/>
            <a:ext cx="990360" cy="1752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95480" y="5562720"/>
            <a:ext cx="3429000" cy="761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95480" y="4191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324480" y="4191120"/>
            <a:ext cx="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2857680" y="63295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962520" y="1295280"/>
            <a:ext cx="1447560" cy="2590920"/>
            <a:chOff x="3962520" y="1295280"/>
            <a:chExt cx="1447560" cy="2590920"/>
          </a:xfrm>
        </p:grpSpPr>
        <p:sp>
          <p:nvSpPr>
            <p:cNvPr id="992" name=""/>
            <p:cNvSpPr/>
            <p:nvPr/>
          </p:nvSpPr>
          <p:spPr>
            <a:xfrm>
              <a:off x="4191120" y="2514600"/>
              <a:ext cx="99036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3581280"/>
              <a:ext cx="990360" cy="30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72000" y="1295280"/>
              <a:ext cx="228600" cy="236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962520" y="1295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191120" y="3505320"/>
            <a:ext cx="990360" cy="2514600"/>
            <a:chOff x="4191120" y="3505320"/>
            <a:chExt cx="990360" cy="2514600"/>
          </a:xfrm>
        </p:grpSpPr>
        <p:sp>
          <p:nvSpPr>
            <p:cNvPr id="997" name=""/>
            <p:cNvSpPr/>
            <p:nvPr/>
          </p:nvSpPr>
          <p:spPr>
            <a:xfrm flipV="1">
              <a:off x="419112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5181480" y="35053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800600" y="5791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9112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800600" y="5791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9907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960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7306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5461" y="3794"/>
                </a:lnTo>
                <a:lnTo>
                  <a:pt x="5461" y="17806"/>
                </a:lnTo>
                <a:lnTo>
                  <a:pt x="379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286000" y="1905120"/>
            <a:ext cx="182880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510160" y="4952880"/>
            <a:ext cx="681120" cy="581040"/>
          </a:xfrm>
          <a:custGeom>
            <a:avLst/>
            <a:gdLst/>
            <a:ahLst/>
            <a:rect l="l" t="t" r="r" b="b"/>
            <a:pathLst>
              <a:path w="429" h="366">
                <a:moveTo>
                  <a:pt x="429" y="0"/>
                </a:moveTo>
                <a:lnTo>
                  <a:pt x="297" y="126"/>
                </a:lnTo>
                <a:lnTo>
                  <a:pt x="186" y="297"/>
                </a:lnTo>
                <a:lnTo>
                  <a:pt x="126" y="366"/>
                </a:lnTo>
                <a:lnTo>
                  <a:pt x="0" y="360"/>
                </a:lnTo>
                <a:lnTo>
                  <a:pt x="30" y="276"/>
                </a:lnTo>
                <a:lnTo>
                  <a:pt x="60" y="225"/>
                </a:lnTo>
                <a:lnTo>
                  <a:pt x="108" y="153"/>
                </a:lnTo>
                <a:lnTo>
                  <a:pt x="168" y="102"/>
                </a:lnTo>
                <a:lnTo>
                  <a:pt x="261" y="48"/>
                </a:lnTo>
                <a:lnTo>
                  <a:pt x="342" y="15"/>
                </a:lnTo>
                <a:lnTo>
                  <a:pt x="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33880" y="4948200"/>
            <a:ext cx="2033640" cy="590760"/>
          </a:xfrm>
          <a:custGeom>
            <a:avLst/>
            <a:gdLst/>
            <a:ahLst/>
            <a:rect l="l" t="t" r="r" b="b"/>
            <a:pathLst>
              <a:path w="1281" h="372">
                <a:moveTo>
                  <a:pt x="9" y="120"/>
                </a:moveTo>
                <a:lnTo>
                  <a:pt x="1017" y="123"/>
                </a:lnTo>
                <a:lnTo>
                  <a:pt x="1083" y="72"/>
                </a:lnTo>
                <a:lnTo>
                  <a:pt x="1185" y="24"/>
                </a:lnTo>
                <a:lnTo>
                  <a:pt x="1281" y="0"/>
                </a:lnTo>
                <a:lnTo>
                  <a:pt x="1092" y="165"/>
                </a:lnTo>
                <a:lnTo>
                  <a:pt x="1035" y="282"/>
                </a:lnTo>
                <a:lnTo>
                  <a:pt x="1014" y="372"/>
                </a:lnTo>
                <a:lnTo>
                  <a:pt x="864" y="369"/>
                </a:lnTo>
                <a:lnTo>
                  <a:pt x="903" y="255"/>
                </a:lnTo>
                <a:lnTo>
                  <a:pt x="951" y="195"/>
                </a:lnTo>
                <a:lnTo>
                  <a:pt x="0" y="189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5478480" y="4944960"/>
            <a:ext cx="1608120" cy="1608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5502240" y="4944960"/>
            <a:ext cx="1562040" cy="1608120"/>
            <a:chOff x="5502240" y="4944960"/>
            <a:chExt cx="1562040" cy="1608120"/>
          </a:xfrm>
        </p:grpSpPr>
        <p:sp>
          <p:nvSpPr>
            <p:cNvPr id="1012" name=""/>
            <p:cNvSpPr/>
            <p:nvPr/>
          </p:nvSpPr>
          <p:spPr>
            <a:xfrm flipH="1">
              <a:off x="5502240" y="5496120"/>
              <a:ext cx="712080" cy="91800"/>
            </a:xfrm>
            <a:custGeom>
              <a:avLst/>
              <a:gdLst>
                <a:gd name="textAreaLeft" fmla="*/ 360 w 712080"/>
                <a:gd name="textAreaRight" fmla="*/ 712800 w 7120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6237000" y="4944960"/>
              <a:ext cx="827280" cy="1608120"/>
              <a:chOff x="6237000" y="4944960"/>
              <a:chExt cx="827280" cy="1608120"/>
            </a:xfrm>
          </p:grpSpPr>
          <p:sp>
            <p:nvSpPr>
              <p:cNvPr id="1014" name=""/>
              <p:cNvSpPr/>
              <p:nvPr/>
            </p:nvSpPr>
            <p:spPr>
              <a:xfrm rot="16200000">
                <a:off x="5927040" y="5254920"/>
                <a:ext cx="712080" cy="9180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352200" y="5496120"/>
                <a:ext cx="712080" cy="9180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400000">
                <a:off x="5926680" y="6150960"/>
                <a:ext cx="712080" cy="9180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7" name=""/>
          <p:cNvSpPr/>
          <p:nvPr/>
        </p:nvSpPr>
        <p:spPr>
          <a:xfrm>
            <a:off x="5708520" y="4962600"/>
            <a:ext cx="1148040" cy="11476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49920" y="6461280"/>
            <a:ext cx="41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948360" y="6208560"/>
            <a:ext cx="13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5397120" y="5141880"/>
            <a:ext cx="35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07200" y="5257800"/>
            <a:ext cx="23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38080" y="47242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121280" y="51436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4114800" y="5257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38080" y="1371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rvo-Fr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29360" y="489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mpe à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267080" y="38088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Lors du freinage, le rôle de </a:t>
            </a:r>
            <a:r>
              <a:rPr b="1" lang="fr-FR" sz="1600" spc="-1" strike="noStrike">
                <a:solidFill>
                  <a:srgbClr val="3333cc"/>
                </a:solidFill>
                <a:latin typeface="Comic Sans MS"/>
              </a:rPr>
              <a:t>la pompe à vide</a:t>
            </a: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 est de diminuer la pression dans </a:t>
            </a:r>
            <a:r>
              <a:rPr b="0" lang="fr-FR" sz="1600" spc="-1" strike="noStrike">
                <a:solidFill>
                  <a:srgbClr val="00cc99"/>
                </a:solidFill>
                <a:latin typeface="Comic Sans MS"/>
              </a:rPr>
              <a:t>la chambre B</a:t>
            </a: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 du servo-frein de façon à se que l ’effort du conducteur sur la pédale de frein soit moindre pour déplacer </a:t>
            </a:r>
            <a:r>
              <a:rPr b="0" lang="fr-FR" sz="1600" spc="-1" strike="noStrike">
                <a:solidFill>
                  <a:srgbClr val="ff0000"/>
                </a:solidFill>
                <a:latin typeface="Comic Sans MS"/>
              </a:rPr>
              <a:t>le piston</a:t>
            </a: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66920" y="3638520"/>
            <a:ext cx="268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43000" y="1905120"/>
            <a:ext cx="29718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990800" y="5276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6000" y="1981080"/>
            <a:ext cx="0" cy="327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81080" y="197172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086360" y="5162400"/>
            <a:ext cx="7596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666880" y="762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5" name=""/>
          <p:cNvCxnSpPr>
            <a:stCxn id="1034" idx="2"/>
            <a:endCxn id="1031" idx="0"/>
          </p:cNvCxnSpPr>
          <p:nvPr/>
        </p:nvCxnSpPr>
        <p:spPr>
          <a:xfrm flipH="1">
            <a:off x="2285640" y="1158480"/>
            <a:ext cx="991440" cy="78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 rot="16200000">
            <a:off x="357120" y="29728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mbr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16200000">
            <a:off x="2757600" y="29728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mb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257800" y="3581280"/>
            <a:ext cx="1371600" cy="1526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0" y="3276720"/>
            <a:ext cx="19051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ître-cylin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6114240" y="5340240"/>
            <a:ext cx="381240" cy="38124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5274558"/>
                <a:lnTo>
                  <a:pt x="7928" y="21211"/>
                </a:lnTo>
                <a:arcTo wR="10800" hR="10800" stAng="6325442" swAng="1527455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442880" y="2090880"/>
            <a:ext cx="814680" cy="2931840"/>
            <a:chOff x="1442880" y="2090880"/>
            <a:chExt cx="814680" cy="2931840"/>
          </a:xfrm>
        </p:grpSpPr>
        <p:grpSp>
          <p:nvGrpSpPr>
            <p:cNvPr id="1042" name=""/>
            <p:cNvGrpSpPr/>
            <p:nvPr/>
          </p:nvGrpSpPr>
          <p:grpSpPr>
            <a:xfrm>
              <a:off x="1447920" y="2090880"/>
              <a:ext cx="809640" cy="865080"/>
              <a:chOff x="1447920" y="2090880"/>
              <a:chExt cx="809640" cy="865080"/>
            </a:xfrm>
          </p:grpSpPr>
          <p:sp>
            <p:nvSpPr>
              <p:cNvPr id="1043" name=""/>
              <p:cNvSpPr/>
              <p:nvPr/>
            </p:nvSpPr>
            <p:spPr>
              <a:xfrm>
                <a:off x="1447920" y="209088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457280" y="234324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452600" y="261000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57280" y="288144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1442880" y="3119400"/>
              <a:ext cx="809640" cy="865080"/>
              <a:chOff x="1442880" y="3119400"/>
              <a:chExt cx="809640" cy="865080"/>
            </a:xfrm>
          </p:grpSpPr>
          <p:sp>
            <p:nvSpPr>
              <p:cNvPr id="1048" name=""/>
              <p:cNvSpPr/>
              <p:nvPr/>
            </p:nvSpPr>
            <p:spPr>
              <a:xfrm>
                <a:off x="1442880" y="311940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52240" y="337176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47560" y="363852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52240" y="390996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1447920" y="4157640"/>
              <a:ext cx="809640" cy="865080"/>
              <a:chOff x="1447920" y="4157640"/>
              <a:chExt cx="809640" cy="865080"/>
            </a:xfrm>
          </p:grpSpPr>
          <p:sp>
            <p:nvSpPr>
              <p:cNvPr id="1053" name=""/>
              <p:cNvSpPr/>
              <p:nvPr/>
            </p:nvSpPr>
            <p:spPr>
              <a:xfrm>
                <a:off x="1447920" y="415764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57280" y="441000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52600" y="4676760"/>
                <a:ext cx="799920" cy="74520"/>
              </a:xfrm>
              <a:prstGeom prst="rightArrow">
                <a:avLst>
                  <a:gd name="adj1" fmla="val 50000"/>
                  <a:gd name="adj2" fmla="val 268357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57280" y="4948200"/>
                <a:ext cx="800280" cy="74520"/>
              </a:xfrm>
              <a:prstGeom prst="rightArrow">
                <a:avLst>
                  <a:gd name="adj1" fmla="val 50000"/>
                  <a:gd name="adj2" fmla="val 268478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 flipH="1">
            <a:off x="2324160" y="494820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2324160" y="468648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2333520" y="441468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2328840" y="416736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2324160" y="391464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328840" y="363852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2328840" y="337644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324160" y="311940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2333520" y="288144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324160" y="2604960"/>
            <a:ext cx="533520" cy="7632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324160" y="234324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328840" y="2090880"/>
            <a:ext cx="533520" cy="75960"/>
          </a:xfrm>
          <a:custGeom>
            <a:avLst/>
            <a:gdLst>
              <a:gd name="textAreaLeft" fmla="*/ 83160 w 533520"/>
              <a:gd name="textAreaRight" fmla="*/ 466920 w 53352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09480" y="48769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38080" y="4876920"/>
            <a:ext cx="304920" cy="838080"/>
          </a:xfrm>
          <a:custGeom>
            <a:avLst/>
            <a:gdLst>
              <a:gd name="textAreaLeft" fmla="*/ 0 w 304920"/>
              <a:gd name="textAreaRight" fmla="*/ 305280 w 3049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5800" y="5867280"/>
            <a:ext cx="2971800" cy="703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sion due à l ’effort sur la pédale de fr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905120" y="749160"/>
            <a:ext cx="2901960" cy="1987560"/>
          </a:xfrm>
          <a:custGeom>
            <a:avLst/>
            <a:gdLst/>
            <a:ahLst/>
            <a:rect l="l" t="t" r="r" b="b"/>
            <a:pathLst>
              <a:path w="1828" h="1252">
                <a:moveTo>
                  <a:pt x="0" y="392"/>
                </a:moveTo>
                <a:lnTo>
                  <a:pt x="768" y="392"/>
                </a:lnTo>
                <a:lnTo>
                  <a:pt x="840" y="324"/>
                </a:lnTo>
                <a:lnTo>
                  <a:pt x="992" y="224"/>
                </a:lnTo>
                <a:lnTo>
                  <a:pt x="1200" y="124"/>
                </a:lnTo>
                <a:lnTo>
                  <a:pt x="1376" y="64"/>
                </a:lnTo>
                <a:lnTo>
                  <a:pt x="1576" y="28"/>
                </a:lnTo>
                <a:lnTo>
                  <a:pt x="1708" y="8"/>
                </a:lnTo>
                <a:lnTo>
                  <a:pt x="1828" y="0"/>
                </a:lnTo>
                <a:lnTo>
                  <a:pt x="1824" y="56"/>
                </a:lnTo>
                <a:lnTo>
                  <a:pt x="1592" y="132"/>
                </a:lnTo>
                <a:lnTo>
                  <a:pt x="1000" y="436"/>
                </a:lnTo>
                <a:lnTo>
                  <a:pt x="836" y="628"/>
                </a:lnTo>
                <a:lnTo>
                  <a:pt x="760" y="792"/>
                </a:lnTo>
                <a:lnTo>
                  <a:pt x="680" y="968"/>
                </a:lnTo>
                <a:lnTo>
                  <a:pt x="656" y="1148"/>
                </a:lnTo>
                <a:lnTo>
                  <a:pt x="648" y="1248"/>
                </a:lnTo>
                <a:lnTo>
                  <a:pt x="200" y="1252"/>
                </a:lnTo>
                <a:lnTo>
                  <a:pt x="232" y="1144"/>
                </a:lnTo>
                <a:lnTo>
                  <a:pt x="264" y="1056"/>
                </a:lnTo>
                <a:lnTo>
                  <a:pt x="316" y="944"/>
                </a:lnTo>
                <a:lnTo>
                  <a:pt x="368" y="848"/>
                </a:lnTo>
                <a:lnTo>
                  <a:pt x="420" y="768"/>
                </a:lnTo>
                <a:lnTo>
                  <a:pt x="476" y="680"/>
                </a:lnTo>
                <a:lnTo>
                  <a:pt x="204" y="680"/>
                </a:lnTo>
                <a:lnTo>
                  <a:pt x="16" y="676"/>
                </a:lnTo>
                <a:lnTo>
                  <a:pt x="16" y="420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1077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1079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2133720" y="781200"/>
            <a:ext cx="2286000" cy="2419200"/>
          </a:xfrm>
          <a:custGeom>
            <a:avLst/>
            <a:gdLst/>
            <a:ahLst/>
            <a:rect l="l" t="t" r="r" b="b"/>
            <a:pathLst>
              <a:path w="1440" h="1524">
                <a:moveTo>
                  <a:pt x="1440" y="84"/>
                </a:moveTo>
                <a:lnTo>
                  <a:pt x="528" y="1428"/>
                </a:lnTo>
                <a:lnTo>
                  <a:pt x="0" y="1524"/>
                </a:lnTo>
                <a:lnTo>
                  <a:pt x="24" y="1356"/>
                </a:lnTo>
                <a:lnTo>
                  <a:pt x="112" y="1064"/>
                </a:lnTo>
                <a:lnTo>
                  <a:pt x="172" y="928"/>
                </a:lnTo>
                <a:lnTo>
                  <a:pt x="248" y="780"/>
                </a:lnTo>
                <a:lnTo>
                  <a:pt x="348" y="648"/>
                </a:lnTo>
                <a:lnTo>
                  <a:pt x="600" y="384"/>
                </a:lnTo>
                <a:lnTo>
                  <a:pt x="708" y="296"/>
                </a:lnTo>
                <a:lnTo>
                  <a:pt x="840" y="208"/>
                </a:lnTo>
                <a:lnTo>
                  <a:pt x="964" y="140"/>
                </a:lnTo>
                <a:lnTo>
                  <a:pt x="1148" y="72"/>
                </a:lnTo>
                <a:lnTo>
                  <a:pt x="1288" y="28"/>
                </a:lnTo>
                <a:lnTo>
                  <a:pt x="1428" y="0"/>
                </a:lnTo>
                <a:lnTo>
                  <a:pt x="1440" y="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1105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1276200" y="1390680"/>
            <a:ext cx="1828800" cy="438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2124000" y="914400"/>
            <a:ext cx="1838520" cy="3124080"/>
          </a:xfrm>
          <a:custGeom>
            <a:avLst/>
            <a:gdLst/>
            <a:ahLst/>
            <a:rect l="l" t="t" r="r" b="b"/>
            <a:pathLst>
              <a:path w="1158" h="1968">
                <a:moveTo>
                  <a:pt x="1158" y="144"/>
                </a:moveTo>
                <a:lnTo>
                  <a:pt x="630" y="1584"/>
                </a:lnTo>
                <a:lnTo>
                  <a:pt x="54" y="1968"/>
                </a:lnTo>
                <a:lnTo>
                  <a:pt x="18" y="1860"/>
                </a:lnTo>
                <a:lnTo>
                  <a:pt x="0" y="1656"/>
                </a:lnTo>
                <a:lnTo>
                  <a:pt x="0" y="1488"/>
                </a:lnTo>
                <a:lnTo>
                  <a:pt x="30" y="1314"/>
                </a:lnTo>
                <a:lnTo>
                  <a:pt x="60" y="1140"/>
                </a:lnTo>
                <a:lnTo>
                  <a:pt x="138" y="930"/>
                </a:lnTo>
                <a:lnTo>
                  <a:pt x="240" y="714"/>
                </a:lnTo>
                <a:lnTo>
                  <a:pt x="336" y="576"/>
                </a:lnTo>
                <a:lnTo>
                  <a:pt x="648" y="276"/>
                </a:lnTo>
                <a:lnTo>
                  <a:pt x="798" y="162"/>
                </a:lnTo>
                <a:lnTo>
                  <a:pt x="984" y="54"/>
                </a:lnTo>
                <a:lnTo>
                  <a:pt x="1098" y="0"/>
                </a:lnTo>
                <a:lnTo>
                  <a:pt x="1158" y="1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1125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1276200" y="1390680"/>
            <a:ext cx="1828800" cy="41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2133720" y="1266840"/>
            <a:ext cx="1371600" cy="3781440"/>
          </a:xfrm>
          <a:custGeom>
            <a:avLst/>
            <a:gdLst/>
            <a:ahLst/>
            <a:rect l="l" t="t" r="r" b="b"/>
            <a:pathLst>
              <a:path w="864" h="2382">
                <a:moveTo>
                  <a:pt x="864" y="162"/>
                </a:moveTo>
                <a:lnTo>
                  <a:pt x="864" y="1794"/>
                </a:lnTo>
                <a:lnTo>
                  <a:pt x="348" y="2382"/>
                </a:lnTo>
                <a:lnTo>
                  <a:pt x="258" y="2244"/>
                </a:lnTo>
                <a:lnTo>
                  <a:pt x="174" y="2100"/>
                </a:lnTo>
                <a:lnTo>
                  <a:pt x="84" y="1878"/>
                </a:lnTo>
                <a:lnTo>
                  <a:pt x="18" y="1638"/>
                </a:lnTo>
                <a:lnTo>
                  <a:pt x="0" y="1452"/>
                </a:lnTo>
                <a:lnTo>
                  <a:pt x="0" y="1158"/>
                </a:lnTo>
                <a:lnTo>
                  <a:pt x="42" y="966"/>
                </a:lnTo>
                <a:lnTo>
                  <a:pt x="108" y="762"/>
                </a:lnTo>
                <a:lnTo>
                  <a:pt x="186" y="588"/>
                </a:lnTo>
                <a:lnTo>
                  <a:pt x="276" y="438"/>
                </a:lnTo>
                <a:lnTo>
                  <a:pt x="624" y="48"/>
                </a:lnTo>
                <a:lnTo>
                  <a:pt x="684" y="0"/>
                </a:lnTo>
                <a:lnTo>
                  <a:pt x="864" y="1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1144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76200" y="1390680"/>
            <a:ext cx="1828800" cy="41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1905120" y="752400"/>
            <a:ext cx="3671640" cy="1081080"/>
          </a:xfrm>
          <a:custGeom>
            <a:avLst/>
            <a:gdLst/>
            <a:ahLst/>
            <a:rect l="l" t="t" r="r" b="b"/>
            <a:pathLst>
              <a:path w="2313" h="681">
                <a:moveTo>
                  <a:pt x="0" y="390"/>
                </a:moveTo>
                <a:lnTo>
                  <a:pt x="768" y="390"/>
                </a:lnTo>
                <a:lnTo>
                  <a:pt x="855" y="315"/>
                </a:lnTo>
                <a:lnTo>
                  <a:pt x="960" y="240"/>
                </a:lnTo>
                <a:lnTo>
                  <a:pt x="1089" y="177"/>
                </a:lnTo>
                <a:lnTo>
                  <a:pt x="1278" y="96"/>
                </a:lnTo>
                <a:lnTo>
                  <a:pt x="1428" y="45"/>
                </a:lnTo>
                <a:lnTo>
                  <a:pt x="1581" y="24"/>
                </a:lnTo>
                <a:lnTo>
                  <a:pt x="1773" y="0"/>
                </a:lnTo>
                <a:lnTo>
                  <a:pt x="2100" y="24"/>
                </a:lnTo>
                <a:lnTo>
                  <a:pt x="2313" y="78"/>
                </a:lnTo>
                <a:lnTo>
                  <a:pt x="2286" y="147"/>
                </a:lnTo>
                <a:lnTo>
                  <a:pt x="1971" y="75"/>
                </a:lnTo>
                <a:lnTo>
                  <a:pt x="1470" y="120"/>
                </a:lnTo>
                <a:lnTo>
                  <a:pt x="1173" y="279"/>
                </a:lnTo>
                <a:lnTo>
                  <a:pt x="993" y="426"/>
                </a:lnTo>
                <a:lnTo>
                  <a:pt x="867" y="573"/>
                </a:lnTo>
                <a:lnTo>
                  <a:pt x="771" y="681"/>
                </a:lnTo>
                <a:lnTo>
                  <a:pt x="516" y="633"/>
                </a:lnTo>
                <a:lnTo>
                  <a:pt x="483" y="678"/>
                </a:lnTo>
                <a:lnTo>
                  <a:pt x="3" y="672"/>
                </a:lnTo>
                <a:lnTo>
                  <a:pt x="0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1765440"/>
            <a:ext cx="1969920" cy="3949560"/>
          </a:xfrm>
          <a:custGeom>
            <a:avLst/>
            <a:gdLst/>
            <a:ahLst/>
            <a:rect l="l" t="t" r="r" b="b"/>
            <a:pathLst>
              <a:path w="1241" h="2488">
                <a:moveTo>
                  <a:pt x="792" y="152"/>
                </a:moveTo>
                <a:cubicBezTo>
                  <a:pt x="809" y="301"/>
                  <a:pt x="832" y="445"/>
                  <a:pt x="856" y="592"/>
                </a:cubicBezTo>
                <a:cubicBezTo>
                  <a:pt x="864" y="706"/>
                  <a:pt x="868" y="835"/>
                  <a:pt x="904" y="944"/>
                </a:cubicBezTo>
                <a:cubicBezTo>
                  <a:pt x="914" y="1021"/>
                  <a:pt x="938" y="1107"/>
                  <a:pt x="976" y="1176"/>
                </a:cubicBezTo>
                <a:cubicBezTo>
                  <a:pt x="989" y="1200"/>
                  <a:pt x="1023" y="1233"/>
                  <a:pt x="1040" y="1256"/>
                </a:cubicBezTo>
                <a:cubicBezTo>
                  <a:pt x="1062" y="1321"/>
                  <a:pt x="1104" y="1363"/>
                  <a:pt x="1160" y="1400"/>
                </a:cubicBezTo>
                <a:cubicBezTo>
                  <a:pt x="1241" y="1521"/>
                  <a:pt x="1180" y="1701"/>
                  <a:pt x="1136" y="1832"/>
                </a:cubicBezTo>
                <a:cubicBezTo>
                  <a:pt x="1132" y="1844"/>
                  <a:pt x="1128" y="1896"/>
                  <a:pt x="1120" y="1912"/>
                </a:cubicBezTo>
                <a:cubicBezTo>
                  <a:pt x="1111" y="1929"/>
                  <a:pt x="1102" y="1946"/>
                  <a:pt x="1088" y="1960"/>
                </a:cubicBezTo>
                <a:cubicBezTo>
                  <a:pt x="1080" y="1968"/>
                  <a:pt x="1064" y="1984"/>
                  <a:pt x="1064" y="1984"/>
                </a:cubicBezTo>
                <a:lnTo>
                  <a:pt x="816" y="2488"/>
                </a:lnTo>
                <a:lnTo>
                  <a:pt x="696" y="2408"/>
                </a:lnTo>
                <a:lnTo>
                  <a:pt x="536" y="2288"/>
                </a:lnTo>
                <a:lnTo>
                  <a:pt x="432" y="2176"/>
                </a:lnTo>
                <a:lnTo>
                  <a:pt x="320" y="2032"/>
                </a:lnTo>
                <a:lnTo>
                  <a:pt x="232" y="1912"/>
                </a:lnTo>
                <a:lnTo>
                  <a:pt x="160" y="1760"/>
                </a:lnTo>
                <a:lnTo>
                  <a:pt x="88" y="1592"/>
                </a:lnTo>
                <a:lnTo>
                  <a:pt x="32" y="1384"/>
                </a:lnTo>
                <a:lnTo>
                  <a:pt x="0" y="1224"/>
                </a:lnTo>
                <a:lnTo>
                  <a:pt x="0" y="920"/>
                </a:lnTo>
                <a:lnTo>
                  <a:pt x="40" y="664"/>
                </a:lnTo>
                <a:lnTo>
                  <a:pt x="96" y="472"/>
                </a:lnTo>
                <a:lnTo>
                  <a:pt x="160" y="320"/>
                </a:lnTo>
                <a:lnTo>
                  <a:pt x="232" y="192"/>
                </a:lnTo>
                <a:lnTo>
                  <a:pt x="320" y="64"/>
                </a:lnTo>
                <a:lnTo>
                  <a:pt x="360" y="0"/>
                </a:lnTo>
                <a:lnTo>
                  <a:pt x="792" y="15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1165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1905120" y="762120"/>
            <a:ext cx="3152520" cy="1552320"/>
          </a:xfrm>
          <a:custGeom>
            <a:avLst/>
            <a:gdLst/>
            <a:ahLst/>
            <a:rect l="l" t="t" r="r" b="b"/>
            <a:pathLst>
              <a:path w="1986" h="978">
                <a:moveTo>
                  <a:pt x="0" y="384"/>
                </a:moveTo>
                <a:lnTo>
                  <a:pt x="768" y="384"/>
                </a:lnTo>
                <a:lnTo>
                  <a:pt x="870" y="294"/>
                </a:lnTo>
                <a:lnTo>
                  <a:pt x="1086" y="174"/>
                </a:lnTo>
                <a:lnTo>
                  <a:pt x="1344" y="66"/>
                </a:lnTo>
                <a:lnTo>
                  <a:pt x="1671" y="6"/>
                </a:lnTo>
                <a:lnTo>
                  <a:pt x="1986" y="0"/>
                </a:lnTo>
                <a:lnTo>
                  <a:pt x="1974" y="72"/>
                </a:lnTo>
                <a:lnTo>
                  <a:pt x="1638" y="78"/>
                </a:lnTo>
                <a:lnTo>
                  <a:pt x="1224" y="231"/>
                </a:lnTo>
                <a:lnTo>
                  <a:pt x="906" y="528"/>
                </a:lnTo>
                <a:lnTo>
                  <a:pt x="744" y="807"/>
                </a:lnTo>
                <a:lnTo>
                  <a:pt x="681" y="969"/>
                </a:lnTo>
                <a:lnTo>
                  <a:pt x="297" y="978"/>
                </a:lnTo>
                <a:lnTo>
                  <a:pt x="411" y="768"/>
                </a:lnTo>
                <a:lnTo>
                  <a:pt x="480" y="669"/>
                </a:lnTo>
                <a:lnTo>
                  <a:pt x="6" y="666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133720" y="2333520"/>
            <a:ext cx="2438280" cy="3705480"/>
          </a:xfrm>
          <a:custGeom>
            <a:avLst/>
            <a:gdLst/>
            <a:ahLst/>
            <a:rect l="l" t="t" r="r" b="b"/>
            <a:pathLst>
              <a:path w="1536" h="2334">
                <a:moveTo>
                  <a:pt x="576" y="66"/>
                </a:moveTo>
                <a:lnTo>
                  <a:pt x="1536" y="1362"/>
                </a:lnTo>
                <a:lnTo>
                  <a:pt x="1368" y="2334"/>
                </a:lnTo>
                <a:lnTo>
                  <a:pt x="1212" y="2304"/>
                </a:lnTo>
                <a:lnTo>
                  <a:pt x="1062" y="2250"/>
                </a:lnTo>
                <a:lnTo>
                  <a:pt x="912" y="2184"/>
                </a:lnTo>
                <a:lnTo>
                  <a:pt x="738" y="2082"/>
                </a:lnTo>
                <a:lnTo>
                  <a:pt x="594" y="1974"/>
                </a:lnTo>
                <a:lnTo>
                  <a:pt x="462" y="1848"/>
                </a:lnTo>
                <a:lnTo>
                  <a:pt x="360" y="1722"/>
                </a:lnTo>
                <a:lnTo>
                  <a:pt x="270" y="1602"/>
                </a:lnTo>
                <a:lnTo>
                  <a:pt x="186" y="1464"/>
                </a:lnTo>
                <a:lnTo>
                  <a:pt x="108" y="1290"/>
                </a:lnTo>
                <a:lnTo>
                  <a:pt x="54" y="1122"/>
                </a:lnTo>
                <a:lnTo>
                  <a:pt x="12" y="906"/>
                </a:lnTo>
                <a:lnTo>
                  <a:pt x="0" y="720"/>
                </a:lnTo>
                <a:lnTo>
                  <a:pt x="0" y="552"/>
                </a:lnTo>
                <a:lnTo>
                  <a:pt x="24" y="390"/>
                </a:lnTo>
                <a:lnTo>
                  <a:pt x="54" y="258"/>
                </a:lnTo>
                <a:lnTo>
                  <a:pt x="90" y="126"/>
                </a:lnTo>
                <a:lnTo>
                  <a:pt x="144" y="0"/>
                </a:lnTo>
                <a:lnTo>
                  <a:pt x="576" y="6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1185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1197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1199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2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1905120" y="781200"/>
            <a:ext cx="2514600" cy="2482560"/>
          </a:xfrm>
          <a:custGeom>
            <a:avLst/>
            <a:gdLst/>
            <a:ahLst/>
            <a:rect l="l" t="t" r="r" b="b"/>
            <a:pathLst>
              <a:path w="1584" h="1564">
                <a:moveTo>
                  <a:pt x="0" y="372"/>
                </a:moveTo>
                <a:lnTo>
                  <a:pt x="768" y="372"/>
                </a:lnTo>
                <a:lnTo>
                  <a:pt x="884" y="280"/>
                </a:lnTo>
                <a:lnTo>
                  <a:pt x="1080" y="160"/>
                </a:lnTo>
                <a:lnTo>
                  <a:pt x="1348" y="60"/>
                </a:lnTo>
                <a:lnTo>
                  <a:pt x="1576" y="0"/>
                </a:lnTo>
                <a:lnTo>
                  <a:pt x="1584" y="72"/>
                </a:lnTo>
                <a:lnTo>
                  <a:pt x="1208" y="236"/>
                </a:lnTo>
                <a:lnTo>
                  <a:pt x="828" y="628"/>
                </a:lnTo>
                <a:lnTo>
                  <a:pt x="692" y="1012"/>
                </a:lnTo>
                <a:lnTo>
                  <a:pt x="648" y="1468"/>
                </a:lnTo>
                <a:lnTo>
                  <a:pt x="148" y="1564"/>
                </a:lnTo>
                <a:lnTo>
                  <a:pt x="184" y="1276"/>
                </a:lnTo>
                <a:lnTo>
                  <a:pt x="276" y="1016"/>
                </a:lnTo>
                <a:lnTo>
                  <a:pt x="380" y="816"/>
                </a:lnTo>
                <a:lnTo>
                  <a:pt x="472" y="656"/>
                </a:lnTo>
                <a:lnTo>
                  <a:pt x="4" y="656"/>
                </a:lnTo>
                <a:lnTo>
                  <a:pt x="0" y="3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133720" y="3124080"/>
            <a:ext cx="3352680" cy="2952720"/>
          </a:xfrm>
          <a:custGeom>
            <a:avLst/>
            <a:gdLst/>
            <a:ahLst/>
            <a:rect l="l" t="t" r="r" b="b"/>
            <a:pathLst>
              <a:path w="2112" h="1860">
                <a:moveTo>
                  <a:pt x="624" y="0"/>
                </a:moveTo>
                <a:lnTo>
                  <a:pt x="1872" y="864"/>
                </a:lnTo>
                <a:lnTo>
                  <a:pt x="2112" y="1824"/>
                </a:lnTo>
                <a:lnTo>
                  <a:pt x="1866" y="1860"/>
                </a:lnTo>
                <a:lnTo>
                  <a:pt x="1518" y="1854"/>
                </a:lnTo>
                <a:lnTo>
                  <a:pt x="1146" y="1788"/>
                </a:lnTo>
                <a:lnTo>
                  <a:pt x="732" y="1590"/>
                </a:lnTo>
                <a:lnTo>
                  <a:pt x="426" y="1314"/>
                </a:lnTo>
                <a:lnTo>
                  <a:pt x="168" y="930"/>
                </a:lnTo>
                <a:lnTo>
                  <a:pt x="66" y="666"/>
                </a:lnTo>
                <a:lnTo>
                  <a:pt x="6" y="420"/>
                </a:lnTo>
                <a:lnTo>
                  <a:pt x="0" y="90"/>
                </a:lnTo>
                <a:lnTo>
                  <a:pt x="62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1225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80880"/>
            <a:ext cx="69343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e de fonctionnement de la pompe à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1430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héma architectural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440" y="3967200"/>
            <a:ext cx="200484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245280" y="4025880"/>
            <a:ext cx="1736640" cy="1738440"/>
            <a:chOff x="6245280" y="4025880"/>
            <a:chExt cx="1736640" cy="1738440"/>
          </a:xfrm>
        </p:grpSpPr>
        <p:sp>
          <p:nvSpPr>
            <p:cNvPr id="120" name=""/>
            <p:cNvSpPr/>
            <p:nvPr/>
          </p:nvSpPr>
          <p:spPr>
            <a:xfrm>
              <a:off x="6245280" y="4025880"/>
              <a:ext cx="1736640" cy="173844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1760" y="4623840"/>
              <a:ext cx="801360" cy="5346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mpe à 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97040" y="4160880"/>
            <a:ext cx="2273400" cy="1469880"/>
            <a:chOff x="1697040" y="4160880"/>
            <a:chExt cx="2273400" cy="1469880"/>
          </a:xfrm>
        </p:grpSpPr>
        <p:sp>
          <p:nvSpPr>
            <p:cNvPr id="123" name=""/>
            <p:cNvSpPr/>
            <p:nvPr/>
          </p:nvSpPr>
          <p:spPr>
            <a:xfrm>
              <a:off x="1697040" y="4160880"/>
              <a:ext cx="2273400" cy="146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64160" y="4428000"/>
              <a:ext cx="18720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c moteur 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bre à c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786120" y="4694400"/>
            <a:ext cx="2722680" cy="366480"/>
          </a:xfrm>
          <a:prstGeom prst="rightArrow">
            <a:avLst>
              <a:gd name="adj1" fmla="val 36111"/>
              <a:gd name="adj2" fmla="val 1779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1800" y="4029120"/>
            <a:ext cx="169848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en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équence de rotation en tr/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836880" y="5362560"/>
            <a:ext cx="2671920" cy="0"/>
          </a:xfrm>
          <a:prstGeom prst="line">
            <a:avLst/>
          </a:prstGeom>
          <a:ln w="38160">
            <a:solidFill>
              <a:srgbClr val="ff6600"/>
            </a:solidFill>
            <a:prstDash val="lgDashDot"/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7080" y="5424480"/>
            <a:ext cx="93492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ubrifia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43760" y="5630760"/>
            <a:ext cx="0" cy="801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900160" y="6432480"/>
            <a:ext cx="414324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00520" y="5497200"/>
            <a:ext cx="0" cy="934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11600" y="5979960"/>
            <a:ext cx="13366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Times New Roman"/>
              </a:rPr>
              <a:t>atmosphé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98800" y="2425680"/>
            <a:ext cx="1738080" cy="133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ervo-fre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55960" y="3525840"/>
            <a:ext cx="32482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04240" y="3489480"/>
            <a:ext cx="28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2720" y="3549600"/>
            <a:ext cx="12034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 &lt; P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Times New Roman"/>
              </a:rPr>
              <a:t>at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676520"/>
            <a:ext cx="12031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 = Pre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76960" y="3494160"/>
            <a:ext cx="10702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76960" y="5900760"/>
            <a:ext cx="13366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chapp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80480" y="4029120"/>
            <a:ext cx="80172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ème étudi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68720" y="2425680"/>
            <a:ext cx="0" cy="133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36960" y="3719520"/>
            <a:ext cx="2667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4880" y="2467080"/>
            <a:ext cx="2667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68720" y="3094200"/>
            <a:ext cx="18698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590920"/>
            <a:ext cx="1203480" cy="13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on due à l’action sur la pédale de fr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1654560" y="3218400"/>
            <a:ext cx="534960" cy="460440"/>
          </a:xfrm>
          <a:custGeom>
            <a:avLst/>
            <a:gdLst>
              <a:gd name="textAreaLeft" fmla="*/ 162000 w 534960"/>
              <a:gd name="textAreaRight" fmla="*/ 459000 w 534960"/>
              <a:gd name="textAreaTop" fmla="*/ 335160 h 460440"/>
              <a:gd name="textAreaBottom" fmla="*/ 394920 h 460440"/>
            </a:gdLst>
            <a:ahLst/>
            <a:rect l="textAreaLeft" t="textAreaTop" r="textAreaRight" b="textAreaBottom"/>
            <a:pathLst>
              <a:path w="21600" h="21600">
                <a:moveTo>
                  <a:pt x="0" y="18789"/>
                </a:moveTo>
                <a:lnTo>
                  <a:pt x="15713" y="18789"/>
                </a:lnTo>
                <a:lnTo>
                  <a:pt x="15713" y="6545"/>
                </a:lnTo>
                <a:lnTo>
                  <a:pt x="12637" y="6545"/>
                </a:lnTo>
                <a:lnTo>
                  <a:pt x="17119" y="0"/>
                </a:lnTo>
                <a:lnTo>
                  <a:pt x="21600" y="6545"/>
                </a:lnTo>
                <a:lnTo>
                  <a:pt x="18524" y="6545"/>
                </a:lnTo>
                <a:lnTo>
                  <a:pt x="185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98800" y="1620720"/>
            <a:ext cx="3208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pompé à vide crée un dépression dans cette chambre du servo-fr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68680" y="2154240"/>
            <a:ext cx="133200" cy="66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43600" y="2876400"/>
            <a:ext cx="1469880" cy="40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ître cylin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08800" y="3090960"/>
            <a:ext cx="187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590920"/>
            <a:ext cx="1871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s circuit de frei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1905120" y="914400"/>
            <a:ext cx="2000160" cy="3114720"/>
          </a:xfrm>
          <a:custGeom>
            <a:avLst/>
            <a:gdLst/>
            <a:ahLst/>
            <a:rect l="l" t="t" r="r" b="b"/>
            <a:pathLst>
              <a:path w="1260" h="1962">
                <a:moveTo>
                  <a:pt x="12" y="294"/>
                </a:moveTo>
                <a:lnTo>
                  <a:pt x="744" y="288"/>
                </a:lnTo>
                <a:lnTo>
                  <a:pt x="882" y="180"/>
                </a:lnTo>
                <a:lnTo>
                  <a:pt x="1074" y="72"/>
                </a:lnTo>
                <a:lnTo>
                  <a:pt x="1242" y="0"/>
                </a:lnTo>
                <a:lnTo>
                  <a:pt x="1260" y="108"/>
                </a:lnTo>
                <a:lnTo>
                  <a:pt x="924" y="420"/>
                </a:lnTo>
                <a:lnTo>
                  <a:pt x="684" y="1140"/>
                </a:lnTo>
                <a:lnTo>
                  <a:pt x="702" y="1398"/>
                </a:lnTo>
                <a:lnTo>
                  <a:pt x="762" y="1632"/>
                </a:lnTo>
                <a:lnTo>
                  <a:pt x="186" y="1962"/>
                </a:lnTo>
                <a:lnTo>
                  <a:pt x="138" y="1584"/>
                </a:lnTo>
                <a:lnTo>
                  <a:pt x="174" y="1242"/>
                </a:lnTo>
                <a:lnTo>
                  <a:pt x="240" y="1026"/>
                </a:lnTo>
                <a:lnTo>
                  <a:pt x="336" y="792"/>
                </a:lnTo>
                <a:lnTo>
                  <a:pt x="480" y="570"/>
                </a:lnTo>
                <a:lnTo>
                  <a:pt x="0" y="570"/>
                </a:lnTo>
                <a:lnTo>
                  <a:pt x="12" y="2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197080" y="1600200"/>
            <a:ext cx="6883560" cy="4584600"/>
          </a:xfrm>
          <a:custGeom>
            <a:avLst/>
            <a:gdLst/>
            <a:ahLst/>
            <a:rect l="l" t="t" r="r" b="b"/>
            <a:pathLst>
              <a:path w="4336" h="2888">
                <a:moveTo>
                  <a:pt x="632" y="1200"/>
                </a:moveTo>
                <a:lnTo>
                  <a:pt x="2888" y="0"/>
                </a:lnTo>
                <a:lnTo>
                  <a:pt x="3056" y="256"/>
                </a:lnTo>
                <a:lnTo>
                  <a:pt x="3160" y="440"/>
                </a:lnTo>
                <a:lnTo>
                  <a:pt x="3232" y="616"/>
                </a:lnTo>
                <a:lnTo>
                  <a:pt x="3288" y="864"/>
                </a:lnTo>
                <a:lnTo>
                  <a:pt x="3320" y="1040"/>
                </a:lnTo>
                <a:lnTo>
                  <a:pt x="3312" y="1336"/>
                </a:lnTo>
                <a:lnTo>
                  <a:pt x="3248" y="1584"/>
                </a:lnTo>
                <a:lnTo>
                  <a:pt x="3216" y="1728"/>
                </a:lnTo>
                <a:lnTo>
                  <a:pt x="3152" y="1856"/>
                </a:lnTo>
                <a:lnTo>
                  <a:pt x="3072" y="2024"/>
                </a:lnTo>
                <a:lnTo>
                  <a:pt x="3008" y="2128"/>
                </a:lnTo>
                <a:lnTo>
                  <a:pt x="3304" y="2120"/>
                </a:lnTo>
                <a:lnTo>
                  <a:pt x="3608" y="2096"/>
                </a:lnTo>
                <a:lnTo>
                  <a:pt x="3840" y="2016"/>
                </a:lnTo>
                <a:lnTo>
                  <a:pt x="4040" y="1848"/>
                </a:lnTo>
                <a:lnTo>
                  <a:pt x="4184" y="1696"/>
                </a:lnTo>
                <a:lnTo>
                  <a:pt x="4272" y="1608"/>
                </a:lnTo>
                <a:lnTo>
                  <a:pt x="4128" y="1896"/>
                </a:lnTo>
                <a:lnTo>
                  <a:pt x="4032" y="2112"/>
                </a:lnTo>
                <a:lnTo>
                  <a:pt x="4016" y="2192"/>
                </a:lnTo>
                <a:lnTo>
                  <a:pt x="4096" y="2216"/>
                </a:lnTo>
                <a:lnTo>
                  <a:pt x="4272" y="2248"/>
                </a:lnTo>
                <a:lnTo>
                  <a:pt x="4336" y="2248"/>
                </a:lnTo>
                <a:lnTo>
                  <a:pt x="4184" y="2304"/>
                </a:lnTo>
                <a:lnTo>
                  <a:pt x="3976" y="2424"/>
                </a:lnTo>
                <a:lnTo>
                  <a:pt x="4048" y="2480"/>
                </a:lnTo>
                <a:lnTo>
                  <a:pt x="4208" y="2616"/>
                </a:lnTo>
                <a:lnTo>
                  <a:pt x="4280" y="2712"/>
                </a:lnTo>
                <a:lnTo>
                  <a:pt x="4328" y="2792"/>
                </a:lnTo>
                <a:lnTo>
                  <a:pt x="4336" y="2888"/>
                </a:lnTo>
                <a:lnTo>
                  <a:pt x="4280" y="2784"/>
                </a:lnTo>
                <a:lnTo>
                  <a:pt x="4216" y="2728"/>
                </a:lnTo>
                <a:lnTo>
                  <a:pt x="4040" y="2664"/>
                </a:lnTo>
                <a:lnTo>
                  <a:pt x="3800" y="2648"/>
                </a:lnTo>
                <a:lnTo>
                  <a:pt x="3608" y="2624"/>
                </a:lnTo>
                <a:lnTo>
                  <a:pt x="3376" y="2616"/>
                </a:lnTo>
                <a:lnTo>
                  <a:pt x="3272" y="2632"/>
                </a:lnTo>
                <a:lnTo>
                  <a:pt x="3064" y="2632"/>
                </a:lnTo>
                <a:lnTo>
                  <a:pt x="2872" y="2632"/>
                </a:lnTo>
                <a:lnTo>
                  <a:pt x="2688" y="2632"/>
                </a:lnTo>
                <a:lnTo>
                  <a:pt x="2408" y="2624"/>
                </a:lnTo>
                <a:lnTo>
                  <a:pt x="2280" y="2688"/>
                </a:lnTo>
                <a:lnTo>
                  <a:pt x="2088" y="2752"/>
                </a:lnTo>
                <a:lnTo>
                  <a:pt x="1944" y="2800"/>
                </a:lnTo>
                <a:lnTo>
                  <a:pt x="1784" y="2824"/>
                </a:lnTo>
                <a:lnTo>
                  <a:pt x="1456" y="2816"/>
                </a:lnTo>
                <a:lnTo>
                  <a:pt x="1224" y="2768"/>
                </a:lnTo>
                <a:lnTo>
                  <a:pt x="952" y="2664"/>
                </a:lnTo>
                <a:lnTo>
                  <a:pt x="744" y="2560"/>
                </a:lnTo>
                <a:lnTo>
                  <a:pt x="448" y="2328"/>
                </a:lnTo>
                <a:lnTo>
                  <a:pt x="312" y="2160"/>
                </a:lnTo>
                <a:lnTo>
                  <a:pt x="200" y="2000"/>
                </a:lnTo>
                <a:lnTo>
                  <a:pt x="128" y="1856"/>
                </a:lnTo>
                <a:lnTo>
                  <a:pt x="48" y="1664"/>
                </a:lnTo>
                <a:lnTo>
                  <a:pt x="0" y="1528"/>
                </a:lnTo>
                <a:lnTo>
                  <a:pt x="632" y="1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1245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1905120" y="1276200"/>
            <a:ext cx="1581120" cy="3781440"/>
          </a:xfrm>
          <a:custGeom>
            <a:avLst/>
            <a:gdLst/>
            <a:ahLst/>
            <a:rect l="l" t="t" r="r" b="b"/>
            <a:pathLst>
              <a:path w="996" h="2382">
                <a:moveTo>
                  <a:pt x="0" y="60"/>
                </a:moveTo>
                <a:lnTo>
                  <a:pt x="720" y="60"/>
                </a:lnTo>
                <a:lnTo>
                  <a:pt x="834" y="0"/>
                </a:lnTo>
                <a:lnTo>
                  <a:pt x="912" y="180"/>
                </a:lnTo>
                <a:lnTo>
                  <a:pt x="720" y="606"/>
                </a:lnTo>
                <a:lnTo>
                  <a:pt x="726" y="972"/>
                </a:lnTo>
                <a:lnTo>
                  <a:pt x="804" y="1440"/>
                </a:lnTo>
                <a:lnTo>
                  <a:pt x="996" y="1734"/>
                </a:lnTo>
                <a:lnTo>
                  <a:pt x="972" y="1818"/>
                </a:lnTo>
                <a:lnTo>
                  <a:pt x="486" y="2382"/>
                </a:lnTo>
                <a:lnTo>
                  <a:pt x="360" y="2190"/>
                </a:lnTo>
                <a:lnTo>
                  <a:pt x="228" y="1896"/>
                </a:lnTo>
                <a:lnTo>
                  <a:pt x="162" y="1632"/>
                </a:lnTo>
                <a:lnTo>
                  <a:pt x="138" y="1368"/>
                </a:lnTo>
                <a:lnTo>
                  <a:pt x="156" y="1116"/>
                </a:lnTo>
                <a:lnTo>
                  <a:pt x="210" y="888"/>
                </a:lnTo>
                <a:lnTo>
                  <a:pt x="294" y="648"/>
                </a:lnTo>
                <a:lnTo>
                  <a:pt x="384" y="480"/>
                </a:lnTo>
                <a:lnTo>
                  <a:pt x="468" y="348"/>
                </a:lnTo>
                <a:lnTo>
                  <a:pt x="6" y="348"/>
                </a:lnTo>
                <a:lnTo>
                  <a:pt x="0" y="6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95680" y="3886200"/>
            <a:ext cx="6162480" cy="2190600"/>
          </a:xfrm>
          <a:custGeom>
            <a:avLst/>
            <a:gdLst/>
            <a:ahLst/>
            <a:rect l="l" t="t" r="r" b="b"/>
            <a:pathLst>
              <a:path w="3882" h="1380">
                <a:moveTo>
                  <a:pt x="606" y="0"/>
                </a:moveTo>
                <a:lnTo>
                  <a:pt x="2238" y="48"/>
                </a:lnTo>
                <a:lnTo>
                  <a:pt x="2784" y="552"/>
                </a:lnTo>
                <a:lnTo>
                  <a:pt x="2718" y="654"/>
                </a:lnTo>
                <a:lnTo>
                  <a:pt x="2934" y="672"/>
                </a:lnTo>
                <a:lnTo>
                  <a:pt x="2994" y="660"/>
                </a:lnTo>
                <a:lnTo>
                  <a:pt x="3846" y="666"/>
                </a:lnTo>
                <a:lnTo>
                  <a:pt x="3882" y="1290"/>
                </a:lnTo>
                <a:lnTo>
                  <a:pt x="3444" y="1218"/>
                </a:lnTo>
                <a:lnTo>
                  <a:pt x="3228" y="1176"/>
                </a:lnTo>
                <a:lnTo>
                  <a:pt x="2964" y="1182"/>
                </a:lnTo>
                <a:lnTo>
                  <a:pt x="2118" y="1176"/>
                </a:lnTo>
                <a:lnTo>
                  <a:pt x="2022" y="1224"/>
                </a:lnTo>
                <a:lnTo>
                  <a:pt x="1878" y="1296"/>
                </a:lnTo>
                <a:lnTo>
                  <a:pt x="1758" y="1326"/>
                </a:lnTo>
                <a:lnTo>
                  <a:pt x="1602" y="1356"/>
                </a:lnTo>
                <a:lnTo>
                  <a:pt x="1458" y="1380"/>
                </a:lnTo>
                <a:lnTo>
                  <a:pt x="1272" y="1374"/>
                </a:lnTo>
                <a:lnTo>
                  <a:pt x="1116" y="1368"/>
                </a:lnTo>
                <a:lnTo>
                  <a:pt x="930" y="1332"/>
                </a:lnTo>
                <a:lnTo>
                  <a:pt x="726" y="1266"/>
                </a:lnTo>
                <a:lnTo>
                  <a:pt x="570" y="1194"/>
                </a:lnTo>
                <a:lnTo>
                  <a:pt x="438" y="1116"/>
                </a:lnTo>
                <a:lnTo>
                  <a:pt x="288" y="1008"/>
                </a:lnTo>
                <a:lnTo>
                  <a:pt x="114" y="870"/>
                </a:lnTo>
                <a:lnTo>
                  <a:pt x="36" y="768"/>
                </a:lnTo>
                <a:lnTo>
                  <a:pt x="0" y="732"/>
                </a:lnTo>
                <a:lnTo>
                  <a:pt x="606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1264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2133720" y="1752480"/>
            <a:ext cx="1904760" cy="3962520"/>
          </a:xfrm>
          <a:custGeom>
            <a:avLst/>
            <a:gdLst/>
            <a:ahLst/>
            <a:rect l="l" t="t" r="r" b="b"/>
            <a:pathLst>
              <a:path w="1200" h="2496">
                <a:moveTo>
                  <a:pt x="336" y="0"/>
                </a:moveTo>
                <a:lnTo>
                  <a:pt x="624" y="192"/>
                </a:lnTo>
                <a:lnTo>
                  <a:pt x="576" y="576"/>
                </a:lnTo>
                <a:lnTo>
                  <a:pt x="672" y="1152"/>
                </a:lnTo>
                <a:lnTo>
                  <a:pt x="960" y="1536"/>
                </a:lnTo>
                <a:lnTo>
                  <a:pt x="1200" y="1680"/>
                </a:lnTo>
                <a:lnTo>
                  <a:pt x="816" y="2496"/>
                </a:lnTo>
                <a:lnTo>
                  <a:pt x="688" y="2408"/>
                </a:lnTo>
                <a:lnTo>
                  <a:pt x="528" y="2272"/>
                </a:lnTo>
                <a:lnTo>
                  <a:pt x="384" y="2128"/>
                </a:lnTo>
                <a:lnTo>
                  <a:pt x="248" y="1944"/>
                </a:lnTo>
                <a:lnTo>
                  <a:pt x="112" y="1672"/>
                </a:lnTo>
                <a:lnTo>
                  <a:pt x="40" y="1424"/>
                </a:lnTo>
                <a:lnTo>
                  <a:pt x="8" y="1192"/>
                </a:lnTo>
                <a:lnTo>
                  <a:pt x="0" y="1032"/>
                </a:lnTo>
                <a:lnTo>
                  <a:pt x="16" y="848"/>
                </a:lnTo>
                <a:lnTo>
                  <a:pt x="48" y="640"/>
                </a:lnTo>
                <a:lnTo>
                  <a:pt x="112" y="456"/>
                </a:lnTo>
                <a:lnTo>
                  <a:pt x="168" y="312"/>
                </a:lnTo>
                <a:lnTo>
                  <a:pt x="272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919160" y="752400"/>
            <a:ext cx="3662640" cy="1157400"/>
          </a:xfrm>
          <a:custGeom>
            <a:avLst/>
            <a:gdLst/>
            <a:ahLst/>
            <a:rect l="l" t="t" r="r" b="b"/>
            <a:pathLst>
              <a:path w="2307" h="729">
                <a:moveTo>
                  <a:pt x="3" y="390"/>
                </a:moveTo>
                <a:lnTo>
                  <a:pt x="747" y="387"/>
                </a:lnTo>
                <a:lnTo>
                  <a:pt x="930" y="258"/>
                </a:lnTo>
                <a:lnTo>
                  <a:pt x="1140" y="147"/>
                </a:lnTo>
                <a:lnTo>
                  <a:pt x="1386" y="60"/>
                </a:lnTo>
                <a:lnTo>
                  <a:pt x="1680" y="9"/>
                </a:lnTo>
                <a:lnTo>
                  <a:pt x="1917" y="0"/>
                </a:lnTo>
                <a:lnTo>
                  <a:pt x="2190" y="42"/>
                </a:lnTo>
                <a:lnTo>
                  <a:pt x="2307" y="78"/>
                </a:lnTo>
                <a:lnTo>
                  <a:pt x="2289" y="147"/>
                </a:lnTo>
                <a:lnTo>
                  <a:pt x="1929" y="81"/>
                </a:lnTo>
                <a:lnTo>
                  <a:pt x="1482" y="135"/>
                </a:lnTo>
                <a:lnTo>
                  <a:pt x="1014" y="387"/>
                </a:lnTo>
                <a:lnTo>
                  <a:pt x="795" y="654"/>
                </a:lnTo>
                <a:lnTo>
                  <a:pt x="762" y="729"/>
                </a:lnTo>
                <a:lnTo>
                  <a:pt x="504" y="636"/>
                </a:lnTo>
                <a:lnTo>
                  <a:pt x="471" y="678"/>
                </a:lnTo>
                <a:lnTo>
                  <a:pt x="162" y="675"/>
                </a:lnTo>
                <a:lnTo>
                  <a:pt x="0" y="669"/>
                </a:lnTo>
                <a:lnTo>
                  <a:pt x="3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1284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2133720" y="2286000"/>
            <a:ext cx="2361960" cy="3762360"/>
          </a:xfrm>
          <a:custGeom>
            <a:avLst/>
            <a:gdLst/>
            <a:ahLst/>
            <a:rect l="l" t="t" r="r" b="b"/>
            <a:pathLst>
              <a:path w="1488" h="2370">
                <a:moveTo>
                  <a:pt x="144" y="0"/>
                </a:moveTo>
                <a:lnTo>
                  <a:pt x="528" y="144"/>
                </a:lnTo>
                <a:lnTo>
                  <a:pt x="564" y="588"/>
                </a:lnTo>
                <a:lnTo>
                  <a:pt x="696" y="900"/>
                </a:lnTo>
                <a:lnTo>
                  <a:pt x="972" y="1176"/>
                </a:lnTo>
                <a:lnTo>
                  <a:pt x="1404" y="1386"/>
                </a:lnTo>
                <a:lnTo>
                  <a:pt x="1488" y="1476"/>
                </a:lnTo>
                <a:lnTo>
                  <a:pt x="1368" y="2370"/>
                </a:lnTo>
                <a:lnTo>
                  <a:pt x="1098" y="2292"/>
                </a:lnTo>
                <a:lnTo>
                  <a:pt x="918" y="2214"/>
                </a:lnTo>
                <a:lnTo>
                  <a:pt x="690" y="2076"/>
                </a:lnTo>
                <a:lnTo>
                  <a:pt x="522" y="1932"/>
                </a:lnTo>
                <a:lnTo>
                  <a:pt x="336" y="1734"/>
                </a:lnTo>
                <a:lnTo>
                  <a:pt x="222" y="1554"/>
                </a:lnTo>
                <a:lnTo>
                  <a:pt x="108" y="1314"/>
                </a:lnTo>
                <a:lnTo>
                  <a:pt x="54" y="1116"/>
                </a:lnTo>
                <a:lnTo>
                  <a:pt x="12" y="906"/>
                </a:lnTo>
                <a:lnTo>
                  <a:pt x="0" y="726"/>
                </a:lnTo>
                <a:lnTo>
                  <a:pt x="12" y="486"/>
                </a:lnTo>
                <a:lnTo>
                  <a:pt x="72" y="246"/>
                </a:lnTo>
                <a:lnTo>
                  <a:pt x="102" y="120"/>
                </a:lnTo>
                <a:lnTo>
                  <a:pt x="180" y="12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905120" y="749160"/>
            <a:ext cx="3162240" cy="1657440"/>
          </a:xfrm>
          <a:custGeom>
            <a:avLst/>
            <a:gdLst/>
            <a:ahLst/>
            <a:rect l="l" t="t" r="r" b="b"/>
            <a:pathLst>
              <a:path w="1992" h="1044">
                <a:moveTo>
                  <a:pt x="0" y="392"/>
                </a:moveTo>
                <a:lnTo>
                  <a:pt x="768" y="392"/>
                </a:lnTo>
                <a:lnTo>
                  <a:pt x="880" y="296"/>
                </a:lnTo>
                <a:lnTo>
                  <a:pt x="1104" y="164"/>
                </a:lnTo>
                <a:lnTo>
                  <a:pt x="1348" y="72"/>
                </a:lnTo>
                <a:lnTo>
                  <a:pt x="1544" y="28"/>
                </a:lnTo>
                <a:lnTo>
                  <a:pt x="1720" y="0"/>
                </a:lnTo>
                <a:lnTo>
                  <a:pt x="1904" y="4"/>
                </a:lnTo>
                <a:lnTo>
                  <a:pt x="1984" y="12"/>
                </a:lnTo>
                <a:lnTo>
                  <a:pt x="1992" y="84"/>
                </a:lnTo>
                <a:lnTo>
                  <a:pt x="1520" y="132"/>
                </a:lnTo>
                <a:lnTo>
                  <a:pt x="1020" y="444"/>
                </a:lnTo>
                <a:lnTo>
                  <a:pt x="744" y="880"/>
                </a:lnTo>
                <a:lnTo>
                  <a:pt x="632" y="1044"/>
                </a:lnTo>
                <a:lnTo>
                  <a:pt x="296" y="996"/>
                </a:lnTo>
                <a:lnTo>
                  <a:pt x="396" y="800"/>
                </a:lnTo>
                <a:lnTo>
                  <a:pt x="480" y="672"/>
                </a:lnTo>
                <a:lnTo>
                  <a:pt x="12" y="672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1304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11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1316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1318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1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5120" y="781200"/>
            <a:ext cx="2514600" cy="2482560"/>
          </a:xfrm>
          <a:custGeom>
            <a:avLst/>
            <a:gdLst/>
            <a:ahLst/>
            <a:rect l="l" t="t" r="r" b="b"/>
            <a:pathLst>
              <a:path w="1584" h="1564">
                <a:moveTo>
                  <a:pt x="0" y="372"/>
                </a:moveTo>
                <a:lnTo>
                  <a:pt x="768" y="372"/>
                </a:lnTo>
                <a:lnTo>
                  <a:pt x="884" y="280"/>
                </a:lnTo>
                <a:lnTo>
                  <a:pt x="1080" y="160"/>
                </a:lnTo>
                <a:lnTo>
                  <a:pt x="1348" y="60"/>
                </a:lnTo>
                <a:lnTo>
                  <a:pt x="1576" y="0"/>
                </a:lnTo>
                <a:lnTo>
                  <a:pt x="1584" y="72"/>
                </a:lnTo>
                <a:lnTo>
                  <a:pt x="1208" y="236"/>
                </a:lnTo>
                <a:lnTo>
                  <a:pt x="828" y="628"/>
                </a:lnTo>
                <a:lnTo>
                  <a:pt x="692" y="1012"/>
                </a:lnTo>
                <a:lnTo>
                  <a:pt x="648" y="1468"/>
                </a:lnTo>
                <a:lnTo>
                  <a:pt x="148" y="1564"/>
                </a:lnTo>
                <a:lnTo>
                  <a:pt x="184" y="1276"/>
                </a:lnTo>
                <a:lnTo>
                  <a:pt x="276" y="1016"/>
                </a:lnTo>
                <a:lnTo>
                  <a:pt x="380" y="816"/>
                </a:lnTo>
                <a:lnTo>
                  <a:pt x="472" y="656"/>
                </a:lnTo>
                <a:lnTo>
                  <a:pt x="4" y="656"/>
                </a:lnTo>
                <a:lnTo>
                  <a:pt x="0" y="3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133720" y="3124080"/>
            <a:ext cx="3352680" cy="2952720"/>
          </a:xfrm>
          <a:custGeom>
            <a:avLst/>
            <a:gdLst/>
            <a:ahLst/>
            <a:rect l="l" t="t" r="r" b="b"/>
            <a:pathLst>
              <a:path w="2112" h="1860">
                <a:moveTo>
                  <a:pt x="624" y="0"/>
                </a:moveTo>
                <a:lnTo>
                  <a:pt x="1872" y="864"/>
                </a:lnTo>
                <a:lnTo>
                  <a:pt x="2112" y="1824"/>
                </a:lnTo>
                <a:lnTo>
                  <a:pt x="1866" y="1860"/>
                </a:lnTo>
                <a:lnTo>
                  <a:pt x="1518" y="1854"/>
                </a:lnTo>
                <a:lnTo>
                  <a:pt x="1146" y="1788"/>
                </a:lnTo>
                <a:lnTo>
                  <a:pt x="732" y="1590"/>
                </a:lnTo>
                <a:lnTo>
                  <a:pt x="426" y="1314"/>
                </a:lnTo>
                <a:lnTo>
                  <a:pt x="168" y="930"/>
                </a:lnTo>
                <a:lnTo>
                  <a:pt x="66" y="666"/>
                </a:lnTo>
                <a:lnTo>
                  <a:pt x="6" y="420"/>
                </a:lnTo>
                <a:lnTo>
                  <a:pt x="0" y="90"/>
                </a:lnTo>
                <a:lnTo>
                  <a:pt x="62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1344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905120" y="914400"/>
            <a:ext cx="2000160" cy="3114720"/>
          </a:xfrm>
          <a:custGeom>
            <a:avLst/>
            <a:gdLst/>
            <a:ahLst/>
            <a:rect l="l" t="t" r="r" b="b"/>
            <a:pathLst>
              <a:path w="1260" h="1962">
                <a:moveTo>
                  <a:pt x="12" y="294"/>
                </a:moveTo>
                <a:lnTo>
                  <a:pt x="744" y="288"/>
                </a:lnTo>
                <a:lnTo>
                  <a:pt x="882" y="180"/>
                </a:lnTo>
                <a:lnTo>
                  <a:pt x="1074" y="72"/>
                </a:lnTo>
                <a:lnTo>
                  <a:pt x="1242" y="0"/>
                </a:lnTo>
                <a:lnTo>
                  <a:pt x="1260" y="108"/>
                </a:lnTo>
                <a:lnTo>
                  <a:pt x="924" y="420"/>
                </a:lnTo>
                <a:lnTo>
                  <a:pt x="684" y="1140"/>
                </a:lnTo>
                <a:lnTo>
                  <a:pt x="702" y="1398"/>
                </a:lnTo>
                <a:lnTo>
                  <a:pt x="762" y="1632"/>
                </a:lnTo>
                <a:lnTo>
                  <a:pt x="186" y="1962"/>
                </a:lnTo>
                <a:lnTo>
                  <a:pt x="138" y="1584"/>
                </a:lnTo>
                <a:lnTo>
                  <a:pt x="174" y="1242"/>
                </a:lnTo>
                <a:lnTo>
                  <a:pt x="240" y="1026"/>
                </a:lnTo>
                <a:lnTo>
                  <a:pt x="336" y="792"/>
                </a:lnTo>
                <a:lnTo>
                  <a:pt x="480" y="570"/>
                </a:lnTo>
                <a:lnTo>
                  <a:pt x="0" y="570"/>
                </a:lnTo>
                <a:lnTo>
                  <a:pt x="12" y="2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197080" y="1600200"/>
            <a:ext cx="6883560" cy="4584600"/>
          </a:xfrm>
          <a:custGeom>
            <a:avLst/>
            <a:gdLst/>
            <a:ahLst/>
            <a:rect l="l" t="t" r="r" b="b"/>
            <a:pathLst>
              <a:path w="4336" h="2888">
                <a:moveTo>
                  <a:pt x="632" y="1200"/>
                </a:moveTo>
                <a:lnTo>
                  <a:pt x="2888" y="0"/>
                </a:lnTo>
                <a:lnTo>
                  <a:pt x="3056" y="256"/>
                </a:lnTo>
                <a:lnTo>
                  <a:pt x="3160" y="440"/>
                </a:lnTo>
                <a:lnTo>
                  <a:pt x="3232" y="616"/>
                </a:lnTo>
                <a:lnTo>
                  <a:pt x="3288" y="864"/>
                </a:lnTo>
                <a:lnTo>
                  <a:pt x="3320" y="1040"/>
                </a:lnTo>
                <a:lnTo>
                  <a:pt x="3312" y="1336"/>
                </a:lnTo>
                <a:lnTo>
                  <a:pt x="3248" y="1584"/>
                </a:lnTo>
                <a:lnTo>
                  <a:pt x="3216" y="1728"/>
                </a:lnTo>
                <a:lnTo>
                  <a:pt x="3152" y="1856"/>
                </a:lnTo>
                <a:lnTo>
                  <a:pt x="3072" y="2024"/>
                </a:lnTo>
                <a:lnTo>
                  <a:pt x="3008" y="2128"/>
                </a:lnTo>
                <a:lnTo>
                  <a:pt x="3304" y="2120"/>
                </a:lnTo>
                <a:lnTo>
                  <a:pt x="3608" y="2096"/>
                </a:lnTo>
                <a:lnTo>
                  <a:pt x="3840" y="2016"/>
                </a:lnTo>
                <a:lnTo>
                  <a:pt x="4040" y="1848"/>
                </a:lnTo>
                <a:lnTo>
                  <a:pt x="4184" y="1696"/>
                </a:lnTo>
                <a:lnTo>
                  <a:pt x="4272" y="1608"/>
                </a:lnTo>
                <a:lnTo>
                  <a:pt x="4128" y="1896"/>
                </a:lnTo>
                <a:lnTo>
                  <a:pt x="4032" y="2112"/>
                </a:lnTo>
                <a:lnTo>
                  <a:pt x="4016" y="2192"/>
                </a:lnTo>
                <a:lnTo>
                  <a:pt x="4096" y="2216"/>
                </a:lnTo>
                <a:lnTo>
                  <a:pt x="4272" y="2248"/>
                </a:lnTo>
                <a:lnTo>
                  <a:pt x="4336" y="2248"/>
                </a:lnTo>
                <a:lnTo>
                  <a:pt x="4184" y="2304"/>
                </a:lnTo>
                <a:lnTo>
                  <a:pt x="3976" y="2424"/>
                </a:lnTo>
                <a:lnTo>
                  <a:pt x="4048" y="2480"/>
                </a:lnTo>
                <a:lnTo>
                  <a:pt x="4208" y="2616"/>
                </a:lnTo>
                <a:lnTo>
                  <a:pt x="4280" y="2712"/>
                </a:lnTo>
                <a:lnTo>
                  <a:pt x="4328" y="2792"/>
                </a:lnTo>
                <a:lnTo>
                  <a:pt x="4336" y="2888"/>
                </a:lnTo>
                <a:lnTo>
                  <a:pt x="4280" y="2784"/>
                </a:lnTo>
                <a:lnTo>
                  <a:pt x="4216" y="2728"/>
                </a:lnTo>
                <a:lnTo>
                  <a:pt x="4040" y="2664"/>
                </a:lnTo>
                <a:lnTo>
                  <a:pt x="3800" y="2648"/>
                </a:lnTo>
                <a:lnTo>
                  <a:pt x="3608" y="2624"/>
                </a:lnTo>
                <a:lnTo>
                  <a:pt x="3376" y="2616"/>
                </a:lnTo>
                <a:lnTo>
                  <a:pt x="3272" y="2632"/>
                </a:lnTo>
                <a:lnTo>
                  <a:pt x="3064" y="2632"/>
                </a:lnTo>
                <a:lnTo>
                  <a:pt x="2872" y="2632"/>
                </a:lnTo>
                <a:lnTo>
                  <a:pt x="2688" y="2632"/>
                </a:lnTo>
                <a:lnTo>
                  <a:pt x="2408" y="2624"/>
                </a:lnTo>
                <a:lnTo>
                  <a:pt x="2280" y="2688"/>
                </a:lnTo>
                <a:lnTo>
                  <a:pt x="2088" y="2752"/>
                </a:lnTo>
                <a:lnTo>
                  <a:pt x="1944" y="2800"/>
                </a:lnTo>
                <a:lnTo>
                  <a:pt x="1784" y="2824"/>
                </a:lnTo>
                <a:lnTo>
                  <a:pt x="1456" y="2816"/>
                </a:lnTo>
                <a:lnTo>
                  <a:pt x="1224" y="2768"/>
                </a:lnTo>
                <a:lnTo>
                  <a:pt x="952" y="2664"/>
                </a:lnTo>
                <a:lnTo>
                  <a:pt x="744" y="2560"/>
                </a:lnTo>
                <a:lnTo>
                  <a:pt x="448" y="2328"/>
                </a:lnTo>
                <a:lnTo>
                  <a:pt x="312" y="2160"/>
                </a:lnTo>
                <a:lnTo>
                  <a:pt x="200" y="2000"/>
                </a:lnTo>
                <a:lnTo>
                  <a:pt x="128" y="1856"/>
                </a:lnTo>
                <a:lnTo>
                  <a:pt x="48" y="1664"/>
                </a:lnTo>
                <a:lnTo>
                  <a:pt x="0" y="1528"/>
                </a:lnTo>
                <a:lnTo>
                  <a:pt x="632" y="1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1364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905120" y="1276200"/>
            <a:ext cx="1581120" cy="3781440"/>
          </a:xfrm>
          <a:custGeom>
            <a:avLst/>
            <a:gdLst/>
            <a:ahLst/>
            <a:rect l="l" t="t" r="r" b="b"/>
            <a:pathLst>
              <a:path w="996" h="2382">
                <a:moveTo>
                  <a:pt x="0" y="60"/>
                </a:moveTo>
                <a:lnTo>
                  <a:pt x="720" y="60"/>
                </a:lnTo>
                <a:lnTo>
                  <a:pt x="834" y="0"/>
                </a:lnTo>
                <a:lnTo>
                  <a:pt x="912" y="180"/>
                </a:lnTo>
                <a:lnTo>
                  <a:pt x="720" y="606"/>
                </a:lnTo>
                <a:lnTo>
                  <a:pt x="726" y="972"/>
                </a:lnTo>
                <a:lnTo>
                  <a:pt x="804" y="1440"/>
                </a:lnTo>
                <a:lnTo>
                  <a:pt x="996" y="1734"/>
                </a:lnTo>
                <a:lnTo>
                  <a:pt x="972" y="1818"/>
                </a:lnTo>
                <a:lnTo>
                  <a:pt x="486" y="2382"/>
                </a:lnTo>
                <a:lnTo>
                  <a:pt x="360" y="2190"/>
                </a:lnTo>
                <a:lnTo>
                  <a:pt x="228" y="1896"/>
                </a:lnTo>
                <a:lnTo>
                  <a:pt x="162" y="1632"/>
                </a:lnTo>
                <a:lnTo>
                  <a:pt x="138" y="1368"/>
                </a:lnTo>
                <a:lnTo>
                  <a:pt x="156" y="1116"/>
                </a:lnTo>
                <a:lnTo>
                  <a:pt x="210" y="888"/>
                </a:lnTo>
                <a:lnTo>
                  <a:pt x="294" y="648"/>
                </a:lnTo>
                <a:lnTo>
                  <a:pt x="384" y="480"/>
                </a:lnTo>
                <a:lnTo>
                  <a:pt x="468" y="348"/>
                </a:lnTo>
                <a:lnTo>
                  <a:pt x="6" y="348"/>
                </a:lnTo>
                <a:lnTo>
                  <a:pt x="0" y="6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695680" y="3886200"/>
            <a:ext cx="6162480" cy="2190600"/>
          </a:xfrm>
          <a:custGeom>
            <a:avLst/>
            <a:gdLst/>
            <a:ahLst/>
            <a:rect l="l" t="t" r="r" b="b"/>
            <a:pathLst>
              <a:path w="3882" h="1380">
                <a:moveTo>
                  <a:pt x="606" y="0"/>
                </a:moveTo>
                <a:lnTo>
                  <a:pt x="2238" y="48"/>
                </a:lnTo>
                <a:lnTo>
                  <a:pt x="2784" y="552"/>
                </a:lnTo>
                <a:lnTo>
                  <a:pt x="2718" y="654"/>
                </a:lnTo>
                <a:lnTo>
                  <a:pt x="2934" y="672"/>
                </a:lnTo>
                <a:lnTo>
                  <a:pt x="2994" y="660"/>
                </a:lnTo>
                <a:lnTo>
                  <a:pt x="3846" y="666"/>
                </a:lnTo>
                <a:lnTo>
                  <a:pt x="3882" y="1290"/>
                </a:lnTo>
                <a:lnTo>
                  <a:pt x="3444" y="1218"/>
                </a:lnTo>
                <a:lnTo>
                  <a:pt x="3228" y="1176"/>
                </a:lnTo>
                <a:lnTo>
                  <a:pt x="2964" y="1182"/>
                </a:lnTo>
                <a:lnTo>
                  <a:pt x="2118" y="1176"/>
                </a:lnTo>
                <a:lnTo>
                  <a:pt x="2022" y="1224"/>
                </a:lnTo>
                <a:lnTo>
                  <a:pt x="1878" y="1296"/>
                </a:lnTo>
                <a:lnTo>
                  <a:pt x="1758" y="1326"/>
                </a:lnTo>
                <a:lnTo>
                  <a:pt x="1602" y="1356"/>
                </a:lnTo>
                <a:lnTo>
                  <a:pt x="1458" y="1380"/>
                </a:lnTo>
                <a:lnTo>
                  <a:pt x="1272" y="1374"/>
                </a:lnTo>
                <a:lnTo>
                  <a:pt x="1116" y="1368"/>
                </a:lnTo>
                <a:lnTo>
                  <a:pt x="930" y="1332"/>
                </a:lnTo>
                <a:lnTo>
                  <a:pt x="726" y="1266"/>
                </a:lnTo>
                <a:lnTo>
                  <a:pt x="570" y="1194"/>
                </a:lnTo>
                <a:lnTo>
                  <a:pt x="438" y="1116"/>
                </a:lnTo>
                <a:lnTo>
                  <a:pt x="288" y="1008"/>
                </a:lnTo>
                <a:lnTo>
                  <a:pt x="114" y="870"/>
                </a:lnTo>
                <a:lnTo>
                  <a:pt x="36" y="768"/>
                </a:lnTo>
                <a:lnTo>
                  <a:pt x="0" y="732"/>
                </a:lnTo>
                <a:lnTo>
                  <a:pt x="606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1383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133720" y="1752480"/>
            <a:ext cx="1904760" cy="3962520"/>
          </a:xfrm>
          <a:custGeom>
            <a:avLst/>
            <a:gdLst/>
            <a:ahLst/>
            <a:rect l="l" t="t" r="r" b="b"/>
            <a:pathLst>
              <a:path w="1200" h="2496">
                <a:moveTo>
                  <a:pt x="336" y="0"/>
                </a:moveTo>
                <a:lnTo>
                  <a:pt x="624" y="192"/>
                </a:lnTo>
                <a:lnTo>
                  <a:pt x="576" y="576"/>
                </a:lnTo>
                <a:lnTo>
                  <a:pt x="672" y="1152"/>
                </a:lnTo>
                <a:lnTo>
                  <a:pt x="960" y="1536"/>
                </a:lnTo>
                <a:lnTo>
                  <a:pt x="1200" y="1680"/>
                </a:lnTo>
                <a:lnTo>
                  <a:pt x="816" y="2496"/>
                </a:lnTo>
                <a:lnTo>
                  <a:pt x="688" y="2408"/>
                </a:lnTo>
                <a:lnTo>
                  <a:pt x="528" y="2272"/>
                </a:lnTo>
                <a:lnTo>
                  <a:pt x="384" y="2128"/>
                </a:lnTo>
                <a:lnTo>
                  <a:pt x="248" y="1944"/>
                </a:lnTo>
                <a:lnTo>
                  <a:pt x="112" y="1672"/>
                </a:lnTo>
                <a:lnTo>
                  <a:pt x="40" y="1424"/>
                </a:lnTo>
                <a:lnTo>
                  <a:pt x="8" y="1192"/>
                </a:lnTo>
                <a:lnTo>
                  <a:pt x="0" y="1032"/>
                </a:lnTo>
                <a:lnTo>
                  <a:pt x="16" y="848"/>
                </a:lnTo>
                <a:lnTo>
                  <a:pt x="48" y="640"/>
                </a:lnTo>
                <a:lnTo>
                  <a:pt x="112" y="456"/>
                </a:lnTo>
                <a:lnTo>
                  <a:pt x="168" y="312"/>
                </a:lnTo>
                <a:lnTo>
                  <a:pt x="272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919160" y="752400"/>
            <a:ext cx="3662640" cy="1157400"/>
          </a:xfrm>
          <a:custGeom>
            <a:avLst/>
            <a:gdLst/>
            <a:ahLst/>
            <a:rect l="l" t="t" r="r" b="b"/>
            <a:pathLst>
              <a:path w="2307" h="729">
                <a:moveTo>
                  <a:pt x="3" y="390"/>
                </a:moveTo>
                <a:lnTo>
                  <a:pt x="747" y="387"/>
                </a:lnTo>
                <a:lnTo>
                  <a:pt x="930" y="258"/>
                </a:lnTo>
                <a:lnTo>
                  <a:pt x="1140" y="147"/>
                </a:lnTo>
                <a:lnTo>
                  <a:pt x="1386" y="60"/>
                </a:lnTo>
                <a:lnTo>
                  <a:pt x="1680" y="9"/>
                </a:lnTo>
                <a:lnTo>
                  <a:pt x="1917" y="0"/>
                </a:lnTo>
                <a:lnTo>
                  <a:pt x="2190" y="42"/>
                </a:lnTo>
                <a:lnTo>
                  <a:pt x="2307" y="78"/>
                </a:lnTo>
                <a:lnTo>
                  <a:pt x="2289" y="147"/>
                </a:lnTo>
                <a:lnTo>
                  <a:pt x="1929" y="81"/>
                </a:lnTo>
                <a:lnTo>
                  <a:pt x="1482" y="135"/>
                </a:lnTo>
                <a:lnTo>
                  <a:pt x="1014" y="387"/>
                </a:lnTo>
                <a:lnTo>
                  <a:pt x="795" y="654"/>
                </a:lnTo>
                <a:lnTo>
                  <a:pt x="762" y="729"/>
                </a:lnTo>
                <a:lnTo>
                  <a:pt x="504" y="636"/>
                </a:lnTo>
                <a:lnTo>
                  <a:pt x="471" y="678"/>
                </a:lnTo>
                <a:lnTo>
                  <a:pt x="162" y="675"/>
                </a:lnTo>
                <a:lnTo>
                  <a:pt x="0" y="669"/>
                </a:lnTo>
                <a:lnTo>
                  <a:pt x="3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1403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133720" y="2286000"/>
            <a:ext cx="2361960" cy="3762360"/>
          </a:xfrm>
          <a:custGeom>
            <a:avLst/>
            <a:gdLst/>
            <a:ahLst/>
            <a:rect l="l" t="t" r="r" b="b"/>
            <a:pathLst>
              <a:path w="1488" h="2370">
                <a:moveTo>
                  <a:pt x="144" y="0"/>
                </a:moveTo>
                <a:lnTo>
                  <a:pt x="528" y="144"/>
                </a:lnTo>
                <a:lnTo>
                  <a:pt x="564" y="588"/>
                </a:lnTo>
                <a:lnTo>
                  <a:pt x="696" y="900"/>
                </a:lnTo>
                <a:lnTo>
                  <a:pt x="972" y="1176"/>
                </a:lnTo>
                <a:lnTo>
                  <a:pt x="1404" y="1386"/>
                </a:lnTo>
                <a:lnTo>
                  <a:pt x="1488" y="1476"/>
                </a:lnTo>
                <a:lnTo>
                  <a:pt x="1368" y="2370"/>
                </a:lnTo>
                <a:lnTo>
                  <a:pt x="1098" y="2292"/>
                </a:lnTo>
                <a:lnTo>
                  <a:pt x="918" y="2214"/>
                </a:lnTo>
                <a:lnTo>
                  <a:pt x="690" y="2076"/>
                </a:lnTo>
                <a:lnTo>
                  <a:pt x="522" y="1932"/>
                </a:lnTo>
                <a:lnTo>
                  <a:pt x="336" y="1734"/>
                </a:lnTo>
                <a:lnTo>
                  <a:pt x="222" y="1554"/>
                </a:lnTo>
                <a:lnTo>
                  <a:pt x="108" y="1314"/>
                </a:lnTo>
                <a:lnTo>
                  <a:pt x="54" y="1116"/>
                </a:lnTo>
                <a:lnTo>
                  <a:pt x="12" y="906"/>
                </a:lnTo>
                <a:lnTo>
                  <a:pt x="0" y="726"/>
                </a:lnTo>
                <a:lnTo>
                  <a:pt x="12" y="486"/>
                </a:lnTo>
                <a:lnTo>
                  <a:pt x="72" y="246"/>
                </a:lnTo>
                <a:lnTo>
                  <a:pt x="102" y="120"/>
                </a:lnTo>
                <a:lnTo>
                  <a:pt x="180" y="12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905120" y="749160"/>
            <a:ext cx="3162240" cy="1657440"/>
          </a:xfrm>
          <a:custGeom>
            <a:avLst/>
            <a:gdLst/>
            <a:ahLst/>
            <a:rect l="l" t="t" r="r" b="b"/>
            <a:pathLst>
              <a:path w="1992" h="1044">
                <a:moveTo>
                  <a:pt x="0" y="392"/>
                </a:moveTo>
                <a:lnTo>
                  <a:pt x="768" y="392"/>
                </a:lnTo>
                <a:lnTo>
                  <a:pt x="880" y="296"/>
                </a:lnTo>
                <a:lnTo>
                  <a:pt x="1104" y="164"/>
                </a:lnTo>
                <a:lnTo>
                  <a:pt x="1348" y="72"/>
                </a:lnTo>
                <a:lnTo>
                  <a:pt x="1544" y="28"/>
                </a:lnTo>
                <a:lnTo>
                  <a:pt x="1720" y="0"/>
                </a:lnTo>
                <a:lnTo>
                  <a:pt x="1904" y="4"/>
                </a:lnTo>
                <a:lnTo>
                  <a:pt x="1984" y="12"/>
                </a:lnTo>
                <a:lnTo>
                  <a:pt x="1992" y="84"/>
                </a:lnTo>
                <a:lnTo>
                  <a:pt x="1520" y="132"/>
                </a:lnTo>
                <a:lnTo>
                  <a:pt x="1020" y="444"/>
                </a:lnTo>
                <a:lnTo>
                  <a:pt x="744" y="880"/>
                </a:lnTo>
                <a:lnTo>
                  <a:pt x="632" y="1044"/>
                </a:lnTo>
                <a:lnTo>
                  <a:pt x="296" y="996"/>
                </a:lnTo>
                <a:lnTo>
                  <a:pt x="396" y="800"/>
                </a:lnTo>
                <a:lnTo>
                  <a:pt x="480" y="672"/>
                </a:lnTo>
                <a:lnTo>
                  <a:pt x="12" y="672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1423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80880"/>
            <a:ext cx="69343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e de fonctionnement de la pompe à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080" y="1600200"/>
            <a:ext cx="8115480" cy="3918600"/>
            <a:chOff x="838080" y="1600200"/>
            <a:chExt cx="8115480" cy="3918600"/>
          </a:xfrm>
        </p:grpSpPr>
        <p:grpSp>
          <p:nvGrpSpPr>
            <p:cNvPr id="156" name=""/>
            <p:cNvGrpSpPr/>
            <p:nvPr/>
          </p:nvGrpSpPr>
          <p:grpSpPr>
            <a:xfrm>
              <a:off x="2678040" y="2239920"/>
              <a:ext cx="4186440" cy="2928960"/>
              <a:chOff x="2678040" y="2239920"/>
              <a:chExt cx="4186440" cy="2928960"/>
            </a:xfrm>
          </p:grpSpPr>
          <p:sp>
            <p:nvSpPr>
              <p:cNvPr id="157" name=""/>
              <p:cNvSpPr/>
              <p:nvPr/>
            </p:nvSpPr>
            <p:spPr>
              <a:xfrm>
                <a:off x="3556800" y="2239920"/>
                <a:ext cx="2929320" cy="292896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78040" y="2532600"/>
                <a:ext cx="1464480" cy="43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14320" y="4729320"/>
                <a:ext cx="1464480" cy="43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159720" y="3007440"/>
                <a:ext cx="585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20120" y="2557080"/>
                <a:ext cx="10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10360" y="5136480"/>
                <a:ext cx="146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32240" y="4683960"/>
                <a:ext cx="732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935520" y="2325600"/>
              <a:ext cx="2195280" cy="2197080"/>
              <a:chOff x="3935520" y="2325600"/>
              <a:chExt cx="2195280" cy="2197080"/>
            </a:xfrm>
          </p:grpSpPr>
          <p:sp>
            <p:nvSpPr>
              <p:cNvPr id="165" name=""/>
              <p:cNvSpPr/>
              <p:nvPr/>
            </p:nvSpPr>
            <p:spPr>
              <a:xfrm>
                <a:off x="3935520" y="2325600"/>
                <a:ext cx="2195280" cy="219708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91240" y="3251160"/>
                <a:ext cx="438840" cy="43920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024520" y="4448160"/>
              <a:ext cx="0" cy="663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024520" y="2295360"/>
              <a:ext cx="1440" cy="779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48400" y="3442680"/>
              <a:ext cx="782640" cy="3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37080" y="3433680"/>
              <a:ext cx="823680" cy="6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65520" y="3031560"/>
              <a:ext cx="879480" cy="87948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-360 h 879480"/>
                <a:gd name="textAreaBottom" fmla="*/ 87948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44" y="4050"/>
                  </a:moveTo>
                  <a:arcTo wR="-6754" hR="-6754" stAng="-5275787" swAng="-15854139"/>
                  <a:lnTo>
                    <a:pt x="101" y="9328"/>
                  </a:lnTo>
                  <a:arcTo wR="10800" hR="10800" stAng="-10329926" swAng="15854139"/>
                  <a:lnTo>
                    <a:pt x="10312" y="24291"/>
                  </a:lnTo>
                  <a:lnTo>
                    <a:pt x="5763" y="19401"/>
                  </a:lnTo>
                  <a:lnTo>
                    <a:pt x="10654" y="14851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2658960"/>
              <a:ext cx="2197080" cy="292320"/>
            </a:xfrm>
            <a:custGeom>
              <a:avLst/>
              <a:gdLst>
                <a:gd name="textAreaLeft" fmla="*/ 343080 w 2197080"/>
                <a:gd name="textAreaRight" fmla="*/ 1922760 w 2197080"/>
                <a:gd name="textAreaTop" fmla="*/ 73080 h 292320"/>
                <a:gd name="textAreaBottom" fmla="*/ 2192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04080" y="4794120"/>
              <a:ext cx="2049480" cy="293760"/>
            </a:xfrm>
            <a:custGeom>
              <a:avLst/>
              <a:gdLst>
                <a:gd name="textAreaLeft" fmla="*/ 255960 w 2049480"/>
                <a:gd name="textAreaRight" fmla="*/ 1793520 w 204948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24560" y="4349880"/>
              <a:ext cx="87948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at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22200" y="2209680"/>
              <a:ext cx="11718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 &lt; P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atm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304812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d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4320" y="51814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chapp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4343400"/>
              <a:ext cx="21337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rps de la pompe ou St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1680" y="2743200"/>
              <a:ext cx="990720" cy="3373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alet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6720" y="1600200"/>
              <a:ext cx="182880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arillet ou ro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504960" y="464796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1981080"/>
              <a:ext cx="60948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248160" y="2895480"/>
              <a:ext cx="533160" cy="533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990720" y="5715000"/>
            <a:ext cx="2590560" cy="838080"/>
          </a:xfrm>
          <a:custGeom>
            <a:avLst/>
            <a:gdLst>
              <a:gd name="textAreaLeft" fmla="*/ 54000 w 2590560"/>
              <a:gd name="textAreaRight" fmla="*/ 2536560 w 2590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6748" h="21600">
                <a:moveTo>
                  <a:pt x="0" y="0"/>
                </a:moveTo>
                <a:lnTo>
                  <a:pt x="66748" y="0"/>
                </a:lnTo>
                <a:lnTo>
                  <a:pt x="66748" y="21600"/>
                </a:lnTo>
                <a:lnTo>
                  <a:pt x="0" y="21600"/>
                </a:lnTo>
                <a:close/>
              </a:path>
              <a:path fill="lightenLess" w="66748" h="21600">
                <a:moveTo>
                  <a:pt x="0" y="0"/>
                </a:moveTo>
                <a:lnTo>
                  <a:pt x="66748" y="0"/>
                </a:lnTo>
                <a:lnTo>
                  <a:pt x="65348" y="1400"/>
                </a:lnTo>
                <a:lnTo>
                  <a:pt x="1400" y="1400"/>
                </a:lnTo>
                <a:close/>
              </a:path>
              <a:path fill="darken" w="66748" h="21600">
                <a:moveTo>
                  <a:pt x="66748" y="0"/>
                </a:moveTo>
                <a:lnTo>
                  <a:pt x="66748" y="21600"/>
                </a:lnTo>
                <a:lnTo>
                  <a:pt x="65348" y="20200"/>
                </a:lnTo>
                <a:lnTo>
                  <a:pt x="65348" y="1400"/>
                </a:lnTo>
                <a:close/>
              </a:path>
              <a:path fill="darkenLess" w="66748" h="21600">
                <a:moveTo>
                  <a:pt x="6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48" y="20200"/>
                </a:lnTo>
                <a:close/>
              </a:path>
              <a:path fill="lighten" w="6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mic Sans MS"/>
              </a:rPr>
              <a:t>Cliquez 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Comic Sans MS"/>
              </a:rPr>
              <a:t>pour lancer Solid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71500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nu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571500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7301" y="13197"/>
                </a:moveTo>
                <a:lnTo>
                  <a:pt x="17806" y="6190"/>
                </a:lnTo>
                <a:lnTo>
                  <a:pt x="17806" y="20203"/>
                </a:lnTo>
                <a:close/>
              </a:path>
              <a:path fill="darken" w="21600" h="26394">
                <a:moveTo>
                  <a:pt x="3794" y="6190"/>
                </a:moveTo>
                <a:lnTo>
                  <a:pt x="5456" y="6190"/>
                </a:lnTo>
                <a:lnTo>
                  <a:pt x="5456" y="20203"/>
                </a:lnTo>
                <a:lnTo>
                  <a:pt x="3794" y="2020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1143000"/>
            <a:ext cx="2971800" cy="457200"/>
          </a:xfrm>
          <a:custGeom>
            <a:avLst/>
            <a:gdLst>
              <a:gd name="textAreaLeft" fmla="*/ 29520 w 2971800"/>
              <a:gd name="textAreaRight" fmla="*/ 2942280 w 2971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0307" h="21600">
                <a:moveTo>
                  <a:pt x="0" y="0"/>
                </a:moveTo>
                <a:lnTo>
                  <a:pt x="140307" y="0"/>
                </a:lnTo>
                <a:lnTo>
                  <a:pt x="140307" y="21600"/>
                </a:lnTo>
                <a:lnTo>
                  <a:pt x="0" y="21600"/>
                </a:lnTo>
                <a:close/>
              </a:path>
              <a:path fill="lightenLess" w="140307" h="21600">
                <a:moveTo>
                  <a:pt x="0" y="0"/>
                </a:moveTo>
                <a:lnTo>
                  <a:pt x="140307" y="0"/>
                </a:lnTo>
                <a:lnTo>
                  <a:pt x="138907" y="1400"/>
                </a:lnTo>
                <a:lnTo>
                  <a:pt x="1400" y="1400"/>
                </a:lnTo>
                <a:close/>
              </a:path>
              <a:path fill="darken" w="140307" h="21600">
                <a:moveTo>
                  <a:pt x="140307" y="0"/>
                </a:moveTo>
                <a:lnTo>
                  <a:pt x="140307" y="21600"/>
                </a:lnTo>
                <a:lnTo>
                  <a:pt x="138907" y="20200"/>
                </a:lnTo>
                <a:lnTo>
                  <a:pt x="138907" y="1400"/>
                </a:lnTo>
                <a:close/>
              </a:path>
              <a:path fill="darkenLess" w="140307" h="21600">
                <a:moveTo>
                  <a:pt x="140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07" y="20200"/>
                </a:lnTo>
                <a:close/>
              </a:path>
              <a:path fill="lighten" w="140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ncipe de base des pom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5715000"/>
            <a:ext cx="1981080" cy="838080"/>
          </a:xfrm>
          <a:custGeom>
            <a:avLst/>
            <a:gdLst>
              <a:gd name="textAreaLeft" fmla="*/ 54000 w 1981080"/>
              <a:gd name="textAreaRight" fmla="*/ 1927080 w 1981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46" h="21600">
                <a:moveTo>
                  <a:pt x="0" y="0"/>
                </a:moveTo>
                <a:lnTo>
                  <a:pt x="51046" y="0"/>
                </a:lnTo>
                <a:lnTo>
                  <a:pt x="51046" y="21600"/>
                </a:lnTo>
                <a:lnTo>
                  <a:pt x="0" y="21600"/>
                </a:lnTo>
                <a:close/>
              </a:path>
              <a:path fill="lightenLess" w="51046" h="21600">
                <a:moveTo>
                  <a:pt x="0" y="0"/>
                </a:moveTo>
                <a:lnTo>
                  <a:pt x="51046" y="0"/>
                </a:lnTo>
                <a:lnTo>
                  <a:pt x="49646" y="1400"/>
                </a:lnTo>
                <a:lnTo>
                  <a:pt x="1400" y="1400"/>
                </a:lnTo>
                <a:close/>
              </a:path>
              <a:path fill="darken" w="51046" h="21600">
                <a:moveTo>
                  <a:pt x="51046" y="0"/>
                </a:moveTo>
                <a:lnTo>
                  <a:pt x="51046" y="21600"/>
                </a:lnTo>
                <a:lnTo>
                  <a:pt x="49646" y="20200"/>
                </a:lnTo>
                <a:lnTo>
                  <a:pt x="49646" y="1400"/>
                </a:lnTo>
                <a:close/>
              </a:path>
              <a:path fill="darkenLess" w="51046" h="21600">
                <a:moveTo>
                  <a:pt x="51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46" y="20200"/>
                </a:lnTo>
                <a:close/>
              </a:path>
              <a:path fill="lighten" w="51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1435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1437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0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9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05120" y="781200"/>
            <a:ext cx="2514600" cy="2482560"/>
          </a:xfrm>
          <a:custGeom>
            <a:avLst/>
            <a:gdLst/>
            <a:ahLst/>
            <a:rect l="l" t="t" r="r" b="b"/>
            <a:pathLst>
              <a:path w="1584" h="1564">
                <a:moveTo>
                  <a:pt x="0" y="372"/>
                </a:moveTo>
                <a:lnTo>
                  <a:pt x="768" y="372"/>
                </a:lnTo>
                <a:lnTo>
                  <a:pt x="884" y="280"/>
                </a:lnTo>
                <a:lnTo>
                  <a:pt x="1080" y="160"/>
                </a:lnTo>
                <a:lnTo>
                  <a:pt x="1348" y="60"/>
                </a:lnTo>
                <a:lnTo>
                  <a:pt x="1576" y="0"/>
                </a:lnTo>
                <a:lnTo>
                  <a:pt x="1584" y="72"/>
                </a:lnTo>
                <a:lnTo>
                  <a:pt x="1208" y="236"/>
                </a:lnTo>
                <a:lnTo>
                  <a:pt x="828" y="628"/>
                </a:lnTo>
                <a:lnTo>
                  <a:pt x="692" y="1012"/>
                </a:lnTo>
                <a:lnTo>
                  <a:pt x="648" y="1468"/>
                </a:lnTo>
                <a:lnTo>
                  <a:pt x="148" y="1564"/>
                </a:lnTo>
                <a:lnTo>
                  <a:pt x="184" y="1276"/>
                </a:lnTo>
                <a:lnTo>
                  <a:pt x="276" y="1016"/>
                </a:lnTo>
                <a:lnTo>
                  <a:pt x="380" y="816"/>
                </a:lnTo>
                <a:lnTo>
                  <a:pt x="472" y="656"/>
                </a:lnTo>
                <a:lnTo>
                  <a:pt x="4" y="656"/>
                </a:lnTo>
                <a:lnTo>
                  <a:pt x="0" y="3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133720" y="3124080"/>
            <a:ext cx="3352680" cy="2952720"/>
          </a:xfrm>
          <a:custGeom>
            <a:avLst/>
            <a:gdLst/>
            <a:ahLst/>
            <a:rect l="l" t="t" r="r" b="b"/>
            <a:pathLst>
              <a:path w="2112" h="1860">
                <a:moveTo>
                  <a:pt x="624" y="0"/>
                </a:moveTo>
                <a:lnTo>
                  <a:pt x="1872" y="864"/>
                </a:lnTo>
                <a:lnTo>
                  <a:pt x="2112" y="1824"/>
                </a:lnTo>
                <a:lnTo>
                  <a:pt x="1866" y="1860"/>
                </a:lnTo>
                <a:lnTo>
                  <a:pt x="1518" y="1854"/>
                </a:lnTo>
                <a:lnTo>
                  <a:pt x="1146" y="1788"/>
                </a:lnTo>
                <a:lnTo>
                  <a:pt x="732" y="1590"/>
                </a:lnTo>
                <a:lnTo>
                  <a:pt x="426" y="1314"/>
                </a:lnTo>
                <a:lnTo>
                  <a:pt x="168" y="930"/>
                </a:lnTo>
                <a:lnTo>
                  <a:pt x="66" y="666"/>
                </a:lnTo>
                <a:lnTo>
                  <a:pt x="6" y="420"/>
                </a:lnTo>
                <a:lnTo>
                  <a:pt x="0" y="90"/>
                </a:lnTo>
                <a:lnTo>
                  <a:pt x="62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rot="20905800">
            <a:off x="2133360" y="2895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15505200">
            <a:off x="3462120" y="183492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rot="20905200">
            <a:off x="4829040" y="2347560"/>
            <a:ext cx="2362320" cy="304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rot="4705200">
            <a:off x="4054320" y="4684680"/>
            <a:ext cx="2361960" cy="304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2920320" y="819720"/>
            <a:ext cx="3732120" cy="3732120"/>
            <a:chOff x="2920320" y="819720"/>
            <a:chExt cx="3732120" cy="3732120"/>
          </a:xfrm>
        </p:grpSpPr>
        <p:sp>
          <p:nvSpPr>
            <p:cNvPr id="1463" name=""/>
            <p:cNvSpPr/>
            <p:nvPr/>
          </p:nvSpPr>
          <p:spPr>
            <a:xfrm flipV="1">
              <a:off x="2920320" y="2302560"/>
              <a:ext cx="373212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flipV="1">
              <a:off x="4402800" y="819720"/>
              <a:ext cx="76680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05120" y="914400"/>
            <a:ext cx="2000160" cy="3114720"/>
          </a:xfrm>
          <a:custGeom>
            <a:avLst/>
            <a:gdLst/>
            <a:ahLst/>
            <a:rect l="l" t="t" r="r" b="b"/>
            <a:pathLst>
              <a:path w="1260" h="1962">
                <a:moveTo>
                  <a:pt x="12" y="294"/>
                </a:moveTo>
                <a:lnTo>
                  <a:pt x="744" y="288"/>
                </a:lnTo>
                <a:lnTo>
                  <a:pt x="882" y="180"/>
                </a:lnTo>
                <a:lnTo>
                  <a:pt x="1074" y="72"/>
                </a:lnTo>
                <a:lnTo>
                  <a:pt x="1242" y="0"/>
                </a:lnTo>
                <a:lnTo>
                  <a:pt x="1260" y="108"/>
                </a:lnTo>
                <a:lnTo>
                  <a:pt x="924" y="420"/>
                </a:lnTo>
                <a:lnTo>
                  <a:pt x="684" y="1140"/>
                </a:lnTo>
                <a:lnTo>
                  <a:pt x="702" y="1398"/>
                </a:lnTo>
                <a:lnTo>
                  <a:pt x="762" y="1632"/>
                </a:lnTo>
                <a:lnTo>
                  <a:pt x="186" y="1962"/>
                </a:lnTo>
                <a:lnTo>
                  <a:pt x="138" y="1584"/>
                </a:lnTo>
                <a:lnTo>
                  <a:pt x="174" y="1242"/>
                </a:lnTo>
                <a:lnTo>
                  <a:pt x="240" y="1026"/>
                </a:lnTo>
                <a:lnTo>
                  <a:pt x="336" y="792"/>
                </a:lnTo>
                <a:lnTo>
                  <a:pt x="480" y="570"/>
                </a:lnTo>
                <a:lnTo>
                  <a:pt x="0" y="570"/>
                </a:lnTo>
                <a:lnTo>
                  <a:pt x="12" y="2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97080" y="1600200"/>
            <a:ext cx="6883560" cy="4584600"/>
          </a:xfrm>
          <a:custGeom>
            <a:avLst/>
            <a:gdLst/>
            <a:ahLst/>
            <a:rect l="l" t="t" r="r" b="b"/>
            <a:pathLst>
              <a:path w="4336" h="2888">
                <a:moveTo>
                  <a:pt x="632" y="1200"/>
                </a:moveTo>
                <a:lnTo>
                  <a:pt x="2888" y="0"/>
                </a:lnTo>
                <a:lnTo>
                  <a:pt x="3056" y="256"/>
                </a:lnTo>
                <a:lnTo>
                  <a:pt x="3160" y="440"/>
                </a:lnTo>
                <a:lnTo>
                  <a:pt x="3232" y="616"/>
                </a:lnTo>
                <a:lnTo>
                  <a:pt x="3288" y="864"/>
                </a:lnTo>
                <a:lnTo>
                  <a:pt x="3320" y="1040"/>
                </a:lnTo>
                <a:lnTo>
                  <a:pt x="3312" y="1336"/>
                </a:lnTo>
                <a:lnTo>
                  <a:pt x="3248" y="1584"/>
                </a:lnTo>
                <a:lnTo>
                  <a:pt x="3216" y="1728"/>
                </a:lnTo>
                <a:lnTo>
                  <a:pt x="3152" y="1856"/>
                </a:lnTo>
                <a:lnTo>
                  <a:pt x="3072" y="2024"/>
                </a:lnTo>
                <a:lnTo>
                  <a:pt x="3008" y="2128"/>
                </a:lnTo>
                <a:lnTo>
                  <a:pt x="3304" y="2120"/>
                </a:lnTo>
                <a:lnTo>
                  <a:pt x="3608" y="2096"/>
                </a:lnTo>
                <a:lnTo>
                  <a:pt x="3840" y="2016"/>
                </a:lnTo>
                <a:lnTo>
                  <a:pt x="4040" y="1848"/>
                </a:lnTo>
                <a:lnTo>
                  <a:pt x="4184" y="1696"/>
                </a:lnTo>
                <a:lnTo>
                  <a:pt x="4272" y="1608"/>
                </a:lnTo>
                <a:lnTo>
                  <a:pt x="4128" y="1896"/>
                </a:lnTo>
                <a:lnTo>
                  <a:pt x="4032" y="2112"/>
                </a:lnTo>
                <a:lnTo>
                  <a:pt x="4016" y="2192"/>
                </a:lnTo>
                <a:lnTo>
                  <a:pt x="4096" y="2216"/>
                </a:lnTo>
                <a:lnTo>
                  <a:pt x="4272" y="2248"/>
                </a:lnTo>
                <a:lnTo>
                  <a:pt x="4336" y="2248"/>
                </a:lnTo>
                <a:lnTo>
                  <a:pt x="4184" y="2304"/>
                </a:lnTo>
                <a:lnTo>
                  <a:pt x="3976" y="2424"/>
                </a:lnTo>
                <a:lnTo>
                  <a:pt x="4048" y="2480"/>
                </a:lnTo>
                <a:lnTo>
                  <a:pt x="4208" y="2616"/>
                </a:lnTo>
                <a:lnTo>
                  <a:pt x="4280" y="2712"/>
                </a:lnTo>
                <a:lnTo>
                  <a:pt x="4328" y="2792"/>
                </a:lnTo>
                <a:lnTo>
                  <a:pt x="4336" y="2888"/>
                </a:lnTo>
                <a:lnTo>
                  <a:pt x="4280" y="2784"/>
                </a:lnTo>
                <a:lnTo>
                  <a:pt x="4216" y="2728"/>
                </a:lnTo>
                <a:lnTo>
                  <a:pt x="4040" y="2664"/>
                </a:lnTo>
                <a:lnTo>
                  <a:pt x="3800" y="2648"/>
                </a:lnTo>
                <a:lnTo>
                  <a:pt x="3608" y="2624"/>
                </a:lnTo>
                <a:lnTo>
                  <a:pt x="3376" y="2616"/>
                </a:lnTo>
                <a:lnTo>
                  <a:pt x="3272" y="2632"/>
                </a:lnTo>
                <a:lnTo>
                  <a:pt x="3064" y="2632"/>
                </a:lnTo>
                <a:lnTo>
                  <a:pt x="2872" y="2632"/>
                </a:lnTo>
                <a:lnTo>
                  <a:pt x="2688" y="2632"/>
                </a:lnTo>
                <a:lnTo>
                  <a:pt x="2408" y="2624"/>
                </a:lnTo>
                <a:lnTo>
                  <a:pt x="2280" y="2688"/>
                </a:lnTo>
                <a:lnTo>
                  <a:pt x="2088" y="2752"/>
                </a:lnTo>
                <a:lnTo>
                  <a:pt x="1944" y="2800"/>
                </a:lnTo>
                <a:lnTo>
                  <a:pt x="1784" y="2824"/>
                </a:lnTo>
                <a:lnTo>
                  <a:pt x="1456" y="2816"/>
                </a:lnTo>
                <a:lnTo>
                  <a:pt x="1224" y="2768"/>
                </a:lnTo>
                <a:lnTo>
                  <a:pt x="952" y="2664"/>
                </a:lnTo>
                <a:lnTo>
                  <a:pt x="744" y="2560"/>
                </a:lnTo>
                <a:lnTo>
                  <a:pt x="448" y="2328"/>
                </a:lnTo>
                <a:lnTo>
                  <a:pt x="312" y="2160"/>
                </a:lnTo>
                <a:lnTo>
                  <a:pt x="200" y="2000"/>
                </a:lnTo>
                <a:lnTo>
                  <a:pt x="128" y="1856"/>
                </a:lnTo>
                <a:lnTo>
                  <a:pt x="48" y="1664"/>
                </a:lnTo>
                <a:lnTo>
                  <a:pt x="0" y="1528"/>
                </a:lnTo>
                <a:lnTo>
                  <a:pt x="632" y="1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 rot="9166800">
            <a:off x="4530240" y="20606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 rot="3766800">
            <a:off x="3226320" y="183816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 rot="14566800">
            <a:off x="4586760" y="4410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 rot="19966800">
            <a:off x="2084400" y="33224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3093480" y="992880"/>
            <a:ext cx="3385800" cy="3385800"/>
            <a:chOff x="3093480" y="992880"/>
            <a:chExt cx="3385800" cy="3385800"/>
          </a:xfrm>
        </p:grpSpPr>
        <p:sp>
          <p:nvSpPr>
            <p:cNvPr id="1483" name=""/>
            <p:cNvSpPr/>
            <p:nvPr/>
          </p:nvSpPr>
          <p:spPr>
            <a:xfrm flipV="1">
              <a:off x="3093480" y="1812240"/>
              <a:ext cx="3385800" cy="17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flipV="1">
              <a:off x="3912480" y="992880"/>
              <a:ext cx="1747440" cy="33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9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1276200"/>
            <a:ext cx="1581120" cy="3781440"/>
          </a:xfrm>
          <a:custGeom>
            <a:avLst/>
            <a:gdLst/>
            <a:ahLst/>
            <a:rect l="l" t="t" r="r" b="b"/>
            <a:pathLst>
              <a:path w="996" h="2382">
                <a:moveTo>
                  <a:pt x="0" y="60"/>
                </a:moveTo>
                <a:lnTo>
                  <a:pt x="720" y="60"/>
                </a:lnTo>
                <a:lnTo>
                  <a:pt x="834" y="0"/>
                </a:lnTo>
                <a:lnTo>
                  <a:pt x="912" y="180"/>
                </a:lnTo>
                <a:lnTo>
                  <a:pt x="720" y="606"/>
                </a:lnTo>
                <a:lnTo>
                  <a:pt x="726" y="972"/>
                </a:lnTo>
                <a:lnTo>
                  <a:pt x="804" y="1440"/>
                </a:lnTo>
                <a:lnTo>
                  <a:pt x="996" y="1734"/>
                </a:lnTo>
                <a:lnTo>
                  <a:pt x="972" y="1818"/>
                </a:lnTo>
                <a:lnTo>
                  <a:pt x="486" y="2382"/>
                </a:lnTo>
                <a:lnTo>
                  <a:pt x="360" y="2190"/>
                </a:lnTo>
                <a:lnTo>
                  <a:pt x="228" y="1896"/>
                </a:lnTo>
                <a:lnTo>
                  <a:pt x="162" y="1632"/>
                </a:lnTo>
                <a:lnTo>
                  <a:pt x="138" y="1368"/>
                </a:lnTo>
                <a:lnTo>
                  <a:pt x="156" y="1116"/>
                </a:lnTo>
                <a:lnTo>
                  <a:pt x="210" y="888"/>
                </a:lnTo>
                <a:lnTo>
                  <a:pt x="294" y="648"/>
                </a:lnTo>
                <a:lnTo>
                  <a:pt x="384" y="480"/>
                </a:lnTo>
                <a:lnTo>
                  <a:pt x="468" y="348"/>
                </a:lnTo>
                <a:lnTo>
                  <a:pt x="6" y="348"/>
                </a:lnTo>
                <a:lnTo>
                  <a:pt x="0" y="6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95680" y="3886200"/>
            <a:ext cx="6162480" cy="2190600"/>
          </a:xfrm>
          <a:custGeom>
            <a:avLst/>
            <a:gdLst/>
            <a:ahLst/>
            <a:rect l="l" t="t" r="r" b="b"/>
            <a:pathLst>
              <a:path w="3882" h="1380">
                <a:moveTo>
                  <a:pt x="606" y="0"/>
                </a:moveTo>
                <a:lnTo>
                  <a:pt x="2238" y="48"/>
                </a:lnTo>
                <a:lnTo>
                  <a:pt x="2784" y="552"/>
                </a:lnTo>
                <a:lnTo>
                  <a:pt x="2718" y="654"/>
                </a:lnTo>
                <a:lnTo>
                  <a:pt x="2934" y="672"/>
                </a:lnTo>
                <a:lnTo>
                  <a:pt x="2994" y="660"/>
                </a:lnTo>
                <a:lnTo>
                  <a:pt x="3846" y="666"/>
                </a:lnTo>
                <a:lnTo>
                  <a:pt x="3882" y="1290"/>
                </a:lnTo>
                <a:lnTo>
                  <a:pt x="3444" y="1218"/>
                </a:lnTo>
                <a:lnTo>
                  <a:pt x="3228" y="1176"/>
                </a:lnTo>
                <a:lnTo>
                  <a:pt x="2964" y="1182"/>
                </a:lnTo>
                <a:lnTo>
                  <a:pt x="2118" y="1176"/>
                </a:lnTo>
                <a:lnTo>
                  <a:pt x="2022" y="1224"/>
                </a:lnTo>
                <a:lnTo>
                  <a:pt x="1878" y="1296"/>
                </a:lnTo>
                <a:lnTo>
                  <a:pt x="1758" y="1326"/>
                </a:lnTo>
                <a:lnTo>
                  <a:pt x="1602" y="1356"/>
                </a:lnTo>
                <a:lnTo>
                  <a:pt x="1458" y="1380"/>
                </a:lnTo>
                <a:lnTo>
                  <a:pt x="1272" y="1374"/>
                </a:lnTo>
                <a:lnTo>
                  <a:pt x="1116" y="1368"/>
                </a:lnTo>
                <a:lnTo>
                  <a:pt x="930" y="1332"/>
                </a:lnTo>
                <a:lnTo>
                  <a:pt x="726" y="1266"/>
                </a:lnTo>
                <a:lnTo>
                  <a:pt x="570" y="1194"/>
                </a:lnTo>
                <a:lnTo>
                  <a:pt x="438" y="1116"/>
                </a:lnTo>
                <a:lnTo>
                  <a:pt x="288" y="1008"/>
                </a:lnTo>
                <a:lnTo>
                  <a:pt x="114" y="870"/>
                </a:lnTo>
                <a:lnTo>
                  <a:pt x="36" y="768"/>
                </a:lnTo>
                <a:lnTo>
                  <a:pt x="0" y="732"/>
                </a:lnTo>
                <a:lnTo>
                  <a:pt x="606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 rot="7890600">
            <a:off x="4180680" y="188208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 rot="2490600">
            <a:off x="2927160" y="192852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rot="13290600">
            <a:off x="5032080" y="3807000"/>
            <a:ext cx="2361960" cy="30456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 rot="18690600">
            <a:off x="2303640" y="4010040"/>
            <a:ext cx="2362320" cy="30492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3360240" y="1260000"/>
            <a:ext cx="2851560" cy="2851560"/>
            <a:chOff x="3360240" y="1260000"/>
            <a:chExt cx="2851560" cy="2851560"/>
          </a:xfrm>
        </p:grpSpPr>
        <p:sp>
          <p:nvSpPr>
            <p:cNvPr id="1502" name=""/>
            <p:cNvSpPr/>
            <p:nvPr/>
          </p:nvSpPr>
          <p:spPr>
            <a:xfrm flipV="1">
              <a:off x="3522960" y="1260000"/>
              <a:ext cx="2526480" cy="28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flipV="1">
              <a:off x="3360240" y="1422720"/>
              <a:ext cx="2851560" cy="252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133720" y="1752480"/>
            <a:ext cx="1904760" cy="3962520"/>
          </a:xfrm>
          <a:custGeom>
            <a:avLst/>
            <a:gdLst/>
            <a:ahLst/>
            <a:rect l="l" t="t" r="r" b="b"/>
            <a:pathLst>
              <a:path w="1200" h="2496">
                <a:moveTo>
                  <a:pt x="336" y="0"/>
                </a:moveTo>
                <a:lnTo>
                  <a:pt x="624" y="192"/>
                </a:lnTo>
                <a:lnTo>
                  <a:pt x="576" y="576"/>
                </a:lnTo>
                <a:lnTo>
                  <a:pt x="672" y="1152"/>
                </a:lnTo>
                <a:lnTo>
                  <a:pt x="960" y="1536"/>
                </a:lnTo>
                <a:lnTo>
                  <a:pt x="1200" y="1680"/>
                </a:lnTo>
                <a:lnTo>
                  <a:pt x="816" y="2496"/>
                </a:lnTo>
                <a:lnTo>
                  <a:pt x="688" y="2408"/>
                </a:lnTo>
                <a:lnTo>
                  <a:pt x="528" y="2272"/>
                </a:lnTo>
                <a:lnTo>
                  <a:pt x="384" y="2128"/>
                </a:lnTo>
                <a:lnTo>
                  <a:pt x="248" y="1944"/>
                </a:lnTo>
                <a:lnTo>
                  <a:pt x="112" y="1672"/>
                </a:lnTo>
                <a:lnTo>
                  <a:pt x="40" y="1424"/>
                </a:lnTo>
                <a:lnTo>
                  <a:pt x="8" y="1192"/>
                </a:lnTo>
                <a:lnTo>
                  <a:pt x="0" y="1032"/>
                </a:lnTo>
                <a:lnTo>
                  <a:pt x="16" y="848"/>
                </a:lnTo>
                <a:lnTo>
                  <a:pt x="48" y="640"/>
                </a:lnTo>
                <a:lnTo>
                  <a:pt x="112" y="456"/>
                </a:lnTo>
                <a:lnTo>
                  <a:pt x="168" y="312"/>
                </a:lnTo>
                <a:lnTo>
                  <a:pt x="272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919160" y="752400"/>
            <a:ext cx="3662640" cy="1157400"/>
          </a:xfrm>
          <a:custGeom>
            <a:avLst/>
            <a:gdLst/>
            <a:ahLst/>
            <a:rect l="l" t="t" r="r" b="b"/>
            <a:pathLst>
              <a:path w="2307" h="729">
                <a:moveTo>
                  <a:pt x="3" y="390"/>
                </a:moveTo>
                <a:lnTo>
                  <a:pt x="747" y="387"/>
                </a:lnTo>
                <a:lnTo>
                  <a:pt x="930" y="258"/>
                </a:lnTo>
                <a:lnTo>
                  <a:pt x="1140" y="147"/>
                </a:lnTo>
                <a:lnTo>
                  <a:pt x="1386" y="60"/>
                </a:lnTo>
                <a:lnTo>
                  <a:pt x="1680" y="9"/>
                </a:lnTo>
                <a:lnTo>
                  <a:pt x="1917" y="0"/>
                </a:lnTo>
                <a:lnTo>
                  <a:pt x="2190" y="42"/>
                </a:lnTo>
                <a:lnTo>
                  <a:pt x="2307" y="78"/>
                </a:lnTo>
                <a:lnTo>
                  <a:pt x="2289" y="147"/>
                </a:lnTo>
                <a:lnTo>
                  <a:pt x="1929" y="81"/>
                </a:lnTo>
                <a:lnTo>
                  <a:pt x="1482" y="135"/>
                </a:lnTo>
                <a:lnTo>
                  <a:pt x="1014" y="387"/>
                </a:lnTo>
                <a:lnTo>
                  <a:pt x="795" y="654"/>
                </a:lnTo>
                <a:lnTo>
                  <a:pt x="762" y="729"/>
                </a:lnTo>
                <a:lnTo>
                  <a:pt x="504" y="636"/>
                </a:lnTo>
                <a:lnTo>
                  <a:pt x="471" y="678"/>
                </a:lnTo>
                <a:lnTo>
                  <a:pt x="162" y="675"/>
                </a:lnTo>
                <a:lnTo>
                  <a:pt x="0" y="669"/>
                </a:lnTo>
                <a:lnTo>
                  <a:pt x="3" y="3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rot="6820800">
            <a:off x="3915360" y="18241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 rot="1420800">
            <a:off x="2626920" y="2098440"/>
            <a:ext cx="2361960" cy="30420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200"/>
              <a:gd name="textAreaBottom" fmla="*/ 304560 h 30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 rot="12220800">
            <a:off x="5149440" y="321264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 rot="17620800">
            <a:off x="2751840" y="447948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3040920" y="940680"/>
            <a:ext cx="3490200" cy="3490200"/>
            <a:chOff x="3040920" y="940680"/>
            <a:chExt cx="3490200" cy="3490200"/>
          </a:xfrm>
        </p:grpSpPr>
        <p:sp>
          <p:nvSpPr>
            <p:cNvPr id="1522" name=""/>
            <p:cNvSpPr/>
            <p:nvPr/>
          </p:nvSpPr>
          <p:spPr>
            <a:xfrm flipV="1">
              <a:off x="4022280" y="940680"/>
              <a:ext cx="1528200" cy="34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3040920" y="1921680"/>
              <a:ext cx="3490200" cy="15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2133720" y="2286000"/>
            <a:ext cx="2361960" cy="3762360"/>
          </a:xfrm>
          <a:custGeom>
            <a:avLst/>
            <a:gdLst/>
            <a:ahLst/>
            <a:rect l="l" t="t" r="r" b="b"/>
            <a:pathLst>
              <a:path w="1488" h="2370">
                <a:moveTo>
                  <a:pt x="144" y="0"/>
                </a:moveTo>
                <a:lnTo>
                  <a:pt x="528" y="144"/>
                </a:lnTo>
                <a:lnTo>
                  <a:pt x="564" y="588"/>
                </a:lnTo>
                <a:lnTo>
                  <a:pt x="696" y="900"/>
                </a:lnTo>
                <a:lnTo>
                  <a:pt x="972" y="1176"/>
                </a:lnTo>
                <a:lnTo>
                  <a:pt x="1404" y="1386"/>
                </a:lnTo>
                <a:lnTo>
                  <a:pt x="1488" y="1476"/>
                </a:lnTo>
                <a:lnTo>
                  <a:pt x="1368" y="2370"/>
                </a:lnTo>
                <a:lnTo>
                  <a:pt x="1098" y="2292"/>
                </a:lnTo>
                <a:lnTo>
                  <a:pt x="918" y="2214"/>
                </a:lnTo>
                <a:lnTo>
                  <a:pt x="690" y="2076"/>
                </a:lnTo>
                <a:lnTo>
                  <a:pt x="522" y="1932"/>
                </a:lnTo>
                <a:lnTo>
                  <a:pt x="336" y="1734"/>
                </a:lnTo>
                <a:lnTo>
                  <a:pt x="222" y="1554"/>
                </a:lnTo>
                <a:lnTo>
                  <a:pt x="108" y="1314"/>
                </a:lnTo>
                <a:lnTo>
                  <a:pt x="54" y="1116"/>
                </a:lnTo>
                <a:lnTo>
                  <a:pt x="12" y="906"/>
                </a:lnTo>
                <a:lnTo>
                  <a:pt x="0" y="726"/>
                </a:lnTo>
                <a:lnTo>
                  <a:pt x="12" y="486"/>
                </a:lnTo>
                <a:lnTo>
                  <a:pt x="72" y="246"/>
                </a:lnTo>
                <a:lnTo>
                  <a:pt x="102" y="120"/>
                </a:lnTo>
                <a:lnTo>
                  <a:pt x="180" y="12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749160"/>
            <a:ext cx="3162240" cy="1657440"/>
          </a:xfrm>
          <a:custGeom>
            <a:avLst/>
            <a:gdLst/>
            <a:ahLst/>
            <a:rect l="l" t="t" r="r" b="b"/>
            <a:pathLst>
              <a:path w="1992" h="1044">
                <a:moveTo>
                  <a:pt x="0" y="392"/>
                </a:moveTo>
                <a:lnTo>
                  <a:pt x="768" y="392"/>
                </a:lnTo>
                <a:lnTo>
                  <a:pt x="880" y="296"/>
                </a:lnTo>
                <a:lnTo>
                  <a:pt x="1104" y="164"/>
                </a:lnTo>
                <a:lnTo>
                  <a:pt x="1348" y="72"/>
                </a:lnTo>
                <a:lnTo>
                  <a:pt x="1544" y="28"/>
                </a:lnTo>
                <a:lnTo>
                  <a:pt x="1720" y="0"/>
                </a:lnTo>
                <a:lnTo>
                  <a:pt x="1904" y="4"/>
                </a:lnTo>
                <a:lnTo>
                  <a:pt x="1984" y="12"/>
                </a:lnTo>
                <a:lnTo>
                  <a:pt x="1992" y="84"/>
                </a:lnTo>
                <a:lnTo>
                  <a:pt x="1520" y="132"/>
                </a:lnTo>
                <a:lnTo>
                  <a:pt x="1020" y="444"/>
                </a:lnTo>
                <a:lnTo>
                  <a:pt x="744" y="880"/>
                </a:lnTo>
                <a:lnTo>
                  <a:pt x="632" y="1044"/>
                </a:lnTo>
                <a:lnTo>
                  <a:pt x="296" y="996"/>
                </a:lnTo>
                <a:lnTo>
                  <a:pt x="396" y="800"/>
                </a:lnTo>
                <a:lnTo>
                  <a:pt x="480" y="672"/>
                </a:lnTo>
                <a:lnTo>
                  <a:pt x="12" y="672"/>
                </a:lnTo>
                <a:lnTo>
                  <a:pt x="0" y="39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rot="5876400">
            <a:off x="3712680" y="18050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 rot="476400">
            <a:off x="2364840" y="235224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rot="11276400">
            <a:off x="5085000" y="2747520"/>
            <a:ext cx="2361960" cy="304920"/>
          </a:xfrm>
          <a:custGeom>
            <a:avLst/>
            <a:gdLst>
              <a:gd name="textAreaLeft" fmla="*/ -360 w 2361960"/>
              <a:gd name="textAreaRight" fmla="*/ 2361960 w 23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rot="16676400">
            <a:off x="3299400" y="4714560"/>
            <a:ext cx="2362320" cy="304560"/>
          </a:xfrm>
          <a:custGeom>
            <a:avLst/>
            <a:gdLst>
              <a:gd name="textAreaLeft" fmla="*/ 360 w 2362320"/>
              <a:gd name="textAreaRight" fmla="*/ 2363040 w 2362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5" y="0"/>
                </a:lnTo>
                <a:lnTo>
                  <a:pt x="21600" y="10800"/>
                </a:lnTo>
                <a:lnTo>
                  <a:pt x="205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2899800" y="799560"/>
            <a:ext cx="3772440" cy="3772440"/>
            <a:chOff x="2899800" y="799560"/>
            <a:chExt cx="3772440" cy="3772440"/>
          </a:xfrm>
        </p:grpSpPr>
        <p:sp>
          <p:nvSpPr>
            <p:cNvPr id="1541" name=""/>
            <p:cNvSpPr/>
            <p:nvPr/>
          </p:nvSpPr>
          <p:spPr>
            <a:xfrm flipV="1">
              <a:off x="4519080" y="799560"/>
              <a:ext cx="534240" cy="37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 flipV="1">
              <a:off x="2899800" y="2418840"/>
              <a:ext cx="377244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12193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905120" y="762120"/>
            <a:ext cx="2895480" cy="1895400"/>
          </a:xfrm>
          <a:custGeom>
            <a:avLst/>
            <a:gdLst/>
            <a:ahLst/>
            <a:rect l="l" t="t" r="r" b="b"/>
            <a:pathLst>
              <a:path w="1824" h="1194">
                <a:moveTo>
                  <a:pt x="0" y="384"/>
                </a:moveTo>
                <a:lnTo>
                  <a:pt x="768" y="384"/>
                </a:lnTo>
                <a:lnTo>
                  <a:pt x="945" y="246"/>
                </a:lnTo>
                <a:lnTo>
                  <a:pt x="1104" y="156"/>
                </a:lnTo>
                <a:lnTo>
                  <a:pt x="1317" y="72"/>
                </a:lnTo>
                <a:lnTo>
                  <a:pt x="1608" y="6"/>
                </a:lnTo>
                <a:lnTo>
                  <a:pt x="1749" y="3"/>
                </a:lnTo>
                <a:lnTo>
                  <a:pt x="1824" y="0"/>
                </a:lnTo>
                <a:lnTo>
                  <a:pt x="1824" y="57"/>
                </a:lnTo>
                <a:lnTo>
                  <a:pt x="1467" y="114"/>
                </a:lnTo>
                <a:lnTo>
                  <a:pt x="1197" y="231"/>
                </a:lnTo>
                <a:lnTo>
                  <a:pt x="987" y="414"/>
                </a:lnTo>
                <a:lnTo>
                  <a:pt x="822" y="612"/>
                </a:lnTo>
                <a:lnTo>
                  <a:pt x="711" y="849"/>
                </a:lnTo>
                <a:lnTo>
                  <a:pt x="645" y="1113"/>
                </a:lnTo>
                <a:lnTo>
                  <a:pt x="639" y="1194"/>
                </a:lnTo>
                <a:lnTo>
                  <a:pt x="222" y="1188"/>
                </a:lnTo>
                <a:lnTo>
                  <a:pt x="291" y="987"/>
                </a:lnTo>
                <a:lnTo>
                  <a:pt x="375" y="825"/>
                </a:lnTo>
                <a:lnTo>
                  <a:pt x="480" y="669"/>
                </a:lnTo>
                <a:lnTo>
                  <a:pt x="3" y="669"/>
                </a:lnTo>
                <a:lnTo>
                  <a:pt x="0" y="3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143080" y="2733840"/>
            <a:ext cx="2657520" cy="3362040"/>
          </a:xfrm>
          <a:custGeom>
            <a:avLst/>
            <a:gdLst/>
            <a:ahLst/>
            <a:rect l="l" t="t" r="r" b="b"/>
            <a:pathLst>
              <a:path w="1674" h="2118">
                <a:moveTo>
                  <a:pt x="570" y="6"/>
                </a:moveTo>
                <a:lnTo>
                  <a:pt x="1674" y="1158"/>
                </a:lnTo>
                <a:lnTo>
                  <a:pt x="1674" y="2118"/>
                </a:lnTo>
                <a:lnTo>
                  <a:pt x="1512" y="2106"/>
                </a:lnTo>
                <a:lnTo>
                  <a:pt x="1122" y="2028"/>
                </a:lnTo>
                <a:lnTo>
                  <a:pt x="798" y="1866"/>
                </a:lnTo>
                <a:lnTo>
                  <a:pt x="462" y="1602"/>
                </a:lnTo>
                <a:lnTo>
                  <a:pt x="234" y="1320"/>
                </a:lnTo>
                <a:lnTo>
                  <a:pt x="126" y="1080"/>
                </a:lnTo>
                <a:lnTo>
                  <a:pt x="18" y="762"/>
                </a:lnTo>
                <a:lnTo>
                  <a:pt x="0" y="348"/>
                </a:lnTo>
                <a:lnTo>
                  <a:pt x="12" y="132"/>
                </a:lnTo>
                <a:lnTo>
                  <a:pt x="48" y="0"/>
                </a:lnTo>
                <a:lnTo>
                  <a:pt x="570" y="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>
            <a:hlinkClick r:id="" action="ppaction://hlinkshowjump?jump=nextslide"/>
          </p:cNvPr>
          <p:cNvSpPr/>
          <p:nvPr/>
        </p:nvSpPr>
        <p:spPr>
          <a:xfrm>
            <a:off x="2133720" y="762120"/>
            <a:ext cx="5333760" cy="5333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2209680" y="761760"/>
            <a:ext cx="5181840" cy="5334120"/>
            <a:chOff x="2209680" y="761760"/>
            <a:chExt cx="5181840" cy="5334120"/>
          </a:xfrm>
        </p:grpSpPr>
        <p:sp>
          <p:nvSpPr>
            <p:cNvPr id="1554" name=""/>
            <p:cNvSpPr/>
            <p:nvPr/>
          </p:nvSpPr>
          <p:spPr>
            <a:xfrm flipH="1">
              <a:off x="2209680" y="2590920"/>
              <a:ext cx="2362320" cy="3045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55" y="0"/>
                  </a:lnTo>
                  <a:lnTo>
                    <a:pt x="21600" y="10800"/>
                  </a:lnTo>
                  <a:lnTo>
                    <a:pt x="2055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4648320" y="761760"/>
              <a:ext cx="2743200" cy="5334120"/>
              <a:chOff x="4648320" y="761760"/>
              <a:chExt cx="2743200" cy="5334120"/>
            </a:xfrm>
          </p:grpSpPr>
          <p:sp>
            <p:nvSpPr>
              <p:cNvPr id="1556" name=""/>
              <p:cNvSpPr/>
              <p:nvPr/>
            </p:nvSpPr>
            <p:spPr>
              <a:xfrm rot="16200000">
                <a:off x="3619440" y="179028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029200" y="2590920"/>
                <a:ext cx="2362320" cy="30456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5400000">
                <a:off x="3619440" y="4762440"/>
                <a:ext cx="2361960" cy="30456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9" name=""/>
          <p:cNvSpPr/>
          <p:nvPr/>
        </p:nvSpPr>
        <p:spPr>
          <a:xfrm>
            <a:off x="2895480" y="819000"/>
            <a:ext cx="3810240" cy="38102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1992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010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1905120" y="13716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905120" y="182880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24200" y="1362240"/>
            <a:ext cx="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924200" y="169848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0" y="0"/>
            <a:ext cx="2057400" cy="1295280"/>
          </a:xfrm>
          <a:custGeom>
            <a:avLst/>
            <a:gdLst>
              <a:gd name="textAreaLeft" fmla="*/ 83880 w 2057400"/>
              <a:gd name="textAreaRight" fmla="*/ 1973520 w 20574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4306" h="21600">
                <a:moveTo>
                  <a:pt x="0" y="0"/>
                </a:moveTo>
                <a:lnTo>
                  <a:pt x="34306" y="0"/>
                </a:lnTo>
                <a:lnTo>
                  <a:pt x="34306" y="21600"/>
                </a:lnTo>
                <a:lnTo>
                  <a:pt x="0" y="21600"/>
                </a:lnTo>
                <a:close/>
              </a:path>
              <a:path fill="lightenLess" w="34306" h="21600">
                <a:moveTo>
                  <a:pt x="0" y="0"/>
                </a:moveTo>
                <a:lnTo>
                  <a:pt x="34306" y="0"/>
                </a:lnTo>
                <a:lnTo>
                  <a:pt x="32906" y="1400"/>
                </a:lnTo>
                <a:lnTo>
                  <a:pt x="1400" y="1400"/>
                </a:lnTo>
                <a:close/>
              </a:path>
              <a:path fill="darken" w="34306" h="21600">
                <a:moveTo>
                  <a:pt x="34306" y="0"/>
                </a:moveTo>
                <a:lnTo>
                  <a:pt x="34306" y="21600"/>
                </a:lnTo>
                <a:lnTo>
                  <a:pt x="32906" y="20200"/>
                </a:lnTo>
                <a:lnTo>
                  <a:pt x="32906" y="1400"/>
                </a:lnTo>
                <a:close/>
              </a:path>
              <a:path fill="darkenLess" w="34306" h="21600">
                <a:moveTo>
                  <a:pt x="34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6" y="20200"/>
                </a:lnTo>
                <a:close/>
              </a:path>
              <a:path fill="lighten" w="34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 dé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l ’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2286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68580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Rappel :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our mener à bien cette analyse nous ne considérerons que les mouvements respectifs entre chaque pièce du système étudi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523880"/>
            <a:ext cx="8305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1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éter le document annexe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Conseil :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cocher dans la nomenclature les pièces que vous avez repérées pour ne pas en oubl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mpe%20à%20palette%20vue%20éclatée" descr=""/>
          <p:cNvPicPr/>
          <p:nvPr/>
        </p:nvPicPr>
        <p:blipFill>
          <a:blip r:embed="rId1"/>
          <a:stretch/>
        </p:blipFill>
        <p:spPr>
          <a:xfrm>
            <a:off x="2362320" y="3365640"/>
            <a:ext cx="43434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e5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 rot="5400000">
            <a:off x="-2006640" y="306396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fefefe"/>
                    </a:gs>
                    <a:gs pos="100000">
                      <a:srgbClr val="00008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POMPE à VIDE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fefefe"/>
                  </a:gs>
                  <a:gs pos="100000">
                    <a:srgbClr val="00008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572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. ANALYSE STRUCTU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905120"/>
            <a:ext cx="66294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ion 2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éterminer les classes d ’équivalenc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3429000"/>
            <a:ext cx="52578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appel : Une classe d ’équivalenc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roupe toutes les pièces e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aison complète les unes aux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u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n ne retrouv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jamai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une mêm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ièce dans différentes classe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 ’équival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2:50:26Z</dcterms:created>
  <dc:creator>Louis RASCOL</dc:creator>
  <dc:description/>
  <dc:language>en-US</dc:language>
  <cp:lastModifiedBy>Louis RASCOL</cp:lastModifiedBy>
  <dcterms:modified xsi:type="dcterms:W3CDTF">2000-04-05T14:39:44Z</dcterms:modified>
  <cp:revision>50</cp:revision>
  <dc:subject/>
  <dc:title>Aucun titre de diapositive</dc:title>
</cp:coreProperties>
</file>