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03280" y="333360"/>
            <a:ext cx="7221600" cy="41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16680" y="6583320"/>
            <a:ext cx="31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TS CPI LTR Charles JULLY SAINT AV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907920"/>
            <a:ext cx="8496000" cy="511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5120" y="6184800"/>
            <a:ext cx="78692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DUSTRIALISATION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fld id="{DE89A3D8-182F-4517-B668-2AF8983A1D1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914400" cy="56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960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tude du TP décou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54360"/>
            <a:ext cx="91440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e TP met en avant les points suivan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détermination des dimensions du flan de dépar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s problèmes liés à la mise en ban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 calcul des chutes suivant le cas étudi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s efforts de découp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a position de l’outillage de décou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8209080" cy="1641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197000"/>
            <a:ext cx="83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cas 1: Découpe de 2 fl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s 1 :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r calcu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Cn = ((64 * 139.71) – 6193.6) *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5495.68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r CAO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5495.68 m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333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lcul de la chute dans le ca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268280"/>
            <a:ext cx="8461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mple cas 2 : Découpe simultanée de 2 f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s 2 :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r calcu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Cn = ((124*139.71)/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193.6)*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4936.84 m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ar CAO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4936.84 m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5759280" cy="2860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03280" y="333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lcul de la chute dans le ca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99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 cas 2 où l’on découpe simultanément 2 pièces est le plus rentable dès la première découpe même si l’on tient compte du début de ba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2276640"/>
            <a:ext cx="77043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s 1 : Chute pour 2 piè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64 * 141.71) – 6193.6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64 * 139.71) – 6193.6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5623.68 m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s 2 : Découpe simultanée de 2 piè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ute pour 2 piè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(124*141.71)/2 – 6193.6)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= 5184.84 m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ntabilité du procé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. Effort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écou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3160" y="981000"/>
            <a:ext cx="73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termination du périmètre extérieur en cao L: 441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52689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980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g : Résistance pratique au g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329080" cy="4937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03640" y="2565360"/>
            <a:ext cx="3097440" cy="142920"/>
          </a:xfrm>
          <a:prstGeom prst="rect">
            <a:avLst/>
          </a:prstGeom>
          <a:solidFill>
            <a:srgbClr val="f4aabf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2694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g : 270 M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. Effort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écou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05264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flan a un périmètre de 441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484280"/>
            <a:ext cx="813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section cisaillée est égale au périmètre que multiplie l’épaiss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 = 441x2 = 882 m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3860640"/>
            <a:ext cx="39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Cas 1 : Fn &gt; 882x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&gt; 238.14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Cas 2 : Fn &gt; 882x270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&gt; 476.28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781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ort de découpage : Fn = n x Sc x 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33720"/>
            <a:ext cx="374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 : nombre de f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 : section cisaill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g : résistance pratique au glis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. Efforts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écou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. Choix d’une p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33640"/>
            <a:ext cx="8937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existe deux types de presses mécan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esse en  col de cygne, efforts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&lt; 15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resse à montants, effort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&gt; 150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124080"/>
            <a:ext cx="8370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ans le cas 1 Fn = 238.140 kN, donc on préférera une presse en col de cyg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ans le cas 2 Fn = 476.280 kN, donc on préférera une presse  en col de cyg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. Position de l’out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rincipe mécanique utilisé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: Afin de ne pas perturber le fonctionnement correct de la presse, il faut que le torseur représentant les actions mécaniques soit un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glisseu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 Pour ceci, il faut que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e barycen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 actions mécaniques par la pièce sur l’outill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it situé dans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’axe de déplacement du coulisseau de la pres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201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étermination à l’aide de CATIA V5R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41300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ns le module surfacique, on extrude la ligne de contour du flan, en lui donnant une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rès faible épaisseur, puis, mesure de la position du centre de gra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624720" cy="23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10720" y="4797360"/>
            <a:ext cx="239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ntre de gra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-25.9074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Z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03640" y="3715920"/>
            <a:ext cx="1601640" cy="1297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. Position de l’out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2133720"/>
            <a:ext cx="806436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clus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barycentre des actions mécaniques par la pièce sur l’outillage a pour coordonn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-25.907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407664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coulisseau de la presse devra être aligné avec ce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2010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ycentre des actions mécaniques cas numér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. Position de l’out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tude de la découpe du flan du coulisseau de la pince M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1847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6264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ycentre des actions mécaniques cas numér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628640"/>
            <a:ext cx="648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 découpe deux flans identiques, le point G, barycentre des actions mécaniques exercées par la pièce sur l’outillage sera le milieu de (M,N) où M et N sont les barycentres des actions mécaniques exercées par chaque flan sur l’outill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437000"/>
            <a:ext cx="23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osition de l’axe du coulisseau de la p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02720" y="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. Position de l’out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708360" y="3357720"/>
            <a:ext cx="4786200" cy="2295360"/>
            <a:chOff x="3708360" y="3357720"/>
            <a:chExt cx="4786200" cy="229536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4460760" y="3357720"/>
              <a:ext cx="403380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236000" y="4365720"/>
              <a:ext cx="315720" cy="3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708360" y="4508280"/>
              <a:ext cx="351792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6000" y="378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37440" y="5013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057920"/>
              <a:ext cx="0" cy="1008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. Position de l’outi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98100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étermination à l’aide de CATIA V5R16 : cas n°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844640"/>
            <a:ext cx="3095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barycentre des actions mécaniques par la pièce sur l’outillage a pour coordonn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-55.9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653000"/>
            <a:ext cx="326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coulisseau de la presse devra être aligné avec ce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89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8280" y="6165720"/>
            <a:ext cx="29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DESSIN D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6320" y="332640"/>
            <a:ext cx="70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1°) Création des géométries compatibles avec le procédé de fabrication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12944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3200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étermination des dimensions du flan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2263680"/>
            <a:ext cx="5253120" cy="370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4560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. Mise en b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052640"/>
            <a:ext cx="842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ur minimiser la quantité de tôle consommée au découpage, il faut optimiser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deux dimensions 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a largeur de la bande ( 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 pas d’avancement ( p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8526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in de garantir un découpage correct, il faut laisser une chute d’une part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entre les flan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t d’autre part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entre les flans et les bords de la tô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933720"/>
            <a:ext cx="849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énéralement on prend une valeur égale à deux fois l’épaisseur de la pièc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Dans notre cas 2 x épaisseur = 4 mm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416720" cy="30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197000"/>
            <a:ext cx="3086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l = 64m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0 = 141.71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 = 139.71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écoupage d’un seul f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7837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981000"/>
            <a:ext cx="3086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l = 124 m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0 = 141.71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 = 139.71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écoupage simultané de deux f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lcul de la ch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9810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l’ on se place dans le cadre de la production normale, c’est-à-dire, ni en début de bande ni en fin de bande, l’équation permettant d’évaluer la chute de la pièce est la suivant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2276640"/>
            <a:ext cx="5473440" cy="138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n = tôle fournie – tôle consomm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n = ((l x p)/i – S) x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276640"/>
            <a:ext cx="75610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Cn : chute de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l : largeur de b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p : pas d’av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S : surface consommée d’un f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n : nombre de f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i: nombre de flans découpés à chaque frappe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(ici varie de 1 à 2 suivant le cas étudi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i=1 pour le découpage d’un seul f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i=2 pour le découpage simultané de deux f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20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étermination de la surface consommée en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626080" cy="4459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5445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S : surface consommée d’un flan : 6193.6 m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3:17Z</dcterms:created>
  <dc:creator>Christian</dc:creator>
  <dc:description/>
  <dc:language>en-US</dc:language>
  <cp:lastModifiedBy>Christian</cp:lastModifiedBy>
  <dcterms:modified xsi:type="dcterms:W3CDTF">2009-03-22T21:09:10Z</dcterms:modified>
  <cp:revision>28</cp:revision>
  <dc:subject/>
  <dc:title>Diapositive 1</dc:title>
</cp:coreProperties>
</file>