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CD0-36A8-436F-883A-9B676534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B89-045F-4249-A657-55AD6257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E4A-CB73-4302-A9EE-F002F8DE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319-DF47-4CBF-B109-92546741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2E1-2702-46E0-8B60-636342CF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D94-82A5-4020-883D-D423578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BDD-CE39-4704-9FB7-FF722BD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760-02FE-4437-A6AD-AB90176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F06-D862-4527-95F2-545C15BF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98A-26FF-4621-848E-8012FA62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465-784E-4814-9F99-BBF58CC7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B03-81E8-48D7-BB67-DF8FB41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FB9A-871F-4C64-AF6E-D6A91095A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7080" y="38088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IRE apparaître le corps de la pince « FONTENAY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990720" y="1219320"/>
          <a:ext cx="7315200" cy="51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3152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43A-658C-4208-9324-8E632B9491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6680" y="1295280"/>
          <a:ext cx="18097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18097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191120" y="1676520"/>
          <a:ext cx="4286160" cy="482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676520"/>
                    <a:ext cx="428616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515320" y="304920"/>
            <a:ext cx="45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PERER les fonctions à eff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our concevoir le nouveau c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029200"/>
            <a:ext cx="4952880" cy="68580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%203" descr=""/>
          <p:cNvPicPr/>
          <p:nvPr/>
        </p:nvPicPr>
        <p:blipFill>
          <a:blip r:embed="rId5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E9A-CA23-4E88-A9BB-A217DF62F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838080" y="1219320"/>
          <a:ext cx="1949400" cy="49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1949400" cy="49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343400" y="1676520"/>
          <a:ext cx="4257720" cy="42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676520"/>
                    <a:ext cx="425772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V="1">
            <a:off x="2133720" y="3886200"/>
            <a:ext cx="4952880" cy="8380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%203" descr=""/>
          <p:cNvPicPr/>
          <p:nvPr/>
        </p:nvPicPr>
        <p:blipFill>
          <a:blip r:embed="rId5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94720" y="304920"/>
            <a:ext cx="45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PERER les fonctions à eff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our concevoir le nouveau cor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49F-05EB-4F54-99E7-B5ED67555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35200" y="457200"/>
            <a:ext cx="575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FFACER les fonctions qui correspo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u dispositif « FONTENAY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85800" y="1600200"/>
          <a:ext cx="7104240" cy="473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71042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32A-937C-441F-AA9B-7A5D0514F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6920" y="38088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NALYSER les erreurs présentes dans l’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04920" y="1447920"/>
          <a:ext cx="8601120" cy="44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60112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080-A108-4843-872D-4D34121496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24280" y="3809880"/>
          <a:ext cx="2498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809880"/>
                    <a:ext cx="2498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28680" y="304920"/>
            <a:ext cx="57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u corps CEI 1230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41003" t="23001" r="25004" b="12002"/>
          <a:stretch/>
        </p:blipFill>
        <p:spPr>
          <a:xfrm>
            <a:off x="914400" y="1371600"/>
            <a:ext cx="186048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40002" t="23001" r="23001" b="11334"/>
          <a:stretch/>
        </p:blipFill>
        <p:spPr>
          <a:xfrm>
            <a:off x="3276720" y="1219320"/>
            <a:ext cx="2117520" cy="2819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40002" t="22000" r="21999" b="11000"/>
          <a:stretch/>
        </p:blipFill>
        <p:spPr>
          <a:xfrm>
            <a:off x="5791320" y="1295280"/>
            <a:ext cx="207324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rcRect l="37002" t="24665" r="23001" b="12002"/>
          <a:stretch/>
        </p:blipFill>
        <p:spPr>
          <a:xfrm>
            <a:off x="2209680" y="3962520"/>
            <a:ext cx="221472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IMAGE%203" descr=""/>
          <p:cNvPicPr/>
          <p:nvPr/>
        </p:nvPicPr>
        <p:blipFill>
          <a:blip r:embed="rId7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95480" y="327672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86728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867280"/>
            <a:ext cx="9144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6E2-C739-41C9-89B3-D7FEC60417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%203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495520" y="1157400"/>
          <a:ext cx="4152960" cy="45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5520" y="1157400"/>
                    <a:ext cx="41529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128680" y="304920"/>
            <a:ext cx="57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ception du corps CEI 1230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184-4372-4B84-9743-397A29BAD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20:37:34Z</dcterms:created>
  <dc:creator>Deluche</dc:creator>
  <dc:description/>
  <dc:language>en-US</dc:language>
  <cp:lastModifiedBy>BAC PRO EDPI</cp:lastModifiedBy>
  <dcterms:modified xsi:type="dcterms:W3CDTF">2001-04-06T09:34:18Z</dcterms:modified>
  <cp:revision>18</cp:revision>
  <dc:subject/>
  <dc:title>Présentation PowerPoint</dc:title>
</cp:coreProperties>
</file>