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8F2-FE01-4CBE-9AC2-8E873EA0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A2B-2B4B-4461-9D8A-67A9E890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6E0-7877-4F67-87EF-5FED5E1F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DF0-1ACE-4BB3-BA57-F8ED3107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8EB-DB83-4ADA-B585-45B3D3F1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958-ED9D-47B1-B9CE-5462D933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63E-DC07-4C2C-BFF4-22CBD0F1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262-A904-4EE9-8180-5FA648FD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61D-C7A5-4EAE-8257-DBC0C80C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957-0FE8-4D37-BF77-A2248B15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3B3-34FA-4B5F-9826-ABD6D658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85A9-38F4-4246-90D3-902DA74E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F9E7-1ED6-4192-A23A-71873CBFD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81360" y="317520"/>
            <a:ext cx="72626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voir par assembl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51000"/>
            <a:ext cx="808992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Times New Roman"/>
              </a:rPr>
              <a:t>Métho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naître ou étudier précisément le mécanisme à concevoi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struire chaque piè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ssembler les pièces du mécanisme selon des contraintes fonctionn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érifier le fonctionnement par animatio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diter les documents techniques associés (plans 2D, écorchés, éclatés…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31920" y="301680"/>
            <a:ext cx="695160" cy="539640"/>
            <a:chOff x="331920" y="301680"/>
            <a:chExt cx="695160" cy="539640"/>
          </a:xfrm>
        </p:grpSpPr>
        <p:sp>
          <p:nvSpPr>
            <p:cNvPr id="44" name=""/>
            <p:cNvSpPr/>
            <p:nvPr/>
          </p:nvSpPr>
          <p:spPr>
            <a:xfrm>
              <a:off x="331920" y="301680"/>
              <a:ext cx="695160" cy="53964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Pince%20perspective" descr=""/>
            <p:cNvPicPr/>
            <p:nvPr/>
          </p:nvPicPr>
          <p:blipFill>
            <a:blip r:embed="rId1"/>
            <a:stretch/>
          </p:blipFill>
          <p:spPr>
            <a:xfrm>
              <a:off x="338400" y="313200"/>
              <a:ext cx="685080" cy="51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0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nce pneumat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622840" y="1295280"/>
            <a:ext cx="3322800" cy="1457280"/>
            <a:chOff x="5622840" y="1295280"/>
            <a:chExt cx="3322800" cy="1457280"/>
          </a:xfrm>
        </p:grpSpPr>
        <p:pic>
          <p:nvPicPr>
            <p:cNvPr id="48" name="Pince%204" descr=""/>
            <p:cNvPicPr/>
            <p:nvPr/>
          </p:nvPicPr>
          <p:blipFill>
            <a:blip r:embed="rId1"/>
            <a:stretch/>
          </p:blipFill>
          <p:spPr>
            <a:xfrm>
              <a:off x="5622840" y="1571400"/>
              <a:ext cx="2286000" cy="10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649840" y="1295280"/>
              <a:ext cx="2090880" cy="145728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807320" y="1315800"/>
              <a:ext cx="1138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é positionne-ment des piè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608800" y="2895480"/>
            <a:ext cx="3322440" cy="1457280"/>
            <a:chOff x="5608800" y="2895480"/>
            <a:chExt cx="3322440" cy="1457280"/>
          </a:xfrm>
        </p:grpSpPr>
        <p:pic>
          <p:nvPicPr>
            <p:cNvPr id="52" name="Pince%203" descr=""/>
            <p:cNvPicPr/>
            <p:nvPr/>
          </p:nvPicPr>
          <p:blipFill>
            <a:blip r:embed="rId2"/>
            <a:stretch/>
          </p:blipFill>
          <p:spPr>
            <a:xfrm>
              <a:off x="5608800" y="2976480"/>
              <a:ext cx="22827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648400" y="2895480"/>
              <a:ext cx="2090520" cy="145728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92920" y="2904840"/>
              <a:ext cx="1138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orps  transparent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646600" y="4495680"/>
            <a:ext cx="3270240" cy="1844640"/>
            <a:chOff x="5646600" y="4495680"/>
            <a:chExt cx="3270240" cy="1844640"/>
          </a:xfrm>
        </p:grpSpPr>
        <p:pic>
          <p:nvPicPr>
            <p:cNvPr id="56" name="Pince%201" descr=""/>
            <p:cNvPicPr/>
            <p:nvPr/>
          </p:nvPicPr>
          <p:blipFill>
            <a:blip r:embed="rId3"/>
            <a:stretch/>
          </p:blipFill>
          <p:spPr>
            <a:xfrm>
              <a:off x="5653080" y="4495680"/>
              <a:ext cx="151596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nce%202" descr=""/>
            <p:cNvPicPr/>
            <p:nvPr/>
          </p:nvPicPr>
          <p:blipFill>
            <a:blip r:embed="rId4"/>
            <a:stretch/>
          </p:blipFill>
          <p:spPr>
            <a:xfrm>
              <a:off x="6129360" y="5352840"/>
              <a:ext cx="1547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646600" y="4500360"/>
              <a:ext cx="2090880" cy="1752480"/>
            </a:xfrm>
            <a:prstGeom prst="rect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8880" y="4498920"/>
              <a:ext cx="1137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Simulation cinémati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5280" y="1447920"/>
            <a:ext cx="2178000" cy="5133240"/>
            <a:chOff x="395280" y="1447920"/>
            <a:chExt cx="2178000" cy="5133240"/>
          </a:xfrm>
        </p:grpSpPr>
        <p:grpSp>
          <p:nvGrpSpPr>
            <p:cNvPr id="61" name=""/>
            <p:cNvGrpSpPr/>
            <p:nvPr/>
          </p:nvGrpSpPr>
          <p:grpSpPr>
            <a:xfrm>
              <a:off x="417600" y="1447920"/>
              <a:ext cx="2090520" cy="1464840"/>
              <a:chOff x="417600" y="1447920"/>
              <a:chExt cx="2090520" cy="1464840"/>
            </a:xfrm>
          </p:grpSpPr>
          <p:pic>
            <p:nvPicPr>
              <p:cNvPr id="62" name="Corps%20pince" descr=""/>
              <p:cNvPicPr/>
              <p:nvPr/>
            </p:nvPicPr>
            <p:blipFill>
              <a:blip r:embed="rId5"/>
              <a:stretch/>
            </p:blipFill>
            <p:spPr>
              <a:xfrm>
                <a:off x="498600" y="1447920"/>
                <a:ext cx="1611360" cy="14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417600" y="1455480"/>
                <a:ext cx="2090520" cy="1457280"/>
              </a:xfrm>
              <a:prstGeom prst="rect">
                <a:avLst/>
              </a:prstGeom>
              <a:noFill/>
              <a:ln w="32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414360" y="2944800"/>
              <a:ext cx="2090880" cy="669600"/>
              <a:chOff x="414360" y="2944800"/>
              <a:chExt cx="2090880" cy="669600"/>
            </a:xfrm>
          </p:grpSpPr>
          <p:pic>
            <p:nvPicPr>
              <p:cNvPr id="65" name="Biélette%20pince" descr=""/>
              <p:cNvPicPr/>
              <p:nvPr/>
            </p:nvPicPr>
            <p:blipFill>
              <a:blip r:embed="rId6"/>
              <a:stretch/>
            </p:blipFill>
            <p:spPr>
              <a:xfrm>
                <a:off x="477720" y="2944800"/>
                <a:ext cx="1071720" cy="66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414360" y="2974680"/>
                <a:ext cx="2090880" cy="591480"/>
              </a:xfrm>
              <a:prstGeom prst="rect">
                <a:avLst/>
              </a:prstGeom>
              <a:noFill/>
              <a:ln w="32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11120" y="3628800"/>
              <a:ext cx="2090880" cy="1150560"/>
              <a:chOff x="411120" y="3628800"/>
              <a:chExt cx="2090880" cy="1150560"/>
            </a:xfrm>
          </p:grpSpPr>
          <p:pic>
            <p:nvPicPr>
              <p:cNvPr id="68" name="Doigt%20pince" descr=""/>
              <p:cNvPicPr/>
              <p:nvPr/>
            </p:nvPicPr>
            <p:blipFill>
              <a:blip r:embed="rId7"/>
              <a:stretch/>
            </p:blipFill>
            <p:spPr>
              <a:xfrm>
                <a:off x="463680" y="3628800"/>
                <a:ext cx="1925640" cy="111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411120" y="3628800"/>
                <a:ext cx="2090880" cy="1150560"/>
              </a:xfrm>
              <a:prstGeom prst="rect">
                <a:avLst/>
              </a:prstGeom>
              <a:noFill/>
              <a:ln w="32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407880" y="4836960"/>
              <a:ext cx="2090880" cy="1150560"/>
              <a:chOff x="407880" y="4836960"/>
              <a:chExt cx="2090880" cy="1150560"/>
            </a:xfrm>
          </p:grpSpPr>
          <p:pic>
            <p:nvPicPr>
              <p:cNvPr id="71" name="Piston%20pince" descr=""/>
              <p:cNvPicPr/>
              <p:nvPr/>
            </p:nvPicPr>
            <p:blipFill>
              <a:blip r:embed="rId8"/>
              <a:stretch/>
            </p:blipFill>
            <p:spPr>
              <a:xfrm>
                <a:off x="784080" y="5034960"/>
                <a:ext cx="1162080" cy="93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407880" y="4836960"/>
                <a:ext cx="2090880" cy="1150560"/>
              </a:xfrm>
              <a:prstGeom prst="rect">
                <a:avLst/>
              </a:prstGeom>
              <a:noFill/>
              <a:ln w="32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573280" y="1455480"/>
              <a:ext cx="0" cy="4533840"/>
            </a:xfrm>
            <a:prstGeom prst="line">
              <a:avLst/>
            </a:prstGeom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5280" y="6060960"/>
              <a:ext cx="210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éfinition des Pièces une à u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644920" y="1859040"/>
            <a:ext cx="2754000" cy="4578840"/>
            <a:chOff x="2644920" y="1859040"/>
            <a:chExt cx="2754000" cy="4578840"/>
          </a:xfrm>
        </p:grpSpPr>
        <p:sp>
          <p:nvSpPr>
            <p:cNvPr id="76" name=""/>
            <p:cNvSpPr/>
            <p:nvPr/>
          </p:nvSpPr>
          <p:spPr>
            <a:xfrm>
              <a:off x="2644920" y="3745080"/>
              <a:ext cx="2732040" cy="438120"/>
            </a:xfrm>
            <a:prstGeom prst="rightArrow">
              <a:avLst>
                <a:gd name="adj1" fmla="val 36231"/>
                <a:gd name="adj2" fmla="val 7174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Ecran%20pince" descr=""/>
            <p:cNvPicPr/>
            <p:nvPr/>
          </p:nvPicPr>
          <p:blipFill>
            <a:blip r:embed="rId9"/>
            <a:stretch/>
          </p:blipFill>
          <p:spPr>
            <a:xfrm>
              <a:off x="2717640" y="2235240"/>
              <a:ext cx="2283120" cy="15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nce%205" descr=""/>
            <p:cNvPicPr/>
            <p:nvPr/>
          </p:nvPicPr>
          <p:blipFill>
            <a:blip r:embed="rId10"/>
            <a:stretch/>
          </p:blipFill>
          <p:spPr>
            <a:xfrm>
              <a:off x="2786040" y="4843440"/>
              <a:ext cx="25304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712960" y="4003560"/>
              <a:ext cx="22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ssemblage de la p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60840" y="6130800"/>
              <a:ext cx="26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able d’assemblage « virtuel 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38520" y="1859040"/>
              <a:ext cx="26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ssemblage dans un fich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31920" y="301680"/>
            <a:ext cx="695160" cy="539640"/>
            <a:chOff x="331920" y="301680"/>
            <a:chExt cx="695160" cy="539640"/>
          </a:xfrm>
        </p:grpSpPr>
        <p:sp>
          <p:nvSpPr>
            <p:cNvPr id="83" name=""/>
            <p:cNvSpPr/>
            <p:nvPr/>
          </p:nvSpPr>
          <p:spPr>
            <a:xfrm>
              <a:off x="331920" y="301680"/>
              <a:ext cx="695160" cy="53964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Pince%20perspective" descr=""/>
            <p:cNvPicPr/>
            <p:nvPr/>
          </p:nvPicPr>
          <p:blipFill>
            <a:blip r:embed="rId11"/>
            <a:stretch/>
          </p:blipFill>
          <p:spPr>
            <a:xfrm>
              <a:off x="338400" y="313200"/>
              <a:ext cx="685080" cy="51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oitations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44920" y="1432080"/>
            <a:ext cx="0" cy="49496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41800" y="4648320"/>
            <a:ext cx="5441760" cy="1577880"/>
            <a:chOff x="3241800" y="4648320"/>
            <a:chExt cx="5441760" cy="1577880"/>
          </a:xfrm>
        </p:grpSpPr>
        <p:pic>
          <p:nvPicPr>
            <p:cNvPr id="88" name="Plan%20pince" descr=""/>
            <p:cNvPicPr/>
            <p:nvPr/>
          </p:nvPicPr>
          <p:blipFill>
            <a:blip r:embed="rId1"/>
            <a:stretch/>
          </p:blipFill>
          <p:spPr>
            <a:xfrm>
              <a:off x="4551480" y="4753080"/>
              <a:ext cx="1879560" cy="133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lan%20piston" descr=""/>
            <p:cNvPicPr/>
            <p:nvPr/>
          </p:nvPicPr>
          <p:blipFill>
            <a:blip r:embed="rId2"/>
            <a:stretch/>
          </p:blipFill>
          <p:spPr>
            <a:xfrm>
              <a:off x="6754680" y="4707000"/>
              <a:ext cx="185436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241800" y="5878440"/>
              <a:ext cx="114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lans 2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1000" y="4648320"/>
              <a:ext cx="4192560" cy="157788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505400" y="2819520"/>
            <a:ext cx="3409920" cy="1606320"/>
            <a:chOff x="4505400" y="2819520"/>
            <a:chExt cx="3409920" cy="1606320"/>
          </a:xfrm>
        </p:grpSpPr>
        <p:pic>
          <p:nvPicPr>
            <p:cNvPr id="93" name="PINCE%20photo" descr=""/>
            <p:cNvPicPr/>
            <p:nvPr/>
          </p:nvPicPr>
          <p:blipFill>
            <a:blip r:embed="rId3"/>
            <a:stretch/>
          </p:blipFill>
          <p:spPr>
            <a:xfrm>
              <a:off x="4505400" y="2819520"/>
              <a:ext cx="2141640" cy="160632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sp>
          <p:nvSpPr>
            <p:cNvPr id="94" name=""/>
            <p:cNvSpPr/>
            <p:nvPr/>
          </p:nvSpPr>
          <p:spPr>
            <a:xfrm>
              <a:off x="6765840" y="4100400"/>
              <a:ext cx="11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mager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205080" y="1143000"/>
            <a:ext cx="5440320" cy="1457280"/>
            <a:chOff x="3205080" y="1143000"/>
            <a:chExt cx="5440320" cy="1457280"/>
          </a:xfrm>
        </p:grpSpPr>
        <p:sp>
          <p:nvSpPr>
            <p:cNvPr id="96" name=""/>
            <p:cNvSpPr/>
            <p:nvPr/>
          </p:nvSpPr>
          <p:spPr>
            <a:xfrm>
              <a:off x="4497480" y="1143000"/>
              <a:ext cx="4147920" cy="145728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Eclaté%20pince" descr=""/>
            <p:cNvPicPr/>
            <p:nvPr/>
          </p:nvPicPr>
          <p:blipFill>
            <a:blip r:embed="rId4"/>
            <a:stretch/>
          </p:blipFill>
          <p:spPr>
            <a:xfrm>
              <a:off x="4554360" y="1211400"/>
              <a:ext cx="160992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Ecorché%20pince" descr=""/>
            <p:cNvPicPr/>
            <p:nvPr/>
          </p:nvPicPr>
          <p:blipFill>
            <a:blip r:embed="rId5"/>
            <a:stretch/>
          </p:blipFill>
          <p:spPr>
            <a:xfrm>
              <a:off x="6615000" y="1328760"/>
              <a:ext cx="186084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205080" y="1925640"/>
              <a:ext cx="1149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Éclatés, écorché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52360" y="2879640"/>
            <a:ext cx="4137120" cy="2566800"/>
            <a:chOff x="252360" y="2879640"/>
            <a:chExt cx="4137120" cy="2566800"/>
          </a:xfrm>
        </p:grpSpPr>
        <p:sp>
          <p:nvSpPr>
            <p:cNvPr id="101" name=""/>
            <p:cNvSpPr/>
            <p:nvPr/>
          </p:nvSpPr>
          <p:spPr>
            <a:xfrm>
              <a:off x="2567160" y="3567240"/>
              <a:ext cx="1822320" cy="438120"/>
            </a:xfrm>
            <a:prstGeom prst="rightArrow">
              <a:avLst>
                <a:gd name="adj1" fmla="val 36231"/>
                <a:gd name="adj2" fmla="val 6811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85840" y="2879640"/>
              <a:ext cx="2178000" cy="1828800"/>
              <a:chOff x="285840" y="2879640"/>
              <a:chExt cx="2178000" cy="1828800"/>
            </a:xfrm>
          </p:grpSpPr>
          <p:sp>
            <p:nvSpPr>
              <p:cNvPr id="103" name=""/>
              <p:cNvSpPr/>
              <p:nvPr/>
            </p:nvSpPr>
            <p:spPr>
              <a:xfrm>
                <a:off x="285840" y="2879640"/>
                <a:ext cx="2178000" cy="1828800"/>
              </a:xfrm>
              <a:prstGeom prst="rect">
                <a:avLst/>
              </a:prstGeom>
              <a:noFill/>
              <a:ln w="32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" name="Pince%20perspective" descr=""/>
              <p:cNvPicPr/>
              <p:nvPr/>
            </p:nvPicPr>
            <p:blipFill>
              <a:blip r:embed="rId6"/>
              <a:stretch/>
            </p:blipFill>
            <p:spPr>
              <a:xfrm>
                <a:off x="306360" y="2919240"/>
                <a:ext cx="2146320" cy="1749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>
              <a:off x="2470320" y="3881520"/>
              <a:ext cx="181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ploitations techn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2360" y="4713120"/>
              <a:ext cx="11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aquette numérique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irtuel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31920" y="301680"/>
            <a:ext cx="695160" cy="539640"/>
            <a:chOff x="331920" y="301680"/>
            <a:chExt cx="695160" cy="539640"/>
          </a:xfrm>
        </p:grpSpPr>
        <p:sp>
          <p:nvSpPr>
            <p:cNvPr id="108" name=""/>
            <p:cNvSpPr/>
            <p:nvPr/>
          </p:nvSpPr>
          <p:spPr>
            <a:xfrm>
              <a:off x="331920" y="301680"/>
              <a:ext cx="695160" cy="53964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Pince%20perspective" descr=""/>
            <p:cNvPicPr/>
            <p:nvPr/>
          </p:nvPicPr>
          <p:blipFill>
            <a:blip r:embed="rId7"/>
            <a:stretch/>
          </p:blipFill>
          <p:spPr>
            <a:xfrm>
              <a:off x="338400" y="313200"/>
              <a:ext cx="685080" cy="51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Utilis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30680" y="4667400"/>
            <a:ext cx="2732040" cy="438120"/>
          </a:xfrm>
          <a:prstGeom prst="rightArrow">
            <a:avLst>
              <a:gd name="adj1" fmla="val 36231"/>
              <a:gd name="adj2" fmla="val 71741"/>
            </a:avLst>
          </a:prstGeom>
          <a:gradFill rotWithShape="0">
            <a:gsLst>
              <a:gs pos="0">
                <a:srgbClr val="66ccff"/>
              </a:gs>
              <a:gs pos="100000">
                <a:srgbClr val="00ffff"/>
              </a:gs>
            </a:gsLst>
            <a:lin ang="108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3713040"/>
            <a:ext cx="303192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ans doute peu utilisée en conception pure (hors création de maquettes virtuelles de systèmes exista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ut être utile lors de modifications de systèmes déjà numéris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3657600"/>
            <a:ext cx="0" cy="1905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4664160"/>
            <a:ext cx="22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de vue techn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133720" y="1600200"/>
            <a:ext cx="3428640" cy="1904760"/>
            <a:chOff x="2133720" y="1600200"/>
            <a:chExt cx="3428640" cy="1904760"/>
          </a:xfrm>
        </p:grpSpPr>
        <p:sp>
          <p:nvSpPr>
            <p:cNvPr id="116" name=""/>
            <p:cNvSpPr/>
            <p:nvPr/>
          </p:nvSpPr>
          <p:spPr>
            <a:xfrm>
              <a:off x="2133720" y="1600200"/>
              <a:ext cx="3428640" cy="190476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Pince%20perspective" descr=""/>
            <p:cNvPicPr/>
            <p:nvPr/>
          </p:nvPicPr>
          <p:blipFill>
            <a:blip r:embed="rId1"/>
            <a:stretch/>
          </p:blipFill>
          <p:spPr>
            <a:xfrm>
              <a:off x="2165760" y="1641240"/>
              <a:ext cx="3378600" cy="182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11:29Z</dcterms:created>
  <dc:creator>moi</dc:creator>
  <dc:description/>
  <dc:language>en-US</dc:language>
  <cp:lastModifiedBy>moi</cp:lastModifiedBy>
  <dcterms:modified xsi:type="dcterms:W3CDTF">2005-03-11T05:57:37Z</dcterms:modified>
  <cp:revision>5</cp:revision>
  <dc:subject/>
  <dc:title>1. Concevoir par assemblage</dc:title>
</cp:coreProperties>
</file>