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140-59C3-4513-BCC0-07003589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F99-9C91-469A-AC3F-3422A2F1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339-6B68-4760-9106-51B706F9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4F2-AC79-4391-A178-B5DFD8AF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532-83A0-4899-908E-943B9A8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D8B-2E13-44FF-B244-3F486B3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F9B-970D-4450-B660-1EE62ABC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D44-CEE7-42D7-B9EC-9AAF4A85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5E8-02C1-42EA-96FA-0BF1812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41A-D828-4471-B5B3-87FE81B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029-A6FD-49D1-8910-1E1A9713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07A-9AEB-4501-8E23-A0707EA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5E1D-3062-415D-AD2A-54B8D1C85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voir dans l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052720"/>
            <a:ext cx="8089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éth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la première pièce du mécani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’appuyer sur cette pièce pour construire les autres dans une logique d ’insertion,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ilégiant les relations entre piè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ant des équations liant certaines c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rifier le fonctionnement par animatio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diter les documents techniques associés (plans 2D, écorchés, éclatés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Vérin%2026" descr=""/>
          <p:cNvPicPr/>
          <p:nvPr/>
        </p:nvPicPr>
        <p:blipFill>
          <a:blip r:embed="rId1"/>
          <a:stretch/>
        </p:blipFill>
        <p:spPr>
          <a:xfrm>
            <a:off x="331920" y="85716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: concevoir un vér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11480"/>
            <a:ext cx="808992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nditions de trava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re un vérin pneu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traditionnelle (usin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sation de composant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sins de définition des pièces fabriqu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Vérin%2026" descr=""/>
          <p:cNvPicPr/>
          <p:nvPr/>
        </p:nvPicPr>
        <p:blipFill>
          <a:blip r:embed="rId1"/>
          <a:stretch/>
        </p:blipFill>
        <p:spPr>
          <a:xfrm>
            <a:off x="331920" y="85716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on par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9240" y="1432080"/>
            <a:ext cx="3382920" cy="4949640"/>
            <a:chOff x="219240" y="1432080"/>
            <a:chExt cx="3382920" cy="4949640"/>
          </a:xfrm>
        </p:grpSpPr>
        <p:sp>
          <p:nvSpPr>
            <p:cNvPr id="49" name=""/>
            <p:cNvSpPr/>
            <p:nvPr/>
          </p:nvSpPr>
          <p:spPr>
            <a:xfrm>
              <a:off x="268200" y="3827520"/>
              <a:ext cx="3278160" cy="438120"/>
            </a:xfrm>
            <a:prstGeom prst="rightArrow">
              <a:avLst>
                <a:gd name="adj1" fmla="val 46380"/>
                <a:gd name="adj2" fmla="val 75724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5840" y="2365200"/>
              <a:ext cx="2178000" cy="154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25480" y="1515960"/>
              <a:ext cx="18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truction du Cor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02160" y="1432080"/>
              <a:ext cx="0" cy="494964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9240" y="5738760"/>
              <a:ext cx="258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onstruction du corps: première pièce et vue en 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Vérin%20corps%201" descr=""/>
            <p:cNvPicPr/>
            <p:nvPr/>
          </p:nvPicPr>
          <p:blipFill>
            <a:blip r:embed="rId1"/>
            <a:stretch/>
          </p:blipFill>
          <p:spPr>
            <a:xfrm>
              <a:off x="396720" y="2405160"/>
              <a:ext cx="193860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07800" y="4189320"/>
              <a:ext cx="2178360" cy="154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Vérin%20corps%202" descr=""/>
            <p:cNvPicPr/>
            <p:nvPr/>
          </p:nvPicPr>
          <p:blipFill>
            <a:blip r:embed="rId2"/>
            <a:stretch/>
          </p:blipFill>
          <p:spPr>
            <a:xfrm>
              <a:off x="385920" y="4297320"/>
              <a:ext cx="2020680" cy="12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3718080" y="1171440"/>
            <a:ext cx="4427280" cy="1716120"/>
            <a:chOff x="3718080" y="1171440"/>
            <a:chExt cx="4427280" cy="1716120"/>
          </a:xfrm>
        </p:grpSpPr>
        <p:sp>
          <p:nvSpPr>
            <p:cNvPr id="58" name=""/>
            <p:cNvSpPr/>
            <p:nvPr/>
          </p:nvSpPr>
          <p:spPr>
            <a:xfrm>
              <a:off x="3718080" y="1171440"/>
              <a:ext cx="40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truction du pis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9360" y="1638360"/>
              <a:ext cx="4356000" cy="124920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Vérin%202" descr=""/>
            <p:cNvPicPr/>
            <p:nvPr/>
          </p:nvPicPr>
          <p:blipFill>
            <a:blip r:embed="rId3"/>
            <a:stretch/>
          </p:blipFill>
          <p:spPr>
            <a:xfrm>
              <a:off x="3887640" y="1716120"/>
              <a:ext cx="165744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Vérin%203" descr=""/>
            <p:cNvPicPr/>
            <p:nvPr/>
          </p:nvPicPr>
          <p:blipFill>
            <a:blip r:embed="rId4"/>
            <a:stretch/>
          </p:blipFill>
          <p:spPr>
            <a:xfrm>
              <a:off x="6056280" y="1741320"/>
              <a:ext cx="1851120" cy="102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3714840" y="2924280"/>
            <a:ext cx="4427280" cy="1803240"/>
            <a:chOff x="3714840" y="2924280"/>
            <a:chExt cx="4427280" cy="1803240"/>
          </a:xfrm>
        </p:grpSpPr>
        <p:sp>
          <p:nvSpPr>
            <p:cNvPr id="63" name=""/>
            <p:cNvSpPr/>
            <p:nvPr/>
          </p:nvSpPr>
          <p:spPr>
            <a:xfrm>
              <a:off x="3714840" y="2924280"/>
              <a:ext cx="40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truction de la t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86120" y="3390840"/>
              <a:ext cx="4356000" cy="13366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Vérin%2011" descr=""/>
            <p:cNvPicPr/>
            <p:nvPr/>
          </p:nvPicPr>
          <p:blipFill>
            <a:blip r:embed="rId5"/>
            <a:stretch/>
          </p:blipFill>
          <p:spPr>
            <a:xfrm>
              <a:off x="6093000" y="3635280"/>
              <a:ext cx="190656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Vérin%2012" descr=""/>
            <p:cNvPicPr/>
            <p:nvPr/>
          </p:nvPicPr>
          <p:blipFill>
            <a:blip r:embed="rId6"/>
            <a:stretch/>
          </p:blipFill>
          <p:spPr>
            <a:xfrm>
              <a:off x="3981600" y="3613320"/>
              <a:ext cx="187956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3711600" y="4743360"/>
            <a:ext cx="4427640" cy="1803600"/>
            <a:chOff x="3711600" y="4743360"/>
            <a:chExt cx="4427640" cy="1803600"/>
          </a:xfrm>
        </p:grpSpPr>
        <p:sp>
          <p:nvSpPr>
            <p:cNvPr id="68" name=""/>
            <p:cNvSpPr/>
            <p:nvPr/>
          </p:nvSpPr>
          <p:spPr>
            <a:xfrm>
              <a:off x="3711600" y="4743360"/>
              <a:ext cx="40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truction du flasque av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82880" y="5210280"/>
              <a:ext cx="4356360" cy="13366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Vérin%205" descr=""/>
            <p:cNvPicPr/>
            <p:nvPr/>
          </p:nvPicPr>
          <p:blipFill>
            <a:blip r:embed="rId7"/>
            <a:stretch/>
          </p:blipFill>
          <p:spPr>
            <a:xfrm>
              <a:off x="3868560" y="5378400"/>
              <a:ext cx="197172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Vérin%201" descr=""/>
            <p:cNvPicPr/>
            <p:nvPr/>
          </p:nvPicPr>
          <p:blipFill>
            <a:blip r:embed="rId8"/>
            <a:stretch/>
          </p:blipFill>
          <p:spPr>
            <a:xfrm>
              <a:off x="6168960" y="5383080"/>
              <a:ext cx="1817640" cy="95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Vérin%2026" descr=""/>
          <p:cNvPicPr/>
          <p:nvPr/>
        </p:nvPicPr>
        <p:blipFill>
          <a:blip r:embed="rId9"/>
          <a:stretch/>
        </p:blipFill>
        <p:spPr>
          <a:xfrm>
            <a:off x="331920" y="85716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d’un élément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760" y="1432080"/>
            <a:ext cx="2948040" cy="5135400"/>
            <a:chOff x="347760" y="1432080"/>
            <a:chExt cx="2948040" cy="5135400"/>
          </a:xfrm>
        </p:grpSpPr>
        <p:sp>
          <p:nvSpPr>
            <p:cNvPr id="75" name=""/>
            <p:cNvSpPr/>
            <p:nvPr/>
          </p:nvSpPr>
          <p:spPr>
            <a:xfrm>
              <a:off x="596880" y="3827520"/>
              <a:ext cx="2631960" cy="438120"/>
            </a:xfrm>
            <a:prstGeom prst="rightArrow">
              <a:avLst>
                <a:gd name="adj1" fmla="val 46380"/>
                <a:gd name="adj2" fmla="val 60797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4520" y="2365200"/>
              <a:ext cx="2178000" cy="154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7760" y="1593720"/>
              <a:ext cx="290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cement d’un élément stand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95800" y="1432080"/>
              <a:ext cx="0" cy="513540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7560" y="5738760"/>
              <a:ext cx="258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mportation d’un coussinet normalis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1280" y="4194000"/>
              <a:ext cx="2178000" cy="154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Vérin%2013" descr=""/>
            <p:cNvPicPr/>
            <p:nvPr/>
          </p:nvPicPr>
          <p:blipFill>
            <a:blip r:embed="rId1"/>
            <a:stretch/>
          </p:blipFill>
          <p:spPr>
            <a:xfrm>
              <a:off x="668160" y="2440080"/>
              <a:ext cx="2063880" cy="13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oussinet" descr=""/>
            <p:cNvPicPr/>
            <p:nvPr/>
          </p:nvPicPr>
          <p:blipFill>
            <a:blip r:embed="rId2"/>
            <a:stretch/>
          </p:blipFill>
          <p:spPr>
            <a:xfrm>
              <a:off x="934920" y="4265640"/>
              <a:ext cx="1595520" cy="13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3367080" y="1208160"/>
            <a:ext cx="5138640" cy="1758960"/>
            <a:chOff x="3367080" y="1208160"/>
            <a:chExt cx="5138640" cy="1758960"/>
          </a:xfrm>
        </p:grpSpPr>
        <p:pic>
          <p:nvPicPr>
            <p:cNvPr id="84" name="Vérin%206" descr=""/>
            <p:cNvPicPr/>
            <p:nvPr/>
          </p:nvPicPr>
          <p:blipFill>
            <a:blip r:embed="rId3"/>
            <a:stretch/>
          </p:blipFill>
          <p:spPr>
            <a:xfrm>
              <a:off x="3405240" y="1438200"/>
              <a:ext cx="1477800" cy="13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368520" y="1652760"/>
              <a:ext cx="5133960" cy="13143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Vérin%209" descr=""/>
            <p:cNvPicPr/>
            <p:nvPr/>
          </p:nvPicPr>
          <p:blipFill>
            <a:blip r:embed="rId4"/>
            <a:stretch/>
          </p:blipFill>
          <p:spPr>
            <a:xfrm>
              <a:off x="6719760" y="1709640"/>
              <a:ext cx="149400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367080" y="1208160"/>
              <a:ext cx="51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nement dans l’assembl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48200" y="1763640"/>
              <a:ext cx="19274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Le flasque avant est caché pour faciliter l ’assemblage, le coussinet est monté sur la ti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75000" y="3049560"/>
            <a:ext cx="5138640" cy="1758960"/>
            <a:chOff x="3375000" y="3049560"/>
            <a:chExt cx="5138640" cy="1758960"/>
          </a:xfrm>
        </p:grpSpPr>
        <p:sp>
          <p:nvSpPr>
            <p:cNvPr id="90" name=""/>
            <p:cNvSpPr/>
            <p:nvPr/>
          </p:nvSpPr>
          <p:spPr>
            <a:xfrm>
              <a:off x="3376440" y="3494160"/>
              <a:ext cx="5134320" cy="13143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75000" y="3049560"/>
              <a:ext cx="51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éation de l’alésage dans le flas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Vérin%2014" descr=""/>
            <p:cNvPicPr/>
            <p:nvPr/>
          </p:nvPicPr>
          <p:blipFill>
            <a:blip r:embed="rId5"/>
            <a:stretch/>
          </p:blipFill>
          <p:spPr>
            <a:xfrm>
              <a:off x="3446640" y="3541680"/>
              <a:ext cx="159192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Vérin%2015" descr=""/>
            <p:cNvPicPr/>
            <p:nvPr/>
          </p:nvPicPr>
          <p:blipFill>
            <a:blip r:embed="rId6"/>
            <a:stretch/>
          </p:blipFill>
          <p:spPr>
            <a:xfrm>
              <a:off x="5156280" y="3513240"/>
              <a:ext cx="141264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Vérin%2016" descr=""/>
            <p:cNvPicPr/>
            <p:nvPr/>
          </p:nvPicPr>
          <p:blipFill>
            <a:blip r:embed="rId7"/>
            <a:stretch/>
          </p:blipFill>
          <p:spPr>
            <a:xfrm>
              <a:off x="6921360" y="3602160"/>
              <a:ext cx="123372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3371760" y="4835520"/>
            <a:ext cx="5139000" cy="1758960"/>
            <a:chOff x="3371760" y="4835520"/>
            <a:chExt cx="5139000" cy="1758960"/>
          </a:xfrm>
        </p:grpSpPr>
        <p:sp>
          <p:nvSpPr>
            <p:cNvPr id="96" name=""/>
            <p:cNvSpPr/>
            <p:nvPr/>
          </p:nvSpPr>
          <p:spPr>
            <a:xfrm>
              <a:off x="3373560" y="5280120"/>
              <a:ext cx="5133960" cy="13143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1760" y="4835520"/>
              <a:ext cx="513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ification du flasque av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Vérin%2017" descr=""/>
            <p:cNvPicPr/>
            <p:nvPr/>
          </p:nvPicPr>
          <p:blipFill>
            <a:blip r:embed="rId8"/>
            <a:stretch/>
          </p:blipFill>
          <p:spPr>
            <a:xfrm>
              <a:off x="3492360" y="5405400"/>
              <a:ext cx="130500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Vérin%2018" descr=""/>
            <p:cNvPicPr/>
            <p:nvPr/>
          </p:nvPicPr>
          <p:blipFill>
            <a:blip r:embed="rId9"/>
            <a:stretch/>
          </p:blipFill>
          <p:spPr>
            <a:xfrm>
              <a:off x="5111640" y="5394240"/>
              <a:ext cx="1306800" cy="10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Vérin%2019" descr=""/>
            <p:cNvPicPr/>
            <p:nvPr/>
          </p:nvPicPr>
          <p:blipFill>
            <a:blip r:embed="rId10"/>
            <a:stretch/>
          </p:blipFill>
          <p:spPr>
            <a:xfrm>
              <a:off x="6762600" y="5359320"/>
              <a:ext cx="1573200" cy="10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Vérin%2026" descr=""/>
          <p:cNvPicPr/>
          <p:nvPr/>
        </p:nvPicPr>
        <p:blipFill>
          <a:blip r:embed="rId11"/>
          <a:stretch/>
        </p:blipFill>
        <p:spPr>
          <a:xfrm>
            <a:off x="331920" y="45720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sertion d’une nouvelle piè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4280" y="1432080"/>
            <a:ext cx="2981520" cy="5175000"/>
            <a:chOff x="314280" y="1432080"/>
            <a:chExt cx="2981520" cy="5175000"/>
          </a:xfrm>
        </p:grpSpPr>
        <p:sp>
          <p:nvSpPr>
            <p:cNvPr id="104" name=""/>
            <p:cNvSpPr/>
            <p:nvPr/>
          </p:nvSpPr>
          <p:spPr>
            <a:xfrm>
              <a:off x="596880" y="3827520"/>
              <a:ext cx="2631960" cy="438120"/>
            </a:xfrm>
            <a:prstGeom prst="rightArrow">
              <a:avLst>
                <a:gd name="adj1" fmla="val 46380"/>
                <a:gd name="adj2" fmla="val 60797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520" y="2365200"/>
              <a:ext cx="2178000" cy="154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280" y="1515960"/>
              <a:ext cx="290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éation d’une nouvelle piè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95800" y="1432080"/>
              <a:ext cx="0" cy="513540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Vérin%2013" descr=""/>
            <p:cNvPicPr/>
            <p:nvPr/>
          </p:nvPicPr>
          <p:blipFill>
            <a:blip r:embed="rId1"/>
            <a:stretch/>
          </p:blipFill>
          <p:spPr>
            <a:xfrm>
              <a:off x="668160" y="2440080"/>
              <a:ext cx="2063880" cy="13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Vérin%2021" descr=""/>
            <p:cNvPicPr/>
            <p:nvPr/>
          </p:nvPicPr>
          <p:blipFill>
            <a:blip r:embed="rId2"/>
            <a:stretch/>
          </p:blipFill>
          <p:spPr>
            <a:xfrm>
              <a:off x="752400" y="4253040"/>
              <a:ext cx="183672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98320" y="5781600"/>
              <a:ext cx="212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éfinition d’un plan de trava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3360" y="4214880"/>
              <a:ext cx="2178000" cy="16095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7080" y="1563840"/>
            <a:ext cx="3382920" cy="2054160"/>
            <a:chOff x="3367080" y="1563840"/>
            <a:chExt cx="3382920" cy="2054160"/>
          </a:xfrm>
        </p:grpSpPr>
        <p:sp>
          <p:nvSpPr>
            <p:cNvPr id="113" name=""/>
            <p:cNvSpPr/>
            <p:nvPr/>
          </p:nvSpPr>
          <p:spPr>
            <a:xfrm>
              <a:off x="3462480" y="3062160"/>
              <a:ext cx="186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hoix de l ’arête à proj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68520" y="2008080"/>
              <a:ext cx="3381480" cy="160992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7080" y="156384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jection du cylind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Vérin%2022" descr=""/>
            <p:cNvPicPr/>
            <p:nvPr/>
          </p:nvPicPr>
          <p:blipFill>
            <a:blip r:embed="rId3"/>
            <a:stretch/>
          </p:blipFill>
          <p:spPr>
            <a:xfrm>
              <a:off x="3479760" y="2060640"/>
              <a:ext cx="1285920" cy="10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Vérin%2023" descr=""/>
            <p:cNvPicPr/>
            <p:nvPr/>
          </p:nvPicPr>
          <p:blipFill>
            <a:blip r:embed="rId4"/>
            <a:stretch/>
          </p:blipFill>
          <p:spPr>
            <a:xfrm>
              <a:off x="5191200" y="2092320"/>
              <a:ext cx="13240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191200" y="3051000"/>
              <a:ext cx="131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xtrusion du cent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Vérin%2026" descr=""/>
          <p:cNvPicPr/>
          <p:nvPr/>
        </p:nvPicPr>
        <p:blipFill>
          <a:blip r:embed="rId5"/>
          <a:stretch/>
        </p:blipFill>
        <p:spPr>
          <a:xfrm>
            <a:off x="6684840" y="3349800"/>
            <a:ext cx="2206800" cy="16509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grpSp>
        <p:nvGrpSpPr>
          <p:cNvPr id="120" name=""/>
          <p:cNvGrpSpPr/>
          <p:nvPr/>
        </p:nvGrpSpPr>
        <p:grpSpPr>
          <a:xfrm>
            <a:off x="3375000" y="4363920"/>
            <a:ext cx="3427560" cy="2054520"/>
            <a:chOff x="3375000" y="4363920"/>
            <a:chExt cx="3427560" cy="2054520"/>
          </a:xfrm>
        </p:grpSpPr>
        <p:sp>
          <p:nvSpPr>
            <p:cNvPr id="121" name=""/>
            <p:cNvSpPr/>
            <p:nvPr/>
          </p:nvSpPr>
          <p:spPr>
            <a:xfrm>
              <a:off x="3470400" y="5862600"/>
              <a:ext cx="149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hoix de l ’arête à proj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76440" y="4808520"/>
              <a:ext cx="3426120" cy="160992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75000" y="4363920"/>
              <a:ext cx="337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jection du flas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Vérin%2024" descr=""/>
            <p:cNvPicPr/>
            <p:nvPr/>
          </p:nvPicPr>
          <p:blipFill>
            <a:blip r:embed="rId6"/>
            <a:stretch/>
          </p:blipFill>
          <p:spPr>
            <a:xfrm>
              <a:off x="3494160" y="4924440"/>
              <a:ext cx="13428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Vérin%2025" descr=""/>
            <p:cNvPicPr/>
            <p:nvPr/>
          </p:nvPicPr>
          <p:blipFill>
            <a:blip r:embed="rId7"/>
            <a:stretch/>
          </p:blipFill>
          <p:spPr>
            <a:xfrm>
              <a:off x="5292720" y="4915080"/>
              <a:ext cx="1405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245200" y="5862600"/>
              <a:ext cx="131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xtrusion du cor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Vérin%2026" descr=""/>
          <p:cNvPicPr/>
          <p:nvPr/>
        </p:nvPicPr>
        <p:blipFill>
          <a:blip r:embed="rId8"/>
          <a:stretch/>
        </p:blipFill>
        <p:spPr>
          <a:xfrm>
            <a:off x="331920" y="533520"/>
            <a:ext cx="695160" cy="54612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676680"/>
            <a:ext cx="2732040" cy="438120"/>
          </a:xfrm>
          <a:prstGeom prst="rightArrow">
            <a:avLst>
              <a:gd name="adj1" fmla="val 36231"/>
              <a:gd name="adj2" fmla="val 71741"/>
            </a:avLst>
          </a:prstGeom>
          <a:gradFill rotWithShape="0">
            <a:gsLst>
              <a:gs pos="0">
                <a:srgbClr val="66ccff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2874960"/>
            <a:ext cx="3032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Sans doute très utilisée en conception pure, lorsque le concepteur développe une recherche d ’avant-projet sans contraintes particul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Mode de conception très puissant, rapide et effic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50532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de vue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Vérin%2026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182680" cy="171468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943600" y="2819520"/>
            <a:ext cx="0" cy="213336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14:38Z</dcterms:created>
  <dc:creator>moi</dc:creator>
  <dc:description/>
  <dc:language>en-US</dc:language>
  <cp:lastModifiedBy>moi</cp:lastModifiedBy>
  <dcterms:modified xsi:type="dcterms:W3CDTF">2005-03-11T05:54:16Z</dcterms:modified>
  <cp:revision>4</cp:revision>
  <dc:subject/>
  <dc:title>Concevoir dans l’assemblage</dc:title>
</cp:coreProperties>
</file>