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5.jpeg" ContentType="image/jpeg"/>
  <Override PartName="/ppt/media/image2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2BB-0494-40DF-9EEC-6CC2566A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763-C3FD-40CF-A053-F3EBB12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4ED-991E-4518-9567-F34EF30F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477-60B8-43F5-95EA-251B7DF5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A1C-7B31-4DA1-8194-7D80341F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355-E320-45B3-8B40-E4E1C4C9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24A-CA8E-41D2-B3C8-E83D074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9BA-5F6C-4B9A-B64C-46C6D6B6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D9F-57ED-4A33-AD76-BB3A55B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9B3-980E-474C-9E40-A5DBB08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681-08D5-447F-82A7-4242E82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A72-D58B-402C-B1CB-146947C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10E2-6EF5-476C-89D2-E7CA1004D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2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wmf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6589800"/>
            <a:ext cx="129528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6248520"/>
            <a:ext cx="1752480" cy="3070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ycée Rascol A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4952880"/>
            <a:ext cx="5333760" cy="631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. ESTADIE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ec la collaboration de  F. BLECUA ( Prof stagiaire IUF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ulinetmonté" descr=""/>
          <p:cNvPicPr/>
          <p:nvPr/>
        </p:nvPicPr>
        <p:blipFill>
          <a:blip r:embed="rId4"/>
          <a:stretch/>
        </p:blipFill>
        <p:spPr>
          <a:xfrm>
            <a:off x="990720" y="3200400"/>
            <a:ext cx="182880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7" name=""/>
          <p:cNvSpPr/>
          <p:nvPr/>
        </p:nvSpPr>
        <p:spPr>
          <a:xfrm>
            <a:off x="1295280" y="58039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99"/>
                </a:solidFill>
                <a:latin typeface="Arial"/>
              </a:rPr>
              <a:t>Site internet :www.alinfodc.com / shimano /   le modèle DX4000 est référencé AX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shiman" descr=""/>
          <p:cNvPicPr/>
          <p:nvPr/>
        </p:nvPicPr>
        <p:blipFill>
          <a:blip r:embed="rId5"/>
          <a:stretch/>
        </p:blipFill>
        <p:spPr>
          <a:xfrm>
            <a:off x="1003320" y="2384280"/>
            <a:ext cx="1828800" cy="6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imano-corrigé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A06-A6D9-42AE-BFBE-3F188663A5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 flipH="1" rot="16200000">
            <a:off x="548568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 1 et T STI Génie mé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86200" y="6586560"/>
            <a:ext cx="1295280" cy="2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152280" y="304920"/>
          <a:ext cx="8610840" cy="5732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04920"/>
                    <a:ext cx="861084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F57-6FCB-4542-B395-3B74776315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886200" y="6589800"/>
            <a:ext cx="1295280" cy="266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670200" y="6286680"/>
            <a:ext cx="2108160" cy="3070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ycée Rascol A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441-606F-4038-BD4B-748FED1D84D1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705720" y="1143000"/>
            <a:ext cx="2136240" cy="1031400"/>
            <a:chOff x="6705720" y="1143000"/>
            <a:chExt cx="2136240" cy="1031400"/>
          </a:xfrm>
        </p:grpSpPr>
        <p:sp>
          <p:nvSpPr>
            <p:cNvPr id="51" name=""/>
            <p:cNvSpPr/>
            <p:nvPr/>
          </p:nvSpPr>
          <p:spPr>
            <a:xfrm>
              <a:off x="6752880" y="1337400"/>
              <a:ext cx="2089080" cy="8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a50021"/>
                  </a:solidFill>
                  <a:latin typeface="Arial"/>
                </a:rPr>
                <a:t>Fil + appât / pois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05720" y="1143000"/>
              <a:ext cx="1642680" cy="68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645240" y="3483000"/>
            <a:ext cx="1814040" cy="1167840"/>
            <a:chOff x="6645240" y="3483000"/>
            <a:chExt cx="1814040" cy="1167840"/>
          </a:xfrm>
        </p:grpSpPr>
        <p:sp>
          <p:nvSpPr>
            <p:cNvPr id="54" name=""/>
            <p:cNvSpPr/>
            <p:nvPr/>
          </p:nvSpPr>
          <p:spPr>
            <a:xfrm>
              <a:off x="6787440" y="3657960"/>
              <a:ext cx="1671840" cy="9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cc00"/>
                  </a:solidFill>
                  <a:latin typeface="Arial"/>
                </a:rPr>
                <a:t>Sable , poussière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cc00"/>
                  </a:solidFill>
                  <a:latin typeface="Arial"/>
                </a:rPr>
                <a:t>eau, 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45240" y="3483000"/>
              <a:ext cx="1643400" cy="68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86200" y="6589800"/>
            <a:ext cx="1295280" cy="26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4240" y="53352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65560" y="609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mitée à la phase uti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1972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SP : modifier ( raccourcir / allonger ) la longueur  et assurer la sécurité de la ligne de pê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33412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1 : être « contrôlable » par le pêch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9436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3 : résister au milieu amb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00003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85800" y="1447920"/>
            <a:ext cx="2922480" cy="2152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5" name=""/>
          <p:cNvGrpSpPr/>
          <p:nvPr/>
        </p:nvGrpSpPr>
        <p:grpSpPr>
          <a:xfrm>
            <a:off x="3975120" y="1233360"/>
            <a:ext cx="4635360" cy="3272040"/>
            <a:chOff x="3975120" y="1233360"/>
            <a:chExt cx="4635360" cy="3272040"/>
          </a:xfrm>
        </p:grpSpPr>
        <p:grpSp>
          <p:nvGrpSpPr>
            <p:cNvPr id="66" name=""/>
            <p:cNvGrpSpPr/>
            <p:nvPr/>
          </p:nvGrpSpPr>
          <p:grpSpPr>
            <a:xfrm>
              <a:off x="3975120" y="1233360"/>
              <a:ext cx="1595160" cy="1032120"/>
              <a:chOff x="3975120" y="1233360"/>
              <a:chExt cx="1595160" cy="1032120"/>
            </a:xfrm>
          </p:grpSpPr>
          <p:sp>
            <p:nvSpPr>
              <p:cNvPr id="67" name=""/>
              <p:cNvSpPr/>
              <p:nvPr/>
            </p:nvSpPr>
            <p:spPr>
              <a:xfrm>
                <a:off x="4069800" y="1428120"/>
                <a:ext cx="1500480" cy="83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73c6ff"/>
                    </a:solidFill>
                    <a:latin typeface="Arial"/>
                  </a:rPr>
                  <a:t>Can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120" y="1233360"/>
                <a:ext cx="854640" cy="68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051440" y="3443400"/>
              <a:ext cx="1004760" cy="1062000"/>
              <a:chOff x="4051440" y="3443400"/>
              <a:chExt cx="1004760" cy="1062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87440" y="3628440"/>
                <a:ext cx="968760" cy="87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6600"/>
                    </a:solidFill>
                    <a:latin typeface="Arial"/>
                  </a:rPr>
                  <a:t>Pêch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51440" y="3443400"/>
                <a:ext cx="854640" cy="682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894200" y="1886040"/>
              <a:ext cx="2033640" cy="1625400"/>
              <a:chOff x="4894200" y="1886040"/>
              <a:chExt cx="2033640" cy="1625400"/>
            </a:xfrm>
          </p:grpSpPr>
          <p:pic>
            <p:nvPicPr>
              <p:cNvPr id="73" name="moulinetmonté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5080" y="1997640"/>
                <a:ext cx="1749240" cy="14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4894200" y="1886040"/>
                <a:ext cx="2033640" cy="1625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697280" y="1676520"/>
              <a:ext cx="2084400" cy="542880"/>
            </a:xfrm>
            <a:custGeom>
              <a:avLst/>
              <a:gdLst/>
              <a:ahLst/>
              <a:rect l="l" t="t" r="r" b="b"/>
              <a:pathLst>
                <a:path w="3300" h="830">
                  <a:moveTo>
                    <a:pt x="0" y="210"/>
                  </a:moveTo>
                  <a:cubicBezTo>
                    <a:pt x="632" y="520"/>
                    <a:pt x="1265" y="830"/>
                    <a:pt x="1815" y="795"/>
                  </a:cubicBezTo>
                  <a:cubicBezTo>
                    <a:pt x="2365" y="760"/>
                    <a:pt x="3053" y="127"/>
                    <a:pt x="33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830840" y="3258720"/>
              <a:ext cx="32220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644880" y="3268440"/>
              <a:ext cx="274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51560" y="1943280"/>
              <a:ext cx="13590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49760" y="3227400"/>
              <a:ext cx="9684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0" y="2362320"/>
              <a:ext cx="10065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91520" y="2362320"/>
              <a:ext cx="121896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cc00"/>
                  </a:solidFill>
                  <a:latin typeface="Arial"/>
                </a:rPr>
                <a:t>Poissons à l ’aff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22096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934320" y="25905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5720" y="320040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85800" y="56386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2 : ne pas effrayer les poissons ( brui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038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ff"/>
                </a:solidFill>
                <a:latin typeface="Arial"/>
              </a:rPr>
              <a:t>Fonction de servic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029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ff"/>
                </a:solidFill>
                <a:latin typeface="Arial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25146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40384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352680"/>
            <a:ext cx="15228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666880"/>
            <a:ext cx="152640" cy="15264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514600"/>
            <a:ext cx="152640" cy="152280"/>
          </a:xfrm>
          <a:prstGeom prst="star5">
            <a:avLst/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2860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819520"/>
            <a:ext cx="152280" cy="152280"/>
          </a:xfrm>
          <a:prstGeom prst="star5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819520"/>
            <a:ext cx="152280" cy="152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2819520"/>
            <a:ext cx="152280" cy="152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D82-138B-4F04-A037-1B65CF63CC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moulinetmonté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33560" y="552600"/>
            <a:ext cx="7076880" cy="575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86200" y="6589800"/>
            <a:ext cx="129528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038480" y="6591240"/>
            <a:ext cx="1295640" cy="266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038480" y="6591240"/>
            <a:ext cx="1295640" cy="266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47920" y="1498680"/>
            <a:ext cx="579096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4960" y="2349360"/>
            <a:ext cx="5626080" cy="39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4960" y="3238560"/>
            <a:ext cx="6934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64040"/>
            <a:ext cx="58417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4960" y="4902120"/>
            <a:ext cx="5499360" cy="41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Décomposition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523880"/>
            <a:ext cx="59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1 : Recevoir une quantité de fil adapté au type de pêche prati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381400"/>
            <a:ext cx="583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2 : Permettre le lancé ( allongement rapide )de la ligne de pê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34960" y="328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3 : Raccourcir lentement et à vitesse sensiblement constante la ligne de pê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0957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4 : Laisser la ligne s ’allonger librement sous l ’action d ’une 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952880"/>
            <a:ext cx="61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5 : Limiter l ’effort de traction sur la ligne ( prise, accrochag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238560"/>
            <a:ext cx="787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2680" y="1701720"/>
            <a:ext cx="0" cy="340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92240" y="34290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2680" y="170172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2680" y="2527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8268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82680" y="42670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82680" y="50799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BD0-F105-482C-BBB7-667BAB53D9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98800" y="6591240"/>
            <a:ext cx="1295640" cy="266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12880" y="5587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Fonction technique F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9160" y="1371600"/>
            <a:ext cx="67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320840"/>
            <a:ext cx="596916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T1 : Recevoir une quantité de fil adapté au type de pêche prati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iaison%20temporaire%20bobine" descr=""/>
          <p:cNvPicPr/>
          <p:nvPr/>
        </p:nvPicPr>
        <p:blipFill>
          <a:blip r:embed="rId2"/>
          <a:stretch/>
        </p:blipFill>
        <p:spPr>
          <a:xfrm>
            <a:off x="4564080" y="1873080"/>
            <a:ext cx="3427560" cy="278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8" name=""/>
          <p:cNvSpPr/>
          <p:nvPr/>
        </p:nvSpPr>
        <p:spPr>
          <a:xfrm>
            <a:off x="3886200" y="30481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00001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762120" y="1828800"/>
            <a:ext cx="2930400" cy="2660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0" name=""/>
          <p:cNvSpPr/>
          <p:nvPr/>
        </p:nvSpPr>
        <p:spPr>
          <a:xfrm>
            <a:off x="4521240" y="4902120"/>
            <a:ext cx="3517920" cy="91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11 : stocker de façon ordonnée le fil adéquat sur une bo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12 : assurer une liaison complète et démontable entre la bobine et l ’arbre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verrouillagebobine" descr=""/>
          <p:cNvPicPr/>
          <p:nvPr/>
        </p:nvPicPr>
        <p:blipFill>
          <a:blip r:embed="rId4"/>
          <a:stretch/>
        </p:blipFill>
        <p:spPr>
          <a:xfrm>
            <a:off x="1066680" y="4572000"/>
            <a:ext cx="2428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3809880" y="5029200"/>
            <a:ext cx="457200" cy="485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11140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29740"/>
              <a:gd name="adj5" fmla="val 178671"/>
              <a:gd name="adj6" fmla="val 149972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6172200"/>
            <a:ext cx="111744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28407"/>
              <a:gd name="adj5" fmla="val -150972"/>
              <a:gd name="adj6" fmla="val -49981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rbre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44520" y="464832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132328"/>
              <a:gd name="adj5" fmla="val 166189"/>
              <a:gd name="adj6" fmla="val 155152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DEB-F431-424C-9C9A-C689A28C2B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581640" cy="343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8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600" y="825480"/>
            <a:ext cx="388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040" y="62244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Fonction technique F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1574640"/>
            <a:ext cx="61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680" y="1409760"/>
            <a:ext cx="5905440" cy="39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T2 : Permettre le lancé (allongement rapide )  de la ligne de pê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898800" y="6591240"/>
            <a:ext cx="1295640" cy="266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26360" y="4762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209680"/>
            <a:ext cx="38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7c80"/>
                </a:solidFill>
                <a:latin typeface="Arial"/>
              </a:rPr>
              <a:t>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00002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61960" y="1936800"/>
            <a:ext cx="3165480" cy="2222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0" name=""/>
          <p:cNvSpPr/>
          <p:nvPr/>
        </p:nvSpPr>
        <p:spPr>
          <a:xfrm>
            <a:off x="4419720" y="5562720"/>
            <a:ext cx="3949560" cy="55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21 : éclipser et maintenir en position la barr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22 : laisser le fil se dévider lib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6483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266688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43967"/>
              <a:gd name="adj5" fmla="val 63194"/>
              <a:gd name="adj6" fmla="val -79282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rr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4648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638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6248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E69-844E-464D-9222-37B5ABBBA0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80" y="609480"/>
            <a:ext cx="38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Fonction technique F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46052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800" y="1130400"/>
            <a:ext cx="6934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T3 : Raccourcir lentement et à vitesse sensiblement constante la ligne de pê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98800" y="6591240"/>
            <a:ext cx="1295640" cy="266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46520" y="3200400"/>
            <a:ext cx="393840" cy="380880"/>
          </a:xfrm>
          <a:prstGeom prst="rightArrow">
            <a:avLst>
              <a:gd name="adj1" fmla="val 50000"/>
              <a:gd name="adj2" fmla="val 25851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235400" y="1654200"/>
            <a:ext cx="4013280" cy="309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3" name=""/>
          <p:cNvSpPr/>
          <p:nvPr/>
        </p:nvSpPr>
        <p:spPr>
          <a:xfrm>
            <a:off x="4305240" y="165096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7c80"/>
                </a:solidFill>
                <a:latin typeface="Arial"/>
              </a:rPr>
              <a:t>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00007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82760" y="1676520"/>
            <a:ext cx="316692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5" name=""/>
          <p:cNvSpPr/>
          <p:nvPr/>
        </p:nvSpPr>
        <p:spPr>
          <a:xfrm>
            <a:off x="4229280" y="4876920"/>
            <a:ext cx="4038480" cy="137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31 : ramener et maintenir la barrière en position rabattue / 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32 : faire tourner le rotor autour de son axe) / corps; en interdisant tout retour en arr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33 : animer la bobine d ’un mouvement de translation alternatif suivant son axe / 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191120"/>
          <a:ext cx="3166920" cy="23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91120"/>
                    <a:ext cx="3166920" cy="238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33920" y="4419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8108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37282"/>
              <a:gd name="adj5" fmla="val 48240"/>
              <a:gd name="adj6" fmla="val -65509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rr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243828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81680"/>
              <a:gd name="adj5" fmla="val 63194"/>
              <a:gd name="adj6" fmla="val -156421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320040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129092"/>
              <a:gd name="adj5" fmla="val -236537"/>
              <a:gd name="adj6" fmla="val 149532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267080"/>
            <a:ext cx="73656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95259"/>
              <a:gd name="adj5" fmla="val -109101"/>
              <a:gd name="adj6" fmla="val -184023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741-A1D7-4559-AFEC-21F544CC4B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210040" cy="1770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98800" y="6591240"/>
            <a:ext cx="1295640" cy="266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58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Fonction technique F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960" y="1359000"/>
            <a:ext cx="482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3840" y="1308240"/>
            <a:ext cx="600696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T4 : Laisser la ligne s ’allonger librement sous l ’action d ’une 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nti%20dériveur%20rotor" descr=""/>
          <p:cNvPicPr/>
          <p:nvPr/>
        </p:nvPicPr>
        <p:blipFill>
          <a:blip r:embed="rId3"/>
          <a:stretch/>
        </p:blipFill>
        <p:spPr>
          <a:xfrm>
            <a:off x="4335480" y="1898640"/>
            <a:ext cx="3970440" cy="322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0" name=""/>
          <p:cNvSpPr/>
          <p:nvPr/>
        </p:nvSpPr>
        <p:spPr>
          <a:xfrm>
            <a:off x="3759120" y="316224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00005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78000" y="1873080"/>
            <a:ext cx="3270240" cy="2544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2" name=""/>
          <p:cNvSpPr/>
          <p:nvPr/>
        </p:nvSpPr>
        <p:spPr>
          <a:xfrm>
            <a:off x="4648320" y="5638680"/>
            <a:ext cx="361944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41 : autoriser la réversibilité des mouvements du rotor et de la bobine / cor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4451400"/>
            <a:ext cx="144792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12171"/>
              <a:gd name="adj5" fmla="val -237708"/>
              <a:gd name="adj6" fmla="val -19287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iquet anti-re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648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7c80"/>
                </a:solidFill>
                <a:latin typeface="Arial"/>
              </a:rPr>
              <a:t>AN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cliquetantiretour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1218960" cy="879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8FC-A2D1-4733-B5AB-3E42531F54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frein%20de%20combat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3609720" cy="293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8" name="detailfrein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209680" y="4952880"/>
            <a:ext cx="152424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898800" y="6591240"/>
            <a:ext cx="1295640" cy="266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 fonctionnel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6560" y="673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Fonction technique F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71600"/>
            <a:ext cx="5562720" cy="41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T5 : Limiter l ’effort de traction sur la ligne ( prise, accrochag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00006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441360" y="2016000"/>
            <a:ext cx="3278160" cy="269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95" name=""/>
          <p:cNvSpPr/>
          <p:nvPr/>
        </p:nvSpPr>
        <p:spPr>
          <a:xfrm>
            <a:off x="4241880" y="5168880"/>
            <a:ext cx="365760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51 : limiter le moment exercé par le fil sur la bobine en autorisant un mouvement de rotation sous charge de la bobine autour de son axe / 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25780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362320"/>
            <a:ext cx="1523880" cy="276480"/>
          </a:xfrm>
          <a:prstGeom prst="borderCallout2">
            <a:avLst>
              <a:gd name="adj1" fmla="val 18750"/>
              <a:gd name="adj2" fmla="val -8333"/>
              <a:gd name="adj3" fmla="val 40222"/>
              <a:gd name="adj4" fmla="val -34064"/>
              <a:gd name="adj5" fmla="val 352143"/>
              <a:gd name="adj6" fmla="val -64569"/>
            </a:avLst>
          </a:prstGeom>
          <a:solidFill>
            <a:srgbClr val="73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iteur de cou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freindx1000" descr=""/>
          <p:cNvPicPr/>
          <p:nvPr/>
        </p:nvPicPr>
        <p:blipFill>
          <a:blip r:embed="rId5"/>
          <a:stretch/>
        </p:blipFill>
        <p:spPr>
          <a:xfrm>
            <a:off x="457200" y="4952880"/>
            <a:ext cx="1523880" cy="120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0" name=""/>
          <p:cNvSpPr/>
          <p:nvPr/>
        </p:nvSpPr>
        <p:spPr>
          <a:xfrm>
            <a:off x="1295280" y="5943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943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X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77040" y="4572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DBA-413F-40D4-8151-5E5CEE0DB3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98800" y="6591240"/>
            <a:ext cx="1295640" cy="266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051440" y="6591240"/>
            <a:ext cx="1295280" cy="26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 rot="16200000">
            <a:off x="5487120" y="3198960"/>
            <a:ext cx="6858000" cy="459720"/>
          </a:xfrm>
          <a:prstGeom prst="rect">
            <a:avLst/>
          </a:prstGeom>
          <a:gradFill rotWithShape="0">
            <a:gsLst>
              <a:gs pos="0">
                <a:srgbClr val="2187a9"/>
              </a:gs>
              <a:gs pos="50000">
                <a:srgbClr val="33ccff"/>
              </a:gs>
              <a:gs pos="100000">
                <a:srgbClr val="21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hèse de l ’analyse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360" y="1955880"/>
            <a:ext cx="3924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360" y="2793960"/>
            <a:ext cx="3377880" cy="241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360" y="3683160"/>
            <a:ext cx="3213000" cy="49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3 : Raccourcir lentement et à vitesse sensiblem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stante la ligne de pê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960" y="4762440"/>
            <a:ext cx="2425680" cy="266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1360" y="5346720"/>
            <a:ext cx="2539800" cy="266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960" y="1968480"/>
            <a:ext cx="602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1 : Recevoir une quantité de fil adapté au type de pêche pratiqué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6560" y="2813040"/>
            <a:ext cx="583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2 : Autoriser un allongement rapide de la ligne de pê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794120"/>
            <a:ext cx="707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4 : Laisser la ligne s ’allonger lib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960" y="5397480"/>
            <a:ext cx="618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FT5 : Limiter l ’effort de traction sur la lig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720" y="1536840"/>
            <a:ext cx="0" cy="40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8720" y="214632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872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720" y="3873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8720" y="49150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720" y="55245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" y="1257480"/>
            <a:ext cx="4622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SP : modifier ( raccourcir ou allonger ) la longueur de la ligne de pê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27680" y="1828800"/>
            <a:ext cx="3517920" cy="57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11 : stocker de façon ordonnée le fil adéquat sur une bob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12 : assurer une liaison complète et démontable entre la bobine et l ’arbre 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3480" y="2679840"/>
            <a:ext cx="2832120" cy="43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21 : éclipser et maintenir en position la barriè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22 : laisser le fil se dévider lib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06760" y="3479760"/>
            <a:ext cx="4038840" cy="922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31 : ramener et maintenir la barrière en position rabattue / cor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32 : faire tourner le rotor autour de son axe) / corps; en interdisant tout retour en arriè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33 : animer la bobine d ’un mouvement de translation alternatif suivant son axe / cor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1360" y="4737240"/>
            <a:ext cx="36194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41 : autoriser la réversibilité des mouvements du rotor et de la bobine / cor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308560"/>
            <a:ext cx="3657600" cy="505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51 : limiter le moment exercé par le fil sur la bobine en autorisant un mouvement de rotation sous charge de la bobine autour de son axe / cor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35360" y="20700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02200" y="29210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3936960"/>
            <a:ext cx="48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2240" y="4915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51160" y="549900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50796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Synthè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4880" y="72396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6600"/>
                </a:solidFill>
                <a:latin typeface="Arial"/>
              </a:rPr>
              <a:t>Pour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12160" y="723960"/>
            <a:ext cx="10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6600"/>
                </a:solidFill>
                <a:latin typeface="Arial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26360" y="1295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6600"/>
                </a:solidFill>
                <a:latin typeface="Arial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88200" y="87624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69080" y="96516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057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3657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ycée Rascol Alb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110-E4C9-4806-A1E2-3981014C03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7:48:02Z</dcterms:created>
  <dc:creator>ESTADIEU Guy</dc:creator>
  <dc:description/>
  <dc:language>en-US</dc:language>
  <cp:lastModifiedBy>ESTADIEU Guy</cp:lastModifiedBy>
  <cp:lastPrinted>2000-03-14T10:20:24Z</cp:lastPrinted>
  <dcterms:modified xsi:type="dcterms:W3CDTF">2000-03-31T07:33:47Z</dcterms:modified>
  <cp:revision>93</cp:revision>
  <dc:subject/>
  <dc:title>Aucun titre de diapositive</dc:title>
</cp:coreProperties>
</file>