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CE9-7DD0-41EF-871F-2F225C02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327-8904-43AB-BB68-378A920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532-3C2D-47A5-A735-22E03795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2B2-DF8C-4F94-BE79-E6C6DE03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B34-DD5C-4C46-8B6C-D3B4F2E7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3C4-9D55-41E0-9B7F-AD720C05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876-37AA-4C6C-B937-F62D121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629-F51B-4528-B4E9-F7966447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11C-2EE3-4DDD-B54B-69DC148B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9EB-B920-4E28-9CD9-77C3119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5D7-01B5-44CD-AEDA-D8677C5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FA1-E9D9-4BFB-A5F0-2A4A792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5E3-0ECF-4BC2-87B9-6449FFF5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2680" y="260280"/>
            <a:ext cx="3957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r mou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e aérienne, plonge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mier cô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0813" t="23419" r="15301" b="14564"/>
          <a:stretch/>
        </p:blipFill>
        <p:spPr>
          <a:xfrm>
            <a:off x="2340000" y="1700280"/>
            <a:ext cx="525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3759" t="21465" r="15301" b="14564"/>
          <a:stretch/>
        </p:blipFill>
        <p:spPr>
          <a:xfrm>
            <a:off x="2340000" y="1270080"/>
            <a:ext cx="4968720" cy="46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5080" y="260280"/>
            <a:ext cx="3877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r mou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e aérienne, plong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 cô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0813" t="22439" r="16032" b="13585"/>
          <a:stretch/>
        </p:blipFill>
        <p:spPr>
          <a:xfrm>
            <a:off x="2411280" y="1270080"/>
            <a:ext cx="518508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67480" y="260280"/>
            <a:ext cx="3615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r mou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e aérienne, en coup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ue intérie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0813" t="23419" r="13817" b="13585"/>
          <a:stretch/>
        </p:blipFill>
        <p:spPr>
          <a:xfrm>
            <a:off x="1979640" y="119700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96280" y="260280"/>
            <a:ext cx="3556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r mou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e aérienne, en c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ue extérie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32275" t="31294" r="11606" b="10636"/>
          <a:stretch/>
        </p:blipFill>
        <p:spPr>
          <a:xfrm>
            <a:off x="2050920" y="1628640"/>
            <a:ext cx="5473800" cy="424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03160" y="260280"/>
            <a:ext cx="435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r mou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e par le dessous, en c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ue intérie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04800" y="260280"/>
            <a:ext cx="2934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r mou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e par le dess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ue extérie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2471" t="20682" r="11411" b="13368"/>
          <a:stretch/>
        </p:blipFill>
        <p:spPr>
          <a:xfrm>
            <a:off x="2124000" y="1341360"/>
            <a:ext cx="5473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4:18:18Z</dcterms:created>
  <dc:creator>Michel 3</dc:creator>
  <dc:description/>
  <dc:language>en-US</dc:language>
  <cp:lastModifiedBy>Michel 3</cp:lastModifiedBy>
  <dcterms:modified xsi:type="dcterms:W3CDTF">2006-04-12T14:47:42Z</dcterms:modified>
  <cp:revision>3</cp:revision>
  <dc:subject/>
  <dc:title>Diapositive 1</dc:title>
</cp:coreProperties>
</file>