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1DB-3B8A-4574-9661-D3148BDE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F7E-A413-4B3F-A15E-A7AE5C6A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A05-E97F-4FC8-B10C-FD27211C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EB8-AC5B-4010-B517-49349DFA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F65-E8A1-47DD-9A61-62BE3C91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7CB-FD10-4B5D-8CC7-63D06E6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519-45AC-4049-A476-CABEF561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CD3-D5FC-45BA-A1B1-609EAA2A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A6F-3481-43A3-894A-C81A0B13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821-1695-4AEC-B06F-0F5F619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5F5-1EBA-4C98-8031-51F01BDB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411-7805-4B39-81E5-76256D15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595C-B0BA-45FF-81DA-8C0DA0BB861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8920" y="6381360"/>
            <a:ext cx="8103240" cy="250920"/>
            <a:chOff x="538920" y="6381360"/>
            <a:chExt cx="8103240" cy="250920"/>
          </a:xfrm>
        </p:grpSpPr>
        <p:sp>
          <p:nvSpPr>
            <p:cNvPr id="6" name="">
              <a:hlinkClick r:id="" action="ppaction://hlinkshowjump?jump=nextslide"/>
            </p:cNvPr>
            <p:cNvSpPr/>
            <p:nvPr/>
          </p:nvSpPr>
          <p:spPr>
            <a:xfrm flipV="1" rot="16200000">
              <a:off x="820944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>
              <a:hlinkClick r:id="" action="ppaction://hlinkshowjump?jump=previousslide"/>
            </p:cNvPr>
            <p:cNvSpPr/>
            <p:nvPr/>
          </p:nvSpPr>
          <p:spPr>
            <a:xfrm flipH="1" flipV="1" rot="5400000">
              <a:off x="72036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>
            <a:hlinkClick r:id="" action="ppaction://hlinkshowjump?jump=endshow"/>
          </p:cNvPr>
          <p:cNvSpPr/>
          <p:nvPr/>
        </p:nvSpPr>
        <p:spPr>
          <a:xfrm>
            <a:off x="1496880" y="6348240"/>
            <a:ext cx="287640" cy="28908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27" y="219"/>
                </a:moveTo>
                <a:lnTo>
                  <a:pt x="27" y="108"/>
                </a:lnTo>
                <a:lnTo>
                  <a:pt x="0" y="109"/>
                </a:lnTo>
                <a:lnTo>
                  <a:pt x="111" y="0"/>
                </a:lnTo>
                <a:lnTo>
                  <a:pt x="153" y="42"/>
                </a:lnTo>
                <a:lnTo>
                  <a:pt x="153" y="13"/>
                </a:lnTo>
                <a:lnTo>
                  <a:pt x="180" y="13"/>
                </a:lnTo>
                <a:lnTo>
                  <a:pt x="180" y="70"/>
                </a:lnTo>
                <a:lnTo>
                  <a:pt x="220" y="108"/>
                </a:lnTo>
                <a:lnTo>
                  <a:pt x="193" y="108"/>
                </a:lnTo>
                <a:lnTo>
                  <a:pt x="193" y="220"/>
                </a:lnTo>
                <a:lnTo>
                  <a:pt x="27" y="21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pr&#233;sentation%20U11%20lurem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8960" y="1746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Étude St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6600" y="1239480"/>
            <a:ext cx="81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tte étude doit permettre de vérifier si la force F à exercer sur la poignée du volant est acceptable du point de vue ergonomiqu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F </a:t>
            </a:r>
            <a:r>
              <a:rPr b="1" lang="fr-FR" sz="1800" spc="-1" strike="noStrike">
                <a:solidFill>
                  <a:srgbClr val="333399"/>
                </a:solidFill>
                <a:latin typeface="UniversalMath1 BT"/>
                <a:ea typeface="UniversalMath1 BT"/>
              </a:rPr>
              <a:t>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3 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48200" y="2059560"/>
            <a:ext cx="309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èses de travail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es liaisons sont parfaites et sans frottement ( seul le frottement entre la vis et la noix est pris en comp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ul le poids du moteur (200 N) est pris en compte, les autres poids sont négli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400" y="1928880"/>
            <a:ext cx="5434200" cy="4290120"/>
            <a:chOff x="320400" y="1928880"/>
            <a:chExt cx="5434200" cy="4290120"/>
          </a:xfrm>
        </p:grpSpPr>
        <p:sp>
          <p:nvSpPr>
            <p:cNvPr id="49" name=""/>
            <p:cNvSpPr/>
            <p:nvPr/>
          </p:nvSpPr>
          <p:spPr>
            <a:xfrm>
              <a:off x="1046160" y="5170320"/>
              <a:ext cx="1655640" cy="576000"/>
            </a:xfrm>
            <a:prstGeom prst="wedgeRectCallout">
              <a:avLst>
                <a:gd name="adj1" fmla="val -44055"/>
                <a:gd name="adj2" fmla="val -81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tion de l’utilisateur sur le vol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ple moteur = C  (N.m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20400" y="1928880"/>
              <a:ext cx="5434200" cy="4290120"/>
              <a:chOff x="320400" y="1928880"/>
              <a:chExt cx="5434200" cy="429012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0160" y="1928880"/>
                <a:ext cx="4608360" cy="32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 flipV="1">
                <a:off x="685800" y="2072880"/>
                <a:ext cx="1440" cy="39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42880" y="5889600"/>
                <a:ext cx="2735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46520" y="3801960"/>
                <a:ext cx="0" cy="16552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722480" y="5097240"/>
                <a:ext cx="78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200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1080" y="5744880"/>
                <a:ext cx="289080" cy="288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50880" y="5854680"/>
                <a:ext cx="69840" cy="69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6880" y="54576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850680" y="4344840"/>
                <a:ext cx="2952720" cy="23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623400" y="43779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34240" y="548460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5440" y="1996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y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76880" y="581328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z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69640" y="4638600"/>
                <a:ext cx="3132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r>
                  <a:rPr b="0" lang="en-US" sz="1000" spc="-1" strike="noStrike" baseline="-25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1833480" y="2885400"/>
                <a:ext cx="133200" cy="18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32440" y="275724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y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20400" y="5203800"/>
                <a:ext cx="3132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r>
                  <a:rPr b="0" lang="en-US" sz="10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2040" y="3220920"/>
                <a:ext cx="1041480" cy="748800"/>
              </a:xfrm>
              <a:prstGeom prst="wedgeEllipseCallout">
                <a:avLst>
                  <a:gd name="adj1" fmla="val 17685"/>
                  <a:gd name="adj2" fmla="val 12415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 sur l’axe Ox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de la v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00680" y="4338360"/>
                <a:ext cx="853920" cy="749160"/>
              </a:xfrm>
              <a:prstGeom prst="wedgeEllipseCallout">
                <a:avLst>
                  <a:gd name="adj1" fmla="val -74537"/>
                  <a:gd name="adj2" fmla="val -11652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 sur l’axe du moteu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388800" y="6226200"/>
            <a:ext cx="925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8160" y="426240"/>
            <a:ext cx="78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Ecrire les torseurs d’action mécanique pour obtenir la montée de la sci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2600" y="2330280"/>
            <a:ext cx="24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2411280"/>
            <a:ext cx="33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90468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 figure ci-contre, copie d’une fenêtre du logiciel Méca3D, montre les différents types d’actions mécaniques pouvant être sai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68800" y="1879560"/>
          <a:ext cx="4737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8800" y="1879560"/>
                    <a:ext cx="4737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20840" y="1746000"/>
            <a:ext cx="3782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Effort constant et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onstant en valeur algébrique au cours du mouvement, de direction fixe dans le repère général et de point de réduction lié à une pièce (action de la pesanteur par exempl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Effort inconnu et liée à la piè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aleur algébrique à déterminer par MECA3D de façon à maintenir l'équilibre du mécanisme dans chaque position étudiée, de direction fixe par rapport à une piè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1600" y="5591160"/>
            <a:ext cx="75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ction d'un fluide à pression constante sur le piston d'un vérin oscillant, par exempl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6240" y="687240"/>
            <a:ext cx="82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2 - Modifier dans l’arbre de modélisation du mécanisme « Méca 3D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ction due à la pesanteur  en fonction des données ci-dessus puis rel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alc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968560"/>
            <a:ext cx="709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4 - Vérifier par une autre méthode ( graphique ou par calcul ) le résultat obtenu par le logiciel « Méca 3D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diapositive suivante précise les hypothèses et considérations nécessaires à cette vérific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94680" y="187164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2760" y="1808280"/>
            <a:ext cx="756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3 - Déterminer à l’aide du logiciel Méca 3D l’évolution de l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Nor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orce B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an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a liaison pivot glissa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ntre le basculeur et la no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Imprimer le rapport Sortie 5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déduire l’effort max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67480" y="166680"/>
            <a:ext cx="3249360" cy="2608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54320" y="2449440"/>
            <a:ext cx="5006880" cy="422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438480"/>
            <a:ext cx="66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sole le sous-ensemble ci-cont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onsidère que le système est plan et qu’i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soumis à 3 actions mécaniques en G, en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en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représenté ci-dessous dans la positi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éfavor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3200" y="525600"/>
            <a:ext cx="1792080" cy="237960"/>
          </a:xfrm>
          <a:custGeom>
            <a:avLst/>
            <a:gdLst>
              <a:gd name="textAreaLeft" fmla="*/ 279720 w 1792080"/>
              <a:gd name="textAreaRight" fmla="*/ 1568160 w 1792080"/>
              <a:gd name="textAreaTop" fmla="*/ 59400 h 237960"/>
              <a:gd name="textAreaBottom" fmla="*/ 178560 h 237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1760" y="4986360"/>
            <a:ext cx="2003400" cy="576360"/>
          </a:xfrm>
          <a:prstGeom prst="wedgeEllipseCallout">
            <a:avLst>
              <a:gd name="adj1" fmla="val 69888"/>
              <a:gd name="adj2" fmla="val 151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ion de la force noix/bascul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3080" y="4019400"/>
            <a:ext cx="300240" cy="252720"/>
          </a:xfrm>
          <a:prstGeom prst="wedgeRectCallout">
            <a:avLst>
              <a:gd name="adj1" fmla="val 465875"/>
              <a:gd name="adj2" fmla="val 287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0200" y="6253200"/>
            <a:ext cx="300240" cy="252360"/>
          </a:xfrm>
          <a:prstGeom prst="wedgeRectCallout">
            <a:avLst>
              <a:gd name="adj1" fmla="val -252643"/>
              <a:gd name="adj2" fmla="val -129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5400" y="4900680"/>
            <a:ext cx="299880" cy="252360"/>
          </a:xfrm>
          <a:prstGeom prst="wedgeRectCallout">
            <a:avLst>
              <a:gd name="adj1" fmla="val -573810"/>
              <a:gd name="adj2" fmla="val 143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49880" y="5372280"/>
            <a:ext cx="0" cy="12729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48600" y="629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19880" y="6319800"/>
            <a:ext cx="185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8880" y="1396440"/>
            <a:ext cx="74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5 – Calculer le coup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max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tenu sur le volant avec un effort maxi acceptable de l’opéra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640" y="3859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herche du couple à exercer sur le volant de sortie de 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38560" y="3182760"/>
            <a:ext cx="5293440" cy="2654280"/>
            <a:chOff x="3238560" y="3182760"/>
            <a:chExt cx="5293440" cy="2654280"/>
          </a:xfrm>
        </p:grpSpPr>
        <p:grpSp>
          <p:nvGrpSpPr>
            <p:cNvPr id="98" name=""/>
            <p:cNvGrpSpPr/>
            <p:nvPr/>
          </p:nvGrpSpPr>
          <p:grpSpPr>
            <a:xfrm>
              <a:off x="4838760" y="3182760"/>
              <a:ext cx="3693240" cy="2654280"/>
              <a:chOff x="4838760" y="3182760"/>
              <a:chExt cx="3693240" cy="265428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rcRect l="19757" t="25271" r="15834" b="10427"/>
              <a:stretch/>
            </p:blipFill>
            <p:spPr>
              <a:xfrm>
                <a:off x="4838760" y="3207960"/>
                <a:ext cx="3276720" cy="26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flipV="1">
                <a:off x="4854600" y="3182760"/>
                <a:ext cx="3479760" cy="1869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prstDash val="lgDashDot"/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63720" y="32461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66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ff66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3238560" y="4679640"/>
              <a:ext cx="1022400" cy="419040"/>
            </a:xfrm>
            <a:prstGeom prst="wedgeRoundRectCallout">
              <a:avLst>
                <a:gd name="adj1" fmla="val 160870"/>
                <a:gd name="adj2" fmla="val -3560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uple C sur le vol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35040" y="2305080"/>
            <a:ext cx="3848040" cy="2824200"/>
            <a:chOff x="635040" y="2305080"/>
            <a:chExt cx="3848040" cy="282420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35040" y="2459160"/>
              <a:ext cx="3327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77720" y="2876760"/>
              <a:ext cx="1886040" cy="188604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0920" y="2872080"/>
              <a:ext cx="1466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114720" y="2305080"/>
              <a:ext cx="1368360" cy="642600"/>
              <a:chOff x="3114720" y="2305080"/>
              <a:chExt cx="1368360" cy="642600"/>
            </a:xfrm>
          </p:grpSpPr>
          <p:sp>
            <p:nvSpPr>
              <p:cNvPr id="108" name=""/>
              <p:cNvSpPr/>
              <p:nvPr/>
            </p:nvSpPr>
            <p:spPr>
              <a:xfrm>
                <a:off x="3114720" y="2305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cc00"/>
                    </a:solidFill>
                    <a:latin typeface="Arial"/>
                  </a:rPr>
                  <a:t>F ≤ 3 d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93920" y="2327400"/>
                <a:ext cx="15732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1272960" y="4481640"/>
              <a:ext cx="395280" cy="3920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72920" y="4876920"/>
              <a:ext cx="49536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0520" y="46594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Ø 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8328" t="0" r="8328" b="0"/>
          <a:stretch/>
        </p:blipFill>
        <p:spPr>
          <a:xfrm>
            <a:off x="380880" y="1569960"/>
            <a:ext cx="4337280" cy="40226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108320" y="4148280"/>
            <a:ext cx="3409560" cy="2264760"/>
            <a:chOff x="4108320" y="4148280"/>
            <a:chExt cx="3409560" cy="226476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rcRect l="0" t="6163" r="28757" b="32868"/>
            <a:stretch/>
          </p:blipFill>
          <p:spPr>
            <a:xfrm>
              <a:off x="4259160" y="4148280"/>
              <a:ext cx="3017880" cy="204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08320" y="5048640"/>
              <a:ext cx="635040" cy="1364400"/>
            </a:xfrm>
            <a:custGeom>
              <a:avLst/>
              <a:gdLst/>
              <a:ahLst/>
              <a:rect l="l" t="t" r="r" b="b"/>
              <a:pathLst>
                <a:path w="488" h="1108">
                  <a:moveTo>
                    <a:pt x="120" y="0"/>
                  </a:moveTo>
                  <a:lnTo>
                    <a:pt x="348" y="568"/>
                  </a:lnTo>
                  <a:lnTo>
                    <a:pt x="488" y="704"/>
                  </a:lnTo>
                  <a:lnTo>
                    <a:pt x="432" y="904"/>
                  </a:lnTo>
                  <a:lnTo>
                    <a:pt x="420" y="1108"/>
                  </a:lnTo>
                  <a:lnTo>
                    <a:pt x="0" y="94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24600" y="4694040"/>
              <a:ext cx="593280" cy="1137960"/>
            </a:xfrm>
            <a:custGeom>
              <a:avLst/>
              <a:gdLst/>
              <a:ahLst/>
              <a:rect l="l" t="t" r="r" b="b"/>
              <a:pathLst>
                <a:path w="456" h="924">
                  <a:moveTo>
                    <a:pt x="92" y="0"/>
                  </a:moveTo>
                  <a:lnTo>
                    <a:pt x="0" y="300"/>
                  </a:lnTo>
                  <a:lnTo>
                    <a:pt x="112" y="504"/>
                  </a:lnTo>
                  <a:lnTo>
                    <a:pt x="24" y="712"/>
                  </a:lnTo>
                  <a:lnTo>
                    <a:pt x="140" y="924"/>
                  </a:lnTo>
                  <a:lnTo>
                    <a:pt x="456" y="768"/>
                  </a:lnTo>
                  <a:lnTo>
                    <a:pt x="352" y="4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191360" y="4689360"/>
            <a:ext cx="1320840" cy="858960"/>
          </a:xfrm>
          <a:prstGeom prst="wedgeEllipseCallout">
            <a:avLst>
              <a:gd name="adj1" fmla="val -94953"/>
              <a:gd name="adj2" fmla="val 413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face de contact vis/pa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ur frottement axial seul pris en com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412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se en compte du frottement dans la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080" y="720360"/>
            <a:ext cx="85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’intéresse au frottement dans la liaison palier/vis (pivot) ainsi que dans la liaison noix/vis (hélicoïdal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7760" y="4340160"/>
            <a:ext cx="739800" cy="6066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0440" y="4711680"/>
            <a:ext cx="212112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72280" y="1317600"/>
            <a:ext cx="2903400" cy="2421000"/>
            <a:chOff x="5372280" y="1317600"/>
            <a:chExt cx="2903400" cy="242100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rcRect l="26973" t="20268" r="12334" b="15284"/>
            <a:stretch/>
          </p:blipFill>
          <p:spPr>
            <a:xfrm>
              <a:off x="5580000" y="1525680"/>
              <a:ext cx="2695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372280" y="1317600"/>
              <a:ext cx="1950840" cy="2293920"/>
            </a:xfrm>
            <a:custGeom>
              <a:avLst/>
              <a:gdLst/>
              <a:ahLst/>
              <a:rect l="l" t="t" r="r" b="b"/>
              <a:pathLst>
                <a:path w="1229" h="1445">
                  <a:moveTo>
                    <a:pt x="298" y="1440"/>
                  </a:moveTo>
                  <a:lnTo>
                    <a:pt x="154" y="1196"/>
                  </a:lnTo>
                  <a:lnTo>
                    <a:pt x="197" y="936"/>
                  </a:lnTo>
                  <a:lnTo>
                    <a:pt x="158" y="624"/>
                  </a:lnTo>
                  <a:lnTo>
                    <a:pt x="288" y="346"/>
                  </a:lnTo>
                  <a:lnTo>
                    <a:pt x="398" y="332"/>
                  </a:lnTo>
                  <a:lnTo>
                    <a:pt x="499" y="188"/>
                  </a:lnTo>
                  <a:lnTo>
                    <a:pt x="744" y="264"/>
                  </a:lnTo>
                  <a:lnTo>
                    <a:pt x="1037" y="183"/>
                  </a:lnTo>
                  <a:lnTo>
                    <a:pt x="1186" y="250"/>
                  </a:lnTo>
                  <a:lnTo>
                    <a:pt x="1229" y="0"/>
                  </a:lnTo>
                  <a:lnTo>
                    <a:pt x="0" y="92"/>
                  </a:lnTo>
                  <a:lnTo>
                    <a:pt x="53" y="1445"/>
                  </a:lnTo>
                  <a:lnTo>
                    <a:pt x="298" y="14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762280" y="3851280"/>
            <a:ext cx="739800" cy="6066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457440" y="3241440"/>
            <a:ext cx="1949760" cy="771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30120" y="990720"/>
            <a:ext cx="8480880" cy="2379600"/>
            <a:chOff x="330120" y="990720"/>
            <a:chExt cx="8480880" cy="2379600"/>
          </a:xfrm>
        </p:grpSpPr>
        <p:grpSp>
          <p:nvGrpSpPr>
            <p:cNvPr id="129" name=""/>
            <p:cNvGrpSpPr/>
            <p:nvPr/>
          </p:nvGrpSpPr>
          <p:grpSpPr>
            <a:xfrm>
              <a:off x="330120" y="990720"/>
              <a:ext cx="8280360" cy="2379600"/>
              <a:chOff x="330120" y="990720"/>
              <a:chExt cx="8280360" cy="237960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"/>
              <a:srcRect l="0" t="21134" r="0" b="39127"/>
              <a:stretch/>
            </p:blipFill>
            <p:spPr>
              <a:xfrm>
                <a:off x="456840" y="1125720"/>
                <a:ext cx="7848720" cy="22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387520" y="990720"/>
                <a:ext cx="6222960" cy="1486080"/>
              </a:xfrm>
              <a:custGeom>
                <a:avLst/>
                <a:gdLst/>
                <a:ahLst/>
                <a:rect l="l" t="t" r="r" b="b"/>
                <a:pathLst>
                  <a:path w="3920" h="936">
                    <a:moveTo>
                      <a:pt x="136" y="72"/>
                    </a:moveTo>
                    <a:lnTo>
                      <a:pt x="344" y="216"/>
                    </a:lnTo>
                    <a:lnTo>
                      <a:pt x="584" y="144"/>
                    </a:lnTo>
                    <a:lnTo>
                      <a:pt x="1000" y="168"/>
                    </a:lnTo>
                    <a:lnTo>
                      <a:pt x="1376" y="128"/>
                    </a:lnTo>
                    <a:lnTo>
                      <a:pt x="2408" y="280"/>
                    </a:lnTo>
                    <a:lnTo>
                      <a:pt x="2712" y="136"/>
                    </a:lnTo>
                    <a:lnTo>
                      <a:pt x="3664" y="256"/>
                    </a:lnTo>
                    <a:lnTo>
                      <a:pt x="3608" y="536"/>
                    </a:lnTo>
                    <a:lnTo>
                      <a:pt x="3736" y="936"/>
                    </a:lnTo>
                    <a:lnTo>
                      <a:pt x="3920" y="56"/>
                    </a:lnTo>
                    <a:lnTo>
                      <a:pt x="3368" y="0"/>
                    </a:lnTo>
                    <a:lnTo>
                      <a:pt x="0" y="0"/>
                    </a:lnTo>
                    <a:lnTo>
                      <a:pt x="136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0120" y="2210040"/>
                <a:ext cx="241200" cy="723960"/>
              </a:xfrm>
              <a:custGeom>
                <a:avLst/>
                <a:gdLst/>
                <a:ahLst/>
                <a:rect l="l" t="t" r="r" b="b"/>
                <a:pathLst>
                  <a:path w="152" h="456">
                    <a:moveTo>
                      <a:pt x="80" y="0"/>
                    </a:moveTo>
                    <a:lnTo>
                      <a:pt x="152" y="200"/>
                    </a:lnTo>
                    <a:lnTo>
                      <a:pt x="120" y="344"/>
                    </a:lnTo>
                    <a:lnTo>
                      <a:pt x="144" y="456"/>
                    </a:lnTo>
                    <a:lnTo>
                      <a:pt x="8" y="456"/>
                    </a:lnTo>
                    <a:lnTo>
                      <a:pt x="0" y="1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rot="21448800">
              <a:off x="6260760" y="2222280"/>
              <a:ext cx="1371600" cy="216000"/>
            </a:xfrm>
            <a:prstGeom prst="leftArrow">
              <a:avLst>
                <a:gd name="adj1" fmla="val 50000"/>
                <a:gd name="adj2" fmla="val 158750"/>
              </a:avLst>
            </a:prstGeom>
            <a:solidFill>
              <a:srgbClr val="ff99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6080" y="2165400"/>
              <a:ext cx="36360" cy="6955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2349720"/>
              <a:ext cx="23760" cy="4539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72520" y="244980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Ø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26920" y="23990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Ø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696080" y="2267280"/>
              <a:ext cx="814320" cy="33120"/>
            </a:xfrm>
            <a:prstGeom prst="line">
              <a:avLst/>
            </a:prstGeom>
            <a:ln w="12600">
              <a:solidFill>
                <a:srgbClr val="ff33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927480" y="2482560"/>
              <a:ext cx="1563840" cy="63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13560" y="2267280"/>
              <a:ext cx="14400" cy="2044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44520" y="2246400"/>
              <a:ext cx="36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r=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959160" y="2203560"/>
              <a:ext cx="328680" cy="246240"/>
              <a:chOff x="6959160" y="2203560"/>
              <a:chExt cx="32868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6959160" y="2203560"/>
                <a:ext cx="3286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00"/>
                    </a:solidFill>
                    <a:latin typeface="Arial"/>
                  </a:rPr>
                  <a:t>F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040160" y="2225880"/>
                <a:ext cx="1666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801720" y="5446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 du probl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55760" y="3414600"/>
            <a:ext cx="68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 = 400 N  charge axiale sur la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cteur de frottement entre la vis et la noix : μ = tan φ = 0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cteur de frottement entre la vis et le palier :  μ = tan φ = 0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 : diamètre nominal 16mm ; filet trapézoïdal : pas de 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d’inclinaison de filet de la vis : α = 4,5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, rayon moyen de la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’ rayon moyen de la couronne contact vis/pa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06200" y="5513760"/>
            <a:ext cx="758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ouple résistant sur la vis, du aux frottements est donné par l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Cr = Fa .[ r. tan (φ + α) + r’. tan φ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07280" y="4361040"/>
            <a:ext cx="550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n de l’étude STATIQ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retourner au sommair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our la suite du su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080" y="583920"/>
            <a:ext cx="857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6 – à l’aide du modèle volumique, mesurer les diamètres d et D de la v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er alors le rayon moye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la couronne, surface de contact entre la vis et le pa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280" y="1753560"/>
            <a:ext cx="85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7 – Calculer le couple résistant Cr du au frot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6880" y="2333160"/>
            <a:ext cx="857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8 –Cr, est le couple minimum à exercer sur le volant pour vaincre les frot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arer Cr au couple maxi acceptable que peut fournir l’opérateur et conclure d’un point de vue ergonom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86880" y="6261120"/>
            <a:ext cx="83808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2:13:36Z</dcterms:created>
  <dc:creator>fabien MELAN</dc:creator>
  <dc:description/>
  <dc:language>en-US</dc:language>
  <cp:lastModifiedBy>cnr-cmao</cp:lastModifiedBy>
  <dcterms:modified xsi:type="dcterms:W3CDTF">2006-06-01T15:55:53Z</dcterms:modified>
  <cp:revision>38</cp:revision>
  <dc:subject/>
  <dc:title>questionnaire étude statique</dc:title>
</cp:coreProperties>
</file>