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EF4-74BB-48EF-9B3F-EEA91499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25E-A38C-4EA4-87DF-2AE18959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EF5C-D493-42C9-9B8B-E44EDA7E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A6D-DD7D-4228-961C-DF99565A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FF0B-7389-422F-A7B0-81135A64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0D9F-031A-4FD1-A981-6C2AB1A7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1987-E211-4FA8-B99F-88FDDB5D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312F-B34A-457A-80E5-CAE1031C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A0FD-1D2D-4FDF-A41D-1749AB37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EF49-FA59-4A67-B7E2-91773161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471F-6497-4C3D-BBE5-C8155889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3D9-E907-46F7-A051-C235B93D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D2DF-E70A-4D5F-8EC5-6F6FA800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1889-5B36-471F-89E9-0E2EFEAD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818E-8C28-4938-93ED-2400AE02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9EE6-70DA-440A-A8CE-D8FB9895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78C2-9ED7-46FB-940E-36763B9C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7B4-8FAB-4127-81BA-AEA2E9D1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073-A4E5-471A-A16C-81F1C3F5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F93-5377-440F-B067-310C40B0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35A-7AED-41CC-92D9-AB90AEC4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607-6396-4396-B41C-CB915B1E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65D-1F1C-4E40-BAFE-BB9E65C0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452A-90D5-4B81-8830-FA7C2CEE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1CC7-852D-49B4-A209-668292FAE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70000" contrast="-70000"/>
          </a:blip>
          <a:srcRect l="0" t="0" r="0" b="1160"/>
          <a:stretch/>
        </p:blipFill>
        <p:spPr>
          <a:xfrm>
            <a:off x="1042920" y="0"/>
            <a:ext cx="7129440" cy="6485040"/>
          </a:xfrm>
          <a:prstGeom prst="rect">
            <a:avLst/>
          </a:prstGeom>
          <a:ln w="0">
            <a:noFill/>
          </a:ln>
        </p:spPr>
      </p:pic>
      <p:sp>
        <p:nvSpPr>
          <p:cNvPr id="6" name="">
            <a:hlinkClick r:id="" action="ppaction://hlinkshowjump?jump=nextslide"/>
          </p:cNvPr>
          <p:cNvSpPr/>
          <p:nvPr/>
        </p:nvSpPr>
        <p:spPr>
          <a:xfrm flipV="1" rot="16200000">
            <a:off x="8209440" y="6199200"/>
            <a:ext cx="250920" cy="614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flipH="1" flipV="1" rot="5400000">
            <a:off x="720360" y="6199200"/>
            <a:ext cx="250920" cy="614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9876-099E-4DDB-A739-819F842FCA0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02120" y="189000"/>
            <a:ext cx="725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ccalauréat Profess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tude et Définition de produits Indust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557360"/>
            <a:ext cx="67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preuve E1 – unité U11 en C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ude du comportement mécanique d’un système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34936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urée : 3 heures     Coefficient 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9800" y="3357720"/>
            <a:ext cx="703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cuments à rendre en fin d’épre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- Document réponses imprimé et complété (page 1 à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- Sorties imprimantes (7 impre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scrire votre nom sur les im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30864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" action="ppaction://hlinkshowjump?jump=endshow"/>
          </p:cNvPr>
          <p:cNvPicPr/>
          <p:nvPr/>
        </p:nvPicPr>
        <p:blipFill>
          <a:blip r:embed="rId1"/>
          <a:srcRect l="5251" t="17225" r="0" b="5498"/>
          <a:stretch/>
        </p:blipFill>
        <p:spPr>
          <a:xfrm>
            <a:off x="468360" y="6093000"/>
            <a:ext cx="1103400" cy="5410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 flipV="1" rot="16200000">
            <a:off x="8209440" y="6199200"/>
            <a:ext cx="250920" cy="614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3333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99"/>
                </a:solidFill>
                <a:latin typeface="Comic Sans MS"/>
              </a:rPr>
              <a:t>INFORMATIONS RELATIVES À L’UTILISATION DE CETTE PRÉSENT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268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L’ensemble des documents nécessaires à cette épreuve sont consultés à l’écr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Pour passer d’un écran à un autre, de la présentation à SolidWorks par exemple, après avoir lancé toutes les applications, il faut maintenir la touche ALT enfoncée et appuyer sur TAB, pour passer d’un logiciel ouvert à un autre aisé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Il est possible d’appuyer plusieurs fois sur TAB si l’on doit naviguer avec plusieurs logici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371628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orsque vous y êtes invité, cliquez sur les liens vers des documents à im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e logiciel correspondant se lance et le document est ouvert automatiqu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ancer alors la commande imprimer du menu fichier pour imprimer le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9960" y="189000"/>
            <a:ext cx="32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pport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0160" y="98028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 « Combinée  LUREM C310 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557360"/>
            <a:ext cx="359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 est utilisée pour l’usinage du bois. Elle possède 5 zones de travail : dégauchisseuse, raboteuse, mortaiseuse, toupie et s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1160"/>
          <a:stretch/>
        </p:blipFill>
        <p:spPr>
          <a:xfrm>
            <a:off x="4572000" y="2133720"/>
            <a:ext cx="4179960" cy="3886200"/>
          </a:xfrm>
          <a:prstGeom prst="rect">
            <a:avLst/>
          </a:prstGeom>
          <a:ln w="381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9" name=""/>
          <p:cNvSpPr/>
          <p:nvPr/>
        </p:nvSpPr>
        <p:spPr>
          <a:xfrm>
            <a:off x="6340320" y="3094200"/>
            <a:ext cx="1754280" cy="2306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3860640"/>
            <a:ext cx="2079720" cy="755640"/>
          </a:xfrm>
          <a:prstGeom prst="wedgeRectCallout">
            <a:avLst>
              <a:gd name="adj1" fmla="val 155800"/>
              <a:gd name="adj2" fmla="val -9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’est le poste d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i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nur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qui sera l’objet de l’é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599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réglages possibles sur le poste de sciage so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sortie et l’inclinaison de la lame de sc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s deux réglages sont effectués avec le même lev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661480" y="1414440"/>
            <a:ext cx="2037600" cy="2179800"/>
            <a:chOff x="2661480" y="1414440"/>
            <a:chExt cx="2037600" cy="21798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rcRect l="11743" t="0" r="7430" b="0"/>
            <a:stretch/>
          </p:blipFill>
          <p:spPr>
            <a:xfrm>
              <a:off x="2700360" y="1414440"/>
              <a:ext cx="1998720" cy="21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9000000">
              <a:off x="2763000" y="2774880"/>
              <a:ext cx="555840" cy="5558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555840"/>
                <a:gd name="textAreaBottom" fmla="*/ 556200 h 55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6376868"/>
                  <a:lnTo>
                    <a:pt x="7772" y="433"/>
                  </a:lnTo>
                  <a:arcTo wR="10800" hR="10800" stAng="-6376868" swAng="63768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95280" y="1846440"/>
            <a:ext cx="1952640" cy="987120"/>
          </a:xfrm>
          <a:prstGeom prst="wedgeRectCallout">
            <a:avLst>
              <a:gd name="adj1" fmla="val 79430"/>
              <a:gd name="adj2" fmla="val 13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eur gradué de 0 à 4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40342" t="46626" r="35488" b="38629"/>
          <a:stretch/>
        </p:blipFill>
        <p:spPr>
          <a:xfrm>
            <a:off x="539640" y="2133720"/>
            <a:ext cx="1623960" cy="636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8000" y="2565360"/>
            <a:ext cx="1008000" cy="50472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1414440"/>
            <a:ext cx="24480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Réglage de l’inclina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050920" y="3933720"/>
            <a:ext cx="3208320" cy="2443320"/>
            <a:chOff x="2050920" y="3933720"/>
            <a:chExt cx="3208320" cy="244332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rcRect l="33882" t="0" r="0" b="0"/>
            <a:stretch/>
          </p:blipFill>
          <p:spPr>
            <a:xfrm>
              <a:off x="2050920" y="3933720"/>
              <a:ext cx="3208320" cy="24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2441400">
              <a:off x="4510800" y="5300640"/>
              <a:ext cx="582120" cy="582120"/>
            </a:xfrm>
            <a:custGeom>
              <a:avLst/>
              <a:gdLst>
                <a:gd name="textAreaLeft" fmla="*/ 0 w 582120"/>
                <a:gd name="textAreaRight" fmla="*/ 582480 w 58212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6376868"/>
                  <a:lnTo>
                    <a:pt x="7772" y="433"/>
                  </a:lnTo>
                  <a:arcTo wR="10800" hR="10800" stAng="-6376868" swAng="63768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084720" y="1304280"/>
            <a:ext cx="2154240" cy="2644920"/>
            <a:chOff x="6084720" y="1304280"/>
            <a:chExt cx="2154240" cy="2644920"/>
          </a:xfrm>
        </p:grpSpPr>
        <p:pic>
          <p:nvPicPr>
            <p:cNvPr id="114" name="" descr=""/>
            <p:cNvPicPr/>
            <p:nvPr/>
          </p:nvPicPr>
          <p:blipFill>
            <a:blip r:embed="rId4"/>
            <a:srcRect l="2834" t="2582" r="0" b="0"/>
            <a:stretch/>
          </p:blipFill>
          <p:spPr>
            <a:xfrm>
              <a:off x="6084720" y="1531080"/>
              <a:ext cx="2154240" cy="24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21113400">
              <a:off x="7096680" y="1341360"/>
              <a:ext cx="568800" cy="56880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568800"/>
                <a:gd name="textAreaBottom" fmla="*/ 569160 h 56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6376868"/>
                  <a:lnTo>
                    <a:pt x="7772" y="433"/>
                  </a:lnTo>
                  <a:arcTo wR="10800" hR="10800" stAng="-6376868" swAng="63768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084720" y="4078440"/>
            <a:ext cx="2848320" cy="2280960"/>
            <a:chOff x="6084720" y="4078440"/>
            <a:chExt cx="2848320" cy="2280960"/>
          </a:xfrm>
        </p:grpSpPr>
        <p:pic>
          <p:nvPicPr>
            <p:cNvPr id="117" name="" descr=""/>
            <p:cNvPicPr/>
            <p:nvPr/>
          </p:nvPicPr>
          <p:blipFill>
            <a:blip r:embed="rId5"/>
            <a:srcRect l="37120" t="0" r="0" b="4604"/>
            <a:stretch/>
          </p:blipFill>
          <p:spPr>
            <a:xfrm>
              <a:off x="6084720" y="4078440"/>
              <a:ext cx="2848320" cy="22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897600" y="4946040"/>
              <a:ext cx="250920" cy="499680"/>
            </a:xfrm>
            <a:prstGeom prst="upArrow">
              <a:avLst>
                <a:gd name="adj1" fmla="val 50000"/>
                <a:gd name="adj2" fmla="val 49785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859280" y="4797360"/>
            <a:ext cx="1008000" cy="50472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3789360"/>
            <a:ext cx="24480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Réglage sortie de l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 flipV="1" rot="16200000">
            <a:off x="8138160" y="6199200"/>
            <a:ext cx="250920" cy="614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 flipH="1" flipV="1" rot="5400000">
            <a:off x="720360" y="6199200"/>
            <a:ext cx="250920" cy="614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03640" y="3213000"/>
            <a:ext cx="3816360" cy="2862360"/>
          </a:xfrm>
          <a:prstGeom prst="rect">
            <a:avLst/>
          </a:prstGeom>
          <a:ln w="1260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4" name=""/>
          <p:cNvSpPr/>
          <p:nvPr/>
        </p:nvSpPr>
        <p:spPr>
          <a:xfrm>
            <a:off x="900000" y="836640"/>
            <a:ext cx="3600720" cy="144000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oir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bl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3933720"/>
            <a:ext cx="3600360" cy="144000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cé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u su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6308640"/>
            <a:ext cx="863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" action="ppaction://hlinkshowjump?jump=endshow"/>
          </p:cNvPr>
          <p:cNvPicPr/>
          <p:nvPr/>
        </p:nvPicPr>
        <p:blipFill>
          <a:blip r:embed="rId2"/>
          <a:srcRect l="5251" t="17225" r="0" b="5498"/>
          <a:stretch/>
        </p:blipFill>
        <p:spPr>
          <a:xfrm>
            <a:off x="2484360" y="6316560"/>
            <a:ext cx="1103400" cy="54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1301760" y="6359400"/>
            <a:ext cx="876240" cy="28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003640" y="189000"/>
            <a:ext cx="3834000" cy="2874960"/>
          </a:xfrm>
          <a:prstGeom prst="rect">
            <a:avLst/>
          </a:prstGeom>
          <a:ln w="1260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1:54:44Z</dcterms:created>
  <dc:creator>fabien MELAN</dc:creator>
  <dc:description/>
  <dc:language>en-US</dc:language>
  <cp:lastModifiedBy>cnr-cmao</cp:lastModifiedBy>
  <dcterms:modified xsi:type="dcterms:W3CDTF">2006-06-01T15:50:10Z</dcterms:modified>
  <cp:revision>22</cp:revision>
  <dc:subject/>
  <dc:title>présentation sujet</dc:title>
</cp:coreProperties>
</file>