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0E06-F726-4464-A745-339B90B11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8022-D358-4A2C-8E5A-3C18747D5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533B-9BC5-419C-99BA-08EE37ED7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EC9C-AE9B-4FA8-8DEF-32D89CA2A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7BCF-C272-49F4-ADD4-D6B9151F0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85DE-6B2D-4E0F-977A-32D522181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62EF-2C7F-47EC-B836-51E5DAC6B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39BC-C5E4-46A4-A30C-07D07D817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1202-42A0-48A2-9F8C-83FA3B9A1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969A-C7B6-4FDF-9478-ABBD83795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760A-57E5-42FE-A4AD-1F0D72229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079E-706A-4D10-9A21-F8E1CAEC3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FBF27-C794-45E5-B529-CD62BF675ECB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519120" y="6341760"/>
            <a:ext cx="8102160" cy="250920"/>
            <a:chOff x="519120" y="6341760"/>
            <a:chExt cx="8102160" cy="250920"/>
          </a:xfrm>
        </p:grpSpPr>
        <p:sp>
          <p:nvSpPr>
            <p:cNvPr id="6" name="">
              <a:hlinkClick r:id="" action="ppaction://hlinkshowjump?jump=nextslide"/>
            </p:cNvPr>
            <p:cNvSpPr/>
            <p:nvPr/>
          </p:nvSpPr>
          <p:spPr>
            <a:xfrm flipV="1" rot="16200000">
              <a:off x="8188560" y="6159600"/>
              <a:ext cx="250920" cy="61416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>
              <a:hlinkClick r:id="" action="ppaction://hlinkshowjump?jump=previousslide"/>
            </p:cNvPr>
            <p:cNvSpPr/>
            <p:nvPr/>
          </p:nvSpPr>
          <p:spPr>
            <a:xfrm flipH="1" flipV="1" rot="5400000">
              <a:off x="700560" y="6159600"/>
              <a:ext cx="250920" cy="61416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>
            <a:hlinkClick r:id="" action="ppaction://hlinkshowjump?jump=endshow"/>
          </p:cNvPr>
          <p:cNvSpPr/>
          <p:nvPr/>
        </p:nvSpPr>
        <p:spPr>
          <a:xfrm>
            <a:off x="1476360" y="6308640"/>
            <a:ext cx="287280" cy="289080"/>
          </a:xfrm>
          <a:custGeom>
            <a:avLst/>
            <a:gdLst/>
            <a:ahLst/>
            <a:rect l="l" t="t" r="r" b="b"/>
            <a:pathLst>
              <a:path w="220" h="220">
                <a:moveTo>
                  <a:pt x="27" y="219"/>
                </a:moveTo>
                <a:lnTo>
                  <a:pt x="27" y="108"/>
                </a:lnTo>
                <a:lnTo>
                  <a:pt x="0" y="109"/>
                </a:lnTo>
                <a:lnTo>
                  <a:pt x="111" y="0"/>
                </a:lnTo>
                <a:lnTo>
                  <a:pt x="153" y="42"/>
                </a:lnTo>
                <a:lnTo>
                  <a:pt x="153" y="13"/>
                </a:lnTo>
                <a:lnTo>
                  <a:pt x="180" y="13"/>
                </a:lnTo>
                <a:lnTo>
                  <a:pt x="180" y="70"/>
                </a:lnTo>
                <a:lnTo>
                  <a:pt x="220" y="108"/>
                </a:lnTo>
                <a:lnTo>
                  <a:pt x="193" y="108"/>
                </a:lnTo>
                <a:lnTo>
                  <a:pt x="193" y="220"/>
                </a:lnTo>
                <a:lnTo>
                  <a:pt x="27" y="21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../pr&#233;sentation%20U11%20lurem.ppt#Slide 1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284720" y="2565360"/>
          <a:ext cx="4392720" cy="355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2565360"/>
                    <a:ext cx="4392720" cy="355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Étude de Résis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1773360"/>
            <a:ext cx="410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e palier de vis en liaison pivot avec le bâti est soumis dans des condition exceptionnelles à un effort de 4000 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Une étude réalisée à l’aide du logiciel « Cosmos » donne l’emplacement et la valeur de la contrainte maxim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7812000" y="907920"/>
          <a:ext cx="936720" cy="352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12000" y="907920"/>
                    <a:ext cx="936720" cy="35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5003640" y="2060640"/>
          <a:ext cx="237672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03640" y="2060640"/>
                    <a:ext cx="23767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539640" y="4300560"/>
            <a:ext cx="36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1 - Repérer l’emplacement de la contrainte maximum dans le palier et donner une valeur approximative de cette contrainte en MPa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6237360"/>
            <a:ext cx="79056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24000" y="469440"/>
            <a:ext cx="82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e matériau utilisé pour la réalisation du palier de vis est de l’acier C22 dont les caractéristiques sont données dans la bibliothèque COSMOS ( voir tableau ci-dessou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348000" y="1413000"/>
            <a:ext cx="5319720" cy="4381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68360" y="2134080"/>
            <a:ext cx="2808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2 - Donner la valeur de la limite élastique Re en  M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alculer alors la valeur de la résistance pratique à l’extension Rpe en MPa si le coefficient de sécurité </a:t>
            </a:r>
            <a:r>
              <a:rPr b="1" lang="fr-FR" sz="18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est fixé à 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32280" y="475560"/>
            <a:ext cx="797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r" pos="13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n souhaite vérifier la valeur de cette contrainte à l’aide du module de flex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13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u logiciel  « RDM Le Mans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2280" y="1267920"/>
            <a:ext cx="861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Hypothèses simplificatrices 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On assimilera le palier de vis à une poutre de section circulaire de diamètre 25 mm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encastrée dans le bât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042920" y="3284640"/>
            <a:ext cx="3656160" cy="2171160"/>
            <a:chOff x="1042920" y="3284640"/>
            <a:chExt cx="3656160" cy="2171160"/>
          </a:xfrm>
        </p:grpSpPr>
        <p:sp>
          <p:nvSpPr>
            <p:cNvPr id="61" name=""/>
            <p:cNvSpPr/>
            <p:nvPr/>
          </p:nvSpPr>
          <p:spPr>
            <a:xfrm>
              <a:off x="3287160" y="3284640"/>
              <a:ext cx="434160" cy="3254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8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165040" y="4442760"/>
              <a:ext cx="325440" cy="2534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35560" y="3724560"/>
              <a:ext cx="434520" cy="3254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4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622160" y="3724560"/>
              <a:ext cx="615240" cy="15922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766880" y="4448520"/>
              <a:ext cx="2932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237400" y="3724560"/>
              <a:ext cx="0" cy="159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468240" y="3652200"/>
              <a:ext cx="0" cy="759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649320" y="3724560"/>
              <a:ext cx="398160" cy="3618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449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85320" y="3760560"/>
              <a:ext cx="217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37400" y="4014000"/>
              <a:ext cx="12308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599200" y="4985640"/>
              <a:ext cx="2063160" cy="470160"/>
            </a:xfrm>
            <a:prstGeom prst="wedgeRectCallout">
              <a:avLst>
                <a:gd name="adj1" fmla="val -55541"/>
                <a:gd name="adj2" fmla="val -119768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Emplacement du Mfmaxi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et de </a:t>
              </a:r>
              <a:r>
                <a:rPr b="0" lang="fr-FR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max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042920" y="3899880"/>
              <a:ext cx="542880" cy="3254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Bât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237400" y="3537720"/>
              <a:ext cx="24616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4699080" y="3465360"/>
              <a:ext cx="0" cy="868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2237400" y="3465000"/>
              <a:ext cx="0" cy="253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328320" y="2340720"/>
            <a:ext cx="553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L’effort axial D se situe à 40 mm de l’encastrement 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35640" y="3004920"/>
            <a:ext cx="331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3 – modéliser la poutre sous « RDM Le Mans »  pour déterminer le moment fléchissant max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35640" y="4221000"/>
            <a:ext cx="3095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ire une </a:t>
            </a:r>
            <a:r>
              <a:rPr b="0" lang="fr-FR" sz="1800" spc="-1" strike="noStrike">
                <a:solidFill>
                  <a:srgbClr val="009999"/>
                </a:solidFill>
                <a:latin typeface="Arial"/>
              </a:rPr>
              <a:t>sortie imprimante 6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du diagramme des moments fléchissants et y repérer la valeur du moment fléchissant max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59640" y="4221000"/>
            <a:ext cx="432000" cy="648000"/>
          </a:xfrm>
          <a:prstGeom prst="foldedCorner">
            <a:avLst>
              <a:gd name="adj" fmla="val 2720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18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39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00320" y="475560"/>
            <a:ext cx="64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4 - Déterminer la contrainte maxi (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xi )   due à la flex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5280" y="83592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ire une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ortie imprimante 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u diagramme des contraintes normales et y identifier la contrainte max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80360" y="620640"/>
            <a:ext cx="431640" cy="647640"/>
          </a:xfrm>
          <a:prstGeom prst="foldedCorner">
            <a:avLst>
              <a:gd name="adj" fmla="val 2720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02480" y="1915560"/>
            <a:ext cx="76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5 - La condition de résistance est-elle respectée ? justifier votre répon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04280" y="2565360"/>
            <a:ext cx="78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6 - Conclure quant au dimensionnement de l’arbre et au choix du matéri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80200" y="4653000"/>
            <a:ext cx="5501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Fin de l’étude de RDM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…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 retourner au sommaire </a:t>
            </a:r>
            <a:r>
              <a:rPr b="0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pour la suite du suj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885080" y="6237360"/>
            <a:ext cx="79056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1T22:13:36Z</dcterms:created>
  <dc:creator>fabien MELAN</dc:creator>
  <dc:description/>
  <dc:language>en-US</dc:language>
  <cp:lastModifiedBy>cnr-cmao</cp:lastModifiedBy>
  <dcterms:modified xsi:type="dcterms:W3CDTF">2006-06-01T15:55:36Z</dcterms:modified>
  <cp:revision>26</cp:revision>
  <dc:subject/>
  <dc:title>questionnaire étude de RDM</dc:title>
</cp:coreProperties>
</file>