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0D2-3E32-4884-9ED1-839FDE3B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8BC3-EBEF-4F9A-8E59-87EA2DF7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E9E-6A39-48EF-887D-B93CDEDB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AD0-6855-4849-AAE6-16D437DD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C0C-DDEE-4B3F-BC82-54AE7B45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A3C-5DE8-415B-8DAC-478C291D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760-E9A5-45F7-B0EE-AFB1D665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AD5-8D3C-4505-8C24-BC3E53AC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7B6-B5F2-4FFE-96B0-7855745C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AC6-E73C-4382-A341-C384A116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44F4-7D36-4541-85F7-70402DCB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4DB3-F2F5-45D0-8FC8-0C543167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B8A4-3FEB-4F9B-8550-BE7A0164056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70000" contrast="-70000"/>
          </a:blip>
          <a:srcRect l="0" t="4495" r="0" b="7086"/>
          <a:stretch/>
        </p:blipFill>
        <p:spPr>
          <a:xfrm>
            <a:off x="-73080" y="0"/>
            <a:ext cx="9217080" cy="686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diaporamas/&#233;tude%20cin&#233;matique.pps" TargetMode="External"/><Relationship Id="rId2" Type="http://schemas.openxmlformats.org/officeDocument/2006/relationships/hyperlink" Target="file:///../diaporamas/&#233;tude%20de%20r&#233;sistance.pps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u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/>
          </p:cNvPr>
          <p:cNvSpPr/>
          <p:nvPr/>
        </p:nvSpPr>
        <p:spPr>
          <a:xfrm>
            <a:off x="6156360" y="1917720"/>
            <a:ext cx="2735280" cy="719280"/>
          </a:xfrm>
          <a:custGeom>
            <a:avLst/>
            <a:gdLst>
              <a:gd name="textAreaLeft" fmla="*/ 46440 w 2735280"/>
              <a:gd name="textAreaRight" fmla="*/ 2688840 w 2735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82110" h="21600">
                <a:moveTo>
                  <a:pt x="0" y="0"/>
                </a:moveTo>
                <a:lnTo>
                  <a:pt x="82110" y="0"/>
                </a:lnTo>
                <a:lnTo>
                  <a:pt x="82110" y="21600"/>
                </a:lnTo>
                <a:lnTo>
                  <a:pt x="0" y="21600"/>
                </a:lnTo>
                <a:close/>
              </a:path>
              <a:path fill="lightenLess" w="82110" h="21600">
                <a:moveTo>
                  <a:pt x="0" y="0"/>
                </a:moveTo>
                <a:lnTo>
                  <a:pt x="82110" y="0"/>
                </a:lnTo>
                <a:lnTo>
                  <a:pt x="80710" y="1400"/>
                </a:lnTo>
                <a:lnTo>
                  <a:pt x="1400" y="1400"/>
                </a:lnTo>
                <a:close/>
              </a:path>
              <a:path fill="darken" w="82110" h="21600">
                <a:moveTo>
                  <a:pt x="82110" y="0"/>
                </a:moveTo>
                <a:lnTo>
                  <a:pt x="82110" y="21600"/>
                </a:lnTo>
                <a:lnTo>
                  <a:pt x="80710" y="20200"/>
                </a:lnTo>
                <a:lnTo>
                  <a:pt x="80710" y="1400"/>
                </a:lnTo>
                <a:close/>
              </a:path>
              <a:path fill="darkenLess" w="82110" h="21600">
                <a:moveTo>
                  <a:pt x="82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710" y="20200"/>
                </a:lnTo>
                <a:close/>
              </a:path>
              <a:path fill="lighten" w="82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. Etud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56360" y="2852640"/>
            <a:ext cx="2735280" cy="719280"/>
          </a:xfrm>
          <a:custGeom>
            <a:avLst/>
            <a:gdLst>
              <a:gd name="textAreaLeft" fmla="*/ 46440 w 2735280"/>
              <a:gd name="textAreaRight" fmla="*/ 2688840 w 2735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82110" h="21600">
                <a:moveTo>
                  <a:pt x="0" y="0"/>
                </a:moveTo>
                <a:lnTo>
                  <a:pt x="82110" y="0"/>
                </a:lnTo>
                <a:lnTo>
                  <a:pt x="82110" y="21600"/>
                </a:lnTo>
                <a:lnTo>
                  <a:pt x="0" y="21600"/>
                </a:lnTo>
                <a:close/>
              </a:path>
              <a:path fill="lightenLess" w="82110" h="21600">
                <a:moveTo>
                  <a:pt x="0" y="0"/>
                </a:moveTo>
                <a:lnTo>
                  <a:pt x="82110" y="0"/>
                </a:lnTo>
                <a:lnTo>
                  <a:pt x="80710" y="1400"/>
                </a:lnTo>
                <a:lnTo>
                  <a:pt x="1400" y="1400"/>
                </a:lnTo>
                <a:close/>
              </a:path>
              <a:path fill="darken" w="82110" h="21600">
                <a:moveTo>
                  <a:pt x="82110" y="0"/>
                </a:moveTo>
                <a:lnTo>
                  <a:pt x="82110" y="21600"/>
                </a:lnTo>
                <a:lnTo>
                  <a:pt x="80710" y="20200"/>
                </a:lnTo>
                <a:lnTo>
                  <a:pt x="80710" y="1400"/>
                </a:lnTo>
                <a:close/>
              </a:path>
              <a:path fill="darkenLess" w="82110" h="21600">
                <a:moveTo>
                  <a:pt x="82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710" y="20200"/>
                </a:lnTo>
                <a:close/>
              </a:path>
              <a:path fill="lighten" w="82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Etude statiq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/>
          </p:cNvPr>
          <p:cNvSpPr/>
          <p:nvPr/>
        </p:nvSpPr>
        <p:spPr>
          <a:xfrm>
            <a:off x="6156360" y="3789360"/>
            <a:ext cx="2735280" cy="719280"/>
          </a:xfrm>
          <a:custGeom>
            <a:avLst/>
            <a:gdLst>
              <a:gd name="textAreaLeft" fmla="*/ 46440 w 2735280"/>
              <a:gd name="textAreaRight" fmla="*/ 2688840 w 2735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82110" h="21600">
                <a:moveTo>
                  <a:pt x="0" y="0"/>
                </a:moveTo>
                <a:lnTo>
                  <a:pt x="82110" y="0"/>
                </a:lnTo>
                <a:lnTo>
                  <a:pt x="82110" y="21600"/>
                </a:lnTo>
                <a:lnTo>
                  <a:pt x="0" y="21600"/>
                </a:lnTo>
                <a:close/>
              </a:path>
              <a:path fill="lightenLess" w="82110" h="21600">
                <a:moveTo>
                  <a:pt x="0" y="0"/>
                </a:moveTo>
                <a:lnTo>
                  <a:pt x="82110" y="0"/>
                </a:lnTo>
                <a:lnTo>
                  <a:pt x="80710" y="1400"/>
                </a:lnTo>
                <a:lnTo>
                  <a:pt x="1400" y="1400"/>
                </a:lnTo>
                <a:close/>
              </a:path>
              <a:path fill="darken" w="82110" h="21600">
                <a:moveTo>
                  <a:pt x="82110" y="0"/>
                </a:moveTo>
                <a:lnTo>
                  <a:pt x="82110" y="21600"/>
                </a:lnTo>
                <a:lnTo>
                  <a:pt x="80710" y="20200"/>
                </a:lnTo>
                <a:lnTo>
                  <a:pt x="80710" y="1400"/>
                </a:lnTo>
                <a:close/>
              </a:path>
              <a:path fill="darkenLess" w="82110" h="21600">
                <a:moveTo>
                  <a:pt x="82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710" y="20200"/>
                </a:lnTo>
                <a:close/>
              </a:path>
              <a:path fill="lighten" w="82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 Etude deétude de résistance.ppt ré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5160" y="1125360"/>
            <a:ext cx="625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ns le but de valider le projet il vous est propo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e réflexion en trois ét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81720" y="2133720"/>
            <a:ext cx="41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ude du déplacement vertical de la l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925720"/>
            <a:ext cx="58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étermination de l’effort qui s’exerce sur le palier de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érification de l’effort à exercer sur le vol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58800" y="4029120"/>
            <a:ext cx="362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ude de résistance du palier de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16720" y="4869000"/>
            <a:ext cx="2016000" cy="43308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100483" h="21600">
                <a:moveTo>
                  <a:pt x="0" y="0"/>
                </a:moveTo>
                <a:lnTo>
                  <a:pt x="100483" y="0"/>
                </a:lnTo>
                <a:lnTo>
                  <a:pt x="100483" y="21600"/>
                </a:lnTo>
                <a:lnTo>
                  <a:pt x="0" y="21600"/>
                </a:lnTo>
                <a:close/>
              </a:path>
              <a:path fill="lightenLess" w="100483" h="21600">
                <a:moveTo>
                  <a:pt x="0" y="0"/>
                </a:moveTo>
                <a:lnTo>
                  <a:pt x="100483" y="0"/>
                </a:lnTo>
                <a:lnTo>
                  <a:pt x="99083" y="1400"/>
                </a:lnTo>
                <a:lnTo>
                  <a:pt x="1400" y="1400"/>
                </a:lnTo>
                <a:close/>
              </a:path>
              <a:path fill="darken" w="100483" h="21600">
                <a:moveTo>
                  <a:pt x="100483" y="0"/>
                </a:moveTo>
                <a:lnTo>
                  <a:pt x="100483" y="21600"/>
                </a:lnTo>
                <a:lnTo>
                  <a:pt x="99083" y="20200"/>
                </a:lnTo>
                <a:lnTo>
                  <a:pt x="99083" y="1400"/>
                </a:lnTo>
                <a:close/>
              </a:path>
              <a:path fill="darkenLess" w="100483" h="21600">
                <a:moveTo>
                  <a:pt x="100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83" y="20200"/>
                </a:lnTo>
                <a:close/>
              </a:path>
              <a:path fill="lighten" w="100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100483" h="21600">
                <a:moveTo>
                  <a:pt x="44715" y="3985"/>
                </a:moveTo>
                <a:lnTo>
                  <a:pt x="51712" y="3985"/>
                </a:lnTo>
                <a:lnTo>
                  <a:pt x="55768" y="7484"/>
                </a:lnTo>
                <a:lnTo>
                  <a:pt x="55768" y="17615"/>
                </a:lnTo>
                <a:lnTo>
                  <a:pt x="44715" y="17615"/>
                </a:lnTo>
                <a:close/>
              </a:path>
              <a:path fill="darken" w="100483" h="21600">
                <a:moveTo>
                  <a:pt x="51712" y="3985"/>
                </a:moveTo>
                <a:lnTo>
                  <a:pt x="55768" y="7484"/>
                </a:lnTo>
                <a:lnTo>
                  <a:pt x="51712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869000"/>
            <a:ext cx="5257800" cy="431640"/>
          </a:xfrm>
          <a:custGeom>
            <a:avLst/>
            <a:gdLst>
              <a:gd name="textAreaLeft" fmla="*/ 821520 w 5257800"/>
              <a:gd name="textAreaRight" fmla="*/ 4600800 w 52578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quer ici pour visualiser et imprimer le document répo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495" r="0" b="7086"/>
          <a:stretch/>
        </p:blipFill>
        <p:spPr>
          <a:xfrm>
            <a:off x="6804000" y="5516640"/>
            <a:ext cx="1387440" cy="117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16000" y="5661000"/>
            <a:ext cx="5257800" cy="432000"/>
          </a:xfrm>
          <a:custGeom>
            <a:avLst/>
            <a:gdLst>
              <a:gd name="textAreaLeft" fmla="*/ 821520 w 5257800"/>
              <a:gd name="textAreaRight" fmla="*/ 4600800 w 525780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quer sur l’image pour ouvrir la maquette virtue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endshow"/>
          </p:cNvPr>
          <p:cNvSpPr/>
          <p:nvPr/>
        </p:nvSpPr>
        <p:spPr>
          <a:xfrm>
            <a:off x="2916360" y="6237360"/>
            <a:ext cx="1800000" cy="433440"/>
          </a:xfrm>
          <a:custGeom>
            <a:avLst/>
            <a:gdLst>
              <a:gd name="textAreaLeft" fmla="*/ 28080 w 1800000"/>
              <a:gd name="textAreaRight" fmla="*/ 1771920 w 180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89644" h="21600">
                <a:moveTo>
                  <a:pt x="0" y="0"/>
                </a:moveTo>
                <a:lnTo>
                  <a:pt x="89644" y="0"/>
                </a:lnTo>
                <a:lnTo>
                  <a:pt x="89644" y="21600"/>
                </a:lnTo>
                <a:lnTo>
                  <a:pt x="0" y="21600"/>
                </a:lnTo>
                <a:close/>
              </a:path>
              <a:path fill="lightenLess" w="89644" h="21600">
                <a:moveTo>
                  <a:pt x="0" y="0"/>
                </a:moveTo>
                <a:lnTo>
                  <a:pt x="89644" y="0"/>
                </a:lnTo>
                <a:lnTo>
                  <a:pt x="88245" y="1400"/>
                </a:lnTo>
                <a:lnTo>
                  <a:pt x="1400" y="1400"/>
                </a:lnTo>
                <a:close/>
              </a:path>
              <a:path fill="darken" w="89644" h="21600">
                <a:moveTo>
                  <a:pt x="89644" y="0"/>
                </a:moveTo>
                <a:lnTo>
                  <a:pt x="89644" y="21600"/>
                </a:lnTo>
                <a:lnTo>
                  <a:pt x="88245" y="20200"/>
                </a:lnTo>
                <a:lnTo>
                  <a:pt x="88245" y="1400"/>
                </a:lnTo>
                <a:close/>
              </a:path>
              <a:path fill="darkenLess" w="89644" h="21600">
                <a:moveTo>
                  <a:pt x="896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45" y="20200"/>
                </a:lnTo>
                <a:close/>
              </a:path>
              <a:path fill="lighten" w="896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23:01:48Z</dcterms:created>
  <dc:creator>fabien MELAN</dc:creator>
  <dc:description/>
  <dc:language>en-US</dc:language>
  <cp:lastModifiedBy>cnr-cmao</cp:lastModifiedBy>
  <dcterms:modified xsi:type="dcterms:W3CDTF">2006-06-01T15:52:48Z</dcterms:modified>
  <cp:revision>15</cp:revision>
  <dc:subject/>
  <dc:title>lancement sujet</dc:title>
</cp:coreProperties>
</file>