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5A5-5753-4F9D-A792-C11896BA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502-2523-431F-B99A-DD29D3DC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CB1-0C4C-4B8A-9BAE-61E2C971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5E1-DA98-4606-996D-6223487E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099-0A87-4556-83EC-993C3EE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693-433F-4355-9FF7-5120378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8CF-0B0E-494F-B84B-4AF409D3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EFE-BFC7-482F-AF25-AEB9B36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D35-DA6B-4B47-8F7C-A9C6EA74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38A-278F-47B3-88D4-E58633F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DBE-5317-42B0-9475-5DCC668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0F6-1315-414A-9502-BC35142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AFC1-51A4-44E2-BDEA-AA16FECA1C5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8920" y="6381360"/>
            <a:ext cx="8103240" cy="250920"/>
            <a:chOff x="538920" y="6381360"/>
            <a:chExt cx="810324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20944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2036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1496880" y="6348240"/>
            <a:ext cx="287640" cy="28908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7" y="219"/>
                </a:moveTo>
                <a:lnTo>
                  <a:pt x="27" y="108"/>
                </a:lnTo>
                <a:lnTo>
                  <a:pt x="0" y="109"/>
                </a:lnTo>
                <a:lnTo>
                  <a:pt x="111" y="0"/>
                </a:lnTo>
                <a:lnTo>
                  <a:pt x="153" y="42"/>
                </a:lnTo>
                <a:lnTo>
                  <a:pt x="153" y="13"/>
                </a:lnTo>
                <a:lnTo>
                  <a:pt x="180" y="13"/>
                </a:lnTo>
                <a:lnTo>
                  <a:pt x="180" y="70"/>
                </a:lnTo>
                <a:lnTo>
                  <a:pt x="220" y="108"/>
                </a:lnTo>
                <a:lnTo>
                  <a:pt x="193" y="108"/>
                </a:lnTo>
                <a:lnTo>
                  <a:pt x="193" y="220"/>
                </a:lnTo>
                <a:lnTo>
                  <a:pt x="27" y="2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V="1">
            <a:off x="3780000" y="2781360"/>
            <a:ext cx="0" cy="352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Étude cin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41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ur des raisons de précision le projet prévoit l'utilisation d'un volant gradu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 volant gradué nécessite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relation linéair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entre le mouvement d'entrée ( rotation du volant ) et le mouvement de sortie de la l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932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La figure ci-contre précise les éléments et points utiles pour cette étu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8107" t="26099" r="14257" b="26165"/>
          <a:stretch/>
        </p:blipFill>
        <p:spPr>
          <a:xfrm>
            <a:off x="2340000" y="2276640"/>
            <a:ext cx="6443640" cy="3867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2195640" y="5734080"/>
            <a:ext cx="718920" cy="288720"/>
          </a:xfrm>
          <a:prstGeom prst="wedgeRectCallout">
            <a:avLst>
              <a:gd name="adj1" fmla="val 94592"/>
              <a:gd name="adj2" fmla="val -279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5013360"/>
            <a:ext cx="865080" cy="647640"/>
          </a:xfrm>
          <a:prstGeom prst="wedgeRectCallout">
            <a:avLst>
              <a:gd name="adj1" fmla="val -26148"/>
              <a:gd name="adj2" fmla="val -186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e de la l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5805360"/>
            <a:ext cx="431640" cy="289080"/>
          </a:xfrm>
          <a:prstGeom prst="wedgeRectCallout">
            <a:avLst>
              <a:gd name="adj1" fmla="val -87865"/>
              <a:gd name="adj2" fmla="val -185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5805360"/>
            <a:ext cx="431640" cy="289080"/>
          </a:xfrm>
          <a:prstGeom prst="wedgeRectCallout">
            <a:avLst>
              <a:gd name="adj1" fmla="val 141912"/>
              <a:gd name="adj2" fmla="val -198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6165720"/>
            <a:ext cx="4537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0528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74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34936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ette étude doit permettre de vérifier cette relation de linéarité et donc de valider le choix d’un volant de man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308640"/>
            <a:ext cx="718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28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250920" y="333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– visualiser l’arbre de construction Méca 3D et faire l’inventaire des différents groupes cinématiques; compléter le tableau don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rque : la lame de scie est considérée comme appartenant au bascul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8900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– faire l’inventaire des liaisons entre groupes cinématiques; compléter le tableau donné en précisant le nom et le numéro de la li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716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– Pour la liaison Hélicoïdale, modifier dans l’arbre de création du mécanisme les valeurs du filetage 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 4 m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ns : 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– visualiser le graphe de structure du mécanisme, le ré organiser et l’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rim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pression couleur).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e document est à rendre en fin d’épreu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41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5 – Lancer l’analyse du système et prendre connaissance de son degré de mobilité ainsi que de son degré d’hyperstatis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005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 – Calculer la durée totale t  ( en s ) du mouvement pour passer de B1 à B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4000" y="2421000"/>
            <a:ext cx="8497800" cy="1348560"/>
            <a:chOff x="324000" y="2421000"/>
            <a:chExt cx="8497800" cy="1348560"/>
          </a:xfrm>
        </p:grpSpPr>
        <p:sp>
          <p:nvSpPr>
            <p:cNvPr id="67" name=""/>
            <p:cNvSpPr/>
            <p:nvPr/>
          </p:nvSpPr>
          <p:spPr>
            <a:xfrm>
              <a:off x="324000" y="2421000"/>
              <a:ext cx="82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étermination des paramètres d’é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00" y="2852640"/>
              <a:ext cx="849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achant que L’opérateur tourne le volant de manœuvre à une fréquence de rotation régulière de 1 tour par seconde, la noix se déplace de B1 à B2  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( Course  B1,B2  = 96 mm )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, le point de départ  B1 est donné par la maquet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4000" y="465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7 – Compléter, sur votre document réponse, la boîte de dialogue «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oix des paramètres d’étud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 en fonction des consignes données et des calculs effectués. (voir illustration diapositive suiv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00" y="404640"/>
            <a:ext cx="431640" cy="64800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611280" y="1700280"/>
            <a:ext cx="5995800" cy="4233960"/>
            <a:chOff x="611280" y="1700280"/>
            <a:chExt cx="5995800" cy="42339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1187" t="1818" r="29073" b="4019"/>
            <a:stretch/>
          </p:blipFill>
          <p:spPr>
            <a:xfrm>
              <a:off x="611280" y="1700280"/>
              <a:ext cx="5995800" cy="423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73" name=""/>
            <p:cNvSpPr/>
            <p:nvPr/>
          </p:nvSpPr>
          <p:spPr>
            <a:xfrm>
              <a:off x="1636560" y="2767320"/>
              <a:ext cx="4551120" cy="206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64760" y="2767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74920" y="2767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8680" y="277236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66960" y="4487760"/>
              <a:ext cx="177588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90600" y="4866120"/>
              <a:ext cx="144288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722920" y="3645000"/>
            <a:ext cx="3241800" cy="685800"/>
          </a:xfrm>
          <a:prstGeom prst="wedgeRectCallout">
            <a:avLst>
              <a:gd name="adj1" fmla="val -95495"/>
              <a:gd name="adj2" fmla="val 86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logiciel effectuera un calcul pour chaque position. Faire correspondre une position à chaque tour de v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2920" y="4508640"/>
            <a:ext cx="3241800" cy="934920"/>
          </a:xfrm>
          <a:prstGeom prst="wedgeRectCallout">
            <a:avLst>
              <a:gd name="adj1" fmla="val -95055"/>
              <a:gd name="adj2" fmla="val 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ée totale calculée en foncti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a fréquence de rotation du v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 pas de la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a course de la no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052640"/>
            <a:ext cx="3311280" cy="431640"/>
          </a:xfrm>
          <a:prstGeom prst="wedgeRectCallout">
            <a:avLst>
              <a:gd name="adj1" fmla="val -5083"/>
              <a:gd name="adj2" fmla="val 318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qu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 nom et le numéro de 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ison d’entrée du mécanisme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1052640"/>
            <a:ext cx="1513080" cy="431640"/>
          </a:xfrm>
          <a:prstGeom prst="wedgeRectCallout">
            <a:avLst>
              <a:gd name="adj1" fmla="val -83157"/>
              <a:gd name="adj2" fmla="val 305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vement pil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0920" y="2060640"/>
            <a:ext cx="2237040" cy="1374840"/>
          </a:xfrm>
          <a:prstGeom prst="wedgeRectCallout">
            <a:avLst>
              <a:gd name="adj1" fmla="val -81583"/>
              <a:gd name="adj2" fmla="val 11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esse du mouvement d’entré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urs/minu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ur les ro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 positif pour les rotations : sens des aiguilles d’une mont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1052640"/>
            <a:ext cx="2449440" cy="431640"/>
          </a:xfrm>
          <a:prstGeom prst="wedgeRectCallout">
            <a:avLst>
              <a:gd name="adj1" fmla="val -86939"/>
              <a:gd name="adj2" fmla="val 309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vement d'entrée impos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600" y="42372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figure ci-dessous précise les paramètres d’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339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8 – Saisir les données de la boîte de dialogue dans le logiciel Méca 3D, relancer le calcul, puis fin pour sort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34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9 – Faire une simulation du mouvement obtenu en déduire le mouvement du « palier »  par rapport au « bâti »  ( le repère R1 est lié au bât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4000" y="2420280"/>
            <a:ext cx="8135640" cy="1218960"/>
            <a:chOff x="324000" y="2420280"/>
            <a:chExt cx="8135640" cy="1218960"/>
          </a:xfrm>
        </p:grpSpPr>
        <p:sp>
          <p:nvSpPr>
            <p:cNvPr id="89" name=""/>
            <p:cNvSpPr/>
            <p:nvPr/>
          </p:nvSpPr>
          <p:spPr>
            <a:xfrm>
              <a:off x="324000" y="2420280"/>
              <a:ext cx="813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r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10 – Créer 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la  trajectoire du point A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( point sur l’axe de la lame)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ppartenant   au basculeur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996640"/>
              <a:ext cx="78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r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réer la spline SW correspondante ( elle apparaît dans Solidworks) et faire une </a:t>
              </a:r>
              <a:r>
                <a:rPr b="0" lang="fr-FR" sz="1800" spc="-1" strike="noStrike">
                  <a:solidFill>
                    <a:srgbClr val="333399"/>
                  </a:solidFill>
                  <a:latin typeface="Arial"/>
                </a:rPr>
                <a:t>sortie imprimante ( Sortie 2 )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de cette trajectoi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24000" y="4005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11 – Afin de déterminer le déplacement en hauteur H de la lame,consulter la courbe de déplacement du point A  appartenant au basculeur suiva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axe O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dans le repère R1 lié au Bâti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Imprimer la courbe ( Sortie 3 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, créer un rapport puis </a:t>
            </a: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l’imprimer ( Sortie 4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er la hauteur H ( au 1/100e de mm près ) pour la durée totale du mou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17080" y="299736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479736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17080" y="551664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27158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4 – La relation entre le mouvement de rotation du volant et le mouvement de translation verticale de la lame est elle linéaire ? Justifier votre ré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 mécanisme peut-il convenir pour une machine à boi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755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2 – Le déplacement en hauteur H est obtenu pour 24 tours de vo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er le déplacement moyen pour un tour de vo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720" y="169956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3 – Calculer la variation de hauteur entre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sition 10 et la position 11             la position 23 et la position 24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6237360"/>
            <a:ext cx="86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79320" y="4653000"/>
            <a:ext cx="59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 de l’étude CINEMATIQ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ourner au sommaire pour la suite du su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36Z</dcterms:created>
  <dc:creator>fabien MELAN</dc:creator>
  <dc:description/>
  <dc:language>en-US</dc:language>
  <cp:lastModifiedBy>sébastien</cp:lastModifiedBy>
  <dcterms:modified xsi:type="dcterms:W3CDTF">2004-12-08T12:23:23Z</dcterms:modified>
  <cp:revision>33</cp:revision>
  <dc:subject/>
  <dc:title>questionnaire étude cinématique</dc:title>
</cp:coreProperties>
</file>