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A4C-B9A7-48E4-98DA-CF9810B5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AC9-D7BA-42FB-AF2A-C6854E3F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5F8-339F-40E7-930C-D5562499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DDC-E30B-499B-BF68-822D50F0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17A-AC9B-44A3-A023-CEA3A00C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FB1-35DA-4601-852E-C172DEDF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EF6-CA2C-46B6-BDE1-11175751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C3F-1CCE-417C-98B5-74061BA0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CE9-48B8-4AAC-BBD7-B4F56DFE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ECA-BF82-489F-B010-C59D8281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3A6-1A74-4E77-BA33-AA1582EA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258-6178-405F-A916-C8B85367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D6DF-A265-4142-9E79-AF04143A544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8920" y="6381360"/>
            <a:ext cx="8103240" cy="250920"/>
            <a:chOff x="538920" y="6381360"/>
            <a:chExt cx="8103240" cy="250920"/>
          </a:xfrm>
        </p:grpSpPr>
        <p:sp>
          <p:nvSpPr>
            <p:cNvPr id="6" name="">
              <a:hlinkClick r:id="" action="ppaction://hlinkshowjump?jump=nextslide"/>
            </p:cNvPr>
            <p:cNvSpPr/>
            <p:nvPr/>
          </p:nvSpPr>
          <p:spPr>
            <a:xfrm flipV="1" rot="16200000">
              <a:off x="8209440" y="6199200"/>
              <a:ext cx="250920" cy="614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>
              <a:hlinkClick r:id="" action="ppaction://hlinkshowjump?jump=previousslide"/>
            </p:cNvPr>
            <p:cNvSpPr/>
            <p:nvPr/>
          </p:nvSpPr>
          <p:spPr>
            <a:xfrm flipH="1" flipV="1" rot="5400000">
              <a:off x="720360" y="6199200"/>
              <a:ext cx="250920" cy="614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../images%20et%20vid&#233;os/mont&#233;e.avi" TargetMode="External"/><Relationship Id="rId4" Type="http://schemas.openxmlformats.org/officeDocument/2006/relationships/image" Target="../media/image5.wmf"/><Relationship Id="rId5" Type="http://schemas.openxmlformats.org/officeDocument/2006/relationships/hyperlink" Target="file:///Sujet.ppt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374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Probléma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98100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ns le but de conquérir un marché étranger, la société LUREM demande à son Bureau d’Etudes la création d’un modèle de scie sur lequel la sortie et l’inclinaison de la lame seront effectués avec des volants de manœuvre permettant des réglages plus préc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4871" r="0" b="7759"/>
          <a:stretch/>
        </p:blipFill>
        <p:spPr>
          <a:xfrm>
            <a:off x="3492360" y="1773360"/>
            <a:ext cx="536904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3213000"/>
            <a:ext cx="2743200" cy="655560"/>
          </a:xfrm>
          <a:prstGeom prst="wedgeRectCallout">
            <a:avLst>
              <a:gd name="adj1" fmla="val 70023"/>
              <a:gd name="adj2" fmla="val 42250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 rotation de ce volant permet le réglage de l’inclinaison de la lame par rapport à l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960" y="4941720"/>
            <a:ext cx="2743200" cy="649440"/>
          </a:xfrm>
          <a:prstGeom prst="wedgeRectCallout">
            <a:avLst>
              <a:gd name="adj1" fmla="val 102837"/>
              <a:gd name="adj2" fmla="val 78115"/>
            </a:avLst>
          </a:prstGeom>
          <a:solidFill>
            <a:srgbClr val="ff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 rotation de ce volant permet le réglage de la sortie de la lame par rapport à l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351000" y="6262560"/>
            <a:ext cx="1800000" cy="433440"/>
          </a:xfrm>
          <a:custGeom>
            <a:avLst/>
            <a:gdLst>
              <a:gd name="textAreaLeft" fmla="*/ 28080 w 1800000"/>
              <a:gd name="textAreaRight" fmla="*/ 1771920 w 180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89644" h="21600">
                <a:moveTo>
                  <a:pt x="0" y="0"/>
                </a:moveTo>
                <a:lnTo>
                  <a:pt x="89644" y="0"/>
                </a:lnTo>
                <a:lnTo>
                  <a:pt x="89644" y="21600"/>
                </a:lnTo>
                <a:lnTo>
                  <a:pt x="0" y="21600"/>
                </a:lnTo>
                <a:close/>
              </a:path>
              <a:path fill="lightenLess" w="89644" h="21600">
                <a:moveTo>
                  <a:pt x="0" y="0"/>
                </a:moveTo>
                <a:lnTo>
                  <a:pt x="89644" y="0"/>
                </a:lnTo>
                <a:lnTo>
                  <a:pt x="88245" y="1400"/>
                </a:lnTo>
                <a:lnTo>
                  <a:pt x="1400" y="1400"/>
                </a:lnTo>
                <a:close/>
              </a:path>
              <a:path fill="darken" w="89644" h="21600">
                <a:moveTo>
                  <a:pt x="89644" y="0"/>
                </a:moveTo>
                <a:lnTo>
                  <a:pt x="89644" y="21600"/>
                </a:lnTo>
                <a:lnTo>
                  <a:pt x="88245" y="20200"/>
                </a:lnTo>
                <a:lnTo>
                  <a:pt x="88245" y="1400"/>
                </a:lnTo>
                <a:close/>
              </a:path>
              <a:path fill="darkenLess" w="89644" h="21600">
                <a:moveTo>
                  <a:pt x="896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45" y="20200"/>
                </a:lnTo>
                <a:close/>
              </a:path>
              <a:path fill="lighten" w="896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015400">
            <a:off x="4152960" y="4711320"/>
            <a:ext cx="2819520" cy="156204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88520" y="56419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Comic Sans MS"/>
              </a:rPr>
              <a:t>Système étud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rincipe du nouveau mécanisme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de sortie de 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6979" r="0" b="5507"/>
          <a:stretch/>
        </p:blipFill>
        <p:spPr>
          <a:xfrm>
            <a:off x="1308240" y="1771560"/>
            <a:ext cx="6379920" cy="396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3645000"/>
            <a:ext cx="1368360" cy="358560"/>
          </a:xfrm>
          <a:prstGeom prst="wedgeRectCallout">
            <a:avLst>
              <a:gd name="adj1" fmla="val 51277"/>
              <a:gd name="adj2" fmla="val 2615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5877000"/>
            <a:ext cx="1368360" cy="358560"/>
          </a:xfrm>
          <a:prstGeom prst="wedgeRectCallout">
            <a:avLst>
              <a:gd name="adj1" fmla="val 56495"/>
              <a:gd name="adj2" fmla="val -2544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5877000"/>
            <a:ext cx="1368720" cy="358560"/>
          </a:xfrm>
          <a:prstGeom prst="wedgeRectCallout">
            <a:avLst>
              <a:gd name="adj1" fmla="val -80393"/>
              <a:gd name="adj2" fmla="val -314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5877000"/>
            <a:ext cx="1368720" cy="358560"/>
          </a:xfrm>
          <a:prstGeom prst="wedgeRectCallout">
            <a:avLst>
              <a:gd name="adj1" fmla="val -26217"/>
              <a:gd name="adj2" fmla="val -3075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5877000"/>
            <a:ext cx="1368720" cy="358560"/>
          </a:xfrm>
          <a:prstGeom prst="wedgeRectCallout">
            <a:avLst>
              <a:gd name="adj1" fmla="val -63805"/>
              <a:gd name="adj2" fmla="val -392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120" y="2844720"/>
            <a:ext cx="1368360" cy="358920"/>
          </a:xfrm>
          <a:prstGeom prst="wedgeRectCallout">
            <a:avLst>
              <a:gd name="adj1" fmla="val 156148"/>
              <a:gd name="adj2" fmla="val 115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5720" y="1962000"/>
            <a:ext cx="1368360" cy="358920"/>
          </a:xfrm>
          <a:prstGeom prst="wedgeRectCallout">
            <a:avLst>
              <a:gd name="adj1" fmla="val 237819"/>
              <a:gd name="adj2" fmla="val 344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cu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78160" y="1936800"/>
            <a:ext cx="1728720" cy="358560"/>
          </a:xfrm>
          <a:prstGeom prst="wedgeRectCallout">
            <a:avLst>
              <a:gd name="adj1" fmla="val 138796"/>
              <a:gd name="adj2" fmla="val 36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me de s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4076640"/>
            <a:ext cx="360360" cy="360360"/>
          </a:xfrm>
          <a:prstGeom prst="wedgeEllipseCallout">
            <a:avLst>
              <a:gd name="adj1" fmla="val 135462"/>
              <a:gd name="adj2" fmla="val 208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4869000"/>
            <a:ext cx="360360" cy="360360"/>
          </a:xfrm>
          <a:prstGeom prst="wedgeEllipseCallout">
            <a:avLst>
              <a:gd name="adj1" fmla="val -224449"/>
              <a:gd name="adj2" fmla="val -46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4869000"/>
            <a:ext cx="360360" cy="360360"/>
          </a:xfrm>
          <a:prstGeom prst="wedgeEllipseCallout">
            <a:avLst>
              <a:gd name="adj1" fmla="val 233699"/>
              <a:gd name="adj2" fmla="val 6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24720" y="4149720"/>
            <a:ext cx="360360" cy="360360"/>
          </a:xfrm>
          <a:prstGeom prst="wedgeEllipseCallout">
            <a:avLst>
              <a:gd name="adj1" fmla="val -309032"/>
              <a:gd name="adj2" fmla="val -74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2276640"/>
            <a:ext cx="360360" cy="360360"/>
          </a:xfrm>
          <a:prstGeom prst="wedgeEllipseCallout">
            <a:avLst>
              <a:gd name="adj1" fmla="val -109912"/>
              <a:gd name="adj2" fmla="val 188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573360"/>
            <a:ext cx="360360" cy="360360"/>
          </a:xfrm>
          <a:prstGeom prst="wedgeEllipseCallout">
            <a:avLst>
              <a:gd name="adj1" fmla="val 431500"/>
              <a:gd name="adj2" fmla="val -39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2680" y="1293840"/>
            <a:ext cx="85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vi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lation noi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tation basculeu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raînement moteur+l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301920" y="5384880"/>
            <a:ext cx="457200" cy="411840"/>
            <a:chOff x="3301920" y="5384880"/>
            <a:chExt cx="457200" cy="411840"/>
          </a:xfrm>
        </p:grpSpPr>
        <p:sp>
          <p:nvSpPr>
            <p:cNvPr id="70" name=""/>
            <p:cNvSpPr/>
            <p:nvPr/>
          </p:nvSpPr>
          <p:spPr>
            <a:xfrm>
              <a:off x="3301920" y="5384880"/>
              <a:ext cx="457200" cy="191160"/>
            </a:xfrm>
            <a:custGeom>
              <a:avLst/>
              <a:gdLst>
                <a:gd name="textAreaLeft" fmla="*/ 79920 w 457200"/>
                <a:gd name="textAreaRight" fmla="*/ 331560 w 457200"/>
                <a:gd name="textAreaTop" fmla="*/ 25560 h 191160"/>
                <a:gd name="textAreaBottom" fmla="*/ 16560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1769215"/>
                  <a:lnTo>
                    <a:pt x="20468" y="10232"/>
                  </a:lnTo>
                  <a:lnTo>
                    <a:pt x="17280" y="21600"/>
                  </a:lnTo>
                  <a:lnTo>
                    <a:pt x="11828" y="10232"/>
                  </a:lnTo>
                  <a:lnTo>
                    <a:pt x="13988" y="10232"/>
                  </a:lnTo>
                  <a:arcTo wR="7560" hR="21600" stAng="-3630785" swAng="-1411780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301920" y="5605200"/>
              <a:ext cx="457200" cy="191160"/>
            </a:xfrm>
            <a:custGeom>
              <a:avLst/>
              <a:gdLst>
                <a:gd name="textAreaLeft" fmla="*/ 79920 w 457200"/>
                <a:gd name="textAreaRight" fmla="*/ 331560 w 457200"/>
                <a:gd name="textAreaTop" fmla="*/ 25560 h 191160"/>
                <a:gd name="textAreaBottom" fmla="*/ 16560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1769215"/>
                  <a:lnTo>
                    <a:pt x="20468" y="10232"/>
                  </a:lnTo>
                  <a:lnTo>
                    <a:pt x="17280" y="21600"/>
                  </a:lnTo>
                  <a:lnTo>
                    <a:pt x="11828" y="10232"/>
                  </a:lnTo>
                  <a:lnTo>
                    <a:pt x="13988" y="10232"/>
                  </a:lnTo>
                  <a:arcTo wR="7560" hR="21600" stAng="-3630785" swAng="-1411780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rot="21172200">
            <a:off x="4800240" y="5549400"/>
            <a:ext cx="825480" cy="177840"/>
          </a:xfrm>
          <a:prstGeom prst="leftRightArrow">
            <a:avLst>
              <a:gd name="adj1" fmla="val 50000"/>
              <a:gd name="adj2" fmla="val 92404"/>
            </a:avLst>
          </a:prstGeom>
          <a:solidFill>
            <a:srgbClr val="ffcc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362320" y="2413080"/>
            <a:ext cx="456840" cy="609120"/>
            <a:chOff x="2362320" y="2413080"/>
            <a:chExt cx="456840" cy="609120"/>
          </a:xfrm>
        </p:grpSpPr>
        <p:sp>
          <p:nvSpPr>
            <p:cNvPr id="74" name=""/>
            <p:cNvSpPr/>
            <p:nvPr/>
          </p:nvSpPr>
          <p:spPr>
            <a:xfrm>
              <a:off x="2362320" y="241308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2374200" y="255204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-360 h 469800"/>
                <a:gd name="textAreaBottom" fmla="*/ 46980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330800" y="1930320"/>
            <a:ext cx="203040" cy="533520"/>
          </a:xfrm>
          <a:prstGeom prst="upDownArrow">
            <a:avLst>
              <a:gd name="adj1" fmla="val 50000"/>
              <a:gd name="adj2" fmla="val 52310"/>
            </a:avLst>
          </a:prstGeom>
          <a:solidFill>
            <a:srgbClr val="ffcc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Opérations de rég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16240"/>
          <a:stretch/>
        </p:blipFill>
        <p:spPr>
          <a:xfrm>
            <a:off x="4788000" y="3475080"/>
            <a:ext cx="4038480" cy="2833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4038480" cy="3383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651640" y="398628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4005360"/>
            <a:ext cx="288720" cy="503280"/>
          </a:xfrm>
          <a:prstGeom prst="upDownArrow">
            <a:avLst>
              <a:gd name="adj1" fmla="val 50000"/>
              <a:gd name="adj2" fmla="val 347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1341360"/>
            <a:ext cx="2519280" cy="1513080"/>
          </a:xfrm>
          <a:prstGeom prst="wedgeEllipseCallout">
            <a:avLst>
              <a:gd name="adj1" fmla="val 87995"/>
              <a:gd name="adj2" fmla="val 47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nipulation du volant a pour effet de faire sortir la l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765000"/>
            <a:ext cx="2448000" cy="358920"/>
          </a:xfrm>
          <a:prstGeom prst="wedgeRectCallout">
            <a:avLst>
              <a:gd name="adj1" fmla="val 43773"/>
              <a:gd name="adj2" fmla="val 117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lame r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3141720"/>
            <a:ext cx="2736720" cy="1224000"/>
          </a:xfrm>
          <a:prstGeom prst="wedgeEllipseCallout">
            <a:avLst>
              <a:gd name="adj1" fmla="val 105162"/>
              <a:gd name="adj2" fmla="val 42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ttant le réglage de la hauteur sortie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4724280"/>
            <a:ext cx="3527280" cy="1225800"/>
          </a:xfrm>
          <a:prstGeom prst="wedgeEllipseCallout">
            <a:avLst>
              <a:gd name="adj1" fmla="val 74120"/>
              <a:gd name="adj2" fmla="val 6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manette permet le blocage en position après rég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6381720"/>
            <a:ext cx="609480" cy="2970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5"/>
          </p:cNvPr>
          <p:cNvSpPr/>
          <p:nvPr/>
        </p:nvSpPr>
        <p:spPr>
          <a:xfrm flipV="1" rot="16200000">
            <a:off x="8206200" y="6199200"/>
            <a:ext cx="250920" cy="614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77680" y="63277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Comic Sans MS"/>
              </a:rPr>
              <a:t>Su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1301760" y="6359400"/>
            <a:ext cx="87624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2:13:09Z</dcterms:created>
  <dc:creator>fabien MELAN</dc:creator>
  <dc:description/>
  <dc:language>en-US</dc:language>
  <cp:lastModifiedBy>cnr-cmao</cp:lastModifiedBy>
  <dcterms:modified xsi:type="dcterms:W3CDTF">2006-06-01T15:49:14Z</dcterms:modified>
  <cp:revision>26</cp:revision>
  <dc:subject/>
  <dc:title>énoncé de la problématique</dc:title>
</cp:coreProperties>
</file>