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B57-2482-4B1F-BAFF-3718BB23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C0A-63EE-49D5-A53C-4709E65B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CDD-4169-475B-A729-7352358B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85F-34AB-49FE-875A-1DD2F12F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57C-5857-4B8A-81BB-B5F794C7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2B5-E917-488B-A16C-949D580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F83-B7E7-45B4-9244-D271C55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82A-D603-4F0B-A9FA-564424E5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813-34BB-4B30-8811-18F8C93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7DD-B8F6-4052-B270-B335A53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9DB-E4BB-4374-9BFD-1F2B64D4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355-CCB9-4EB9-A8B1-98E0E23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87B-594B-4B17-8AB7-B9969D6B9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ACTICIEL COS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EMPLE DE VALIDATION DE LIMITE ELAST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50036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41360" y="639720"/>
            <a:ext cx="8261280" cy="5578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4572000" y="2421000"/>
            <a:ext cx="1728720" cy="1152360"/>
          </a:xfrm>
          <a:prstGeom prst="wedgeRectCallout">
            <a:avLst>
              <a:gd name="adj1" fmla="val -164449"/>
              <a:gd name="adj2" fmla="val 4233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Mai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372360" y="4437000"/>
            <a:ext cx="1728720" cy="1152720"/>
          </a:xfrm>
          <a:prstGeom prst="wedgeRectCallout">
            <a:avLst>
              <a:gd name="adj1" fmla="val -193421"/>
              <a:gd name="adj2" fmla="val -12112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créer le mai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31640" y="635040"/>
            <a:ext cx="8280720" cy="5587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4788000" y="765000"/>
            <a:ext cx="1728720" cy="1151280"/>
          </a:xfrm>
          <a:prstGeom prst="wedgeRectCallout">
            <a:avLst>
              <a:gd name="adj1" fmla="val -174527"/>
              <a:gd name="adj2" fmla="val 4989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étude socle AB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940360" y="2133720"/>
            <a:ext cx="1727280" cy="1150920"/>
          </a:xfrm>
          <a:prstGeom prst="wedgeRectCallout">
            <a:avLst>
              <a:gd name="adj1" fmla="val -159407"/>
              <a:gd name="adj2" fmla="val -5214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« exécuter 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11120" y="639720"/>
            <a:ext cx="8321760" cy="5578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5148360" y="4653000"/>
            <a:ext cx="1727280" cy="1152360"/>
          </a:xfrm>
          <a:prstGeom prst="wedgeRectCallout">
            <a:avLst>
              <a:gd name="adj1" fmla="val -151851"/>
              <a:gd name="adj2" fmla="val -89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Mont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00720" y="2924280"/>
            <a:ext cx="1726920" cy="1152360"/>
          </a:xfrm>
          <a:prstGeom prst="wedgeRectCallout">
            <a:avLst>
              <a:gd name="adj1" fmla="val -173263"/>
              <a:gd name="adj2" fmla="val 432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contraintes de von Mi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31640" y="627120"/>
            <a:ext cx="8280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41360" y="639720"/>
            <a:ext cx="8261280" cy="5578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932360" y="1844640"/>
            <a:ext cx="1727280" cy="1152720"/>
          </a:xfrm>
          <a:prstGeom prst="wedgeRectCallout">
            <a:avLst>
              <a:gd name="adj1" fmla="val -177675"/>
              <a:gd name="adj2" fmla="val 791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aliser une nouvelle étude avec du PA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19040" y="639720"/>
            <a:ext cx="8305920" cy="5578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5076720" y="1413000"/>
            <a:ext cx="1727280" cy="1008000"/>
          </a:xfrm>
          <a:prstGeom prst="wedgeRectCallout">
            <a:avLst>
              <a:gd name="adj1" fmla="val -200981"/>
              <a:gd name="adj2" fmla="val -6092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le 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SM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788000" y="2708280"/>
            <a:ext cx="1728720" cy="1008000"/>
          </a:xfrm>
          <a:prstGeom prst="wedgeRectCallout">
            <a:avLst>
              <a:gd name="adj1" fmla="val -182712"/>
              <a:gd name="adj2" fmla="val -15054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le 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31640" y="639720"/>
            <a:ext cx="8280720" cy="5578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716360" y="1557360"/>
            <a:ext cx="1727280" cy="1150920"/>
          </a:xfrm>
          <a:prstGeom prst="wedgeRectCallout">
            <a:avLst>
              <a:gd name="adj1" fmla="val -158148"/>
              <a:gd name="adj2" fmla="val 1682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ntrer Etude socle ABS puis vali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24000" y="4149720"/>
            <a:ext cx="1726920" cy="1150920"/>
          </a:xfrm>
          <a:prstGeom prst="wedgeRectCallout">
            <a:avLst>
              <a:gd name="adj1" fmla="val 45935"/>
              <a:gd name="adj2" fmla="val -23261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uis vali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06440" y="639720"/>
            <a:ext cx="8331120" cy="5578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788000" y="1773360"/>
            <a:ext cx="1728720" cy="1150920"/>
          </a:xfrm>
          <a:prstGeom prst="wedgeRectCallout">
            <a:avLst>
              <a:gd name="adj1" fmla="val -160666"/>
              <a:gd name="adj2" fmla="val 926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ouble cliquer sur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948360" y="2492280"/>
            <a:ext cx="1727280" cy="1297080"/>
          </a:xfrm>
          <a:prstGeom prst="wedgeRectCallout">
            <a:avLst>
              <a:gd name="adj1" fmla="val -203500"/>
              <a:gd name="adj2" fmla="val 5556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le matériau pui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31640" y="633240"/>
            <a:ext cx="8264520" cy="558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4788000" y="1773360"/>
            <a:ext cx="1728720" cy="1150920"/>
          </a:xfrm>
          <a:prstGeom prst="wedgeRectCallout">
            <a:avLst>
              <a:gd name="adj1" fmla="val -149328"/>
              <a:gd name="adj2" fmla="val 3005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liquer sur Actions extérie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875640" y="2276640"/>
            <a:ext cx="1728720" cy="1152360"/>
          </a:xfrm>
          <a:prstGeom prst="wedgeRectCallout">
            <a:avLst>
              <a:gd name="adj1" fmla="val -153111"/>
              <a:gd name="adj2" fmla="val 3099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déplacements impo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1640" y="703440"/>
            <a:ext cx="8280720" cy="5451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4427640" y="1413000"/>
            <a:ext cx="1728720" cy="1152360"/>
          </a:xfrm>
          <a:prstGeom prst="wedgeRectCallout">
            <a:avLst>
              <a:gd name="adj1" fmla="val -163814"/>
              <a:gd name="adj2" fmla="val 54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fix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059280" y="2924280"/>
            <a:ext cx="1728720" cy="1152360"/>
          </a:xfrm>
          <a:prstGeom prst="wedgeRectCallout">
            <a:avLst>
              <a:gd name="adj1" fmla="val 157425"/>
              <a:gd name="adj2" fmla="val -4175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les surfaces fi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31640" y="633240"/>
            <a:ext cx="8264520" cy="558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4788000" y="1773360"/>
            <a:ext cx="1728720" cy="1150920"/>
          </a:xfrm>
          <a:prstGeom prst="wedgeRectCallout">
            <a:avLst>
              <a:gd name="adj1" fmla="val -149328"/>
              <a:gd name="adj2" fmla="val 3005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liquer sur Actions extérie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875640" y="2276640"/>
            <a:ext cx="1728720" cy="1152360"/>
          </a:xfrm>
          <a:prstGeom prst="wedgeRectCallout">
            <a:avLst>
              <a:gd name="adj1" fmla="val -153111"/>
              <a:gd name="adj2" fmla="val 3099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oisir déplacements impo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47840" y="639720"/>
            <a:ext cx="8248320" cy="5578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4788000" y="1773360"/>
            <a:ext cx="1728720" cy="1439640"/>
          </a:xfrm>
          <a:prstGeom prst="wedgeRectCallout">
            <a:avLst>
              <a:gd name="adj1" fmla="val -172634"/>
              <a:gd name="adj2" fmla="val 5461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« utiliser une géométrie de référence 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14360" y="639720"/>
            <a:ext cx="8315280" cy="5578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4788000" y="1413000"/>
            <a:ext cx="1800000" cy="1152360"/>
          </a:xfrm>
          <a:prstGeom prst="wedgeRectCallout">
            <a:avLst>
              <a:gd name="adj1" fmla="val 99449"/>
              <a:gd name="adj2" fmla="val 20200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l’arête du cl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924360" y="3645000"/>
            <a:ext cx="1727280" cy="1152360"/>
          </a:xfrm>
          <a:prstGeom prst="wedgeRectCallout">
            <a:avLst>
              <a:gd name="adj1" fmla="val 101365"/>
              <a:gd name="adj2" fmla="val 6406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la direction du déplac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843280" y="4869000"/>
            <a:ext cx="2665440" cy="1296720"/>
          </a:xfrm>
          <a:prstGeom prst="wedgeRectCallout">
            <a:avLst>
              <a:gd name="adj1" fmla="val -72333"/>
              <a:gd name="adj2" fmla="val -9015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tape: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électionner « mm » et la valeur du déplac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(cette valeur correspond à la longueur de l’arê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lèche droite à entaille 9"/>
          <p:cNvSpPr/>
          <p:nvPr/>
        </p:nvSpPr>
        <p:spPr>
          <a:xfrm flipV="1" rot="10101000">
            <a:off x="2623320" y="2274840"/>
            <a:ext cx="2132280" cy="177840"/>
          </a:xfrm>
          <a:custGeom>
            <a:avLst/>
            <a:gdLst>
              <a:gd name="textAreaLeft" fmla="*/ 44280 w 2132280"/>
              <a:gd name="textAreaRight" fmla="*/ 2088000 w 2132280"/>
              <a:gd name="textAreaTop" fmla="*/ 44280 h 177840"/>
              <a:gd name="textAreaBottom" fmla="*/ 133560 h 177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698" y="5400"/>
                </a:lnTo>
                <a:lnTo>
                  <a:pt x="20698" y="0"/>
                </a:lnTo>
                <a:lnTo>
                  <a:pt x="21600" y="10800"/>
                </a:lnTo>
                <a:lnTo>
                  <a:pt x="20698" y="21600"/>
                </a:lnTo>
                <a:lnTo>
                  <a:pt x="20698" y="16200"/>
                </a:lnTo>
                <a:lnTo>
                  <a:pt x="0" y="16200"/>
                </a:lnTo>
                <a:lnTo>
                  <a:pt x="45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lèche droite à entaille 10"/>
          <p:cNvSpPr/>
          <p:nvPr/>
        </p:nvSpPr>
        <p:spPr>
          <a:xfrm flipV="1" rot="12222000">
            <a:off x="2340720" y="3561840"/>
            <a:ext cx="1605240" cy="165240"/>
          </a:xfrm>
          <a:custGeom>
            <a:avLst/>
            <a:gdLst>
              <a:gd name="textAreaLeft" fmla="*/ 41400 w 1605240"/>
              <a:gd name="textAreaRight" fmla="*/ 1563840 w 1605240"/>
              <a:gd name="textAreaTop" fmla="*/ 41040 h 165240"/>
              <a:gd name="textAreaBottom" fmla="*/ 123840 h 165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482" y="5400"/>
                </a:lnTo>
                <a:lnTo>
                  <a:pt x="20482" y="0"/>
                </a:lnTo>
                <a:lnTo>
                  <a:pt x="21600" y="10800"/>
                </a:lnTo>
                <a:lnTo>
                  <a:pt x="20482" y="21600"/>
                </a:lnTo>
                <a:lnTo>
                  <a:pt x="20482" y="16200"/>
                </a:lnTo>
                <a:lnTo>
                  <a:pt x="0" y="16200"/>
                </a:lnTo>
                <a:lnTo>
                  <a:pt x="55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lèche droite à entaille 11"/>
          <p:cNvSpPr/>
          <p:nvPr/>
        </p:nvSpPr>
        <p:spPr>
          <a:xfrm flipV="1" rot="19468200">
            <a:off x="5348160" y="5356800"/>
            <a:ext cx="1471680" cy="171360"/>
          </a:xfrm>
          <a:custGeom>
            <a:avLst/>
            <a:gdLst>
              <a:gd name="textAreaLeft" fmla="*/ 42480 w 1471680"/>
              <a:gd name="textAreaRight" fmla="*/ 1429200 w 1471680"/>
              <a:gd name="textAreaTop" fmla="*/ 42840 h 171360"/>
              <a:gd name="textAreaBottom" fmla="*/ 1285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51" y="5400"/>
                </a:lnTo>
                <a:lnTo>
                  <a:pt x="20351" y="0"/>
                </a:lnTo>
                <a:lnTo>
                  <a:pt x="21600" y="10800"/>
                </a:lnTo>
                <a:lnTo>
                  <a:pt x="20351" y="21600"/>
                </a:lnTo>
                <a:lnTo>
                  <a:pt x="20351" y="16200"/>
                </a:lnTo>
                <a:lnTo>
                  <a:pt x="0" y="16200"/>
                </a:lnTo>
                <a:lnTo>
                  <a:pt x="6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5:12:41Z</dcterms:created>
  <dc:creator>bruno</dc:creator>
  <dc:description/>
  <dc:language>en-US</dc:language>
  <cp:lastModifiedBy>CNR CMAO</cp:lastModifiedBy>
  <dcterms:modified xsi:type="dcterms:W3CDTF">2011-06-29T16:51:21Z</dcterms:modified>
  <cp:revision>10</cp:revision>
  <dc:subject/>
  <dc:title>Diapositive 1</dc:title>
</cp:coreProperties>
</file>