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907588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043-396E-49A1-982A-C3F71FE6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F33-A5C2-4F35-9134-3E5C4EA5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1DB-D66B-4D6B-ABBA-9ED8DC8D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569-640E-4F3F-9279-3FDD0B81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879-B943-4112-9494-73146810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E85-E0E0-47DF-8F37-BC83346C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63A-405E-429D-AA27-FC1EB47D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3F4-A3B3-4754-B81F-2658B358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13B-D32A-48A6-B63F-A5B8222F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870-5E43-4691-9560-7E64D0E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B6F-19B2-4801-AC99-93DF5AB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02C-985B-42CD-BA11-E0BD3592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9940-CCB8-402F-AE39-EBE4438E2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7920" y="838080"/>
            <a:ext cx="3219480" cy="17528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ou les fo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chniques à réal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78360" y="762120"/>
            <a:ext cx="3054600" cy="190476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context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CdC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680" y="3352680"/>
            <a:ext cx="4705200" cy="29718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solutions analo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principes et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construction méca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calculs d’avant-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10080" y="3352680"/>
            <a:ext cx="4210200" cy="29718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di1"/>
              </a:rPr>
              <a:t>Activité préalable obligatoi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di1"/>
              </a:rPr>
              <a:t>« La conception organique »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di1"/>
              </a:rPr>
              <a:t>Traduire ses intention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di1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di1"/>
              </a:rPr>
              <a:t>conception sous la for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di1"/>
              </a:rPr>
              <a:t>d’un schéma de princip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di1"/>
              </a:rPr>
              <a:t>de croq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3797280" y="2286000"/>
            <a:ext cx="1650960" cy="1447920"/>
          </a:xfrm>
          <a:prstGeom prst="line">
            <a:avLst/>
          </a:prstGeom>
          <a:ln w="6350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3000" y="304920"/>
            <a:ext cx="281412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di1"/>
              </a:rPr>
              <a:t>Le point de dé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75040" y="2222640"/>
            <a:ext cx="1576080" cy="1434960"/>
          </a:xfrm>
          <a:custGeom>
            <a:avLst/>
            <a:gdLst/>
            <a:ahLst/>
            <a:rect l="l" t="t" r="r" b="b"/>
            <a:pathLst>
              <a:path w="917" h="904">
                <a:moveTo>
                  <a:pt x="90" y="904"/>
                </a:moveTo>
                <a:cubicBezTo>
                  <a:pt x="42" y="760"/>
                  <a:pt x="0" y="614"/>
                  <a:pt x="90" y="472"/>
                </a:cubicBezTo>
                <a:cubicBezTo>
                  <a:pt x="180" y="330"/>
                  <a:pt x="494" y="104"/>
                  <a:pt x="632" y="52"/>
                </a:cubicBezTo>
                <a:cubicBezTo>
                  <a:pt x="770" y="0"/>
                  <a:pt x="858" y="139"/>
                  <a:pt x="917" y="162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  <a:tailEnd len="med" type="triangle" w="med"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9200" y="1619280"/>
            <a:ext cx="2189160" cy="560520"/>
          </a:xfrm>
          <a:custGeom>
            <a:avLst/>
            <a:gdLst/>
            <a:ahLst/>
            <a:rect l="l" t="t" r="r" b="b"/>
            <a:pathLst>
              <a:path w="1273" h="353">
                <a:moveTo>
                  <a:pt x="1273" y="36"/>
                </a:moveTo>
                <a:cubicBezTo>
                  <a:pt x="1093" y="36"/>
                  <a:pt x="386" y="0"/>
                  <a:pt x="193" y="37"/>
                </a:cubicBezTo>
                <a:cubicBezTo>
                  <a:pt x="0" y="74"/>
                  <a:pt x="114" y="205"/>
                  <a:pt x="114" y="258"/>
                </a:cubicBezTo>
                <a:cubicBezTo>
                  <a:pt x="114" y="311"/>
                  <a:pt x="177" y="333"/>
                  <a:pt x="193" y="353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  <a:tailEnd len="med" type="triangle" w="med"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6760" y="6400800"/>
            <a:ext cx="24764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xempl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%20102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140280" cy="3581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330120" y="304920"/>
            <a:ext cx="55310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Application pour  une autre pièc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920" y="1066680"/>
            <a:ext cx="4209840" cy="838440"/>
          </a:xfrm>
          <a:prstGeom prst="ellipse">
            <a:avLst/>
          </a:prstGeom>
          <a:solidFill>
            <a:srgbClr val="33ccff"/>
          </a:solidFill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Fonctions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4800600"/>
            <a:ext cx="3714840" cy="1143000"/>
          </a:xfrm>
          <a:prstGeom prst="ellipse">
            <a:avLst/>
          </a:prstGeom>
          <a:solidFill>
            <a:srgbClr val="33ccff"/>
          </a:solidFill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Application de critè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iés à l’industri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76440" y="1905120"/>
            <a:ext cx="0" cy="6094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92640" y="541008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099200" y="4495320"/>
            <a:ext cx="0" cy="3049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2240" y="2514600"/>
            <a:ext cx="286920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Volumes fonctio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13480" y="762120"/>
            <a:ext cx="2063520" cy="11912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Maquette numérique de la pièce fi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i%20101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3191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%2011" descr=""/>
          <p:cNvPicPr/>
          <p:nvPr/>
        </p:nvPicPr>
        <p:blipFill>
          <a:blip r:embed="rId2"/>
          <a:stretch/>
        </p:blipFill>
        <p:spPr>
          <a:xfrm>
            <a:off x="3886200" y="1371600"/>
            <a:ext cx="258444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165240" y="380880"/>
            <a:ext cx="619128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onséquences sur « l’arbre » des piè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752480"/>
            <a:ext cx="3632040" cy="26694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En renommant systématiquement les fonctions « logiciel »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« fonctions techniques 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  </a:t>
            </a: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l’arbre de création devient « arbre fonctionnel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2286000"/>
            <a:ext cx="2476800" cy="12193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3505320"/>
            <a:ext cx="2476440" cy="137160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6640" y="914400"/>
            <a:ext cx="2971800" cy="14346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n premier apparaissent les fonctions techniques </a:t>
            </a: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(raisons d’exister de la piè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861160" y="1295280"/>
            <a:ext cx="1403280" cy="9907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86640" y="3200400"/>
            <a:ext cx="2806560" cy="16779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n dernier les fonctions d’industrialisation </a:t>
            </a: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(terrain d’action du concepteur et du fabric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30680" y="3581280"/>
            <a:ext cx="1486080" cy="2286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0520" y="5299200"/>
            <a:ext cx="19980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120" y="5334120"/>
            <a:ext cx="9576000" cy="8240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Nota : certaines fonctions techniques peuvent être réalisées après la création des fonctions d’industrialisation (cela a été le cas pour les 2 répétitions, c’est souvent le cas pour les chanfreins « d’engagement » qui compliquent les sections et font  perdre du temps), il suffit de « remonter » ces fonctions au dessus du premier volume de liais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%2012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2819160" cy="2373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-247680" y="380880"/>
            <a:ext cx="89978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Pourquoi créer dans l’assemblage en phase de concep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360" y="1143000"/>
            <a:ext cx="891540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Parce que les qualités intéressantes d’une maquette numérique en </a:t>
            </a: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phase de conception préliminaire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, so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30680" y="2590920"/>
            <a:ext cx="37976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a rapidité de sa cré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30680" y="3352680"/>
            <a:ext cx="3797640" cy="19227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sa capacité à intégrer des variations de paramètres résultant de calculs obtenus à l’aide de la maquette elle-mê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30680" y="5638680"/>
            <a:ext cx="37976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xemples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2920" y="2209680"/>
            <a:ext cx="4209840" cy="276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66"/>
                </a:solidFill>
                <a:latin typeface="Times New Roman"/>
              </a:rPr>
              <a:t>L’arbre de conception de la maquette au démar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7680" y="5334120"/>
            <a:ext cx="3962520" cy="3373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ffff66"/>
                </a:solidFill>
                <a:uFillTx/>
                <a:latin typeface="Times New Roman"/>
              </a:rPr>
              <a:t>Chaque plan de référence est renomm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7800" y="2819520"/>
            <a:ext cx="1816200" cy="182880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97280" y="2971800"/>
            <a:ext cx="1403280" cy="4590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66"/>
                </a:solidFill>
                <a:latin typeface="Times New Roman"/>
              </a:rPr>
              <a:t>Issus de la stratégie CA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393640" y="3200400"/>
            <a:ext cx="1568520" cy="3808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743040" y="457200"/>
            <a:ext cx="825480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a maquette de départ . . . </a:t>
            </a: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(les roulements sont positionnés à l’aide de pla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3360" y="1143000"/>
            <a:ext cx="36320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. . . la maquette réalisée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360" y="5867280"/>
            <a:ext cx="42098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Un clic sur le « 76 » et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2920" y="5257800"/>
            <a:ext cx="462276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e récepteur doit être éloigné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i%20131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268632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i%20132" descr=""/>
          <p:cNvPicPr/>
          <p:nvPr/>
        </p:nvPicPr>
        <p:blipFill>
          <a:blip r:embed="rId3"/>
          <a:stretch/>
        </p:blipFill>
        <p:spPr>
          <a:xfrm>
            <a:off x="5029200" y="1676520"/>
            <a:ext cx="4152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2521800" y="5638680"/>
            <a:ext cx="715320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. . . toutes les intentions de conception ont été respecté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i%2014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61722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/>
          <p:nvPr/>
        </p:nvSpPr>
        <p:spPr>
          <a:xfrm>
            <a:off x="495360" y="304920"/>
            <a:ext cx="610848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Bien sûr les plans s’adaptent en direc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i%2015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71629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743040" y="304920"/>
            <a:ext cx="544824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e dimensionnement des éléments filetés montre qu’il faut 8 boulon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6680" y="1295280"/>
            <a:ext cx="557568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. . . un clic sur le « 4 » et sur le « 90° » e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5715000"/>
            <a:ext cx="8502480" cy="8240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Nota : les boulons ont été « posés » sur des perçages déjà effectués dans la plaque, ces perçages ayant été réalisés par répétition circulaire, le placement et le nombre de boulons suivent « automatiquement » les changements affectant les perçages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i%20161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3504960" cy="3222360"/>
          </a:xfrm>
          <a:prstGeom prst="rect">
            <a:avLst/>
          </a:prstGeom>
          <a:ln w="0">
            <a:noFill/>
          </a:ln>
        </p:spPr>
      </p:pic>
      <p:pic>
        <p:nvPicPr>
          <p:cNvPr id="187" name="i%20162" descr=""/>
          <p:cNvPicPr/>
          <p:nvPr/>
        </p:nvPicPr>
        <p:blipFill>
          <a:blip r:embed="rId3"/>
          <a:stretch/>
        </p:blipFill>
        <p:spPr>
          <a:xfrm>
            <a:off x="5867280" y="1905120"/>
            <a:ext cx="34290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i%20172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3211560" cy="3276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165240" y="228600"/>
            <a:ext cx="77594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Tous les documents  s’adaptent en direc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1523880"/>
            <a:ext cx="1238040" cy="304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057400"/>
            <a:ext cx="1650960" cy="304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3276720"/>
            <a:ext cx="1568160" cy="30456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5791320"/>
            <a:ext cx="932832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on imagine facilement d’autres possibilités : générer des versions d’un même produit, des familles de pièc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i%20171" descr=""/>
          <p:cNvPicPr/>
          <p:nvPr/>
        </p:nvPicPr>
        <p:blipFill>
          <a:blip r:embed="rId3"/>
          <a:stretch/>
        </p:blipFill>
        <p:spPr>
          <a:xfrm>
            <a:off x="838080" y="685800"/>
            <a:ext cx="482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533520"/>
            <a:ext cx="4622760" cy="19227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e carter, moulé au sable, a été conçu dans un premier temps avec une épaisseur à peu près constante de 10 mm, déclarée comme paramètr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5240" y="4724280"/>
            <a:ext cx="5200560" cy="11912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. . . des critères d’industrialisation, nous amènent à une réduction de l’épaisseur à 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92640" y="6400800"/>
            <a:ext cx="594360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Une étude de comportement s’impos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i%20181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3090960" cy="3353040"/>
          </a:xfrm>
          <a:prstGeom prst="rect">
            <a:avLst/>
          </a:prstGeom>
          <a:ln w="0">
            <a:noFill/>
          </a:ln>
        </p:spPr>
      </p:pic>
      <p:pic>
        <p:nvPicPr>
          <p:cNvPr id="201" name="i%20182" descr=""/>
          <p:cNvPicPr/>
          <p:nvPr/>
        </p:nvPicPr>
        <p:blipFill>
          <a:blip r:embed="rId3"/>
          <a:stretch/>
        </p:blipFill>
        <p:spPr>
          <a:xfrm>
            <a:off x="5943600" y="2743200"/>
            <a:ext cx="284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330120" y="228600"/>
            <a:ext cx="437508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Modélisation du problèm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35680" y="228600"/>
            <a:ext cx="280656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Déforma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46880" y="2666880"/>
            <a:ext cx="25592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ontrain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1160" y="6095880"/>
            <a:ext cx="36320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Acceptable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i%20191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745000" cy="3733920"/>
          </a:xfrm>
          <a:prstGeom prst="rect">
            <a:avLst/>
          </a:prstGeom>
          <a:ln w="0">
            <a:noFill/>
          </a:ln>
        </p:spPr>
      </p:pic>
      <p:pic>
        <p:nvPicPr>
          <p:cNvPr id="208" name="i%20192" descr=""/>
          <p:cNvPicPr/>
          <p:nvPr/>
        </p:nvPicPr>
        <p:blipFill>
          <a:blip r:embed="rId3"/>
          <a:stretch/>
        </p:blipFill>
        <p:spPr>
          <a:xfrm>
            <a:off x="4952880" y="762120"/>
            <a:ext cx="236232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i%20193" descr=""/>
          <p:cNvPicPr/>
          <p:nvPr/>
        </p:nvPicPr>
        <p:blipFill>
          <a:blip r:embed="rId4"/>
          <a:stretch/>
        </p:blipFill>
        <p:spPr>
          <a:xfrm>
            <a:off x="4572000" y="3200400"/>
            <a:ext cx="40752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%201" descr=""/>
          <p:cNvPicPr/>
          <p:nvPr/>
        </p:nvPicPr>
        <p:blipFill>
          <a:blip r:embed="rId2"/>
          <a:stretch/>
        </p:blipFill>
        <p:spPr>
          <a:xfrm>
            <a:off x="3429000" y="1371600"/>
            <a:ext cx="6248520" cy="4116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981080"/>
            <a:ext cx="3174840" cy="5806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adi1"/>
              </a:rPr>
              <a:t>Quelques règles d’élaboration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4952880"/>
            <a:ext cx="1155600" cy="38124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6520" y="1447920"/>
            <a:ext cx="2971800" cy="457200"/>
          </a:xfrm>
          <a:prstGeom prst="ellipse">
            <a:avLst/>
          </a:prstGeom>
          <a:noFill/>
          <a:ln w="1260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61640" y="2895480"/>
            <a:ext cx="3539520" cy="12826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66"/>
              </a:buClr>
              <a:buFont typeface="adi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Correspond à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schéma technolo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proportion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67160" y="609480"/>
            <a:ext cx="594360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FT : guider une meule de rectifi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352680"/>
            <a:ext cx="2971800" cy="16002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5410080"/>
            <a:ext cx="4705560" cy="18313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66"/>
              </a:buClr>
              <a:buFont typeface="adi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On place les inten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, les paramètres, les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fonctionnelles impos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par le contexte de la con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512120" y="1676160"/>
            <a:ext cx="247680" cy="38098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83160" y="4114800"/>
            <a:ext cx="2818800" cy="10083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66"/>
              </a:buClr>
              <a:buFont typeface="adi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Chaque piè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est schématis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5400" y="5029200"/>
            <a:ext cx="3063960" cy="10083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66"/>
              </a:buClr>
              <a:buFont typeface="adi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Peut être accompag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de croquis 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7320" y="5791320"/>
            <a:ext cx="4190400" cy="10083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66"/>
              </a:buClr>
              <a:buFont typeface="adi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Les règles de tracé sont rédu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di1"/>
              </a:rPr>
              <a:t>au strict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7680" y="380880"/>
            <a:ext cx="2889360" cy="101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xe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de schém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%2020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6095880" cy="4023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412920" y="1143000"/>
            <a:ext cx="2806560" cy="15570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Des critères d’industrialisation imposent la présence de nerv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2895480"/>
            <a:ext cx="1320840" cy="38124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0120" y="4800600"/>
            <a:ext cx="2889360" cy="15570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es nervures sont placés dans la zone « fonctions d’industrialisation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558880" y="3429000"/>
            <a:ext cx="743040" cy="13716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360" y="380880"/>
            <a:ext cx="71816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’ingénierie concourante trouve son support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35680" y="3200400"/>
            <a:ext cx="4044960" cy="2986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95360" y="533520"/>
            <a:ext cx="3219480" cy="15570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Une réorganisation de l’arbre de l’assemblage permet d’y voir plus clai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83360" y="914400"/>
            <a:ext cx="3962160" cy="19227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…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t prépare </a:t>
            </a:r>
            <a:r>
              <a:rPr b="0" lang="fr-FR" sz="1200" spc="-1" strike="noStrike">
                <a:solidFill>
                  <a:srgbClr val="ffff66"/>
                </a:solidFill>
                <a:latin typeface="Times New Roman"/>
              </a:rPr>
              <a:t>(sans être obligatoire)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le passage de la maquette dans le module d’animation ou de simulation de comportement méca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83160" y="2819520"/>
            <a:ext cx="17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66"/>
                </a:solidFill>
                <a:latin typeface="adi1"/>
              </a:rPr>
              <a:t>Cliquez ci-dessou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i%20211" descr=""/>
          <p:cNvPicPr/>
          <p:nvPr/>
        </p:nvPicPr>
        <p:blipFill>
          <a:blip r:embed="rId3"/>
          <a:stretch/>
        </p:blipFill>
        <p:spPr>
          <a:xfrm>
            <a:off x="1371600" y="2362320"/>
            <a:ext cx="2733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%20221" descr=""/>
          <p:cNvPicPr/>
          <p:nvPr/>
        </p:nvPicPr>
        <p:blipFill>
          <a:blip r:embed="rId2"/>
          <a:stretch/>
        </p:blipFill>
        <p:spPr>
          <a:xfrm>
            <a:off x="2133720" y="914400"/>
            <a:ext cx="6781680" cy="4861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i%20222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903480" cy="32036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30120" y="380880"/>
            <a:ext cx="627372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t les dessins de défini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1143000"/>
            <a:ext cx="3962520" cy="19227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a cotation fonctionnelle « automatique » n’est pas possible, les seules cotes importées automatiquement sont les cotes condition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0120" y="5715000"/>
            <a:ext cx="454032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1ère solution : « coter » « manuellement » la pièc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1600200"/>
            <a:ext cx="1155600" cy="7621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2362320"/>
            <a:ext cx="666720" cy="15238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3429000"/>
            <a:ext cx="3714480" cy="160020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495360" y="533520"/>
            <a:ext cx="3549600" cy="19227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es cotes « tracées » ne pilotent pas la maquette, par contre elles varient au gré les modifications des paramètres de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2895480"/>
            <a:ext cx="3810240" cy="11912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es cotes découlent de l’application de méthodes de spécification géomé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4724280"/>
            <a:ext cx="4457520" cy="8240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Nota : Nous disposons d’un atout de choix : la disposition de plans, propres,  très pratiques pour « penser » la cotation fonctionnelle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5715000"/>
            <a:ext cx="457200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2ème solution : « reréférencer » les maquettes des pièces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i%20231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3090960" cy="3276720"/>
          </a:xfrm>
          <a:prstGeom prst="rect">
            <a:avLst/>
          </a:prstGeom>
          <a:ln w="0">
            <a:noFill/>
          </a:ln>
        </p:spPr>
      </p:pic>
      <p:pic>
        <p:nvPicPr>
          <p:cNvPr id="238" name="i%20232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34290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i%20242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3657600" cy="2360520"/>
          </a:xfrm>
          <a:prstGeom prst="rect">
            <a:avLst/>
          </a:prstGeom>
          <a:ln w="0">
            <a:noFill/>
          </a:ln>
        </p:spPr>
      </p:pic>
      <p:pic>
        <p:nvPicPr>
          <p:cNvPr id="240" name="i%20241" descr=""/>
          <p:cNvPicPr/>
          <p:nvPr/>
        </p:nvPicPr>
        <p:blipFill>
          <a:blip r:embed="rId3"/>
          <a:stretch/>
        </p:blipFill>
        <p:spPr>
          <a:xfrm>
            <a:off x="1295280" y="1371600"/>
            <a:ext cx="2971800" cy="2851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52280"/>
            <a:ext cx="6769080" cy="8240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« Reréférencer » la pièce ? Cette activité revient à ouvrir chaque pièce </a:t>
            </a:r>
            <a:r>
              <a:rPr b="0" lang="fr-FR" sz="1600" spc="-1" strike="noStrike" u="sng">
                <a:solidFill>
                  <a:srgbClr val="ffff66"/>
                </a:solidFill>
                <a:uFillTx/>
                <a:latin typeface="Times New Roman"/>
              </a:rPr>
              <a:t>seule</a:t>
            </a: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,  à redéfinir  (re-coter) (fonctionnellement) chaque fonction par rapport à des références propres à la piè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13480" y="2971800"/>
            <a:ext cx="371484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es cotes fonctionnelles deviennent « pilotantes »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724280"/>
            <a:ext cx="4616280" cy="1194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La maquette du nouvel assemblage obtenu par l’association des pièces reréférencées ne « supporte » plus les variations de formes des pièc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30680" y="1752480"/>
            <a:ext cx="388008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a cotation fonctionnelle est alors (presque) automa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37040" y="2362320"/>
            <a:ext cx="4127400" cy="2057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137040" y="2209680"/>
            <a:ext cx="2558880" cy="15264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91280" y="762120"/>
            <a:ext cx="3429000" cy="9464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Pourquoi « reréférencer »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Pour que le fichier « PRT » de la piè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contienne toutes les informations et tous les paramètres fonctionnels de la piè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i%20271" descr=""/>
          <p:cNvPicPr/>
          <p:nvPr/>
        </p:nvPicPr>
        <p:blipFill>
          <a:blip r:embed="rId2"/>
          <a:stretch/>
        </p:blipFill>
        <p:spPr>
          <a:xfrm>
            <a:off x="3809880" y="1676520"/>
            <a:ext cx="5791320" cy="48816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/>
          <p:nvPr/>
        </p:nvSpPr>
        <p:spPr>
          <a:xfrm>
            <a:off x="247680" y="0"/>
            <a:ext cx="693432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Annexe 1 : Cotes moyennes ou cotes nomi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981080"/>
            <a:ext cx="3454560" cy="35402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ff66"/>
                </a:solidFill>
                <a:uFillTx/>
                <a:latin typeface="Times New Roman"/>
              </a:rPr>
              <a:t>1er cas de figure :</a:t>
            </a: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le diamètre intérieur du roulement est en cote no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la portée de roulement coïncide avec la génératrice de l’alé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Alors la cote du diamètre de la portée de roulement doit être considérée comme « nominale », le dessin de définition précise la position de l’intervalle de tolér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685800"/>
            <a:ext cx="5118120" cy="3988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66"/>
                </a:solidFill>
                <a:latin typeface="Times New Roman"/>
              </a:rPr>
              <a:t>Condition fonctionnelle  : serrage BI-ar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143000"/>
            <a:ext cx="30542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squisse créé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i%20272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5181840" cy="5000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/>
          <p:nvPr/>
        </p:nvSpPr>
        <p:spPr>
          <a:xfrm>
            <a:off x="247680" y="0"/>
            <a:ext cx="693432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Annexe 1 : Cotes moyennes ou cotes nomi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609480"/>
            <a:ext cx="5118120" cy="3988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66"/>
                </a:solidFill>
                <a:latin typeface="Times New Roman"/>
              </a:rPr>
              <a:t>Condition fonctionnelle  : serrage BI-ar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990720"/>
            <a:ext cx="305460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squisse créé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219320"/>
            <a:ext cx="3733560" cy="4363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66"/>
                </a:solidFill>
                <a:uFillTx/>
                <a:latin typeface="Times New Roman"/>
              </a:rPr>
              <a:t> </a:t>
            </a:r>
            <a:r>
              <a:rPr b="0" lang="fr-FR" sz="1800" spc="-1" strike="noStrike" u="sng">
                <a:solidFill>
                  <a:srgbClr val="ffff66"/>
                </a:solidFill>
                <a:uFillTx/>
                <a:latin typeface="Times New Roman"/>
              </a:rPr>
              <a:t>2ème cas de figure :</a:t>
            </a: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diamètre intérieur du roulement est en cote moye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la portée de roulement est décalée de la valeur du serrage moyen (intention de conception) de la génératrice de l’alé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Alors la cote du diamètre de la portée de roulement peut être considérée comme cote moyenne, la maquette « ASM » « porte » la valeur de l’ajustement moyen, on précise sur le dessin de définition la valeur de l’intervalle de tolér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2743200"/>
            <a:ext cx="3429000" cy="10666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702400"/>
            <a:ext cx="3809880" cy="11595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Ce deuxième cas de figure renvoie à un comportement typique du novice en dessin 2D qui cherchait à faire apparaître sur le dessin d’ensemble, des jeux ou des serrages au niveau des ajustements !</a:t>
            </a:r>
            <a:r>
              <a:rPr b="0" lang="fr-FR" sz="1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96080" y="3200400"/>
            <a:ext cx="1447920" cy="152388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914400"/>
            <a:ext cx="3886200" cy="55756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ffff66"/>
                </a:solidFill>
                <a:latin typeface="Times New Roman"/>
              </a:rPr>
              <a:t>Ces 2 approches montrent la possibilité de rendre les maquettes PRT* ou ASM* porteuses d’informations (jeux, serrages, matières, références, observations, notes 3D) hier portées par les dessins d’ensemble ou de définition 2D demandés aux élèves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ffff66"/>
                </a:solidFill>
                <a:latin typeface="Times New Roman"/>
              </a:rPr>
              <a:t>La « visibilité » ou « lisibilité » de ces informations au niveau des fichiers PRT ou ASM, n’est pas évidente (car situables à différents niveaux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7680" y="304920"/>
            <a:ext cx="693432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Annexe 1 : Cotes moyennes ou cotes nomi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i%20272" descr=""/>
          <p:cNvPicPr/>
          <p:nvPr/>
        </p:nvPicPr>
        <p:blipFill>
          <a:blip r:embed="rId2"/>
          <a:stretch/>
        </p:blipFill>
        <p:spPr>
          <a:xfrm>
            <a:off x="5867280" y="3657600"/>
            <a:ext cx="2895840" cy="2793960"/>
          </a:xfrm>
          <a:prstGeom prst="rect">
            <a:avLst/>
          </a:prstGeom>
          <a:ln w="0">
            <a:noFill/>
          </a:ln>
        </p:spPr>
      </p:pic>
      <p:pic>
        <p:nvPicPr>
          <p:cNvPr id="268" name="i%20271" descr=""/>
          <p:cNvPicPr/>
          <p:nvPr/>
        </p:nvPicPr>
        <p:blipFill>
          <a:blip r:embed="rId3"/>
          <a:stretch/>
        </p:blipFill>
        <p:spPr>
          <a:xfrm>
            <a:off x="5867280" y="1066680"/>
            <a:ext cx="2819520" cy="2376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33520" y="6095880"/>
            <a:ext cx="4572000" cy="6314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*PRT : fichier « pièce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*ASM : fichier « assemblage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image%202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5562360" cy="3940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3879720" y="1905120"/>
            <a:ext cx="2146320" cy="19227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Zone d’élaboration du schéma technologique ou de croqu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49600" y="4267080"/>
            <a:ext cx="272412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Diagramme des cont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523880"/>
            <a:ext cx="1733760" cy="13136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Ordre de montage- démontage pré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89920" y="3352680"/>
            <a:ext cx="1816200" cy="13136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Stratégie CAO : ordre de numérisation pré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4114800"/>
            <a:ext cx="1568520" cy="15570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iste des éléments standards prév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86080" y="2438280"/>
            <a:ext cx="825480" cy="4572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650960" y="4495320"/>
            <a:ext cx="825480" cy="2286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264080" y="2057400"/>
            <a:ext cx="825480" cy="2286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429320" y="3886200"/>
            <a:ext cx="742680" cy="2286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01920" y="5867280"/>
            <a:ext cx="354960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Format 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371600"/>
            <a:ext cx="1650960" cy="15570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Relation Fonction Procédé Matéri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-228600" y="152280"/>
            <a:ext cx="66866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Annexe 2 :  les documents d’accompag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685800"/>
            <a:ext cx="693396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2-1 Préparation  de la numérisation d’un assemb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i%2030" descr=""/>
          <p:cNvPicPr/>
          <p:nvPr/>
        </p:nvPicPr>
        <p:blipFill>
          <a:blip r:embed="rId2"/>
          <a:stretch/>
        </p:blipFill>
        <p:spPr>
          <a:xfrm>
            <a:off x="2362320" y="1447920"/>
            <a:ext cx="6095880" cy="4248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152280"/>
            <a:ext cx="668664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Annexe 2 : les documents d’accompagnement (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5240" y="1523880"/>
            <a:ext cx="1981080" cy="11912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noncé des fonctions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5240" y="3352680"/>
            <a:ext cx="1981080" cy="22885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Volumes fonctionnels :  prévision sections et mode de gén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57800" y="2743200"/>
            <a:ext cx="3054240" cy="11912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roquis 2D et 3D des zones fonctionnelles de la pièce en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2133720"/>
            <a:ext cx="11559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981080" y="3962160"/>
            <a:ext cx="1403640" cy="6858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5791320"/>
            <a:ext cx="371448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Format A3 ou A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685800"/>
            <a:ext cx="577836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2-2 Préparation de la numérisation des piè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5365800" y="152280"/>
            <a:ext cx="2063880" cy="15242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mo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2240" y="533520"/>
            <a:ext cx="2063880" cy="18288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x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cé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téri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648320"/>
            <a:ext cx="2063880" cy="18288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os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2240" y="2743200"/>
            <a:ext cx="2063880" cy="18288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à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tratégie 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00560" y="5638680"/>
            <a:ext cx="3880080" cy="99072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99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diagramme des cont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7800" y="609480"/>
            <a:ext cx="470556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Simultanément on entame les réflexions relatives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0320" y="3657600"/>
            <a:ext cx="146844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On dre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a list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53320" y="5867280"/>
            <a:ext cx="180828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On réalis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mage%201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8672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438280"/>
            <a:ext cx="7239240" cy="15721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Fin du diapo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liquez sur « Précédent » de votre navigateur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%202" descr=""/>
          <p:cNvPicPr/>
          <p:nvPr/>
        </p:nvPicPr>
        <p:blipFill>
          <a:blip r:embed="rId2"/>
          <a:stretch/>
        </p:blipFill>
        <p:spPr>
          <a:xfrm>
            <a:off x="1905120" y="1295280"/>
            <a:ext cx="6095880" cy="4318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3879720" y="1905120"/>
            <a:ext cx="2146320" cy="19227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Zone d’élaboration du schéma technologique ou de croqu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49600" y="4267080"/>
            <a:ext cx="272412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Diagramme des cont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72360" y="1523880"/>
            <a:ext cx="1733760" cy="13136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Ordre de montage- démontage pré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85000" y="3352680"/>
            <a:ext cx="2121120" cy="13136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Stratégie CAO : ordre de numérisation pré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114800"/>
            <a:ext cx="1568520" cy="11912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iste des éléments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2438280"/>
            <a:ext cx="825480" cy="4572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650960" y="4495320"/>
            <a:ext cx="825480" cy="2286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264080" y="2057400"/>
            <a:ext cx="825480" cy="2286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429320" y="3886200"/>
            <a:ext cx="742680" cy="2286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01920" y="5867280"/>
            <a:ext cx="354960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Format 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447920"/>
            <a:ext cx="1650960" cy="15570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Relation Fonction Procédé Matéri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360" y="457200"/>
            <a:ext cx="941076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. . .  réflexions formalisables (</a:t>
            </a: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pour être observables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) sur ce document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450360" y="457200"/>
            <a:ext cx="609372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e diagramme des contacts est </a:t>
            </a: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très important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2960" y="990720"/>
            <a:ext cx="147888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l ai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92800" y="1447920"/>
            <a:ext cx="3613320" cy="2105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à la « chasse » aux fl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bouclés internes </a:t>
            </a:r>
            <a:r>
              <a:rPr b="0" lang="fr-FR" sz="1200" spc="-1" strike="noStrike">
                <a:solidFill>
                  <a:srgbClr val="ffff66"/>
                </a:solidFill>
                <a:latin typeface="Times New Roman"/>
              </a:rPr>
              <a:t>(fonctions de concep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à l’identification d’hyper statis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à la c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23120" y="4648320"/>
            <a:ext cx="2952360" cy="19227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à l’identification 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fférent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techniques assur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par ch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pièce à concevoir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73400" y="3733920"/>
            <a:ext cx="2088720" cy="459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et surtou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mage%203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457200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%204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3276720" cy="1747800"/>
          </a:xfrm>
          <a:prstGeom prst="rect">
            <a:avLst/>
          </a:prstGeom>
          <a:ln w="0">
            <a:noFill/>
          </a:ln>
        </p:spPr>
      </p:pic>
      <p:pic>
        <p:nvPicPr>
          <p:cNvPr id="97" name="image%205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4114800" cy="355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240480" y="533520"/>
            <a:ext cx="9679680" cy="825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e concepteur associe aux fonctions à assur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des </a:t>
            </a:r>
            <a:r>
              <a:rPr b="0" lang="fr-FR" sz="2400" spc="-1" strike="noStrike" u="sng">
                <a:solidFill>
                  <a:srgbClr val="ffff66"/>
                </a:solidFill>
                <a:uFillTx/>
                <a:latin typeface="Times New Roman"/>
              </a:rPr>
              <a:t>volumes fonctionnels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 ainsi que leur technique de création « logiciel »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3352680"/>
            <a:ext cx="2063520" cy="3049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895480"/>
            <a:ext cx="3581280" cy="12193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79720" y="2361960"/>
            <a:ext cx="1238400" cy="15238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06560" y="4267080"/>
            <a:ext cx="5943600" cy="7621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7880" y="4765680"/>
            <a:ext cx="200160" cy="4572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3219480" cy="2764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66"/>
                </a:solidFill>
                <a:latin typeface="Times New Roman"/>
              </a:rPr>
              <a:t>Pour l’arbre d’un variateu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%207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5257800" cy="4405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247680" y="228600"/>
            <a:ext cx="5283000" cy="11912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a création des volumes se fait dans l’assemblage . . . ici par révolution d’une section autour d’un 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057400"/>
            <a:ext cx="2895480" cy="19227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a cotation de la section exprime de manière formelle les condition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0120" y="4952880"/>
            <a:ext cx="1838520" cy="13107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Par exemple ici : la portion cylindrique sous le roulement doit toujours dépas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146320" y="3809520"/>
            <a:ext cx="1733400" cy="11430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38960" y="838080"/>
            <a:ext cx="3467160" cy="9169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Times New Roman"/>
              </a:rPr>
              <a:t>Ces volumes sont « posés » sur des lieux « références », ici on se sert du roulement déjà plac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%2083" descr=""/>
          <p:cNvPicPr/>
          <p:nvPr/>
        </p:nvPicPr>
        <p:blipFill>
          <a:blip r:embed="rId2"/>
          <a:stretch/>
        </p:blipFill>
        <p:spPr>
          <a:xfrm>
            <a:off x="7620120" y="4038480"/>
            <a:ext cx="1442880" cy="2438640"/>
          </a:xfrm>
          <a:prstGeom prst="rect">
            <a:avLst/>
          </a:prstGeom>
          <a:ln w="0">
            <a:noFill/>
          </a:ln>
        </p:spPr>
      </p:pic>
      <p:pic>
        <p:nvPicPr>
          <p:cNvPr id="114" name="i%2082" descr=""/>
          <p:cNvPicPr/>
          <p:nvPr/>
        </p:nvPicPr>
        <p:blipFill>
          <a:blip r:embed="rId3"/>
          <a:stretch/>
        </p:blipFill>
        <p:spPr>
          <a:xfrm>
            <a:off x="7391520" y="533520"/>
            <a:ext cx="1834920" cy="2819160"/>
          </a:xfrm>
          <a:prstGeom prst="rect">
            <a:avLst/>
          </a:prstGeom>
          <a:ln w="0">
            <a:noFill/>
          </a:ln>
        </p:spPr>
      </p:pic>
      <p:pic>
        <p:nvPicPr>
          <p:cNvPr id="115" name="image%2081" descr=""/>
          <p:cNvPicPr/>
          <p:nvPr/>
        </p:nvPicPr>
        <p:blipFill>
          <a:blip r:embed="rId4"/>
          <a:stretch/>
        </p:blipFill>
        <p:spPr>
          <a:xfrm>
            <a:off x="1371600" y="2133720"/>
            <a:ext cx="5562720" cy="2576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907920" y="304920"/>
            <a:ext cx="4210200" cy="155700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e concepteur peut contrôler son travail par la consultation régulière d’un plan 2D toujours ouvert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2895480"/>
            <a:ext cx="1486080" cy="144792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384720" y="1752120"/>
            <a:ext cx="4292280" cy="16002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5240" y="4800600"/>
            <a:ext cx="7181640" cy="94572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… </a:t>
            </a: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la vision 3D n’étant pas toujours </a:t>
            </a:r>
            <a:r>
              <a:rPr b="0" lang="fr-FR" sz="1600" spc="-1" strike="noStrike" u="sng">
                <a:solidFill>
                  <a:srgbClr val="ffff66"/>
                </a:solidFill>
                <a:uFillTx/>
                <a:latin typeface="Times New Roman"/>
              </a:rPr>
              <a:t>directement</a:t>
            </a: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 la mieux adaptée à un contrôle précis, surtout si la zone est cachée par un carter ! </a:t>
            </a:r>
            <a:r>
              <a:rPr b="0" lang="fr-FR" sz="1200" spc="-1" strike="noStrike">
                <a:solidFill>
                  <a:srgbClr val="ffff66"/>
                </a:solidFill>
                <a:latin typeface="Times New Roman"/>
              </a:rPr>
              <a:t>« Rester » en vision 3D oblige à des artifices (pièces cachées, pièces translucides, découpes dans l’assemblage) qui prennent du temps, ne suffisent pas toujours et qui peuvent parfois créer des relations dans la maquette (découpe dans l’assemblage!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84720" y="4038480"/>
            <a:ext cx="4787640" cy="7621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943600"/>
            <a:ext cx="7086600" cy="5806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Times New Roman"/>
              </a:rPr>
              <a:t>Nota : Couramment les échanges, les discussions avec les étudiants passent par l’examen de documents 2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%209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724640" cy="3259080"/>
          </a:xfrm>
          <a:prstGeom prst="rect">
            <a:avLst/>
          </a:prstGeom>
          <a:ln w="0">
            <a:noFill/>
          </a:ln>
        </p:spPr>
      </p:pic>
      <p:pic>
        <p:nvPicPr>
          <p:cNvPr id="124" name="image%205" descr=""/>
          <p:cNvPicPr/>
          <p:nvPr/>
        </p:nvPicPr>
        <p:blipFill>
          <a:blip r:embed="rId3"/>
          <a:stretch/>
        </p:blipFill>
        <p:spPr>
          <a:xfrm>
            <a:off x="838080" y="3657600"/>
            <a:ext cx="2971800" cy="256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007480" y="152280"/>
            <a:ext cx="1733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émarche CAO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660240" y="1447920"/>
            <a:ext cx="3219480" cy="119124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Le concepteur intègre finalement des critères d’industrialisation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27400" y="4191120"/>
            <a:ext cx="5200920" cy="13816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…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l relie les zones fonctionnell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l collabore avec le fabricant pour industrialiser la piè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301920" y="3276720"/>
            <a:ext cx="2108160" cy="8380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fesseur à Benjamin Franklin</cp:lastModifiedBy>
  <dcterms:modified xsi:type="dcterms:W3CDTF">2003-12-17T17:27:48Z</dcterms:modified>
  <cp:revision>112</cp:revision>
  <dc:subject/>
  <dc:title>PowerPoint Presentation</dc:title>
</cp:coreProperties>
</file>