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5FE5-0181-4DDE-84EF-465DE8C5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4E07-AEDA-42A3-B827-25E6772B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1734-24DA-4F99-A061-E281FE07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C9CA-825F-41DF-BFC4-AC907EEB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357-6E7E-47D8-9FA2-E592FE3C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A5B6-276B-4A52-9B49-7F7C4A83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7359-447F-4D2C-8DF6-1C08237F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2AB9-EFDC-4811-B18A-FECCA3DE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A9B1-320C-4FAC-A349-884A33D4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BA35-EB04-43B7-9B79-24165657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D961-7277-4677-BE59-0B7DD1AE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A7D7-FA04-4BD3-8A95-42C8E746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DBDC-57B6-48C9-A448-10E7479DD98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scplayer.exe /S/C/H vr1 vr2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304920"/>
            <a:ext cx="771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4c2b"/>
                </a:solidFill>
                <a:uFillTx/>
                <a:latin typeface="Arial"/>
              </a:rPr>
              <a:t>Recherche de classes d’équivalence par simulation virtuell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8" name="film4" descr=""/>
          <p:cNvPicPr/>
          <p:nvPr/>
        </p:nvPicPr>
        <p:blipFill>
          <a:blip r:embed="rId2"/>
          <a:srcRect l="0" t="0" r="60484" b="52243"/>
          <a:stretch/>
        </p:blipFill>
        <p:spPr>
          <a:xfrm>
            <a:off x="6029280" y="3319560"/>
            <a:ext cx="2830680" cy="2307960"/>
          </a:xfrm>
          <a:prstGeom prst="rect">
            <a:avLst/>
          </a:prstGeom>
          <a:ln w="3240">
            <a:solidFill>
              <a:srgbClr val="933ff9"/>
            </a:solidFill>
            <a:miter/>
          </a:ln>
        </p:spPr>
      </p:pic>
      <p:sp>
        <p:nvSpPr>
          <p:cNvPr id="79" name="">
            <a:hlinkClick r:id="rId3"/>
          </p:cNvPr>
          <p:cNvSpPr/>
          <p:nvPr/>
        </p:nvSpPr>
        <p:spPr>
          <a:xfrm>
            <a:off x="3486240" y="3692520"/>
            <a:ext cx="2286000" cy="156204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933f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Analyse d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mouvemen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rcRect l="8594" t="22139" r="17579" b="15106"/>
          <a:stretch/>
        </p:blipFill>
        <p:spPr>
          <a:xfrm>
            <a:off x="304920" y="3511440"/>
            <a:ext cx="3019320" cy="1925640"/>
          </a:xfrm>
          <a:prstGeom prst="rect">
            <a:avLst/>
          </a:prstGeom>
          <a:ln w="9360">
            <a:solidFill>
              <a:srgbClr val="933ff9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704880" y="2370240"/>
            <a:ext cx="22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4c2b"/>
                </a:solidFill>
                <a:uFillTx/>
                <a:latin typeface="Arial"/>
              </a:rPr>
              <a:t>On donn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62640" y="237024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4c2b"/>
                </a:solidFill>
                <a:uFillTx/>
                <a:latin typeface="Arial"/>
              </a:rPr>
              <a:t>On demand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7T10:25:10Z</dcterms:created>
  <dc:creator>BANCILHON</dc:creator>
  <dc:description/>
  <dc:language>en-US</dc:language>
  <cp:lastModifiedBy>leveiller</cp:lastModifiedBy>
  <dcterms:modified xsi:type="dcterms:W3CDTF">2001-03-28T10:30:11Z</dcterms:modified>
  <cp:revision>64</cp:revision>
  <dc:subject/>
  <dc:title>Aucun titre de diapositive</dc:title>
</cp:coreProperties>
</file>