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DF1-EB1E-42C2-B41E-B290385A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C4B-7040-45A5-892E-6039752D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0C7-EBEC-4BCB-B041-36D8E22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4DD-3712-444D-A015-95E425B9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AA1-47F0-4307-B7FC-4A056076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BDA-36D0-4A6C-8F19-77E9B649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064-C2DC-48B1-BE66-C112E5C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F6B-8E80-424F-9C98-DDDC3C41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02A1-2DE4-4B8B-A0A9-8342742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FC6-ABFC-4833-9CE5-BC62D85A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936-0A2F-41A1-A962-46F56205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8A7-9503-4A48-9DD1-592F23D8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FD74-9CF5-4A1C-A8C2-C2E9AC2A319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scplayer.exe /S/C/H ecrou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scplayer.exe /S/C/H film1sol1 film2sol1 film3sol1 film4sol1 film5sol1 film6sol1 film7sol1 film8sol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Planche à roulett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planche1" descr=""/>
          <p:cNvPicPr/>
          <p:nvPr/>
        </p:nvPicPr>
        <p:blipFill>
          <a:blip r:embed="rId2"/>
          <a:stretch/>
        </p:blipFill>
        <p:spPr>
          <a:xfrm>
            <a:off x="590400" y="1257480"/>
            <a:ext cx="8062920" cy="492408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00280" y="0"/>
            <a:ext cx="79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4c2b"/>
                </a:solidFill>
                <a:uFillTx/>
                <a:latin typeface="Arial"/>
              </a:rPr>
              <a:t>Assemblage des éléments à l ’aide d ’un schéma de princip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ecrou" descr="">
            <a:hlinkClick r:id="rId2"/>
          </p:cNvPr>
          <p:cNvPicPr/>
          <p:nvPr/>
        </p:nvPicPr>
        <p:blipFill>
          <a:blip r:embed="rId3"/>
          <a:srcRect l="0" t="0" r="67405" b="58504"/>
          <a:stretch/>
        </p:blipFill>
        <p:spPr>
          <a:xfrm>
            <a:off x="736560" y="5226120"/>
            <a:ext cx="161280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1" name="assem%20élev" descr=""/>
          <p:cNvPicPr/>
          <p:nvPr/>
        </p:nvPicPr>
        <p:blipFill>
          <a:blip r:embed="rId4"/>
          <a:srcRect l="0" t="53191" r="64642" b="0"/>
          <a:stretch/>
        </p:blipFill>
        <p:spPr>
          <a:xfrm>
            <a:off x="5541840" y="2459160"/>
            <a:ext cx="3332160" cy="290808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pic>
        <p:nvPicPr>
          <p:cNvPr id="82" name="rlt" descr=""/>
          <p:cNvPicPr/>
          <p:nvPr/>
        </p:nvPicPr>
        <p:blipFill>
          <a:blip r:embed="rId5"/>
          <a:srcRect l="0" t="0" r="46472" b="39843"/>
          <a:stretch/>
        </p:blipFill>
        <p:spPr>
          <a:xfrm>
            <a:off x="736560" y="3767040"/>
            <a:ext cx="1612800" cy="135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3" name="axeroues" descr=""/>
          <p:cNvPicPr/>
          <p:nvPr/>
        </p:nvPicPr>
        <p:blipFill>
          <a:blip r:embed="rId6"/>
          <a:stretch/>
        </p:blipFill>
        <p:spPr>
          <a:xfrm>
            <a:off x="579600" y="1981080"/>
            <a:ext cx="1946160" cy="168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901960" y="3143160"/>
            <a:ext cx="2197080" cy="1123920"/>
          </a:xfrm>
          <a:custGeom>
            <a:avLst/>
            <a:gdLst>
              <a:gd name="textAreaLeft" fmla="*/ 0 w 2197080"/>
              <a:gd name="textAreaRight" fmla="*/ 2197440 w 219708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33ff9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933ff9"/>
                </a:solidFill>
                <a:latin typeface="Arial"/>
              </a:rPr>
              <a:t>Assemblage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8120" y="134136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134136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5248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Conception de la rou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assem%20élev" descr=""/>
          <p:cNvPicPr/>
          <p:nvPr/>
        </p:nvPicPr>
        <p:blipFill>
          <a:blip r:embed="rId2"/>
          <a:srcRect l="0" t="51908" r="65610" b="0"/>
          <a:stretch/>
        </p:blipFill>
        <p:spPr>
          <a:xfrm>
            <a:off x="264960" y="3051000"/>
            <a:ext cx="2495880" cy="229896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sp>
        <p:nvSpPr>
          <p:cNvPr id="89" name="">
            <a:hlinkClick r:id="rId3"/>
          </p:cNvPr>
          <p:cNvSpPr/>
          <p:nvPr/>
        </p:nvSpPr>
        <p:spPr>
          <a:xfrm>
            <a:off x="3054240" y="2514600"/>
            <a:ext cx="2502000" cy="217188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2171880"/>
              <a:gd name="textAreaBottom" fmla="*/ 2172240 h 21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33ff9"/>
                </a:solidFill>
                <a:latin typeface="Arial"/>
              </a:rPr>
              <a:t>Conception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33ff9"/>
                </a:solidFill>
                <a:latin typeface="Arial"/>
              </a:rPr>
              <a:t>dans 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33ff9"/>
                </a:solidFill>
                <a:latin typeface="Arial"/>
              </a:rPr>
              <a:t>l’assemblage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assem%20élev%20term" descr=""/>
          <p:cNvPicPr/>
          <p:nvPr/>
        </p:nvPicPr>
        <p:blipFill>
          <a:blip r:embed="rId4"/>
          <a:srcRect l="3245" t="5334" r="64585" b="44958"/>
          <a:stretch/>
        </p:blipFill>
        <p:spPr>
          <a:xfrm>
            <a:off x="5776920" y="2135160"/>
            <a:ext cx="3124080" cy="308124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04920" y="1905120"/>
            <a:ext cx="24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ff9"/>
                </a:solidFill>
                <a:latin typeface="Arial"/>
              </a:rPr>
              <a:t>Dimensions extérieur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8120" y="124632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920" y="12463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26:34Z</dcterms:modified>
  <cp:revision>66</cp:revision>
  <dc:subject/>
  <dc:title>Aucun titre de diapositive</dc:title>
</cp:coreProperties>
</file>