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657C-53DC-42A8-A712-D8F13F919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C6C5-33B0-4C8B-BFEE-0B6AA0F65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1136-9690-4D01-AD47-612E52D6B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AA93-1C70-4F0A-9905-E4C1B7F81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F0D4-12DF-457F-897E-49DAEE4B3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2D5A-E8F0-4343-AA8B-9FBFF629C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8892-073B-4F0F-8D19-837F9178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3F25-9DFC-4140-B61E-7CB33BA6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62A1-3BF2-4A90-B829-1DFB953D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A2EB-7D25-40EE-9639-8FF083A80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C9DE-7CE7-4E34-8B74-786A190BD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6893-CBF0-4296-B632-91E7852B5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A9C4C-39E7-48FF-952D-D0726B58F811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hyperlink" Target="scplayer.exe /C/H/S b1 b2 b3 b4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752480" y="22860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933ff9"/>
                </a:solidFill>
                <a:uFillTx/>
                <a:latin typeface="Arial"/>
              </a:rPr>
              <a:t>Guide de perçage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78" name="gabari2" descr=""/>
          <p:cNvPicPr/>
          <p:nvPr/>
        </p:nvPicPr>
        <p:blipFill>
          <a:blip r:embed="rId2"/>
          <a:srcRect l="1774" t="1185" r="-173" b="2370"/>
          <a:stretch/>
        </p:blipFill>
        <p:spPr>
          <a:xfrm>
            <a:off x="781200" y="1143000"/>
            <a:ext cx="7542000" cy="4762440"/>
          </a:xfrm>
          <a:prstGeom prst="rect">
            <a:avLst/>
          </a:prstGeom>
          <a:ln w="3240">
            <a:solidFill>
              <a:srgbClr val="933ff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324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933ff9"/>
                </a:solidFill>
                <a:uFillTx/>
                <a:latin typeface="Arial"/>
              </a:rPr>
              <a:t>Analyse de la construction d’une pièce virtuelle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rcRect l="26978" t="24003" r="20743" b="11340"/>
          <a:stretch/>
        </p:blipFill>
        <p:spPr>
          <a:xfrm>
            <a:off x="276120" y="1996920"/>
            <a:ext cx="3984840" cy="3695760"/>
          </a:xfrm>
          <a:prstGeom prst="rect">
            <a:avLst/>
          </a:prstGeom>
          <a:ln w="9360">
            <a:solidFill>
              <a:srgbClr val="933ff9"/>
            </a:solidFill>
            <a:miter/>
          </a:ln>
        </p:spPr>
      </p:pic>
      <p:grpSp>
        <p:nvGrpSpPr>
          <p:cNvPr id="81" name=""/>
          <p:cNvGrpSpPr/>
          <p:nvPr/>
        </p:nvGrpSpPr>
        <p:grpSpPr>
          <a:xfrm>
            <a:off x="2635200" y="5692680"/>
            <a:ext cx="4089600" cy="1100880"/>
            <a:chOff x="2635200" y="5692680"/>
            <a:chExt cx="4089600" cy="1100880"/>
          </a:xfrm>
        </p:grpSpPr>
        <p:cxnSp>
          <p:nvCxnSpPr>
            <p:cNvPr id="82" name=""/>
            <p:cNvCxnSpPr/>
            <p:nvPr/>
          </p:nvCxnSpPr>
          <p:spPr>
            <a:xfrm flipH="1" rot="16200000">
              <a:off x="4679640" y="3648240"/>
              <a:ext cx="1440" cy="4089960"/>
            </a:xfrm>
            <a:prstGeom prst="curvedConnector5">
              <a:avLst>
                <a:gd name="adj1" fmla="val 34666666"/>
                <a:gd name="adj2" fmla="val 50000"/>
                <a:gd name="adj3" fmla="val 34666666"/>
              </a:avLst>
            </a:prstGeom>
            <a:ln w="101520">
              <a:solidFill>
                <a:srgbClr val="933ff9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392640" y="6150960"/>
              <a:ext cx="2724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933ff9"/>
                  </a:solidFill>
                  <a:latin typeface="Arial"/>
                </a:rPr>
                <a:t>démontage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pic>
        <p:nvPicPr>
          <p:cNvPr id="84" name="blocguide1" descr="">
            <a:hlinkClick r:id="rId3"/>
          </p:cNvPr>
          <p:cNvPicPr/>
          <p:nvPr/>
        </p:nvPicPr>
        <p:blipFill>
          <a:blip r:embed="rId4"/>
          <a:srcRect l="0" t="0" r="12085" b="0"/>
          <a:stretch/>
        </p:blipFill>
        <p:spPr>
          <a:xfrm>
            <a:off x="4675320" y="1996920"/>
            <a:ext cx="4097160" cy="3692520"/>
          </a:xfrm>
          <a:prstGeom prst="rect">
            <a:avLst/>
          </a:prstGeom>
          <a:ln w="9360">
            <a:solidFill>
              <a:srgbClr val="933ff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7T10:25:10Z</dcterms:created>
  <dc:creator>fabas</dc:creator>
  <dc:description/>
  <dc:language>en-US</dc:language>
  <cp:lastModifiedBy>leveiller</cp:lastModifiedBy>
  <dcterms:modified xsi:type="dcterms:W3CDTF">2001-03-28T10:23:11Z</dcterms:modified>
  <cp:revision>63</cp:revision>
  <dc:subject/>
  <dc:title>Aucun titre de diapositive</dc:title>
</cp:coreProperties>
</file>