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75F-16B6-409E-B4D2-908E6691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117-C8EE-4691-8735-B53472C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018-CA3D-4248-B52D-BA24E382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729-27D0-49EB-807C-3F959C7A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6971-393A-4E1E-9FE3-A3037941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DEF-E4D7-44A7-A3CA-51C2F70F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633-70D6-44F7-9A6F-16CFED6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01F-D108-4D6A-82C5-8CE20E0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C84-23A9-4446-994B-EB8BF8D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1D8-7F6B-4FC2-BCBD-1CA5B72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38F-0FAD-42DA-A0F6-FCD34742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2E0-C2A4-4D9E-8020-06286AFF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BFA2-241E-45BB-874E-9B4A593C5E3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scplayer.exe /S/C/H film41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86080" y="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Guide de perçag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gabari2" descr=""/>
          <p:cNvPicPr/>
          <p:nvPr/>
        </p:nvPicPr>
        <p:blipFill>
          <a:blip r:embed="rId2"/>
          <a:srcRect l="1774" t="1185" r="1357" b="2370"/>
          <a:stretch/>
        </p:blipFill>
        <p:spPr>
          <a:xfrm>
            <a:off x="819000" y="1066680"/>
            <a:ext cx="7525080" cy="485784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Guide de perçag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capot" descr=""/>
          <p:cNvPicPr/>
          <p:nvPr/>
        </p:nvPicPr>
        <p:blipFill>
          <a:blip r:embed="rId2"/>
          <a:stretch/>
        </p:blipFill>
        <p:spPr>
          <a:xfrm>
            <a:off x="336600" y="4260960"/>
            <a:ext cx="3238560" cy="21589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pic>
        <p:nvPicPr>
          <p:cNvPr id="81" name="capot%20fin" descr=""/>
          <p:cNvPicPr/>
          <p:nvPr/>
        </p:nvPicPr>
        <p:blipFill>
          <a:blip r:embed="rId3"/>
          <a:stretch/>
        </p:blipFill>
        <p:spPr>
          <a:xfrm>
            <a:off x="5857920" y="3021120"/>
            <a:ext cx="3171960" cy="210168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sp>
        <p:nvSpPr>
          <p:cNvPr id="82" name="">
            <a:hlinkClick r:id="rId4"/>
          </p:cNvPr>
          <p:cNvSpPr/>
          <p:nvPr/>
        </p:nvSpPr>
        <p:spPr>
          <a:xfrm>
            <a:off x="3759120" y="3481560"/>
            <a:ext cx="2000160" cy="133344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80" y="0"/>
                </a:lnTo>
                <a:lnTo>
                  <a:pt x="21600" y="10800"/>
                </a:lnTo>
                <a:lnTo>
                  <a:pt x="19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>
              <a:alpha val="50000"/>
            </a:srgbClr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Assembl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capo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8120" y="134136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34136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rcRect l="18990" t="24696" r="18522" b="10017"/>
          <a:stretch/>
        </p:blipFill>
        <p:spPr>
          <a:xfrm>
            <a:off x="336600" y="1963800"/>
            <a:ext cx="3238560" cy="215892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27:11Z</dcterms:modified>
  <cp:revision>63</cp:revision>
  <dc:subject/>
  <dc:title>Aucun titre de diapositive</dc:title>
</cp:coreProperties>
</file>