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F84-4088-4076-A08D-4F384E41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CCC-0962-419F-9A6D-127B6330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143-6710-4E8C-BD92-5A2642F9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E97-44AE-4F1A-B6B1-FB0B05D7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D5E-902D-4729-B06B-1E453C06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69C9-0D4D-48D6-9C57-4F07CD59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D11-C85D-488E-B4A4-4F8F742B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6DC-13CC-4C8C-AC20-213A2680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6D5-0860-47E8-A9B2-A5C1B156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A5C-14F9-4A6E-A29A-9ACDF645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696-8994-462A-8D22-8A68BC0B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BAD-93C0-4AF7-B8EC-7F167A05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A426-31B9-410A-B60C-39EDD3C7317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P:\Donn&#233;esP&#233;dagogiques\EquipeLa Roche\P&#233;dagogique\scenario3 ex1.ppt" TargetMode="External"/><Relationship Id="rId4" Type="http://schemas.openxmlformats.org/officeDocument/2006/relationships/hyperlink" Target="file:///scenario3%20ex1.ppt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hyperlink" Target="file:///scenario4%20ex1.ppt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:\cao\scplayer.exe /S/C/H meca" TargetMode="External"/><Relationship Id="rId3" Type="http://schemas.openxmlformats.org/officeDocument/2006/relationships/hyperlink" Target="C:\cao\scplayer.exe /S/C/H mp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scenario1 ex1.ppt" TargetMode="External"/><Relationship Id="rId3" Type="http://schemas.openxmlformats.org/officeDocument/2006/relationships/image" Target="../media/image6.png"/><Relationship Id="rId4" Type="http://schemas.openxmlformats.org/officeDocument/2006/relationships/hyperlink" Target="file:///scenario1%20ex1.ppt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%20journ&#233;e%20cao/scenario2%20ex1.ppt" TargetMode="External"/><Relationship Id="rId3" Type="http://schemas.openxmlformats.org/officeDocument/2006/relationships/image" Target="../media/image8.png"/><Relationship Id="rId4" Type="http://schemas.openxmlformats.org/officeDocument/2006/relationships/hyperlink" Target="file:///../%20journ&#233;e%20cao/scenario2%20ex2.ppt" TargetMode="External"/><Relationship Id="rId5" Type="http://schemas.openxmlformats.org/officeDocument/2006/relationships/image" Target="../media/image7.png"/><Relationship Id="rId6" Type="http://schemas.openxmlformats.org/officeDocument/2006/relationships/hyperlink" Target="file:///scenario2%20ex1.ppt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533520"/>
            <a:ext cx="82296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3ff9"/>
                </a:solidFill>
                <a:latin typeface="Arial"/>
              </a:rPr>
              <a:t>PROPOSITION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3ff9"/>
                </a:solidFill>
                <a:latin typeface="Arial"/>
              </a:rPr>
              <a:t>d’une démarche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3ff9"/>
                </a:solidFill>
                <a:latin typeface="Arial"/>
              </a:rPr>
              <a:t>d’apprentissage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3ff9"/>
                </a:solidFill>
                <a:latin typeface="Arial"/>
              </a:rPr>
              <a:t>à l’aide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3ff9"/>
                </a:solidFill>
                <a:latin typeface="Arial"/>
              </a:rPr>
              <a:t>d’un modeleu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3ff9"/>
                </a:solidFill>
                <a:latin typeface="Arial"/>
              </a:rPr>
              <a:t>volumique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228600"/>
            <a:ext cx="7116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Scénario 3 : Conception et définition d’une pièce dans un assemblag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9280" y="30099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33ff9"/>
                </a:solidFill>
                <a:uFillTx/>
                <a:latin typeface="Arial"/>
              </a:rPr>
              <a:t>On donne 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29718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croquis et surfaces fonctionnelles d’une pièc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191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33ff9"/>
                </a:solidFill>
                <a:uFillTx/>
                <a:latin typeface="Arial"/>
              </a:rPr>
              <a:t>On demande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4191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de concevoir une pièce en fonction d ’un mécanisme donné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7" name="planche1" descr=""/>
          <p:cNvPicPr/>
          <p:nvPr/>
        </p:nvPicPr>
        <p:blipFill>
          <a:blip r:embed="rId2"/>
          <a:stretch/>
        </p:blipFill>
        <p:spPr>
          <a:xfrm>
            <a:off x="7543800" y="5791320"/>
            <a:ext cx="1295280" cy="761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8" name="">
            <a:hlinkClick r:id="rId3"/>
          </p:cNvPr>
          <p:cNvSpPr/>
          <p:nvPr/>
        </p:nvSpPr>
        <p:spPr>
          <a:xfrm>
            <a:off x="7810560" y="59738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 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>
            <a:hlinkClick r:id="rId4"/>
          </p:cNvPr>
          <p:cNvSpPr/>
          <p:nvPr/>
        </p:nvSpPr>
        <p:spPr>
          <a:xfrm>
            <a:off x="7543800" y="5791320"/>
            <a:ext cx="1295280" cy="76176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6721" h="21600">
                <a:moveTo>
                  <a:pt x="0" y="0"/>
                </a:moveTo>
                <a:lnTo>
                  <a:pt x="36721" y="0"/>
                </a:lnTo>
                <a:lnTo>
                  <a:pt x="36721" y="21600"/>
                </a:lnTo>
                <a:lnTo>
                  <a:pt x="0" y="21600"/>
                </a:lnTo>
                <a:close/>
              </a:path>
              <a:path fill="lightenLess" w="36721" h="21600">
                <a:moveTo>
                  <a:pt x="0" y="0"/>
                </a:moveTo>
                <a:lnTo>
                  <a:pt x="36721" y="0"/>
                </a:lnTo>
                <a:lnTo>
                  <a:pt x="35321" y="1400"/>
                </a:lnTo>
                <a:lnTo>
                  <a:pt x="1400" y="1400"/>
                </a:lnTo>
                <a:close/>
              </a:path>
              <a:path fill="darken" w="36721" h="21600">
                <a:moveTo>
                  <a:pt x="36721" y="0"/>
                </a:moveTo>
                <a:lnTo>
                  <a:pt x="36721" y="21600"/>
                </a:lnTo>
                <a:lnTo>
                  <a:pt x="35321" y="20200"/>
                </a:lnTo>
                <a:lnTo>
                  <a:pt x="35321" y="1400"/>
                </a:lnTo>
                <a:close/>
              </a:path>
              <a:path fill="darkenLess" w="36721" h="21600">
                <a:moveTo>
                  <a:pt x="3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1" y="20200"/>
                </a:lnTo>
                <a:close/>
              </a:path>
              <a:path fill="lighten" w="3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43800" y="5791320"/>
            <a:ext cx="1249200" cy="761760"/>
          </a:xfrm>
          <a:custGeom>
            <a:avLst/>
            <a:gdLst>
              <a:gd name="textAreaLeft" fmla="*/ 49320 w 1249200"/>
              <a:gd name="textAreaRight" fmla="*/ 1199880 w 12492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5415" h="21600">
                <a:moveTo>
                  <a:pt x="0" y="0"/>
                </a:moveTo>
                <a:lnTo>
                  <a:pt x="35415" y="0"/>
                </a:lnTo>
                <a:lnTo>
                  <a:pt x="35415" y="21600"/>
                </a:lnTo>
                <a:lnTo>
                  <a:pt x="0" y="21600"/>
                </a:lnTo>
                <a:close/>
              </a:path>
              <a:path fill="lightenLess" w="35415" h="21600">
                <a:moveTo>
                  <a:pt x="0" y="0"/>
                </a:moveTo>
                <a:lnTo>
                  <a:pt x="35415" y="0"/>
                </a:lnTo>
                <a:lnTo>
                  <a:pt x="34015" y="1400"/>
                </a:lnTo>
                <a:lnTo>
                  <a:pt x="1400" y="1400"/>
                </a:lnTo>
                <a:close/>
              </a:path>
              <a:path fill="darken" w="35415" h="21600">
                <a:moveTo>
                  <a:pt x="35415" y="0"/>
                </a:moveTo>
                <a:lnTo>
                  <a:pt x="35415" y="21600"/>
                </a:lnTo>
                <a:lnTo>
                  <a:pt x="34015" y="20200"/>
                </a:lnTo>
                <a:lnTo>
                  <a:pt x="34015" y="1400"/>
                </a:lnTo>
                <a:close/>
              </a:path>
              <a:path fill="darkenLess" w="35415" h="21600">
                <a:moveTo>
                  <a:pt x="35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15" y="20200"/>
                </a:lnTo>
                <a:close/>
              </a:path>
              <a:path fill="lighten" w="35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67000" y="361800"/>
            <a:ext cx="63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4c2b"/>
                </a:solidFill>
                <a:uFillTx/>
                <a:latin typeface="Arial"/>
              </a:rPr>
              <a:t>4 scénarios proposé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55800" y="2938320"/>
            <a:ext cx="7349760" cy="600480"/>
            <a:chOff x="955800" y="2938320"/>
            <a:chExt cx="7349760" cy="600480"/>
          </a:xfrm>
        </p:grpSpPr>
        <p:sp>
          <p:nvSpPr>
            <p:cNvPr id="173" name=""/>
            <p:cNvSpPr/>
            <p:nvPr/>
          </p:nvSpPr>
          <p:spPr>
            <a:xfrm>
              <a:off x="1612080" y="2957400"/>
              <a:ext cx="669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33ff9"/>
                  </a:solidFill>
                  <a:latin typeface="Arial"/>
                </a:rPr>
                <a:t>Conception partielle d ’une pièce.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55800" y="2938320"/>
              <a:ext cx="64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933ff9"/>
                </a:buClr>
                <a:buFont typeface="Symbol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933ff9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955800" y="1981080"/>
            <a:ext cx="7731000" cy="581400"/>
            <a:chOff x="955800" y="1981080"/>
            <a:chExt cx="7731000" cy="581400"/>
          </a:xfrm>
        </p:grpSpPr>
        <p:sp>
          <p:nvSpPr>
            <p:cNvPr id="176" name=""/>
            <p:cNvSpPr/>
            <p:nvPr/>
          </p:nvSpPr>
          <p:spPr>
            <a:xfrm>
              <a:off x="1676520" y="1981080"/>
              <a:ext cx="701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33ff9"/>
                  </a:solidFill>
                  <a:latin typeface="Arial"/>
                </a:rPr>
                <a:t>Représentation d ’une pièce.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55800" y="19810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933ff9"/>
                </a:buClr>
                <a:buFont typeface="Symbol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933ff9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955800" y="3897360"/>
            <a:ext cx="6968520" cy="1068840"/>
            <a:chOff x="955800" y="3897360"/>
            <a:chExt cx="6968520" cy="1068840"/>
          </a:xfrm>
        </p:grpSpPr>
        <p:sp>
          <p:nvSpPr>
            <p:cNvPr id="179" name=""/>
            <p:cNvSpPr/>
            <p:nvPr/>
          </p:nvSpPr>
          <p:spPr>
            <a:xfrm>
              <a:off x="1676160" y="3897360"/>
              <a:ext cx="6248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33ff9"/>
                  </a:solidFill>
                  <a:latin typeface="Arial"/>
                </a:rPr>
                <a:t>Conception et définition d ’une pièce dans un assemblage.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55800" y="389736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933ff9"/>
                </a:buClr>
                <a:buFont typeface="Symbol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933ff9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955800" y="5221440"/>
            <a:ext cx="6492240" cy="581400"/>
            <a:chOff x="955800" y="5221440"/>
            <a:chExt cx="6492240" cy="581400"/>
          </a:xfrm>
        </p:grpSpPr>
        <p:sp>
          <p:nvSpPr>
            <p:cNvPr id="182" name=""/>
            <p:cNvSpPr/>
            <p:nvPr/>
          </p:nvSpPr>
          <p:spPr>
            <a:xfrm>
              <a:off x="1676160" y="5221440"/>
              <a:ext cx="577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Assemblage de pièces.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55800" y="522144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cc3300"/>
                </a:buClr>
                <a:buFont typeface="Symbol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9640" y="539640"/>
            <a:ext cx="777240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Scénario 4 : Assemblages de pièce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2880" y="2540160"/>
            <a:ext cx="18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33ff9"/>
                </a:solidFill>
                <a:uFillTx/>
                <a:latin typeface="Arial"/>
              </a:rPr>
              <a:t>On donne 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21080" y="2540160"/>
            <a:ext cx="543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933ff9"/>
                </a:solidFill>
                <a:latin typeface="Arial"/>
              </a:rPr>
              <a:t>les pièces réelles, photos, pièces virtuelles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7840" y="370044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éventuellement les surfaces fonctionnelles et les contraintes associée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63680" y="2286000"/>
            <a:ext cx="22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33ff9"/>
                </a:solidFill>
                <a:uFillTx/>
                <a:latin typeface="Arial"/>
              </a:rPr>
              <a:t>On demande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2286000"/>
            <a:ext cx="59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d’assembler une pièce sur un ensemble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72880"/>
            <a:ext cx="777240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Scénario 4 : Assemblages de pièce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3294000"/>
            <a:ext cx="59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d’assembler des pièces par classes d’équivalence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42847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de rechercher les classes d’équivalence d ’un ensemble par simulation virtuelle des mouvements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3" name="gabari2" descr=""/>
          <p:cNvPicPr/>
          <p:nvPr/>
        </p:nvPicPr>
        <p:blipFill>
          <a:blip r:embed="rId2"/>
          <a:srcRect l="1774" t="1185" r="-1770" b="2370"/>
          <a:stretch/>
        </p:blipFill>
        <p:spPr>
          <a:xfrm>
            <a:off x="4343400" y="5783400"/>
            <a:ext cx="1258920" cy="777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4592520" y="59738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 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5" name="pince%202" descr=""/>
          <p:cNvPicPr/>
          <p:nvPr/>
        </p:nvPicPr>
        <p:blipFill>
          <a:blip r:embed="rId3"/>
          <a:stretch/>
        </p:blipFill>
        <p:spPr>
          <a:xfrm>
            <a:off x="6095880" y="5791320"/>
            <a:ext cx="1219320" cy="761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6286680" y="5973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 2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7" name="pince%202" descr=""/>
          <p:cNvPicPr/>
          <p:nvPr/>
        </p:nvPicPr>
        <p:blipFill>
          <a:blip r:embed="rId4"/>
          <a:stretch/>
        </p:blipFill>
        <p:spPr>
          <a:xfrm>
            <a:off x="7620120" y="5791320"/>
            <a:ext cx="1218960" cy="761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7848720" y="59738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 3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>
            <a:hlinkClick r:id="rId5"/>
          </p:cNvPr>
          <p:cNvSpPr/>
          <p:nvPr/>
        </p:nvSpPr>
        <p:spPr>
          <a:xfrm>
            <a:off x="4343400" y="5783400"/>
            <a:ext cx="1258920" cy="777600"/>
          </a:xfrm>
          <a:custGeom>
            <a:avLst/>
            <a:gdLst>
              <a:gd name="textAreaLeft" fmla="*/ 50400 w 1258920"/>
              <a:gd name="textAreaRight" fmla="*/ 1208520 w 1258920"/>
              <a:gd name="textAreaTop" fmla="*/ 50400 h 777600"/>
              <a:gd name="textAreaBottom" fmla="*/ 727200 h 777600"/>
            </a:gdLst>
            <a:ahLst/>
            <a:rect l="textAreaLeft" t="textAreaTop" r="textAreaRight" b="textAreaBottom"/>
            <a:pathLst>
              <a:path w="34964" h="21600">
                <a:moveTo>
                  <a:pt x="0" y="0"/>
                </a:moveTo>
                <a:lnTo>
                  <a:pt x="34964" y="0"/>
                </a:lnTo>
                <a:lnTo>
                  <a:pt x="34964" y="21600"/>
                </a:lnTo>
                <a:lnTo>
                  <a:pt x="0" y="21600"/>
                </a:lnTo>
                <a:close/>
              </a:path>
              <a:path fill="lightenLess" w="34964" h="21600">
                <a:moveTo>
                  <a:pt x="0" y="0"/>
                </a:moveTo>
                <a:lnTo>
                  <a:pt x="34964" y="0"/>
                </a:lnTo>
                <a:lnTo>
                  <a:pt x="33564" y="1400"/>
                </a:lnTo>
                <a:lnTo>
                  <a:pt x="1400" y="1400"/>
                </a:lnTo>
                <a:close/>
              </a:path>
              <a:path fill="darken" w="34964" h="21600">
                <a:moveTo>
                  <a:pt x="34964" y="0"/>
                </a:moveTo>
                <a:lnTo>
                  <a:pt x="34964" y="21600"/>
                </a:lnTo>
                <a:lnTo>
                  <a:pt x="33564" y="20200"/>
                </a:lnTo>
                <a:lnTo>
                  <a:pt x="33564" y="1400"/>
                </a:lnTo>
                <a:close/>
              </a:path>
              <a:path fill="darkenLess" w="34964" h="21600">
                <a:moveTo>
                  <a:pt x="34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64" y="20200"/>
                </a:lnTo>
                <a:close/>
              </a:path>
              <a:path fill="lighten" w="34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5880" y="57913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24000" y="2286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33"/>
                </a:solidFill>
                <a:uFillTx/>
                <a:latin typeface="Arial"/>
              </a:rPr>
              <a:t>Utilisation des assemblage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>
            <a:hlinkClick r:id="rId2"/>
          </p:cNvPr>
          <p:cNvSpPr/>
          <p:nvPr/>
        </p:nvSpPr>
        <p:spPr>
          <a:xfrm>
            <a:off x="2152800" y="2362320"/>
            <a:ext cx="85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33ff9"/>
                </a:solidFill>
                <a:latin typeface="Arial"/>
              </a:rPr>
              <a:t>Vers la mécanique…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>
            <a:hlinkClick r:id="rId3"/>
          </p:cNvPr>
          <p:cNvSpPr/>
          <p:nvPr/>
        </p:nvSpPr>
        <p:spPr>
          <a:xfrm>
            <a:off x="2152800" y="4087800"/>
            <a:ext cx="66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33ff9"/>
                </a:solidFill>
                <a:latin typeface="Arial"/>
              </a:rPr>
              <a:t>Vers la mise en plan…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723960"/>
            <a:ext cx="7823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2750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33ff9"/>
                </a:solidFill>
                <a:latin typeface="Arial"/>
              </a:rPr>
              <a:t>Proposition indépendante </a:t>
            </a:r>
            <a:br>
              <a:rPr sz="4400"/>
            </a:br>
            <a:r>
              <a:rPr b="1" lang="en-US" sz="4400" spc="-1" strike="noStrike">
                <a:solidFill>
                  <a:srgbClr val="933ff9"/>
                </a:solidFill>
                <a:latin typeface="Arial"/>
              </a:rPr>
              <a:t>des outils logiciels du marché, conçue pour des outils de la famille «PARASOLID»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67000" y="361800"/>
            <a:ext cx="63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4c2b"/>
                </a:solidFill>
                <a:uFillTx/>
                <a:latin typeface="Arial"/>
              </a:rPr>
              <a:t>4 scénarios proposé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55800" y="2938320"/>
            <a:ext cx="7349760" cy="600480"/>
            <a:chOff x="955800" y="2938320"/>
            <a:chExt cx="7349760" cy="600480"/>
          </a:xfrm>
        </p:grpSpPr>
        <p:sp>
          <p:nvSpPr>
            <p:cNvPr id="81" name=""/>
            <p:cNvSpPr/>
            <p:nvPr/>
          </p:nvSpPr>
          <p:spPr>
            <a:xfrm>
              <a:off x="1612080" y="2957400"/>
              <a:ext cx="669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33ff9"/>
                  </a:solidFill>
                  <a:latin typeface="Arial"/>
                </a:rPr>
                <a:t>Conception partielle d ’une pièce.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55800" y="2938320"/>
              <a:ext cx="64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933ff9"/>
                </a:buClr>
                <a:buFont typeface="Symbol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933ff9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955800" y="1981080"/>
            <a:ext cx="7731000" cy="581400"/>
            <a:chOff x="955800" y="1981080"/>
            <a:chExt cx="7731000" cy="581400"/>
          </a:xfrm>
        </p:grpSpPr>
        <p:sp>
          <p:nvSpPr>
            <p:cNvPr id="84" name=""/>
            <p:cNvSpPr/>
            <p:nvPr/>
          </p:nvSpPr>
          <p:spPr>
            <a:xfrm>
              <a:off x="1676520" y="1981080"/>
              <a:ext cx="701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33ff9"/>
                  </a:solidFill>
                  <a:latin typeface="Arial"/>
                </a:rPr>
                <a:t>Représentation d ’une pièce.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55800" y="19810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933ff9"/>
                </a:buClr>
                <a:buFont typeface="Symbol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933ff9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955800" y="3897360"/>
            <a:ext cx="6968520" cy="1068840"/>
            <a:chOff x="955800" y="3897360"/>
            <a:chExt cx="6968520" cy="1068840"/>
          </a:xfrm>
        </p:grpSpPr>
        <p:sp>
          <p:nvSpPr>
            <p:cNvPr id="87" name=""/>
            <p:cNvSpPr/>
            <p:nvPr/>
          </p:nvSpPr>
          <p:spPr>
            <a:xfrm>
              <a:off x="1676160" y="3897360"/>
              <a:ext cx="6248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33ff9"/>
                  </a:solidFill>
                  <a:latin typeface="Arial"/>
                </a:rPr>
                <a:t>Conception et définition d ’une pièce dans un assemblage.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55800" y="389736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933ff9"/>
                </a:buClr>
                <a:buFont typeface="Symbol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933ff9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955800" y="5221440"/>
            <a:ext cx="6492240" cy="581400"/>
            <a:chOff x="955800" y="5221440"/>
            <a:chExt cx="6492240" cy="581400"/>
          </a:xfrm>
        </p:grpSpPr>
        <p:sp>
          <p:nvSpPr>
            <p:cNvPr id="90" name=""/>
            <p:cNvSpPr/>
            <p:nvPr/>
          </p:nvSpPr>
          <p:spPr>
            <a:xfrm>
              <a:off x="1676160" y="5221440"/>
              <a:ext cx="577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33ff9"/>
                  </a:solidFill>
                  <a:latin typeface="Arial"/>
                </a:rPr>
                <a:t>Assemblage de pièces.</a:t>
              </a:r>
              <a:r>
                <a:rPr b="1" lang="en-US" sz="2400" spc="-1" strike="noStrike">
                  <a:solidFill>
                    <a:srgbClr val="933ff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55800" y="522144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933ff9"/>
                </a:buClr>
                <a:buFont typeface="Symbol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933ff9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0"/>
            <a:ext cx="8204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4 systèmes support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28600" y="1066680"/>
            <a:ext cx="2819520" cy="2654280"/>
            <a:chOff x="228600" y="1066680"/>
            <a:chExt cx="2819520" cy="2654280"/>
          </a:xfrm>
        </p:grpSpPr>
        <p:pic>
          <p:nvPicPr>
            <p:cNvPr id="94" name="gabari1'" descr=""/>
            <p:cNvPicPr/>
            <p:nvPr/>
          </p:nvPicPr>
          <p:blipFill>
            <a:blip r:embed="rId2"/>
            <a:stretch/>
          </p:blipFill>
          <p:spPr>
            <a:xfrm>
              <a:off x="379440" y="1066680"/>
              <a:ext cx="2519280" cy="1800360"/>
            </a:xfrm>
            <a:prstGeom prst="rect">
              <a:avLst/>
            </a:prstGeom>
            <a:ln w="3240">
              <a:solidFill>
                <a:srgbClr val="933ff9"/>
              </a:solidFill>
              <a:miter/>
            </a:ln>
          </p:spPr>
        </p:pic>
        <p:sp>
          <p:nvSpPr>
            <p:cNvPr id="95" name=""/>
            <p:cNvSpPr/>
            <p:nvPr/>
          </p:nvSpPr>
          <p:spPr>
            <a:xfrm>
              <a:off x="228600" y="2895480"/>
              <a:ext cx="281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33ff9"/>
                  </a:solidFill>
                  <a:latin typeface="Arial"/>
                </a:rPr>
                <a:t>Guide de perçage monobloc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791320" y="1044720"/>
            <a:ext cx="3124080" cy="2310480"/>
            <a:chOff x="5791320" y="1044720"/>
            <a:chExt cx="3124080" cy="2310480"/>
          </a:xfrm>
        </p:grpSpPr>
        <p:pic>
          <p:nvPicPr>
            <p:cNvPr id="97" name="gabari2" descr=""/>
            <p:cNvPicPr/>
            <p:nvPr/>
          </p:nvPicPr>
          <p:blipFill>
            <a:blip r:embed="rId3"/>
            <a:stretch/>
          </p:blipFill>
          <p:spPr>
            <a:xfrm>
              <a:off x="5975280" y="1044720"/>
              <a:ext cx="2519280" cy="1866600"/>
            </a:xfrm>
            <a:prstGeom prst="rect">
              <a:avLst/>
            </a:prstGeom>
            <a:ln w="3240">
              <a:solidFill>
                <a:srgbClr val="933ff9"/>
              </a:solidFill>
              <a:miter/>
            </a:ln>
          </p:spPr>
        </p:pic>
        <p:sp>
          <p:nvSpPr>
            <p:cNvPr id="98" name=""/>
            <p:cNvSpPr/>
            <p:nvPr/>
          </p:nvSpPr>
          <p:spPr>
            <a:xfrm>
              <a:off x="5791320" y="2895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33ff9"/>
                  </a:solidFill>
                  <a:latin typeface="Arial"/>
                </a:rPr>
                <a:t>Guide de perçag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0" y="4343400"/>
            <a:ext cx="3219480" cy="2269440"/>
            <a:chOff x="0" y="4343400"/>
            <a:chExt cx="3219480" cy="2269440"/>
          </a:xfrm>
        </p:grpSpPr>
        <p:pic>
          <p:nvPicPr>
            <p:cNvPr id="100" name="planche1" descr=""/>
            <p:cNvPicPr/>
            <p:nvPr/>
          </p:nvPicPr>
          <p:blipFill>
            <a:blip r:embed="rId4"/>
            <a:stretch/>
          </p:blipFill>
          <p:spPr>
            <a:xfrm>
              <a:off x="380880" y="4343400"/>
              <a:ext cx="2519640" cy="1800360"/>
            </a:xfrm>
            <a:prstGeom prst="rect">
              <a:avLst/>
            </a:prstGeom>
            <a:ln w="3240">
              <a:solidFill>
                <a:srgbClr val="933ff9"/>
              </a:solidFill>
              <a:miter/>
            </a:ln>
          </p:spPr>
        </p:pic>
        <p:sp>
          <p:nvSpPr>
            <p:cNvPr id="101" name=""/>
            <p:cNvSpPr/>
            <p:nvPr/>
          </p:nvSpPr>
          <p:spPr>
            <a:xfrm>
              <a:off x="0" y="6153120"/>
              <a:ext cx="321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33ff9"/>
                  </a:solidFill>
                  <a:latin typeface="Arial"/>
                </a:rPr>
                <a:t>Planche à roulettes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638680" y="4363920"/>
            <a:ext cx="3124440" cy="2268000"/>
            <a:chOff x="5638680" y="4363920"/>
            <a:chExt cx="3124440" cy="2268000"/>
          </a:xfrm>
        </p:grpSpPr>
        <p:pic>
          <p:nvPicPr>
            <p:cNvPr id="103" name="pince%202" descr=""/>
            <p:cNvPicPr/>
            <p:nvPr/>
          </p:nvPicPr>
          <p:blipFill>
            <a:blip r:embed="rId5"/>
            <a:stretch/>
          </p:blipFill>
          <p:spPr>
            <a:xfrm>
              <a:off x="6019920" y="4363920"/>
              <a:ext cx="2519280" cy="1779840"/>
            </a:xfrm>
            <a:prstGeom prst="rect">
              <a:avLst/>
            </a:prstGeom>
            <a:ln w="3240">
              <a:solidFill>
                <a:srgbClr val="933ff9"/>
              </a:solidFill>
              <a:miter/>
            </a:ln>
          </p:spPr>
        </p:pic>
        <p:sp>
          <p:nvSpPr>
            <p:cNvPr id="104" name=""/>
            <p:cNvSpPr/>
            <p:nvPr/>
          </p:nvSpPr>
          <p:spPr>
            <a:xfrm>
              <a:off x="5638680" y="61722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933ff9"/>
                  </a:solidFill>
                  <a:latin typeface="Arial"/>
                </a:rPr>
                <a:t>Pince Schrader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762120" y="1798560"/>
            <a:ext cx="7653240" cy="1373760"/>
            <a:chOff x="762120" y="1798560"/>
            <a:chExt cx="7653240" cy="1373760"/>
          </a:xfrm>
        </p:grpSpPr>
        <p:sp>
          <p:nvSpPr>
            <p:cNvPr id="106" name=""/>
            <p:cNvSpPr/>
            <p:nvPr/>
          </p:nvSpPr>
          <p:spPr>
            <a:xfrm>
              <a:off x="2878200" y="1798560"/>
              <a:ext cx="5537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Arial"/>
                </a:rPr>
                <a:t>avant toute manipulation virtuelle, l’élève doit manipuler </a:t>
              </a:r>
              <a:r>
                <a:rPr b="1" lang="en-US" sz="2800" spc="-1" strike="noStrike" u="sng">
                  <a:solidFill>
                    <a:srgbClr val="cc3300"/>
                  </a:solidFill>
                  <a:uFillTx/>
                  <a:latin typeface="Arial"/>
                </a:rPr>
                <a:t>le Réel. 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2120" y="179856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cc3300"/>
                  </a:solidFill>
                  <a:uFillTx/>
                  <a:latin typeface="Arial"/>
                </a:rPr>
                <a:t>Préalable :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52760" y="5761080"/>
            <a:ext cx="54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éventuellement une partie du modèle virtuel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3581280"/>
            <a:ext cx="5638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le système en situation de fonctionnement, des simulations, des photos, des vidéos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Les différentes formes et contraintes fonctionnelles.</a:t>
            </a:r>
            <a:r>
              <a:rPr b="1" lang="en-US" sz="2800" spc="-1" strike="noStrike">
                <a:solidFill>
                  <a:srgbClr val="933ff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60" y="3598920"/>
            <a:ext cx="19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33ff9"/>
                </a:solidFill>
                <a:uFillTx/>
                <a:latin typeface="Arial"/>
              </a:rPr>
              <a:t>On donne :</a:t>
            </a:r>
            <a:r>
              <a:rPr b="0" lang="en-US" sz="2000" spc="-1" strike="noStrike" u="sng">
                <a:solidFill>
                  <a:srgbClr val="933ff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286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Scénario 1 : Représentation d ’une pièc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2192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33ff9"/>
                </a:solidFill>
                <a:uFillTx/>
                <a:latin typeface="Arial"/>
              </a:rPr>
              <a:t>On demande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78200" y="21924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d’étudier à partir de l’arbre de construction l’évolution de la construction de la pièc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3049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Scénario 1 : Représentation d ’une pièc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14600" y="3429000"/>
            <a:ext cx="5884920" cy="1648440"/>
            <a:chOff x="2514600" y="3429000"/>
            <a:chExt cx="5884920" cy="1648440"/>
          </a:xfrm>
        </p:grpSpPr>
        <p:sp>
          <p:nvSpPr>
            <p:cNvPr id="116" name=""/>
            <p:cNvSpPr/>
            <p:nvPr/>
          </p:nvSpPr>
          <p:spPr>
            <a:xfrm>
              <a:off x="2895480" y="3886200"/>
              <a:ext cx="550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933ff9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33ff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933ff9"/>
                  </a:solidFill>
                  <a:latin typeface="Arial"/>
                </a:rPr>
                <a:t>de dessiner tout ou partie de la pièce en tenant compte de l’analyse fonctionnelle.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34290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33ff9"/>
                  </a:solidFill>
                  <a:latin typeface="Arial"/>
                </a:rPr>
                <a:t>Ou/e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118" name="planche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5791320"/>
            <a:ext cx="1295280" cy="761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6210360" y="59738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2b"/>
                </a:solidFill>
                <a:latin typeface="Arial"/>
              </a:rPr>
              <a:t>Ex 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>
            <a:hlinkClick r:id="rId4"/>
          </p:cNvPr>
          <p:cNvSpPr/>
          <p:nvPr/>
        </p:nvSpPr>
        <p:spPr>
          <a:xfrm>
            <a:off x="5924520" y="5791320"/>
            <a:ext cx="1314360" cy="761760"/>
          </a:xfrm>
          <a:custGeom>
            <a:avLst/>
            <a:gdLst>
              <a:gd name="textAreaLeft" fmla="*/ 49320 w 1314360"/>
              <a:gd name="textAreaRight" fmla="*/ 1265040 w 1314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7262" h="21600">
                <a:moveTo>
                  <a:pt x="0" y="0"/>
                </a:moveTo>
                <a:lnTo>
                  <a:pt x="37262" y="0"/>
                </a:lnTo>
                <a:lnTo>
                  <a:pt x="37262" y="21600"/>
                </a:lnTo>
                <a:lnTo>
                  <a:pt x="0" y="21600"/>
                </a:lnTo>
                <a:close/>
              </a:path>
              <a:path fill="lightenLess" w="37262" h="21600">
                <a:moveTo>
                  <a:pt x="0" y="0"/>
                </a:moveTo>
                <a:lnTo>
                  <a:pt x="37262" y="0"/>
                </a:lnTo>
                <a:lnTo>
                  <a:pt x="35862" y="1400"/>
                </a:lnTo>
                <a:lnTo>
                  <a:pt x="1400" y="1400"/>
                </a:lnTo>
                <a:close/>
              </a:path>
              <a:path fill="darken" w="37262" h="21600">
                <a:moveTo>
                  <a:pt x="37262" y="0"/>
                </a:moveTo>
                <a:lnTo>
                  <a:pt x="37262" y="21600"/>
                </a:lnTo>
                <a:lnTo>
                  <a:pt x="35862" y="20200"/>
                </a:lnTo>
                <a:lnTo>
                  <a:pt x="35862" y="1400"/>
                </a:lnTo>
                <a:close/>
              </a:path>
              <a:path fill="darkenLess" w="37262" h="21600">
                <a:moveTo>
                  <a:pt x="37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62" y="20200"/>
                </a:lnTo>
                <a:close/>
              </a:path>
              <a:path fill="lighten" w="37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24720" y="5772240"/>
            <a:ext cx="1257480" cy="743040"/>
          </a:xfrm>
          <a:custGeom>
            <a:avLst/>
            <a:gdLst>
              <a:gd name="textAreaLeft" fmla="*/ 47880 w 1257480"/>
              <a:gd name="textAreaRight" fmla="*/ 1209600 w 1257480"/>
              <a:gd name="textAreaTop" fmla="*/ 47880 h 743040"/>
              <a:gd name="textAreaBottom" fmla="*/ 695160 h 743040"/>
            </a:gdLst>
            <a:ahLst/>
            <a:rect l="textAreaLeft" t="textAreaTop" r="textAreaRight" b="textAreaBottom"/>
            <a:pathLst>
              <a:path w="36547" h="21600">
                <a:moveTo>
                  <a:pt x="0" y="0"/>
                </a:moveTo>
                <a:lnTo>
                  <a:pt x="36547" y="0"/>
                </a:lnTo>
                <a:lnTo>
                  <a:pt x="36547" y="21600"/>
                </a:lnTo>
                <a:lnTo>
                  <a:pt x="0" y="21600"/>
                </a:lnTo>
                <a:close/>
              </a:path>
              <a:path fill="lightenLess" w="36547" h="21600">
                <a:moveTo>
                  <a:pt x="0" y="0"/>
                </a:moveTo>
                <a:lnTo>
                  <a:pt x="36547" y="0"/>
                </a:lnTo>
                <a:lnTo>
                  <a:pt x="35147" y="1400"/>
                </a:lnTo>
                <a:lnTo>
                  <a:pt x="1400" y="1400"/>
                </a:lnTo>
                <a:close/>
              </a:path>
              <a:path fill="darken" w="36547" h="21600">
                <a:moveTo>
                  <a:pt x="36547" y="0"/>
                </a:moveTo>
                <a:lnTo>
                  <a:pt x="36547" y="21600"/>
                </a:lnTo>
                <a:lnTo>
                  <a:pt x="35147" y="20200"/>
                </a:lnTo>
                <a:lnTo>
                  <a:pt x="35147" y="1400"/>
                </a:lnTo>
                <a:close/>
              </a:path>
              <a:path fill="darkenLess" w="36547" h="21600">
                <a:moveTo>
                  <a:pt x="36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47" y="20200"/>
                </a:lnTo>
                <a:close/>
              </a:path>
              <a:path fill="lighten" w="36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gabari2" descr=""/>
          <p:cNvPicPr/>
          <p:nvPr/>
        </p:nvPicPr>
        <p:blipFill>
          <a:blip r:embed="rId5"/>
          <a:srcRect l="1774" t="1185" r="-1770" b="2370"/>
          <a:stretch/>
        </p:blipFill>
        <p:spPr>
          <a:xfrm>
            <a:off x="7677000" y="5791320"/>
            <a:ext cx="1258920" cy="777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7926480" y="597384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2b"/>
                </a:solidFill>
                <a:latin typeface="Arial"/>
              </a:rPr>
              <a:t>Ex 2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5791320"/>
            <a:ext cx="1257480" cy="742680"/>
          </a:xfrm>
          <a:custGeom>
            <a:avLst/>
            <a:gdLst>
              <a:gd name="textAreaLeft" fmla="*/ 47880 w 1257480"/>
              <a:gd name="textAreaRight" fmla="*/ 1209600 w 1257480"/>
              <a:gd name="textAreaTop" fmla="*/ 47880 h 742680"/>
              <a:gd name="textAreaBottom" fmla="*/ 694800 h 742680"/>
            </a:gdLst>
            <a:ahLst/>
            <a:rect l="textAreaLeft" t="textAreaTop" r="textAreaRight" b="textAreaBottom"/>
            <a:pathLst>
              <a:path w="36565" h="21600">
                <a:moveTo>
                  <a:pt x="0" y="0"/>
                </a:moveTo>
                <a:lnTo>
                  <a:pt x="36565" y="0"/>
                </a:lnTo>
                <a:lnTo>
                  <a:pt x="36565" y="21600"/>
                </a:lnTo>
                <a:lnTo>
                  <a:pt x="0" y="21600"/>
                </a:lnTo>
                <a:close/>
              </a:path>
              <a:path fill="lightenLess" w="36565" h="21600">
                <a:moveTo>
                  <a:pt x="0" y="0"/>
                </a:moveTo>
                <a:lnTo>
                  <a:pt x="36565" y="0"/>
                </a:lnTo>
                <a:lnTo>
                  <a:pt x="35165" y="1400"/>
                </a:lnTo>
                <a:lnTo>
                  <a:pt x="1400" y="1400"/>
                </a:lnTo>
                <a:close/>
              </a:path>
              <a:path fill="darken" w="36565" h="21600">
                <a:moveTo>
                  <a:pt x="36565" y="0"/>
                </a:moveTo>
                <a:lnTo>
                  <a:pt x="36565" y="21600"/>
                </a:lnTo>
                <a:lnTo>
                  <a:pt x="35165" y="20200"/>
                </a:lnTo>
                <a:lnTo>
                  <a:pt x="35165" y="1400"/>
                </a:lnTo>
                <a:close/>
              </a:path>
              <a:path fill="darkenLess" w="36565" h="21600">
                <a:moveTo>
                  <a:pt x="3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65" y="20200"/>
                </a:lnTo>
                <a:close/>
              </a:path>
              <a:path fill="lighten" w="3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67000" y="361800"/>
            <a:ext cx="63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4c2b"/>
                </a:solidFill>
                <a:uFillTx/>
                <a:latin typeface="Arial"/>
              </a:rPr>
              <a:t>4 scénarios proposé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55800" y="1981080"/>
            <a:ext cx="7731000" cy="581400"/>
            <a:chOff x="955800" y="1981080"/>
            <a:chExt cx="7731000" cy="581400"/>
          </a:xfrm>
        </p:grpSpPr>
        <p:sp>
          <p:nvSpPr>
            <p:cNvPr id="127" name=""/>
            <p:cNvSpPr/>
            <p:nvPr/>
          </p:nvSpPr>
          <p:spPr>
            <a:xfrm>
              <a:off x="1676520" y="1981080"/>
              <a:ext cx="701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33ff9"/>
                  </a:solidFill>
                  <a:latin typeface="Arial"/>
                </a:rPr>
                <a:t>Représentation d ’une pièce.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55800" y="19810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933ff9"/>
                </a:buClr>
                <a:buFont typeface="Symbol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933ff9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955800" y="3897360"/>
            <a:ext cx="6968520" cy="1068840"/>
            <a:chOff x="955800" y="3897360"/>
            <a:chExt cx="6968520" cy="1068840"/>
          </a:xfrm>
        </p:grpSpPr>
        <p:sp>
          <p:nvSpPr>
            <p:cNvPr id="130" name=""/>
            <p:cNvSpPr/>
            <p:nvPr/>
          </p:nvSpPr>
          <p:spPr>
            <a:xfrm>
              <a:off x="1676160" y="3897360"/>
              <a:ext cx="6248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33ff9"/>
                  </a:solidFill>
                  <a:latin typeface="Arial"/>
                </a:rPr>
                <a:t>Conception et définition d ’une pièce dans un assemblage.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55800" y="389736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933ff9"/>
                </a:buClr>
                <a:buFont typeface="Symbol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933ff9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955800" y="5221440"/>
            <a:ext cx="6492240" cy="581400"/>
            <a:chOff x="955800" y="5221440"/>
            <a:chExt cx="6492240" cy="581400"/>
          </a:xfrm>
        </p:grpSpPr>
        <p:sp>
          <p:nvSpPr>
            <p:cNvPr id="133" name=""/>
            <p:cNvSpPr/>
            <p:nvPr/>
          </p:nvSpPr>
          <p:spPr>
            <a:xfrm>
              <a:off x="1676160" y="5221440"/>
              <a:ext cx="577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33ff9"/>
                  </a:solidFill>
                  <a:latin typeface="Arial"/>
                </a:rPr>
                <a:t>Assemblage de pièces.</a:t>
              </a:r>
              <a:r>
                <a:rPr b="1" lang="en-US" sz="2400" spc="-1" strike="noStrike">
                  <a:solidFill>
                    <a:srgbClr val="933ff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55800" y="522144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933ff9"/>
                </a:buClr>
                <a:buFont typeface="Symbol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933ff9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955800" y="2938320"/>
            <a:ext cx="8070840" cy="600480"/>
            <a:chOff x="955800" y="2938320"/>
            <a:chExt cx="8070840" cy="600480"/>
          </a:xfrm>
        </p:grpSpPr>
        <p:sp>
          <p:nvSpPr>
            <p:cNvPr id="136" name=""/>
            <p:cNvSpPr/>
            <p:nvPr/>
          </p:nvSpPr>
          <p:spPr>
            <a:xfrm>
              <a:off x="1676520" y="2957400"/>
              <a:ext cx="735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Conception partielle d ’une pièce.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55800" y="2938320"/>
              <a:ext cx="70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cc3300"/>
                </a:buClr>
                <a:buFont typeface="Symbol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819520" y="2514600"/>
            <a:ext cx="479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les surfaces fonctionnelles de la pièce avec les contraintes associée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028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33ff9"/>
                </a:solidFill>
                <a:uFillTx/>
                <a:latin typeface="Arial"/>
              </a:rPr>
              <a:t>On donne :</a:t>
            </a: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2860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4c2b"/>
                </a:solidFill>
                <a:uFillTx/>
                <a:latin typeface="Arial"/>
              </a:rPr>
              <a:t>Scénario 2 : Conception partielle d ’une pièc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6280" y="4191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33ff9"/>
                </a:solidFill>
                <a:uFillTx/>
                <a:latin typeface="Arial"/>
              </a:rPr>
              <a:t>On demande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419112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33ff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ff9"/>
                </a:solidFill>
                <a:latin typeface="Arial"/>
              </a:rPr>
              <a:t>pour un procédé d’obtention déterminé, la mise en place de la matière autour de ces surfaces fonctionnelles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3" name="gabari1'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5791320"/>
            <a:ext cx="1249200" cy="761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6033960" y="59738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2b"/>
                </a:solidFill>
                <a:latin typeface="Arial"/>
              </a:rPr>
              <a:t>Ex 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5" name="gabari2" descr="">
            <a:hlinkClick r:id="rId4"/>
          </p:cNvPr>
          <p:cNvPicPr/>
          <p:nvPr/>
        </p:nvPicPr>
        <p:blipFill>
          <a:blip r:embed="rId5"/>
          <a:srcRect l="1774" t="1185" r="-1770" b="2370"/>
          <a:stretch/>
        </p:blipFill>
        <p:spPr>
          <a:xfrm>
            <a:off x="7543800" y="5791320"/>
            <a:ext cx="1258920" cy="777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7792920" y="59817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2b"/>
                </a:solidFill>
                <a:latin typeface="Arial"/>
              </a:rPr>
              <a:t>Ex 2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>
            <a:hlinkClick r:id="rId6"/>
          </p:cNvPr>
          <p:cNvSpPr/>
          <p:nvPr/>
        </p:nvSpPr>
        <p:spPr>
          <a:xfrm>
            <a:off x="5791320" y="5791320"/>
            <a:ext cx="1249200" cy="761760"/>
          </a:xfrm>
          <a:custGeom>
            <a:avLst/>
            <a:gdLst>
              <a:gd name="textAreaLeft" fmla="*/ 49320 w 1249200"/>
              <a:gd name="textAreaRight" fmla="*/ 1199880 w 12492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5415" h="21600">
                <a:moveTo>
                  <a:pt x="0" y="0"/>
                </a:moveTo>
                <a:lnTo>
                  <a:pt x="35415" y="0"/>
                </a:lnTo>
                <a:lnTo>
                  <a:pt x="35415" y="21600"/>
                </a:lnTo>
                <a:lnTo>
                  <a:pt x="0" y="21600"/>
                </a:lnTo>
                <a:close/>
              </a:path>
              <a:path fill="lightenLess" w="35415" h="21600">
                <a:moveTo>
                  <a:pt x="0" y="0"/>
                </a:moveTo>
                <a:lnTo>
                  <a:pt x="35415" y="0"/>
                </a:lnTo>
                <a:lnTo>
                  <a:pt x="34015" y="1400"/>
                </a:lnTo>
                <a:lnTo>
                  <a:pt x="1400" y="1400"/>
                </a:lnTo>
                <a:close/>
              </a:path>
              <a:path fill="darken" w="35415" h="21600">
                <a:moveTo>
                  <a:pt x="35415" y="0"/>
                </a:moveTo>
                <a:lnTo>
                  <a:pt x="35415" y="21600"/>
                </a:lnTo>
                <a:lnTo>
                  <a:pt x="34015" y="20200"/>
                </a:lnTo>
                <a:lnTo>
                  <a:pt x="34015" y="1400"/>
                </a:lnTo>
                <a:close/>
              </a:path>
              <a:path fill="darkenLess" w="35415" h="21600">
                <a:moveTo>
                  <a:pt x="35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15" y="20200"/>
                </a:lnTo>
                <a:close/>
              </a:path>
              <a:path fill="lighten" w="35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5791320"/>
            <a:ext cx="1258920" cy="761760"/>
          </a:xfrm>
          <a:custGeom>
            <a:avLst/>
            <a:gdLst>
              <a:gd name="textAreaLeft" fmla="*/ 49320 w 1258920"/>
              <a:gd name="textAreaRight" fmla="*/ 1209600 w 12589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5691" h="21600">
                <a:moveTo>
                  <a:pt x="0" y="0"/>
                </a:moveTo>
                <a:lnTo>
                  <a:pt x="35691" y="0"/>
                </a:lnTo>
                <a:lnTo>
                  <a:pt x="35691" y="21600"/>
                </a:lnTo>
                <a:lnTo>
                  <a:pt x="0" y="21600"/>
                </a:lnTo>
                <a:close/>
              </a:path>
              <a:path fill="lightenLess" w="35691" h="21600">
                <a:moveTo>
                  <a:pt x="0" y="0"/>
                </a:moveTo>
                <a:lnTo>
                  <a:pt x="35691" y="0"/>
                </a:lnTo>
                <a:lnTo>
                  <a:pt x="34291" y="1400"/>
                </a:lnTo>
                <a:lnTo>
                  <a:pt x="1400" y="1400"/>
                </a:lnTo>
                <a:close/>
              </a:path>
              <a:path fill="darken" w="35691" h="21600">
                <a:moveTo>
                  <a:pt x="35691" y="0"/>
                </a:moveTo>
                <a:lnTo>
                  <a:pt x="35691" y="21600"/>
                </a:lnTo>
                <a:lnTo>
                  <a:pt x="34291" y="20200"/>
                </a:lnTo>
                <a:lnTo>
                  <a:pt x="34291" y="1400"/>
                </a:lnTo>
                <a:close/>
              </a:path>
              <a:path fill="darkenLess" w="35691" h="21600">
                <a:moveTo>
                  <a:pt x="35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91" y="20200"/>
                </a:lnTo>
                <a:close/>
              </a:path>
              <a:path fill="lighten" w="35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67000" y="361800"/>
            <a:ext cx="63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4c2b"/>
                </a:solidFill>
                <a:uFillTx/>
                <a:latin typeface="Arial"/>
              </a:rPr>
              <a:t>4 scénarios proposé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55800" y="2938320"/>
            <a:ext cx="7349760" cy="600480"/>
            <a:chOff x="955800" y="2938320"/>
            <a:chExt cx="7349760" cy="600480"/>
          </a:xfrm>
        </p:grpSpPr>
        <p:sp>
          <p:nvSpPr>
            <p:cNvPr id="151" name=""/>
            <p:cNvSpPr/>
            <p:nvPr/>
          </p:nvSpPr>
          <p:spPr>
            <a:xfrm>
              <a:off x="1612080" y="2957400"/>
              <a:ext cx="669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33ff9"/>
                  </a:solidFill>
                  <a:latin typeface="Arial"/>
                </a:rPr>
                <a:t>Conception partielle d ’une pièce.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55800" y="2938320"/>
              <a:ext cx="64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933ff9"/>
                </a:buClr>
                <a:buFont typeface="Symbol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933ff9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955800" y="1981080"/>
            <a:ext cx="7731000" cy="581400"/>
            <a:chOff x="955800" y="1981080"/>
            <a:chExt cx="7731000" cy="581400"/>
          </a:xfrm>
        </p:grpSpPr>
        <p:sp>
          <p:nvSpPr>
            <p:cNvPr id="154" name=""/>
            <p:cNvSpPr/>
            <p:nvPr/>
          </p:nvSpPr>
          <p:spPr>
            <a:xfrm>
              <a:off x="1676520" y="1981080"/>
              <a:ext cx="701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33ff9"/>
                  </a:solidFill>
                  <a:latin typeface="Arial"/>
                </a:rPr>
                <a:t>Représentation d ’une pièce.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55800" y="19810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933ff9"/>
                </a:buClr>
                <a:buFont typeface="Symbol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933ff9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955800" y="3897360"/>
            <a:ext cx="6968520" cy="1068840"/>
            <a:chOff x="955800" y="3897360"/>
            <a:chExt cx="6968520" cy="1068840"/>
          </a:xfrm>
        </p:grpSpPr>
        <p:sp>
          <p:nvSpPr>
            <p:cNvPr id="157" name=""/>
            <p:cNvSpPr/>
            <p:nvPr/>
          </p:nvSpPr>
          <p:spPr>
            <a:xfrm>
              <a:off x="1676160" y="3897360"/>
              <a:ext cx="6248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Conception et définition d ’une pièce dans un assemblage.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55800" y="389736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cc3300"/>
                </a:buClr>
                <a:buFont typeface="Symbol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955800" y="5221440"/>
            <a:ext cx="6492240" cy="581400"/>
            <a:chOff x="955800" y="5221440"/>
            <a:chExt cx="6492240" cy="581400"/>
          </a:xfrm>
        </p:grpSpPr>
        <p:sp>
          <p:nvSpPr>
            <p:cNvPr id="160" name=""/>
            <p:cNvSpPr/>
            <p:nvPr/>
          </p:nvSpPr>
          <p:spPr>
            <a:xfrm>
              <a:off x="1676160" y="5221440"/>
              <a:ext cx="577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33ff9"/>
                  </a:solidFill>
                  <a:latin typeface="Arial"/>
                </a:rPr>
                <a:t>Assemblage de pièces.</a:t>
              </a:r>
              <a:r>
                <a:rPr b="1" lang="en-US" sz="2400" spc="-1" strike="noStrike">
                  <a:solidFill>
                    <a:srgbClr val="933ff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55800" y="522144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buClr>
                  <a:srgbClr val="933ff9"/>
                </a:buClr>
                <a:buFont typeface="Symbol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933ff9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0:25:10Z</dcterms:created>
  <dc:creator>fabas</dc:creator>
  <dc:description/>
  <dc:language>en-US</dc:language>
  <cp:lastModifiedBy>leveiller</cp:lastModifiedBy>
  <dcterms:modified xsi:type="dcterms:W3CDTF">2001-03-28T10:21:45Z</dcterms:modified>
  <cp:revision>68</cp:revision>
  <dc:subject/>
  <dc:title>Aucun titre de diapositive</dc:title>
</cp:coreProperties>
</file>