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86F-E15F-43F0-A477-935E6315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3EF-9412-43BC-9C60-641F26BD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CDF-3A2F-4448-B42A-72A44B56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077-2B66-4FC3-ADBB-669BD180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726-82B1-400C-9C7C-7D0B3511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2D3-4983-4A12-8E75-A05CA14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D4F-BBBD-4AB4-93D4-703E21D9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74A-268B-4C37-9674-12A5DBF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4FE-11D3-4395-9956-7DB5A7DD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138-E105-43FD-9534-9CFDACAC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E07-775F-4169-B6F7-4F6CF5C6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384-1738-4C9B-B1F4-078790D5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95FE-F34D-4F6C-A737-6F04A046D57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hyperlink" Target="scplayer.exe /S/C/H assbra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image" Target="../media/image9.png"/><Relationship Id="rId6" Type="http://schemas.openxmlformats.org/officeDocument/2006/relationships/hyperlink" Target="scplayer.exe /S/C/H assclasse1 assclasse2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81120" y="228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933ff9"/>
                </a:solidFill>
                <a:uFillTx/>
                <a:latin typeface="Arial"/>
              </a:rPr>
              <a:t>Pince Schrader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8" name="pince%202" descr=""/>
          <p:cNvPicPr/>
          <p:nvPr/>
        </p:nvPicPr>
        <p:blipFill>
          <a:blip r:embed="rId2"/>
          <a:stretch/>
        </p:blipFill>
        <p:spPr>
          <a:xfrm>
            <a:off x="952560" y="1116000"/>
            <a:ext cx="7334280" cy="518004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6240" y="0"/>
            <a:ext cx="72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33ff9"/>
                </a:solidFill>
                <a:uFillTx/>
                <a:latin typeface="Arial"/>
              </a:rPr>
              <a:t>Assemblage des pièces par classe d’équivalenc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0" name="film%201" descr=""/>
          <p:cNvPicPr/>
          <p:nvPr/>
        </p:nvPicPr>
        <p:blipFill>
          <a:blip r:embed="rId2"/>
          <a:srcRect l="0" t="0" r="53449" b="53000"/>
          <a:stretch/>
        </p:blipFill>
        <p:spPr>
          <a:xfrm>
            <a:off x="5505480" y="2419200"/>
            <a:ext cx="3409920" cy="288792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rcRect l="5499" t="26668" r="0" b="21004"/>
          <a:stretch/>
        </p:blipFill>
        <p:spPr>
          <a:xfrm>
            <a:off x="285840" y="2209680"/>
            <a:ext cx="2670120" cy="1109880"/>
          </a:xfrm>
          <a:prstGeom prst="rect">
            <a:avLst/>
          </a:prstGeom>
          <a:ln w="9360">
            <a:solidFill>
              <a:srgbClr val="933ff9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>
            <a:lum bright="30000"/>
          </a:blip>
          <a:srcRect l="44749" t="34001" r="39251" b="20003"/>
          <a:stretch/>
        </p:blipFill>
        <p:spPr>
          <a:xfrm>
            <a:off x="285840" y="3881520"/>
            <a:ext cx="838080" cy="1807920"/>
          </a:xfrm>
          <a:prstGeom prst="rect">
            <a:avLst/>
          </a:prstGeom>
          <a:ln w="9360">
            <a:solidFill>
              <a:srgbClr val="933ff9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5">
            <a:lum bright="30000"/>
          </a:blip>
          <a:srcRect l="23421" t="23253" r="23251" b="10666"/>
          <a:stretch/>
        </p:blipFill>
        <p:spPr>
          <a:xfrm>
            <a:off x="1581120" y="4214880"/>
            <a:ext cx="1378080" cy="1279440"/>
          </a:xfrm>
          <a:prstGeom prst="rect">
            <a:avLst/>
          </a:prstGeom>
          <a:ln w="9360">
            <a:solidFill>
              <a:srgbClr val="933ff9"/>
            </a:solidFill>
            <a:miter/>
          </a:ln>
        </p:spPr>
      </p:pic>
      <p:sp>
        <p:nvSpPr>
          <p:cNvPr id="84" name="">
            <a:hlinkClick r:id="rId6"/>
          </p:cNvPr>
          <p:cNvSpPr/>
          <p:nvPr/>
        </p:nvSpPr>
        <p:spPr>
          <a:xfrm>
            <a:off x="3112920" y="3471840"/>
            <a:ext cx="2221200" cy="1252440"/>
          </a:xfrm>
          <a:custGeom>
            <a:avLst/>
            <a:gdLst>
              <a:gd name="textAreaLeft" fmla="*/ 0 w 2221200"/>
              <a:gd name="textAreaRight" fmla="*/ 2221200 w 222120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933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Assembl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6280" y="139860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58080" y="13986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95360" y="0"/>
            <a:ext cx="810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33ff9"/>
                </a:solidFill>
                <a:uFillTx/>
                <a:latin typeface="Arial"/>
              </a:rPr>
              <a:t>Assemblage des classes d’équivalenc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film4" descr=""/>
          <p:cNvPicPr/>
          <p:nvPr/>
        </p:nvPicPr>
        <p:blipFill>
          <a:blip r:embed="rId2"/>
          <a:srcRect l="0" t="0" r="60484" b="52243"/>
          <a:stretch/>
        </p:blipFill>
        <p:spPr>
          <a:xfrm>
            <a:off x="5508720" y="2614680"/>
            <a:ext cx="3274920" cy="2670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419040" y="176040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00840" y="17604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rcRect l="33502" t="39337" r="33001" b="25005"/>
          <a:stretch/>
        </p:blipFill>
        <p:spPr>
          <a:xfrm>
            <a:off x="1676520" y="2544840"/>
            <a:ext cx="1122120" cy="896760"/>
          </a:xfrm>
          <a:prstGeom prst="rect">
            <a:avLst/>
          </a:prstGeom>
          <a:ln w="9360">
            <a:solidFill>
              <a:srgbClr val="933ff9"/>
            </a:solidFill>
            <a:miter/>
          </a:ln>
        </p:spPr>
      </p:pic>
      <p:pic>
        <p:nvPicPr>
          <p:cNvPr id="92" name="film%201" descr=""/>
          <p:cNvPicPr/>
          <p:nvPr/>
        </p:nvPicPr>
        <p:blipFill>
          <a:blip r:embed="rId4"/>
          <a:srcRect l="0" t="0" r="53449" b="53000"/>
          <a:stretch/>
        </p:blipFill>
        <p:spPr>
          <a:xfrm>
            <a:off x="304920" y="2552760"/>
            <a:ext cx="1162080" cy="86832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5"/>
          <a:srcRect l="36166" t="25836" r="20502" b="9664"/>
          <a:stretch/>
        </p:blipFill>
        <p:spPr>
          <a:xfrm>
            <a:off x="527040" y="3629160"/>
            <a:ext cx="2149560" cy="2400120"/>
          </a:xfrm>
          <a:prstGeom prst="rect">
            <a:avLst/>
          </a:prstGeom>
          <a:ln w="9360">
            <a:solidFill>
              <a:srgbClr val="933ff9"/>
            </a:solidFill>
            <a:miter/>
          </a:ln>
        </p:spPr>
      </p:pic>
      <p:sp>
        <p:nvSpPr>
          <p:cNvPr id="94" name="">
            <a:hlinkClick r:id="rId6"/>
          </p:cNvPr>
          <p:cNvSpPr/>
          <p:nvPr/>
        </p:nvSpPr>
        <p:spPr>
          <a:xfrm>
            <a:off x="3056040" y="3548160"/>
            <a:ext cx="2220840" cy="125244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1252440"/>
              <a:gd name="textAreaBottom" fmla="*/ 125280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933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Assembl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0:25:10Z</dcterms:created>
  <dc:creator>fabas</dc:creator>
  <dc:description/>
  <dc:language>en-US</dc:language>
  <cp:lastModifiedBy>leveiller</cp:lastModifiedBy>
  <dcterms:modified xsi:type="dcterms:W3CDTF">2001-03-28T10:28:59Z</dcterms:modified>
  <cp:revision>67</cp:revision>
  <dc:subject/>
  <dc:title>Aucun titre de diapositive</dc:title>
</cp:coreProperties>
</file>