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8BE7-EF87-46ED-A7F5-209BA6FB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272-C68E-449A-B928-6A2375AB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7DC-F202-428F-B811-274CE36B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38E4-DD36-470E-9FB8-2BEE7358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CA7C-B75B-47AC-AD2E-AAD87A49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EFDB-DD34-45DF-B85F-6760AE1D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C94-AD66-4C8F-81BD-1223805A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4F1-FB4B-4702-A4B9-BB4ABCEC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0886-F030-4295-8310-86E15809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EE1-EB2D-45F9-961B-B564693C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DDE-4B61-4E45-925C-135E607F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134-CF5A-4652-8D81-9A737DB2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0043-8E63-4211-886F-9B29090A24D4}" type="slidenum">
              <a:rPr b="0" lang="fr-FR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C:\ journ&#233;e cao\films\scplayer.exe /C/H/S film11" TargetMode="External"/><Relationship Id="rId5" Type="http://schemas.openxmlformats.org/officeDocument/2006/relationships/image" Target="../media/image6.jpeg"/><Relationship Id="rId6" Type="http://schemas.openxmlformats.org/officeDocument/2006/relationships/hyperlink" Target="scplayer.exe /s/c/h film11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scplayer.exe /S/C/H film12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scplayer.exe /S/C/H film13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04880" y="228600"/>
            <a:ext cx="77724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Planche à roulettes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8" name="photo%20support" descr=""/>
          <p:cNvPicPr/>
          <p:nvPr/>
        </p:nvPicPr>
        <p:blipFill>
          <a:blip r:embed="rId2"/>
          <a:stretch/>
        </p:blipFill>
        <p:spPr>
          <a:xfrm>
            <a:off x="4781520" y="1792440"/>
            <a:ext cx="4095720" cy="317952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  <p:pic>
        <p:nvPicPr>
          <p:cNvPr id="79" name="planche1" descr=""/>
          <p:cNvPicPr/>
          <p:nvPr/>
        </p:nvPicPr>
        <p:blipFill>
          <a:blip r:embed="rId3"/>
          <a:stretch/>
        </p:blipFill>
        <p:spPr>
          <a:xfrm>
            <a:off x="247680" y="1792440"/>
            <a:ext cx="4317840" cy="317952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  <p:grpSp>
        <p:nvGrpSpPr>
          <p:cNvPr id="80" name=""/>
          <p:cNvGrpSpPr/>
          <p:nvPr/>
        </p:nvGrpSpPr>
        <p:grpSpPr>
          <a:xfrm>
            <a:off x="2406600" y="4973760"/>
            <a:ext cx="4423320" cy="1422000"/>
            <a:chOff x="2406600" y="4973760"/>
            <a:chExt cx="4423320" cy="1422000"/>
          </a:xfrm>
        </p:grpSpPr>
        <p:cxnSp>
          <p:nvCxnSpPr>
            <p:cNvPr id="81" name=""/>
            <p:cNvCxnSpPr/>
            <p:nvPr/>
          </p:nvCxnSpPr>
          <p:spPr>
            <a:xfrm flipH="1" rot="16200000">
              <a:off x="4617360" y="2762640"/>
              <a:ext cx="2160" cy="4423680"/>
            </a:xfrm>
            <a:prstGeom prst="curvedConnector5">
              <a:avLst>
                <a:gd name="adj1" fmla="val 34680000"/>
                <a:gd name="adj2" fmla="val 49995"/>
                <a:gd name="adj3" fmla="val 34680000"/>
              </a:avLst>
            </a:prstGeom>
            <a:ln w="101520">
              <a:solidFill>
                <a:srgbClr val="933ff9"/>
              </a:solidFill>
              <a:miter/>
              <a:tailEnd len="med" type="triangle" w="med"/>
            </a:ln>
          </p:spPr>
        </p:cxnSp>
        <p:sp>
          <p:nvSpPr>
            <p:cNvPr id="82" name=""/>
            <p:cNvSpPr/>
            <p:nvPr/>
          </p:nvSpPr>
          <p:spPr>
            <a:xfrm>
              <a:off x="3225960" y="5753160"/>
              <a:ext cx="294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33ff9"/>
                  </a:solidFill>
                  <a:latin typeface="Arial"/>
                </a:rPr>
                <a:t>démontage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Objectifs</a:t>
            </a:r>
            <a:r>
              <a:rPr b="1" lang="en-US" sz="4400" spc="-1" strike="noStrike" u="sng">
                <a:solidFill>
                  <a:srgbClr val="004c2b"/>
                </a:solidFill>
                <a:uFillTx/>
                <a:latin typeface="Arial"/>
              </a:rPr>
              <a:t> 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31436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33ff9"/>
                </a:solidFill>
                <a:uFillTx/>
                <a:latin typeface="Arial"/>
              </a:rPr>
              <a:t>Dans une approche fonctionnelle du systèm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76200" y="2467080"/>
            <a:ext cx="7105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933ff9"/>
                </a:solidFill>
                <a:latin typeface="Arial"/>
              </a:rPr>
              <a:t>Mettre en relation une pièce réelle et son modèle virtuel 3D</a:t>
            </a:r>
            <a:r>
              <a:rPr b="1" lang="fr-FR" sz="3200" spc="-1" strike="noStrike">
                <a:solidFill>
                  <a:srgbClr val="933ff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33ff9"/>
                </a:solidFill>
                <a:latin typeface="Arial"/>
              </a:rPr>
              <a:t>Analyser la construction du modèle vir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933ff9"/>
                </a:solidFill>
                <a:latin typeface="Arial"/>
              </a:rPr>
              <a:t>Reconstruire le modèle virtu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90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Mise en relation réel/virtuel 3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456240" y="1774800"/>
            <a:ext cx="3047760" cy="4599000"/>
            <a:chOff x="6456240" y="1774800"/>
            <a:chExt cx="3047760" cy="4599000"/>
          </a:xfrm>
        </p:grpSpPr>
        <p:sp>
          <p:nvSpPr>
            <p:cNvPr id="88" name=""/>
            <p:cNvSpPr/>
            <p:nvPr/>
          </p:nvSpPr>
          <p:spPr>
            <a:xfrm>
              <a:off x="6456240" y="1774800"/>
              <a:ext cx="304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33ff9"/>
                  </a:solidFill>
                  <a:latin typeface="Arial"/>
                </a:rPr>
                <a:t>Image virtuelle colorée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89" name="support%20coloré%20(dessus)" descr=""/>
            <p:cNvPicPr/>
            <p:nvPr/>
          </p:nvPicPr>
          <p:blipFill>
            <a:blip r:embed="rId2"/>
            <a:stretch/>
          </p:blipFill>
          <p:spPr>
            <a:xfrm>
              <a:off x="6456240" y="2720880"/>
              <a:ext cx="2251080" cy="1508040"/>
            </a:xfrm>
            <a:prstGeom prst="rect">
              <a:avLst/>
            </a:prstGeom>
            <a:ln w="3240">
              <a:solidFill>
                <a:srgbClr val="933ff9"/>
              </a:solidFill>
              <a:miter/>
            </a:ln>
          </p:spPr>
        </p:pic>
        <p:pic>
          <p:nvPicPr>
            <p:cNvPr id="90" name="support%20coloré%20(dessous)" descr=""/>
            <p:cNvPicPr/>
            <p:nvPr/>
          </p:nvPicPr>
          <p:blipFill>
            <a:blip r:embed="rId3"/>
            <a:stretch/>
          </p:blipFill>
          <p:spPr>
            <a:xfrm>
              <a:off x="6457680" y="4213080"/>
              <a:ext cx="2251080" cy="2160720"/>
            </a:xfrm>
            <a:prstGeom prst="rect">
              <a:avLst/>
            </a:prstGeom>
            <a:ln w="3240">
              <a:solidFill>
                <a:srgbClr val="933ff9"/>
              </a:solidFill>
              <a:miter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2895480" y="2624040"/>
            <a:ext cx="3027600" cy="2113200"/>
            <a:chOff x="2895480" y="2624040"/>
            <a:chExt cx="3027600" cy="2113200"/>
          </a:xfrm>
        </p:grpSpPr>
        <p:sp>
          <p:nvSpPr>
            <p:cNvPr id="92" name=""/>
            <p:cNvSpPr/>
            <p:nvPr/>
          </p:nvSpPr>
          <p:spPr>
            <a:xfrm>
              <a:off x="2895480" y="2624040"/>
              <a:ext cx="3027600" cy="1676520"/>
            </a:xfrm>
            <a:custGeom>
              <a:avLst/>
              <a:gdLst>
                <a:gd name="textAreaLeft" fmla="*/ 0 w 3027600"/>
                <a:gd name="textAreaRight" fmla="*/ 3027960 w 3027600"/>
                <a:gd name="textAreaTop" fmla="*/ 0 h 1676520"/>
                <a:gd name="textAreaBottom" fmla="*/ 167688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284" y="0"/>
                  </a:lnTo>
                  <a:lnTo>
                    <a:pt x="21600" y="10800"/>
                  </a:lnTo>
                  <a:lnTo>
                    <a:pt x="1928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>
                <a:alpha val="50000"/>
              </a:srgbClr>
            </a:solidFill>
            <a:ln w="9360">
              <a:solidFill>
                <a:srgbClr val="933f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0400" y="2624040"/>
              <a:ext cx="2286000" cy="21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33ff9"/>
                  </a:solidFill>
                  <a:latin typeface="Arial"/>
                </a:rPr>
                <a:t>Identification par couleur des surfaces fonctionnelles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>
              <a:hlinkClick r:id="rId4"/>
            </p:cNvPr>
            <p:cNvSpPr/>
            <p:nvPr/>
          </p:nvSpPr>
          <p:spPr>
            <a:xfrm>
              <a:off x="3124080" y="2876400"/>
              <a:ext cx="2457720" cy="1162080"/>
            </a:xfrm>
            <a:custGeom>
              <a:avLst/>
              <a:gdLst>
                <a:gd name="textAreaLeft" fmla="*/ 75240 w 2457720"/>
                <a:gd name="textAreaRight" fmla="*/ 2382480 w 2457720"/>
                <a:gd name="textAreaTop" fmla="*/ 75240 h 1162080"/>
                <a:gd name="textAreaBottom" fmla="*/ 1086840 h 1162080"/>
              </a:gdLst>
              <a:ahLst/>
              <a:rect l="textAreaLeft" t="textAreaTop" r="textAreaRight" b="textAreaBottom"/>
              <a:pathLst>
                <a:path w="45675" h="21600">
                  <a:moveTo>
                    <a:pt x="0" y="0"/>
                  </a:moveTo>
                  <a:lnTo>
                    <a:pt x="45675" y="0"/>
                  </a:lnTo>
                  <a:lnTo>
                    <a:pt x="45675" y="21600"/>
                  </a:lnTo>
                  <a:lnTo>
                    <a:pt x="0" y="21600"/>
                  </a:lnTo>
                  <a:close/>
                </a:path>
                <a:path fill="lightenLess" w="45675" h="21600">
                  <a:moveTo>
                    <a:pt x="0" y="0"/>
                  </a:moveTo>
                  <a:lnTo>
                    <a:pt x="45675" y="0"/>
                  </a:lnTo>
                  <a:lnTo>
                    <a:pt x="44275" y="1400"/>
                  </a:lnTo>
                  <a:lnTo>
                    <a:pt x="1400" y="1400"/>
                  </a:lnTo>
                  <a:close/>
                </a:path>
                <a:path fill="darken" w="45675" h="21600">
                  <a:moveTo>
                    <a:pt x="45675" y="0"/>
                  </a:moveTo>
                  <a:lnTo>
                    <a:pt x="45675" y="21600"/>
                  </a:lnTo>
                  <a:lnTo>
                    <a:pt x="44275" y="20200"/>
                  </a:lnTo>
                  <a:lnTo>
                    <a:pt x="44275" y="1400"/>
                  </a:lnTo>
                  <a:close/>
                </a:path>
                <a:path fill="darkenLess" w="45675" h="21600">
                  <a:moveTo>
                    <a:pt x="4567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4275" y="20200"/>
                  </a:lnTo>
                  <a:close/>
                </a:path>
                <a:path fill="lighten" w="4567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1995480"/>
            <a:ext cx="2933640" cy="4130640"/>
            <a:chOff x="0" y="1995480"/>
            <a:chExt cx="2933640" cy="4130640"/>
          </a:xfrm>
        </p:grpSpPr>
        <p:pic>
          <p:nvPicPr>
            <p:cNvPr id="96" name="support%20isométrique" descr=""/>
            <p:cNvPicPr/>
            <p:nvPr/>
          </p:nvPicPr>
          <p:blipFill>
            <a:blip r:embed="rId5"/>
            <a:stretch/>
          </p:blipFill>
          <p:spPr>
            <a:xfrm>
              <a:off x="181080" y="4408200"/>
              <a:ext cx="2471760" cy="1717920"/>
            </a:xfrm>
            <a:prstGeom prst="rect">
              <a:avLst/>
            </a:prstGeom>
            <a:ln w="3240">
              <a:solidFill>
                <a:srgbClr val="933ff9"/>
              </a:solidFill>
              <a:miter/>
            </a:ln>
          </p:spPr>
        </p:pic>
        <p:sp>
          <p:nvSpPr>
            <p:cNvPr id="97" name=""/>
            <p:cNvSpPr/>
            <p:nvPr/>
          </p:nvSpPr>
          <p:spPr>
            <a:xfrm>
              <a:off x="0" y="1995480"/>
              <a:ext cx="293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933ff9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33ff9"/>
                  </a:solidFill>
                  <a:latin typeface="Arial"/>
                </a:rPr>
                <a:t>Pièce réelle colorée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933ff9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933ff9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33ff9"/>
                  </a:solidFill>
                  <a:latin typeface="Arial"/>
                </a:rPr>
                <a:t>Pièce virtuelle non colorée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933ff9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85840" y="1219320"/>
            <a:ext cx="22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on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86680" y="121932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emand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>
            <a:hlinkClick r:id="rId6"/>
          </p:cNvPr>
          <p:cNvSpPr/>
          <p:nvPr/>
        </p:nvSpPr>
        <p:spPr>
          <a:xfrm>
            <a:off x="2914560" y="2666880"/>
            <a:ext cx="3143520" cy="1695600"/>
          </a:xfrm>
          <a:custGeom>
            <a:avLst/>
            <a:gdLst>
              <a:gd name="textAreaLeft" fmla="*/ 109800 w 3143520"/>
              <a:gd name="textAreaRight" fmla="*/ 3033720 w 3143520"/>
              <a:gd name="textAreaTop" fmla="*/ 109800 h 1695600"/>
              <a:gd name="textAreaBottom" fmla="*/ 1585800 h 1695600"/>
            </a:gdLst>
            <a:ahLst/>
            <a:rect l="textAreaLeft" t="textAreaTop" r="textAreaRight" b="textAreaBottom"/>
            <a:pathLst>
              <a:path w="40041" h="21600">
                <a:moveTo>
                  <a:pt x="0" y="0"/>
                </a:moveTo>
                <a:lnTo>
                  <a:pt x="40041" y="0"/>
                </a:lnTo>
                <a:lnTo>
                  <a:pt x="40041" y="21600"/>
                </a:lnTo>
                <a:lnTo>
                  <a:pt x="0" y="21600"/>
                </a:lnTo>
                <a:close/>
              </a:path>
              <a:path fill="lightenLess" w="40041" h="21600">
                <a:moveTo>
                  <a:pt x="0" y="0"/>
                </a:moveTo>
                <a:lnTo>
                  <a:pt x="40041" y="0"/>
                </a:lnTo>
                <a:lnTo>
                  <a:pt x="38641" y="1400"/>
                </a:lnTo>
                <a:lnTo>
                  <a:pt x="1400" y="1400"/>
                </a:lnTo>
                <a:close/>
              </a:path>
              <a:path fill="darken" w="40041" h="21600">
                <a:moveTo>
                  <a:pt x="40041" y="0"/>
                </a:moveTo>
                <a:lnTo>
                  <a:pt x="40041" y="21600"/>
                </a:lnTo>
                <a:lnTo>
                  <a:pt x="38641" y="20200"/>
                </a:lnTo>
                <a:lnTo>
                  <a:pt x="38641" y="1400"/>
                </a:lnTo>
                <a:close/>
              </a:path>
              <a:path fill="darkenLess" w="40041" h="21600">
                <a:moveTo>
                  <a:pt x="40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41" y="20200"/>
                </a:lnTo>
                <a:close/>
              </a:path>
              <a:path fill="lighten" w="40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52560" y="247680"/>
            <a:ext cx="733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Analyse de la construction d’une pièce virtuell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>
            <a:hlinkClick r:id="rId2"/>
          </p:cNvPr>
          <p:cNvSpPr/>
          <p:nvPr/>
        </p:nvSpPr>
        <p:spPr>
          <a:xfrm>
            <a:off x="4076640" y="3500280"/>
            <a:ext cx="2457360" cy="1676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4" y="0"/>
                </a:lnTo>
                <a:lnTo>
                  <a:pt x="21600" y="10800"/>
                </a:lnTo>
                <a:lnTo>
                  <a:pt x="1928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933f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Déplacemen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bar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de repri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étape/éta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arbre%20de%20construction" descr=""/>
          <p:cNvPicPr/>
          <p:nvPr/>
        </p:nvPicPr>
        <p:blipFill>
          <a:blip r:embed="rId3"/>
          <a:srcRect l="590" t="1220" r="51963" b="36339"/>
          <a:stretch/>
        </p:blipFill>
        <p:spPr>
          <a:xfrm>
            <a:off x="291960" y="2662200"/>
            <a:ext cx="3619800" cy="3846600"/>
          </a:xfrm>
          <a:prstGeom prst="rect">
            <a:avLst/>
          </a:prstGeom>
          <a:ln w="3240">
            <a:solidFill>
              <a:srgbClr val="933ff9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285840" y="1600200"/>
            <a:ext cx="22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on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86680" y="160020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emand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800" y="217188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3ff9"/>
                </a:solidFill>
                <a:latin typeface="Arial"/>
              </a:rPr>
              <a:t>Modèle virtu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591240" y="3238560"/>
            <a:ext cx="2552760" cy="2128320"/>
            <a:chOff x="6591240" y="3238560"/>
            <a:chExt cx="2552760" cy="2128320"/>
          </a:xfrm>
        </p:grpSpPr>
        <p:sp>
          <p:nvSpPr>
            <p:cNvPr id="108" name=""/>
            <p:cNvSpPr/>
            <p:nvPr/>
          </p:nvSpPr>
          <p:spPr>
            <a:xfrm>
              <a:off x="6858000" y="4419720"/>
              <a:ext cx="1866960" cy="947160"/>
            </a:xfrm>
            <a:prstGeom prst="rect">
              <a:avLst/>
            </a:prstGeom>
            <a:solidFill>
              <a:srgbClr val="33cccc">
                <a:alpha val="50000"/>
              </a:srgbClr>
            </a:solidFill>
            <a:ln w="3240">
              <a:solidFill>
                <a:srgbClr val="933f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33ff9"/>
                  </a:solidFill>
                  <a:latin typeface="Arial"/>
                </a:rPr>
                <a:t>Document à remplir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91240" y="3238560"/>
              <a:ext cx="2552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933ff9"/>
                  </a:solidFill>
                  <a:latin typeface="Arial"/>
                </a:rPr>
                <a:t>Analyse de la contruction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support%20cotation%20embase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04920" y="2476440"/>
            <a:ext cx="4724280" cy="2792520"/>
          </a:xfrm>
          <a:prstGeom prst="rect">
            <a:avLst/>
          </a:prstGeom>
          <a:ln w="9360">
            <a:solidFill>
              <a:srgbClr val="933ff9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685800" y="2858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Analyse de l’obtention de l’embase de fixatio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48240" y="2243160"/>
            <a:ext cx="3695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33ff9"/>
                </a:solidFill>
                <a:latin typeface="Arial"/>
              </a:rPr>
              <a:t>Quelle surface fonctionnelle le volume ajouté génère-t-il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33ff9"/>
                </a:solidFill>
                <a:latin typeface="Arial"/>
              </a:rPr>
              <a:t>Mesurer et compléter les cotes manquante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04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Réalisation du modèle virtue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>
            <a:hlinkClick r:id="rId2"/>
          </p:cNvPr>
          <p:cNvSpPr/>
          <p:nvPr/>
        </p:nvSpPr>
        <p:spPr>
          <a:xfrm>
            <a:off x="3581280" y="3181320"/>
            <a:ext cx="2221200" cy="1143000"/>
          </a:xfrm>
          <a:custGeom>
            <a:avLst/>
            <a:gdLst>
              <a:gd name="textAreaLeft" fmla="*/ 0 w 2221200"/>
              <a:gd name="textAreaRight" fmla="*/ 2221200 w 22212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4" y="0"/>
                </a:lnTo>
                <a:lnTo>
                  <a:pt x="21600" y="10800"/>
                </a:lnTo>
                <a:lnTo>
                  <a:pt x="1928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33ff9"/>
                </a:solidFill>
                <a:latin typeface="Arial"/>
              </a:rPr>
              <a:t>Réalis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950080" y="1873080"/>
            <a:ext cx="3047760" cy="3129120"/>
            <a:chOff x="5950080" y="1873080"/>
            <a:chExt cx="3047760" cy="3129120"/>
          </a:xfrm>
        </p:grpSpPr>
        <p:sp>
          <p:nvSpPr>
            <p:cNvPr id="116" name=""/>
            <p:cNvSpPr/>
            <p:nvPr/>
          </p:nvSpPr>
          <p:spPr>
            <a:xfrm>
              <a:off x="6702480" y="1873080"/>
              <a:ext cx="1542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33ff9"/>
                  </a:solidFill>
                  <a:latin typeface="Arial"/>
                </a:rPr>
                <a:t>Modèle virtuel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117" name="support%20isométrique" descr=""/>
            <p:cNvPicPr/>
            <p:nvPr/>
          </p:nvPicPr>
          <p:blipFill>
            <a:blip r:embed="rId3"/>
            <a:stretch/>
          </p:blipFill>
          <p:spPr>
            <a:xfrm>
              <a:off x="5950080" y="2882880"/>
              <a:ext cx="3047760" cy="2119320"/>
            </a:xfrm>
            <a:prstGeom prst="rect">
              <a:avLst/>
            </a:prstGeom>
            <a:ln w="3240">
              <a:solidFill>
                <a:srgbClr val="333333"/>
              </a:solidFill>
              <a:miter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285840" y="1728720"/>
            <a:ext cx="3695760" cy="4786560"/>
            <a:chOff x="285840" y="1728720"/>
            <a:chExt cx="3695760" cy="4786560"/>
          </a:xfrm>
        </p:grpSpPr>
        <p:pic>
          <p:nvPicPr>
            <p:cNvPr id="119" name="forme%20de%20base" descr=""/>
            <p:cNvPicPr/>
            <p:nvPr/>
          </p:nvPicPr>
          <p:blipFill>
            <a:blip r:embed="rId4"/>
            <a:stretch/>
          </p:blipFill>
          <p:spPr>
            <a:xfrm>
              <a:off x="704880" y="2346480"/>
              <a:ext cx="2390760" cy="18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85840" y="1728720"/>
              <a:ext cx="369576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933ff9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33ff9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933ff9"/>
                  </a:solidFill>
                  <a:latin typeface="Arial"/>
                </a:rPr>
                <a:t>partie donnée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933ff9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933ff9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933ff9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933ff9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933ff9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933ff9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33ff9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933ff9"/>
                  </a:solidFill>
                  <a:latin typeface="Arial"/>
                </a:rPr>
                <a:t>cotes mesurées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933ff9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933ff9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33ff9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933ff9"/>
                  </a:solidFill>
                  <a:latin typeface="Arial"/>
                </a:rPr>
                <a:t>films de démonstration de la construction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24000" y="1200240"/>
            <a:ext cx="22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on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120024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4c2b"/>
                </a:solidFill>
                <a:uFillTx/>
                <a:latin typeface="Arial"/>
              </a:rPr>
              <a:t>On demand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10:25:10Z</dcterms:created>
  <dc:creator>fabas</dc:creator>
  <dc:description/>
  <dc:language>en-US</dc:language>
  <cp:lastModifiedBy>leveiller</cp:lastModifiedBy>
  <dcterms:modified xsi:type="dcterms:W3CDTF">2001-03-28T10:12:30Z</dcterms:modified>
  <cp:revision>60</cp:revision>
  <dc:subject/>
  <dc:title>Aucun titre de diapositive</dc:title>
</cp:coreProperties>
</file>