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0C3-C72A-4B13-A98F-DCF3C7DA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6DF-14BF-4B30-9C3A-2C0D0D06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034-4E7D-4F31-BAE3-9F1B7282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CD3-C336-4A3D-A07C-86EAFAA4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254-31CC-48C3-8A47-60E21BB2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D1D-133A-4E41-B4AA-12C2784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106-672C-474F-8993-E958FE96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CE3-C10B-4B77-A90D-BCCCCF2C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189-D17D-4BCB-A3B4-698362D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7D4-FCE1-4DE5-9D4A-FEADBF21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104-708A-41F7-8A26-37012D4E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1D1-C882-41E8-8888-3307C315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B91B-C635-47D3-9990-D0526037930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scplayer.exe /S/C/H trip1-1" TargetMode="External"/><Relationship Id="rId8" Type="http://schemas.openxmlformats.org/officeDocument/2006/relationships/hyperlink" Target="scplayer.exe /S/C/H trip1-2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2480" y="19368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Guide de perçage</a:t>
            </a:r>
            <a:r>
              <a:rPr b="0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monobloc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gabari1'" descr=""/>
          <p:cNvPicPr/>
          <p:nvPr/>
        </p:nvPicPr>
        <p:blipFill>
          <a:blip r:embed="rId2"/>
          <a:stretch/>
        </p:blipFill>
        <p:spPr>
          <a:xfrm>
            <a:off x="1355760" y="1886040"/>
            <a:ext cx="6664320" cy="449100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1880" y="1062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Guide de perçage</a:t>
            </a:r>
            <a:r>
              <a:rPr b="0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monobloc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0" name="triplex%201" descr=""/>
          <p:cNvPicPr/>
          <p:nvPr/>
        </p:nvPicPr>
        <p:blipFill>
          <a:blip r:embed="rId2"/>
          <a:srcRect l="58202" t="31346" r="8749" b="29947"/>
          <a:stretch/>
        </p:blipFill>
        <p:spPr>
          <a:xfrm>
            <a:off x="425520" y="1755720"/>
            <a:ext cx="2158920" cy="215892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graphicFrame>
        <p:nvGraphicFramePr>
          <p:cNvPr id="81" name=""/>
          <p:cNvGraphicFramePr/>
          <p:nvPr/>
        </p:nvGraphicFramePr>
        <p:xfrm>
          <a:off x="6386400" y="1755720"/>
          <a:ext cx="21592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6400" y="1755720"/>
                    <a:ext cx="2159280" cy="2158920"/>
                  </a:xfrm>
                  <a:prstGeom prst="rect">
                    <a:avLst/>
                  </a:prstGeom>
                  <a:ln w="3240">
                    <a:solidFill>
                      <a:srgbClr val="933ff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3" name="triplex%202fin" descr=""/>
          <p:cNvPicPr/>
          <p:nvPr/>
        </p:nvPicPr>
        <p:blipFill>
          <a:blip r:embed="rId5"/>
          <a:srcRect l="24505" t="0" r="26572" b="30709"/>
          <a:stretch/>
        </p:blipFill>
        <p:spPr>
          <a:xfrm>
            <a:off x="6386400" y="4414680"/>
            <a:ext cx="2159280" cy="215928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pic>
        <p:nvPicPr>
          <p:cNvPr id="84" name="triplex%202" descr=""/>
          <p:cNvPicPr/>
          <p:nvPr/>
        </p:nvPicPr>
        <p:blipFill>
          <a:blip r:embed="rId6"/>
          <a:srcRect l="23672" t="0" r="30219" b="31890"/>
          <a:stretch/>
        </p:blipFill>
        <p:spPr>
          <a:xfrm>
            <a:off x="425520" y="4414680"/>
            <a:ext cx="2158920" cy="215928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sp>
        <p:nvSpPr>
          <p:cNvPr id="85" name="">
            <a:hlinkClick r:id="rId7"/>
          </p:cNvPr>
          <p:cNvSpPr/>
          <p:nvPr/>
        </p:nvSpPr>
        <p:spPr>
          <a:xfrm>
            <a:off x="3227400" y="2303640"/>
            <a:ext cx="2514600" cy="13334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>
              <a:alpha val="50000"/>
            </a:srgbClr>
          </a:solidFill>
          <a:ln w="9360">
            <a:solidFill>
              <a:srgbClr val="933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ff9"/>
                </a:solidFill>
                <a:latin typeface="Arial"/>
              </a:rPr>
              <a:t>Liaiso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ff9"/>
                </a:solidFill>
                <a:latin typeface="Arial"/>
              </a:rPr>
              <a:t>guide / bâ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>
            <a:hlinkClick r:id="rId8"/>
          </p:cNvPr>
          <p:cNvSpPr/>
          <p:nvPr/>
        </p:nvSpPr>
        <p:spPr>
          <a:xfrm>
            <a:off x="3357720" y="4910040"/>
            <a:ext cx="2514600" cy="13334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>
              <a:alpha val="50000"/>
            </a:srgbClr>
          </a:solidFill>
          <a:ln w="9360">
            <a:solidFill>
              <a:srgbClr val="933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ff9"/>
                </a:solidFill>
                <a:latin typeface="Arial"/>
              </a:rPr>
              <a:t>Liais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ff9"/>
                </a:solidFill>
                <a:latin typeface="Arial"/>
              </a:rPr>
              <a:t>U / bâ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640" y="88416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5400" y="884160"/>
            <a:ext cx="24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fabas</dc:creator>
  <dc:description/>
  <dc:language>en-US</dc:language>
  <cp:lastModifiedBy>leveiller</cp:lastModifiedBy>
  <dcterms:modified xsi:type="dcterms:W3CDTF">2001-03-28T10:24:18Z</dcterms:modified>
  <cp:revision>58</cp:revision>
  <dc:subject/>
  <dc:title>Aucun titre de diapositive</dc:title>
</cp:coreProperties>
</file>