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EB58-2CA6-42DF-A7C3-4B3C4E4F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1D68-926E-41C6-B4D2-C87F5AE7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967A-83D8-45E5-BAF9-1AD12AD2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891E-794B-41D0-8F6A-6C7C505F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C23C-BCEA-4058-B295-0A5BAF84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A273-7920-4226-AA26-316F6A6A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54D3-B2E6-485D-AF3F-AC2BF4E7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7AFE-BD27-4B5F-B8C3-F4EE8C4E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168-0608-4625-9CCB-28312C2A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B8D5-B1C0-43AE-9B21-5410CD2A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2A68-2D11-4CA6-AD4C-C24CDCE5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B841-D664-4347-B8B0-BEDE40CF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e25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e252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e25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e252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e252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3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TILISATION D’UN MODELEUR VOLUMIQUE PARAMETR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160" y="1752480"/>
            <a:ext cx="571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tre expérience au Lycée Pierre Méchain dans l’Aisne</a:t>
            </a: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334120"/>
            <a:ext cx="86104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ésentation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r FAURE et Mr BALDUI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s la tutelle de Mr DIVERCHY (IP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erciements à Mr SIMONEL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ogo%20méchain" descr=""/>
          <p:cNvPicPr/>
          <p:nvPr/>
        </p:nvPicPr>
        <p:blipFill>
          <a:blip r:embed="rId2"/>
          <a:srcRect l="1808" t="2430" r="2558" b="2984"/>
          <a:stretch/>
        </p:blipFill>
        <p:spPr>
          <a:xfrm>
            <a:off x="3124080" y="2819520"/>
            <a:ext cx="3276720" cy="24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MA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ésentation du thème d’étude (Agrafeuse)</a:t>
            </a: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3505320"/>
            <a:ext cx="7848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 - Présentation de l’application pédagogique développé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.1 - Sous-ensemble étudié</a:t>
            </a: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.2 - Fiche pédagogique</a:t>
            </a: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.3 - Conditions de réalisation</a:t>
            </a: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.4 - Déroulement de l’activité</a:t>
            </a: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-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Présentation de l’application pédagogi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hoto%20agrafeuse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657600" cy="3456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.1 –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Sous-ensemble étudi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2971800"/>
            <a:ext cx="1752840" cy="1600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-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Présentation de l’application pédagogi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362320" y="2209680"/>
            <a:ext cx="6553080" cy="3916440"/>
            <a:chOff x="2362320" y="2209680"/>
            <a:chExt cx="6553080" cy="3916440"/>
          </a:xfrm>
        </p:grpSpPr>
        <p:pic>
          <p:nvPicPr>
            <p:cNvPr id="210" name="sous%20ensemble%20étudié" descr=""/>
            <p:cNvPicPr/>
            <p:nvPr/>
          </p:nvPicPr>
          <p:blipFill>
            <a:blip r:embed="rId3"/>
            <a:stretch/>
          </p:blipFill>
          <p:spPr>
            <a:xfrm>
              <a:off x="4800600" y="2209680"/>
              <a:ext cx="4114800" cy="39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2362320" y="3733920"/>
              <a:ext cx="27432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.2 –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Fiche pédagog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u="sng">
                <a:solidFill>
                  <a:srgbClr val="ff0000"/>
                </a:solidFill>
                <a:uFillTx/>
                <a:latin typeface="Times New Roman"/>
              </a:rPr>
              <a:t>Références au programme de STI Génie Mécanique :</a:t>
            </a:r>
            <a:endParaRPr b="0" lang="en-US" sz="3000" spc="-1" strike="noStrike">
              <a:solidFill>
                <a:srgbClr val="fe25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25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A2 – Construction</a:t>
            </a:r>
            <a:endParaRPr b="0" lang="en-US" sz="2400" spc="-1" strike="noStrike">
              <a:solidFill>
                <a:srgbClr val="fe25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25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5. Construction des liaisons mécaniques</a:t>
            </a:r>
            <a:endParaRPr b="0" lang="en-US" sz="2400" spc="-1" strike="noStrike">
              <a:solidFill>
                <a:srgbClr val="fe25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25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5.2 Caractère d’une liaison réelle simple entre solides</a:t>
            </a:r>
            <a:endParaRPr b="0" lang="en-US" sz="2400" spc="-1" strike="noStrike">
              <a:solidFill>
                <a:srgbClr val="fe25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252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5.5 Guidage en rotation et en translation</a:t>
            </a:r>
            <a:r>
              <a:rPr b="1" lang="fr-FR" sz="1600" spc="-1" strike="noStrike">
                <a:solidFill>
                  <a:srgbClr val="fe252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-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Présentation de l’application pédagogi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2 –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Fiche pédagog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ré requis :</a:t>
            </a: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-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Présentation de l’application pédagogi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28195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’élève peut identifier une liaison en fonction de ses degrés de libert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L’élève est initié au Modeleur volumique (Interface graphique et fonctions de constru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2 –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Fiche pédagog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Pour une liaison glissière caractériser les surfaces fonctionnelles </a:t>
            </a:r>
            <a:endParaRPr b="0" lang="en-US" sz="2800" spc="-1" strike="noStrike">
              <a:solidFill>
                <a:srgbClr val="fe2520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e252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Pour une liaison pivot analyser les éléments constituant le guidage</a:t>
            </a:r>
            <a:endParaRPr b="0" lang="en-US" sz="2800" spc="-1" strike="noStrike">
              <a:solidFill>
                <a:srgbClr val="fe2520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e252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Analyser la liaison réalisée par le contact d’un cylindre sur un plan.</a:t>
            </a:r>
            <a:endParaRPr b="0" lang="en-US" sz="28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-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Présentation de l’application pédagogi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1752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Objectifs visés par le T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.3 -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Conditions de ré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ublic concerné</a:t>
            </a:r>
            <a:endParaRPr b="0" lang="en-US" sz="2800" spc="-1" strike="noStrike">
              <a:solidFill>
                <a:srgbClr val="fe25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P de 1ère STI GM</a:t>
            </a:r>
            <a:endParaRPr b="0" lang="en-US" sz="2400" spc="-1" strike="noStrike">
              <a:solidFill>
                <a:srgbClr val="fe25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urée : 3 heures</a:t>
            </a:r>
            <a:endParaRPr b="0" lang="en-US" sz="2400" spc="-1" strike="noStrike">
              <a:solidFill>
                <a:srgbClr val="fe25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in du 1er Trimestre</a:t>
            </a:r>
            <a:endParaRPr b="0" lang="en-US" sz="2400" spc="-1" strike="noStrike">
              <a:solidFill>
                <a:srgbClr val="fe252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252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tériel :</a:t>
            </a:r>
            <a:endParaRPr b="0" lang="en-US" sz="28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-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Présentation de l’application pédagogi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n donne 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9250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système comp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hoto%20agrafeuse" descr=""/>
          <p:cNvPicPr/>
          <p:nvPr/>
        </p:nvPicPr>
        <p:blipFill>
          <a:blip r:embed="rId2"/>
          <a:stretch/>
        </p:blipFill>
        <p:spPr>
          <a:xfrm>
            <a:off x="1752480" y="1295280"/>
            <a:ext cx="56293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0880" y="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sous-ensemble étudi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hoto%20sous-ensemble%20étudié" descr=""/>
          <p:cNvPicPr/>
          <p:nvPr/>
        </p:nvPicPr>
        <p:blipFill>
          <a:blip r:embed="rId2"/>
          <a:srcRect l="8509" t="9916" r="9579" b="7825"/>
          <a:stretch/>
        </p:blipFill>
        <p:spPr>
          <a:xfrm>
            <a:off x="1333440" y="1676520"/>
            <a:ext cx="647712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MA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8483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 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ésentation du thème d’étude (Agrafeuse)</a:t>
            </a: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 - Présentation de l’application pédagogique développée </a:t>
            </a: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Système de transformation du mouvement assembl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ssemblage sans contrainte du guide coulisseau et du couliss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quettes virtuel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assemblage%20sans%20contraintes%20sys%20transfo%20mvt" descr=""/>
          <p:cNvPicPr/>
          <p:nvPr/>
        </p:nvPicPr>
        <p:blipFill>
          <a:blip r:embed="rId2"/>
          <a:stretch/>
        </p:blipFill>
        <p:spPr>
          <a:xfrm>
            <a:off x="1562040" y="2895480"/>
            <a:ext cx="6019920" cy="3830760"/>
          </a:xfrm>
          <a:prstGeom prst="rect">
            <a:avLst/>
          </a:prstGeom>
          <a:ln w="0">
            <a:noFill/>
          </a:ln>
        </p:spPr>
      </p:pic>
      <p:pic>
        <p:nvPicPr>
          <p:cNvPr id="235" name="assemblage%20contraint%20sys%20transf%20mvt" descr=""/>
          <p:cNvPicPr/>
          <p:nvPr/>
        </p:nvPicPr>
        <p:blipFill>
          <a:blip r:embed="rId3"/>
          <a:stretch/>
        </p:blipFill>
        <p:spPr>
          <a:xfrm>
            <a:off x="1562040" y="2895480"/>
            <a:ext cx="601992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don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Système complet</a:t>
            </a: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2590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 sous-ensemble de transformation du mouv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3657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maquettes virtu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449568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 Texte du 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25780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n dossier ressource sur les assembl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2.4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 -Déroulement de l ’activi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fe25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e2520"/>
                </a:solidFill>
                <a:uFillTx/>
                <a:latin typeface="Times New Roman"/>
              </a:rPr>
              <a:t>1ère Partie</a:t>
            </a:r>
            <a:r>
              <a:rPr b="1" lang="en-US" sz="3200" spc="-1" strike="noStrike">
                <a:solidFill>
                  <a:srgbClr val="fe252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Identification des blocs équivalents.</a:t>
            </a: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fe25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e2520"/>
                </a:solidFill>
                <a:uFillTx/>
                <a:latin typeface="Times New Roman"/>
              </a:rPr>
              <a:t>2ème Partie</a:t>
            </a:r>
            <a:r>
              <a:rPr b="1" lang="en-US" sz="3200" spc="-1" strike="noStrike">
                <a:solidFill>
                  <a:srgbClr val="fe252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Assemblage sous contraintes du coulisseau.</a:t>
            </a: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fe25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e2520"/>
                </a:solidFill>
                <a:uFillTx/>
                <a:latin typeface="Times New Roman"/>
              </a:rPr>
              <a:t>3ème Partie</a:t>
            </a:r>
            <a:r>
              <a:rPr b="1" lang="en-US" sz="3200" spc="-1" strike="noStrike">
                <a:solidFill>
                  <a:srgbClr val="fe252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Étude des autres liaisons du système de transformation du mouvement.</a:t>
            </a:r>
            <a:endParaRPr b="0" lang="en-US" sz="3200" spc="-1" strike="noStrike">
              <a:solidFill>
                <a:srgbClr val="fe252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252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2520"/>
                </a:solidFill>
                <a:latin typeface="Times New Roman"/>
              </a:rPr>
              <a:t>Étude détaillée de chacune des liaisons</a:t>
            </a:r>
            <a:endParaRPr b="0" lang="en-US" sz="2800" spc="-1" strike="noStrike">
              <a:solidFill>
                <a:srgbClr val="fe252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e252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2520"/>
                </a:solidFill>
                <a:latin typeface="Times New Roman"/>
              </a:rPr>
              <a:t>Tracé du schéma cinématique</a:t>
            </a:r>
            <a:endParaRPr b="0" lang="en-US" sz="2800" spc="-1" strike="noStrike">
              <a:solidFill>
                <a:srgbClr val="fe252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e252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-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Présentation de l’application pédagogi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2520"/>
                </a:solidFill>
                <a:uFillTx/>
                <a:latin typeface="Times New Roman"/>
              </a:rPr>
              <a:t>1ère Partie</a:t>
            </a: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38862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2520"/>
                </a:solidFill>
                <a:latin typeface="Times New Roman"/>
              </a:rPr>
              <a:t>Identification des blocs équival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90920" y="121932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520"/>
                </a:solidFill>
                <a:latin typeface="Times New Roman"/>
              </a:rPr>
              <a:t>A PARTIR</a:t>
            </a:r>
            <a:r>
              <a:rPr b="1" lang="en-US" sz="2400" spc="-1" strike="noStrike">
                <a:solidFill>
                  <a:srgbClr val="fe252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286000" y="2209680"/>
            <a:ext cx="4571640" cy="4342680"/>
            <a:chOff x="2286000" y="2209680"/>
            <a:chExt cx="4571640" cy="4342680"/>
          </a:xfrm>
        </p:grpSpPr>
        <p:sp>
          <p:nvSpPr>
            <p:cNvPr id="249" name=""/>
            <p:cNvSpPr/>
            <p:nvPr/>
          </p:nvSpPr>
          <p:spPr>
            <a:xfrm>
              <a:off x="2373840" y="2209680"/>
              <a:ext cx="448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e2520"/>
                  </a:solidFill>
                  <a:latin typeface="Times New Roman"/>
                </a:rPr>
                <a:t>Du Sous-ensemble ré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0" name="photo%20sous-ensemble%20étudié" descr=""/>
            <p:cNvPicPr/>
            <p:nvPr/>
          </p:nvPicPr>
          <p:blipFill>
            <a:blip r:embed="rId2"/>
            <a:srcRect l="8509" t="9916" r="9579" b="7825"/>
            <a:stretch/>
          </p:blipFill>
          <p:spPr>
            <a:xfrm>
              <a:off x="2286000" y="2945880"/>
              <a:ext cx="4571640" cy="360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ère Partie 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cation des blocs équival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04920" y="99072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2520"/>
                </a:solidFill>
                <a:latin typeface="Times New Roman"/>
              </a:rPr>
              <a:t>L ’élève identifie les blocs équival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classes%20equivalences" descr=""/>
          <p:cNvPicPr/>
          <p:nvPr/>
        </p:nvPicPr>
        <p:blipFill>
          <a:blip r:embed="rId2"/>
          <a:srcRect l="22546" t="7479" r="23714" b="6148"/>
          <a:stretch/>
        </p:blipFill>
        <p:spPr>
          <a:xfrm>
            <a:off x="3094200" y="2438280"/>
            <a:ext cx="2954160" cy="4267440"/>
          </a:xfrm>
          <a:prstGeom prst="rect">
            <a:avLst/>
          </a:prstGeom>
          <a:ln w="0">
            <a:noFill/>
          </a:ln>
        </p:spPr>
      </p:pic>
      <p:pic>
        <p:nvPicPr>
          <p:cNvPr id="254" name="classes%20equivalences%20corrigé" descr=""/>
          <p:cNvPicPr/>
          <p:nvPr/>
        </p:nvPicPr>
        <p:blipFill>
          <a:blip r:embed="rId3"/>
          <a:srcRect l="22546" t="7975" r="23714" b="5645"/>
          <a:stretch/>
        </p:blipFill>
        <p:spPr>
          <a:xfrm>
            <a:off x="3094200" y="2438280"/>
            <a:ext cx="2954160" cy="426744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5334120" y="5029200"/>
            <a:ext cx="2818800" cy="459720"/>
            <a:chOff x="5334120" y="5029200"/>
            <a:chExt cx="2818800" cy="459720"/>
          </a:xfrm>
        </p:grpSpPr>
        <p:sp>
          <p:nvSpPr>
            <p:cNvPr id="256" name=""/>
            <p:cNvSpPr/>
            <p:nvPr/>
          </p:nvSpPr>
          <p:spPr>
            <a:xfrm>
              <a:off x="6553080" y="5029200"/>
              <a:ext cx="159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oc Fix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334120" y="5257800"/>
              <a:ext cx="1295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486400" y="3200400"/>
            <a:ext cx="2590560" cy="825480"/>
            <a:chOff x="5486400" y="3200400"/>
            <a:chExt cx="2590560" cy="825480"/>
          </a:xfrm>
        </p:grpSpPr>
        <p:sp>
          <p:nvSpPr>
            <p:cNvPr id="259" name=""/>
            <p:cNvSpPr/>
            <p:nvPr/>
          </p:nvSpPr>
          <p:spPr>
            <a:xfrm>
              <a:off x="6476760" y="320040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oc Lev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5486400" y="3352320"/>
              <a:ext cx="1371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295280" y="3809880"/>
            <a:ext cx="2514600" cy="1218960"/>
            <a:chOff x="1295280" y="3809880"/>
            <a:chExt cx="2514600" cy="1218960"/>
          </a:xfrm>
        </p:grpSpPr>
        <p:sp>
          <p:nvSpPr>
            <p:cNvPr id="262" name=""/>
            <p:cNvSpPr/>
            <p:nvPr/>
          </p:nvSpPr>
          <p:spPr>
            <a:xfrm>
              <a:off x="1295280" y="38098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oc Coulisse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90920" y="4190760"/>
              <a:ext cx="121896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ère Partie 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cation des blocs équival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2520"/>
                </a:solidFill>
                <a:uFillTx/>
                <a:latin typeface="Times New Roman"/>
              </a:rPr>
              <a:t>2ème Partie</a:t>
            </a: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2520"/>
                </a:solidFill>
                <a:latin typeface="Times New Roman"/>
              </a:rPr>
              <a:t>Assemblage sous contraintes du Coulisseau</a:t>
            </a:r>
            <a:endParaRPr b="0" lang="en-US" sz="3600" spc="-1" strike="noStrike">
              <a:solidFill>
                <a:srgbClr val="fe25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076640" y="441972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2520"/>
                </a:solidFill>
                <a:latin typeface="Times New Roman"/>
              </a:rPr>
              <a:t>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280" y="2514600"/>
            <a:ext cx="40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520"/>
                </a:solidFill>
                <a:latin typeface="Times New Roman"/>
              </a:rPr>
              <a:t>Du Sous-ensemble ré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hoto%20sous-ensemble%20étudié" descr=""/>
          <p:cNvPicPr/>
          <p:nvPr/>
        </p:nvPicPr>
        <p:blipFill>
          <a:blip r:embed="rId2"/>
          <a:srcRect l="8509" t="9916" r="9579" b="7825"/>
          <a:stretch/>
        </p:blipFill>
        <p:spPr>
          <a:xfrm>
            <a:off x="380880" y="3581280"/>
            <a:ext cx="3657600" cy="27561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4724280" y="2590920"/>
            <a:ext cx="44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520"/>
                </a:solidFill>
                <a:latin typeface="Times New Roman"/>
              </a:rPr>
              <a:t>De la 1ère Maquette Virtu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assemblage%20sans%20contraintes%20sys%20transfo%20mvt" descr=""/>
          <p:cNvPicPr/>
          <p:nvPr/>
        </p:nvPicPr>
        <p:blipFill>
          <a:blip r:embed="rId3"/>
          <a:stretch/>
        </p:blipFill>
        <p:spPr>
          <a:xfrm>
            <a:off x="5029200" y="3706920"/>
            <a:ext cx="3962520" cy="25207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590920" y="121932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520"/>
                </a:solidFill>
                <a:latin typeface="Times New Roman"/>
              </a:rPr>
              <a:t>A PARTIR</a:t>
            </a:r>
            <a:r>
              <a:rPr b="1" lang="en-US" sz="2400" spc="-1" strike="noStrike">
                <a:solidFill>
                  <a:srgbClr val="fe252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ème Partie 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age sous contraintes du couliss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’élève identifie les premières surfaces fonctionnelles en cont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33520" y="2971800"/>
            <a:ext cx="8076600" cy="3357720"/>
            <a:chOff x="533520" y="2971800"/>
            <a:chExt cx="8076600" cy="3357720"/>
          </a:xfrm>
        </p:grpSpPr>
        <p:pic>
          <p:nvPicPr>
            <p:cNvPr id="276" name="tp%20partie%201%20-%20guidage%20du%20coulisseau%20A" descr=""/>
            <p:cNvPicPr/>
            <p:nvPr/>
          </p:nvPicPr>
          <p:blipFill>
            <a:blip r:embed="rId2"/>
            <a:stretch/>
          </p:blipFill>
          <p:spPr>
            <a:xfrm>
              <a:off x="533520" y="2971800"/>
              <a:ext cx="3733560" cy="335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tp%20partie%201%20-%20guidage%20du%20coulisseau%20B" descr=""/>
            <p:cNvPicPr/>
            <p:nvPr/>
          </p:nvPicPr>
          <p:blipFill>
            <a:blip r:embed="rId3"/>
            <a:stretch/>
          </p:blipFill>
          <p:spPr>
            <a:xfrm>
              <a:off x="4876560" y="2971800"/>
              <a:ext cx="3733560" cy="3355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tp%20partie%201%20-%20guidage%20du%20coulisseau%20B%20corrigé%20rouge" descr=""/>
          <p:cNvPicPr/>
          <p:nvPr/>
        </p:nvPicPr>
        <p:blipFill>
          <a:blip r:embed="rId4"/>
          <a:stretch/>
        </p:blipFill>
        <p:spPr>
          <a:xfrm>
            <a:off x="4876920" y="2971800"/>
            <a:ext cx="3724200" cy="33465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ème Partie 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age sous contraintes du couliss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 ’élève met en place la première contrainte d’assembl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tp%20partie%201%20-%20assemblage%201er%20contact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6576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ème Partie 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age sous contraintes du couliss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1143000"/>
            <a:ext cx="338112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0099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grafeuse électrique REXEL.</a:t>
            </a:r>
            <a:endParaRPr b="0" i="1" lang="en-US" sz="2400" spc="1" strike="noStrike">
              <a:ln w="0">
                <a:noFill/>
              </a:ln>
              <a:gradFill rotWithShape="0">
                <a:gsLst>
                  <a:gs pos="0">
                    <a:srgbClr val="003399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–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Présentation du thème d’étude (Agrafeu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286000"/>
            <a:ext cx="4114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ourquoi avoir choisi un tel systè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vantages d’un tel systè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hoto%20agrafeuse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433404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66760" y="8380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’élève identifie les degrés de liberté laissés par le cont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0" y="5486400"/>
            <a:ext cx="1447920" cy="1142640"/>
            <a:chOff x="0" y="5486400"/>
            <a:chExt cx="1447920" cy="1142640"/>
          </a:xfrm>
        </p:grpSpPr>
        <p:sp>
          <p:nvSpPr>
            <p:cNvPr id="285" name=""/>
            <p:cNvSpPr/>
            <p:nvPr/>
          </p:nvSpPr>
          <p:spPr>
            <a:xfrm>
              <a:off x="0" y="6172200"/>
              <a:ext cx="380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228600" y="5486400"/>
              <a:ext cx="1219320" cy="1142640"/>
              <a:chOff x="228600" y="5486400"/>
              <a:chExt cx="1219320" cy="114264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228600" y="5715000"/>
                <a:ext cx="914400" cy="914040"/>
                <a:chOff x="228600" y="5715000"/>
                <a:chExt cx="914400" cy="914040"/>
              </a:xfrm>
            </p:grpSpPr>
            <p:sp>
              <p:nvSpPr>
                <p:cNvPr id="288" name=""/>
                <p:cNvSpPr/>
                <p:nvPr/>
              </p:nvSpPr>
              <p:spPr>
                <a:xfrm flipV="1">
                  <a:off x="228600" y="6292080"/>
                  <a:ext cx="433080" cy="33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61680" y="6292440"/>
                  <a:ext cx="481320" cy="33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661680" y="5715000"/>
                  <a:ext cx="0" cy="577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1" name=""/>
              <p:cNvSpPr/>
              <p:nvPr/>
            </p:nvSpPr>
            <p:spPr>
              <a:xfrm>
                <a:off x="1066680" y="6248520"/>
                <a:ext cx="381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04920" y="5486400"/>
                <a:ext cx="380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6629400" y="2514600"/>
            <a:ext cx="1752480" cy="2133720"/>
            <a:chOff x="6629400" y="2514600"/>
            <a:chExt cx="1752480" cy="2133720"/>
          </a:xfrm>
        </p:grpSpPr>
        <p:sp>
          <p:nvSpPr>
            <p:cNvPr id="294" name=""/>
            <p:cNvSpPr/>
            <p:nvPr/>
          </p:nvSpPr>
          <p:spPr>
            <a:xfrm>
              <a:off x="7543440" y="25909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81680" y="297180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29400" y="2514600"/>
              <a:ext cx="1752480" cy="19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838080" y="2286000"/>
            <a:ext cx="4927680" cy="39402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705720" y="3581280"/>
            <a:ext cx="609480" cy="533520"/>
          </a:xfrm>
          <a:prstGeom prst="ellipse">
            <a:avLst/>
          </a:prstGeom>
          <a:noFill/>
          <a:ln w="25560">
            <a:solidFill>
              <a:srgbClr val="fe25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05720" y="3048120"/>
            <a:ext cx="609480" cy="533160"/>
          </a:xfrm>
          <a:prstGeom prst="ellipse">
            <a:avLst/>
          </a:prstGeom>
          <a:noFill/>
          <a:ln w="25560">
            <a:solidFill>
              <a:srgbClr val="fe25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0120" y="4114800"/>
            <a:ext cx="609480" cy="533520"/>
          </a:xfrm>
          <a:prstGeom prst="ellipse">
            <a:avLst/>
          </a:prstGeom>
          <a:noFill/>
          <a:ln w="25560">
            <a:solidFill>
              <a:srgbClr val="fe25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5029200"/>
            <a:ext cx="3048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aison élémentair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PPUI PLAN de normale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ème Partie 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age sous contraintes du couliss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838080" y="2286000"/>
            <a:ext cx="4927680" cy="39402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838080" y="2286000"/>
            <a:ext cx="492768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838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’élève identifie les deuxièmes surfaces fonctionnelles en cont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3520" y="2971800"/>
            <a:ext cx="8067600" cy="3357720"/>
            <a:chOff x="533520" y="2971800"/>
            <a:chExt cx="8067600" cy="3357720"/>
          </a:xfrm>
        </p:grpSpPr>
        <p:pic>
          <p:nvPicPr>
            <p:cNvPr id="307" name="tp%20partie%201%20-%20guidage%20du%20coulisseau%20A" descr=""/>
            <p:cNvPicPr/>
            <p:nvPr/>
          </p:nvPicPr>
          <p:blipFill>
            <a:blip r:embed="rId2"/>
            <a:stretch/>
          </p:blipFill>
          <p:spPr>
            <a:xfrm>
              <a:off x="533520" y="2971800"/>
              <a:ext cx="3733560" cy="335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tp%20partie%201%20-%20guidage%20du%20coulisseau%20B%20corrigé%20rouge" descr=""/>
            <p:cNvPicPr/>
            <p:nvPr/>
          </p:nvPicPr>
          <p:blipFill>
            <a:blip r:embed="rId3"/>
            <a:stretch/>
          </p:blipFill>
          <p:spPr>
            <a:xfrm>
              <a:off x="4876920" y="2971800"/>
              <a:ext cx="3724200" cy="334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9" name=""/>
          <p:cNvGrpSpPr/>
          <p:nvPr/>
        </p:nvGrpSpPr>
        <p:grpSpPr>
          <a:xfrm>
            <a:off x="533520" y="2971800"/>
            <a:ext cx="8056440" cy="3355920"/>
            <a:chOff x="533520" y="2971800"/>
            <a:chExt cx="8056440" cy="3355920"/>
          </a:xfrm>
        </p:grpSpPr>
        <p:pic>
          <p:nvPicPr>
            <p:cNvPr id="310" name="tp%20partie%201%20-%20guidage%20du%20coulisseau%20B%20corrigé%20vert" descr=""/>
            <p:cNvPicPr/>
            <p:nvPr/>
          </p:nvPicPr>
          <p:blipFill>
            <a:blip r:embed="rId4"/>
            <a:stretch/>
          </p:blipFill>
          <p:spPr>
            <a:xfrm>
              <a:off x="4876920" y="2971800"/>
              <a:ext cx="3713040" cy="33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tp%20partie%201%20-%20guidage%20du%20coulisseau%20A%20corrigé%20vert" descr=""/>
            <p:cNvPicPr/>
            <p:nvPr/>
          </p:nvPicPr>
          <p:blipFill>
            <a:blip r:embed="rId5"/>
            <a:stretch/>
          </p:blipFill>
          <p:spPr>
            <a:xfrm>
              <a:off x="533520" y="2971800"/>
              <a:ext cx="3733560" cy="335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ème Partie 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age sous contraintes du couliss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838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’élève met en place la deuxième contrainte d’assembl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tp%20partie%201%20-%20assemblage%202eme%20contact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7058160" cy="4734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ème Partie 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age sous contraintes du couliss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66760" y="8380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’élève vérifie le guidage en trans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0" y="5486400"/>
            <a:ext cx="1447920" cy="1142640"/>
            <a:chOff x="0" y="5486400"/>
            <a:chExt cx="1447920" cy="1142640"/>
          </a:xfrm>
        </p:grpSpPr>
        <p:sp>
          <p:nvSpPr>
            <p:cNvPr id="318" name=""/>
            <p:cNvSpPr/>
            <p:nvPr/>
          </p:nvSpPr>
          <p:spPr>
            <a:xfrm>
              <a:off x="0" y="6172200"/>
              <a:ext cx="380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228600" y="5486400"/>
              <a:ext cx="1219320" cy="1142640"/>
              <a:chOff x="228600" y="5486400"/>
              <a:chExt cx="1219320" cy="114264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228600" y="5715000"/>
                <a:ext cx="914400" cy="914040"/>
                <a:chOff x="228600" y="5715000"/>
                <a:chExt cx="914400" cy="914040"/>
              </a:xfrm>
            </p:grpSpPr>
            <p:sp>
              <p:nvSpPr>
                <p:cNvPr id="321" name=""/>
                <p:cNvSpPr/>
                <p:nvPr/>
              </p:nvSpPr>
              <p:spPr>
                <a:xfrm flipV="1">
                  <a:off x="228600" y="6292080"/>
                  <a:ext cx="433080" cy="33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661680" y="6292440"/>
                  <a:ext cx="481320" cy="33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661680" y="5715000"/>
                  <a:ext cx="0" cy="577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" name=""/>
              <p:cNvSpPr/>
              <p:nvPr/>
            </p:nvSpPr>
            <p:spPr>
              <a:xfrm>
                <a:off x="1066680" y="6248520"/>
                <a:ext cx="381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5486400"/>
                <a:ext cx="380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6629400" y="2514600"/>
            <a:ext cx="1752480" cy="2133720"/>
            <a:chOff x="6629400" y="2514600"/>
            <a:chExt cx="1752480" cy="2133720"/>
          </a:xfrm>
        </p:grpSpPr>
        <p:sp>
          <p:nvSpPr>
            <p:cNvPr id="327" name=""/>
            <p:cNvSpPr/>
            <p:nvPr/>
          </p:nvSpPr>
          <p:spPr>
            <a:xfrm>
              <a:off x="7543440" y="25909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81680" y="297180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29400" y="2514600"/>
              <a:ext cx="1752480" cy="19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6705720" y="3581280"/>
            <a:ext cx="609480" cy="533520"/>
          </a:xfrm>
          <a:prstGeom prst="ellipse">
            <a:avLst/>
          </a:prstGeom>
          <a:noFill/>
          <a:ln w="25560">
            <a:solidFill>
              <a:srgbClr val="fe25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43600" y="50292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aison obten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LISSIERE d’ax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4897440" cy="39351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ème Partie 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age sous contraintes du coulissea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e2520"/>
                </a:solidFill>
                <a:uFillTx/>
                <a:latin typeface="Times New Roman"/>
              </a:rPr>
              <a:t>3ème Partie</a:t>
            </a: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38862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2520"/>
                </a:solidFill>
                <a:latin typeface="Times New Roman"/>
              </a:rPr>
              <a:t>Étude des autres liaisons du système de transformation du mou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629080" y="106668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2520"/>
                </a:solidFill>
                <a:latin typeface="Times New Roman"/>
              </a:rPr>
              <a:t>A PART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962520" y="441972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2520"/>
                </a:solidFill>
                <a:latin typeface="Times New Roman"/>
              </a:rPr>
              <a:t>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2280" y="2514600"/>
            <a:ext cx="40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520"/>
                </a:solidFill>
                <a:latin typeface="Times New Roman"/>
              </a:rPr>
              <a:t>Du Sous-ensemble ré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hoto%20sous-ensemble%20étudié" descr=""/>
          <p:cNvPicPr/>
          <p:nvPr/>
        </p:nvPicPr>
        <p:blipFill>
          <a:blip r:embed="rId2"/>
          <a:srcRect l="8509" t="9916" r="9579" b="7825"/>
          <a:stretch/>
        </p:blipFill>
        <p:spPr>
          <a:xfrm>
            <a:off x="304920" y="3581280"/>
            <a:ext cx="3657600" cy="2756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4724280" y="2590920"/>
            <a:ext cx="44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2520"/>
                </a:solidFill>
                <a:latin typeface="Times New Roman"/>
              </a:rPr>
              <a:t>De la 2ème Maquette Virtu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assemblage%20contraint%20sys%20transf%20mvt" descr=""/>
          <p:cNvPicPr/>
          <p:nvPr/>
        </p:nvPicPr>
        <p:blipFill>
          <a:blip r:embed="rId3"/>
          <a:stretch/>
        </p:blipFill>
        <p:spPr>
          <a:xfrm>
            <a:off x="4876920" y="3733920"/>
            <a:ext cx="4012920" cy="25527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3ème Partie 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tude des autres liaisons du système de transformation du mou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457200" y="12952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e25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Sur le système réel:</a:t>
            </a: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identification des surfaces fonctionnel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143000" y="2895480"/>
            <a:ext cx="6271920" cy="3527280"/>
            <a:chOff x="1143000" y="2895480"/>
            <a:chExt cx="6271920" cy="3527280"/>
          </a:xfrm>
        </p:grpSpPr>
        <p:pic>
          <p:nvPicPr>
            <p:cNvPr id="345" name="tp%20partie%202%20-%20liaison%20levier-coulisseau%20A" descr=""/>
            <p:cNvPicPr/>
            <p:nvPr/>
          </p:nvPicPr>
          <p:blipFill>
            <a:blip r:embed="rId2"/>
            <a:stretch/>
          </p:blipFill>
          <p:spPr>
            <a:xfrm>
              <a:off x="1143000" y="2986560"/>
              <a:ext cx="2624400" cy="320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tp%20partie%202%20-%20liaison%20levier-coulisseau%20B" descr=""/>
            <p:cNvPicPr/>
            <p:nvPr/>
          </p:nvPicPr>
          <p:blipFill>
            <a:blip r:embed="rId3"/>
            <a:stretch/>
          </p:blipFill>
          <p:spPr>
            <a:xfrm>
              <a:off x="5714280" y="2895480"/>
              <a:ext cx="1700640" cy="35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7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3ème Partie 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tude des autres liaisons du système de transformation du mou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’élève étudie  la liaiso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levier coulissea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143000" y="2895480"/>
            <a:ext cx="6273720" cy="3529080"/>
            <a:chOff x="1143000" y="2895480"/>
            <a:chExt cx="6273720" cy="3529080"/>
          </a:xfrm>
        </p:grpSpPr>
        <p:pic>
          <p:nvPicPr>
            <p:cNvPr id="350" name="tp%20partie%202%20-%20liaison%20levier-coulisseau%20A%20corrigé" descr=""/>
            <p:cNvPicPr/>
            <p:nvPr/>
          </p:nvPicPr>
          <p:blipFill>
            <a:blip r:embed="rId4"/>
            <a:stretch/>
          </p:blipFill>
          <p:spPr>
            <a:xfrm>
              <a:off x="1143000" y="2971800"/>
              <a:ext cx="2590920" cy="32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tp%20partie%202%20-%20liaison%20levier-coulisseau%20B%20corrigé" descr=""/>
            <p:cNvPicPr/>
            <p:nvPr/>
          </p:nvPicPr>
          <p:blipFill>
            <a:blip r:embed="rId5"/>
            <a:stretch/>
          </p:blipFill>
          <p:spPr>
            <a:xfrm>
              <a:off x="5715000" y="2895480"/>
              <a:ext cx="1701720" cy="3529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3ème Partie 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tude des autres liaisons du système de transformation du mou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’élève étudie  la liaison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levier coulissea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" y="12952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25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Sur la maquette : l’élève identifie les contraintes d’assemb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tp%20partie%202%20-%20liaison%20levier-coulisseau%20mod1" descr=""/>
          <p:cNvPicPr/>
          <p:nvPr/>
        </p:nvPicPr>
        <p:blipFill>
          <a:blip r:embed="rId2"/>
          <a:stretch/>
        </p:blipFill>
        <p:spPr>
          <a:xfrm>
            <a:off x="135000" y="2590920"/>
            <a:ext cx="6492960" cy="4076640"/>
          </a:xfrm>
          <a:prstGeom prst="rect">
            <a:avLst/>
          </a:prstGeom>
          <a:ln w="0">
            <a:noFill/>
          </a:ln>
        </p:spPr>
      </p:pic>
      <p:pic>
        <p:nvPicPr>
          <p:cNvPr id="356" name="tp%20partie%202%20-%20liaison%20levier-coulisseau%20mod2" descr=""/>
          <p:cNvPicPr/>
          <p:nvPr/>
        </p:nvPicPr>
        <p:blipFill>
          <a:blip r:embed="rId3"/>
          <a:stretch/>
        </p:blipFill>
        <p:spPr>
          <a:xfrm>
            <a:off x="146160" y="2590920"/>
            <a:ext cx="6470640" cy="4062240"/>
          </a:xfrm>
          <a:prstGeom prst="rect">
            <a:avLst/>
          </a:prstGeom>
          <a:ln w="0">
            <a:noFill/>
          </a:ln>
        </p:spPr>
      </p:pic>
      <p:pic>
        <p:nvPicPr>
          <p:cNvPr id="357" name="tp%20partie%202%20-%20liaison%20levier-coulisseau%20mod3" descr=""/>
          <p:cNvPicPr/>
          <p:nvPr/>
        </p:nvPicPr>
        <p:blipFill>
          <a:blip r:embed="rId4"/>
          <a:stretch/>
        </p:blipFill>
        <p:spPr>
          <a:xfrm>
            <a:off x="152280" y="2590920"/>
            <a:ext cx="6456600" cy="4047840"/>
          </a:xfrm>
          <a:prstGeom prst="rect">
            <a:avLst/>
          </a:prstGeom>
          <a:ln w="0">
            <a:noFill/>
          </a:ln>
        </p:spPr>
      </p:pic>
      <p:pic>
        <p:nvPicPr>
          <p:cNvPr id="358" name="tp%20partie%202%20-%20liaison%20levier-coulisseau%20mod4" descr=""/>
          <p:cNvPicPr/>
          <p:nvPr/>
        </p:nvPicPr>
        <p:blipFill>
          <a:blip r:embed="rId5"/>
          <a:stretch/>
        </p:blipFill>
        <p:spPr>
          <a:xfrm>
            <a:off x="152280" y="2590920"/>
            <a:ext cx="6456600" cy="4047840"/>
          </a:xfrm>
          <a:prstGeom prst="rect">
            <a:avLst/>
          </a:prstGeom>
          <a:ln w="0">
            <a:noFill/>
          </a:ln>
        </p:spPr>
      </p:pic>
      <p:pic>
        <p:nvPicPr>
          <p:cNvPr id="359" name="tp%20partie%202%20-%20liaison%20levier-coulisseau%20mod5" descr=""/>
          <p:cNvPicPr/>
          <p:nvPr/>
        </p:nvPicPr>
        <p:blipFill>
          <a:blip r:embed="rId6"/>
          <a:stretch/>
        </p:blipFill>
        <p:spPr>
          <a:xfrm>
            <a:off x="152280" y="2590920"/>
            <a:ext cx="6456600" cy="40478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6705720" y="23623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520"/>
                </a:solidFill>
                <a:latin typeface="Times New Roman"/>
              </a:rPr>
              <a:t>A partir de la maquette virt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05720" y="30178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520"/>
                </a:solidFill>
                <a:latin typeface="Times New Roman"/>
              </a:rPr>
              <a:t>Cacher et rendre trans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05720" y="37339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520"/>
                </a:solidFill>
                <a:latin typeface="Times New Roman"/>
              </a:rPr>
              <a:t>Supprimer les contrai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441972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520"/>
                </a:solidFill>
                <a:latin typeface="Times New Roman"/>
              </a:rPr>
              <a:t>Identifier la  première contrai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05720" y="54864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520"/>
                </a:solidFill>
                <a:latin typeface="Times New Roman"/>
              </a:rPr>
              <a:t>Identifier la  deuxième contrai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3989160" cy="487692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3ème Partie 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tude des autres liaisons du système de transformation du mou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’élève étudie  la liaison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levier coulissea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e25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Sur la maquette : l’élève identifie la lia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0" y="5486400"/>
            <a:ext cx="1447920" cy="1142640"/>
            <a:chOff x="0" y="5486400"/>
            <a:chExt cx="1447920" cy="1142640"/>
          </a:xfrm>
        </p:grpSpPr>
        <p:sp>
          <p:nvSpPr>
            <p:cNvPr id="370" name=""/>
            <p:cNvSpPr/>
            <p:nvPr/>
          </p:nvSpPr>
          <p:spPr>
            <a:xfrm>
              <a:off x="0" y="6172200"/>
              <a:ext cx="380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228600" y="5486400"/>
              <a:ext cx="1219320" cy="1142640"/>
              <a:chOff x="228600" y="5486400"/>
              <a:chExt cx="1219320" cy="114264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228600" y="5715000"/>
                <a:ext cx="914400" cy="914040"/>
                <a:chOff x="228600" y="5715000"/>
                <a:chExt cx="914400" cy="914040"/>
              </a:xfrm>
            </p:grpSpPr>
            <p:sp>
              <p:nvSpPr>
                <p:cNvPr id="373" name=""/>
                <p:cNvSpPr/>
                <p:nvPr/>
              </p:nvSpPr>
              <p:spPr>
                <a:xfrm flipV="1">
                  <a:off x="228600" y="6292080"/>
                  <a:ext cx="433080" cy="33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61680" y="6292440"/>
                  <a:ext cx="481320" cy="33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V="1">
                  <a:off x="661680" y="5715000"/>
                  <a:ext cx="0" cy="577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>
                <a:off x="1066680" y="6248520"/>
                <a:ext cx="381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4920" y="5486400"/>
                <a:ext cx="380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8" name=""/>
          <p:cNvGrpSpPr/>
          <p:nvPr/>
        </p:nvGrpSpPr>
        <p:grpSpPr>
          <a:xfrm>
            <a:off x="6629400" y="2514600"/>
            <a:ext cx="1752480" cy="2133720"/>
            <a:chOff x="6629400" y="2514600"/>
            <a:chExt cx="1752480" cy="2133720"/>
          </a:xfrm>
        </p:grpSpPr>
        <p:sp>
          <p:nvSpPr>
            <p:cNvPr id="379" name=""/>
            <p:cNvSpPr/>
            <p:nvPr/>
          </p:nvSpPr>
          <p:spPr>
            <a:xfrm>
              <a:off x="7543440" y="25909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81680" y="297180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29400" y="2514600"/>
              <a:ext cx="1752480" cy="19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7620120" y="3048120"/>
            <a:ext cx="609480" cy="533160"/>
          </a:xfrm>
          <a:prstGeom prst="ellipse">
            <a:avLst/>
          </a:prstGeom>
          <a:noFill/>
          <a:ln w="25560">
            <a:solidFill>
              <a:srgbClr val="fe25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943600" y="50292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aison obten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IVOT d’ax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"/>
          <p:cNvGrpSpPr/>
          <p:nvPr/>
        </p:nvGrpSpPr>
        <p:grpSpPr>
          <a:xfrm>
            <a:off x="228600" y="2405160"/>
            <a:ext cx="8915400" cy="4246560"/>
            <a:chOff x="228600" y="2405160"/>
            <a:chExt cx="8915400" cy="4246560"/>
          </a:xfrm>
        </p:grpSpPr>
        <p:sp>
          <p:nvSpPr>
            <p:cNvPr id="385" name=""/>
            <p:cNvSpPr/>
            <p:nvPr/>
          </p:nvSpPr>
          <p:spPr>
            <a:xfrm>
              <a:off x="4572000" y="310824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ontact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6" name="tp%20partie%202%20-%20liaison%20levier-guide%20A%20(départ)" descr=""/>
            <p:cNvPicPr/>
            <p:nvPr/>
          </p:nvPicPr>
          <p:blipFill>
            <a:blip r:embed="rId2"/>
            <a:stretch/>
          </p:blipFill>
          <p:spPr>
            <a:xfrm>
              <a:off x="228600" y="2405160"/>
              <a:ext cx="4343400" cy="424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7" name=""/>
          <p:cNvGrpSpPr/>
          <p:nvPr/>
        </p:nvGrpSpPr>
        <p:grpSpPr>
          <a:xfrm>
            <a:off x="228600" y="2405160"/>
            <a:ext cx="6553080" cy="4246560"/>
            <a:chOff x="228600" y="2405160"/>
            <a:chExt cx="6553080" cy="4246560"/>
          </a:xfrm>
        </p:grpSpPr>
        <p:pic>
          <p:nvPicPr>
            <p:cNvPr id="388" name="tp%20partie%202%20-%20liaison%20levier-guide%20B%20(cylindre)" descr=""/>
            <p:cNvPicPr/>
            <p:nvPr/>
          </p:nvPicPr>
          <p:blipFill>
            <a:blip r:embed="rId3"/>
            <a:stretch/>
          </p:blipFill>
          <p:spPr>
            <a:xfrm>
              <a:off x="228600" y="2405160"/>
              <a:ext cx="4343400" cy="42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4572000" y="388620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CYLIND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4572000" y="4876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Contact Liné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3ème Partie 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tude des autres liaisons du système de transformation du mou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2520"/>
                </a:solidFill>
                <a:latin typeface="Times New Roman"/>
              </a:rPr>
              <a:t>L’élève étudie  la liaison </a:t>
            </a:r>
            <a:r>
              <a:rPr b="1" lang="en-US" sz="3600" spc="-1" strike="noStrike" u="sng">
                <a:solidFill>
                  <a:srgbClr val="fe2520"/>
                </a:solidFill>
                <a:uFillTx/>
                <a:latin typeface="Times New Roman"/>
              </a:rPr>
              <a:t>levier partie fix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e25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Avec le modèle réel et la maquette virtuelle : Identification du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28600" y="2406600"/>
            <a:ext cx="8915400" cy="4245120"/>
            <a:chOff x="228600" y="2406600"/>
            <a:chExt cx="8915400" cy="4245120"/>
          </a:xfrm>
        </p:grpSpPr>
        <p:pic>
          <p:nvPicPr>
            <p:cNvPr id="395" name="tp%20partie%202%20-%20liaison%20levier-guide%20C%20(plan)" descr=""/>
            <p:cNvPicPr/>
            <p:nvPr/>
          </p:nvPicPr>
          <p:blipFill>
            <a:blip r:embed="rId4"/>
            <a:stretch/>
          </p:blipFill>
          <p:spPr>
            <a:xfrm>
              <a:off x="228600" y="2406600"/>
              <a:ext cx="4343400" cy="42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6858000" y="388620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</a:rPr>
                <a:t>SUR PLA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endu%20présentation%20du%20thème" descr=""/>
          <p:cNvPicPr/>
          <p:nvPr/>
        </p:nvPicPr>
        <p:blipFill>
          <a:blip r:embed="rId2"/>
          <a:srcRect l="9001" t="2003" r="7981" b="4668"/>
          <a:stretch/>
        </p:blipFill>
        <p:spPr>
          <a:xfrm>
            <a:off x="2514600" y="2971800"/>
            <a:ext cx="4419720" cy="372744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152280" y="838080"/>
            <a:ext cx="1295640" cy="914400"/>
            <a:chOff x="152280" y="838080"/>
            <a:chExt cx="1295640" cy="914400"/>
          </a:xfrm>
        </p:grpSpPr>
        <p:sp>
          <p:nvSpPr>
            <p:cNvPr id="53" name=""/>
            <p:cNvSpPr/>
            <p:nvPr/>
          </p:nvSpPr>
          <p:spPr>
            <a:xfrm>
              <a:off x="152280" y="838080"/>
              <a:ext cx="1295640" cy="9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914400"/>
              <a:ext cx="129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oteur électr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295280" y="2514600"/>
            <a:ext cx="4876920" cy="2133720"/>
            <a:chOff x="1295280" y="2514600"/>
            <a:chExt cx="4876920" cy="2133720"/>
          </a:xfrm>
        </p:grpSpPr>
        <p:sp>
          <p:nvSpPr>
            <p:cNvPr id="56" name=""/>
            <p:cNvSpPr/>
            <p:nvPr/>
          </p:nvSpPr>
          <p:spPr>
            <a:xfrm>
              <a:off x="4849920" y="3745080"/>
              <a:ext cx="1322280" cy="903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95280" y="2514600"/>
              <a:ext cx="4546800" cy="18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114800" y="2971800"/>
            <a:ext cx="1219320" cy="1981080"/>
            <a:chOff x="4114800" y="2971800"/>
            <a:chExt cx="1219320" cy="1981080"/>
          </a:xfrm>
        </p:grpSpPr>
        <p:sp>
          <p:nvSpPr>
            <p:cNvPr id="59" name=""/>
            <p:cNvSpPr/>
            <p:nvPr/>
          </p:nvSpPr>
          <p:spPr>
            <a:xfrm>
              <a:off x="4114800" y="3809880"/>
              <a:ext cx="1219320" cy="1143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4647960" y="2971800"/>
              <a:ext cx="7596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276720" y="2895480"/>
            <a:ext cx="4876560" cy="2743200"/>
            <a:chOff x="3276720" y="2895480"/>
            <a:chExt cx="4876560" cy="2743200"/>
          </a:xfrm>
        </p:grpSpPr>
        <p:sp>
          <p:nvSpPr>
            <p:cNvPr id="62" name=""/>
            <p:cNvSpPr/>
            <p:nvPr/>
          </p:nvSpPr>
          <p:spPr>
            <a:xfrm>
              <a:off x="3276720" y="4114800"/>
              <a:ext cx="685800" cy="1523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657600" y="2895480"/>
              <a:ext cx="4495680" cy="167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048120" y="2743200"/>
            <a:ext cx="2971800" cy="2590920"/>
            <a:chOff x="3048120" y="2743200"/>
            <a:chExt cx="2971800" cy="2590920"/>
          </a:xfrm>
        </p:grpSpPr>
        <p:sp>
          <p:nvSpPr>
            <p:cNvPr id="65" name=""/>
            <p:cNvSpPr/>
            <p:nvPr/>
          </p:nvSpPr>
          <p:spPr>
            <a:xfrm>
              <a:off x="4572000" y="4267080"/>
              <a:ext cx="1447920" cy="1067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8120" y="2743200"/>
              <a:ext cx="243828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352680" y="2514600"/>
            <a:ext cx="3124440" cy="2438280"/>
            <a:chOff x="3352680" y="2514600"/>
            <a:chExt cx="3124440" cy="2438280"/>
          </a:xfrm>
        </p:grpSpPr>
        <p:sp>
          <p:nvSpPr>
            <p:cNvPr id="68" name=""/>
            <p:cNvSpPr/>
            <p:nvPr/>
          </p:nvSpPr>
          <p:spPr>
            <a:xfrm>
              <a:off x="3352680" y="4114800"/>
              <a:ext cx="1828800" cy="838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114800" y="2514600"/>
              <a:ext cx="2362320" cy="213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447920" y="838080"/>
            <a:ext cx="2057040" cy="914400"/>
            <a:chOff x="1447920" y="838080"/>
            <a:chExt cx="2057040" cy="914400"/>
          </a:xfrm>
        </p:grpSpPr>
        <p:grpSp>
          <p:nvGrpSpPr>
            <p:cNvPr id="71" name=""/>
            <p:cNvGrpSpPr/>
            <p:nvPr/>
          </p:nvGrpSpPr>
          <p:grpSpPr>
            <a:xfrm>
              <a:off x="2057400" y="838080"/>
              <a:ext cx="1447560" cy="914400"/>
              <a:chOff x="2057400" y="838080"/>
              <a:chExt cx="1447560" cy="914400"/>
            </a:xfrm>
          </p:grpSpPr>
          <p:sp>
            <p:nvSpPr>
              <p:cNvPr id="72" name=""/>
              <p:cNvSpPr/>
              <p:nvPr/>
            </p:nvSpPr>
            <p:spPr>
              <a:xfrm>
                <a:off x="2057400" y="838080"/>
                <a:ext cx="1447560" cy="914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057400" y="914400"/>
                <a:ext cx="1447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éducteur à engrenag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1447920" y="1143000"/>
              <a:ext cx="609480" cy="304560"/>
            </a:xfrm>
            <a:custGeom>
              <a:avLst/>
              <a:gdLst>
                <a:gd name="textAreaLeft" fmla="*/ 110520 w 609480"/>
                <a:gd name="textAreaRight" fmla="*/ 498960 w 609480"/>
                <a:gd name="textAreaTop" fmla="*/ 86040 h 304560"/>
                <a:gd name="textAreaBottom" fmla="*/ 2185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120"/>
                  </a:moveTo>
                  <a:lnTo>
                    <a:pt x="12559" y="6120"/>
                  </a:lnTo>
                  <a:lnTo>
                    <a:pt x="12559" y="0"/>
                  </a:lnTo>
                  <a:lnTo>
                    <a:pt x="21600" y="10800"/>
                  </a:lnTo>
                  <a:lnTo>
                    <a:pt x="12559" y="21600"/>
                  </a:lnTo>
                  <a:lnTo>
                    <a:pt x="12559" y="15480"/>
                  </a:lnTo>
                  <a:lnTo>
                    <a:pt x="0" y="15480"/>
                  </a:lnTo>
                  <a:lnTo>
                    <a:pt x="3918" y="10800"/>
                  </a:lnTo>
                  <a:lnTo>
                    <a:pt x="0" y="6120"/>
                  </a:lnTo>
                  <a:close/>
                </a:path>
              </a:pathLst>
            </a:custGeom>
            <a:solidFill>
              <a:srgbClr val="fe252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505320" y="838080"/>
            <a:ext cx="1981080" cy="914400"/>
            <a:chOff x="3505320" y="838080"/>
            <a:chExt cx="1981080" cy="914400"/>
          </a:xfrm>
        </p:grpSpPr>
        <p:grpSp>
          <p:nvGrpSpPr>
            <p:cNvPr id="76" name=""/>
            <p:cNvGrpSpPr/>
            <p:nvPr/>
          </p:nvGrpSpPr>
          <p:grpSpPr>
            <a:xfrm>
              <a:off x="4114800" y="838080"/>
              <a:ext cx="1371600" cy="914400"/>
              <a:chOff x="4114800" y="838080"/>
              <a:chExt cx="1371600" cy="914400"/>
            </a:xfrm>
          </p:grpSpPr>
          <p:sp>
            <p:nvSpPr>
              <p:cNvPr id="77" name=""/>
              <p:cNvSpPr/>
              <p:nvPr/>
            </p:nvSpPr>
            <p:spPr>
              <a:xfrm>
                <a:off x="4114800" y="838080"/>
                <a:ext cx="1371600" cy="914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114800" y="914400"/>
                <a:ext cx="1371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oue excentriq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3505320" y="1143000"/>
              <a:ext cx="609480" cy="304560"/>
            </a:xfrm>
            <a:custGeom>
              <a:avLst/>
              <a:gdLst>
                <a:gd name="textAreaLeft" fmla="*/ 110520 w 609480"/>
                <a:gd name="textAreaRight" fmla="*/ 498960 w 609480"/>
                <a:gd name="textAreaTop" fmla="*/ 86040 h 304560"/>
                <a:gd name="textAreaBottom" fmla="*/ 2185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120"/>
                  </a:moveTo>
                  <a:lnTo>
                    <a:pt x="12559" y="6120"/>
                  </a:lnTo>
                  <a:lnTo>
                    <a:pt x="12559" y="0"/>
                  </a:lnTo>
                  <a:lnTo>
                    <a:pt x="21600" y="10800"/>
                  </a:lnTo>
                  <a:lnTo>
                    <a:pt x="12559" y="21600"/>
                  </a:lnTo>
                  <a:lnTo>
                    <a:pt x="12559" y="15480"/>
                  </a:lnTo>
                  <a:lnTo>
                    <a:pt x="0" y="15480"/>
                  </a:lnTo>
                  <a:lnTo>
                    <a:pt x="3918" y="10800"/>
                  </a:lnTo>
                  <a:lnTo>
                    <a:pt x="0" y="6120"/>
                  </a:lnTo>
                  <a:close/>
                </a:path>
              </a:pathLst>
            </a:custGeom>
            <a:solidFill>
              <a:srgbClr val="fe252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486400" y="838080"/>
            <a:ext cx="1523880" cy="914400"/>
            <a:chOff x="5486400" y="838080"/>
            <a:chExt cx="1523880" cy="914400"/>
          </a:xfrm>
        </p:grpSpPr>
        <p:sp>
          <p:nvSpPr>
            <p:cNvPr id="81" name=""/>
            <p:cNvSpPr/>
            <p:nvPr/>
          </p:nvSpPr>
          <p:spPr>
            <a:xfrm>
              <a:off x="6095880" y="838080"/>
              <a:ext cx="914400" cy="914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95880" y="10656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evi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86400" y="1143000"/>
              <a:ext cx="609480" cy="304560"/>
            </a:xfrm>
            <a:custGeom>
              <a:avLst/>
              <a:gdLst>
                <a:gd name="textAreaLeft" fmla="*/ 110520 w 609480"/>
                <a:gd name="textAreaRight" fmla="*/ 498960 w 609480"/>
                <a:gd name="textAreaTop" fmla="*/ 86040 h 304560"/>
                <a:gd name="textAreaBottom" fmla="*/ 2185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120"/>
                  </a:moveTo>
                  <a:lnTo>
                    <a:pt x="12559" y="6120"/>
                  </a:lnTo>
                  <a:lnTo>
                    <a:pt x="12559" y="0"/>
                  </a:lnTo>
                  <a:lnTo>
                    <a:pt x="21600" y="10800"/>
                  </a:lnTo>
                  <a:lnTo>
                    <a:pt x="12559" y="21600"/>
                  </a:lnTo>
                  <a:lnTo>
                    <a:pt x="12559" y="15480"/>
                  </a:lnTo>
                  <a:lnTo>
                    <a:pt x="0" y="15480"/>
                  </a:lnTo>
                  <a:lnTo>
                    <a:pt x="3918" y="10800"/>
                  </a:lnTo>
                  <a:lnTo>
                    <a:pt x="0" y="6120"/>
                  </a:lnTo>
                  <a:close/>
                </a:path>
              </a:pathLst>
            </a:custGeom>
            <a:solidFill>
              <a:srgbClr val="fe252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010280" y="838080"/>
            <a:ext cx="1981440" cy="914400"/>
            <a:chOff x="7010280" y="838080"/>
            <a:chExt cx="1981440" cy="914400"/>
          </a:xfrm>
        </p:grpSpPr>
        <p:sp>
          <p:nvSpPr>
            <p:cNvPr id="85" name=""/>
            <p:cNvSpPr/>
            <p:nvPr/>
          </p:nvSpPr>
          <p:spPr>
            <a:xfrm>
              <a:off x="7010280" y="1143000"/>
              <a:ext cx="609840" cy="304560"/>
            </a:xfrm>
            <a:custGeom>
              <a:avLst/>
              <a:gdLst>
                <a:gd name="textAreaLeft" fmla="*/ 110520 w 609840"/>
                <a:gd name="textAreaRight" fmla="*/ 499320 w 609840"/>
                <a:gd name="textAreaTop" fmla="*/ 86040 h 304560"/>
                <a:gd name="textAreaBottom" fmla="*/ 2185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6120"/>
                  </a:moveTo>
                  <a:lnTo>
                    <a:pt x="12559" y="6120"/>
                  </a:lnTo>
                  <a:lnTo>
                    <a:pt x="12559" y="0"/>
                  </a:lnTo>
                  <a:lnTo>
                    <a:pt x="21600" y="10800"/>
                  </a:lnTo>
                  <a:lnTo>
                    <a:pt x="12559" y="21600"/>
                  </a:lnTo>
                  <a:lnTo>
                    <a:pt x="12559" y="15480"/>
                  </a:lnTo>
                  <a:lnTo>
                    <a:pt x="0" y="15480"/>
                  </a:lnTo>
                  <a:lnTo>
                    <a:pt x="3918" y="10800"/>
                  </a:lnTo>
                  <a:lnTo>
                    <a:pt x="0" y="6120"/>
                  </a:lnTo>
                  <a:close/>
                </a:path>
              </a:pathLst>
            </a:custGeom>
            <a:solidFill>
              <a:srgbClr val="fe252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7620120" y="838080"/>
              <a:ext cx="1371600" cy="914400"/>
              <a:chOff x="7620120" y="838080"/>
              <a:chExt cx="1371600" cy="914400"/>
            </a:xfrm>
          </p:grpSpPr>
          <p:sp>
            <p:nvSpPr>
              <p:cNvPr id="87" name=""/>
              <p:cNvSpPr/>
              <p:nvPr/>
            </p:nvSpPr>
            <p:spPr>
              <a:xfrm>
                <a:off x="7620120" y="838080"/>
                <a:ext cx="1371600" cy="914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20120" y="914400"/>
                <a:ext cx="1371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ulisseau et poinç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–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Présentation du thème d’étude (Agrafeu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bloc%20Moteur" descr=""/>
          <p:cNvPicPr/>
          <p:nvPr/>
        </p:nvPicPr>
        <p:blipFill>
          <a:blip r:embed="rId3"/>
          <a:stretch/>
        </p:blipFill>
        <p:spPr>
          <a:xfrm>
            <a:off x="380880" y="1828800"/>
            <a:ext cx="903240" cy="860400"/>
          </a:xfrm>
          <a:prstGeom prst="rect">
            <a:avLst/>
          </a:prstGeom>
          <a:ln w="0">
            <a:noFill/>
          </a:ln>
        </p:spPr>
      </p:pic>
      <p:pic>
        <p:nvPicPr>
          <p:cNvPr id="91" name="bloc%20réducteur" descr=""/>
          <p:cNvPicPr/>
          <p:nvPr/>
        </p:nvPicPr>
        <p:blipFill>
          <a:blip r:embed="rId4"/>
          <a:stretch/>
        </p:blipFill>
        <p:spPr>
          <a:xfrm>
            <a:off x="2209680" y="1752480"/>
            <a:ext cx="1184400" cy="998640"/>
          </a:xfrm>
          <a:prstGeom prst="rect">
            <a:avLst/>
          </a:prstGeom>
          <a:ln w="0">
            <a:noFill/>
          </a:ln>
        </p:spPr>
      </p:pic>
      <p:pic>
        <p:nvPicPr>
          <p:cNvPr id="92" name="bloc%20roue%20excentrique" descr=""/>
          <p:cNvPicPr/>
          <p:nvPr/>
        </p:nvPicPr>
        <p:blipFill>
          <a:blip r:embed="rId5"/>
          <a:stretch/>
        </p:blipFill>
        <p:spPr>
          <a:xfrm>
            <a:off x="4191120" y="1752480"/>
            <a:ext cx="1127160" cy="1236960"/>
          </a:xfrm>
          <a:prstGeom prst="rect">
            <a:avLst/>
          </a:prstGeom>
          <a:ln w="0">
            <a:noFill/>
          </a:ln>
        </p:spPr>
      </p:pic>
      <p:pic>
        <p:nvPicPr>
          <p:cNvPr id="93" name="bloc%20Levier" descr=""/>
          <p:cNvPicPr/>
          <p:nvPr/>
        </p:nvPicPr>
        <p:blipFill>
          <a:blip r:embed="rId6"/>
          <a:stretch/>
        </p:blipFill>
        <p:spPr>
          <a:xfrm>
            <a:off x="5715000" y="1981080"/>
            <a:ext cx="1784520" cy="644760"/>
          </a:xfrm>
          <a:prstGeom prst="rect">
            <a:avLst/>
          </a:prstGeom>
          <a:ln w="0">
            <a:noFill/>
          </a:ln>
        </p:spPr>
      </p:pic>
      <p:pic>
        <p:nvPicPr>
          <p:cNvPr id="94" name="bloc%20Coulisseau" descr=""/>
          <p:cNvPicPr/>
          <p:nvPr/>
        </p:nvPicPr>
        <p:blipFill>
          <a:blip r:embed="rId7"/>
          <a:stretch/>
        </p:blipFill>
        <p:spPr>
          <a:xfrm>
            <a:off x="8077320" y="1752480"/>
            <a:ext cx="55692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p%20partie%202%20-%20liaison%20levier-fixe%20mod1" descr=""/>
          <p:cNvPicPr/>
          <p:nvPr/>
        </p:nvPicPr>
        <p:blipFill>
          <a:blip r:embed="rId2"/>
          <a:stretch/>
        </p:blipFill>
        <p:spPr>
          <a:xfrm>
            <a:off x="152280" y="2590920"/>
            <a:ext cx="6456600" cy="4047840"/>
          </a:xfrm>
          <a:prstGeom prst="rect">
            <a:avLst/>
          </a:prstGeom>
          <a:ln w="0">
            <a:noFill/>
          </a:ln>
        </p:spPr>
      </p:pic>
      <p:pic>
        <p:nvPicPr>
          <p:cNvPr id="398" name="tp%20partie%202%20-%20liaison%20levier-fixe%20mod2" descr=""/>
          <p:cNvPicPr/>
          <p:nvPr/>
        </p:nvPicPr>
        <p:blipFill>
          <a:blip r:embed="rId3"/>
          <a:stretch/>
        </p:blipFill>
        <p:spPr>
          <a:xfrm>
            <a:off x="152280" y="2590920"/>
            <a:ext cx="6445440" cy="40449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3ème Partie 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tude des autres liaisons du système de transformation du mou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’élève étudie  la liaison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levier partie fix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25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Sur la maquette : l’élève identifie la contrainte d’assemb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705720" y="23623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520"/>
                </a:solidFill>
                <a:latin typeface="Times New Roman"/>
              </a:rPr>
              <a:t>A partir de la maquette virt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05720" y="3429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520"/>
                </a:solidFill>
                <a:latin typeface="Times New Roman"/>
              </a:rPr>
              <a:t>Cacher les compos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705720" y="44197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520"/>
                </a:solidFill>
                <a:latin typeface="Times New Roman"/>
              </a:rPr>
              <a:t>Supprimer les contrai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05720" y="54100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520"/>
                </a:solidFill>
                <a:latin typeface="Times New Roman"/>
              </a:rPr>
              <a:t>Identifier la  contrai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tp%20partie%202%20-%20liaison%20levier-fixe%20mod3" descr=""/>
          <p:cNvPicPr/>
          <p:nvPr/>
        </p:nvPicPr>
        <p:blipFill>
          <a:blip r:embed="rId4"/>
          <a:stretch/>
        </p:blipFill>
        <p:spPr>
          <a:xfrm>
            <a:off x="152280" y="2590920"/>
            <a:ext cx="6456600" cy="4047840"/>
          </a:xfrm>
          <a:prstGeom prst="rect">
            <a:avLst/>
          </a:prstGeom>
          <a:ln w="0">
            <a:noFill/>
          </a:ln>
        </p:spPr>
      </p:pic>
      <p:pic>
        <p:nvPicPr>
          <p:cNvPr id="407" name="tp%20partie%202%20-%20liaison%20levier-fixe%20mod4" descr=""/>
          <p:cNvPicPr/>
          <p:nvPr/>
        </p:nvPicPr>
        <p:blipFill>
          <a:blip r:embed="rId5"/>
          <a:stretch/>
        </p:blipFill>
        <p:spPr>
          <a:xfrm>
            <a:off x="152280" y="2590920"/>
            <a:ext cx="645948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3ème Partie 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tude des autres liaisons du système de transformation du mou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’élève étudie  la liaison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levier partie fix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252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2520"/>
                </a:solidFill>
                <a:latin typeface="Times New Roman"/>
              </a:rPr>
              <a:t>Sur la maquette : l’élève identifie les degrés de libert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0" y="5562720"/>
            <a:ext cx="1447920" cy="1142640"/>
            <a:chOff x="0" y="5562720"/>
            <a:chExt cx="1447920" cy="1142640"/>
          </a:xfrm>
        </p:grpSpPr>
        <p:sp>
          <p:nvSpPr>
            <p:cNvPr id="412" name=""/>
            <p:cNvSpPr/>
            <p:nvPr/>
          </p:nvSpPr>
          <p:spPr>
            <a:xfrm>
              <a:off x="0" y="6248520"/>
              <a:ext cx="380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228600" y="5562720"/>
              <a:ext cx="1219320" cy="1142640"/>
              <a:chOff x="228600" y="5562720"/>
              <a:chExt cx="1219320" cy="114264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228600" y="5791320"/>
                <a:ext cx="914400" cy="914040"/>
                <a:chOff x="228600" y="5791320"/>
                <a:chExt cx="914400" cy="914040"/>
              </a:xfrm>
            </p:grpSpPr>
            <p:sp>
              <p:nvSpPr>
                <p:cNvPr id="415" name=""/>
                <p:cNvSpPr/>
                <p:nvPr/>
              </p:nvSpPr>
              <p:spPr>
                <a:xfrm flipV="1">
                  <a:off x="228600" y="6368400"/>
                  <a:ext cx="433080" cy="33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61680" y="6368760"/>
                  <a:ext cx="481320" cy="336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661680" y="5791320"/>
                  <a:ext cx="0" cy="577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1066680" y="6324840"/>
                <a:ext cx="381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04920" y="5562720"/>
                <a:ext cx="380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6629400" y="2514600"/>
            <a:ext cx="1752480" cy="2133720"/>
            <a:chOff x="6629400" y="2514600"/>
            <a:chExt cx="1752480" cy="2133720"/>
          </a:xfrm>
        </p:grpSpPr>
        <p:sp>
          <p:nvSpPr>
            <p:cNvPr id="421" name=""/>
            <p:cNvSpPr/>
            <p:nvPr/>
          </p:nvSpPr>
          <p:spPr>
            <a:xfrm>
              <a:off x="7543440" y="25909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81680" y="2971800"/>
              <a:ext cx="15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629400" y="2514600"/>
              <a:ext cx="1752480" cy="19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7620120" y="3048120"/>
            <a:ext cx="609480" cy="533160"/>
          </a:xfrm>
          <a:prstGeom prst="ellipse">
            <a:avLst/>
          </a:prstGeom>
          <a:noFill/>
          <a:ln w="25560">
            <a:solidFill>
              <a:srgbClr val="fe25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477120" y="5029200"/>
            <a:ext cx="2666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aison obten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NEAIRE RECTILIG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914400" y="2362320"/>
            <a:ext cx="5486400" cy="402084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914400" y="2362320"/>
            <a:ext cx="5487840" cy="405756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4"/>
          <a:stretch/>
        </p:blipFill>
        <p:spPr>
          <a:xfrm>
            <a:off x="1066680" y="2362320"/>
            <a:ext cx="4956120" cy="400032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5"/>
          <a:stretch/>
        </p:blipFill>
        <p:spPr>
          <a:xfrm>
            <a:off x="1066680" y="2362320"/>
            <a:ext cx="5105520" cy="40464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7620120" y="3581280"/>
            <a:ext cx="609480" cy="533520"/>
          </a:xfrm>
          <a:prstGeom prst="ellipse">
            <a:avLst/>
          </a:prstGeom>
          <a:noFill/>
          <a:ln w="25560">
            <a:solidFill>
              <a:srgbClr val="fe25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05720" y="4114800"/>
            <a:ext cx="609480" cy="533520"/>
          </a:xfrm>
          <a:prstGeom prst="ellipse">
            <a:avLst/>
          </a:prstGeom>
          <a:noFill/>
          <a:ln w="25560">
            <a:solidFill>
              <a:srgbClr val="fe25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05720" y="3048120"/>
            <a:ext cx="609480" cy="533160"/>
          </a:xfrm>
          <a:prstGeom prst="ellipse">
            <a:avLst/>
          </a:prstGeom>
          <a:noFill/>
          <a:ln w="25560">
            <a:solidFill>
              <a:srgbClr val="fe25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304920" y="9144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OUR TERMI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456840" y="5410080"/>
            <a:ext cx="824400" cy="1189080"/>
            <a:chOff x="456840" y="5410080"/>
            <a:chExt cx="824400" cy="1189080"/>
          </a:xfrm>
        </p:grpSpPr>
        <p:sp>
          <p:nvSpPr>
            <p:cNvPr id="435" name=""/>
            <p:cNvSpPr/>
            <p:nvPr/>
          </p:nvSpPr>
          <p:spPr>
            <a:xfrm>
              <a:off x="1281240" y="5411880"/>
              <a:ext cx="0" cy="91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456840" y="6326640"/>
              <a:ext cx="82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06560" y="5410080"/>
              <a:ext cx="274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7200" y="6324840"/>
              <a:ext cx="274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4267080" y="4572000"/>
            <a:ext cx="2743200" cy="1145520"/>
            <a:chOff x="4267080" y="4572000"/>
            <a:chExt cx="2743200" cy="1145520"/>
          </a:xfrm>
        </p:grpSpPr>
        <p:sp>
          <p:nvSpPr>
            <p:cNvPr id="440" name=""/>
            <p:cNvSpPr/>
            <p:nvPr/>
          </p:nvSpPr>
          <p:spPr>
            <a:xfrm>
              <a:off x="5410080" y="52578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Bloc Fix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4267080" y="4572000"/>
              <a:ext cx="1218960" cy="914400"/>
            </a:xfrm>
            <a:prstGeom prst="line">
              <a:avLst/>
            </a:prstGeom>
            <a:ln w="9360">
              <a:solidFill>
                <a:srgbClr val="fe252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6400800" y="2743200"/>
            <a:ext cx="2590920" cy="838080"/>
            <a:chOff x="6400800" y="2743200"/>
            <a:chExt cx="2590920" cy="838080"/>
          </a:xfrm>
        </p:grpSpPr>
        <p:sp>
          <p:nvSpPr>
            <p:cNvPr id="443" name=""/>
            <p:cNvSpPr/>
            <p:nvPr/>
          </p:nvSpPr>
          <p:spPr>
            <a:xfrm>
              <a:off x="7391520" y="274320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oc Lev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400800" y="3124080"/>
              <a:ext cx="1371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1600200" y="2514600"/>
            <a:ext cx="2438280" cy="1219320"/>
            <a:chOff x="1600200" y="2514600"/>
            <a:chExt cx="2438280" cy="1219320"/>
          </a:xfrm>
        </p:grpSpPr>
        <p:sp>
          <p:nvSpPr>
            <p:cNvPr id="446" name=""/>
            <p:cNvSpPr/>
            <p:nvPr/>
          </p:nvSpPr>
          <p:spPr>
            <a:xfrm>
              <a:off x="1600200" y="251460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Bloc Coulissea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2895840"/>
              <a:ext cx="1143000" cy="8380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3ème Partie 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tude des autres liaisons du système de transformation du mouv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18288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’élève trace le schéma cinémati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3849840" y="2743200"/>
            <a:ext cx="450720" cy="3741480"/>
            <a:chOff x="3849840" y="2743200"/>
            <a:chExt cx="450720" cy="3741480"/>
          </a:xfrm>
        </p:grpSpPr>
        <p:sp>
          <p:nvSpPr>
            <p:cNvPr id="451" name=""/>
            <p:cNvSpPr/>
            <p:nvPr/>
          </p:nvSpPr>
          <p:spPr>
            <a:xfrm>
              <a:off x="4074120" y="3193560"/>
              <a:ext cx="1440" cy="733680"/>
            </a:xfrm>
            <a:custGeom>
              <a:avLst/>
              <a:gdLst/>
              <a:ahLst/>
              <a:rect l="l" t="t" r="r" b="b"/>
              <a:pathLst>
                <a:path w="1" h="3082">
                  <a:moveTo>
                    <a:pt x="0" y="3082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74120" y="5024520"/>
              <a:ext cx="1440" cy="1460160"/>
            </a:xfrm>
            <a:custGeom>
              <a:avLst/>
              <a:gdLst/>
              <a:ahLst/>
              <a:rect l="l" t="t" r="r" b="b"/>
              <a:pathLst>
                <a:path w="1" h="6123">
                  <a:moveTo>
                    <a:pt x="0" y="0"/>
                  </a:moveTo>
                  <a:lnTo>
                    <a:pt x="0" y="6123"/>
                  </a:lnTo>
                  <a:lnTo>
                    <a:pt x="1" y="6123"/>
                  </a:ln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49840" y="2743200"/>
              <a:ext cx="450720" cy="450360"/>
            </a:xfrm>
            <a:custGeom>
              <a:avLst/>
              <a:gdLst/>
              <a:ahLst/>
              <a:rect l="l" t="t" r="r" b="b"/>
              <a:pathLst>
                <a:path w="1890" h="1890">
                  <a:moveTo>
                    <a:pt x="1889" y="946"/>
                  </a:moveTo>
                  <a:lnTo>
                    <a:pt x="1817" y="584"/>
                  </a:lnTo>
                  <a:lnTo>
                    <a:pt x="1612" y="277"/>
                  </a:lnTo>
                  <a:lnTo>
                    <a:pt x="1305" y="72"/>
                  </a:lnTo>
                  <a:lnTo>
                    <a:pt x="944" y="0"/>
                  </a:lnTo>
                  <a:lnTo>
                    <a:pt x="583" y="72"/>
                  </a:lnTo>
                  <a:lnTo>
                    <a:pt x="277" y="277"/>
                  </a:lnTo>
                  <a:lnTo>
                    <a:pt x="72" y="584"/>
                  </a:lnTo>
                  <a:lnTo>
                    <a:pt x="0" y="946"/>
                  </a:lnTo>
                  <a:lnTo>
                    <a:pt x="72" y="1307"/>
                  </a:lnTo>
                  <a:lnTo>
                    <a:pt x="277" y="1613"/>
                  </a:lnTo>
                  <a:lnTo>
                    <a:pt x="583" y="1818"/>
                  </a:lnTo>
                  <a:lnTo>
                    <a:pt x="944" y="1890"/>
                  </a:lnTo>
                  <a:lnTo>
                    <a:pt x="1305" y="1818"/>
                  </a:lnTo>
                  <a:lnTo>
                    <a:pt x="1612" y="1613"/>
                  </a:lnTo>
                  <a:lnTo>
                    <a:pt x="1817" y="1307"/>
                  </a:lnTo>
                  <a:lnTo>
                    <a:pt x="1889" y="946"/>
                  </a:lnTo>
                  <a:lnTo>
                    <a:pt x="1890" y="946"/>
                  </a:ln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048120" y="3417840"/>
            <a:ext cx="2901600" cy="1606320"/>
            <a:chOff x="3048120" y="3417840"/>
            <a:chExt cx="2901600" cy="1606320"/>
          </a:xfrm>
        </p:grpSpPr>
        <p:sp>
          <p:nvSpPr>
            <p:cNvPr id="455" name=""/>
            <p:cNvSpPr/>
            <p:nvPr/>
          </p:nvSpPr>
          <p:spPr>
            <a:xfrm>
              <a:off x="3321000" y="4064400"/>
              <a:ext cx="1440" cy="824040"/>
            </a:xfrm>
            <a:custGeom>
              <a:avLst/>
              <a:gdLst/>
              <a:ahLst/>
              <a:rect l="l" t="t" r="r" b="b"/>
              <a:pathLst>
                <a:path w="1" h="3451">
                  <a:moveTo>
                    <a:pt x="0" y="0"/>
                  </a:moveTo>
                  <a:lnTo>
                    <a:pt x="0" y="3451"/>
                  </a:lnTo>
                  <a:lnTo>
                    <a:pt x="1" y="3451"/>
                  </a:lnTo>
                </a:path>
              </a:pathLst>
            </a:custGeom>
            <a:noFill/>
            <a:ln w="57240">
              <a:solidFill>
                <a:srgbClr val="fe25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8120" y="4064400"/>
              <a:ext cx="272880" cy="137160"/>
            </a:xfrm>
            <a:custGeom>
              <a:avLst/>
              <a:gdLst/>
              <a:ahLst/>
              <a:rect l="l" t="t" r="r" b="b"/>
              <a:pathLst>
                <a:path w="1150" h="576">
                  <a:moveTo>
                    <a:pt x="1150" y="576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57240">
              <a:solidFill>
                <a:srgbClr val="fe25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048120" y="4201560"/>
              <a:ext cx="272880" cy="137520"/>
            </a:xfrm>
            <a:custGeom>
              <a:avLst/>
              <a:gdLst/>
              <a:ahLst/>
              <a:rect l="l" t="t" r="r" b="b"/>
              <a:pathLst>
                <a:path w="1150" h="575">
                  <a:moveTo>
                    <a:pt x="1150" y="57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57240">
              <a:solidFill>
                <a:srgbClr val="fe25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48120" y="4339080"/>
              <a:ext cx="272880" cy="137160"/>
            </a:xfrm>
            <a:custGeom>
              <a:avLst/>
              <a:gdLst/>
              <a:ahLst/>
              <a:rect l="l" t="t" r="r" b="b"/>
              <a:pathLst>
                <a:path w="1150" h="574">
                  <a:moveTo>
                    <a:pt x="1150" y="574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57240">
              <a:solidFill>
                <a:srgbClr val="fe25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048120" y="4476240"/>
              <a:ext cx="272880" cy="137160"/>
            </a:xfrm>
            <a:custGeom>
              <a:avLst/>
              <a:gdLst/>
              <a:ahLst/>
              <a:rect l="l" t="t" r="r" b="b"/>
              <a:pathLst>
                <a:path w="1150" h="575">
                  <a:moveTo>
                    <a:pt x="1150" y="57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57240">
              <a:solidFill>
                <a:srgbClr val="fe25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48120" y="4613760"/>
              <a:ext cx="272880" cy="137520"/>
            </a:xfrm>
            <a:custGeom>
              <a:avLst/>
              <a:gdLst/>
              <a:ahLst/>
              <a:rect l="l" t="t" r="r" b="b"/>
              <a:pathLst>
                <a:path w="1150" h="575">
                  <a:moveTo>
                    <a:pt x="1150" y="575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57240">
              <a:solidFill>
                <a:srgbClr val="fe25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21000" y="4476240"/>
              <a:ext cx="549360" cy="1080"/>
            </a:xfrm>
            <a:custGeom>
              <a:avLst/>
              <a:gdLst/>
              <a:ahLst/>
              <a:rect l="l" t="t" r="r" b="b"/>
              <a:pathLst>
                <a:path w="2299" h="0">
                  <a:moveTo>
                    <a:pt x="0" y="0"/>
                  </a:moveTo>
                  <a:lnTo>
                    <a:pt x="2298" y="0"/>
                  </a:lnTo>
                  <a:lnTo>
                    <a:pt x="2299" y="0"/>
                  </a:lnTo>
                </a:path>
              </a:pathLst>
            </a:custGeom>
            <a:noFill/>
            <a:ln w="57240">
              <a:solidFill>
                <a:srgbClr val="fe25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68920" y="3926880"/>
              <a:ext cx="411840" cy="1097280"/>
            </a:xfrm>
            <a:custGeom>
              <a:avLst/>
              <a:gdLst/>
              <a:ahLst/>
              <a:rect l="l" t="t" r="r" b="b"/>
              <a:pathLst>
                <a:path w="1724" h="4601">
                  <a:moveTo>
                    <a:pt x="0" y="0"/>
                  </a:moveTo>
                  <a:lnTo>
                    <a:pt x="1724" y="0"/>
                  </a:lnTo>
                  <a:lnTo>
                    <a:pt x="1724" y="4601"/>
                  </a:lnTo>
                  <a:lnTo>
                    <a:pt x="0" y="460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57240">
              <a:solidFill>
                <a:srgbClr val="fe25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280760" y="4476240"/>
              <a:ext cx="803520" cy="1080"/>
            </a:xfrm>
            <a:custGeom>
              <a:avLst/>
              <a:gdLst/>
              <a:ahLst/>
              <a:rect l="l" t="t" r="r" b="b"/>
              <a:pathLst>
                <a:path w="3376" h="0">
                  <a:moveTo>
                    <a:pt x="0" y="0"/>
                  </a:moveTo>
                  <a:lnTo>
                    <a:pt x="3375" y="0"/>
                  </a:lnTo>
                  <a:lnTo>
                    <a:pt x="3376" y="0"/>
                  </a:lnTo>
                </a:path>
              </a:pathLst>
            </a:custGeom>
            <a:noFill/>
            <a:ln w="57240">
              <a:solidFill>
                <a:srgbClr val="fe25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84640" y="3523320"/>
              <a:ext cx="380160" cy="952920"/>
            </a:xfrm>
            <a:custGeom>
              <a:avLst/>
              <a:gdLst/>
              <a:ahLst/>
              <a:rect l="l" t="t" r="r" b="b"/>
              <a:pathLst>
                <a:path w="1597" h="3992">
                  <a:moveTo>
                    <a:pt x="0" y="3992"/>
                  </a:moveTo>
                  <a:lnTo>
                    <a:pt x="1596" y="0"/>
                  </a:lnTo>
                  <a:lnTo>
                    <a:pt x="1597" y="0"/>
                  </a:lnTo>
                </a:path>
              </a:pathLst>
            </a:custGeom>
            <a:noFill/>
            <a:ln w="57240">
              <a:solidFill>
                <a:srgbClr val="fe25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65160" y="3523320"/>
              <a:ext cx="370440" cy="148680"/>
            </a:xfrm>
            <a:custGeom>
              <a:avLst/>
              <a:gdLst/>
              <a:ahLst/>
              <a:rect l="l" t="t" r="r" b="b"/>
              <a:pathLst>
                <a:path w="1550" h="620">
                  <a:moveTo>
                    <a:pt x="0" y="0"/>
                  </a:moveTo>
                  <a:lnTo>
                    <a:pt x="1549" y="620"/>
                  </a:lnTo>
                  <a:lnTo>
                    <a:pt x="1550" y="620"/>
                  </a:lnTo>
                </a:path>
              </a:pathLst>
            </a:custGeom>
            <a:noFill/>
            <a:ln w="57240">
              <a:solidFill>
                <a:srgbClr val="fe25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21200" y="3519360"/>
              <a:ext cx="128520" cy="51480"/>
            </a:xfrm>
            <a:custGeom>
              <a:avLst/>
              <a:gdLst/>
              <a:ahLst/>
              <a:rect l="l" t="t" r="r" b="b"/>
              <a:pathLst>
                <a:path w="535" h="214">
                  <a:moveTo>
                    <a:pt x="0" y="0"/>
                  </a:moveTo>
                  <a:lnTo>
                    <a:pt x="534" y="214"/>
                  </a:lnTo>
                  <a:lnTo>
                    <a:pt x="535" y="214"/>
                  </a:lnTo>
                </a:path>
              </a:pathLst>
            </a:custGeom>
            <a:noFill/>
            <a:ln w="57240">
              <a:solidFill>
                <a:srgbClr val="fe25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937120" y="3417840"/>
              <a:ext cx="11160" cy="153000"/>
            </a:xfrm>
            <a:custGeom>
              <a:avLst/>
              <a:gdLst/>
              <a:ahLst/>
              <a:rect l="l" t="t" r="r" b="b"/>
              <a:pathLst>
                <a:path w="54" h="641">
                  <a:moveTo>
                    <a:pt x="54" y="641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57240">
              <a:solidFill>
                <a:srgbClr val="fe25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21200" y="3417840"/>
              <a:ext cx="115920" cy="101520"/>
            </a:xfrm>
            <a:custGeom>
              <a:avLst/>
              <a:gdLst/>
              <a:ahLst/>
              <a:rect l="l" t="t" r="r" b="b"/>
              <a:pathLst>
                <a:path w="480" h="427">
                  <a:moveTo>
                    <a:pt x="480" y="0"/>
                  </a:moveTo>
                  <a:lnTo>
                    <a:pt x="0" y="427"/>
                  </a:lnTo>
                  <a:lnTo>
                    <a:pt x="1" y="427"/>
                  </a:lnTo>
                </a:path>
              </a:pathLst>
            </a:custGeom>
            <a:noFill/>
            <a:ln w="57240">
              <a:solidFill>
                <a:srgbClr val="fe25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84120" y="3544920"/>
              <a:ext cx="101520" cy="254520"/>
            </a:xfrm>
            <a:custGeom>
              <a:avLst/>
              <a:gdLst/>
              <a:ahLst/>
              <a:rect l="l" t="t" r="r" b="b"/>
              <a:pathLst>
                <a:path w="428" h="1068">
                  <a:moveTo>
                    <a:pt x="0" y="1068"/>
                  </a:moveTo>
                  <a:lnTo>
                    <a:pt x="427" y="0"/>
                  </a:lnTo>
                  <a:lnTo>
                    <a:pt x="428" y="0"/>
                  </a:lnTo>
                </a:path>
              </a:pathLst>
            </a:custGeom>
            <a:noFill/>
            <a:ln w="57240">
              <a:solidFill>
                <a:srgbClr val="fe25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32640" y="3825360"/>
              <a:ext cx="114480" cy="101520"/>
            </a:xfrm>
            <a:custGeom>
              <a:avLst/>
              <a:gdLst/>
              <a:ahLst/>
              <a:rect l="l" t="t" r="r" b="b"/>
              <a:pathLst>
                <a:path w="480" h="427">
                  <a:moveTo>
                    <a:pt x="480" y="0"/>
                  </a:moveTo>
                  <a:lnTo>
                    <a:pt x="0" y="427"/>
                  </a:lnTo>
                  <a:lnTo>
                    <a:pt x="1" y="427"/>
                  </a:lnTo>
                </a:path>
              </a:pathLst>
            </a:custGeom>
            <a:noFill/>
            <a:ln w="57240">
              <a:solidFill>
                <a:srgbClr val="fe25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19680" y="3773880"/>
              <a:ext cx="12960" cy="153000"/>
            </a:xfrm>
            <a:custGeom>
              <a:avLst/>
              <a:gdLst/>
              <a:ahLst/>
              <a:rect l="l" t="t" r="r" b="b"/>
              <a:pathLst>
                <a:path w="54" h="640">
                  <a:moveTo>
                    <a:pt x="54" y="640"/>
                  </a:move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57240">
              <a:solidFill>
                <a:srgbClr val="fe25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19680" y="3773880"/>
              <a:ext cx="127440" cy="51480"/>
            </a:xfrm>
            <a:custGeom>
              <a:avLst/>
              <a:gdLst/>
              <a:ahLst/>
              <a:rect l="l" t="t" r="r" b="b"/>
              <a:pathLst>
                <a:path w="535" h="213">
                  <a:moveTo>
                    <a:pt x="0" y="0"/>
                  </a:moveTo>
                  <a:lnTo>
                    <a:pt x="534" y="213"/>
                  </a:lnTo>
                  <a:lnTo>
                    <a:pt x="535" y="213"/>
                  </a:lnTo>
                </a:path>
              </a:pathLst>
            </a:custGeom>
            <a:noFill/>
            <a:ln w="57240">
              <a:solidFill>
                <a:srgbClr val="fe25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4282920" y="3052800"/>
            <a:ext cx="4244760" cy="1698120"/>
            <a:chOff x="4282920" y="3052800"/>
            <a:chExt cx="4244760" cy="1698120"/>
          </a:xfrm>
        </p:grpSpPr>
        <p:sp>
          <p:nvSpPr>
            <p:cNvPr id="474" name=""/>
            <p:cNvSpPr/>
            <p:nvPr/>
          </p:nvSpPr>
          <p:spPr>
            <a:xfrm>
              <a:off x="4282920" y="3052800"/>
              <a:ext cx="560520" cy="224280"/>
            </a:xfrm>
            <a:custGeom>
              <a:avLst/>
              <a:gdLst/>
              <a:ahLst/>
              <a:rect l="l" t="t" r="r" b="b"/>
              <a:pathLst>
                <a:path w="2353" h="942">
                  <a:moveTo>
                    <a:pt x="0" y="0"/>
                  </a:moveTo>
                  <a:lnTo>
                    <a:pt x="2352" y="942"/>
                  </a:lnTo>
                  <a:lnTo>
                    <a:pt x="2353" y="94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99840" y="3124080"/>
              <a:ext cx="1471320" cy="588960"/>
            </a:xfrm>
            <a:custGeom>
              <a:avLst/>
              <a:gdLst/>
              <a:ahLst/>
              <a:rect l="l" t="t" r="r" b="b"/>
              <a:pathLst>
                <a:path w="6172" h="2470">
                  <a:moveTo>
                    <a:pt x="0" y="0"/>
                  </a:moveTo>
                  <a:lnTo>
                    <a:pt x="6171" y="2470"/>
                  </a:lnTo>
                  <a:lnTo>
                    <a:pt x="6172" y="247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996440" y="3633120"/>
              <a:ext cx="1471680" cy="588960"/>
            </a:xfrm>
            <a:custGeom>
              <a:avLst/>
              <a:gdLst/>
              <a:ahLst/>
              <a:rect l="l" t="t" r="r" b="b"/>
              <a:pathLst>
                <a:path w="6171" h="2470">
                  <a:moveTo>
                    <a:pt x="0" y="0"/>
                  </a:moveTo>
                  <a:lnTo>
                    <a:pt x="6170" y="2470"/>
                  </a:lnTo>
                  <a:lnTo>
                    <a:pt x="6171" y="247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824720" y="3105360"/>
              <a:ext cx="374760" cy="527400"/>
            </a:xfrm>
            <a:custGeom>
              <a:avLst/>
              <a:gdLst/>
              <a:ahLst/>
              <a:rect l="l" t="t" r="r" b="b"/>
              <a:pathLst>
                <a:path w="1574" h="2215">
                  <a:moveTo>
                    <a:pt x="1574" y="79"/>
                  </a:moveTo>
                  <a:lnTo>
                    <a:pt x="1223" y="0"/>
                  </a:lnTo>
                  <a:lnTo>
                    <a:pt x="865" y="32"/>
                  </a:lnTo>
                  <a:lnTo>
                    <a:pt x="535" y="173"/>
                  </a:lnTo>
                  <a:lnTo>
                    <a:pt x="263" y="411"/>
                  </a:lnTo>
                  <a:lnTo>
                    <a:pt x="79" y="720"/>
                  </a:lnTo>
                  <a:lnTo>
                    <a:pt x="0" y="1070"/>
                  </a:lnTo>
                  <a:lnTo>
                    <a:pt x="33" y="1429"/>
                  </a:lnTo>
                  <a:lnTo>
                    <a:pt x="174" y="1761"/>
                  </a:lnTo>
                  <a:lnTo>
                    <a:pt x="411" y="2031"/>
                  </a:lnTo>
                  <a:lnTo>
                    <a:pt x="720" y="2215"/>
                  </a:lnTo>
                  <a:lnTo>
                    <a:pt x="721" y="2215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67040" y="3713040"/>
              <a:ext cx="375840" cy="527400"/>
            </a:xfrm>
            <a:custGeom>
              <a:avLst/>
              <a:gdLst/>
              <a:ahLst/>
              <a:rect l="l" t="t" r="r" b="b"/>
              <a:pathLst>
                <a:path w="1575" h="2216">
                  <a:moveTo>
                    <a:pt x="0" y="2136"/>
                  </a:moveTo>
                  <a:lnTo>
                    <a:pt x="351" y="2216"/>
                  </a:lnTo>
                  <a:lnTo>
                    <a:pt x="710" y="2183"/>
                  </a:lnTo>
                  <a:lnTo>
                    <a:pt x="1040" y="2041"/>
                  </a:lnTo>
                  <a:lnTo>
                    <a:pt x="1311" y="1805"/>
                  </a:lnTo>
                  <a:lnTo>
                    <a:pt x="1495" y="1495"/>
                  </a:lnTo>
                  <a:lnTo>
                    <a:pt x="1575" y="1144"/>
                  </a:lnTo>
                  <a:lnTo>
                    <a:pt x="1542" y="786"/>
                  </a:lnTo>
                  <a:lnTo>
                    <a:pt x="1400" y="455"/>
                  </a:lnTo>
                  <a:lnTo>
                    <a:pt x="1164" y="185"/>
                  </a:lnTo>
                  <a:lnTo>
                    <a:pt x="855" y="0"/>
                  </a:lnTo>
                  <a:lnTo>
                    <a:pt x="856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23080" y="4069080"/>
              <a:ext cx="1704600" cy="681840"/>
            </a:xfrm>
            <a:custGeom>
              <a:avLst/>
              <a:gdLst/>
              <a:ahLst/>
              <a:rect l="l" t="t" r="r" b="b"/>
              <a:pathLst>
                <a:path w="7148" h="2860">
                  <a:moveTo>
                    <a:pt x="0" y="0"/>
                  </a:moveTo>
                  <a:lnTo>
                    <a:pt x="7147" y="2860"/>
                  </a:lnTo>
                  <a:lnTo>
                    <a:pt x="7148" y="286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7238520" y="1828800"/>
            <a:ext cx="1533960" cy="838080"/>
            <a:chOff x="7238520" y="1828800"/>
            <a:chExt cx="1533960" cy="838080"/>
          </a:xfrm>
        </p:grpSpPr>
        <p:sp>
          <p:nvSpPr>
            <p:cNvPr id="96" name=""/>
            <p:cNvSpPr/>
            <p:nvPr/>
          </p:nvSpPr>
          <p:spPr>
            <a:xfrm flipH="1">
              <a:off x="7238520" y="2077920"/>
              <a:ext cx="784440" cy="588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38880" y="1828800"/>
              <a:ext cx="15336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oteu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714640" y="1371600"/>
            <a:ext cx="1532160" cy="914400"/>
            <a:chOff x="5714640" y="1371600"/>
            <a:chExt cx="1532160" cy="914400"/>
          </a:xfrm>
        </p:grpSpPr>
        <p:sp>
          <p:nvSpPr>
            <p:cNvPr id="99" name=""/>
            <p:cNvSpPr/>
            <p:nvPr/>
          </p:nvSpPr>
          <p:spPr>
            <a:xfrm flipH="1">
              <a:off x="5714640" y="1600200"/>
              <a:ext cx="771480" cy="685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5000" y="1371600"/>
              <a:ext cx="153180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oue Excentriq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857640" y="3124080"/>
            <a:ext cx="2127600" cy="811440"/>
            <a:chOff x="6857640" y="3124080"/>
            <a:chExt cx="2127600" cy="811440"/>
          </a:xfrm>
        </p:grpSpPr>
        <p:sp>
          <p:nvSpPr>
            <p:cNvPr id="102" name=""/>
            <p:cNvSpPr/>
            <p:nvPr/>
          </p:nvSpPr>
          <p:spPr>
            <a:xfrm flipH="1">
              <a:off x="6857640" y="3276720"/>
              <a:ext cx="762120" cy="228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43800" y="3124080"/>
              <a:ext cx="144144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oue dentée Intermédiaire n°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257800" y="4191120"/>
            <a:ext cx="3209760" cy="1877760"/>
            <a:chOff x="5257800" y="4191120"/>
            <a:chExt cx="3209760" cy="1877760"/>
          </a:xfrm>
        </p:grpSpPr>
        <p:sp>
          <p:nvSpPr>
            <p:cNvPr id="105" name=""/>
            <p:cNvSpPr/>
            <p:nvPr/>
          </p:nvSpPr>
          <p:spPr>
            <a:xfrm flipH="1" flipV="1">
              <a:off x="5257800" y="4191120"/>
              <a:ext cx="1828800" cy="1162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34320" y="5257800"/>
              <a:ext cx="153324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oues dentées intermédiaires n°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6095880" y="4343040"/>
              <a:ext cx="990720" cy="1009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0" y="1600200"/>
            <a:ext cx="1600200" cy="1219320"/>
            <a:chOff x="0" y="1600200"/>
            <a:chExt cx="1600200" cy="1219320"/>
          </a:xfrm>
        </p:grpSpPr>
        <p:sp>
          <p:nvSpPr>
            <p:cNvPr id="109" name=""/>
            <p:cNvSpPr/>
            <p:nvPr/>
          </p:nvSpPr>
          <p:spPr>
            <a:xfrm>
              <a:off x="762120" y="2057400"/>
              <a:ext cx="838080" cy="762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1600200"/>
              <a:ext cx="1532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ulisseau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t Poinç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–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Présentation du thème d’étude (Agrafeu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chéma Ciné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914400" y="1730520"/>
            <a:ext cx="6781320" cy="3371400"/>
            <a:chOff x="914400" y="1730520"/>
            <a:chExt cx="6781320" cy="3371400"/>
          </a:xfrm>
        </p:grpSpPr>
        <p:grpSp>
          <p:nvGrpSpPr>
            <p:cNvPr id="114" name=""/>
            <p:cNvGrpSpPr/>
            <p:nvPr/>
          </p:nvGrpSpPr>
          <p:grpSpPr>
            <a:xfrm>
              <a:off x="5586480" y="3625920"/>
              <a:ext cx="793800" cy="855720"/>
              <a:chOff x="5586480" y="3625920"/>
              <a:chExt cx="793800" cy="855720"/>
            </a:xfrm>
          </p:grpSpPr>
          <p:sp>
            <p:nvSpPr>
              <p:cNvPr id="115" name=""/>
              <p:cNvSpPr/>
              <p:nvPr/>
            </p:nvSpPr>
            <p:spPr>
              <a:xfrm>
                <a:off x="5586480" y="3625920"/>
                <a:ext cx="793800" cy="855720"/>
              </a:xfrm>
              <a:custGeom>
                <a:avLst/>
                <a:gdLst/>
                <a:ahLst/>
                <a:rect l="l" t="t" r="r" b="b"/>
                <a:pathLst>
                  <a:path w="3300" h="3564">
                    <a:moveTo>
                      <a:pt x="0" y="2714"/>
                    </a:moveTo>
                    <a:lnTo>
                      <a:pt x="290" y="3072"/>
                    </a:lnTo>
                    <a:lnTo>
                      <a:pt x="662" y="3345"/>
                    </a:lnTo>
                    <a:lnTo>
                      <a:pt x="1092" y="3512"/>
                    </a:lnTo>
                    <a:lnTo>
                      <a:pt x="1549" y="3564"/>
                    </a:lnTo>
                    <a:lnTo>
                      <a:pt x="2005" y="3496"/>
                    </a:lnTo>
                    <a:lnTo>
                      <a:pt x="2429" y="3314"/>
                    </a:lnTo>
                    <a:lnTo>
                      <a:pt x="2791" y="3029"/>
                    </a:lnTo>
                    <a:lnTo>
                      <a:pt x="3069" y="2661"/>
                    </a:lnTo>
                    <a:lnTo>
                      <a:pt x="3241" y="2234"/>
                    </a:lnTo>
                    <a:lnTo>
                      <a:pt x="3300" y="1776"/>
                    </a:lnTo>
                    <a:lnTo>
                      <a:pt x="3238" y="1319"/>
                    </a:lnTo>
                    <a:lnTo>
                      <a:pt x="3062" y="893"/>
                    </a:lnTo>
                    <a:lnTo>
                      <a:pt x="2783" y="527"/>
                    </a:lnTo>
                    <a:lnTo>
                      <a:pt x="2418" y="244"/>
                    </a:lnTo>
                    <a:lnTo>
                      <a:pt x="1994" y="65"/>
                    </a:lnTo>
                    <a:lnTo>
                      <a:pt x="1537" y="0"/>
                    </a:lnTo>
                    <a:lnTo>
                      <a:pt x="1079" y="55"/>
                    </a:lnTo>
                    <a:lnTo>
                      <a:pt x="652" y="226"/>
                    </a:lnTo>
                    <a:lnTo>
                      <a:pt x="653" y="226"/>
                    </a:lnTo>
                  </a:path>
                </a:pathLst>
              </a:custGeom>
              <a:noFill/>
              <a:ln w="28440">
                <a:solidFill>
                  <a:srgbClr val="00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785200" y="3889440"/>
                <a:ext cx="330480" cy="329760"/>
              </a:xfrm>
              <a:custGeom>
                <a:avLst/>
                <a:gdLst/>
                <a:ahLst/>
                <a:rect l="l" t="t" r="r" b="b"/>
                <a:pathLst>
                  <a:path w="1371" h="1371">
                    <a:moveTo>
                      <a:pt x="1370" y="686"/>
                    </a:moveTo>
                    <a:lnTo>
                      <a:pt x="1317" y="424"/>
                    </a:lnTo>
                    <a:lnTo>
                      <a:pt x="1169" y="202"/>
                    </a:lnTo>
                    <a:lnTo>
                      <a:pt x="947" y="53"/>
                    </a:lnTo>
                    <a:lnTo>
                      <a:pt x="685" y="0"/>
                    </a:lnTo>
                    <a:lnTo>
                      <a:pt x="422" y="53"/>
                    </a:lnTo>
                    <a:lnTo>
                      <a:pt x="200" y="202"/>
                    </a:lnTo>
                    <a:lnTo>
                      <a:pt x="52" y="424"/>
                    </a:lnTo>
                    <a:lnTo>
                      <a:pt x="0" y="686"/>
                    </a:lnTo>
                    <a:lnTo>
                      <a:pt x="52" y="949"/>
                    </a:lnTo>
                    <a:lnTo>
                      <a:pt x="200" y="1171"/>
                    </a:lnTo>
                    <a:lnTo>
                      <a:pt x="422" y="1319"/>
                    </a:lnTo>
                    <a:lnTo>
                      <a:pt x="685" y="1371"/>
                    </a:lnTo>
                    <a:lnTo>
                      <a:pt x="947" y="1319"/>
                    </a:lnTo>
                    <a:lnTo>
                      <a:pt x="1169" y="1171"/>
                    </a:lnTo>
                    <a:lnTo>
                      <a:pt x="1317" y="949"/>
                    </a:lnTo>
                    <a:lnTo>
                      <a:pt x="1370" y="686"/>
                    </a:lnTo>
                    <a:lnTo>
                      <a:pt x="1371" y="686"/>
                    </a:lnTo>
                  </a:path>
                </a:pathLst>
              </a:custGeom>
              <a:noFill/>
              <a:ln w="28440">
                <a:solidFill>
                  <a:srgbClr val="00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4951440" y="3595680"/>
              <a:ext cx="853920" cy="736560"/>
              <a:chOff x="4951440" y="3595680"/>
              <a:chExt cx="853920" cy="736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213520" y="3739680"/>
                <a:ext cx="327960" cy="329760"/>
              </a:xfrm>
              <a:custGeom>
                <a:avLst/>
                <a:gdLst/>
                <a:ahLst/>
                <a:rect l="l" t="t" r="r" b="b"/>
                <a:pathLst>
                  <a:path w="1371" h="1371">
                    <a:moveTo>
                      <a:pt x="1370" y="685"/>
                    </a:moveTo>
                    <a:lnTo>
                      <a:pt x="1318" y="423"/>
                    </a:lnTo>
                    <a:lnTo>
                      <a:pt x="1170" y="201"/>
                    </a:lnTo>
                    <a:lnTo>
                      <a:pt x="948" y="52"/>
                    </a:lnTo>
                    <a:lnTo>
                      <a:pt x="685" y="0"/>
                    </a:lnTo>
                    <a:lnTo>
                      <a:pt x="423" y="52"/>
                    </a:lnTo>
                    <a:lnTo>
                      <a:pt x="201" y="201"/>
                    </a:lnTo>
                    <a:lnTo>
                      <a:pt x="53" y="423"/>
                    </a:lnTo>
                    <a:lnTo>
                      <a:pt x="0" y="685"/>
                    </a:lnTo>
                    <a:lnTo>
                      <a:pt x="53" y="947"/>
                    </a:lnTo>
                    <a:lnTo>
                      <a:pt x="201" y="1171"/>
                    </a:lnTo>
                    <a:lnTo>
                      <a:pt x="423" y="1319"/>
                    </a:lnTo>
                    <a:lnTo>
                      <a:pt x="685" y="1371"/>
                    </a:lnTo>
                    <a:lnTo>
                      <a:pt x="948" y="1319"/>
                    </a:lnTo>
                    <a:lnTo>
                      <a:pt x="1170" y="1171"/>
                    </a:lnTo>
                    <a:lnTo>
                      <a:pt x="1318" y="947"/>
                    </a:lnTo>
                    <a:lnTo>
                      <a:pt x="1370" y="685"/>
                    </a:lnTo>
                    <a:lnTo>
                      <a:pt x="1371" y="685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51440" y="3595680"/>
                <a:ext cx="853920" cy="736560"/>
              </a:xfrm>
              <a:custGeom>
                <a:avLst/>
                <a:gdLst/>
                <a:ahLst/>
                <a:rect l="l" t="t" r="r" b="b"/>
                <a:pathLst>
                  <a:path w="3558" h="3066">
                    <a:moveTo>
                      <a:pt x="94" y="703"/>
                    </a:moveTo>
                    <a:lnTo>
                      <a:pt x="0" y="1169"/>
                    </a:lnTo>
                    <a:lnTo>
                      <a:pt x="33" y="1643"/>
                    </a:lnTo>
                    <a:lnTo>
                      <a:pt x="189" y="2091"/>
                    </a:lnTo>
                    <a:lnTo>
                      <a:pt x="459" y="2482"/>
                    </a:lnTo>
                    <a:lnTo>
                      <a:pt x="822" y="2789"/>
                    </a:lnTo>
                    <a:lnTo>
                      <a:pt x="1254" y="2987"/>
                    </a:lnTo>
                    <a:lnTo>
                      <a:pt x="1722" y="3066"/>
                    </a:lnTo>
                    <a:lnTo>
                      <a:pt x="2194" y="3017"/>
                    </a:lnTo>
                    <a:lnTo>
                      <a:pt x="2637" y="2845"/>
                    </a:lnTo>
                    <a:lnTo>
                      <a:pt x="3019" y="2563"/>
                    </a:lnTo>
                    <a:lnTo>
                      <a:pt x="3312" y="2189"/>
                    </a:lnTo>
                    <a:lnTo>
                      <a:pt x="3496" y="1751"/>
                    </a:lnTo>
                    <a:lnTo>
                      <a:pt x="3558" y="1280"/>
                    </a:lnTo>
                    <a:lnTo>
                      <a:pt x="3494" y="809"/>
                    </a:lnTo>
                    <a:lnTo>
                      <a:pt x="3307" y="372"/>
                    </a:lnTo>
                    <a:lnTo>
                      <a:pt x="3012" y="0"/>
                    </a:lnTo>
                    <a:lnTo>
                      <a:pt x="3013" y="0"/>
                    </a:ln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914400" y="2535120"/>
              <a:ext cx="6781320" cy="2434680"/>
              <a:chOff x="914400" y="2535120"/>
              <a:chExt cx="6781320" cy="243468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4733280" y="2684880"/>
                <a:ext cx="2962440" cy="2284920"/>
                <a:chOff x="4733280" y="2684880"/>
                <a:chExt cx="2962440" cy="22849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7036920" y="2729520"/>
                  <a:ext cx="132480" cy="131040"/>
                </a:xfrm>
                <a:custGeom>
                  <a:avLst/>
                  <a:gdLst/>
                  <a:ahLst/>
                  <a:rect l="l" t="t" r="r" b="b"/>
                  <a:pathLst>
                    <a:path w="549" h="549">
                      <a:moveTo>
                        <a:pt x="548" y="275"/>
                      </a:moveTo>
                      <a:lnTo>
                        <a:pt x="468" y="81"/>
                      </a:lnTo>
                      <a:lnTo>
                        <a:pt x="275" y="0"/>
                      </a:lnTo>
                      <a:lnTo>
                        <a:pt x="80" y="81"/>
                      </a:lnTo>
                      <a:lnTo>
                        <a:pt x="0" y="275"/>
                      </a:lnTo>
                      <a:lnTo>
                        <a:pt x="80" y="468"/>
                      </a:lnTo>
                      <a:lnTo>
                        <a:pt x="275" y="549"/>
                      </a:lnTo>
                      <a:lnTo>
                        <a:pt x="468" y="468"/>
                      </a:lnTo>
                      <a:lnTo>
                        <a:pt x="548" y="275"/>
                      </a:lnTo>
                      <a:lnTo>
                        <a:pt x="549" y="275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79560" y="3552840"/>
                  <a:ext cx="131400" cy="131040"/>
                </a:xfrm>
                <a:custGeom>
                  <a:avLst/>
                  <a:gdLst/>
                  <a:ahLst/>
                  <a:rect l="l" t="t" r="r" b="b"/>
                  <a:pathLst>
                    <a:path w="548" h="549">
                      <a:moveTo>
                        <a:pt x="547" y="275"/>
                      </a:moveTo>
                      <a:lnTo>
                        <a:pt x="467" y="81"/>
                      </a:lnTo>
                      <a:lnTo>
                        <a:pt x="274" y="0"/>
                      </a:lnTo>
                      <a:lnTo>
                        <a:pt x="80" y="81"/>
                      </a:lnTo>
                      <a:lnTo>
                        <a:pt x="0" y="275"/>
                      </a:lnTo>
                      <a:lnTo>
                        <a:pt x="80" y="468"/>
                      </a:lnTo>
                      <a:lnTo>
                        <a:pt x="274" y="549"/>
                      </a:lnTo>
                      <a:lnTo>
                        <a:pt x="467" y="468"/>
                      </a:lnTo>
                      <a:lnTo>
                        <a:pt x="547" y="275"/>
                      </a:lnTo>
                      <a:lnTo>
                        <a:pt x="548" y="275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885280" y="3988080"/>
                  <a:ext cx="131040" cy="131400"/>
                </a:xfrm>
                <a:custGeom>
                  <a:avLst/>
                  <a:gdLst/>
                  <a:ahLst/>
                  <a:rect l="l" t="t" r="r" b="b"/>
                  <a:pathLst>
                    <a:path w="548" h="548">
                      <a:moveTo>
                        <a:pt x="547" y="274"/>
                      </a:moveTo>
                      <a:lnTo>
                        <a:pt x="467" y="80"/>
                      </a:lnTo>
                      <a:lnTo>
                        <a:pt x="274" y="0"/>
                      </a:lnTo>
                      <a:lnTo>
                        <a:pt x="80" y="80"/>
                      </a:lnTo>
                      <a:lnTo>
                        <a:pt x="0" y="274"/>
                      </a:lnTo>
                      <a:lnTo>
                        <a:pt x="80" y="468"/>
                      </a:lnTo>
                      <a:lnTo>
                        <a:pt x="274" y="548"/>
                      </a:lnTo>
                      <a:lnTo>
                        <a:pt x="467" y="468"/>
                      </a:lnTo>
                      <a:lnTo>
                        <a:pt x="547" y="274"/>
                      </a:lnTo>
                      <a:lnTo>
                        <a:pt x="548" y="274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311440" y="3838320"/>
                  <a:ext cx="132120" cy="131040"/>
                </a:xfrm>
                <a:custGeom>
                  <a:avLst/>
                  <a:gdLst/>
                  <a:ahLst/>
                  <a:rect l="l" t="t" r="r" b="b"/>
                  <a:pathLst>
                    <a:path w="548" h="549">
                      <a:moveTo>
                        <a:pt x="547" y="274"/>
                      </a:moveTo>
                      <a:lnTo>
                        <a:pt x="467" y="81"/>
                      </a:lnTo>
                      <a:lnTo>
                        <a:pt x="273" y="0"/>
                      </a:lnTo>
                      <a:lnTo>
                        <a:pt x="80" y="81"/>
                      </a:lnTo>
                      <a:lnTo>
                        <a:pt x="0" y="274"/>
                      </a:lnTo>
                      <a:lnTo>
                        <a:pt x="80" y="468"/>
                      </a:lnTo>
                      <a:lnTo>
                        <a:pt x="273" y="549"/>
                      </a:lnTo>
                      <a:lnTo>
                        <a:pt x="467" y="468"/>
                      </a:lnTo>
                      <a:lnTo>
                        <a:pt x="547" y="274"/>
                      </a:lnTo>
                      <a:lnTo>
                        <a:pt x="548" y="274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5034600" y="2684880"/>
                  <a:ext cx="131040" cy="131040"/>
                </a:xfrm>
                <a:custGeom>
                  <a:avLst/>
                  <a:gdLst/>
                  <a:ahLst/>
                  <a:rect l="l" t="t" r="r" b="b"/>
                  <a:pathLst>
                    <a:path w="549" h="548">
                      <a:moveTo>
                        <a:pt x="548" y="275"/>
                      </a:moveTo>
                      <a:lnTo>
                        <a:pt x="468" y="80"/>
                      </a:lnTo>
                      <a:lnTo>
                        <a:pt x="274" y="0"/>
                      </a:lnTo>
                      <a:lnTo>
                        <a:pt x="80" y="80"/>
                      </a:lnTo>
                      <a:lnTo>
                        <a:pt x="0" y="275"/>
                      </a:lnTo>
                      <a:lnTo>
                        <a:pt x="80" y="468"/>
                      </a:lnTo>
                      <a:lnTo>
                        <a:pt x="274" y="548"/>
                      </a:lnTo>
                      <a:lnTo>
                        <a:pt x="468" y="468"/>
                      </a:lnTo>
                      <a:lnTo>
                        <a:pt x="548" y="275"/>
                      </a:lnTo>
                      <a:lnTo>
                        <a:pt x="549" y="275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100840" y="2815920"/>
                  <a:ext cx="1080" cy="1824120"/>
                </a:xfrm>
                <a:custGeom>
                  <a:avLst/>
                  <a:gdLst/>
                  <a:ahLst/>
                  <a:rect l="l" t="t" r="r" b="b"/>
                  <a:pathLst>
                    <a:path w="1" h="7588">
                      <a:moveTo>
                        <a:pt x="0" y="0"/>
                      </a:moveTo>
                      <a:lnTo>
                        <a:pt x="0" y="7588"/>
                      </a:lnTo>
                      <a:lnTo>
                        <a:pt x="1" y="7588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377680" y="3969360"/>
                  <a:ext cx="1080" cy="670320"/>
                </a:xfrm>
                <a:custGeom>
                  <a:avLst/>
                  <a:gdLst/>
                  <a:ahLst/>
                  <a:rect l="l" t="t" r="r" b="b"/>
                  <a:pathLst>
                    <a:path w="1" h="2789">
                      <a:moveTo>
                        <a:pt x="0" y="0"/>
                      </a:moveTo>
                      <a:lnTo>
                        <a:pt x="0" y="2789"/>
                      </a:lnTo>
                      <a:lnTo>
                        <a:pt x="1" y="2789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5951520" y="4119480"/>
                  <a:ext cx="1080" cy="520560"/>
                </a:xfrm>
                <a:custGeom>
                  <a:avLst/>
                  <a:gdLst/>
                  <a:ahLst/>
                  <a:rect l="l" t="t" r="r" b="b"/>
                  <a:pathLst>
                    <a:path w="1" h="2165">
                      <a:moveTo>
                        <a:pt x="0" y="0"/>
                      </a:moveTo>
                      <a:lnTo>
                        <a:pt x="0" y="2165"/>
                      </a:lnTo>
                      <a:lnTo>
                        <a:pt x="1" y="2165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444360" y="3683880"/>
                  <a:ext cx="1080" cy="955800"/>
                </a:xfrm>
                <a:custGeom>
                  <a:avLst/>
                  <a:gdLst/>
                  <a:ahLst/>
                  <a:rect l="l" t="t" r="r" b="b"/>
                  <a:pathLst>
                    <a:path w="1" h="3978">
                      <a:moveTo>
                        <a:pt x="0" y="0"/>
                      </a:moveTo>
                      <a:lnTo>
                        <a:pt x="0" y="3978"/>
                      </a:lnTo>
                      <a:lnTo>
                        <a:pt x="1" y="3978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103160" y="2860560"/>
                  <a:ext cx="1080" cy="1779120"/>
                </a:xfrm>
                <a:custGeom>
                  <a:avLst/>
                  <a:gdLst/>
                  <a:ahLst/>
                  <a:rect l="l" t="t" r="r" b="b"/>
                  <a:pathLst>
                    <a:path w="1" h="7402">
                      <a:moveTo>
                        <a:pt x="0" y="0"/>
                      </a:moveTo>
                      <a:lnTo>
                        <a:pt x="0" y="7402"/>
                      </a:lnTo>
                      <a:lnTo>
                        <a:pt x="1" y="7402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33280" y="4640040"/>
                  <a:ext cx="2962440" cy="1080"/>
                </a:xfrm>
                <a:custGeom>
                  <a:avLst/>
                  <a:gdLst/>
                  <a:ahLst/>
                  <a:rect l="l" t="t" r="r" b="b"/>
                  <a:pathLst>
                    <a:path w="12329" h="0">
                      <a:moveTo>
                        <a:pt x="12329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99520" y="4640040"/>
                  <a:ext cx="131400" cy="329760"/>
                </a:xfrm>
                <a:custGeom>
                  <a:avLst/>
                  <a:gdLst/>
                  <a:ahLst/>
                  <a:rect l="l" t="t" r="r" b="b"/>
                  <a:pathLst>
                    <a:path w="548" h="1371">
                      <a:moveTo>
                        <a:pt x="548" y="0"/>
                      </a:moveTo>
                      <a:lnTo>
                        <a:pt x="0" y="1371"/>
                      </a:lnTo>
                      <a:lnTo>
                        <a:pt x="1" y="137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61960" y="4640040"/>
                  <a:ext cx="132120" cy="329760"/>
                </a:xfrm>
                <a:custGeom>
                  <a:avLst/>
                  <a:gdLst/>
                  <a:ahLst/>
                  <a:rect l="l" t="t" r="r" b="b"/>
                  <a:pathLst>
                    <a:path w="548" h="1371">
                      <a:moveTo>
                        <a:pt x="548" y="0"/>
                      </a:moveTo>
                      <a:lnTo>
                        <a:pt x="0" y="1371"/>
                      </a:lnTo>
                      <a:lnTo>
                        <a:pt x="1" y="137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325840" y="4640040"/>
                  <a:ext cx="131040" cy="329760"/>
                </a:xfrm>
                <a:custGeom>
                  <a:avLst/>
                  <a:gdLst/>
                  <a:ahLst/>
                  <a:rect l="l" t="t" r="r" b="b"/>
                  <a:pathLst>
                    <a:path w="548" h="1371">
                      <a:moveTo>
                        <a:pt x="548" y="0"/>
                      </a:moveTo>
                      <a:lnTo>
                        <a:pt x="0" y="1371"/>
                      </a:lnTo>
                      <a:lnTo>
                        <a:pt x="1" y="137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587920" y="4640040"/>
                  <a:ext cx="132480" cy="329760"/>
                </a:xfrm>
                <a:custGeom>
                  <a:avLst/>
                  <a:gdLst/>
                  <a:ahLst/>
                  <a:rect l="l" t="t" r="r" b="b"/>
                  <a:pathLst>
                    <a:path w="548" h="1371">
                      <a:moveTo>
                        <a:pt x="548" y="0"/>
                      </a:moveTo>
                      <a:lnTo>
                        <a:pt x="0" y="1371"/>
                      </a:lnTo>
                      <a:lnTo>
                        <a:pt x="1" y="137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851800" y="4640040"/>
                  <a:ext cx="131400" cy="329760"/>
                </a:xfrm>
                <a:custGeom>
                  <a:avLst/>
                  <a:gdLst/>
                  <a:ahLst/>
                  <a:rect l="l" t="t" r="r" b="b"/>
                  <a:pathLst>
                    <a:path w="547" h="1371">
                      <a:moveTo>
                        <a:pt x="547" y="0"/>
                      </a:moveTo>
                      <a:lnTo>
                        <a:pt x="0" y="1371"/>
                      </a:lnTo>
                      <a:lnTo>
                        <a:pt x="1" y="137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115680" y="4640040"/>
                  <a:ext cx="131400" cy="329760"/>
                </a:xfrm>
                <a:custGeom>
                  <a:avLst/>
                  <a:gdLst/>
                  <a:ahLst/>
                  <a:rect l="l" t="t" r="r" b="b"/>
                  <a:pathLst>
                    <a:path w="548" h="1371">
                      <a:moveTo>
                        <a:pt x="548" y="0"/>
                      </a:moveTo>
                      <a:lnTo>
                        <a:pt x="0" y="1371"/>
                      </a:lnTo>
                      <a:lnTo>
                        <a:pt x="1" y="137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379560" y="4640040"/>
                  <a:ext cx="131400" cy="329760"/>
                </a:xfrm>
                <a:custGeom>
                  <a:avLst/>
                  <a:gdLst/>
                  <a:ahLst/>
                  <a:rect l="l" t="t" r="r" b="b"/>
                  <a:pathLst>
                    <a:path w="547" h="1371">
                      <a:moveTo>
                        <a:pt x="547" y="0"/>
                      </a:moveTo>
                      <a:lnTo>
                        <a:pt x="0" y="1371"/>
                      </a:lnTo>
                      <a:lnTo>
                        <a:pt x="1" y="137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642000" y="4640040"/>
                  <a:ext cx="131040" cy="329760"/>
                </a:xfrm>
                <a:custGeom>
                  <a:avLst/>
                  <a:gdLst/>
                  <a:ahLst/>
                  <a:rect l="l" t="t" r="r" b="b"/>
                  <a:pathLst>
                    <a:path w="548" h="1371">
                      <a:moveTo>
                        <a:pt x="548" y="0"/>
                      </a:moveTo>
                      <a:lnTo>
                        <a:pt x="0" y="1371"/>
                      </a:lnTo>
                      <a:lnTo>
                        <a:pt x="1" y="137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905880" y="4640040"/>
                  <a:ext cx="131040" cy="329760"/>
                </a:xfrm>
                <a:custGeom>
                  <a:avLst/>
                  <a:gdLst/>
                  <a:ahLst/>
                  <a:rect l="l" t="t" r="r" b="b"/>
                  <a:pathLst>
                    <a:path w="548" h="1371">
                      <a:moveTo>
                        <a:pt x="548" y="0"/>
                      </a:moveTo>
                      <a:lnTo>
                        <a:pt x="0" y="1371"/>
                      </a:lnTo>
                      <a:lnTo>
                        <a:pt x="1" y="137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167960" y="4640040"/>
                  <a:ext cx="132480" cy="329760"/>
                </a:xfrm>
                <a:custGeom>
                  <a:avLst/>
                  <a:gdLst/>
                  <a:ahLst/>
                  <a:rect l="l" t="t" r="r" b="b"/>
                  <a:pathLst>
                    <a:path w="549" h="1371">
                      <a:moveTo>
                        <a:pt x="549" y="0"/>
                      </a:moveTo>
                      <a:lnTo>
                        <a:pt x="0" y="1371"/>
                      </a:lnTo>
                      <a:lnTo>
                        <a:pt x="1" y="137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431840" y="4640040"/>
                  <a:ext cx="131400" cy="329760"/>
                </a:xfrm>
                <a:custGeom>
                  <a:avLst/>
                  <a:gdLst/>
                  <a:ahLst/>
                  <a:rect l="l" t="t" r="r" b="b"/>
                  <a:pathLst>
                    <a:path w="548" h="1371">
                      <a:moveTo>
                        <a:pt x="548" y="0"/>
                      </a:moveTo>
                      <a:lnTo>
                        <a:pt x="0" y="1371"/>
                      </a:lnTo>
                      <a:lnTo>
                        <a:pt x="1" y="1371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914400" y="2535120"/>
                <a:ext cx="1815840" cy="1379520"/>
                <a:chOff x="914400" y="2535120"/>
                <a:chExt cx="1815840" cy="13795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466720" y="2535120"/>
                  <a:ext cx="263520" cy="263520"/>
                </a:xfrm>
                <a:custGeom>
                  <a:avLst/>
                  <a:gdLst/>
                  <a:ahLst/>
                  <a:rect l="l" t="t" r="r" b="b"/>
                  <a:pathLst>
                    <a:path w="1096" h="1096">
                      <a:moveTo>
                        <a:pt x="1095" y="548"/>
                      </a:moveTo>
                      <a:lnTo>
                        <a:pt x="1022" y="273"/>
                      </a:lnTo>
                      <a:lnTo>
                        <a:pt x="822" y="73"/>
                      </a:lnTo>
                      <a:lnTo>
                        <a:pt x="548" y="0"/>
                      </a:lnTo>
                      <a:lnTo>
                        <a:pt x="273" y="73"/>
                      </a:lnTo>
                      <a:lnTo>
                        <a:pt x="73" y="273"/>
                      </a:lnTo>
                      <a:lnTo>
                        <a:pt x="0" y="548"/>
                      </a:lnTo>
                      <a:lnTo>
                        <a:pt x="73" y="822"/>
                      </a:lnTo>
                      <a:lnTo>
                        <a:pt x="273" y="1022"/>
                      </a:lnTo>
                      <a:lnTo>
                        <a:pt x="548" y="1096"/>
                      </a:lnTo>
                      <a:lnTo>
                        <a:pt x="822" y="1022"/>
                      </a:lnTo>
                      <a:lnTo>
                        <a:pt x="1022" y="822"/>
                      </a:lnTo>
                      <a:lnTo>
                        <a:pt x="1095" y="548"/>
                      </a:lnTo>
                      <a:lnTo>
                        <a:pt x="1096" y="548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743120" y="3216960"/>
                  <a:ext cx="1080" cy="461160"/>
                </a:xfrm>
                <a:custGeom>
                  <a:avLst/>
                  <a:gdLst/>
                  <a:ahLst/>
                  <a:rect l="l" t="t" r="r" b="b"/>
                  <a:pathLst>
                    <a:path w="1" h="1918">
                      <a:moveTo>
                        <a:pt x="0" y="0"/>
                      </a:moveTo>
                      <a:lnTo>
                        <a:pt x="0" y="1918"/>
                      </a:lnTo>
                      <a:lnTo>
                        <a:pt x="1" y="1918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479600" y="3216960"/>
                  <a:ext cx="1080" cy="461160"/>
                </a:xfrm>
                <a:custGeom>
                  <a:avLst/>
                  <a:gdLst/>
                  <a:ahLst/>
                  <a:rect l="l" t="t" r="r" b="b"/>
                  <a:pathLst>
                    <a:path w="1" h="1918">
                      <a:moveTo>
                        <a:pt x="0" y="0"/>
                      </a:moveTo>
                      <a:lnTo>
                        <a:pt x="0" y="1918"/>
                      </a:lnTo>
                      <a:lnTo>
                        <a:pt x="1" y="1918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479600" y="3678120"/>
                  <a:ext cx="263520" cy="1440"/>
                </a:xfrm>
                <a:custGeom>
                  <a:avLst/>
                  <a:gdLst/>
                  <a:ahLst/>
                  <a:rect l="l" t="t" r="r" b="b"/>
                  <a:pathLst>
                    <a:path w="1097" h="0">
                      <a:moveTo>
                        <a:pt x="0" y="0"/>
                      </a:moveTo>
                      <a:lnTo>
                        <a:pt x="1096" y="0"/>
                      </a:lnTo>
                      <a:lnTo>
                        <a:pt x="1097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479600" y="3216960"/>
                  <a:ext cx="263520" cy="1440"/>
                </a:xfrm>
                <a:custGeom>
                  <a:avLst/>
                  <a:gdLst/>
                  <a:ahLst/>
                  <a:rect l="l" t="t" r="r" b="b"/>
                  <a:pathLst>
                    <a:path w="1096" h="0">
                      <a:moveTo>
                        <a:pt x="1096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743120" y="3447720"/>
                  <a:ext cx="531720" cy="1080"/>
                </a:xfrm>
                <a:custGeom>
                  <a:avLst/>
                  <a:gdLst/>
                  <a:ahLst/>
                  <a:rect l="l" t="t" r="r" b="b"/>
                  <a:pathLst>
                    <a:path w="2215" h="0">
                      <a:moveTo>
                        <a:pt x="0" y="0"/>
                      </a:moveTo>
                      <a:lnTo>
                        <a:pt x="2214" y="0"/>
                      </a:lnTo>
                      <a:lnTo>
                        <a:pt x="2215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275200" y="2788920"/>
                  <a:ext cx="273600" cy="658440"/>
                </a:xfrm>
                <a:custGeom>
                  <a:avLst/>
                  <a:gdLst/>
                  <a:ahLst/>
                  <a:rect l="l" t="t" r="r" b="b"/>
                  <a:pathLst>
                    <a:path w="1138" h="2744">
                      <a:moveTo>
                        <a:pt x="0" y="2744"/>
                      </a:moveTo>
                      <a:lnTo>
                        <a:pt x="1137" y="0"/>
                      </a:lnTo>
                      <a:lnTo>
                        <a:pt x="113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244520" y="3447720"/>
                  <a:ext cx="234720" cy="1080"/>
                </a:xfrm>
                <a:custGeom>
                  <a:avLst/>
                  <a:gdLst/>
                  <a:ahLst/>
                  <a:rect l="l" t="t" r="r" b="b"/>
                  <a:pathLst>
                    <a:path w="981" h="0">
                      <a:moveTo>
                        <a:pt x="981" y="0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244520" y="3058200"/>
                  <a:ext cx="1080" cy="856440"/>
                </a:xfrm>
                <a:custGeom>
                  <a:avLst/>
                  <a:gdLst/>
                  <a:ahLst/>
                  <a:rect l="l" t="t" r="r" b="b"/>
                  <a:pathLst>
                    <a:path w="1" h="3564">
                      <a:moveTo>
                        <a:pt x="0" y="0"/>
                      </a:moveTo>
                      <a:lnTo>
                        <a:pt x="0" y="3564"/>
                      </a:lnTo>
                      <a:lnTo>
                        <a:pt x="1" y="3564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914400" y="2993760"/>
                  <a:ext cx="330120" cy="197280"/>
                </a:xfrm>
                <a:custGeom>
                  <a:avLst/>
                  <a:gdLst/>
                  <a:ahLst/>
                  <a:rect l="l" t="t" r="r" b="b"/>
                  <a:pathLst>
                    <a:path w="1370" h="823">
                      <a:moveTo>
                        <a:pt x="1370" y="823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914400" y="3255840"/>
                  <a:ext cx="330120" cy="199080"/>
                </a:xfrm>
                <a:custGeom>
                  <a:avLst/>
                  <a:gdLst/>
                  <a:ahLst/>
                  <a:rect l="l" t="t" r="r" b="b"/>
                  <a:pathLst>
                    <a:path w="1370" h="823">
                      <a:moveTo>
                        <a:pt x="1370" y="823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914400" y="3519720"/>
                  <a:ext cx="330120" cy="197280"/>
                </a:xfrm>
                <a:custGeom>
                  <a:avLst/>
                  <a:gdLst/>
                  <a:ahLst/>
                  <a:rect l="l" t="t" r="r" b="b"/>
                  <a:pathLst>
                    <a:path w="1370" h="822">
                      <a:moveTo>
                        <a:pt x="1370" y="822"/>
                      </a:move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6114960" y="2795760"/>
              <a:ext cx="1150920" cy="1644480"/>
              <a:chOff x="6114960" y="2795760"/>
              <a:chExt cx="1150920" cy="1644480"/>
            </a:xfrm>
          </p:grpSpPr>
          <p:sp>
            <p:nvSpPr>
              <p:cNvPr id="158" name=""/>
              <p:cNvSpPr/>
              <p:nvPr/>
            </p:nvSpPr>
            <p:spPr>
              <a:xfrm>
                <a:off x="6114960" y="2795760"/>
                <a:ext cx="1150920" cy="1644480"/>
              </a:xfrm>
              <a:custGeom>
                <a:avLst/>
                <a:gdLst/>
                <a:ahLst/>
                <a:rect l="l" t="t" r="r" b="b"/>
                <a:pathLst>
                  <a:path w="4794" h="6842">
                    <a:moveTo>
                      <a:pt x="346" y="6695"/>
                    </a:moveTo>
                    <a:lnTo>
                      <a:pt x="991" y="6832"/>
                    </a:lnTo>
                    <a:lnTo>
                      <a:pt x="1651" y="6842"/>
                    </a:lnTo>
                    <a:lnTo>
                      <a:pt x="2300" y="6725"/>
                    </a:lnTo>
                    <a:lnTo>
                      <a:pt x="2916" y="6486"/>
                    </a:lnTo>
                    <a:lnTo>
                      <a:pt x="3473" y="6133"/>
                    </a:lnTo>
                    <a:lnTo>
                      <a:pt x="3953" y="5680"/>
                    </a:lnTo>
                    <a:lnTo>
                      <a:pt x="4337" y="5143"/>
                    </a:lnTo>
                    <a:lnTo>
                      <a:pt x="4612" y="4542"/>
                    </a:lnTo>
                    <a:lnTo>
                      <a:pt x="4765" y="3900"/>
                    </a:lnTo>
                    <a:lnTo>
                      <a:pt x="4794" y="3241"/>
                    </a:lnTo>
                    <a:lnTo>
                      <a:pt x="4694" y="2588"/>
                    </a:lnTo>
                    <a:lnTo>
                      <a:pt x="4472" y="1967"/>
                    </a:lnTo>
                    <a:lnTo>
                      <a:pt x="4135" y="1399"/>
                    </a:lnTo>
                    <a:lnTo>
                      <a:pt x="3695" y="907"/>
                    </a:lnTo>
                    <a:lnTo>
                      <a:pt x="3170" y="508"/>
                    </a:lnTo>
                    <a:lnTo>
                      <a:pt x="2577" y="217"/>
                    </a:lnTo>
                    <a:lnTo>
                      <a:pt x="1939" y="46"/>
                    </a:lnTo>
                    <a:lnTo>
                      <a:pt x="1281" y="0"/>
                    </a:lnTo>
                    <a:lnTo>
                      <a:pt x="627" y="81"/>
                    </a:lnTo>
                    <a:lnTo>
                      <a:pt x="0" y="287"/>
                    </a:lnTo>
                    <a:lnTo>
                      <a:pt x="1" y="287"/>
                    </a:ln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213960" y="3387960"/>
                <a:ext cx="460800" cy="460800"/>
              </a:xfrm>
              <a:custGeom>
                <a:avLst/>
                <a:gdLst/>
                <a:ahLst/>
                <a:rect l="l" t="t" r="r" b="b"/>
                <a:pathLst>
                  <a:path w="1918" h="1920">
                    <a:moveTo>
                      <a:pt x="1917" y="960"/>
                    </a:moveTo>
                    <a:lnTo>
                      <a:pt x="1844" y="593"/>
                    </a:lnTo>
                    <a:lnTo>
                      <a:pt x="1637" y="281"/>
                    </a:lnTo>
                    <a:lnTo>
                      <a:pt x="1326" y="73"/>
                    </a:lnTo>
                    <a:lnTo>
                      <a:pt x="959" y="0"/>
                    </a:lnTo>
                    <a:lnTo>
                      <a:pt x="591" y="73"/>
                    </a:lnTo>
                    <a:lnTo>
                      <a:pt x="281" y="281"/>
                    </a:lnTo>
                    <a:lnTo>
                      <a:pt x="73" y="593"/>
                    </a:lnTo>
                    <a:lnTo>
                      <a:pt x="0" y="960"/>
                    </a:lnTo>
                    <a:lnTo>
                      <a:pt x="73" y="1327"/>
                    </a:lnTo>
                    <a:lnTo>
                      <a:pt x="281" y="1638"/>
                    </a:lnTo>
                    <a:lnTo>
                      <a:pt x="591" y="1847"/>
                    </a:lnTo>
                    <a:lnTo>
                      <a:pt x="959" y="1920"/>
                    </a:lnTo>
                    <a:lnTo>
                      <a:pt x="1326" y="1847"/>
                    </a:lnTo>
                    <a:lnTo>
                      <a:pt x="1637" y="1638"/>
                    </a:lnTo>
                    <a:lnTo>
                      <a:pt x="1844" y="1327"/>
                    </a:lnTo>
                    <a:lnTo>
                      <a:pt x="1917" y="960"/>
                    </a:lnTo>
                    <a:lnTo>
                      <a:pt x="1918" y="960"/>
                    </a:ln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079880" y="1730520"/>
              <a:ext cx="2041560" cy="2043000"/>
              <a:chOff x="4079880" y="1730520"/>
              <a:chExt cx="2041560" cy="2043000"/>
            </a:xfrm>
          </p:grpSpPr>
          <p:sp>
            <p:nvSpPr>
              <p:cNvPr id="161" name=""/>
              <p:cNvSpPr/>
              <p:nvPr/>
            </p:nvSpPr>
            <p:spPr>
              <a:xfrm>
                <a:off x="4079880" y="1730520"/>
                <a:ext cx="2041560" cy="2043000"/>
              </a:xfrm>
              <a:custGeom>
                <a:avLst/>
                <a:gdLst/>
                <a:ahLst/>
                <a:rect l="l" t="t" r="r" b="b"/>
                <a:pathLst>
                  <a:path w="8494" h="8499">
                    <a:moveTo>
                      <a:pt x="8493" y="4250"/>
                    </a:moveTo>
                    <a:lnTo>
                      <a:pt x="8429" y="3511"/>
                    </a:lnTo>
                    <a:lnTo>
                      <a:pt x="8237" y="2796"/>
                    </a:lnTo>
                    <a:lnTo>
                      <a:pt x="7924" y="2125"/>
                    </a:lnTo>
                    <a:lnTo>
                      <a:pt x="7500" y="1518"/>
                    </a:lnTo>
                    <a:lnTo>
                      <a:pt x="6977" y="994"/>
                    </a:lnTo>
                    <a:lnTo>
                      <a:pt x="6370" y="570"/>
                    </a:lnTo>
                    <a:lnTo>
                      <a:pt x="5700" y="257"/>
                    </a:lnTo>
                    <a:lnTo>
                      <a:pt x="4985" y="65"/>
                    </a:lnTo>
                    <a:lnTo>
                      <a:pt x="4247" y="0"/>
                    </a:lnTo>
                    <a:lnTo>
                      <a:pt x="3510" y="65"/>
                    </a:lnTo>
                    <a:lnTo>
                      <a:pt x="2795" y="257"/>
                    </a:lnTo>
                    <a:lnTo>
                      <a:pt x="2123" y="570"/>
                    </a:lnTo>
                    <a:lnTo>
                      <a:pt x="1517" y="994"/>
                    </a:lnTo>
                    <a:lnTo>
                      <a:pt x="994" y="1518"/>
                    </a:lnTo>
                    <a:lnTo>
                      <a:pt x="569" y="2125"/>
                    </a:lnTo>
                    <a:lnTo>
                      <a:pt x="256" y="2796"/>
                    </a:lnTo>
                    <a:lnTo>
                      <a:pt x="65" y="3511"/>
                    </a:lnTo>
                    <a:lnTo>
                      <a:pt x="0" y="4250"/>
                    </a:lnTo>
                    <a:lnTo>
                      <a:pt x="65" y="4987"/>
                    </a:lnTo>
                    <a:lnTo>
                      <a:pt x="256" y="5703"/>
                    </a:lnTo>
                    <a:lnTo>
                      <a:pt x="569" y="6375"/>
                    </a:lnTo>
                    <a:lnTo>
                      <a:pt x="994" y="6981"/>
                    </a:lnTo>
                    <a:lnTo>
                      <a:pt x="1517" y="7505"/>
                    </a:lnTo>
                    <a:lnTo>
                      <a:pt x="2123" y="7930"/>
                    </a:lnTo>
                    <a:lnTo>
                      <a:pt x="2795" y="8243"/>
                    </a:lnTo>
                    <a:lnTo>
                      <a:pt x="3510" y="8435"/>
                    </a:lnTo>
                    <a:lnTo>
                      <a:pt x="4247" y="8499"/>
                    </a:lnTo>
                    <a:lnTo>
                      <a:pt x="4985" y="8435"/>
                    </a:lnTo>
                    <a:lnTo>
                      <a:pt x="5700" y="8243"/>
                    </a:lnTo>
                    <a:lnTo>
                      <a:pt x="6370" y="7930"/>
                    </a:lnTo>
                    <a:lnTo>
                      <a:pt x="6977" y="7505"/>
                    </a:lnTo>
                    <a:lnTo>
                      <a:pt x="7500" y="6981"/>
                    </a:lnTo>
                    <a:lnTo>
                      <a:pt x="7924" y="6375"/>
                    </a:lnTo>
                    <a:lnTo>
                      <a:pt x="8237" y="5703"/>
                    </a:lnTo>
                    <a:lnTo>
                      <a:pt x="8429" y="4987"/>
                    </a:lnTo>
                    <a:lnTo>
                      <a:pt x="8493" y="4250"/>
                    </a:lnTo>
                    <a:lnTo>
                      <a:pt x="8494" y="4250"/>
                    </a:lnTo>
                  </a:path>
                </a:pathLst>
              </a:custGeom>
              <a:noFill/>
              <a:ln w="28440">
                <a:solidFill>
                  <a:srgbClr val="33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523760" y="3391200"/>
                <a:ext cx="263520" cy="262440"/>
              </a:xfrm>
              <a:custGeom>
                <a:avLst/>
                <a:gdLst/>
                <a:ahLst/>
                <a:rect l="l" t="t" r="r" b="b"/>
                <a:pathLst>
                  <a:path w="1096" h="1096">
                    <a:moveTo>
                      <a:pt x="1095" y="548"/>
                    </a:moveTo>
                    <a:lnTo>
                      <a:pt x="1022" y="274"/>
                    </a:lnTo>
                    <a:lnTo>
                      <a:pt x="822" y="73"/>
                    </a:lnTo>
                    <a:lnTo>
                      <a:pt x="548" y="0"/>
                    </a:lnTo>
                    <a:lnTo>
                      <a:pt x="273" y="73"/>
                    </a:lnTo>
                    <a:lnTo>
                      <a:pt x="73" y="274"/>
                    </a:lnTo>
                    <a:lnTo>
                      <a:pt x="0" y="548"/>
                    </a:lnTo>
                    <a:lnTo>
                      <a:pt x="73" y="822"/>
                    </a:lnTo>
                    <a:lnTo>
                      <a:pt x="273" y="1023"/>
                    </a:lnTo>
                    <a:lnTo>
                      <a:pt x="548" y="1096"/>
                    </a:lnTo>
                    <a:lnTo>
                      <a:pt x="822" y="1023"/>
                    </a:lnTo>
                    <a:lnTo>
                      <a:pt x="1022" y="822"/>
                    </a:lnTo>
                    <a:lnTo>
                      <a:pt x="1095" y="548"/>
                    </a:lnTo>
                    <a:lnTo>
                      <a:pt x="1096" y="548"/>
                    </a:lnTo>
                  </a:path>
                </a:pathLst>
              </a:custGeom>
              <a:noFill/>
              <a:ln w="28440">
                <a:solidFill>
                  <a:srgbClr val="33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479600" y="2125800"/>
              <a:ext cx="263520" cy="2976120"/>
              <a:chOff x="1479600" y="2125800"/>
              <a:chExt cx="263520" cy="2976120"/>
            </a:xfrm>
          </p:grpSpPr>
          <p:sp>
            <p:nvSpPr>
              <p:cNvPr id="164" name=""/>
              <p:cNvSpPr/>
              <p:nvPr/>
            </p:nvSpPr>
            <p:spPr>
              <a:xfrm>
                <a:off x="1610280" y="2388240"/>
                <a:ext cx="1080" cy="828720"/>
              </a:xfrm>
              <a:custGeom>
                <a:avLst/>
                <a:gdLst/>
                <a:ahLst/>
                <a:rect l="l" t="t" r="r" b="b"/>
                <a:pathLst>
                  <a:path w="1" h="3450">
                    <a:moveTo>
                      <a:pt x="0" y="0"/>
                    </a:moveTo>
                    <a:lnTo>
                      <a:pt x="0" y="3450"/>
                    </a:lnTo>
                    <a:lnTo>
                      <a:pt x="1" y="345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79600" y="2125800"/>
                <a:ext cx="263520" cy="262440"/>
              </a:xfrm>
              <a:custGeom>
                <a:avLst/>
                <a:gdLst/>
                <a:ahLst/>
                <a:rect l="l" t="t" r="r" b="b"/>
                <a:pathLst>
                  <a:path w="1097" h="1097">
                    <a:moveTo>
                      <a:pt x="1096" y="549"/>
                    </a:moveTo>
                    <a:lnTo>
                      <a:pt x="1022" y="274"/>
                    </a:lnTo>
                    <a:lnTo>
                      <a:pt x="822" y="73"/>
                    </a:lnTo>
                    <a:lnTo>
                      <a:pt x="548" y="0"/>
                    </a:lnTo>
                    <a:lnTo>
                      <a:pt x="274" y="73"/>
                    </a:lnTo>
                    <a:lnTo>
                      <a:pt x="74" y="274"/>
                    </a:lnTo>
                    <a:lnTo>
                      <a:pt x="0" y="549"/>
                    </a:lnTo>
                    <a:lnTo>
                      <a:pt x="74" y="822"/>
                    </a:lnTo>
                    <a:lnTo>
                      <a:pt x="274" y="1023"/>
                    </a:lnTo>
                    <a:lnTo>
                      <a:pt x="548" y="1097"/>
                    </a:lnTo>
                    <a:lnTo>
                      <a:pt x="822" y="1023"/>
                    </a:lnTo>
                    <a:lnTo>
                      <a:pt x="1022" y="822"/>
                    </a:lnTo>
                    <a:lnTo>
                      <a:pt x="1096" y="549"/>
                    </a:lnTo>
                    <a:lnTo>
                      <a:pt x="1097" y="549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10280" y="3678480"/>
                <a:ext cx="1080" cy="1423440"/>
              </a:xfrm>
              <a:custGeom>
                <a:avLst/>
                <a:gdLst/>
                <a:ahLst/>
                <a:rect l="l" t="t" r="r" b="b"/>
                <a:pathLst>
                  <a:path w="1" h="5920">
                    <a:moveTo>
                      <a:pt x="0" y="0"/>
                    </a:moveTo>
                    <a:lnTo>
                      <a:pt x="0" y="5920"/>
                    </a:lnTo>
                    <a:lnTo>
                      <a:pt x="1" y="5920"/>
                    </a:ln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1611360" y="2257560"/>
              <a:ext cx="4635000" cy="1544040"/>
              <a:chOff x="1611360" y="2257560"/>
              <a:chExt cx="4635000" cy="1544040"/>
            </a:xfrm>
          </p:grpSpPr>
          <p:sp>
            <p:nvSpPr>
              <p:cNvPr id="168" name=""/>
              <p:cNvSpPr/>
              <p:nvPr/>
            </p:nvSpPr>
            <p:spPr>
              <a:xfrm>
                <a:off x="2751120" y="2629440"/>
                <a:ext cx="180000" cy="252360"/>
              </a:xfrm>
              <a:custGeom>
                <a:avLst/>
                <a:gdLst/>
                <a:ahLst/>
                <a:rect l="l" t="t" r="r" b="b"/>
                <a:pathLst>
                  <a:path w="754" h="1050">
                    <a:moveTo>
                      <a:pt x="0" y="1013"/>
                    </a:moveTo>
                    <a:lnTo>
                      <a:pt x="281" y="1050"/>
                    </a:lnTo>
                    <a:lnTo>
                      <a:pt x="544" y="942"/>
                    </a:lnTo>
                    <a:lnTo>
                      <a:pt x="717" y="717"/>
                    </a:lnTo>
                    <a:lnTo>
                      <a:pt x="754" y="436"/>
                    </a:lnTo>
                    <a:lnTo>
                      <a:pt x="645" y="174"/>
                    </a:lnTo>
                    <a:lnTo>
                      <a:pt x="420" y="0"/>
                    </a:lnTo>
                    <a:lnTo>
                      <a:pt x="421" y="0"/>
                    </a:lnTo>
                  </a:path>
                </a:pathLst>
              </a:custGeom>
              <a:noFill/>
              <a:ln w="28440">
                <a:solidFill>
                  <a:srgbClr val="bbbbb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1611360" y="2257560"/>
                <a:ext cx="4635000" cy="1544040"/>
                <a:chOff x="1611360" y="2257560"/>
                <a:chExt cx="4635000" cy="1544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611360" y="2257560"/>
                  <a:ext cx="684720" cy="284040"/>
                </a:xfrm>
                <a:custGeom>
                  <a:avLst/>
                  <a:gdLst/>
                  <a:ahLst/>
                  <a:rect l="l" t="t" r="r" b="b"/>
                  <a:pathLst>
                    <a:path w="2845" h="1180">
                      <a:moveTo>
                        <a:pt x="0" y="0"/>
                      </a:moveTo>
                      <a:lnTo>
                        <a:pt x="2844" y="1180"/>
                      </a:lnTo>
                      <a:lnTo>
                        <a:pt x="2845" y="1180"/>
                      </a:lnTo>
                    </a:path>
                  </a:pathLst>
                </a:custGeom>
                <a:noFill/>
                <a:ln w="28440">
                  <a:solidFill>
                    <a:srgbClr val="bbbbb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467080" y="2471040"/>
                  <a:ext cx="384840" cy="158400"/>
                </a:xfrm>
                <a:custGeom>
                  <a:avLst/>
                  <a:gdLst/>
                  <a:ahLst/>
                  <a:rect l="l" t="t" r="r" b="b"/>
                  <a:pathLst>
                    <a:path w="1602" h="665">
                      <a:moveTo>
                        <a:pt x="0" y="0"/>
                      </a:moveTo>
                      <a:lnTo>
                        <a:pt x="1601" y="665"/>
                      </a:lnTo>
                      <a:lnTo>
                        <a:pt x="1602" y="665"/>
                      </a:lnTo>
                    </a:path>
                  </a:pathLst>
                </a:custGeom>
                <a:noFill/>
                <a:ln w="28440">
                  <a:solidFill>
                    <a:srgbClr val="bbbbb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366640" y="2713320"/>
                  <a:ext cx="384480" cy="159840"/>
                </a:xfrm>
                <a:custGeom>
                  <a:avLst/>
                  <a:gdLst/>
                  <a:ahLst/>
                  <a:rect l="l" t="t" r="r" b="b"/>
                  <a:pathLst>
                    <a:path w="1603" h="665">
                      <a:moveTo>
                        <a:pt x="0" y="0"/>
                      </a:moveTo>
                      <a:lnTo>
                        <a:pt x="1602" y="665"/>
                      </a:lnTo>
                      <a:lnTo>
                        <a:pt x="1603" y="665"/>
                      </a:lnTo>
                    </a:path>
                  </a:pathLst>
                </a:custGeom>
                <a:noFill/>
                <a:ln w="28440">
                  <a:solidFill>
                    <a:srgbClr val="bbbbb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285640" y="2460600"/>
                  <a:ext cx="181080" cy="252360"/>
                </a:xfrm>
                <a:custGeom>
                  <a:avLst/>
                  <a:gdLst/>
                  <a:ahLst/>
                  <a:rect l="l" t="t" r="r" b="b"/>
                  <a:pathLst>
                    <a:path w="754" h="1050">
                      <a:moveTo>
                        <a:pt x="754" y="37"/>
                      </a:moveTo>
                      <a:lnTo>
                        <a:pt x="472" y="0"/>
                      </a:lnTo>
                      <a:lnTo>
                        <a:pt x="210" y="108"/>
                      </a:lnTo>
                      <a:lnTo>
                        <a:pt x="37" y="333"/>
                      </a:lnTo>
                      <a:lnTo>
                        <a:pt x="0" y="615"/>
                      </a:lnTo>
                      <a:lnTo>
                        <a:pt x="109" y="878"/>
                      </a:lnTo>
                      <a:lnTo>
                        <a:pt x="333" y="1050"/>
                      </a:lnTo>
                      <a:lnTo>
                        <a:pt x="334" y="1050"/>
                      </a:lnTo>
                    </a:path>
                  </a:pathLst>
                </a:custGeom>
                <a:noFill/>
                <a:ln w="28440">
                  <a:solidFill>
                    <a:srgbClr val="bbbbb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922840" y="2802600"/>
                  <a:ext cx="651240" cy="269640"/>
                </a:xfrm>
                <a:custGeom>
                  <a:avLst/>
                  <a:gdLst/>
                  <a:ahLst/>
                  <a:rect l="l" t="t" r="r" b="b"/>
                  <a:pathLst>
                    <a:path w="2712" h="1126">
                      <a:moveTo>
                        <a:pt x="0" y="0"/>
                      </a:moveTo>
                      <a:lnTo>
                        <a:pt x="2711" y="1126"/>
                      </a:lnTo>
                      <a:lnTo>
                        <a:pt x="2712" y="1126"/>
                      </a:lnTo>
                    </a:path>
                  </a:pathLst>
                </a:custGeom>
                <a:noFill/>
                <a:ln w="28440">
                  <a:solidFill>
                    <a:srgbClr val="bbbbb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565800" y="2992680"/>
                  <a:ext cx="180000" cy="252360"/>
                </a:xfrm>
                <a:custGeom>
                  <a:avLst/>
                  <a:gdLst/>
                  <a:ahLst/>
                  <a:rect l="l" t="t" r="r" b="b"/>
                  <a:pathLst>
                    <a:path w="753" h="1049">
                      <a:moveTo>
                        <a:pt x="753" y="37"/>
                      </a:moveTo>
                      <a:lnTo>
                        <a:pt x="472" y="0"/>
                      </a:lnTo>
                      <a:lnTo>
                        <a:pt x="210" y="108"/>
                      </a:lnTo>
                      <a:lnTo>
                        <a:pt x="37" y="333"/>
                      </a:lnTo>
                      <a:lnTo>
                        <a:pt x="0" y="614"/>
                      </a:lnTo>
                      <a:lnTo>
                        <a:pt x="108" y="876"/>
                      </a:lnTo>
                      <a:lnTo>
                        <a:pt x="333" y="1049"/>
                      </a:lnTo>
                      <a:lnTo>
                        <a:pt x="334" y="1049"/>
                      </a:lnTo>
                    </a:path>
                  </a:pathLst>
                </a:custGeom>
                <a:noFill/>
                <a:ln w="28440">
                  <a:solidFill>
                    <a:srgbClr val="bbbbb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646080" y="3245400"/>
                  <a:ext cx="1167480" cy="484560"/>
                </a:xfrm>
                <a:custGeom>
                  <a:avLst/>
                  <a:gdLst/>
                  <a:ahLst/>
                  <a:rect l="l" t="t" r="r" b="b"/>
                  <a:pathLst>
                    <a:path w="4861" h="2019">
                      <a:moveTo>
                        <a:pt x="0" y="0"/>
                      </a:moveTo>
                      <a:lnTo>
                        <a:pt x="4860" y="2019"/>
                      </a:lnTo>
                      <a:lnTo>
                        <a:pt x="4861" y="2019"/>
                      </a:lnTo>
                    </a:path>
                  </a:pathLst>
                </a:custGeom>
                <a:noFill/>
                <a:ln w="28440">
                  <a:solidFill>
                    <a:srgbClr val="bbbbb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745800" y="3001680"/>
                  <a:ext cx="1168560" cy="484200"/>
                </a:xfrm>
                <a:custGeom>
                  <a:avLst/>
                  <a:gdLst/>
                  <a:ahLst/>
                  <a:rect l="l" t="t" r="r" b="b"/>
                  <a:pathLst>
                    <a:path w="4862" h="2018">
                      <a:moveTo>
                        <a:pt x="0" y="0"/>
                      </a:moveTo>
                      <a:lnTo>
                        <a:pt x="4861" y="2018"/>
                      </a:lnTo>
                      <a:lnTo>
                        <a:pt x="4862" y="2018"/>
                      </a:lnTo>
                    </a:path>
                  </a:pathLst>
                </a:custGeom>
                <a:noFill/>
                <a:ln w="28440">
                  <a:solidFill>
                    <a:srgbClr val="bbbbb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167080" y="3536640"/>
                  <a:ext cx="947880" cy="1080"/>
                </a:xfrm>
                <a:custGeom>
                  <a:avLst/>
                  <a:gdLst/>
                  <a:ahLst/>
                  <a:rect l="l" t="t" r="r" b="b"/>
                  <a:pathLst>
                    <a:path w="3950" h="0">
                      <a:moveTo>
                        <a:pt x="0" y="0"/>
                      </a:moveTo>
                      <a:lnTo>
                        <a:pt x="3949" y="0"/>
                      </a:lnTo>
                      <a:lnTo>
                        <a:pt x="3950" y="0"/>
                      </a:lnTo>
                    </a:path>
                  </a:pathLst>
                </a:custGeom>
                <a:noFill/>
                <a:ln w="28440">
                  <a:solidFill>
                    <a:srgbClr val="bbbbb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167080" y="3800520"/>
                  <a:ext cx="947880" cy="1080"/>
                </a:xfrm>
                <a:custGeom>
                  <a:avLst/>
                  <a:gdLst/>
                  <a:ahLst/>
                  <a:rect l="l" t="t" r="r" b="b"/>
                  <a:pathLst>
                    <a:path w="3950" h="0">
                      <a:moveTo>
                        <a:pt x="0" y="0"/>
                      </a:moveTo>
                      <a:lnTo>
                        <a:pt x="3949" y="0"/>
                      </a:lnTo>
                      <a:lnTo>
                        <a:pt x="3950" y="0"/>
                      </a:lnTo>
                    </a:path>
                  </a:pathLst>
                </a:custGeom>
                <a:noFill/>
                <a:ln w="28440">
                  <a:solidFill>
                    <a:srgbClr val="bbbbb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914720" y="3485880"/>
                  <a:ext cx="252000" cy="50400"/>
                </a:xfrm>
                <a:custGeom>
                  <a:avLst/>
                  <a:gdLst/>
                  <a:ahLst/>
                  <a:rect l="l" t="t" r="r" b="b"/>
                  <a:pathLst>
                    <a:path w="1051" h="209">
                      <a:moveTo>
                        <a:pt x="0" y="0"/>
                      </a:moveTo>
                      <a:lnTo>
                        <a:pt x="514" y="156"/>
                      </a:lnTo>
                      <a:lnTo>
                        <a:pt x="1050" y="209"/>
                      </a:lnTo>
                      <a:lnTo>
                        <a:pt x="1051" y="209"/>
                      </a:lnTo>
                    </a:path>
                  </a:pathLst>
                </a:custGeom>
                <a:noFill/>
                <a:ln w="28440">
                  <a:solidFill>
                    <a:srgbClr val="bbbbb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813560" y="3729960"/>
                  <a:ext cx="353160" cy="70560"/>
                </a:xfrm>
                <a:custGeom>
                  <a:avLst/>
                  <a:gdLst/>
                  <a:ahLst/>
                  <a:rect l="l" t="t" r="r" b="b"/>
                  <a:pathLst>
                    <a:path w="1472" h="293">
                      <a:moveTo>
                        <a:pt x="0" y="0"/>
                      </a:moveTo>
                      <a:lnTo>
                        <a:pt x="721" y="219"/>
                      </a:lnTo>
                      <a:lnTo>
                        <a:pt x="1471" y="293"/>
                      </a:lnTo>
                      <a:lnTo>
                        <a:pt x="1472" y="293"/>
                      </a:lnTo>
                    </a:path>
                  </a:pathLst>
                </a:custGeom>
                <a:noFill/>
                <a:ln w="28440">
                  <a:solidFill>
                    <a:srgbClr val="bbbbb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115320" y="3536640"/>
                  <a:ext cx="131040" cy="263880"/>
                </a:xfrm>
                <a:custGeom>
                  <a:avLst/>
                  <a:gdLst/>
                  <a:ahLst/>
                  <a:rect l="l" t="t" r="r" b="b"/>
                  <a:pathLst>
                    <a:path w="548" h="1097">
                      <a:moveTo>
                        <a:pt x="0" y="1097"/>
                      </a:moveTo>
                      <a:lnTo>
                        <a:pt x="273" y="1023"/>
                      </a:lnTo>
                      <a:lnTo>
                        <a:pt x="474" y="822"/>
                      </a:lnTo>
                      <a:lnTo>
                        <a:pt x="548" y="549"/>
                      </a:lnTo>
                      <a:lnTo>
                        <a:pt x="474" y="274"/>
                      </a:lnTo>
                      <a:lnTo>
                        <a:pt x="273" y="74"/>
                      </a:lnTo>
                      <a:lnTo>
                        <a:pt x="0" y="0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28440">
                  <a:solidFill>
                    <a:srgbClr val="bbbbb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" name=""/>
            <p:cNvSpPr/>
            <p:nvPr/>
          </p:nvSpPr>
          <p:spPr>
            <a:xfrm>
              <a:off x="6872400" y="2565360"/>
              <a:ext cx="461880" cy="461880"/>
            </a:xfrm>
            <a:custGeom>
              <a:avLst/>
              <a:gdLst/>
              <a:ahLst/>
              <a:rect l="l" t="t" r="r" b="b"/>
              <a:pathLst>
                <a:path w="1919" h="1920">
                  <a:moveTo>
                    <a:pt x="1918" y="960"/>
                  </a:moveTo>
                  <a:lnTo>
                    <a:pt x="1845" y="593"/>
                  </a:lnTo>
                  <a:lnTo>
                    <a:pt x="1638" y="281"/>
                  </a:lnTo>
                  <a:lnTo>
                    <a:pt x="1326" y="73"/>
                  </a:lnTo>
                  <a:lnTo>
                    <a:pt x="960" y="0"/>
                  </a:lnTo>
                  <a:lnTo>
                    <a:pt x="593" y="73"/>
                  </a:lnTo>
                  <a:lnTo>
                    <a:pt x="281" y="281"/>
                  </a:lnTo>
                  <a:lnTo>
                    <a:pt x="73" y="593"/>
                  </a:lnTo>
                  <a:lnTo>
                    <a:pt x="0" y="960"/>
                  </a:lnTo>
                  <a:lnTo>
                    <a:pt x="73" y="1327"/>
                  </a:lnTo>
                  <a:lnTo>
                    <a:pt x="281" y="1638"/>
                  </a:lnTo>
                  <a:lnTo>
                    <a:pt x="593" y="1847"/>
                  </a:lnTo>
                  <a:lnTo>
                    <a:pt x="960" y="1920"/>
                  </a:lnTo>
                  <a:lnTo>
                    <a:pt x="1326" y="1847"/>
                  </a:lnTo>
                  <a:lnTo>
                    <a:pt x="1638" y="1638"/>
                  </a:lnTo>
                  <a:lnTo>
                    <a:pt x="1845" y="1327"/>
                  </a:lnTo>
                  <a:lnTo>
                    <a:pt x="1918" y="960"/>
                  </a:lnTo>
                  <a:lnTo>
                    <a:pt x="1919" y="96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590920" y="1371600"/>
            <a:ext cx="1531800" cy="1600200"/>
            <a:chOff x="2590920" y="1371600"/>
            <a:chExt cx="1531800" cy="1600200"/>
          </a:xfrm>
        </p:grpSpPr>
        <p:sp>
          <p:nvSpPr>
            <p:cNvPr id="185" name=""/>
            <p:cNvSpPr/>
            <p:nvPr/>
          </p:nvSpPr>
          <p:spPr>
            <a:xfrm flipH="1">
              <a:off x="3276720" y="1600200"/>
              <a:ext cx="117360" cy="137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1371600"/>
              <a:ext cx="1531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ev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7" name="perspective%20ensemble%20mouvement%20" descr=""/>
          <p:cNvPicPr/>
          <p:nvPr/>
        </p:nvPicPr>
        <p:blipFill>
          <a:blip r:embed="rId2"/>
          <a:srcRect l="6226" t="4816" r="5109" b="2160"/>
          <a:stretch/>
        </p:blipFill>
        <p:spPr>
          <a:xfrm>
            <a:off x="1828800" y="4191120"/>
            <a:ext cx="281952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–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Présentation du thème d’étude (Agrafeu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Maquette Virt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maquette%20virtuelle%20filaire" descr=""/>
          <p:cNvPicPr/>
          <p:nvPr/>
        </p:nvPicPr>
        <p:blipFill>
          <a:blip r:embed="rId2"/>
          <a:srcRect l="13299" t="3491" r="10034" b="3491"/>
          <a:stretch/>
        </p:blipFill>
        <p:spPr>
          <a:xfrm>
            <a:off x="1828800" y="1219320"/>
            <a:ext cx="556272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Plan d’ense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–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Présentation du thème d’étude (Agrafeu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lan%20d'ensemble" descr=""/>
          <p:cNvPicPr/>
          <p:nvPr/>
        </p:nvPicPr>
        <p:blipFill>
          <a:blip r:embed="rId2"/>
          <a:srcRect l="3752" t="2865" r="3039" b="1495"/>
          <a:stretch/>
        </p:blipFill>
        <p:spPr>
          <a:xfrm>
            <a:off x="1066680" y="1219320"/>
            <a:ext cx="7010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Rendu Réal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–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Présentation du thème d’étude (Agrafeu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rendu%20réaliste" descr=""/>
          <p:cNvPicPr/>
          <p:nvPr/>
        </p:nvPicPr>
        <p:blipFill>
          <a:blip r:embed="rId2"/>
          <a:srcRect l="3108" t="5188" r="3127" b="3125"/>
          <a:stretch/>
        </p:blipFill>
        <p:spPr>
          <a:xfrm>
            <a:off x="838080" y="1219320"/>
            <a:ext cx="746784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Animation du syst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 –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Présentation du thème d’étude (Agrafeus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1T13:17:02Z</dcterms:created>
  <dc:creator>FAURE Olivier</dc:creator>
  <dc:description/>
  <dc:language>en-US</dc:language>
  <cp:lastModifiedBy>leveiller</cp:lastModifiedBy>
  <cp:lastPrinted>2000-03-27T13:25:23Z</cp:lastPrinted>
  <dcterms:modified xsi:type="dcterms:W3CDTF">2001-05-10T12:30:14Z</dcterms:modified>
  <cp:revision>127</cp:revision>
  <dc:subject/>
  <dc:title>UTILISATION D ’UN MODELEUR VOLUMIQUE</dc:title>
</cp:coreProperties>
</file>