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00F9-B397-4364-A735-783B81F1A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Shap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5DDB9D4A-7F06-4A59-A49E-3D47521D13CD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8F54024F-2CAF-47F7-9EE6-E8300E0C0FB8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3BEC85D8-A855-489C-BD59-0D48BEE93219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4" descr=""/>
          <p:cNvPicPr/>
          <p:nvPr/>
        </p:nvPicPr>
        <p:blipFill>
          <a:blip r:embed="rId2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5" descr=""/>
          <p:cNvPicPr/>
          <p:nvPr/>
        </p:nvPicPr>
        <p:blipFill>
          <a:blip r:embed="rId3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79280" y="333360"/>
            <a:ext cx="4753080" cy="1295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Shape 1"/>
          <p:cNvSpPr/>
          <p:nvPr/>
        </p:nvSpPr>
        <p:spPr>
          <a:xfrm>
            <a:off x="4356000" y="436572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 3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395280" y="549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eq …. : Comment fonctionne une station de location de vélos électriqu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oneTexte 7"/>
          <p:cNvSpPr/>
          <p:nvPr/>
        </p:nvSpPr>
        <p:spPr>
          <a:xfrm>
            <a:off x="1908000" y="115920"/>
            <a:ext cx="7056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lgorithme de fonctionnement de la borne de recharge des vélos électr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tuation A: Fonctionnement pour la récupération d’un vé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ans un premier temps l’utilisateur doit badger pour avoir accès à l’écran tactile de la borne.  A partir des instructions, il devra choisir son vélo en le sélectionnant sur l’écra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 le choix du vélo est fait, le connecteur se déverrouille et l’utilisateur dispose de 30 secondes pour le retire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le vélo n’est pas retiré, alors le connecteur se verrouill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le vélo est retiré, le connecteur reste déverrouillé pour en accueillir un aut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tuation B: Fonctionnement pour la restitution d’un vé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orsque l’utilisateur désire restituer le vélo, il doit simplement le positionner sur un connecteur  lib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orsque le vélo est positionné sur le connecteur, celui-ci se verrouille et la borne recharge automatiquement la batter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oneTexte 86"/>
          <p:cNvSpPr/>
          <p:nvPr/>
        </p:nvSpPr>
        <p:spPr>
          <a:xfrm>
            <a:off x="1928880" y="214200"/>
            <a:ext cx="61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1: Compléter l’algorigramme de fonctionnement de la situation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7" descr=""/>
          <p:cNvPicPr/>
          <p:nvPr/>
        </p:nvPicPr>
        <p:blipFill>
          <a:blip r:embed="rId2"/>
          <a:stretch/>
        </p:blipFill>
        <p:spPr>
          <a:xfrm>
            <a:off x="6215040" y="928800"/>
            <a:ext cx="1571760" cy="102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6" name="Picture 88" descr=""/>
          <p:cNvPicPr/>
          <p:nvPr/>
        </p:nvPicPr>
        <p:blipFill>
          <a:blip r:embed="rId3"/>
          <a:stretch/>
        </p:blipFill>
        <p:spPr>
          <a:xfrm>
            <a:off x="6286680" y="2143080"/>
            <a:ext cx="1515960" cy="1000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7" name="Picture 89" descr=""/>
          <p:cNvPicPr/>
          <p:nvPr/>
        </p:nvPicPr>
        <p:blipFill>
          <a:blip r:embed="rId4"/>
          <a:stretch/>
        </p:blipFill>
        <p:spPr>
          <a:xfrm>
            <a:off x="5786280" y="3286080"/>
            <a:ext cx="2571840" cy="113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90" descr=""/>
          <p:cNvPicPr/>
          <p:nvPr/>
        </p:nvPicPr>
        <p:blipFill>
          <a:blip r:embed="rId5"/>
          <a:stretch/>
        </p:blipFill>
        <p:spPr>
          <a:xfrm>
            <a:off x="6500880" y="4572000"/>
            <a:ext cx="1111320" cy="2071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39" name="Group 54"/>
          <p:cNvGrpSpPr/>
          <p:nvPr/>
        </p:nvGrpSpPr>
        <p:grpSpPr>
          <a:xfrm>
            <a:off x="1928880" y="785880"/>
            <a:ext cx="3999960" cy="5643720"/>
            <a:chOff x="1928880" y="785880"/>
            <a:chExt cx="3999960" cy="5643720"/>
          </a:xfrm>
        </p:grpSpPr>
        <p:sp>
          <p:nvSpPr>
            <p:cNvPr id="140" name="AutoShape 55"/>
            <p:cNvSpPr/>
            <p:nvPr/>
          </p:nvSpPr>
          <p:spPr>
            <a:xfrm>
              <a:off x="2766960" y="155628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Calibri"/>
                </a:rPr>
                <a:t>Détection badge RFID, carte bancaire ou Smartphon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56"/>
            <p:cNvSpPr/>
            <p:nvPr/>
          </p:nvSpPr>
          <p:spPr>
            <a:xfrm>
              <a:off x="2988720" y="931320"/>
              <a:ext cx="1035000" cy="24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Déb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2939760" y="2493360"/>
              <a:ext cx="1207800" cy="35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58"/>
            <p:cNvSpPr/>
            <p:nvPr/>
          </p:nvSpPr>
          <p:spPr>
            <a:xfrm>
              <a:off x="2890080" y="4096800"/>
              <a:ext cx="1281600" cy="35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Déverrouiller connecteur du vélo choisi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59"/>
            <p:cNvSpPr/>
            <p:nvPr/>
          </p:nvSpPr>
          <p:spPr>
            <a:xfrm>
              <a:off x="4770720" y="5643720"/>
              <a:ext cx="1158120" cy="3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60"/>
            <p:cNvSpPr/>
            <p:nvPr/>
          </p:nvSpPr>
          <p:spPr>
            <a:xfrm>
              <a:off x="2766960" y="3305520"/>
              <a:ext cx="1478880" cy="4582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Calibri"/>
                </a:rPr>
                <a:t>Choix du vélo par l’utilisateur ?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61"/>
            <p:cNvSpPr/>
            <p:nvPr/>
          </p:nvSpPr>
          <p:spPr>
            <a:xfrm>
              <a:off x="2766960" y="470088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2"/>
            <p:cNvSpPr/>
            <p:nvPr/>
          </p:nvSpPr>
          <p:spPr>
            <a:xfrm>
              <a:off x="3506400" y="118152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63"/>
            <p:cNvSpPr/>
            <p:nvPr/>
          </p:nvSpPr>
          <p:spPr>
            <a:xfrm>
              <a:off x="3506400" y="21186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64"/>
            <p:cNvSpPr/>
            <p:nvPr/>
          </p:nvSpPr>
          <p:spPr>
            <a:xfrm>
              <a:off x="3506400" y="284724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3506400" y="376380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3506400" y="445104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506400" y="52632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3506400" y="60969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 flipH="1">
              <a:off x="1928880" y="6429240"/>
              <a:ext cx="15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70"/>
            <p:cNvSpPr/>
            <p:nvPr/>
          </p:nvSpPr>
          <p:spPr>
            <a:xfrm flipV="1">
              <a:off x="1928880" y="785880"/>
              <a:ext cx="0" cy="56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1"/>
            <p:cNvSpPr/>
            <p:nvPr/>
          </p:nvSpPr>
          <p:spPr>
            <a:xfrm>
              <a:off x="1928880" y="785880"/>
              <a:ext cx="15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72"/>
            <p:cNvSpPr/>
            <p:nvPr/>
          </p:nvSpPr>
          <p:spPr>
            <a:xfrm>
              <a:off x="3506400" y="785880"/>
              <a:ext cx="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73"/>
            <p:cNvGrpSpPr/>
            <p:nvPr/>
          </p:nvGrpSpPr>
          <p:grpSpPr>
            <a:xfrm>
              <a:off x="3506400" y="1361520"/>
              <a:ext cx="1429920" cy="478800"/>
              <a:chOff x="3506400" y="1361520"/>
              <a:chExt cx="1429920" cy="478800"/>
            </a:xfrm>
          </p:grpSpPr>
          <p:sp>
            <p:nvSpPr>
              <p:cNvPr id="159" name="Line 74"/>
              <p:cNvSpPr/>
              <p:nvPr/>
            </p:nvSpPr>
            <p:spPr>
              <a:xfrm>
                <a:off x="4245840" y="1840320"/>
                <a:ext cx="69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5"/>
              <p:cNvSpPr/>
              <p:nvPr/>
            </p:nvSpPr>
            <p:spPr>
              <a:xfrm flipV="1">
                <a:off x="4936320" y="136152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6"/>
              <p:cNvSpPr/>
              <p:nvPr/>
            </p:nvSpPr>
            <p:spPr>
              <a:xfrm flipH="1">
                <a:off x="3506400" y="1361520"/>
                <a:ext cx="142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77"/>
            <p:cNvSpPr/>
            <p:nvPr/>
          </p:nvSpPr>
          <p:spPr>
            <a:xfrm>
              <a:off x="3210480" y="207684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8"/>
            <p:cNvSpPr/>
            <p:nvPr/>
          </p:nvSpPr>
          <p:spPr>
            <a:xfrm>
              <a:off x="4245840" y="163980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79"/>
            <p:cNvSpPr/>
            <p:nvPr/>
          </p:nvSpPr>
          <p:spPr>
            <a:xfrm>
              <a:off x="3161520" y="378432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80"/>
            <p:cNvSpPr/>
            <p:nvPr/>
          </p:nvSpPr>
          <p:spPr>
            <a:xfrm>
              <a:off x="4270680" y="334728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1"/>
            <p:cNvSpPr/>
            <p:nvPr/>
          </p:nvSpPr>
          <p:spPr>
            <a:xfrm>
              <a:off x="4270680" y="4794840"/>
              <a:ext cx="301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2"/>
            <p:cNvSpPr/>
            <p:nvPr/>
          </p:nvSpPr>
          <p:spPr>
            <a:xfrm>
              <a:off x="4233960" y="353448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83"/>
            <p:cNvSpPr/>
            <p:nvPr/>
          </p:nvSpPr>
          <p:spPr>
            <a:xfrm flipV="1">
              <a:off x="5652000" y="1361520"/>
              <a:ext cx="0" cy="21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84"/>
            <p:cNvSpPr/>
            <p:nvPr/>
          </p:nvSpPr>
          <p:spPr>
            <a:xfrm flipH="1">
              <a:off x="4924440" y="136152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85"/>
            <p:cNvSpPr/>
            <p:nvPr/>
          </p:nvSpPr>
          <p:spPr>
            <a:xfrm flipH="1">
              <a:off x="4233600" y="497952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86"/>
            <p:cNvSpPr/>
            <p:nvPr/>
          </p:nvSpPr>
          <p:spPr>
            <a:xfrm>
              <a:off x="2766960" y="553464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Vélo récupéré ?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87"/>
            <p:cNvSpPr/>
            <p:nvPr/>
          </p:nvSpPr>
          <p:spPr>
            <a:xfrm>
              <a:off x="3129840" y="526320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88"/>
            <p:cNvCxnSpPr/>
            <p:nvPr/>
          </p:nvCxnSpPr>
          <p:spPr>
            <a:xfrm flipV="1">
              <a:off x="4878360" y="3853080"/>
              <a:ext cx="1080" cy="112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AutoShape 89"/>
            <p:cNvCxnSpPr/>
            <p:nvPr/>
          </p:nvCxnSpPr>
          <p:spPr>
            <a:xfrm flipH="1">
              <a:off x="3506040" y="3853080"/>
              <a:ext cx="137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" name="Text Box 90"/>
            <p:cNvSpPr/>
            <p:nvPr/>
          </p:nvSpPr>
          <p:spPr>
            <a:xfrm>
              <a:off x="3065040" y="615096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6" name="AutoShape 91"/>
            <p:cNvCxnSpPr/>
            <p:nvPr/>
          </p:nvCxnSpPr>
          <p:spPr>
            <a:xfrm>
              <a:off x="4244400" y="5816520"/>
              <a:ext cx="52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AutoShape 92"/>
            <p:cNvCxnSpPr/>
            <p:nvPr/>
          </p:nvCxnSpPr>
          <p:spPr>
            <a:xfrm>
              <a:off x="5362560" y="5956200"/>
              <a:ext cx="1080" cy="47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AutoShape 93"/>
            <p:cNvCxnSpPr/>
            <p:nvPr/>
          </p:nvCxnSpPr>
          <p:spPr>
            <a:xfrm flipH="1">
              <a:off x="3506040" y="6428880"/>
              <a:ext cx="1856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Text Box 94"/>
            <p:cNvSpPr/>
            <p:nvPr/>
          </p:nvSpPr>
          <p:spPr>
            <a:xfrm>
              <a:off x="4245840" y="564372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oneTexte 86"/>
          <p:cNvSpPr/>
          <p:nvPr/>
        </p:nvSpPr>
        <p:spPr>
          <a:xfrm>
            <a:off x="1857240" y="285840"/>
            <a:ext cx="614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2: Compléter l’algorigramme de fonctionnement de la situation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229392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82" name="Group 5"/>
          <p:cNvGrpSpPr/>
          <p:nvPr/>
        </p:nvGrpSpPr>
        <p:grpSpPr>
          <a:xfrm>
            <a:off x="1714320" y="570960"/>
            <a:ext cx="3929040" cy="5858640"/>
            <a:chOff x="1714320" y="570960"/>
            <a:chExt cx="3929040" cy="5858640"/>
          </a:xfrm>
        </p:grpSpPr>
        <p:sp>
          <p:nvSpPr>
            <p:cNvPr id="183" name="AutoShape 6"/>
            <p:cNvSpPr/>
            <p:nvPr/>
          </p:nvSpPr>
          <p:spPr>
            <a:xfrm>
              <a:off x="2677680" y="1635840"/>
              <a:ext cx="2021760" cy="7765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alibri"/>
                </a:rPr>
                <a:t>Vélo restitué?  </a:t>
              </a: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(Contact connecteur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2980800" y="772920"/>
              <a:ext cx="141552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Déb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2845800" y="2929680"/>
              <a:ext cx="165168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842920" y="5144400"/>
              <a:ext cx="175248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0"/>
            <p:cNvSpPr/>
            <p:nvPr/>
          </p:nvSpPr>
          <p:spPr>
            <a:xfrm>
              <a:off x="2677680" y="4051080"/>
              <a:ext cx="2021760" cy="6328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Connecteur verrouillé?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3688200" y="111816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3688200" y="24123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3688200" y="3418560"/>
              <a:ext cx="0" cy="63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3688200" y="4684320"/>
              <a:ext cx="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3688200" y="57168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3687840" y="1366560"/>
              <a:ext cx="1955520" cy="661680"/>
              <a:chOff x="3687840" y="1366560"/>
              <a:chExt cx="1955520" cy="661680"/>
            </a:xfrm>
          </p:grpSpPr>
          <p:sp>
            <p:nvSpPr>
              <p:cNvPr id="194" name="Line 17"/>
              <p:cNvSpPr/>
              <p:nvPr/>
            </p:nvSpPr>
            <p:spPr>
              <a:xfrm>
                <a:off x="4699440" y="2028240"/>
                <a:ext cx="94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18"/>
              <p:cNvSpPr/>
              <p:nvPr/>
            </p:nvSpPr>
            <p:spPr>
              <a:xfrm flipV="1">
                <a:off x="5643360" y="1366560"/>
                <a:ext cx="0" cy="66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 flipH="1">
                <a:off x="3687840" y="1366920"/>
                <a:ext cx="195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Text Box 20"/>
            <p:cNvSpPr/>
            <p:nvPr/>
          </p:nvSpPr>
          <p:spPr>
            <a:xfrm>
              <a:off x="3283920" y="2354400"/>
              <a:ext cx="3877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4699440" y="175068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216960" y="471276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4733280" y="410904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24"/>
            <p:cNvGrpSpPr/>
            <p:nvPr/>
          </p:nvGrpSpPr>
          <p:grpSpPr>
            <a:xfrm>
              <a:off x="3687840" y="2675160"/>
              <a:ext cx="1955520" cy="1698480"/>
              <a:chOff x="3687840" y="2675160"/>
              <a:chExt cx="1955520" cy="1698480"/>
            </a:xfrm>
          </p:grpSpPr>
          <p:sp>
            <p:nvSpPr>
              <p:cNvPr id="202" name="Line 25"/>
              <p:cNvSpPr/>
              <p:nvPr/>
            </p:nvSpPr>
            <p:spPr>
              <a:xfrm>
                <a:off x="4699440" y="4373640"/>
                <a:ext cx="94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26"/>
              <p:cNvSpPr/>
              <p:nvPr/>
            </p:nvSpPr>
            <p:spPr>
              <a:xfrm flipV="1">
                <a:off x="5643360" y="2675160"/>
                <a:ext cx="0" cy="16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7"/>
              <p:cNvSpPr/>
              <p:nvPr/>
            </p:nvSpPr>
            <p:spPr>
              <a:xfrm flipH="1">
                <a:off x="3687840" y="2675160"/>
                <a:ext cx="195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05" name="AutoShape 28"/>
            <p:cNvCxnSpPr/>
            <p:nvPr/>
          </p:nvCxnSpPr>
          <p:spPr>
            <a:xfrm>
              <a:off x="3687840" y="5633280"/>
              <a:ext cx="1080" cy="79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AutoShape 29"/>
            <p:cNvCxnSpPr/>
            <p:nvPr/>
          </p:nvCxnSpPr>
          <p:spPr>
            <a:xfrm flipH="1">
              <a:off x="1714320" y="6428880"/>
              <a:ext cx="197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AutoShape 30"/>
            <p:cNvCxnSpPr/>
            <p:nvPr/>
          </p:nvCxnSpPr>
          <p:spPr>
            <a:xfrm flipV="1">
              <a:off x="1714320" y="570960"/>
              <a:ext cx="1080" cy="58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AutoShape 31"/>
            <p:cNvCxnSpPr/>
            <p:nvPr/>
          </p:nvCxnSpPr>
          <p:spPr>
            <a:xfrm flipH="1">
              <a:off x="1714320" y="571320"/>
              <a:ext cx="197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ZoneTexte 86"/>
          <p:cNvSpPr/>
          <p:nvPr/>
        </p:nvSpPr>
        <p:spPr>
          <a:xfrm>
            <a:off x="1928880" y="428760"/>
            <a:ext cx="67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3: A l’aide de l’algorigramme de la situation A, compléter la modélisation du programme de fonctionn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2286000" y="1571760"/>
            <a:ext cx="611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dcterms:modified xsi:type="dcterms:W3CDTF">2021-01-29T10:09:28Z</dcterms:modified>
  <cp:revision>181</cp:revision>
  <dc:subject/>
  <dc:title>Name of presentation</dc:title>
</cp:coreProperties>
</file>