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D1524D-4250-4DF5-87E1-E65E218A35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Shape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7313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66680" y="4245120"/>
            <a:ext cx="7313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424512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640" y="424512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39520" y="205704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2360" y="205704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66680" y="424512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39520" y="424512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2360" y="424512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66680" y="2057040"/>
            <a:ext cx="73137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731376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5680" y="808200"/>
            <a:ext cx="868536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66680" y="424512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640" y="424512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45120"/>
            <a:ext cx="7313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5680" y="808200"/>
            <a:ext cx="86853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2057040"/>
            <a:ext cx="731376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92160" y="6408720"/>
            <a:ext cx="401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333333"/>
                </a:solidFill>
                <a:latin typeface="Arial"/>
              </a:rPr>
              <a:t>P </a:t>
            </a:r>
            <a:fld id="{4593F7D6-0EE1-4B8A-9E97-C19ACEBCBD79}" type="slidenum">
              <a:rPr b="1" lang="fr-FR" sz="18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s://www.youtube.com/watch?v=i8zV7gKe_tU" TargetMode="External"/><Relationship Id="rId3" Type="http://schemas.openxmlformats.org/officeDocument/2006/relationships/hyperlink" Target="https://www.youtube.com/watch?v=M8DRy6pyANU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324000" y="404640"/>
            <a:ext cx="4752720" cy="1295640"/>
          </a:xfrm>
          <a:prstGeom prst="rect">
            <a:avLst/>
          </a:prstGeom>
          <a:solidFill>
            <a:srgbClr val="92d050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Shape 1"/>
          <p:cNvSpPr/>
          <p:nvPr/>
        </p:nvSpPr>
        <p:spPr>
          <a:xfrm>
            <a:off x="4211640" y="4354560"/>
            <a:ext cx="5276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 u="sng">
                <a:solidFill>
                  <a:srgbClr val="ffffff"/>
                </a:solidFill>
                <a:uFillTx/>
                <a:latin typeface="Arial"/>
                <a:ea typeface="DejaVu Sans"/>
              </a:rPr>
              <a:t>Séance 1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  <a:ea typeface="DejaVu Sans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Shape 2"/>
          <p:cNvSpPr/>
          <p:nvPr/>
        </p:nvSpPr>
        <p:spPr>
          <a:xfrm>
            <a:off x="542880" y="2914560"/>
            <a:ext cx="815328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Recharger et se déplac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n vélo électrique dans les vil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5435640" y="115920"/>
            <a:ext cx="3384360" cy="2063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3"/>
          <a:stretch/>
        </p:blipFill>
        <p:spPr>
          <a:xfrm>
            <a:off x="611280" y="4365720"/>
            <a:ext cx="4105080" cy="2157480"/>
          </a:xfrm>
          <a:prstGeom prst="rect">
            <a:avLst/>
          </a:prstGeom>
          <a:ln w="0">
            <a:noFill/>
          </a:ln>
        </p:spPr>
      </p:pic>
      <p:sp>
        <p:nvSpPr>
          <p:cNvPr id="52" name="ZoneTexte 5"/>
          <p:cNvSpPr/>
          <p:nvPr/>
        </p:nvSpPr>
        <p:spPr>
          <a:xfrm>
            <a:off x="395280" y="549360"/>
            <a:ext cx="453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Seq …. : comment fonctionne une station de location de vélos électriques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1727280" y="260280"/>
            <a:ext cx="712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rincipe de fonctionnement d’une station de location de vé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ZoneTexte 4"/>
          <p:cNvSpPr/>
          <p:nvPr/>
        </p:nvSpPr>
        <p:spPr>
          <a:xfrm>
            <a:off x="2050920" y="1754280"/>
            <a:ext cx="648036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Visionner les deux vidéos qui vont suivre, pendant les vidéos, prendre des notes (très brève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2"/>
              </a:rPr>
              <a:t>https://www.youtube.com/watch?v=i8zV7gKe_tU</a:t>
            </a:r>
            <a:r>
              <a:rPr b="0" lang="fr-FR" sz="1400" spc="-1" strike="noStrike">
                <a:solidFill>
                  <a:srgbClr val="22228b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3"/>
              </a:rPr>
              <a:t>https://www.youtube.com/watch?v=M8DRy6pyANU</a:t>
            </a:r>
            <a:r>
              <a:rPr b="0" lang="fr-FR" sz="1400" spc="-1" strike="noStrike">
                <a:solidFill>
                  <a:srgbClr val="22228b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ZoneTexte 3"/>
          <p:cNvSpPr/>
          <p:nvPr/>
        </p:nvSpPr>
        <p:spPr>
          <a:xfrm>
            <a:off x="1979640" y="33336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incipe de fonctionnement du système de verrouillag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Image 5" descr=""/>
          <p:cNvPicPr/>
          <p:nvPr/>
        </p:nvPicPr>
        <p:blipFill>
          <a:blip r:embed="rId2"/>
          <a:stretch/>
        </p:blipFill>
        <p:spPr>
          <a:xfrm>
            <a:off x="5796000" y="1052640"/>
            <a:ext cx="2257560" cy="1199880"/>
          </a:xfrm>
          <a:prstGeom prst="rect">
            <a:avLst/>
          </a:prstGeom>
          <a:ln w="0">
            <a:noFill/>
          </a:ln>
        </p:spPr>
      </p:pic>
      <p:sp>
        <p:nvSpPr>
          <p:cNvPr id="57" name="ZoneTexte 6"/>
          <p:cNvSpPr/>
          <p:nvPr/>
        </p:nvSpPr>
        <p:spPr>
          <a:xfrm>
            <a:off x="1959120" y="1201680"/>
            <a:ext cx="3457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e </a:t>
            </a:r>
            <a:r>
              <a:rPr b="0" lang="fr-FR" sz="2000" spc="-1" strike="noStrike">
                <a:solidFill>
                  <a:srgbClr val="c00000"/>
                </a:solidFill>
                <a:latin typeface="Arial"/>
                <a:ea typeface="Arial"/>
              </a:rPr>
              <a:t>connecteur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est fixé sur le vélo, il est relié par des câbles à la batterie du vél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e </a:t>
            </a:r>
            <a:r>
              <a:rPr b="0" lang="fr-FR" sz="2000" spc="-1" strike="noStrike">
                <a:solidFill>
                  <a:srgbClr val="c00000"/>
                </a:solidFill>
                <a:latin typeface="Arial"/>
                <a:ea typeface="Arial"/>
              </a:rPr>
              <a:t>module de connexion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: c’est un élément fixé sur la poutre dans la station, dans laquelle vient s’accrocher le connecteu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Image 8" descr=""/>
          <p:cNvPicPr/>
          <p:nvPr/>
        </p:nvPicPr>
        <p:blipFill>
          <a:blip r:embed="rId3"/>
          <a:stretch/>
        </p:blipFill>
        <p:spPr>
          <a:xfrm>
            <a:off x="5632560" y="4076640"/>
            <a:ext cx="3105000" cy="800280"/>
          </a:xfrm>
          <a:prstGeom prst="rect">
            <a:avLst/>
          </a:prstGeom>
          <a:ln w="0">
            <a:noFill/>
          </a:ln>
        </p:spPr>
      </p:pic>
      <p:pic>
        <p:nvPicPr>
          <p:cNvPr id="59" name="Image 1" descr=""/>
          <p:cNvPicPr/>
          <p:nvPr/>
        </p:nvPicPr>
        <p:blipFill>
          <a:blip r:embed="rId4"/>
          <a:stretch/>
        </p:blipFill>
        <p:spPr>
          <a:xfrm>
            <a:off x="4413240" y="5956200"/>
            <a:ext cx="4324320" cy="22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ZoneTexte 3"/>
          <p:cNvSpPr/>
          <p:nvPr/>
        </p:nvSpPr>
        <p:spPr>
          <a:xfrm>
            <a:off x="2124000" y="266760"/>
            <a:ext cx="669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Verrouillag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: le verrouillage s'effectue grâce à un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Arial"/>
              </a:rPr>
              <a:t>gâche électriqu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: la présentation de la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Arial"/>
              </a:rPr>
              <a:t>tête du connecteur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dans le système de connexion actionne automatiquement un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Arial"/>
              </a:rPr>
              <a:t>électroaima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qui déplace en translation le doigt qui vient se loger dans le connecteur, immobilisant celui-c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Image 4" descr=""/>
          <p:cNvPicPr/>
          <p:nvPr/>
        </p:nvPicPr>
        <p:blipFill>
          <a:blip r:embed="rId2"/>
          <a:stretch/>
        </p:blipFill>
        <p:spPr>
          <a:xfrm>
            <a:off x="2124000" y="2198520"/>
            <a:ext cx="3116160" cy="2087640"/>
          </a:xfrm>
          <a:prstGeom prst="rect">
            <a:avLst/>
          </a:prstGeom>
          <a:ln w="0">
            <a:noFill/>
          </a:ln>
        </p:spPr>
      </p:pic>
      <p:cxnSp>
        <p:nvCxnSpPr>
          <p:cNvPr id="62" name="Connecteur droit avec flèche 8"/>
          <p:cNvCxnSpPr/>
          <p:nvPr/>
        </p:nvCxnSpPr>
        <p:spPr>
          <a:xfrm flipH="1" flipV="1">
            <a:off x="4349880" y="3337920"/>
            <a:ext cx="2310120" cy="3690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3" name="Connecteur droit avec flèche 10"/>
          <p:cNvCxnSpPr/>
          <p:nvPr/>
        </p:nvCxnSpPr>
        <p:spPr>
          <a:xfrm flipH="1">
            <a:off x="4528440" y="2574720"/>
            <a:ext cx="2059560" cy="5324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4" name="ZoneTexte 14"/>
          <p:cNvSpPr/>
          <p:nvPr/>
        </p:nvSpPr>
        <p:spPr>
          <a:xfrm>
            <a:off x="6867360" y="222084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dule de connex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15"/>
          <p:cNvSpPr/>
          <p:nvPr/>
        </p:nvSpPr>
        <p:spPr>
          <a:xfrm>
            <a:off x="6810480" y="3451320"/>
            <a:ext cx="144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necte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Image 18" descr=""/>
          <p:cNvPicPr/>
          <p:nvPr/>
        </p:nvPicPr>
        <p:blipFill>
          <a:blip r:embed="rId3"/>
          <a:stretch/>
        </p:blipFill>
        <p:spPr>
          <a:xfrm>
            <a:off x="4529160" y="4662360"/>
            <a:ext cx="2087640" cy="2089440"/>
          </a:xfrm>
          <a:prstGeom prst="rect">
            <a:avLst/>
          </a:prstGeom>
          <a:ln w="0">
            <a:noFill/>
          </a:ln>
        </p:spPr>
      </p:pic>
      <p:sp>
        <p:nvSpPr>
          <p:cNvPr id="67" name="ZoneTexte 19"/>
          <p:cNvSpPr/>
          <p:nvPr/>
        </p:nvSpPr>
        <p:spPr>
          <a:xfrm>
            <a:off x="1886040" y="4673520"/>
            <a:ext cx="637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Principe de fonctionnement de la gâche électriq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20"/>
          <p:cNvSpPr/>
          <p:nvPr/>
        </p:nvSpPr>
        <p:spPr>
          <a:xfrm>
            <a:off x="1895760" y="5251320"/>
            <a:ext cx="2444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oigt mobile 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ranslation qui vi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 loger dans 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necte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1"/>
          <p:cNvSpPr/>
          <p:nvPr/>
        </p:nvSpPr>
        <p:spPr>
          <a:xfrm>
            <a:off x="6953400" y="5073480"/>
            <a:ext cx="202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rps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électroaimant, fixé sur le module de connex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0" name="Connecteur droit avec flèche 24"/>
          <p:cNvCxnSpPr/>
          <p:nvPr/>
        </p:nvCxnSpPr>
        <p:spPr>
          <a:xfrm flipH="1">
            <a:off x="5940000" y="5325840"/>
            <a:ext cx="1037520" cy="1670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1" name="Connecteur droit avec flèche 26"/>
          <p:cNvCxnSpPr/>
          <p:nvPr/>
        </p:nvCxnSpPr>
        <p:spPr>
          <a:xfrm>
            <a:off x="4079520" y="5449680"/>
            <a:ext cx="607320" cy="3639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72" name="Image 1" descr=""/>
          <p:cNvPicPr/>
          <p:nvPr/>
        </p:nvPicPr>
        <p:blipFill>
          <a:blip r:embed="rId4"/>
          <a:stretch/>
        </p:blipFill>
        <p:spPr>
          <a:xfrm>
            <a:off x="4297320" y="4192560"/>
            <a:ext cx="4324320" cy="22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1908000" y="549360"/>
            <a:ext cx="6985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Recharge de la batterie du vélo électriqu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: la présence du connecteur dans le module de connexion met en charge automatiquement la batterie du vélo électriqu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Déverrouillag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: il s'effectue à partir du lecteur de la borne, basé sur le principe de présentation d'un badge RFID, d'une carte bancaire ou d'un QR co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Image 6" descr=""/>
          <p:cNvPicPr/>
          <p:nvPr/>
        </p:nvPicPr>
        <p:blipFill>
          <a:blip r:embed="rId2"/>
          <a:stretch/>
        </p:blipFill>
        <p:spPr>
          <a:xfrm>
            <a:off x="3492360" y="3368520"/>
            <a:ext cx="3229200" cy="2333880"/>
          </a:xfrm>
          <a:prstGeom prst="rect">
            <a:avLst/>
          </a:prstGeom>
          <a:ln w="0">
            <a:noFill/>
          </a:ln>
        </p:spPr>
      </p:pic>
      <p:pic>
        <p:nvPicPr>
          <p:cNvPr id="75" name="Image 1" descr=""/>
          <p:cNvPicPr/>
          <p:nvPr/>
        </p:nvPicPr>
        <p:blipFill>
          <a:blip r:embed="rId3"/>
          <a:stretch/>
        </p:blipFill>
        <p:spPr>
          <a:xfrm>
            <a:off x="4583160" y="6194520"/>
            <a:ext cx="4324320" cy="22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768320" y="631800"/>
            <a:ext cx="712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rincipe de fonctionnement d’une station de location de vé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ZoneTexte 6"/>
          <p:cNvSpPr/>
          <p:nvPr/>
        </p:nvSpPr>
        <p:spPr>
          <a:xfrm>
            <a:off x="1979640" y="1773360"/>
            <a:ext cx="6708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'usager présente soit un badge RFID, soit une carte bancaire, soit un QR code affiché sur l'écran de son smartphone devant le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Arial"/>
              </a:rPr>
              <a:t>lecteur de la born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. L'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Arial"/>
              </a:rPr>
              <a:t>écran tactil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ffiche les vélos électriques disponibles, l'usager choisit un vélo à partir de l'écran. Le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Arial"/>
              </a:rPr>
              <a:t>connecteur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, fixé sur le vélo, est déverrouillé du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Arial"/>
              </a:rPr>
              <a:t>module de connexion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t l'usager à 30 secondes pour retirer le vélo qu'il veut utilis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5T08:52:31Z</dcterms:created>
  <dc:creator>guerin</dc:creator>
  <dc:description/>
  <dc:language>en-US</dc:language>
  <cp:lastModifiedBy>Xavier Birocheau</cp:lastModifiedBy>
  <dcterms:modified xsi:type="dcterms:W3CDTF">2021-02-18T09:39:26Z</dcterms:modified>
  <cp:revision>168</cp:revision>
  <dc:subject/>
  <dc:title>Name of presentation</dc:title>
</cp:coreProperties>
</file>