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Aide.pps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CGM-TU-2009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/ Documents Techniqu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>
            <a:hlinkClick r:id="" action="ppaction://hlinkshowjump?jump=endshow"/>
          </p:cNvPr>
          <p:cNvSpPr/>
          <p:nvPr/>
        </p:nvSpPr>
        <p:spPr>
          <a:xfrm>
            <a:off x="8854920" y="44280"/>
            <a:ext cx="214560" cy="228600"/>
          </a:xfrm>
          <a:custGeom>
            <a:avLst/>
            <a:gdLst>
              <a:gd name="textAreaLeft" fmla="*/ 13680 w 214560"/>
              <a:gd name="textAreaRight" fmla="*/ 200880 w 214560"/>
              <a:gd name="textAreaTop" fmla="*/ 13680 h 228600"/>
              <a:gd name="textAreaBottom" fmla="*/ 214920 h 228600"/>
            </a:gdLst>
            <a:ahLst/>
            <a:rect l="textAreaLeft" t="textAreaTop" r="textAreaRight" b="textAreaBottom"/>
            <a:pathLst>
              <a:path w="21600" h="23011">
                <a:moveTo>
                  <a:pt x="0" y="0"/>
                </a:moveTo>
                <a:lnTo>
                  <a:pt x="21600" y="0"/>
                </a:lnTo>
                <a:lnTo>
                  <a:pt x="21600" y="23011"/>
                </a:lnTo>
                <a:lnTo>
                  <a:pt x="0" y="23011"/>
                </a:lnTo>
                <a:close/>
              </a:path>
              <a:path fill="lightenLess" w="21600" h="230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11">
                <a:moveTo>
                  <a:pt x="21600" y="0"/>
                </a:moveTo>
                <a:lnTo>
                  <a:pt x="21600" y="23011"/>
                </a:lnTo>
                <a:lnTo>
                  <a:pt x="20200" y="21611"/>
                </a:lnTo>
                <a:lnTo>
                  <a:pt x="20200" y="1400"/>
                </a:lnTo>
                <a:close/>
              </a:path>
              <a:path fill="darkenLess" w="21600" h="23011">
                <a:moveTo>
                  <a:pt x="21600" y="23011"/>
                </a:moveTo>
                <a:lnTo>
                  <a:pt x="0" y="23011"/>
                </a:lnTo>
                <a:lnTo>
                  <a:pt x="1400" y="21611"/>
                </a:lnTo>
                <a:lnTo>
                  <a:pt x="20200" y="21611"/>
                </a:lnTo>
                <a:close/>
              </a:path>
              <a:path fill="lighten" w="21600" h="23011">
                <a:moveTo>
                  <a:pt x="0" y="230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1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772400" y="44280"/>
            <a:ext cx="262080" cy="228600"/>
          </a:xfrm>
          <a:custGeom>
            <a:avLst/>
            <a:gdLst>
              <a:gd name="textAreaLeft" fmla="*/ 14760 w 262080"/>
              <a:gd name="textAreaRight" fmla="*/ 247320 w 262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4758" h="21600">
                <a:moveTo>
                  <a:pt x="0" y="0"/>
                </a:moveTo>
                <a:lnTo>
                  <a:pt x="24758" y="0"/>
                </a:lnTo>
                <a:lnTo>
                  <a:pt x="24758" y="21600"/>
                </a:lnTo>
                <a:lnTo>
                  <a:pt x="0" y="21600"/>
                </a:lnTo>
                <a:close/>
              </a:path>
              <a:path fill="lightenLess" w="24758" h="21600">
                <a:moveTo>
                  <a:pt x="0" y="0"/>
                </a:moveTo>
                <a:lnTo>
                  <a:pt x="24758" y="0"/>
                </a:lnTo>
                <a:lnTo>
                  <a:pt x="23358" y="1400"/>
                </a:lnTo>
                <a:lnTo>
                  <a:pt x="1400" y="1400"/>
                </a:lnTo>
                <a:close/>
              </a:path>
              <a:path fill="darken" w="24758" h="21600">
                <a:moveTo>
                  <a:pt x="24758" y="0"/>
                </a:moveTo>
                <a:lnTo>
                  <a:pt x="24758" y="21600"/>
                </a:lnTo>
                <a:lnTo>
                  <a:pt x="23358" y="20200"/>
                </a:lnTo>
                <a:lnTo>
                  <a:pt x="23358" y="1400"/>
                </a:lnTo>
                <a:close/>
              </a:path>
              <a:path fill="darkenLess" w="24758" h="21600">
                <a:moveTo>
                  <a:pt x="24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58" y="20200"/>
                </a:lnTo>
                <a:close/>
              </a:path>
              <a:path fill="lighten" w="24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58" h="21600">
                <a:moveTo>
                  <a:pt x="12379" y="3837"/>
                </a:moveTo>
                <a:lnTo>
                  <a:pt x="14956" y="6448"/>
                </a:lnTo>
                <a:lnTo>
                  <a:pt x="14956" y="4707"/>
                </a:lnTo>
                <a:lnTo>
                  <a:pt x="16731" y="4707"/>
                </a:lnTo>
                <a:lnTo>
                  <a:pt x="16731" y="8224"/>
                </a:lnTo>
                <a:lnTo>
                  <a:pt x="19342" y="10800"/>
                </a:lnTo>
                <a:lnTo>
                  <a:pt x="17689" y="10800"/>
                </a:lnTo>
                <a:lnTo>
                  <a:pt x="17689" y="17989"/>
                </a:lnTo>
                <a:lnTo>
                  <a:pt x="7070" y="17989"/>
                </a:lnTo>
                <a:lnTo>
                  <a:pt x="7070" y="10800"/>
                </a:lnTo>
                <a:lnTo>
                  <a:pt x="5416" y="10800"/>
                </a:lnTo>
                <a:close/>
              </a:path>
              <a:path fill="darkenLess" w="24758" h="21600">
                <a:moveTo>
                  <a:pt x="14956" y="6448"/>
                </a:moveTo>
                <a:lnTo>
                  <a:pt x="14956" y="4707"/>
                </a:lnTo>
                <a:lnTo>
                  <a:pt x="16731" y="4707"/>
                </a:lnTo>
                <a:lnTo>
                  <a:pt x="16731" y="8224"/>
                </a:lnTo>
                <a:close/>
              </a:path>
              <a:path fill="darkenLess" w="24758" h="21600">
                <a:moveTo>
                  <a:pt x="11457" y="14299"/>
                </a:moveTo>
                <a:lnTo>
                  <a:pt x="13302" y="14299"/>
                </a:lnTo>
                <a:lnTo>
                  <a:pt x="13302" y="17989"/>
                </a:lnTo>
                <a:lnTo>
                  <a:pt x="17689" y="17989"/>
                </a:lnTo>
                <a:lnTo>
                  <a:pt x="17689" y="10800"/>
                </a:lnTo>
                <a:lnTo>
                  <a:pt x="7070" y="10800"/>
                </a:lnTo>
                <a:lnTo>
                  <a:pt x="7070" y="17989"/>
                </a:lnTo>
                <a:lnTo>
                  <a:pt x="11457" y="17989"/>
                </a:lnTo>
                <a:close/>
              </a:path>
            </a:pathLst>
          </a:cu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44080" y="44280"/>
            <a:ext cx="244440" cy="228600"/>
          </a:xfrm>
          <a:custGeom>
            <a:avLst/>
            <a:gdLst>
              <a:gd name="textAreaLeft" fmla="*/ 14760 w 244440"/>
              <a:gd name="textAreaRight" fmla="*/ 229680 w 244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3094" h="21600">
                <a:moveTo>
                  <a:pt x="0" y="0"/>
                </a:moveTo>
                <a:lnTo>
                  <a:pt x="23094" y="0"/>
                </a:lnTo>
                <a:lnTo>
                  <a:pt x="23094" y="21600"/>
                </a:lnTo>
                <a:lnTo>
                  <a:pt x="0" y="21600"/>
                </a:lnTo>
                <a:close/>
              </a:path>
              <a:path fill="lightenLess" w="23094" h="21600">
                <a:moveTo>
                  <a:pt x="0" y="0"/>
                </a:moveTo>
                <a:lnTo>
                  <a:pt x="23094" y="0"/>
                </a:lnTo>
                <a:lnTo>
                  <a:pt x="21694" y="1400"/>
                </a:lnTo>
                <a:lnTo>
                  <a:pt x="1400" y="1400"/>
                </a:lnTo>
                <a:close/>
              </a:path>
              <a:path fill="darken" w="23094" h="21600">
                <a:moveTo>
                  <a:pt x="23094" y="0"/>
                </a:moveTo>
                <a:lnTo>
                  <a:pt x="23094" y="21600"/>
                </a:lnTo>
                <a:lnTo>
                  <a:pt x="21694" y="20200"/>
                </a:lnTo>
                <a:lnTo>
                  <a:pt x="21694" y="1400"/>
                </a:lnTo>
                <a:close/>
              </a:path>
              <a:path fill="darkenLess" w="23094" h="21600">
                <a:moveTo>
                  <a:pt x="230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4" y="20200"/>
                </a:lnTo>
                <a:close/>
              </a:path>
              <a:path fill="lighten" w="230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4" h="21600">
                <a:moveTo>
                  <a:pt x="4541" y="3794"/>
                </a:moveTo>
                <a:lnTo>
                  <a:pt x="18554" y="10800"/>
                </a:lnTo>
                <a:lnTo>
                  <a:pt x="4541" y="178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56440" y="44280"/>
            <a:ext cx="244440" cy="228600"/>
          </a:xfrm>
          <a:custGeom>
            <a:avLst/>
            <a:gdLst>
              <a:gd name="textAreaLeft" fmla="*/ 14760 w 244440"/>
              <a:gd name="textAreaRight" fmla="*/ 229680 w 244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3094" h="21600">
                <a:moveTo>
                  <a:pt x="0" y="0"/>
                </a:moveTo>
                <a:lnTo>
                  <a:pt x="23094" y="0"/>
                </a:lnTo>
                <a:lnTo>
                  <a:pt x="23094" y="21600"/>
                </a:lnTo>
                <a:lnTo>
                  <a:pt x="0" y="21600"/>
                </a:lnTo>
                <a:close/>
              </a:path>
              <a:path fill="lightenLess" w="23094" h="21600">
                <a:moveTo>
                  <a:pt x="0" y="0"/>
                </a:moveTo>
                <a:lnTo>
                  <a:pt x="23094" y="0"/>
                </a:lnTo>
                <a:lnTo>
                  <a:pt x="21694" y="1400"/>
                </a:lnTo>
                <a:lnTo>
                  <a:pt x="1400" y="1400"/>
                </a:lnTo>
                <a:close/>
              </a:path>
              <a:path fill="darken" w="23094" h="21600">
                <a:moveTo>
                  <a:pt x="23094" y="0"/>
                </a:moveTo>
                <a:lnTo>
                  <a:pt x="23094" y="21600"/>
                </a:lnTo>
                <a:lnTo>
                  <a:pt x="21694" y="20200"/>
                </a:lnTo>
                <a:lnTo>
                  <a:pt x="21694" y="1400"/>
                </a:lnTo>
                <a:close/>
              </a:path>
              <a:path fill="darkenLess" w="23094" h="21600">
                <a:moveTo>
                  <a:pt x="230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4" y="20200"/>
                </a:lnTo>
                <a:close/>
              </a:path>
              <a:path fill="lighten" w="230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4" h="21600">
                <a:moveTo>
                  <a:pt x="4541" y="10800"/>
                </a:moveTo>
                <a:lnTo>
                  <a:pt x="18554" y="3794"/>
                </a:lnTo>
                <a:lnTo>
                  <a:pt x="18554" y="178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3"/>
          </p:cNvPr>
          <p:cNvSpPr/>
          <p:nvPr/>
        </p:nvSpPr>
        <p:spPr>
          <a:xfrm>
            <a:off x="8612280" y="44280"/>
            <a:ext cx="212760" cy="228600"/>
          </a:xfrm>
          <a:custGeom>
            <a:avLst/>
            <a:gdLst>
              <a:gd name="textAreaLeft" fmla="*/ 13680 w 212760"/>
              <a:gd name="textAreaRight" fmla="*/ 199080 w 212760"/>
              <a:gd name="textAreaTop" fmla="*/ 13680 h 228600"/>
              <a:gd name="textAreaBottom" fmla="*/ 214920 h 228600"/>
            </a:gdLst>
            <a:ahLst/>
            <a:rect l="textAreaLeft" t="textAreaTop" r="textAreaRight" b="textAreaBottom"/>
            <a:pathLst>
              <a:path w="21600" h="23205">
                <a:moveTo>
                  <a:pt x="0" y="0"/>
                </a:moveTo>
                <a:lnTo>
                  <a:pt x="21600" y="0"/>
                </a:lnTo>
                <a:lnTo>
                  <a:pt x="21600" y="23205"/>
                </a:lnTo>
                <a:lnTo>
                  <a:pt x="0" y="23205"/>
                </a:lnTo>
                <a:close/>
              </a:path>
              <a:path fill="lightenLess" w="21600" h="232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05">
                <a:moveTo>
                  <a:pt x="21600" y="0"/>
                </a:moveTo>
                <a:lnTo>
                  <a:pt x="21600" y="23205"/>
                </a:lnTo>
                <a:lnTo>
                  <a:pt x="20200" y="21805"/>
                </a:lnTo>
                <a:lnTo>
                  <a:pt x="20200" y="1400"/>
                </a:lnTo>
                <a:close/>
              </a:path>
              <a:path fill="darkenLess" w="21600" h="23205">
                <a:moveTo>
                  <a:pt x="21600" y="23205"/>
                </a:moveTo>
                <a:lnTo>
                  <a:pt x="0" y="23205"/>
                </a:lnTo>
                <a:lnTo>
                  <a:pt x="1400" y="21805"/>
                </a:lnTo>
                <a:lnTo>
                  <a:pt x="20200" y="21805"/>
                </a:lnTo>
                <a:close/>
              </a:path>
              <a:path fill="lighten" w="21600" h="23205">
                <a:moveTo>
                  <a:pt x="0" y="232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0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8344080" y="44280"/>
            <a:ext cx="244440" cy="228600"/>
          </a:xfrm>
          <a:custGeom>
            <a:avLst/>
            <a:gdLst>
              <a:gd name="textAreaLeft" fmla="*/ 14760 w 244440"/>
              <a:gd name="textAreaRight" fmla="*/ 229680 w 244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3094" h="21600">
                <a:moveTo>
                  <a:pt x="0" y="0"/>
                </a:moveTo>
                <a:lnTo>
                  <a:pt x="23094" y="0"/>
                </a:lnTo>
                <a:lnTo>
                  <a:pt x="23094" y="21600"/>
                </a:lnTo>
                <a:lnTo>
                  <a:pt x="0" y="21600"/>
                </a:lnTo>
                <a:close/>
              </a:path>
              <a:path fill="lightenLess" w="23094" h="21600">
                <a:moveTo>
                  <a:pt x="0" y="0"/>
                </a:moveTo>
                <a:lnTo>
                  <a:pt x="23094" y="0"/>
                </a:lnTo>
                <a:lnTo>
                  <a:pt x="21694" y="1400"/>
                </a:lnTo>
                <a:lnTo>
                  <a:pt x="1400" y="1400"/>
                </a:lnTo>
                <a:close/>
              </a:path>
              <a:path fill="darken" w="23094" h="21600">
                <a:moveTo>
                  <a:pt x="23094" y="0"/>
                </a:moveTo>
                <a:lnTo>
                  <a:pt x="23094" y="21600"/>
                </a:lnTo>
                <a:lnTo>
                  <a:pt x="21694" y="20200"/>
                </a:lnTo>
                <a:lnTo>
                  <a:pt x="21694" y="1400"/>
                </a:lnTo>
                <a:close/>
              </a:path>
              <a:path fill="darkenLess" w="23094" h="21600">
                <a:moveTo>
                  <a:pt x="230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4" y="20200"/>
                </a:lnTo>
                <a:close/>
              </a:path>
              <a:path fill="lighten" w="230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4" h="21600">
                <a:moveTo>
                  <a:pt x="4541" y="3794"/>
                </a:moveTo>
                <a:lnTo>
                  <a:pt x="18554" y="10800"/>
                </a:lnTo>
                <a:lnTo>
                  <a:pt x="4541" y="178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056440" y="44280"/>
            <a:ext cx="244440" cy="228600"/>
          </a:xfrm>
          <a:custGeom>
            <a:avLst/>
            <a:gdLst>
              <a:gd name="textAreaLeft" fmla="*/ 14760 w 244440"/>
              <a:gd name="textAreaRight" fmla="*/ 229680 w 244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3094" h="21600">
                <a:moveTo>
                  <a:pt x="0" y="0"/>
                </a:moveTo>
                <a:lnTo>
                  <a:pt x="23094" y="0"/>
                </a:lnTo>
                <a:lnTo>
                  <a:pt x="23094" y="21600"/>
                </a:lnTo>
                <a:lnTo>
                  <a:pt x="0" y="21600"/>
                </a:lnTo>
                <a:close/>
              </a:path>
              <a:path fill="lightenLess" w="23094" h="21600">
                <a:moveTo>
                  <a:pt x="0" y="0"/>
                </a:moveTo>
                <a:lnTo>
                  <a:pt x="23094" y="0"/>
                </a:lnTo>
                <a:lnTo>
                  <a:pt x="21694" y="1400"/>
                </a:lnTo>
                <a:lnTo>
                  <a:pt x="1400" y="1400"/>
                </a:lnTo>
                <a:close/>
              </a:path>
              <a:path fill="darken" w="23094" h="21600">
                <a:moveTo>
                  <a:pt x="23094" y="0"/>
                </a:moveTo>
                <a:lnTo>
                  <a:pt x="23094" y="21600"/>
                </a:lnTo>
                <a:lnTo>
                  <a:pt x="21694" y="20200"/>
                </a:lnTo>
                <a:lnTo>
                  <a:pt x="21694" y="1400"/>
                </a:lnTo>
                <a:close/>
              </a:path>
              <a:path fill="darkenLess" w="23094" h="21600">
                <a:moveTo>
                  <a:pt x="230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4" y="20200"/>
                </a:lnTo>
                <a:close/>
              </a:path>
              <a:path fill="lighten" w="230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4" h="21600">
                <a:moveTo>
                  <a:pt x="4541" y="10800"/>
                </a:moveTo>
                <a:lnTo>
                  <a:pt x="18554" y="3794"/>
                </a:lnTo>
                <a:lnTo>
                  <a:pt x="18554" y="178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65880" y="846000"/>
            <a:ext cx="8894880" cy="51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COURS GENERAL DES MET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HNICIEN D’USI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SSION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SSIER TECH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 dossier technique contient les éléments suivants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ésentation du produit – Mise en situa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cription du Robot de préhens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éfinition des classes d’équivalence de la Pince parallèle 11003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se en plan de la Pince parallèle 11003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T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menclature de la Pince parallèle 11003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T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sin de définition de la BRIDE COUVERCL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T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pérage des surfaces usinées de la BRIDE COUVERCL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T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éfinition des Vitesses angulaire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T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éfinition des Vecteurs Vitesses linéaire de l’axe J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T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8424720" y="3294000"/>
            <a:ext cx="435240" cy="257400"/>
          </a:xfrm>
          <a:custGeom>
            <a:avLst/>
            <a:gdLst>
              <a:gd name="textAreaLeft" fmla="*/ 16560 w 435240"/>
              <a:gd name="textAreaRight" fmla="*/ 418680 w 43524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36503" h="21600">
                <a:moveTo>
                  <a:pt x="0" y="0"/>
                </a:moveTo>
                <a:lnTo>
                  <a:pt x="36503" y="0"/>
                </a:lnTo>
                <a:lnTo>
                  <a:pt x="36503" y="21600"/>
                </a:lnTo>
                <a:lnTo>
                  <a:pt x="0" y="21600"/>
                </a:lnTo>
                <a:close/>
              </a:path>
              <a:path fill="lightenLess" w="36503" h="21600">
                <a:moveTo>
                  <a:pt x="0" y="0"/>
                </a:moveTo>
                <a:lnTo>
                  <a:pt x="36503" y="0"/>
                </a:lnTo>
                <a:lnTo>
                  <a:pt x="35103" y="1400"/>
                </a:lnTo>
                <a:lnTo>
                  <a:pt x="1400" y="1400"/>
                </a:lnTo>
                <a:close/>
              </a:path>
              <a:path fill="darken" w="36503" h="21600">
                <a:moveTo>
                  <a:pt x="36503" y="0"/>
                </a:moveTo>
                <a:lnTo>
                  <a:pt x="36503" y="21600"/>
                </a:lnTo>
                <a:lnTo>
                  <a:pt x="35103" y="20200"/>
                </a:lnTo>
                <a:lnTo>
                  <a:pt x="35103" y="1400"/>
                </a:lnTo>
                <a:close/>
              </a:path>
              <a:path fill="darkenLess" w="36503" h="21600">
                <a:moveTo>
                  <a:pt x="365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03" y="20200"/>
                </a:lnTo>
                <a:close/>
              </a:path>
              <a:path fill="lighten" w="365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03" h="21600">
                <a:moveTo>
                  <a:pt x="11245" y="3794"/>
                </a:moveTo>
                <a:lnTo>
                  <a:pt x="25258" y="10800"/>
                </a:lnTo>
                <a:lnTo>
                  <a:pt x="11245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3" action="ppaction://hlinksldjump"/>
          </p:cNvPr>
          <p:cNvSpPr/>
          <p:nvPr/>
        </p:nvSpPr>
        <p:spPr>
          <a:xfrm>
            <a:off x="8416800" y="3568680"/>
            <a:ext cx="435240" cy="257040"/>
          </a:xfrm>
          <a:custGeom>
            <a:avLst/>
            <a:gdLst>
              <a:gd name="textAreaLeft" fmla="*/ 16560 w 435240"/>
              <a:gd name="textAreaRight" fmla="*/ 418680 w 435240"/>
              <a:gd name="textAreaTop" fmla="*/ 16560 h 257040"/>
              <a:gd name="textAreaBottom" fmla="*/ 240480 h 257040"/>
            </a:gdLst>
            <a:ahLst/>
            <a:rect l="textAreaLeft" t="textAreaTop" r="textAreaRight" b="textAreaBottom"/>
            <a:pathLst>
              <a:path w="36554" h="21600">
                <a:moveTo>
                  <a:pt x="0" y="0"/>
                </a:moveTo>
                <a:lnTo>
                  <a:pt x="36554" y="0"/>
                </a:lnTo>
                <a:lnTo>
                  <a:pt x="36554" y="21600"/>
                </a:lnTo>
                <a:lnTo>
                  <a:pt x="0" y="21600"/>
                </a:lnTo>
                <a:close/>
              </a:path>
              <a:path fill="lightenLess" w="36554" h="21600">
                <a:moveTo>
                  <a:pt x="0" y="0"/>
                </a:moveTo>
                <a:lnTo>
                  <a:pt x="36554" y="0"/>
                </a:lnTo>
                <a:lnTo>
                  <a:pt x="35154" y="1400"/>
                </a:lnTo>
                <a:lnTo>
                  <a:pt x="1400" y="1400"/>
                </a:lnTo>
                <a:close/>
              </a:path>
              <a:path fill="darken" w="36554" h="21600">
                <a:moveTo>
                  <a:pt x="36554" y="0"/>
                </a:moveTo>
                <a:lnTo>
                  <a:pt x="36554" y="21600"/>
                </a:lnTo>
                <a:lnTo>
                  <a:pt x="35154" y="20200"/>
                </a:lnTo>
                <a:lnTo>
                  <a:pt x="35154" y="1400"/>
                </a:lnTo>
                <a:close/>
              </a:path>
              <a:path fill="darkenLess" w="36554" h="21600">
                <a:moveTo>
                  <a:pt x="365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54" y="20200"/>
                </a:lnTo>
                <a:close/>
              </a:path>
              <a:path fill="lighten" w="365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54" h="21600">
                <a:moveTo>
                  <a:pt x="11270" y="3794"/>
                </a:moveTo>
                <a:lnTo>
                  <a:pt x="25283" y="10800"/>
                </a:lnTo>
                <a:lnTo>
                  <a:pt x="11270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4" action="ppaction://hlinksldjump"/>
          </p:cNvPr>
          <p:cNvSpPr/>
          <p:nvPr/>
        </p:nvSpPr>
        <p:spPr>
          <a:xfrm>
            <a:off x="8416800" y="3843360"/>
            <a:ext cx="435240" cy="257040"/>
          </a:xfrm>
          <a:custGeom>
            <a:avLst/>
            <a:gdLst>
              <a:gd name="textAreaLeft" fmla="*/ 16560 w 435240"/>
              <a:gd name="textAreaRight" fmla="*/ 418680 w 435240"/>
              <a:gd name="textAreaTop" fmla="*/ 16560 h 257040"/>
              <a:gd name="textAreaBottom" fmla="*/ 240480 h 257040"/>
            </a:gdLst>
            <a:ahLst/>
            <a:rect l="textAreaLeft" t="textAreaTop" r="textAreaRight" b="textAreaBottom"/>
            <a:pathLst>
              <a:path w="36554" h="21600">
                <a:moveTo>
                  <a:pt x="0" y="0"/>
                </a:moveTo>
                <a:lnTo>
                  <a:pt x="36554" y="0"/>
                </a:lnTo>
                <a:lnTo>
                  <a:pt x="36554" y="21600"/>
                </a:lnTo>
                <a:lnTo>
                  <a:pt x="0" y="21600"/>
                </a:lnTo>
                <a:close/>
              </a:path>
              <a:path fill="lightenLess" w="36554" h="21600">
                <a:moveTo>
                  <a:pt x="0" y="0"/>
                </a:moveTo>
                <a:lnTo>
                  <a:pt x="36554" y="0"/>
                </a:lnTo>
                <a:lnTo>
                  <a:pt x="35154" y="1400"/>
                </a:lnTo>
                <a:lnTo>
                  <a:pt x="1400" y="1400"/>
                </a:lnTo>
                <a:close/>
              </a:path>
              <a:path fill="darken" w="36554" h="21600">
                <a:moveTo>
                  <a:pt x="36554" y="0"/>
                </a:moveTo>
                <a:lnTo>
                  <a:pt x="36554" y="21600"/>
                </a:lnTo>
                <a:lnTo>
                  <a:pt x="35154" y="20200"/>
                </a:lnTo>
                <a:lnTo>
                  <a:pt x="35154" y="1400"/>
                </a:lnTo>
                <a:close/>
              </a:path>
              <a:path fill="darkenLess" w="36554" h="21600">
                <a:moveTo>
                  <a:pt x="365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54" y="20200"/>
                </a:lnTo>
                <a:close/>
              </a:path>
              <a:path fill="lighten" w="365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54" h="21600">
                <a:moveTo>
                  <a:pt x="11270" y="3794"/>
                </a:moveTo>
                <a:lnTo>
                  <a:pt x="25283" y="10800"/>
                </a:lnTo>
                <a:lnTo>
                  <a:pt x="11270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5" action="ppaction://hlinksldjump"/>
          </p:cNvPr>
          <p:cNvSpPr/>
          <p:nvPr/>
        </p:nvSpPr>
        <p:spPr>
          <a:xfrm>
            <a:off x="8416800" y="4118040"/>
            <a:ext cx="435240" cy="257040"/>
          </a:xfrm>
          <a:custGeom>
            <a:avLst/>
            <a:gdLst>
              <a:gd name="textAreaLeft" fmla="*/ 16560 w 435240"/>
              <a:gd name="textAreaRight" fmla="*/ 418680 w 435240"/>
              <a:gd name="textAreaTop" fmla="*/ 16560 h 257040"/>
              <a:gd name="textAreaBottom" fmla="*/ 240480 h 257040"/>
            </a:gdLst>
            <a:ahLst/>
            <a:rect l="textAreaLeft" t="textAreaTop" r="textAreaRight" b="textAreaBottom"/>
            <a:pathLst>
              <a:path w="36554" h="21600">
                <a:moveTo>
                  <a:pt x="0" y="0"/>
                </a:moveTo>
                <a:lnTo>
                  <a:pt x="36554" y="0"/>
                </a:lnTo>
                <a:lnTo>
                  <a:pt x="36554" y="21600"/>
                </a:lnTo>
                <a:lnTo>
                  <a:pt x="0" y="21600"/>
                </a:lnTo>
                <a:close/>
              </a:path>
              <a:path fill="lightenLess" w="36554" h="21600">
                <a:moveTo>
                  <a:pt x="0" y="0"/>
                </a:moveTo>
                <a:lnTo>
                  <a:pt x="36554" y="0"/>
                </a:lnTo>
                <a:lnTo>
                  <a:pt x="35154" y="1400"/>
                </a:lnTo>
                <a:lnTo>
                  <a:pt x="1400" y="1400"/>
                </a:lnTo>
                <a:close/>
              </a:path>
              <a:path fill="darken" w="36554" h="21600">
                <a:moveTo>
                  <a:pt x="36554" y="0"/>
                </a:moveTo>
                <a:lnTo>
                  <a:pt x="36554" y="21600"/>
                </a:lnTo>
                <a:lnTo>
                  <a:pt x="35154" y="20200"/>
                </a:lnTo>
                <a:lnTo>
                  <a:pt x="35154" y="1400"/>
                </a:lnTo>
                <a:close/>
              </a:path>
              <a:path fill="darkenLess" w="36554" h="21600">
                <a:moveTo>
                  <a:pt x="365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54" y="20200"/>
                </a:lnTo>
                <a:close/>
              </a:path>
              <a:path fill="lighten" w="365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54" h="21600">
                <a:moveTo>
                  <a:pt x="11270" y="3794"/>
                </a:moveTo>
                <a:lnTo>
                  <a:pt x="25283" y="10800"/>
                </a:lnTo>
                <a:lnTo>
                  <a:pt x="11270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6" action="ppaction://hlinksldjump"/>
          </p:cNvPr>
          <p:cNvSpPr/>
          <p:nvPr/>
        </p:nvSpPr>
        <p:spPr>
          <a:xfrm>
            <a:off x="8416800" y="4384800"/>
            <a:ext cx="435240" cy="257040"/>
          </a:xfrm>
          <a:custGeom>
            <a:avLst/>
            <a:gdLst>
              <a:gd name="textAreaLeft" fmla="*/ 16560 w 435240"/>
              <a:gd name="textAreaRight" fmla="*/ 418680 w 435240"/>
              <a:gd name="textAreaTop" fmla="*/ 16560 h 257040"/>
              <a:gd name="textAreaBottom" fmla="*/ 240480 h 257040"/>
            </a:gdLst>
            <a:ahLst/>
            <a:rect l="textAreaLeft" t="textAreaTop" r="textAreaRight" b="textAreaBottom"/>
            <a:pathLst>
              <a:path w="36554" h="21600">
                <a:moveTo>
                  <a:pt x="0" y="0"/>
                </a:moveTo>
                <a:lnTo>
                  <a:pt x="36554" y="0"/>
                </a:lnTo>
                <a:lnTo>
                  <a:pt x="36554" y="21600"/>
                </a:lnTo>
                <a:lnTo>
                  <a:pt x="0" y="21600"/>
                </a:lnTo>
                <a:close/>
              </a:path>
              <a:path fill="lightenLess" w="36554" h="21600">
                <a:moveTo>
                  <a:pt x="0" y="0"/>
                </a:moveTo>
                <a:lnTo>
                  <a:pt x="36554" y="0"/>
                </a:lnTo>
                <a:lnTo>
                  <a:pt x="35154" y="1400"/>
                </a:lnTo>
                <a:lnTo>
                  <a:pt x="1400" y="1400"/>
                </a:lnTo>
                <a:close/>
              </a:path>
              <a:path fill="darken" w="36554" h="21600">
                <a:moveTo>
                  <a:pt x="36554" y="0"/>
                </a:moveTo>
                <a:lnTo>
                  <a:pt x="36554" y="21600"/>
                </a:lnTo>
                <a:lnTo>
                  <a:pt x="35154" y="20200"/>
                </a:lnTo>
                <a:lnTo>
                  <a:pt x="35154" y="1400"/>
                </a:lnTo>
                <a:close/>
              </a:path>
              <a:path fill="darkenLess" w="36554" h="21600">
                <a:moveTo>
                  <a:pt x="365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54" y="20200"/>
                </a:lnTo>
                <a:close/>
              </a:path>
              <a:path fill="lighten" w="365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54" h="21600">
                <a:moveTo>
                  <a:pt x="11270" y="3794"/>
                </a:moveTo>
                <a:lnTo>
                  <a:pt x="25283" y="10800"/>
                </a:lnTo>
                <a:lnTo>
                  <a:pt x="11270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416800" y="4651200"/>
            <a:ext cx="435240" cy="257400"/>
          </a:xfrm>
          <a:custGeom>
            <a:avLst/>
            <a:gdLst>
              <a:gd name="textAreaLeft" fmla="*/ 16560 w 435240"/>
              <a:gd name="textAreaRight" fmla="*/ 418680 w 43524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36503" h="21600">
                <a:moveTo>
                  <a:pt x="0" y="0"/>
                </a:moveTo>
                <a:lnTo>
                  <a:pt x="36503" y="0"/>
                </a:lnTo>
                <a:lnTo>
                  <a:pt x="36503" y="21600"/>
                </a:lnTo>
                <a:lnTo>
                  <a:pt x="0" y="21600"/>
                </a:lnTo>
                <a:close/>
              </a:path>
              <a:path fill="lightenLess" w="36503" h="21600">
                <a:moveTo>
                  <a:pt x="0" y="0"/>
                </a:moveTo>
                <a:lnTo>
                  <a:pt x="36503" y="0"/>
                </a:lnTo>
                <a:lnTo>
                  <a:pt x="35103" y="1400"/>
                </a:lnTo>
                <a:lnTo>
                  <a:pt x="1400" y="1400"/>
                </a:lnTo>
                <a:close/>
              </a:path>
              <a:path fill="darken" w="36503" h="21600">
                <a:moveTo>
                  <a:pt x="36503" y="0"/>
                </a:moveTo>
                <a:lnTo>
                  <a:pt x="36503" y="21600"/>
                </a:lnTo>
                <a:lnTo>
                  <a:pt x="35103" y="20200"/>
                </a:lnTo>
                <a:lnTo>
                  <a:pt x="35103" y="1400"/>
                </a:lnTo>
                <a:close/>
              </a:path>
              <a:path fill="darkenLess" w="36503" h="21600">
                <a:moveTo>
                  <a:pt x="365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03" y="20200"/>
                </a:lnTo>
                <a:close/>
              </a:path>
              <a:path fill="lighten" w="365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03" h="21600">
                <a:moveTo>
                  <a:pt x="11245" y="3794"/>
                </a:moveTo>
                <a:lnTo>
                  <a:pt x="25258" y="10800"/>
                </a:lnTo>
                <a:lnTo>
                  <a:pt x="11245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16800" y="4916520"/>
            <a:ext cx="435240" cy="257040"/>
          </a:xfrm>
          <a:custGeom>
            <a:avLst/>
            <a:gdLst>
              <a:gd name="textAreaLeft" fmla="*/ 16560 w 435240"/>
              <a:gd name="textAreaRight" fmla="*/ 418680 w 435240"/>
              <a:gd name="textAreaTop" fmla="*/ 16560 h 257040"/>
              <a:gd name="textAreaBottom" fmla="*/ 240480 h 257040"/>
            </a:gdLst>
            <a:ahLst/>
            <a:rect l="textAreaLeft" t="textAreaTop" r="textAreaRight" b="textAreaBottom"/>
            <a:pathLst>
              <a:path w="36554" h="21600">
                <a:moveTo>
                  <a:pt x="0" y="0"/>
                </a:moveTo>
                <a:lnTo>
                  <a:pt x="36554" y="0"/>
                </a:lnTo>
                <a:lnTo>
                  <a:pt x="36554" y="21600"/>
                </a:lnTo>
                <a:lnTo>
                  <a:pt x="0" y="21600"/>
                </a:lnTo>
                <a:close/>
              </a:path>
              <a:path fill="lightenLess" w="36554" h="21600">
                <a:moveTo>
                  <a:pt x="0" y="0"/>
                </a:moveTo>
                <a:lnTo>
                  <a:pt x="36554" y="0"/>
                </a:lnTo>
                <a:lnTo>
                  <a:pt x="35154" y="1400"/>
                </a:lnTo>
                <a:lnTo>
                  <a:pt x="1400" y="1400"/>
                </a:lnTo>
                <a:close/>
              </a:path>
              <a:path fill="darken" w="36554" h="21600">
                <a:moveTo>
                  <a:pt x="36554" y="0"/>
                </a:moveTo>
                <a:lnTo>
                  <a:pt x="36554" y="21600"/>
                </a:lnTo>
                <a:lnTo>
                  <a:pt x="35154" y="20200"/>
                </a:lnTo>
                <a:lnTo>
                  <a:pt x="35154" y="1400"/>
                </a:lnTo>
                <a:close/>
              </a:path>
              <a:path fill="darkenLess" w="36554" h="21600">
                <a:moveTo>
                  <a:pt x="365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54" y="20200"/>
                </a:lnTo>
                <a:close/>
              </a:path>
              <a:path fill="lighten" w="365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54" h="21600">
                <a:moveTo>
                  <a:pt x="11270" y="3794"/>
                </a:moveTo>
                <a:lnTo>
                  <a:pt x="25283" y="10800"/>
                </a:lnTo>
                <a:lnTo>
                  <a:pt x="11270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416800" y="5184720"/>
            <a:ext cx="435240" cy="257400"/>
          </a:xfrm>
          <a:custGeom>
            <a:avLst/>
            <a:gdLst>
              <a:gd name="textAreaLeft" fmla="*/ 16560 w 435240"/>
              <a:gd name="textAreaRight" fmla="*/ 418680 w 43524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36503" h="21600">
                <a:moveTo>
                  <a:pt x="0" y="0"/>
                </a:moveTo>
                <a:lnTo>
                  <a:pt x="36503" y="0"/>
                </a:lnTo>
                <a:lnTo>
                  <a:pt x="36503" y="21600"/>
                </a:lnTo>
                <a:lnTo>
                  <a:pt x="0" y="21600"/>
                </a:lnTo>
                <a:close/>
              </a:path>
              <a:path fill="lightenLess" w="36503" h="21600">
                <a:moveTo>
                  <a:pt x="0" y="0"/>
                </a:moveTo>
                <a:lnTo>
                  <a:pt x="36503" y="0"/>
                </a:lnTo>
                <a:lnTo>
                  <a:pt x="35103" y="1400"/>
                </a:lnTo>
                <a:lnTo>
                  <a:pt x="1400" y="1400"/>
                </a:lnTo>
                <a:close/>
              </a:path>
              <a:path fill="darken" w="36503" h="21600">
                <a:moveTo>
                  <a:pt x="36503" y="0"/>
                </a:moveTo>
                <a:lnTo>
                  <a:pt x="36503" y="21600"/>
                </a:lnTo>
                <a:lnTo>
                  <a:pt x="35103" y="20200"/>
                </a:lnTo>
                <a:lnTo>
                  <a:pt x="35103" y="1400"/>
                </a:lnTo>
                <a:close/>
              </a:path>
              <a:path fill="darkenLess" w="36503" h="21600">
                <a:moveTo>
                  <a:pt x="365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03" y="20200"/>
                </a:lnTo>
                <a:close/>
              </a:path>
              <a:path fill="lighten" w="365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03" h="21600">
                <a:moveTo>
                  <a:pt x="11245" y="3794"/>
                </a:moveTo>
                <a:lnTo>
                  <a:pt x="25258" y="10800"/>
                </a:lnTo>
                <a:lnTo>
                  <a:pt x="11245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416800" y="5450040"/>
            <a:ext cx="435240" cy="257040"/>
          </a:xfrm>
          <a:custGeom>
            <a:avLst/>
            <a:gdLst>
              <a:gd name="textAreaLeft" fmla="*/ 16560 w 435240"/>
              <a:gd name="textAreaRight" fmla="*/ 418680 w 435240"/>
              <a:gd name="textAreaTop" fmla="*/ 16560 h 257040"/>
              <a:gd name="textAreaBottom" fmla="*/ 240480 h 257040"/>
            </a:gdLst>
            <a:ahLst/>
            <a:rect l="textAreaLeft" t="textAreaTop" r="textAreaRight" b="textAreaBottom"/>
            <a:pathLst>
              <a:path w="36554" h="21600">
                <a:moveTo>
                  <a:pt x="0" y="0"/>
                </a:moveTo>
                <a:lnTo>
                  <a:pt x="36554" y="0"/>
                </a:lnTo>
                <a:lnTo>
                  <a:pt x="36554" y="21600"/>
                </a:lnTo>
                <a:lnTo>
                  <a:pt x="0" y="21600"/>
                </a:lnTo>
                <a:close/>
              </a:path>
              <a:path fill="lightenLess" w="36554" h="21600">
                <a:moveTo>
                  <a:pt x="0" y="0"/>
                </a:moveTo>
                <a:lnTo>
                  <a:pt x="36554" y="0"/>
                </a:lnTo>
                <a:lnTo>
                  <a:pt x="35154" y="1400"/>
                </a:lnTo>
                <a:lnTo>
                  <a:pt x="1400" y="1400"/>
                </a:lnTo>
                <a:close/>
              </a:path>
              <a:path fill="darken" w="36554" h="21600">
                <a:moveTo>
                  <a:pt x="36554" y="0"/>
                </a:moveTo>
                <a:lnTo>
                  <a:pt x="36554" y="21600"/>
                </a:lnTo>
                <a:lnTo>
                  <a:pt x="35154" y="20200"/>
                </a:lnTo>
                <a:lnTo>
                  <a:pt x="35154" y="1400"/>
                </a:lnTo>
                <a:close/>
              </a:path>
              <a:path fill="darkenLess" w="36554" h="21600">
                <a:moveTo>
                  <a:pt x="365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54" y="20200"/>
                </a:lnTo>
                <a:close/>
              </a:path>
              <a:path fill="lighten" w="365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54" h="21600">
                <a:moveTo>
                  <a:pt x="11270" y="3794"/>
                </a:moveTo>
                <a:lnTo>
                  <a:pt x="25283" y="10800"/>
                </a:lnTo>
                <a:lnTo>
                  <a:pt x="11270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ourbe w5 B5-B34" descr=""/>
          <p:cNvPicPr/>
          <p:nvPr/>
        </p:nvPicPr>
        <p:blipFill>
          <a:blip r:embed="rId2"/>
          <a:stretch/>
        </p:blipFill>
        <p:spPr>
          <a:xfrm>
            <a:off x="452520" y="1730520"/>
            <a:ext cx="3676680" cy="393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7729560" y="1333440"/>
          <a:ext cx="904680" cy="3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29560" y="1333440"/>
                    <a:ext cx="904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Courbe Vj5 B5-B0" descr=""/>
          <p:cNvPicPr/>
          <p:nvPr/>
        </p:nvPicPr>
        <p:blipFill>
          <a:blip r:embed="rId5"/>
          <a:stretch/>
        </p:blipFill>
        <p:spPr>
          <a:xfrm>
            <a:off x="5078520" y="1728720"/>
            <a:ext cx="3686040" cy="3952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11960" y="1416960"/>
            <a:ext cx="450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urbe de définition de la vitesse angulaire de l’axe J5 : ω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08400" y="1416960"/>
            <a:ext cx="26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urbe de définition de la vites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77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8056440" y="44280"/>
            <a:ext cx="244440" cy="228600"/>
          </a:xfrm>
          <a:custGeom>
            <a:avLst/>
            <a:gdLst>
              <a:gd name="textAreaLeft" fmla="*/ 14760 w 244440"/>
              <a:gd name="textAreaRight" fmla="*/ 229680 w 244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3094" h="21600">
                <a:moveTo>
                  <a:pt x="0" y="0"/>
                </a:moveTo>
                <a:lnTo>
                  <a:pt x="23094" y="0"/>
                </a:lnTo>
                <a:lnTo>
                  <a:pt x="23094" y="21600"/>
                </a:lnTo>
                <a:lnTo>
                  <a:pt x="0" y="21600"/>
                </a:lnTo>
                <a:close/>
              </a:path>
              <a:path fill="lightenLess" w="23094" h="21600">
                <a:moveTo>
                  <a:pt x="0" y="0"/>
                </a:moveTo>
                <a:lnTo>
                  <a:pt x="23094" y="0"/>
                </a:lnTo>
                <a:lnTo>
                  <a:pt x="21694" y="1400"/>
                </a:lnTo>
                <a:lnTo>
                  <a:pt x="1400" y="1400"/>
                </a:lnTo>
                <a:close/>
              </a:path>
              <a:path fill="darken" w="23094" h="21600">
                <a:moveTo>
                  <a:pt x="23094" y="0"/>
                </a:moveTo>
                <a:lnTo>
                  <a:pt x="23094" y="21600"/>
                </a:lnTo>
                <a:lnTo>
                  <a:pt x="21694" y="20200"/>
                </a:lnTo>
                <a:lnTo>
                  <a:pt x="21694" y="1400"/>
                </a:lnTo>
                <a:close/>
              </a:path>
              <a:path fill="darkenLess" w="23094" h="21600">
                <a:moveTo>
                  <a:pt x="230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4" y="20200"/>
                </a:lnTo>
                <a:close/>
              </a:path>
              <a:path fill="lighten" w="230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4" h="21600">
                <a:moveTo>
                  <a:pt x="4541" y="10800"/>
                </a:moveTo>
                <a:lnTo>
                  <a:pt x="18554" y="3794"/>
                </a:lnTo>
                <a:lnTo>
                  <a:pt x="18554" y="178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8056440" y="44280"/>
            <a:ext cx="244440" cy="228600"/>
          </a:xfrm>
          <a:custGeom>
            <a:avLst/>
            <a:gdLst>
              <a:gd name="textAreaLeft" fmla="*/ 14760 w 244440"/>
              <a:gd name="textAreaRight" fmla="*/ 229680 w 244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3094" h="21600">
                <a:moveTo>
                  <a:pt x="0" y="0"/>
                </a:moveTo>
                <a:lnTo>
                  <a:pt x="23094" y="0"/>
                </a:lnTo>
                <a:lnTo>
                  <a:pt x="23094" y="21600"/>
                </a:lnTo>
                <a:lnTo>
                  <a:pt x="0" y="21600"/>
                </a:lnTo>
                <a:close/>
              </a:path>
              <a:path fill="lightenLess" w="23094" h="21600">
                <a:moveTo>
                  <a:pt x="0" y="0"/>
                </a:moveTo>
                <a:lnTo>
                  <a:pt x="23094" y="0"/>
                </a:lnTo>
                <a:lnTo>
                  <a:pt x="21694" y="1400"/>
                </a:lnTo>
                <a:lnTo>
                  <a:pt x="1400" y="1400"/>
                </a:lnTo>
                <a:close/>
              </a:path>
              <a:path fill="darken" w="23094" h="21600">
                <a:moveTo>
                  <a:pt x="23094" y="0"/>
                </a:moveTo>
                <a:lnTo>
                  <a:pt x="23094" y="21600"/>
                </a:lnTo>
                <a:lnTo>
                  <a:pt x="21694" y="20200"/>
                </a:lnTo>
                <a:lnTo>
                  <a:pt x="21694" y="1400"/>
                </a:lnTo>
                <a:close/>
              </a:path>
              <a:path fill="darkenLess" w="23094" h="21600">
                <a:moveTo>
                  <a:pt x="230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4" y="20200"/>
                </a:lnTo>
                <a:close/>
              </a:path>
              <a:path fill="lighten" w="230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4" h="21600">
                <a:moveTo>
                  <a:pt x="4541" y="10800"/>
                </a:moveTo>
                <a:lnTo>
                  <a:pt x="18554" y="3794"/>
                </a:lnTo>
                <a:lnTo>
                  <a:pt x="18554" y="178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8344080" y="44280"/>
            <a:ext cx="244440" cy="228600"/>
          </a:xfrm>
          <a:custGeom>
            <a:avLst/>
            <a:gdLst>
              <a:gd name="textAreaLeft" fmla="*/ 14760 w 244440"/>
              <a:gd name="textAreaRight" fmla="*/ 229680 w 244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3094" h="21600">
                <a:moveTo>
                  <a:pt x="0" y="0"/>
                </a:moveTo>
                <a:lnTo>
                  <a:pt x="23094" y="0"/>
                </a:lnTo>
                <a:lnTo>
                  <a:pt x="23094" y="21600"/>
                </a:lnTo>
                <a:lnTo>
                  <a:pt x="0" y="21600"/>
                </a:lnTo>
                <a:close/>
              </a:path>
              <a:path fill="lightenLess" w="23094" h="21600">
                <a:moveTo>
                  <a:pt x="0" y="0"/>
                </a:moveTo>
                <a:lnTo>
                  <a:pt x="23094" y="0"/>
                </a:lnTo>
                <a:lnTo>
                  <a:pt x="21694" y="1400"/>
                </a:lnTo>
                <a:lnTo>
                  <a:pt x="1400" y="1400"/>
                </a:lnTo>
                <a:close/>
              </a:path>
              <a:path fill="darken" w="23094" h="21600">
                <a:moveTo>
                  <a:pt x="23094" y="0"/>
                </a:moveTo>
                <a:lnTo>
                  <a:pt x="23094" y="21600"/>
                </a:lnTo>
                <a:lnTo>
                  <a:pt x="21694" y="20200"/>
                </a:lnTo>
                <a:lnTo>
                  <a:pt x="21694" y="1400"/>
                </a:lnTo>
                <a:close/>
              </a:path>
              <a:path fill="darkenLess" w="23094" h="21600">
                <a:moveTo>
                  <a:pt x="230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4" y="20200"/>
                </a:lnTo>
                <a:close/>
              </a:path>
              <a:path fill="lighten" w="230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4" h="21600">
                <a:moveTo>
                  <a:pt x="4541" y="3794"/>
                </a:moveTo>
                <a:lnTo>
                  <a:pt x="18554" y="10800"/>
                </a:lnTo>
                <a:lnTo>
                  <a:pt x="4541" y="178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393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81400" y="5832360"/>
            <a:ext cx="636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3333cc"/>
                </a:solidFill>
                <a:uFillTx/>
                <a:latin typeface="Comic Sans MS"/>
              </a:rPr>
              <a:t>DRes200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3360" y="5870520"/>
            <a:ext cx="127080" cy="123840"/>
          </a:xfrm>
          <a:custGeom>
            <a:avLst/>
            <a:gdLst>
              <a:gd name="textAreaLeft" fmla="*/ 7920 w 127080"/>
              <a:gd name="textAreaRight" fmla="*/ 119160 w 127080"/>
              <a:gd name="textAreaTop" fmla="*/ 7920 h 123840"/>
              <a:gd name="textAreaBottom" fmla="*/ 115920 h 123840"/>
            </a:gdLst>
            <a:ahLst/>
            <a:rect l="textAreaLeft" t="textAreaTop" r="textAreaRight" b="textAreaBottom"/>
            <a:pathLst>
              <a:path w="22163" h="21600">
                <a:moveTo>
                  <a:pt x="0" y="0"/>
                </a:moveTo>
                <a:lnTo>
                  <a:pt x="22163" y="0"/>
                </a:lnTo>
                <a:lnTo>
                  <a:pt x="22163" y="21600"/>
                </a:lnTo>
                <a:lnTo>
                  <a:pt x="0" y="21600"/>
                </a:lnTo>
                <a:close/>
              </a:path>
              <a:path fill="lightenLess" w="22163" h="21600">
                <a:moveTo>
                  <a:pt x="0" y="0"/>
                </a:moveTo>
                <a:lnTo>
                  <a:pt x="22163" y="0"/>
                </a:lnTo>
                <a:lnTo>
                  <a:pt x="20763" y="1400"/>
                </a:lnTo>
                <a:lnTo>
                  <a:pt x="1400" y="1400"/>
                </a:lnTo>
                <a:close/>
              </a:path>
              <a:path fill="darken" w="22163" h="21600">
                <a:moveTo>
                  <a:pt x="22163" y="0"/>
                </a:moveTo>
                <a:lnTo>
                  <a:pt x="22163" y="21600"/>
                </a:lnTo>
                <a:lnTo>
                  <a:pt x="20763" y="20200"/>
                </a:lnTo>
                <a:lnTo>
                  <a:pt x="20763" y="1400"/>
                </a:lnTo>
                <a:close/>
              </a:path>
              <a:path fill="darkenLess" w="22163" h="21600">
                <a:moveTo>
                  <a:pt x="22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63" y="20200"/>
                </a:lnTo>
                <a:close/>
              </a:path>
              <a:path fill="lighten" w="22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63" h="21600">
                <a:moveTo>
                  <a:pt x="4075" y="3794"/>
                </a:moveTo>
                <a:lnTo>
                  <a:pt x="18088" y="10800"/>
                </a:lnTo>
                <a:lnTo>
                  <a:pt x="4075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82840" y="4865760"/>
            <a:ext cx="720720" cy="20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3333cc"/>
                </a:solidFill>
                <a:uFillTx/>
                <a:latin typeface="Comic Sans MS"/>
              </a:rPr>
              <a:t>DRes200B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43360" y="4896000"/>
            <a:ext cx="127080" cy="123840"/>
          </a:xfrm>
          <a:custGeom>
            <a:avLst/>
            <a:gdLst>
              <a:gd name="textAreaLeft" fmla="*/ 7920 w 127080"/>
              <a:gd name="textAreaRight" fmla="*/ 119160 w 127080"/>
              <a:gd name="textAreaTop" fmla="*/ 7920 h 123840"/>
              <a:gd name="textAreaBottom" fmla="*/ 115920 h 123840"/>
            </a:gdLst>
            <a:ahLst/>
            <a:rect l="textAreaLeft" t="textAreaTop" r="textAreaRight" b="textAreaBottom"/>
            <a:pathLst>
              <a:path w="22163" h="21600">
                <a:moveTo>
                  <a:pt x="0" y="0"/>
                </a:moveTo>
                <a:lnTo>
                  <a:pt x="22163" y="0"/>
                </a:lnTo>
                <a:lnTo>
                  <a:pt x="22163" y="21600"/>
                </a:lnTo>
                <a:lnTo>
                  <a:pt x="0" y="21600"/>
                </a:lnTo>
                <a:close/>
              </a:path>
              <a:path fill="lightenLess" w="22163" h="21600">
                <a:moveTo>
                  <a:pt x="0" y="0"/>
                </a:moveTo>
                <a:lnTo>
                  <a:pt x="22163" y="0"/>
                </a:lnTo>
                <a:lnTo>
                  <a:pt x="20763" y="1400"/>
                </a:lnTo>
                <a:lnTo>
                  <a:pt x="1400" y="1400"/>
                </a:lnTo>
                <a:close/>
              </a:path>
              <a:path fill="darken" w="22163" h="21600">
                <a:moveTo>
                  <a:pt x="22163" y="0"/>
                </a:moveTo>
                <a:lnTo>
                  <a:pt x="22163" y="21600"/>
                </a:lnTo>
                <a:lnTo>
                  <a:pt x="20763" y="20200"/>
                </a:lnTo>
                <a:lnTo>
                  <a:pt x="20763" y="1400"/>
                </a:lnTo>
                <a:close/>
              </a:path>
              <a:path fill="darkenLess" w="22163" h="21600">
                <a:moveTo>
                  <a:pt x="22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63" y="20200"/>
                </a:lnTo>
                <a:close/>
              </a:path>
              <a:path fill="lighten" w="22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63" h="21600">
                <a:moveTo>
                  <a:pt x="4075" y="3794"/>
                </a:moveTo>
                <a:lnTo>
                  <a:pt x="18088" y="10800"/>
                </a:lnTo>
                <a:lnTo>
                  <a:pt x="4075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79600" y="5186520"/>
            <a:ext cx="681120" cy="20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3333cc"/>
                </a:solidFill>
                <a:uFillTx/>
                <a:latin typeface="Comic Sans MS"/>
              </a:rPr>
              <a:t>DRes200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38680" y="5214960"/>
            <a:ext cx="126720" cy="123840"/>
          </a:xfrm>
          <a:custGeom>
            <a:avLst/>
            <a:gdLst>
              <a:gd name="textAreaLeft" fmla="*/ 7920 w 126720"/>
              <a:gd name="textAreaRight" fmla="*/ 118800 w 126720"/>
              <a:gd name="textAreaTop" fmla="*/ 7920 h 123840"/>
              <a:gd name="textAreaBottom" fmla="*/ 115920 h 123840"/>
            </a:gdLst>
            <a:ahLst/>
            <a:rect l="textAreaLeft" t="textAreaTop" r="textAreaRight" b="textAreaBottom"/>
            <a:pathLst>
              <a:path w="22101" h="21600">
                <a:moveTo>
                  <a:pt x="0" y="0"/>
                </a:moveTo>
                <a:lnTo>
                  <a:pt x="22101" y="0"/>
                </a:lnTo>
                <a:lnTo>
                  <a:pt x="22101" y="21600"/>
                </a:lnTo>
                <a:lnTo>
                  <a:pt x="0" y="21600"/>
                </a:lnTo>
                <a:close/>
              </a:path>
              <a:path fill="lightenLess" w="22101" h="21600">
                <a:moveTo>
                  <a:pt x="0" y="0"/>
                </a:moveTo>
                <a:lnTo>
                  <a:pt x="22101" y="0"/>
                </a:lnTo>
                <a:lnTo>
                  <a:pt x="20701" y="1400"/>
                </a:lnTo>
                <a:lnTo>
                  <a:pt x="1400" y="1400"/>
                </a:lnTo>
                <a:close/>
              </a:path>
              <a:path fill="darken" w="22101" h="21600">
                <a:moveTo>
                  <a:pt x="22101" y="0"/>
                </a:moveTo>
                <a:lnTo>
                  <a:pt x="22101" y="21600"/>
                </a:lnTo>
                <a:lnTo>
                  <a:pt x="20701" y="20200"/>
                </a:lnTo>
                <a:lnTo>
                  <a:pt x="20701" y="1400"/>
                </a:lnTo>
                <a:close/>
              </a:path>
              <a:path fill="darkenLess" w="22101" h="21600">
                <a:moveTo>
                  <a:pt x="22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01" y="20200"/>
                </a:lnTo>
                <a:close/>
              </a:path>
              <a:path fill="lighten" w="22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01" h="21600">
                <a:moveTo>
                  <a:pt x="4044" y="3794"/>
                </a:moveTo>
                <a:lnTo>
                  <a:pt x="18057" y="10800"/>
                </a:lnTo>
                <a:lnTo>
                  <a:pt x="404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06920" y="5985000"/>
            <a:ext cx="1362240" cy="20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3333cc"/>
                </a:solidFill>
                <a:uFillTx/>
                <a:latin typeface="Comic Sans MS"/>
              </a:rPr>
              <a:t>Animation Robot  DRes100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64400" y="6026040"/>
            <a:ext cx="127080" cy="123840"/>
          </a:xfrm>
          <a:custGeom>
            <a:avLst/>
            <a:gdLst>
              <a:gd name="textAreaLeft" fmla="*/ 7920 w 127080"/>
              <a:gd name="textAreaRight" fmla="*/ 119160 w 127080"/>
              <a:gd name="textAreaTop" fmla="*/ 7920 h 123840"/>
              <a:gd name="textAreaBottom" fmla="*/ 115920 h 123840"/>
            </a:gdLst>
            <a:ahLst/>
            <a:rect l="textAreaLeft" t="textAreaTop" r="textAreaRight" b="textAreaBottom"/>
            <a:pathLst>
              <a:path w="22163" h="21600">
                <a:moveTo>
                  <a:pt x="0" y="0"/>
                </a:moveTo>
                <a:lnTo>
                  <a:pt x="22163" y="0"/>
                </a:lnTo>
                <a:lnTo>
                  <a:pt x="22163" y="21600"/>
                </a:lnTo>
                <a:lnTo>
                  <a:pt x="0" y="21600"/>
                </a:lnTo>
                <a:close/>
              </a:path>
              <a:path fill="lightenLess" w="22163" h="21600">
                <a:moveTo>
                  <a:pt x="0" y="0"/>
                </a:moveTo>
                <a:lnTo>
                  <a:pt x="22163" y="0"/>
                </a:lnTo>
                <a:lnTo>
                  <a:pt x="20763" y="1400"/>
                </a:lnTo>
                <a:lnTo>
                  <a:pt x="1400" y="1400"/>
                </a:lnTo>
                <a:close/>
              </a:path>
              <a:path fill="darken" w="22163" h="21600">
                <a:moveTo>
                  <a:pt x="22163" y="0"/>
                </a:moveTo>
                <a:lnTo>
                  <a:pt x="22163" y="21600"/>
                </a:lnTo>
                <a:lnTo>
                  <a:pt x="20763" y="20200"/>
                </a:lnTo>
                <a:lnTo>
                  <a:pt x="20763" y="1400"/>
                </a:lnTo>
                <a:close/>
              </a:path>
              <a:path fill="darkenLess" w="22163" h="21600">
                <a:moveTo>
                  <a:pt x="22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63" y="20200"/>
                </a:lnTo>
                <a:close/>
              </a:path>
              <a:path fill="lighten" w="22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63" h="21600">
                <a:moveTo>
                  <a:pt x="4075" y="3794"/>
                </a:moveTo>
                <a:lnTo>
                  <a:pt x="18088" y="10800"/>
                </a:lnTo>
                <a:lnTo>
                  <a:pt x="4075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>
            <a:hlinkClick r:id="" action="ppaction://hlinkshowjump?jump=previousslide"/>
          </p:cNvPr>
          <p:cNvSpPr/>
          <p:nvPr/>
        </p:nvSpPr>
        <p:spPr>
          <a:xfrm>
            <a:off x="8056440" y="44280"/>
            <a:ext cx="244440" cy="228600"/>
          </a:xfrm>
          <a:custGeom>
            <a:avLst/>
            <a:gdLst>
              <a:gd name="textAreaLeft" fmla="*/ 14760 w 244440"/>
              <a:gd name="textAreaRight" fmla="*/ 229680 w 244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3094" h="21600">
                <a:moveTo>
                  <a:pt x="0" y="0"/>
                </a:moveTo>
                <a:lnTo>
                  <a:pt x="23094" y="0"/>
                </a:lnTo>
                <a:lnTo>
                  <a:pt x="23094" y="21600"/>
                </a:lnTo>
                <a:lnTo>
                  <a:pt x="0" y="21600"/>
                </a:lnTo>
                <a:close/>
              </a:path>
              <a:path fill="lightenLess" w="23094" h="21600">
                <a:moveTo>
                  <a:pt x="0" y="0"/>
                </a:moveTo>
                <a:lnTo>
                  <a:pt x="23094" y="0"/>
                </a:lnTo>
                <a:lnTo>
                  <a:pt x="21694" y="1400"/>
                </a:lnTo>
                <a:lnTo>
                  <a:pt x="1400" y="1400"/>
                </a:lnTo>
                <a:close/>
              </a:path>
              <a:path fill="darken" w="23094" h="21600">
                <a:moveTo>
                  <a:pt x="23094" y="0"/>
                </a:moveTo>
                <a:lnTo>
                  <a:pt x="23094" y="21600"/>
                </a:lnTo>
                <a:lnTo>
                  <a:pt x="21694" y="20200"/>
                </a:lnTo>
                <a:lnTo>
                  <a:pt x="21694" y="1400"/>
                </a:lnTo>
                <a:close/>
              </a:path>
              <a:path fill="darkenLess" w="23094" h="21600">
                <a:moveTo>
                  <a:pt x="230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4" y="20200"/>
                </a:lnTo>
                <a:close/>
              </a:path>
              <a:path fill="lighten" w="230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4" h="21600">
                <a:moveTo>
                  <a:pt x="4541" y="10800"/>
                </a:moveTo>
                <a:lnTo>
                  <a:pt x="18554" y="3794"/>
                </a:lnTo>
                <a:lnTo>
                  <a:pt x="18554" y="178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344080" y="44280"/>
            <a:ext cx="244440" cy="228600"/>
          </a:xfrm>
          <a:custGeom>
            <a:avLst/>
            <a:gdLst>
              <a:gd name="textAreaLeft" fmla="*/ 14760 w 244440"/>
              <a:gd name="textAreaRight" fmla="*/ 229680 w 244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3094" h="21600">
                <a:moveTo>
                  <a:pt x="0" y="0"/>
                </a:moveTo>
                <a:lnTo>
                  <a:pt x="23094" y="0"/>
                </a:lnTo>
                <a:lnTo>
                  <a:pt x="23094" y="21600"/>
                </a:lnTo>
                <a:lnTo>
                  <a:pt x="0" y="21600"/>
                </a:lnTo>
                <a:close/>
              </a:path>
              <a:path fill="lightenLess" w="23094" h="21600">
                <a:moveTo>
                  <a:pt x="0" y="0"/>
                </a:moveTo>
                <a:lnTo>
                  <a:pt x="23094" y="0"/>
                </a:lnTo>
                <a:lnTo>
                  <a:pt x="21694" y="1400"/>
                </a:lnTo>
                <a:lnTo>
                  <a:pt x="1400" y="1400"/>
                </a:lnTo>
                <a:close/>
              </a:path>
              <a:path fill="darken" w="23094" h="21600">
                <a:moveTo>
                  <a:pt x="23094" y="0"/>
                </a:moveTo>
                <a:lnTo>
                  <a:pt x="23094" y="21600"/>
                </a:lnTo>
                <a:lnTo>
                  <a:pt x="21694" y="20200"/>
                </a:lnTo>
                <a:lnTo>
                  <a:pt x="21694" y="1400"/>
                </a:lnTo>
                <a:close/>
              </a:path>
              <a:path fill="darkenLess" w="23094" h="21600">
                <a:moveTo>
                  <a:pt x="230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4" y="20200"/>
                </a:lnTo>
                <a:close/>
              </a:path>
              <a:path fill="lighten" w="230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4" h="21600">
                <a:moveTo>
                  <a:pt x="4541" y="3794"/>
                </a:moveTo>
                <a:lnTo>
                  <a:pt x="18554" y="10800"/>
                </a:lnTo>
                <a:lnTo>
                  <a:pt x="4541" y="178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390600"/>
            <a:ext cx="9144000" cy="6467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359240" y="1082520"/>
            <a:ext cx="6480" cy="13478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390600"/>
            <a:ext cx="9144000" cy="646740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8056440" y="44280"/>
            <a:ext cx="244440" cy="228600"/>
          </a:xfrm>
          <a:custGeom>
            <a:avLst/>
            <a:gdLst>
              <a:gd name="textAreaLeft" fmla="*/ 14760 w 244440"/>
              <a:gd name="textAreaRight" fmla="*/ 229680 w 244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3094" h="21600">
                <a:moveTo>
                  <a:pt x="0" y="0"/>
                </a:moveTo>
                <a:lnTo>
                  <a:pt x="23094" y="0"/>
                </a:lnTo>
                <a:lnTo>
                  <a:pt x="23094" y="21600"/>
                </a:lnTo>
                <a:lnTo>
                  <a:pt x="0" y="21600"/>
                </a:lnTo>
                <a:close/>
              </a:path>
              <a:path fill="lightenLess" w="23094" h="21600">
                <a:moveTo>
                  <a:pt x="0" y="0"/>
                </a:moveTo>
                <a:lnTo>
                  <a:pt x="23094" y="0"/>
                </a:lnTo>
                <a:lnTo>
                  <a:pt x="21694" y="1400"/>
                </a:lnTo>
                <a:lnTo>
                  <a:pt x="1400" y="1400"/>
                </a:lnTo>
                <a:close/>
              </a:path>
              <a:path fill="darken" w="23094" h="21600">
                <a:moveTo>
                  <a:pt x="23094" y="0"/>
                </a:moveTo>
                <a:lnTo>
                  <a:pt x="23094" y="21600"/>
                </a:lnTo>
                <a:lnTo>
                  <a:pt x="21694" y="20200"/>
                </a:lnTo>
                <a:lnTo>
                  <a:pt x="21694" y="1400"/>
                </a:lnTo>
                <a:close/>
              </a:path>
              <a:path fill="darkenLess" w="23094" h="21600">
                <a:moveTo>
                  <a:pt x="230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4" y="20200"/>
                </a:lnTo>
                <a:close/>
              </a:path>
              <a:path fill="lighten" w="230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4" h="21600">
                <a:moveTo>
                  <a:pt x="4541" y="10800"/>
                </a:moveTo>
                <a:lnTo>
                  <a:pt x="18554" y="3794"/>
                </a:lnTo>
                <a:lnTo>
                  <a:pt x="18554" y="178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8344080" y="44280"/>
            <a:ext cx="244440" cy="228600"/>
          </a:xfrm>
          <a:custGeom>
            <a:avLst/>
            <a:gdLst>
              <a:gd name="textAreaLeft" fmla="*/ 14760 w 244440"/>
              <a:gd name="textAreaRight" fmla="*/ 229680 w 244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3094" h="21600">
                <a:moveTo>
                  <a:pt x="0" y="0"/>
                </a:moveTo>
                <a:lnTo>
                  <a:pt x="23094" y="0"/>
                </a:lnTo>
                <a:lnTo>
                  <a:pt x="23094" y="21600"/>
                </a:lnTo>
                <a:lnTo>
                  <a:pt x="0" y="21600"/>
                </a:lnTo>
                <a:close/>
              </a:path>
              <a:path fill="lightenLess" w="23094" h="21600">
                <a:moveTo>
                  <a:pt x="0" y="0"/>
                </a:moveTo>
                <a:lnTo>
                  <a:pt x="23094" y="0"/>
                </a:lnTo>
                <a:lnTo>
                  <a:pt x="21694" y="1400"/>
                </a:lnTo>
                <a:lnTo>
                  <a:pt x="1400" y="1400"/>
                </a:lnTo>
                <a:close/>
              </a:path>
              <a:path fill="darken" w="23094" h="21600">
                <a:moveTo>
                  <a:pt x="23094" y="0"/>
                </a:moveTo>
                <a:lnTo>
                  <a:pt x="23094" y="21600"/>
                </a:lnTo>
                <a:lnTo>
                  <a:pt x="21694" y="20200"/>
                </a:lnTo>
                <a:lnTo>
                  <a:pt x="21694" y="1400"/>
                </a:lnTo>
                <a:close/>
              </a:path>
              <a:path fill="darkenLess" w="23094" h="21600">
                <a:moveTo>
                  <a:pt x="230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4" y="20200"/>
                </a:lnTo>
                <a:close/>
              </a:path>
              <a:path fill="lighten" w="230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4" h="21600">
                <a:moveTo>
                  <a:pt x="4541" y="3794"/>
                </a:moveTo>
                <a:lnTo>
                  <a:pt x="18554" y="10800"/>
                </a:lnTo>
                <a:lnTo>
                  <a:pt x="4541" y="178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390600"/>
            <a:ext cx="9144000" cy="6467400"/>
          </a:xfrm>
          <a:prstGeom prst="rect">
            <a:avLst/>
          </a:prstGeom>
          <a:ln w="0">
            <a:noFill/>
          </a:ln>
        </p:spPr>
      </p:pic>
      <p:sp>
        <p:nvSpPr>
          <p:cNvPr id="109" name="">
            <a:hlinkClick r:id="" action="ppaction://hlinkshowjump?jump=previousslide"/>
          </p:cNvPr>
          <p:cNvSpPr/>
          <p:nvPr/>
        </p:nvSpPr>
        <p:spPr>
          <a:xfrm>
            <a:off x="8056440" y="44280"/>
            <a:ext cx="244440" cy="228600"/>
          </a:xfrm>
          <a:custGeom>
            <a:avLst/>
            <a:gdLst>
              <a:gd name="textAreaLeft" fmla="*/ 14760 w 244440"/>
              <a:gd name="textAreaRight" fmla="*/ 229680 w 244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3094" h="21600">
                <a:moveTo>
                  <a:pt x="0" y="0"/>
                </a:moveTo>
                <a:lnTo>
                  <a:pt x="23094" y="0"/>
                </a:lnTo>
                <a:lnTo>
                  <a:pt x="23094" y="21600"/>
                </a:lnTo>
                <a:lnTo>
                  <a:pt x="0" y="21600"/>
                </a:lnTo>
                <a:close/>
              </a:path>
              <a:path fill="lightenLess" w="23094" h="21600">
                <a:moveTo>
                  <a:pt x="0" y="0"/>
                </a:moveTo>
                <a:lnTo>
                  <a:pt x="23094" y="0"/>
                </a:lnTo>
                <a:lnTo>
                  <a:pt x="21694" y="1400"/>
                </a:lnTo>
                <a:lnTo>
                  <a:pt x="1400" y="1400"/>
                </a:lnTo>
                <a:close/>
              </a:path>
              <a:path fill="darken" w="23094" h="21600">
                <a:moveTo>
                  <a:pt x="23094" y="0"/>
                </a:moveTo>
                <a:lnTo>
                  <a:pt x="23094" y="21600"/>
                </a:lnTo>
                <a:lnTo>
                  <a:pt x="21694" y="20200"/>
                </a:lnTo>
                <a:lnTo>
                  <a:pt x="21694" y="1400"/>
                </a:lnTo>
                <a:close/>
              </a:path>
              <a:path fill="darkenLess" w="23094" h="21600">
                <a:moveTo>
                  <a:pt x="230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4" y="20200"/>
                </a:lnTo>
                <a:close/>
              </a:path>
              <a:path fill="lighten" w="230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4" h="21600">
                <a:moveTo>
                  <a:pt x="4541" y="10800"/>
                </a:moveTo>
                <a:lnTo>
                  <a:pt x="18554" y="3794"/>
                </a:lnTo>
                <a:lnTo>
                  <a:pt x="18554" y="178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8344080" y="44280"/>
            <a:ext cx="244440" cy="228600"/>
          </a:xfrm>
          <a:custGeom>
            <a:avLst/>
            <a:gdLst>
              <a:gd name="textAreaLeft" fmla="*/ 14760 w 244440"/>
              <a:gd name="textAreaRight" fmla="*/ 229680 w 244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3094" h="21600">
                <a:moveTo>
                  <a:pt x="0" y="0"/>
                </a:moveTo>
                <a:lnTo>
                  <a:pt x="23094" y="0"/>
                </a:lnTo>
                <a:lnTo>
                  <a:pt x="23094" y="21600"/>
                </a:lnTo>
                <a:lnTo>
                  <a:pt x="0" y="21600"/>
                </a:lnTo>
                <a:close/>
              </a:path>
              <a:path fill="lightenLess" w="23094" h="21600">
                <a:moveTo>
                  <a:pt x="0" y="0"/>
                </a:moveTo>
                <a:lnTo>
                  <a:pt x="23094" y="0"/>
                </a:lnTo>
                <a:lnTo>
                  <a:pt x="21694" y="1400"/>
                </a:lnTo>
                <a:lnTo>
                  <a:pt x="1400" y="1400"/>
                </a:lnTo>
                <a:close/>
              </a:path>
              <a:path fill="darken" w="23094" h="21600">
                <a:moveTo>
                  <a:pt x="23094" y="0"/>
                </a:moveTo>
                <a:lnTo>
                  <a:pt x="23094" y="21600"/>
                </a:lnTo>
                <a:lnTo>
                  <a:pt x="21694" y="20200"/>
                </a:lnTo>
                <a:lnTo>
                  <a:pt x="21694" y="1400"/>
                </a:lnTo>
                <a:close/>
              </a:path>
              <a:path fill="darkenLess" w="23094" h="21600">
                <a:moveTo>
                  <a:pt x="230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4" y="20200"/>
                </a:lnTo>
                <a:close/>
              </a:path>
              <a:path fill="lighten" w="230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4" h="21600">
                <a:moveTo>
                  <a:pt x="4541" y="3794"/>
                </a:moveTo>
                <a:lnTo>
                  <a:pt x="18554" y="10800"/>
                </a:lnTo>
                <a:lnTo>
                  <a:pt x="4541" y="178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390600"/>
            <a:ext cx="9144000" cy="646740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8056440" y="44280"/>
            <a:ext cx="244440" cy="228600"/>
          </a:xfrm>
          <a:custGeom>
            <a:avLst/>
            <a:gdLst>
              <a:gd name="textAreaLeft" fmla="*/ 14760 w 244440"/>
              <a:gd name="textAreaRight" fmla="*/ 229680 w 244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3094" h="21600">
                <a:moveTo>
                  <a:pt x="0" y="0"/>
                </a:moveTo>
                <a:lnTo>
                  <a:pt x="23094" y="0"/>
                </a:lnTo>
                <a:lnTo>
                  <a:pt x="23094" y="21600"/>
                </a:lnTo>
                <a:lnTo>
                  <a:pt x="0" y="21600"/>
                </a:lnTo>
                <a:close/>
              </a:path>
              <a:path fill="lightenLess" w="23094" h="21600">
                <a:moveTo>
                  <a:pt x="0" y="0"/>
                </a:moveTo>
                <a:lnTo>
                  <a:pt x="23094" y="0"/>
                </a:lnTo>
                <a:lnTo>
                  <a:pt x="21694" y="1400"/>
                </a:lnTo>
                <a:lnTo>
                  <a:pt x="1400" y="1400"/>
                </a:lnTo>
                <a:close/>
              </a:path>
              <a:path fill="darken" w="23094" h="21600">
                <a:moveTo>
                  <a:pt x="23094" y="0"/>
                </a:moveTo>
                <a:lnTo>
                  <a:pt x="23094" y="21600"/>
                </a:lnTo>
                <a:lnTo>
                  <a:pt x="21694" y="20200"/>
                </a:lnTo>
                <a:lnTo>
                  <a:pt x="21694" y="1400"/>
                </a:lnTo>
                <a:close/>
              </a:path>
              <a:path fill="darkenLess" w="23094" h="21600">
                <a:moveTo>
                  <a:pt x="230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4" y="20200"/>
                </a:lnTo>
                <a:close/>
              </a:path>
              <a:path fill="lighten" w="230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4" h="21600">
                <a:moveTo>
                  <a:pt x="4541" y="10800"/>
                </a:moveTo>
                <a:lnTo>
                  <a:pt x="18554" y="3794"/>
                </a:lnTo>
                <a:lnTo>
                  <a:pt x="18554" y="178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8344080" y="44280"/>
            <a:ext cx="244440" cy="228600"/>
          </a:xfrm>
          <a:custGeom>
            <a:avLst/>
            <a:gdLst>
              <a:gd name="textAreaLeft" fmla="*/ 14760 w 244440"/>
              <a:gd name="textAreaRight" fmla="*/ 229680 w 244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3094" h="21600">
                <a:moveTo>
                  <a:pt x="0" y="0"/>
                </a:moveTo>
                <a:lnTo>
                  <a:pt x="23094" y="0"/>
                </a:lnTo>
                <a:lnTo>
                  <a:pt x="23094" y="21600"/>
                </a:lnTo>
                <a:lnTo>
                  <a:pt x="0" y="21600"/>
                </a:lnTo>
                <a:close/>
              </a:path>
              <a:path fill="lightenLess" w="23094" h="21600">
                <a:moveTo>
                  <a:pt x="0" y="0"/>
                </a:moveTo>
                <a:lnTo>
                  <a:pt x="23094" y="0"/>
                </a:lnTo>
                <a:lnTo>
                  <a:pt x="21694" y="1400"/>
                </a:lnTo>
                <a:lnTo>
                  <a:pt x="1400" y="1400"/>
                </a:lnTo>
                <a:close/>
              </a:path>
              <a:path fill="darken" w="23094" h="21600">
                <a:moveTo>
                  <a:pt x="23094" y="0"/>
                </a:moveTo>
                <a:lnTo>
                  <a:pt x="23094" y="21600"/>
                </a:lnTo>
                <a:lnTo>
                  <a:pt x="21694" y="20200"/>
                </a:lnTo>
                <a:lnTo>
                  <a:pt x="21694" y="1400"/>
                </a:lnTo>
                <a:close/>
              </a:path>
              <a:path fill="darkenLess" w="23094" h="21600">
                <a:moveTo>
                  <a:pt x="230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4" y="20200"/>
                </a:lnTo>
                <a:close/>
              </a:path>
              <a:path fill="lighten" w="230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4" h="21600">
                <a:moveTo>
                  <a:pt x="4541" y="3794"/>
                </a:moveTo>
                <a:lnTo>
                  <a:pt x="18554" y="10800"/>
                </a:lnTo>
                <a:lnTo>
                  <a:pt x="4541" y="178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8056440" y="44280"/>
            <a:ext cx="244440" cy="228600"/>
          </a:xfrm>
          <a:custGeom>
            <a:avLst/>
            <a:gdLst>
              <a:gd name="textAreaLeft" fmla="*/ 14760 w 244440"/>
              <a:gd name="textAreaRight" fmla="*/ 229680 w 244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3094" h="21600">
                <a:moveTo>
                  <a:pt x="0" y="0"/>
                </a:moveTo>
                <a:lnTo>
                  <a:pt x="23094" y="0"/>
                </a:lnTo>
                <a:lnTo>
                  <a:pt x="23094" y="21600"/>
                </a:lnTo>
                <a:lnTo>
                  <a:pt x="0" y="21600"/>
                </a:lnTo>
                <a:close/>
              </a:path>
              <a:path fill="lightenLess" w="23094" h="21600">
                <a:moveTo>
                  <a:pt x="0" y="0"/>
                </a:moveTo>
                <a:lnTo>
                  <a:pt x="23094" y="0"/>
                </a:lnTo>
                <a:lnTo>
                  <a:pt x="21694" y="1400"/>
                </a:lnTo>
                <a:lnTo>
                  <a:pt x="1400" y="1400"/>
                </a:lnTo>
                <a:close/>
              </a:path>
              <a:path fill="darken" w="23094" h="21600">
                <a:moveTo>
                  <a:pt x="23094" y="0"/>
                </a:moveTo>
                <a:lnTo>
                  <a:pt x="23094" y="21600"/>
                </a:lnTo>
                <a:lnTo>
                  <a:pt x="21694" y="20200"/>
                </a:lnTo>
                <a:lnTo>
                  <a:pt x="21694" y="1400"/>
                </a:lnTo>
                <a:close/>
              </a:path>
              <a:path fill="darkenLess" w="23094" h="21600">
                <a:moveTo>
                  <a:pt x="230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4" y="20200"/>
                </a:lnTo>
                <a:close/>
              </a:path>
              <a:path fill="lighten" w="230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4" h="21600">
                <a:moveTo>
                  <a:pt x="4541" y="10800"/>
                </a:moveTo>
                <a:lnTo>
                  <a:pt x="18554" y="3794"/>
                </a:lnTo>
                <a:lnTo>
                  <a:pt x="18554" y="178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8344080" y="44280"/>
            <a:ext cx="244440" cy="228600"/>
          </a:xfrm>
          <a:custGeom>
            <a:avLst/>
            <a:gdLst>
              <a:gd name="textAreaLeft" fmla="*/ 14760 w 244440"/>
              <a:gd name="textAreaRight" fmla="*/ 229680 w 244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3094" h="21600">
                <a:moveTo>
                  <a:pt x="0" y="0"/>
                </a:moveTo>
                <a:lnTo>
                  <a:pt x="23094" y="0"/>
                </a:lnTo>
                <a:lnTo>
                  <a:pt x="23094" y="21600"/>
                </a:lnTo>
                <a:lnTo>
                  <a:pt x="0" y="21600"/>
                </a:lnTo>
                <a:close/>
              </a:path>
              <a:path fill="lightenLess" w="23094" h="21600">
                <a:moveTo>
                  <a:pt x="0" y="0"/>
                </a:moveTo>
                <a:lnTo>
                  <a:pt x="23094" y="0"/>
                </a:lnTo>
                <a:lnTo>
                  <a:pt x="21694" y="1400"/>
                </a:lnTo>
                <a:lnTo>
                  <a:pt x="1400" y="1400"/>
                </a:lnTo>
                <a:close/>
              </a:path>
              <a:path fill="darken" w="23094" h="21600">
                <a:moveTo>
                  <a:pt x="23094" y="0"/>
                </a:moveTo>
                <a:lnTo>
                  <a:pt x="23094" y="21600"/>
                </a:lnTo>
                <a:lnTo>
                  <a:pt x="21694" y="20200"/>
                </a:lnTo>
                <a:lnTo>
                  <a:pt x="21694" y="1400"/>
                </a:lnTo>
                <a:close/>
              </a:path>
              <a:path fill="darkenLess" w="23094" h="21600">
                <a:moveTo>
                  <a:pt x="230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4" y="20200"/>
                </a:lnTo>
                <a:close/>
              </a:path>
              <a:path fill="lighten" w="230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4" h="21600">
                <a:moveTo>
                  <a:pt x="4541" y="3794"/>
                </a:moveTo>
                <a:lnTo>
                  <a:pt x="18554" y="10800"/>
                </a:lnTo>
                <a:lnTo>
                  <a:pt x="4541" y="178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390600"/>
            <a:ext cx="9144000" cy="646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>
            <a:hlinkClick r:id="" action="ppaction://hlinkshowjump?jump=previousslide"/>
          </p:cNvPr>
          <p:cNvSpPr/>
          <p:nvPr/>
        </p:nvSpPr>
        <p:spPr>
          <a:xfrm>
            <a:off x="8056440" y="44280"/>
            <a:ext cx="244440" cy="228600"/>
          </a:xfrm>
          <a:custGeom>
            <a:avLst/>
            <a:gdLst>
              <a:gd name="textAreaLeft" fmla="*/ 14760 w 244440"/>
              <a:gd name="textAreaRight" fmla="*/ 229680 w 244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3094" h="21600">
                <a:moveTo>
                  <a:pt x="0" y="0"/>
                </a:moveTo>
                <a:lnTo>
                  <a:pt x="23094" y="0"/>
                </a:lnTo>
                <a:lnTo>
                  <a:pt x="23094" y="21600"/>
                </a:lnTo>
                <a:lnTo>
                  <a:pt x="0" y="21600"/>
                </a:lnTo>
                <a:close/>
              </a:path>
              <a:path fill="lightenLess" w="23094" h="21600">
                <a:moveTo>
                  <a:pt x="0" y="0"/>
                </a:moveTo>
                <a:lnTo>
                  <a:pt x="23094" y="0"/>
                </a:lnTo>
                <a:lnTo>
                  <a:pt x="21694" y="1400"/>
                </a:lnTo>
                <a:lnTo>
                  <a:pt x="1400" y="1400"/>
                </a:lnTo>
                <a:close/>
              </a:path>
              <a:path fill="darken" w="23094" h="21600">
                <a:moveTo>
                  <a:pt x="23094" y="0"/>
                </a:moveTo>
                <a:lnTo>
                  <a:pt x="23094" y="21600"/>
                </a:lnTo>
                <a:lnTo>
                  <a:pt x="21694" y="20200"/>
                </a:lnTo>
                <a:lnTo>
                  <a:pt x="21694" y="1400"/>
                </a:lnTo>
                <a:close/>
              </a:path>
              <a:path fill="darkenLess" w="23094" h="21600">
                <a:moveTo>
                  <a:pt x="230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4" y="20200"/>
                </a:lnTo>
                <a:close/>
              </a:path>
              <a:path fill="lighten" w="230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4" h="21600">
                <a:moveTo>
                  <a:pt x="4541" y="10800"/>
                </a:moveTo>
                <a:lnTo>
                  <a:pt x="18554" y="3794"/>
                </a:lnTo>
                <a:lnTo>
                  <a:pt x="18554" y="178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8344080" y="44280"/>
            <a:ext cx="244440" cy="228600"/>
          </a:xfrm>
          <a:custGeom>
            <a:avLst/>
            <a:gdLst>
              <a:gd name="textAreaLeft" fmla="*/ 14760 w 244440"/>
              <a:gd name="textAreaRight" fmla="*/ 229680 w 244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3094" h="21600">
                <a:moveTo>
                  <a:pt x="0" y="0"/>
                </a:moveTo>
                <a:lnTo>
                  <a:pt x="23094" y="0"/>
                </a:lnTo>
                <a:lnTo>
                  <a:pt x="23094" y="21600"/>
                </a:lnTo>
                <a:lnTo>
                  <a:pt x="0" y="21600"/>
                </a:lnTo>
                <a:close/>
              </a:path>
              <a:path fill="lightenLess" w="23094" h="21600">
                <a:moveTo>
                  <a:pt x="0" y="0"/>
                </a:moveTo>
                <a:lnTo>
                  <a:pt x="23094" y="0"/>
                </a:lnTo>
                <a:lnTo>
                  <a:pt x="21694" y="1400"/>
                </a:lnTo>
                <a:lnTo>
                  <a:pt x="1400" y="1400"/>
                </a:lnTo>
                <a:close/>
              </a:path>
              <a:path fill="darken" w="23094" h="21600">
                <a:moveTo>
                  <a:pt x="23094" y="0"/>
                </a:moveTo>
                <a:lnTo>
                  <a:pt x="23094" y="21600"/>
                </a:lnTo>
                <a:lnTo>
                  <a:pt x="21694" y="20200"/>
                </a:lnTo>
                <a:lnTo>
                  <a:pt x="21694" y="1400"/>
                </a:lnTo>
                <a:close/>
              </a:path>
              <a:path fill="darkenLess" w="23094" h="21600">
                <a:moveTo>
                  <a:pt x="230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4" y="20200"/>
                </a:lnTo>
                <a:close/>
              </a:path>
              <a:path fill="lighten" w="230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4" h="21600">
                <a:moveTo>
                  <a:pt x="4541" y="3794"/>
                </a:moveTo>
                <a:lnTo>
                  <a:pt x="18554" y="10800"/>
                </a:lnTo>
                <a:lnTo>
                  <a:pt x="4541" y="178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390600"/>
            <a:ext cx="9144000" cy="646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ourbe w2 B2-B1" descr=""/>
          <p:cNvPicPr/>
          <p:nvPr/>
        </p:nvPicPr>
        <p:blipFill>
          <a:blip r:embed="rId2"/>
          <a:stretch/>
        </p:blipFill>
        <p:spPr>
          <a:xfrm>
            <a:off x="372960" y="1649520"/>
            <a:ext cx="3676680" cy="3943080"/>
          </a:xfrm>
          <a:prstGeom prst="rect">
            <a:avLst/>
          </a:prstGeom>
          <a:ln w="0">
            <a:noFill/>
          </a:ln>
        </p:spPr>
      </p:pic>
      <p:pic>
        <p:nvPicPr>
          <p:cNvPr id="121" name="Courbe w3 B3-B2" descr=""/>
          <p:cNvPicPr/>
          <p:nvPr/>
        </p:nvPicPr>
        <p:blipFill>
          <a:blip r:embed="rId3"/>
          <a:stretch/>
        </p:blipFill>
        <p:spPr>
          <a:xfrm>
            <a:off x="5087880" y="1616040"/>
            <a:ext cx="3686400" cy="3943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649040" y="1342440"/>
            <a:ext cx="450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urbe de définition de la vitesse angulaire de l’axe J3 : ω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11880" y="1328040"/>
            <a:ext cx="450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urbe de définition de la vitesse angulaire de l’axe J2 : ω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877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8056440" y="44280"/>
            <a:ext cx="244440" cy="228600"/>
          </a:xfrm>
          <a:custGeom>
            <a:avLst/>
            <a:gdLst>
              <a:gd name="textAreaLeft" fmla="*/ 14760 w 244440"/>
              <a:gd name="textAreaRight" fmla="*/ 229680 w 244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3094" h="21600">
                <a:moveTo>
                  <a:pt x="0" y="0"/>
                </a:moveTo>
                <a:lnTo>
                  <a:pt x="23094" y="0"/>
                </a:lnTo>
                <a:lnTo>
                  <a:pt x="23094" y="21600"/>
                </a:lnTo>
                <a:lnTo>
                  <a:pt x="0" y="21600"/>
                </a:lnTo>
                <a:close/>
              </a:path>
              <a:path fill="lightenLess" w="23094" h="21600">
                <a:moveTo>
                  <a:pt x="0" y="0"/>
                </a:moveTo>
                <a:lnTo>
                  <a:pt x="23094" y="0"/>
                </a:lnTo>
                <a:lnTo>
                  <a:pt x="21694" y="1400"/>
                </a:lnTo>
                <a:lnTo>
                  <a:pt x="1400" y="1400"/>
                </a:lnTo>
                <a:close/>
              </a:path>
              <a:path fill="darken" w="23094" h="21600">
                <a:moveTo>
                  <a:pt x="23094" y="0"/>
                </a:moveTo>
                <a:lnTo>
                  <a:pt x="23094" y="21600"/>
                </a:lnTo>
                <a:lnTo>
                  <a:pt x="21694" y="20200"/>
                </a:lnTo>
                <a:lnTo>
                  <a:pt x="21694" y="1400"/>
                </a:lnTo>
                <a:close/>
              </a:path>
              <a:path fill="darkenLess" w="23094" h="21600">
                <a:moveTo>
                  <a:pt x="230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4" y="20200"/>
                </a:lnTo>
                <a:close/>
              </a:path>
              <a:path fill="lighten" w="230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4" h="21600">
                <a:moveTo>
                  <a:pt x="4541" y="10800"/>
                </a:moveTo>
                <a:lnTo>
                  <a:pt x="18554" y="3794"/>
                </a:lnTo>
                <a:lnTo>
                  <a:pt x="18554" y="178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8344080" y="44280"/>
            <a:ext cx="244440" cy="228600"/>
          </a:xfrm>
          <a:custGeom>
            <a:avLst/>
            <a:gdLst>
              <a:gd name="textAreaLeft" fmla="*/ 14760 w 244440"/>
              <a:gd name="textAreaRight" fmla="*/ 229680 w 244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3094" h="21600">
                <a:moveTo>
                  <a:pt x="0" y="0"/>
                </a:moveTo>
                <a:lnTo>
                  <a:pt x="23094" y="0"/>
                </a:lnTo>
                <a:lnTo>
                  <a:pt x="23094" y="21600"/>
                </a:lnTo>
                <a:lnTo>
                  <a:pt x="0" y="21600"/>
                </a:lnTo>
                <a:close/>
              </a:path>
              <a:path fill="lightenLess" w="23094" h="21600">
                <a:moveTo>
                  <a:pt x="0" y="0"/>
                </a:moveTo>
                <a:lnTo>
                  <a:pt x="23094" y="0"/>
                </a:lnTo>
                <a:lnTo>
                  <a:pt x="21694" y="1400"/>
                </a:lnTo>
                <a:lnTo>
                  <a:pt x="1400" y="1400"/>
                </a:lnTo>
                <a:close/>
              </a:path>
              <a:path fill="darken" w="23094" h="21600">
                <a:moveTo>
                  <a:pt x="23094" y="0"/>
                </a:moveTo>
                <a:lnTo>
                  <a:pt x="23094" y="21600"/>
                </a:lnTo>
                <a:lnTo>
                  <a:pt x="21694" y="20200"/>
                </a:lnTo>
                <a:lnTo>
                  <a:pt x="21694" y="1400"/>
                </a:lnTo>
                <a:close/>
              </a:path>
              <a:path fill="darkenLess" w="23094" h="21600">
                <a:moveTo>
                  <a:pt x="230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4" y="20200"/>
                </a:lnTo>
                <a:close/>
              </a:path>
              <a:path fill="lighten" w="230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4" h="21600">
                <a:moveTo>
                  <a:pt x="4541" y="3794"/>
                </a:moveTo>
                <a:lnTo>
                  <a:pt x="18554" y="10800"/>
                </a:lnTo>
                <a:lnTo>
                  <a:pt x="4541" y="178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18:54:44Z</dcterms:created>
  <dc:creator/>
  <dc:description/>
  <dc:language>en-US</dc:language>
  <cp:lastModifiedBy>LAMARQUE</cp:lastModifiedBy>
  <dcterms:modified xsi:type="dcterms:W3CDTF">2009-01-28T08:08:05Z</dcterms:modified>
  <cp:revision>103</cp:revision>
  <dc:subject/>
  <dc:title>Présentation PowerPoint</dc:title>
</cp:coreProperties>
</file>