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1430000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155-36AF-4B87-8801-60D8F6D1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7160" y="2311200"/>
            <a:ext cx="971568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7160" y="4818600"/>
            <a:ext cx="971568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2D4-DADB-4676-A74A-9F955DAD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7160" y="23112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5960" y="23112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7160" y="48186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5960" y="48186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183-6C75-4103-9743-70251D86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7160" y="2311200"/>
            <a:ext cx="312804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2160" y="2311200"/>
            <a:ext cx="312804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0" y="2311200"/>
            <a:ext cx="312804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7160" y="4818600"/>
            <a:ext cx="312804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2160" y="4818600"/>
            <a:ext cx="312804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26800" y="4818600"/>
            <a:ext cx="312804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89D-74A6-44F6-AF22-5D21CC9A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7160" y="2311200"/>
            <a:ext cx="9715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416-DE5D-44C6-94A5-EA25B2BA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7160" y="2311200"/>
            <a:ext cx="9715680" cy="4800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9BD-19D8-4218-BCEB-7D774E7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7160" y="2311200"/>
            <a:ext cx="4741200" cy="4800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5960" y="2311200"/>
            <a:ext cx="4741200" cy="4800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623-D9C0-4A00-B95F-2D9547FF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C84-76C4-48C9-B064-C998693A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7160" y="711360"/>
            <a:ext cx="971568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E1D-658D-417D-9F32-68C7F08F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7160" y="23112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5960" y="2311200"/>
            <a:ext cx="4741200" cy="4800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7160" y="48186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4DD-54CB-4CD8-9958-5445875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7160" y="2311200"/>
            <a:ext cx="4741200" cy="4800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5960" y="23112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5960" y="48186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64C-8B72-4301-9B76-A8E15AF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7160" y="23112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5960" y="2311200"/>
            <a:ext cx="474120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7160" y="4818600"/>
            <a:ext cx="9715680" cy="2289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EE7-FB1C-4EE1-BB22-02F329D5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7160" y="711360"/>
            <a:ext cx="9715680" cy="13334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7160" y="2311200"/>
            <a:ext cx="9715680" cy="480060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rmAutofit fontScale="95000"/>
          </a:bodyPr>
          <a:p>
            <a:pPr marL="394920" indent="-39492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56440" indent="-3286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7960" indent="-2638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6080" indent="-2638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373480" indent="-2638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373480" indent="-2638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373480" indent="-2638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6800" y="7289640"/>
            <a:ext cx="2381400" cy="53352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05280" y="7289640"/>
            <a:ext cx="3619440" cy="53352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91080" y="7289640"/>
            <a:ext cx="2381400" cy="53352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fld id="{6723E384-DFB9-4CB9-A11D-0CDA71006158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429000"/>
            <a:ext cx="1676160" cy="96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acher le sar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e vigne sur un fil porteur  en simplifiant l'action du vigner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4114800"/>
            <a:ext cx="2209680" cy="41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: Nouer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à partir de l'énergie électr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2209680" cy="41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: Couper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e fil d'attache à partir de l'énergie électromagnét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181480"/>
            <a:ext cx="2209680" cy="41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: Stocker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le fil d'attache et le restit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5715000"/>
            <a:ext cx="2209680" cy="26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: Stocker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l'énergie électr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6095880"/>
            <a:ext cx="2209680" cy="26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: Gérer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'atta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438280"/>
            <a:ext cx="220968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: Générer le lien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autour du sarment et du fil porteur à partir de l'énergie manu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>
            <a:off x="2209680" y="3911400"/>
            <a:ext cx="533880" cy="413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6" idx="3"/>
          </p:cNvCxnSpPr>
          <p:nvPr/>
        </p:nvCxnSpPr>
        <p:spPr>
          <a:xfrm flipV="1">
            <a:off x="4952880" y="6223320"/>
            <a:ext cx="3734640" cy="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0" name=""/>
          <p:cNvCxnSpPr>
            <a:stCxn id="45" idx="3"/>
          </p:cNvCxnSpPr>
          <p:nvPr/>
        </p:nvCxnSpPr>
        <p:spPr>
          <a:xfrm flipV="1">
            <a:off x="4952880" y="5842440"/>
            <a:ext cx="3734640" cy="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" name=""/>
          <p:cNvCxnSpPr>
            <a:stCxn id="44" idx="3"/>
          </p:cNvCxnSpPr>
          <p:nvPr/>
        </p:nvCxnSpPr>
        <p:spPr>
          <a:xfrm flipV="1">
            <a:off x="4952880" y="5385240"/>
            <a:ext cx="3734640" cy="6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" name=""/>
          <p:cNvCxnSpPr>
            <a:stCxn id="43" idx="3"/>
          </p:cNvCxnSpPr>
          <p:nvPr/>
        </p:nvCxnSpPr>
        <p:spPr>
          <a:xfrm flipV="1">
            <a:off x="4952880" y="4851720"/>
            <a:ext cx="3734640" cy="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" name=""/>
          <p:cNvCxnSpPr>
            <a:stCxn id="42" idx="3"/>
          </p:cNvCxnSpPr>
          <p:nvPr/>
        </p:nvCxnSpPr>
        <p:spPr>
          <a:xfrm flipV="1">
            <a:off x="4952880" y="4318200"/>
            <a:ext cx="3734640" cy="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4" name=""/>
          <p:cNvSpPr/>
          <p:nvPr/>
        </p:nvSpPr>
        <p:spPr>
          <a:xfrm>
            <a:off x="5143680" y="2438280"/>
            <a:ext cx="990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iff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 sarment sur le fil porteu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2438280"/>
            <a:ext cx="9144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e avanc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 fil d'atta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2438280"/>
            <a:ext cx="838080" cy="55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éplac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 guide f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3076560"/>
            <a:ext cx="838080" cy="55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c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 fil d'atta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3"/>
            <a:endCxn id="54" idx="1"/>
          </p:cNvCxnSpPr>
          <p:nvPr/>
        </p:nvCxnSpPr>
        <p:spPr>
          <a:xfrm flipV="1">
            <a:off x="4952880" y="2713680"/>
            <a:ext cx="19116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4" idx="3"/>
            <a:endCxn id="55" idx="1"/>
          </p:cNvCxnSpPr>
          <p:nvPr/>
        </p:nvCxnSpPr>
        <p:spPr>
          <a:xfrm>
            <a:off x="6134040" y="2713680"/>
            <a:ext cx="190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>
            <a:off x="7238880" y="2713680"/>
            <a:ext cx="30528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7" idx="1"/>
            <a:endCxn id="56" idx="1"/>
          </p:cNvCxnSpPr>
          <p:nvPr/>
        </p:nvCxnSpPr>
        <p:spPr>
          <a:xfrm rot="10800000">
            <a:off x="7543800" y="2714760"/>
            <a:ext cx="360" cy="63864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41" idx="3"/>
            <a:endCxn id="43" idx="1"/>
          </p:cNvCxnSpPr>
          <p:nvPr/>
        </p:nvCxnSpPr>
        <p:spPr>
          <a:xfrm>
            <a:off x="2209680" y="3911400"/>
            <a:ext cx="533880" cy="94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"/>
          <p:cNvSpPr/>
          <p:nvPr/>
        </p:nvSpPr>
        <p:spPr>
          <a:xfrm>
            <a:off x="8763120" y="3784680"/>
            <a:ext cx="1676160" cy="40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our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e sar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 le fil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/>
          <p:nvPr/>
        </p:nvCxnSpPr>
        <p:spPr>
          <a:xfrm flipV="1">
            <a:off x="8381880" y="3352320"/>
            <a:ext cx="1372320" cy="5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" name=""/>
          <p:cNvCxnSpPr>
            <a:stCxn id="57" idx="3"/>
            <a:endCxn id="63" idx="1"/>
          </p:cNvCxnSpPr>
          <p:nvPr/>
        </p:nvCxnSpPr>
        <p:spPr>
          <a:xfrm>
            <a:off x="8381880" y="3353400"/>
            <a:ext cx="381600" cy="632160"/>
          </a:xfrm>
          <a:prstGeom prst="bentConnector5">
            <a:avLst>
              <a:gd name="adj1" fmla="val 600566"/>
              <a:gd name="adj2" fmla="val 168433"/>
              <a:gd name="adj3" fmla="val 392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1" idx="3"/>
            <a:endCxn id="44" idx="1"/>
          </p:cNvCxnSpPr>
          <p:nvPr/>
        </p:nvCxnSpPr>
        <p:spPr>
          <a:xfrm>
            <a:off x="2209680" y="3911400"/>
            <a:ext cx="533880" cy="1479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41" idx="3"/>
            <a:endCxn id="45" idx="1"/>
          </p:cNvCxnSpPr>
          <p:nvPr/>
        </p:nvCxnSpPr>
        <p:spPr>
          <a:xfrm>
            <a:off x="2209680" y="3911400"/>
            <a:ext cx="533880" cy="193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41" idx="3"/>
            <a:endCxn id="46" idx="1"/>
          </p:cNvCxnSpPr>
          <p:nvPr/>
        </p:nvCxnSpPr>
        <p:spPr>
          <a:xfrm>
            <a:off x="2209680" y="3911400"/>
            <a:ext cx="533880" cy="2318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>
            <a:off x="1295280" y="914400"/>
            <a:ext cx="114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éplac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a biellette 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7600" y="914400"/>
            <a:ext cx="18288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tre en rot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e levier 22 mini de son galet 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5360" y="914400"/>
            <a:ext cx="13906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éer le contac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âchette 41/ galet 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15000" y="914400"/>
            <a:ext cx="12956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tre en rot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a gâchette 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29600" y="914400"/>
            <a:ext cx="114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uss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'attache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56" idx="3"/>
            <a:endCxn id="69" idx="1"/>
          </p:cNvCxnSpPr>
          <p:nvPr/>
        </p:nvCxnSpPr>
        <p:spPr>
          <a:xfrm flipH="1" flipV="1">
            <a:off x="1295280" y="1113480"/>
            <a:ext cx="7086960" cy="1602000"/>
          </a:xfrm>
          <a:prstGeom prst="bentConnector5">
            <a:avLst>
              <a:gd name="adj1" fmla="val -3271"/>
              <a:gd name="adj2" fmla="val 52416"/>
              <a:gd name="adj3" fmla="val 1032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9" idx="3"/>
            <a:endCxn id="70" idx="1"/>
          </p:cNvCxnSpPr>
          <p:nvPr/>
        </p:nvCxnSpPr>
        <p:spPr>
          <a:xfrm>
            <a:off x="2438280" y="1113480"/>
            <a:ext cx="319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70" idx="3"/>
            <a:endCxn id="71" idx="1"/>
          </p:cNvCxnSpPr>
          <p:nvPr/>
        </p:nvCxnSpPr>
        <p:spPr>
          <a:xfrm>
            <a:off x="4586400" y="1113480"/>
            <a:ext cx="3193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1" idx="3"/>
            <a:endCxn id="72" idx="1"/>
          </p:cNvCxnSpPr>
          <p:nvPr/>
        </p:nvCxnSpPr>
        <p:spPr>
          <a:xfrm>
            <a:off x="6296040" y="1113480"/>
            <a:ext cx="3193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2" idx="3"/>
            <a:endCxn id="73" idx="1"/>
          </p:cNvCxnSpPr>
          <p:nvPr/>
        </p:nvCxnSpPr>
        <p:spPr>
          <a:xfrm>
            <a:off x="7910640" y="1113480"/>
            <a:ext cx="3193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41" idx="3"/>
            <a:endCxn id="47" idx="1"/>
          </p:cNvCxnSpPr>
          <p:nvPr/>
        </p:nvCxnSpPr>
        <p:spPr>
          <a:xfrm flipV="1">
            <a:off x="2209680" y="2724120"/>
            <a:ext cx="533880" cy="118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73" idx="3"/>
          </p:cNvCxnSpPr>
          <p:nvPr/>
        </p:nvCxnSpPr>
        <p:spPr>
          <a:xfrm flipV="1">
            <a:off x="9372600" y="1112040"/>
            <a:ext cx="534240" cy="1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1" name=""/>
          <p:cNvCxnSpPr>
            <a:stCxn id="63" idx="3"/>
          </p:cNvCxnSpPr>
          <p:nvPr/>
        </p:nvCxnSpPr>
        <p:spPr>
          <a:xfrm>
            <a:off x="10439280" y="3985200"/>
            <a:ext cx="457920" cy="3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429000"/>
            <a:ext cx="1676160" cy="9648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acher le sar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e vigne sur un fil porteur  en simplifiant l'action du vigner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209680" y="3914640"/>
            <a:ext cx="6477480" cy="619560"/>
            <a:chOff x="2209680" y="3914640"/>
            <a:chExt cx="6477480" cy="619560"/>
          </a:xfrm>
        </p:grpSpPr>
        <p:sp>
          <p:nvSpPr>
            <p:cNvPr id="84" name=""/>
            <p:cNvSpPr/>
            <p:nvPr/>
          </p:nvSpPr>
          <p:spPr>
            <a:xfrm>
              <a:off x="2743200" y="4114800"/>
              <a:ext cx="2209680" cy="419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fr-FR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: Nouer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à partir de l'énergie électr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2" idx="3"/>
              <a:endCxn id="84" idx="1"/>
            </p:cNvCxnSpPr>
            <p:nvPr/>
          </p:nvCxnSpPr>
          <p:spPr>
            <a:xfrm>
              <a:off x="2209680" y="3914640"/>
              <a:ext cx="534240" cy="40392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" name=""/>
            <p:cNvCxnSpPr>
              <a:stCxn id="84" idx="3"/>
            </p:cNvCxnSpPr>
            <p:nvPr/>
          </p:nvCxnSpPr>
          <p:spPr>
            <a:xfrm>
              <a:off x="4952880" y="4317480"/>
              <a:ext cx="373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87" name=""/>
          <p:cNvGrpSpPr/>
          <p:nvPr/>
        </p:nvGrpSpPr>
        <p:grpSpPr>
          <a:xfrm>
            <a:off x="4952880" y="2438280"/>
            <a:ext cx="1181160" cy="550800"/>
            <a:chOff x="4952880" y="2438280"/>
            <a:chExt cx="1181160" cy="550800"/>
          </a:xfrm>
        </p:grpSpPr>
        <p:sp>
          <p:nvSpPr>
            <p:cNvPr id="88" name=""/>
            <p:cNvSpPr/>
            <p:nvPr/>
          </p:nvSpPr>
          <p:spPr>
            <a:xfrm>
              <a:off x="5143680" y="2438280"/>
              <a:ext cx="990360" cy="5508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iffer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 sarment sur le fil porteu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90" idx="3"/>
              <a:endCxn id="88" idx="1"/>
            </p:cNvCxnSpPr>
            <p:nvPr/>
          </p:nvCxnSpPr>
          <p:spPr>
            <a:xfrm>
              <a:off x="4952880" y="2717280"/>
              <a:ext cx="191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91" name=""/>
          <p:cNvGrpSpPr/>
          <p:nvPr/>
        </p:nvGrpSpPr>
        <p:grpSpPr>
          <a:xfrm>
            <a:off x="6133680" y="2438280"/>
            <a:ext cx="1105200" cy="550800"/>
            <a:chOff x="6133680" y="2438280"/>
            <a:chExt cx="1105200" cy="550800"/>
          </a:xfrm>
        </p:grpSpPr>
        <p:sp>
          <p:nvSpPr>
            <p:cNvPr id="92" name=""/>
            <p:cNvSpPr/>
            <p:nvPr/>
          </p:nvSpPr>
          <p:spPr>
            <a:xfrm>
              <a:off x="6324480" y="2438280"/>
              <a:ext cx="914400" cy="5508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aire avancer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 fil d'atta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88" idx="3"/>
              <a:endCxn id="92" idx="1"/>
            </p:cNvCxnSpPr>
            <p:nvPr/>
          </p:nvCxnSpPr>
          <p:spPr>
            <a:xfrm>
              <a:off x="6133680" y="2717280"/>
              <a:ext cx="191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7238520" y="2438280"/>
            <a:ext cx="1143360" cy="553680"/>
            <a:chOff x="7238520" y="2438280"/>
            <a:chExt cx="1143360" cy="553680"/>
          </a:xfrm>
        </p:grpSpPr>
        <p:sp>
          <p:nvSpPr>
            <p:cNvPr id="95" name=""/>
            <p:cNvSpPr/>
            <p:nvPr/>
          </p:nvSpPr>
          <p:spPr>
            <a:xfrm>
              <a:off x="7543800" y="2438280"/>
              <a:ext cx="838080" cy="5536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éplacer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 guide f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2" idx="3"/>
              <a:endCxn id="95" idx="1"/>
            </p:cNvCxnSpPr>
            <p:nvPr/>
          </p:nvCxnSpPr>
          <p:spPr>
            <a:xfrm>
              <a:off x="7238520" y="271728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97" name=""/>
          <p:cNvGrpSpPr/>
          <p:nvPr/>
        </p:nvGrpSpPr>
        <p:grpSpPr>
          <a:xfrm>
            <a:off x="7284600" y="2716920"/>
            <a:ext cx="1097280" cy="913320"/>
            <a:chOff x="7284600" y="2716920"/>
            <a:chExt cx="1097280" cy="913320"/>
          </a:xfrm>
        </p:grpSpPr>
        <p:sp>
          <p:nvSpPr>
            <p:cNvPr id="98" name=""/>
            <p:cNvSpPr/>
            <p:nvPr/>
          </p:nvSpPr>
          <p:spPr>
            <a:xfrm>
              <a:off x="7543800" y="3076560"/>
              <a:ext cx="838080" cy="5536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incer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 fil d'atta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1"/>
              <a:endCxn id="95" idx="1"/>
            </p:cNvCxnSpPr>
            <p:nvPr/>
          </p:nvCxnSpPr>
          <p:spPr>
            <a:xfrm flipH="1" rot="10800000">
              <a:off x="7543440" y="2716920"/>
              <a:ext cx="2160" cy="63900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00" name=""/>
          <p:cNvGrpSpPr/>
          <p:nvPr/>
        </p:nvGrpSpPr>
        <p:grpSpPr>
          <a:xfrm>
            <a:off x="2209680" y="3914640"/>
            <a:ext cx="6477480" cy="1153080"/>
            <a:chOff x="2209680" y="3914640"/>
            <a:chExt cx="6477480" cy="1153080"/>
          </a:xfrm>
        </p:grpSpPr>
        <p:sp>
          <p:nvSpPr>
            <p:cNvPr id="101" name=""/>
            <p:cNvSpPr/>
            <p:nvPr/>
          </p:nvSpPr>
          <p:spPr>
            <a:xfrm>
              <a:off x="2743200" y="4648320"/>
              <a:ext cx="2209680" cy="4194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fr-FR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: Couper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e fil d'attache à partir de l'énergie électromagnét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stCxn id="101" idx="3"/>
            </p:cNvCxnSpPr>
            <p:nvPr/>
          </p:nvCxnSpPr>
          <p:spPr>
            <a:xfrm>
              <a:off x="4952880" y="4851000"/>
              <a:ext cx="373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03" name=""/>
            <p:cNvCxnSpPr>
              <a:stCxn id="82" idx="3"/>
              <a:endCxn id="101" idx="1"/>
            </p:cNvCxnSpPr>
            <p:nvPr/>
          </p:nvCxnSpPr>
          <p:spPr>
            <a:xfrm>
              <a:off x="2209680" y="3914640"/>
              <a:ext cx="534240" cy="9374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04" name=""/>
          <p:cNvGrpSpPr/>
          <p:nvPr/>
        </p:nvGrpSpPr>
        <p:grpSpPr>
          <a:xfrm>
            <a:off x="2209680" y="3914640"/>
            <a:ext cx="6477480" cy="1686240"/>
            <a:chOff x="2209680" y="3914640"/>
            <a:chExt cx="6477480" cy="1686240"/>
          </a:xfrm>
        </p:grpSpPr>
        <p:sp>
          <p:nvSpPr>
            <p:cNvPr id="105" name=""/>
            <p:cNvSpPr/>
            <p:nvPr/>
          </p:nvSpPr>
          <p:spPr>
            <a:xfrm>
              <a:off x="2743200" y="5181480"/>
              <a:ext cx="2209680" cy="419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fr-FR" sz="1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: Stocker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le fil d'attache et le restitu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105" idx="3"/>
            </p:cNvCxnSpPr>
            <p:nvPr/>
          </p:nvCxnSpPr>
          <p:spPr>
            <a:xfrm>
              <a:off x="4952880" y="5384520"/>
              <a:ext cx="373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07" name=""/>
            <p:cNvCxnSpPr>
              <a:stCxn id="82" idx="3"/>
              <a:endCxn id="105" idx="1"/>
            </p:cNvCxnSpPr>
            <p:nvPr/>
          </p:nvCxnSpPr>
          <p:spPr>
            <a:xfrm>
              <a:off x="2209680" y="3914640"/>
              <a:ext cx="534240" cy="14709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08" name=""/>
          <p:cNvGrpSpPr/>
          <p:nvPr/>
        </p:nvGrpSpPr>
        <p:grpSpPr>
          <a:xfrm>
            <a:off x="2209680" y="3914640"/>
            <a:ext cx="6477480" cy="2067480"/>
            <a:chOff x="2209680" y="3914640"/>
            <a:chExt cx="6477480" cy="2067480"/>
          </a:xfrm>
        </p:grpSpPr>
        <p:sp>
          <p:nvSpPr>
            <p:cNvPr id="109" name=""/>
            <p:cNvSpPr/>
            <p:nvPr/>
          </p:nvSpPr>
          <p:spPr>
            <a:xfrm>
              <a:off x="2743200" y="5715000"/>
              <a:ext cx="2209680" cy="26712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fr-FR" sz="1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: Stocker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l'énergie électr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9" idx="3"/>
            </p:cNvCxnSpPr>
            <p:nvPr/>
          </p:nvCxnSpPr>
          <p:spPr>
            <a:xfrm>
              <a:off x="4952880" y="5841720"/>
              <a:ext cx="373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1" name=""/>
            <p:cNvCxnSpPr>
              <a:stCxn id="82" idx="3"/>
              <a:endCxn id="109" idx="1"/>
            </p:cNvCxnSpPr>
            <p:nvPr/>
          </p:nvCxnSpPr>
          <p:spPr>
            <a:xfrm>
              <a:off x="2209680" y="3914640"/>
              <a:ext cx="534240" cy="19281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2209680" y="3914640"/>
            <a:ext cx="6477480" cy="2448360"/>
            <a:chOff x="2209680" y="3914640"/>
            <a:chExt cx="6477480" cy="2448360"/>
          </a:xfrm>
        </p:grpSpPr>
        <p:sp>
          <p:nvSpPr>
            <p:cNvPr id="113" name=""/>
            <p:cNvSpPr/>
            <p:nvPr/>
          </p:nvSpPr>
          <p:spPr>
            <a:xfrm>
              <a:off x="2743200" y="6095880"/>
              <a:ext cx="2209680" cy="26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fr-FR" sz="1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: Gérer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'atta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13" idx="3"/>
            </p:cNvCxnSpPr>
            <p:nvPr/>
          </p:nvCxnSpPr>
          <p:spPr>
            <a:xfrm>
              <a:off x="4952880" y="6222600"/>
              <a:ext cx="373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5" name=""/>
            <p:cNvCxnSpPr>
              <a:stCxn id="82" idx="3"/>
              <a:endCxn id="113" idx="1"/>
            </p:cNvCxnSpPr>
            <p:nvPr/>
          </p:nvCxnSpPr>
          <p:spPr>
            <a:xfrm>
              <a:off x="2209680" y="3914640"/>
              <a:ext cx="534240" cy="23090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16" name=""/>
          <p:cNvGrpSpPr/>
          <p:nvPr/>
        </p:nvGrpSpPr>
        <p:grpSpPr>
          <a:xfrm>
            <a:off x="1065960" y="914400"/>
            <a:ext cx="7544160" cy="1802880"/>
            <a:chOff x="1065960" y="914400"/>
            <a:chExt cx="7544160" cy="1802880"/>
          </a:xfrm>
        </p:grpSpPr>
        <p:sp>
          <p:nvSpPr>
            <p:cNvPr id="117" name=""/>
            <p:cNvSpPr/>
            <p:nvPr/>
          </p:nvSpPr>
          <p:spPr>
            <a:xfrm>
              <a:off x="1295280" y="914400"/>
              <a:ext cx="1143000" cy="39852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éplace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a biellette 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95" idx="3"/>
              <a:endCxn id="117" idx="1"/>
            </p:cNvCxnSpPr>
            <p:nvPr/>
          </p:nvCxnSpPr>
          <p:spPr>
            <a:xfrm flipH="1" flipV="1">
              <a:off x="1294560" y="1116720"/>
              <a:ext cx="7087320" cy="1600920"/>
            </a:xfrm>
            <a:prstGeom prst="bentConnector5">
              <a:avLst>
                <a:gd name="adj1" fmla="val -3225"/>
                <a:gd name="adj2" fmla="val 52361"/>
                <a:gd name="adj3" fmla="val 103225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2437920" y="914400"/>
            <a:ext cx="2148480" cy="398520"/>
            <a:chOff x="2437920" y="914400"/>
            <a:chExt cx="2148480" cy="398520"/>
          </a:xfrm>
        </p:grpSpPr>
        <p:sp>
          <p:nvSpPr>
            <p:cNvPr id="120" name=""/>
            <p:cNvSpPr/>
            <p:nvPr/>
          </p:nvSpPr>
          <p:spPr>
            <a:xfrm>
              <a:off x="2757600" y="914400"/>
              <a:ext cx="1828800" cy="39852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ttre en rotation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e levier 22 mini de son galet 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7" idx="3"/>
              <a:endCxn id="120" idx="1"/>
            </p:cNvCxnSpPr>
            <p:nvPr/>
          </p:nvCxnSpPr>
          <p:spPr>
            <a:xfrm>
              <a:off x="2437920" y="1117080"/>
              <a:ext cx="320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4586400" y="914400"/>
            <a:ext cx="1709640" cy="398520"/>
            <a:chOff x="4586400" y="914400"/>
            <a:chExt cx="1709640" cy="398520"/>
          </a:xfrm>
        </p:grpSpPr>
        <p:sp>
          <p:nvSpPr>
            <p:cNvPr id="123" name=""/>
            <p:cNvSpPr/>
            <p:nvPr/>
          </p:nvSpPr>
          <p:spPr>
            <a:xfrm>
              <a:off x="4905360" y="914400"/>
              <a:ext cx="1390680" cy="39852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éer le contac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âchette 41/ galet 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0" idx="3"/>
              <a:endCxn id="123" idx="1"/>
            </p:cNvCxnSpPr>
            <p:nvPr/>
          </p:nvCxnSpPr>
          <p:spPr>
            <a:xfrm>
              <a:off x="4586400" y="1117080"/>
              <a:ext cx="319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5" name=""/>
          <p:cNvGrpSpPr/>
          <p:nvPr/>
        </p:nvGrpSpPr>
        <p:grpSpPr>
          <a:xfrm>
            <a:off x="6296040" y="914400"/>
            <a:ext cx="1614600" cy="398520"/>
            <a:chOff x="6296040" y="914400"/>
            <a:chExt cx="1614600" cy="398520"/>
          </a:xfrm>
        </p:grpSpPr>
        <p:sp>
          <p:nvSpPr>
            <p:cNvPr id="126" name=""/>
            <p:cNvSpPr/>
            <p:nvPr/>
          </p:nvSpPr>
          <p:spPr>
            <a:xfrm>
              <a:off x="6615000" y="914400"/>
              <a:ext cx="1295640" cy="39852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ttre en rotation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a gâchette 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3"/>
              <a:endCxn id="126" idx="1"/>
            </p:cNvCxnSpPr>
            <p:nvPr/>
          </p:nvCxnSpPr>
          <p:spPr>
            <a:xfrm>
              <a:off x="6296040" y="1117080"/>
              <a:ext cx="319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2209680" y="2438280"/>
            <a:ext cx="2743200" cy="1476000"/>
            <a:chOff x="2209680" y="2438280"/>
            <a:chExt cx="2743200" cy="1476000"/>
          </a:xfrm>
        </p:grpSpPr>
        <p:sp>
          <p:nvSpPr>
            <p:cNvPr id="90" name=""/>
            <p:cNvSpPr/>
            <p:nvPr/>
          </p:nvSpPr>
          <p:spPr>
            <a:xfrm>
              <a:off x="2743200" y="2438280"/>
              <a:ext cx="2209680" cy="5716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fr-FR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: Générer le lien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autour du sarment et du fil porteur à partir de l'énergie manuel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82" idx="3"/>
              <a:endCxn id="90" idx="1"/>
            </p:cNvCxnSpPr>
            <p:nvPr/>
          </p:nvCxnSpPr>
          <p:spPr>
            <a:xfrm flipV="1">
              <a:off x="2209680" y="2717280"/>
              <a:ext cx="534240" cy="1197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7910640" y="914400"/>
            <a:ext cx="1995840" cy="398520"/>
            <a:chOff x="7910640" y="914400"/>
            <a:chExt cx="1995840" cy="398520"/>
          </a:xfrm>
        </p:grpSpPr>
        <p:sp>
          <p:nvSpPr>
            <p:cNvPr id="131" name=""/>
            <p:cNvSpPr/>
            <p:nvPr/>
          </p:nvSpPr>
          <p:spPr>
            <a:xfrm>
              <a:off x="8229600" y="914400"/>
              <a:ext cx="1143000" cy="39852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usser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'attache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26" idx="3"/>
              <a:endCxn id="131" idx="1"/>
            </p:cNvCxnSpPr>
            <p:nvPr/>
          </p:nvCxnSpPr>
          <p:spPr>
            <a:xfrm>
              <a:off x="7910640" y="1117080"/>
              <a:ext cx="319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31" idx="3"/>
            </p:cNvCxnSpPr>
            <p:nvPr/>
          </p:nvCxnSpPr>
          <p:spPr>
            <a:xfrm flipV="1">
              <a:off x="9372600" y="1112040"/>
              <a:ext cx="5342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134" name=""/>
          <p:cNvGrpSpPr/>
          <p:nvPr/>
        </p:nvGrpSpPr>
        <p:grpSpPr>
          <a:xfrm>
            <a:off x="8381520" y="3352320"/>
            <a:ext cx="2515320" cy="833760"/>
            <a:chOff x="8381520" y="3352320"/>
            <a:chExt cx="2515320" cy="833760"/>
          </a:xfrm>
        </p:grpSpPr>
        <p:sp>
          <p:nvSpPr>
            <p:cNvPr id="135" name=""/>
            <p:cNvSpPr/>
            <p:nvPr/>
          </p:nvSpPr>
          <p:spPr>
            <a:xfrm>
              <a:off x="8763120" y="3784680"/>
              <a:ext cx="1676160" cy="4014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toure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e sar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 le fil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rt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8381880" y="3352320"/>
              <a:ext cx="137232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37" name=""/>
            <p:cNvCxnSpPr>
              <a:stCxn id="98" idx="3"/>
              <a:endCxn id="135" idx="1"/>
            </p:cNvCxnSpPr>
            <p:nvPr/>
          </p:nvCxnSpPr>
          <p:spPr>
            <a:xfrm>
              <a:off x="8381520" y="3355560"/>
              <a:ext cx="381960" cy="632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5" idx="3"/>
            </p:cNvCxnSpPr>
            <p:nvPr/>
          </p:nvCxnSpPr>
          <p:spPr>
            <a:xfrm>
              <a:off x="10439280" y="398736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0:37:31Z</dcterms:created>
  <dc:creator>Monsieur BRIZIO</dc:creator>
  <dc:description/>
  <dc:language>en-US</dc:language>
  <cp:lastModifiedBy>Monsieur BRIZIO</cp:lastModifiedBy>
  <dcterms:modified xsi:type="dcterms:W3CDTF">2007-12-12T10:40:20Z</dcterms:modified>
  <cp:revision>13</cp:revision>
  <dc:subject/>
  <dc:title>Présentation PowerPoint</dc:title>
</cp:coreProperties>
</file>