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7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6792-A86B-4751-BDBE-ACEDFA0D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672-C712-4547-B79B-08AD5BED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0165-2492-4FA0-996A-CFA95D7A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C97-E161-48AF-A943-E9DB8252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A42-D4EB-4C1C-9C6D-0F3A03D2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5BA-AF35-4C4F-842B-20B00D38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6AC-44D4-4E59-A486-D7B063FD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978-4F45-4A77-BAF5-8373826C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996C-8205-41E4-AA1E-5898129C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FCE4-656A-40E4-9779-E3917DC1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F06D-56D6-4361-8F1E-4CC66239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656-564B-46E1-A7AE-6F0CFD26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668F-0D3B-4814-ABCE-A4DA810E7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’injection Plastique avec les carcasses standards version Pablo Neru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ous-ensemble%20Partie%20fixe%201616%20H27%20avec%20verrou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Sous-ensemble%20Partie%20Mobile%201616A%20%20H47%20avec%20tiroir" descr=""/>
          <p:cNvPicPr/>
          <p:nvPr/>
        </p:nvPicPr>
        <p:blipFill>
          <a:blip r:embed="rId3"/>
          <a:stretch/>
        </p:blipFill>
        <p:spPr>
          <a:xfrm>
            <a:off x="3276720" y="24382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Bagues de guidage d’é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montage%2007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38480" y="457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bagues de guidage de la batterie d’é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38120" y="1295280"/>
            <a:ext cx="2133720" cy="6858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5640" y="1295280"/>
            <a:ext cx="3886200" cy="16002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Plaque Porte-éjecte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montage%2008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67080" y="4572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a plaque porte-éje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114440" y="914400"/>
            <a:ext cx="2057400" cy="9144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Vis d’assembl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ontage%2009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95680" y="11430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4 Vis d’assemblage de la batt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962520" y="1600200"/>
            <a:ext cx="2133360" cy="4572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038120" y="2057400"/>
            <a:ext cx="2057400" cy="4572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904760" y="2057400"/>
            <a:ext cx="4190760" cy="4572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057400" y="2057400"/>
            <a:ext cx="4038480" cy="14479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Contre pla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montage%2010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181480" y="380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a contre-pl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648320" y="838080"/>
            <a:ext cx="1676160" cy="9907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Contre plaque emprei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montage%2011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57800" y="304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 bloc Contre Pla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266720" y="1219320"/>
            <a:ext cx="2210040" cy="9144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Colonne de guidage de batterie d’é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montage%2012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24280" y="9907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colonnes de guidage de la batterie d’é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2000" y="1905120"/>
            <a:ext cx="1905120" cy="38088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43200" y="1905120"/>
            <a:ext cx="3733920" cy="129528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Bagues de guid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montage%2013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4120" y="3808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bagues de guid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105160" y="1295280"/>
            <a:ext cx="1523880" cy="4572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028840" y="1295280"/>
            <a:ext cx="1600200" cy="21337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429000" y="1295280"/>
            <a:ext cx="3200400" cy="12956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505320" y="1295280"/>
            <a:ext cx="3124080" cy="30481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Arrache carotte et sa goup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montage%2014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800600" y="12952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’arrache carotte et sa goupille d’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267080" y="2133720"/>
            <a:ext cx="2438640" cy="9144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733560" y="2133720"/>
            <a:ext cx="2971800" cy="4572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Blocs empreinte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montage%2015" descr=""/>
          <p:cNvPicPr/>
          <p:nvPr/>
        </p:nvPicPr>
        <p:blipFill>
          <a:blip r:embed="rId2"/>
          <a:stretch/>
        </p:blipFill>
        <p:spPr>
          <a:xfrm>
            <a:off x="539640" y="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952880" y="152280"/>
            <a:ext cx="3353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blocs empreintes mobi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a barrette cent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24280" y="1523880"/>
            <a:ext cx="1981440" cy="8384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733560" y="1523880"/>
            <a:ext cx="2971800" cy="10670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267080" y="1523880"/>
            <a:ext cx="2438640" cy="20574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Plaque porte-empreintes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montage%2016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038480" y="304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a plaque porte-empreintes 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257440" y="1295280"/>
            <a:ext cx="685800" cy="8384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le standard 1616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" descr=""/>
          <p:cNvPicPr/>
          <p:nvPr/>
        </p:nvPicPr>
        <p:blipFill>
          <a:blip r:embed="rId2"/>
          <a:stretch/>
        </p:blipFill>
        <p:spPr>
          <a:xfrm>
            <a:off x="6019920" y="2819520"/>
            <a:ext cx="223812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Mu" descr=""/>
          <p:cNvPicPr/>
          <p:nvPr/>
        </p:nvPicPr>
        <p:blipFill>
          <a:blip r:embed="rId3"/>
          <a:stretch/>
        </p:blipFill>
        <p:spPr>
          <a:xfrm>
            <a:off x="762120" y="2362320"/>
            <a:ext cx="1438200" cy="1438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38280" y="32767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ur presse « BOY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Vis d’assembl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montage%2017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181480" y="3808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4 vis d’assemb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733560" y="1219320"/>
            <a:ext cx="2514600" cy="38088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276360" y="1219320"/>
            <a:ext cx="2971800" cy="9144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419720" y="1219320"/>
            <a:ext cx="1828800" cy="243828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352680" y="1219320"/>
            <a:ext cx="2895840" cy="28191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Colonnes de guid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montage%2018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029200" y="3808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colonnes de guid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1219320"/>
            <a:ext cx="304920" cy="11430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876920" y="1219320"/>
            <a:ext cx="1218960" cy="220968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1219320"/>
            <a:ext cx="76320" cy="29718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257800" y="1219320"/>
            <a:ext cx="838080" cy="41907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Plaque porte-empreintes fix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montage%2020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86400" y="457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a plaque porte-empreintes f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1295280"/>
            <a:ext cx="76320" cy="10670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Blocs empreintes et barr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montage%2021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952880" y="22860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blocs empreintes fi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a barrette cent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1295280"/>
            <a:ext cx="914400" cy="22100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1295280"/>
            <a:ext cx="76320" cy="26672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1295280"/>
            <a:ext cx="533520" cy="24386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Buse d’injection et goup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montage%2022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648320" y="30492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a buse d’injection et sa goupille d’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629400" y="1219320"/>
            <a:ext cx="76320" cy="29718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400440" y="1219320"/>
            <a:ext cx="304920" cy="28191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Semelle fix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montage%2022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4120" y="457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a semelle f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00800" y="914400"/>
            <a:ext cx="762120" cy="175248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Vis d’assembl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montage%2023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410080" y="3808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4 vis d’assemb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1295280"/>
            <a:ext cx="381240" cy="19051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172200" y="1295280"/>
            <a:ext cx="380880" cy="24386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1295280"/>
            <a:ext cx="381240" cy="37339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095880" y="1295280"/>
            <a:ext cx="457200" cy="41911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Rondelle de cent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montage%2024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05520" y="3808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a rondelle de cent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1219320"/>
            <a:ext cx="304920" cy="243828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Vis d’assembl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montage%2025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57800" y="457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4 vis d’assemb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1295280"/>
            <a:ext cx="76320" cy="25909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172200" y="1295280"/>
            <a:ext cx="380880" cy="35053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1295280"/>
            <a:ext cx="457200" cy="28958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53080" y="1295280"/>
            <a:ext cx="0" cy="37339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1616%20aa" descr=""/>
          <p:cNvPicPr/>
          <p:nvPr/>
        </p:nvPicPr>
        <p:blipFill>
          <a:blip r:embed="rId2"/>
          <a:stretch/>
        </p:blipFill>
        <p:spPr>
          <a:xfrm>
            <a:off x="4038480" y="2247840"/>
            <a:ext cx="4876920" cy="4305240"/>
          </a:xfrm>
          <a:prstGeom prst="rect">
            <a:avLst/>
          </a:prstGeom>
          <a:ln w="0">
            <a:noFill/>
          </a:ln>
        </p:spPr>
      </p:pic>
      <p:pic>
        <p:nvPicPr>
          <p:cNvPr id="187" name="1616%20a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4267080" cy="3765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6320" y="304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1616 version sans tir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2362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1620 version sans tir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Seme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ontage%2000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38480" y="457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melle 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276360" y="990720"/>
            <a:ext cx="1904760" cy="4572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Butées d’é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montage%2001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38480" y="457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Butées d’é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80920" y="990720"/>
            <a:ext cx="1600200" cy="3045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580920" y="990720"/>
            <a:ext cx="1600200" cy="11430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600200" y="990720"/>
            <a:ext cx="3581280" cy="106668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76520" y="990720"/>
            <a:ext cx="3504960" cy="20574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Douille de centr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ontage%2002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>
            <a:off x="4267080" y="990720"/>
            <a:ext cx="914400" cy="3045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267080" y="990720"/>
            <a:ext cx="914400" cy="19047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590920" y="990720"/>
            <a:ext cx="2590560" cy="106668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590920" y="990720"/>
            <a:ext cx="2590560" cy="27432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457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douilles de cent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Tass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montage%2003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038480" y="457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tasse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267080" y="990720"/>
            <a:ext cx="914400" cy="16761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267080" y="990720"/>
            <a:ext cx="914400" cy="7596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Contre plaque porte- éjecteu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montage%2004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876920" y="304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a contre-Plaque Porte-éje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962160" y="1143000"/>
            <a:ext cx="2057400" cy="99072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Nez de batte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ontage%2005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419720" y="304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 nez de batterie d’é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971440" y="1219320"/>
            <a:ext cx="2590920" cy="11430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+ Blocs batterie d’é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montage%2006" descr=""/>
          <p:cNvPicPr/>
          <p:nvPr/>
        </p:nvPicPr>
        <p:blipFill>
          <a:blip r:embed="rId2"/>
          <a:stretch/>
        </p:blipFill>
        <p:spPr>
          <a:xfrm>
            <a:off x="539640" y="108000"/>
            <a:ext cx="7952040" cy="6665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343400" y="3808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es Blocs batterie d’é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657240" y="1295280"/>
            <a:ext cx="2057400" cy="68580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819160" y="1295280"/>
            <a:ext cx="2895480" cy="152424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14:01:52Z</dcterms:created>
  <dc:creator>Allard</dc:creator>
  <dc:description/>
  <dc:language>en-US</dc:language>
  <cp:lastModifiedBy>Richard ALLARD</cp:lastModifiedBy>
  <dcterms:modified xsi:type="dcterms:W3CDTF">2004-09-07T12:03:23Z</dcterms:modified>
  <cp:revision>26</cp:revision>
  <dc:subject/>
  <dc:title>Moule standard 1616 A</dc:title>
</cp:coreProperties>
</file>