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57200" y="609480"/>
            <a:ext cx="922032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ossier Techniqu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des Candid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BAC Professionnel E.D.P.I.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990720" y="4648320"/>
            <a:ext cx="8076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Épreuve E3 – Unité : U33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éfinition de Produits Industri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4920" y="1447920"/>
            <a:ext cx="9372600" cy="4828320"/>
          </a:xfrm>
          <a:prstGeom prst="rect">
            <a:avLst/>
          </a:prstGeom>
          <a:noFill/>
          <a:ln w="82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près avoir pris connaissance de cette présentation, du film du mécanisme et des groupes fonctionnels, utilisez le dossier papier joint ou est indiqué le travail demand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N’hésitez pas à revenir consulter cette présentation ou à la laisser active en arrière plan, en même temps que vous travaillez sur le modeleur volumiq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AG00165_" descr=""/>
          <p:cNvPicPr/>
          <p:nvPr/>
        </p:nvPicPr>
        <p:blipFill>
          <a:blip r:embed="rId2"/>
          <a:stretch/>
        </p:blipFill>
        <p:spPr>
          <a:xfrm>
            <a:off x="3581280" y="76320"/>
            <a:ext cx="26672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usi%20DI" descr=""/>
          <p:cNvPicPr/>
          <p:nvPr/>
        </p:nvPicPr>
        <p:blipFill>
          <a:blip r:embed="rId2">
            <a:lum bright="70000" contrast="-70000"/>
          </a:blip>
          <a:srcRect l="0" t="0" r="10997" b="0"/>
          <a:stretch/>
        </p:blipFill>
        <p:spPr>
          <a:xfrm>
            <a:off x="0" y="1890720"/>
            <a:ext cx="9906120" cy="496728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  <p:pic>
        <p:nvPicPr>
          <p:cNvPr id="42" name="DEDIENNE%20AEROSPACE" descr=""/>
          <p:cNvPicPr/>
          <p:nvPr/>
        </p:nvPicPr>
        <p:blipFill>
          <a:blip r:embed="rId3"/>
          <a:stretch/>
        </p:blipFill>
        <p:spPr>
          <a:xfrm>
            <a:off x="2438280" y="3962520"/>
            <a:ext cx="2133720" cy="97308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152280" y="2438280"/>
            <a:ext cx="3581640" cy="3549600"/>
            <a:chOff x="152280" y="2438280"/>
            <a:chExt cx="3581640" cy="3549600"/>
          </a:xfrm>
        </p:grpSpPr>
        <p:pic>
          <p:nvPicPr>
            <p:cNvPr id="44" name="DEDIENNE%20GROUP" descr=""/>
            <p:cNvPicPr/>
            <p:nvPr/>
          </p:nvPicPr>
          <p:blipFill>
            <a:blip r:embed="rId4"/>
            <a:stretch/>
          </p:blipFill>
          <p:spPr>
            <a:xfrm>
              <a:off x="1219320" y="2438280"/>
              <a:ext cx="251460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DEDIENNE%20PLASTURGIE" descr=""/>
            <p:cNvPicPr/>
            <p:nvPr/>
          </p:nvPicPr>
          <p:blipFill>
            <a:blip r:embed="rId5"/>
            <a:stretch/>
          </p:blipFill>
          <p:spPr>
            <a:xfrm>
              <a:off x="152280" y="5257800"/>
              <a:ext cx="160020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DEDIENNE%20SANTE" descr=""/>
            <p:cNvPicPr/>
            <p:nvPr/>
          </p:nvPicPr>
          <p:blipFill>
            <a:blip r:embed="rId6"/>
            <a:stretch/>
          </p:blipFill>
          <p:spPr>
            <a:xfrm>
              <a:off x="304920" y="4038480"/>
              <a:ext cx="1600200" cy="72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1828800" y="4952880"/>
            <a:ext cx="346716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20 person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ception et réalisation d’outillages de maintenance aéronau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résent sur tous les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6172200"/>
            <a:ext cx="1676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ertifié ISO 9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embre du GIF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éférencé D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2133720"/>
            <a:ext cx="4876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 marL="4680" indent="93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omic Sans MS"/>
              </a:rPr>
              <a:t>Sites de productio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93600">
              <a:lnSpc>
                <a:spcPct val="100000"/>
              </a:lnSpc>
              <a:spcBef>
                <a:spcPts val="300"/>
              </a:spcBef>
              <a:buClr>
                <a:srgbClr val="fc01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Comic Sans MS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Toulouse (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Albi – Le Garric (8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680" indent="93600">
              <a:lnSpc>
                <a:spcPct val="100000"/>
              </a:lnSpc>
              <a:spcBef>
                <a:spcPts val="300"/>
              </a:spcBef>
              <a:buClr>
                <a:srgbClr val="fc01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Comic Sans MS"/>
              </a:rPr>
              <a:t>Grande Bretag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Lond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Une</a:t>
            </a:r>
            <a:r>
              <a:rPr b="0" lang="fr-FR" sz="1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production</a:t>
            </a:r>
            <a:r>
              <a:rPr b="0" lang="fr-FR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00% européenne représentant</a:t>
            </a:r>
            <a:r>
              <a:rPr b="0" lang="fr-FR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fr-FR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00</a:t>
            </a:r>
            <a:r>
              <a:rPr b="0" lang="fr-FR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4114800"/>
            <a:ext cx="441936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urs produit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tériels développés pour les avions et les hélicoptères, civils ou milit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5600">
              <a:lnSpc>
                <a:spcPct val="100000"/>
              </a:lnSpc>
              <a:spcBef>
                <a:spcPts val="3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RIP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5600">
              <a:lnSpc>
                <a:spcPct val="100000"/>
              </a:lnSpc>
              <a:spcBef>
                <a:spcPts val="3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R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5600">
              <a:lnSpc>
                <a:spcPct val="100000"/>
              </a:lnSpc>
              <a:spcBef>
                <a:spcPts val="3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HARI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06480">
              <a:lnSpc>
                <a:spcPct val="100000"/>
              </a:lnSpc>
              <a:spcBef>
                <a:spcPts val="3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OT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06480">
              <a:lnSpc>
                <a:spcPct val="100000"/>
              </a:lnSpc>
              <a:spcBef>
                <a:spcPts val="3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EPOSE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E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R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06480">
              <a:lnSpc>
                <a:spcPct val="100000"/>
              </a:lnSpc>
              <a:spcBef>
                <a:spcPts val="3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HANGEMENT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E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O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5600">
              <a:lnSpc>
                <a:spcPct val="100000"/>
              </a:lnSpc>
              <a:spcBef>
                <a:spcPts val="3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ARRES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E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MORQ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5600">
              <a:lnSpc>
                <a:spcPct val="100000"/>
              </a:lnSpc>
              <a:spcBef>
                <a:spcPts val="3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OUT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NVIRONNEMENT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V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2209680"/>
            <a:ext cx="0" cy="441972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57200" y="685800"/>
            <a:ext cx="8763120" cy="5682960"/>
            <a:chOff x="457200" y="685800"/>
            <a:chExt cx="8763120" cy="5682960"/>
          </a:xfrm>
        </p:grpSpPr>
        <p:sp>
          <p:nvSpPr>
            <p:cNvPr id="53" name=""/>
            <p:cNvSpPr/>
            <p:nvPr/>
          </p:nvSpPr>
          <p:spPr>
            <a:xfrm flipV="1">
              <a:off x="457200" y="685440"/>
              <a:ext cx="7467480" cy="457200"/>
            </a:xfrm>
            <a:prstGeom prst="rect">
              <a:avLst/>
            </a:prstGeom>
            <a:noFill/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629400" y="6171480"/>
              <a:ext cx="2590920" cy="196920"/>
            </a:xfrm>
            <a:prstGeom prst="rect">
              <a:avLst/>
            </a:prstGeom>
            <a:noFill/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57200" y="152280"/>
            <a:ext cx="9426600" cy="2313720"/>
            <a:chOff x="457200" y="152280"/>
            <a:chExt cx="9426600" cy="2313720"/>
          </a:xfrm>
        </p:grpSpPr>
        <p:sp>
          <p:nvSpPr>
            <p:cNvPr id="56" name=""/>
            <p:cNvSpPr/>
            <p:nvPr/>
          </p:nvSpPr>
          <p:spPr>
            <a:xfrm>
              <a:off x="457200" y="152280"/>
              <a:ext cx="8153280" cy="23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Mise en sit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Le support technique étudié est la tête d’attelage d’une barre de remorqu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cet appareillage permet le remorquage des avions sur leur lieu de park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Cet outillage est conçu et réalisé par la société Dedienne Aérospace du Garric (81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Présentation de l’entrepris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7" name=""/>
            <p:cNvGraphicFramePr/>
            <p:nvPr/>
          </p:nvGraphicFramePr>
          <p:xfrm>
            <a:off x="8001000" y="457200"/>
            <a:ext cx="1882800" cy="9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01000" y="457200"/>
                      <a:ext cx="1882800" cy="990720"/>
                    </a:xfrm>
                    <a:prstGeom prst="rect">
                      <a:avLst/>
                    </a:prstGeom>
                    <a:ln w="38160">
                      <a:solidFill>
                        <a:srgbClr val="969696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295280"/>
            <a:ext cx="437508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l’atterrissage, un avion est capable de se déplacer par ses propres moyens (grâce à la poussée des réacteurs) afin de gagner l’emplacement qui lui est réserv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s pour regagner la piste d’envol, il doit effectuer une marche arrière et pivo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ur cela, il a besoin des services d’un tract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56840" y="304560"/>
            <a:ext cx="9282240" cy="5486760"/>
            <a:chOff x="456840" y="304560"/>
            <a:chExt cx="9282240" cy="5486760"/>
          </a:xfrm>
        </p:grpSpPr>
        <p:sp>
          <p:nvSpPr>
            <p:cNvPr id="61" name="PlaceHolder 1"/>
            <p:cNvSpPr>
              <a:spLocks noGrp="1"/>
            </p:cNvSpPr>
            <p:nvPr>
              <p:ph/>
            </p:nvPr>
          </p:nvSpPr>
          <p:spPr>
            <a:xfrm>
              <a:off x="456840" y="304560"/>
              <a:ext cx="4647960" cy="5331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99ff"/>
              </a:solidFill>
              <a:miter/>
            </a:ln>
          </p:spPr>
          <p:txBody>
            <a:bodyPr lIns="90000" rIns="90000" tIns="46800" bIns="46800" anchor="t">
              <a:normAutofit/>
            </a:bodyPr>
            <a:p>
              <a:pPr marL="343080" indent="0" algn="ctr">
                <a:lnSpc>
                  <a:spcPct val="100000"/>
                </a:lnSpc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ARRE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E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EMORQ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photo%20remorquage2" descr=""/>
            <p:cNvPicPr/>
            <p:nvPr/>
          </p:nvPicPr>
          <p:blipFill>
            <a:blip r:embed="rId2"/>
            <a:stretch/>
          </p:blipFill>
          <p:spPr>
            <a:xfrm>
              <a:off x="5207040" y="609480"/>
              <a:ext cx="4532040" cy="5181840"/>
            </a:xfrm>
            <a:prstGeom prst="rect">
              <a:avLst/>
            </a:prstGeom>
            <a:ln w="76320">
              <a:solidFill>
                <a:srgbClr val="cc99ff"/>
              </a:solidFill>
              <a:miter/>
            </a:ln>
          </p:spPr>
        </p:pic>
      </p:grpSp>
      <p:sp>
        <p:nvSpPr>
          <p:cNvPr id="63" name=""/>
          <p:cNvSpPr/>
          <p:nvPr/>
        </p:nvSpPr>
        <p:spPr>
          <a:xfrm flipV="1">
            <a:off x="4191120" y="4952880"/>
            <a:ext cx="3124080" cy="60984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788000" y="838080"/>
            <a:ext cx="2698920" cy="3909960"/>
            <a:chOff x="4788000" y="838080"/>
            <a:chExt cx="2698920" cy="3909960"/>
          </a:xfrm>
        </p:grpSpPr>
        <p:sp>
          <p:nvSpPr>
            <p:cNvPr id="65" name=""/>
            <p:cNvSpPr/>
            <p:nvPr/>
          </p:nvSpPr>
          <p:spPr>
            <a:xfrm rot="1327800">
              <a:off x="5767560" y="3776400"/>
              <a:ext cx="1650960" cy="68580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88000" y="838080"/>
              <a:ext cx="1238040" cy="281952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9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arre de remorquage et tête d’attela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886200"/>
            <a:ext cx="2743200" cy="2752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mar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airement aux barres de remorquage, les têtes d’attelage et les ferrures sont spécifiques à chaque appare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71600" y="304920"/>
            <a:ext cx="6827760" cy="6400800"/>
            <a:chOff x="1371600" y="304920"/>
            <a:chExt cx="6827760" cy="6400800"/>
          </a:xfrm>
        </p:grpSpPr>
        <p:pic>
          <p:nvPicPr>
            <p:cNvPr id="70" name="asembroe" descr=""/>
            <p:cNvPicPr/>
            <p:nvPr/>
          </p:nvPicPr>
          <p:blipFill>
            <a:blip r:embed="rId2"/>
            <a:stretch/>
          </p:blipFill>
          <p:spPr>
            <a:xfrm>
              <a:off x="1371600" y="304920"/>
              <a:ext cx="682776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hoto%20remorquage2" descr=""/>
            <p:cNvPicPr/>
            <p:nvPr/>
          </p:nvPicPr>
          <p:blipFill>
            <a:blip r:embed="rId3"/>
            <a:srcRect l="0" t="23529" r="36778" b="20589"/>
            <a:stretch/>
          </p:blipFill>
          <p:spPr>
            <a:xfrm>
              <a:off x="3048120" y="3809880"/>
              <a:ext cx="2865240" cy="2895840"/>
            </a:xfrm>
            <a:prstGeom prst="rect">
              <a:avLst/>
            </a:prstGeom>
            <a:ln w="76320">
              <a:solidFill>
                <a:srgbClr val="cc99ff"/>
              </a:solidFill>
              <a:miter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3885840" y="685800"/>
            <a:ext cx="5140440" cy="5181480"/>
            <a:chOff x="3885840" y="685800"/>
            <a:chExt cx="5140440" cy="5181480"/>
          </a:xfrm>
        </p:grpSpPr>
        <p:sp>
          <p:nvSpPr>
            <p:cNvPr id="73" name=""/>
            <p:cNvSpPr/>
            <p:nvPr/>
          </p:nvSpPr>
          <p:spPr>
            <a:xfrm>
              <a:off x="4343400" y="1295280"/>
              <a:ext cx="3997440" cy="2320920"/>
            </a:xfrm>
            <a:prstGeom prst="ellipse">
              <a:avLst/>
            </a:prstGeom>
            <a:noFill/>
            <a:ln w="475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075440" y="685800"/>
              <a:ext cx="426960" cy="6094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6248160" y="685800"/>
              <a:ext cx="277812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3885840" y="3505320"/>
              <a:ext cx="1676520" cy="23619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838080" y="685800"/>
            <a:ext cx="4114800" cy="5715000"/>
            <a:chOff x="838080" y="685800"/>
            <a:chExt cx="4114800" cy="5715000"/>
          </a:xfrm>
        </p:grpSpPr>
        <p:sp>
          <p:nvSpPr>
            <p:cNvPr id="78" name=""/>
            <p:cNvSpPr/>
            <p:nvPr/>
          </p:nvSpPr>
          <p:spPr>
            <a:xfrm>
              <a:off x="3124080" y="685800"/>
              <a:ext cx="55800" cy="609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838080" y="685800"/>
              <a:ext cx="411480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60880" y="3124080"/>
              <a:ext cx="168120" cy="327672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429000" y="6171840"/>
              <a:ext cx="685800" cy="2286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019920" y="3200040"/>
            <a:ext cx="3886200" cy="3476880"/>
            <a:chOff x="6019920" y="3200040"/>
            <a:chExt cx="3886200" cy="3476880"/>
          </a:xfrm>
        </p:grpSpPr>
        <p:pic>
          <p:nvPicPr>
            <p:cNvPr id="83" name="ferrure" descr=""/>
            <p:cNvPicPr/>
            <p:nvPr/>
          </p:nvPicPr>
          <p:blipFill>
            <a:blip r:embed="rId4"/>
            <a:stretch/>
          </p:blipFill>
          <p:spPr>
            <a:xfrm>
              <a:off x="6068880" y="3733920"/>
              <a:ext cx="3837240" cy="2131920"/>
            </a:xfrm>
            <a:prstGeom prst="rect">
              <a:avLst/>
            </a:prstGeom>
            <a:ln w="19080">
              <a:solidFill>
                <a:srgbClr val="969696"/>
              </a:solidFill>
              <a:miter/>
            </a:ln>
          </p:spPr>
        </p:pic>
        <p:sp>
          <p:nvSpPr>
            <p:cNvPr id="84" name=""/>
            <p:cNvSpPr/>
            <p:nvPr/>
          </p:nvSpPr>
          <p:spPr>
            <a:xfrm>
              <a:off x="606888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err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34320" y="4114800"/>
              <a:ext cx="125280" cy="53352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934320" y="3200040"/>
              <a:ext cx="685800" cy="60948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19920" y="5943600"/>
              <a:ext cx="3886200" cy="733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La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errure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st une pièce qui est fixée sur le train d’atterrissage de l’avion, elle permet de faire le lien avec la têt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1010013-4" descr=""/>
          <p:cNvPicPr/>
          <p:nvPr/>
        </p:nvPicPr>
        <p:blipFill>
          <a:blip r:embed="rId2"/>
          <a:stretch/>
        </p:blipFill>
        <p:spPr>
          <a:xfrm>
            <a:off x="4724280" y="152280"/>
            <a:ext cx="3276720" cy="2105280"/>
          </a:xfrm>
          <a:prstGeom prst="rect">
            <a:avLst/>
          </a:prstGeom>
          <a:ln w="0">
            <a:noFill/>
          </a:ln>
        </p:spPr>
      </p:pic>
      <p:pic>
        <p:nvPicPr>
          <p:cNvPr id="89" name="P1010009-3" descr=""/>
          <p:cNvPicPr/>
          <p:nvPr/>
        </p:nvPicPr>
        <p:blipFill>
          <a:blip r:embed="rId3"/>
          <a:stretch/>
        </p:blipFill>
        <p:spPr>
          <a:xfrm>
            <a:off x="5181480" y="2362320"/>
            <a:ext cx="4572000" cy="2065320"/>
          </a:xfrm>
          <a:prstGeom prst="rect">
            <a:avLst/>
          </a:prstGeom>
          <a:ln w="0">
            <a:noFill/>
          </a:ln>
        </p:spPr>
      </p:pic>
      <p:pic>
        <p:nvPicPr>
          <p:cNvPr id="90" name="P1010010-3" descr=""/>
          <p:cNvPicPr/>
          <p:nvPr/>
        </p:nvPicPr>
        <p:blipFill>
          <a:blip r:embed="rId4"/>
          <a:stretch/>
        </p:blipFill>
        <p:spPr>
          <a:xfrm>
            <a:off x="6248520" y="4572000"/>
            <a:ext cx="3504960" cy="2120760"/>
          </a:xfrm>
          <a:prstGeom prst="rect">
            <a:avLst/>
          </a:prstGeom>
          <a:ln w="0">
            <a:noFill/>
          </a:ln>
        </p:spPr>
      </p:pic>
      <p:pic>
        <p:nvPicPr>
          <p:cNvPr id="91" name="P1010011-4" descr=""/>
          <p:cNvPicPr/>
          <p:nvPr/>
        </p:nvPicPr>
        <p:blipFill>
          <a:blip r:embed="rId5"/>
          <a:stretch/>
        </p:blipFill>
        <p:spPr>
          <a:xfrm>
            <a:off x="1066680" y="152280"/>
            <a:ext cx="3505320" cy="2082960"/>
          </a:xfrm>
          <a:prstGeom prst="rect">
            <a:avLst/>
          </a:prstGeom>
          <a:ln w="0">
            <a:noFill/>
          </a:ln>
        </p:spPr>
      </p:pic>
      <p:pic>
        <p:nvPicPr>
          <p:cNvPr id="92" name="P1010016-2" descr=""/>
          <p:cNvPicPr/>
          <p:nvPr/>
        </p:nvPicPr>
        <p:blipFill>
          <a:blip r:embed="rId6"/>
          <a:stretch/>
        </p:blipFill>
        <p:spPr>
          <a:xfrm>
            <a:off x="152280" y="2362320"/>
            <a:ext cx="3733920" cy="2084400"/>
          </a:xfrm>
          <a:prstGeom prst="rect">
            <a:avLst/>
          </a:prstGeom>
          <a:ln w="0">
            <a:noFill/>
          </a:ln>
        </p:spPr>
      </p:pic>
      <p:pic>
        <p:nvPicPr>
          <p:cNvPr id="93" name="P1010017-3" descr=""/>
          <p:cNvPicPr/>
          <p:nvPr/>
        </p:nvPicPr>
        <p:blipFill>
          <a:blip r:embed="rId7"/>
          <a:stretch/>
        </p:blipFill>
        <p:spPr>
          <a:xfrm>
            <a:off x="152280" y="4572000"/>
            <a:ext cx="2468520" cy="2154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 rot="21329400">
            <a:off x="1294920" y="1447920"/>
            <a:ext cx="7543800" cy="45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5142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ffcc00">
                    <a:alpha val="50000"/>
                  </a:srgbClr>
                </a:solidFill>
                <a:latin typeface="Comic Sans MS"/>
              </a:rPr>
              <a:t>Tête d’attelage</a:t>
            </a:r>
            <a:endParaRPr b="0" i="1" lang="en-US" sz="2800" spc="1" strike="noStrike">
              <a:ln w="19080">
                <a:solidFill>
                  <a:srgbClr val="ffff99"/>
                </a:solidFill>
                <a:miter/>
              </a:ln>
              <a:solidFill>
                <a:srgbClr val="ffcc00">
                  <a:alpha val="50000"/>
                </a:srgbClr>
              </a:solidFill>
              <a:latin typeface="Comic Sans MS"/>
              <a:ea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4572000"/>
            <a:ext cx="3581640" cy="23749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Vidéo du fonctionnemen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sualisez le film du fonctionnement, en sortant de ce logiciel et en double-cliquant sur le fichier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« film_tête-attelage.mpg 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1880" y="0"/>
            <a:ext cx="1524240" cy="307080"/>
          </a:xfrm>
          <a:prstGeom prst="rect">
            <a:avLst/>
          </a:prstGeom>
          <a:noFill/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Diapositive n°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219320"/>
            <a:ext cx="8610480" cy="3957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ous venez de visualiser le film du fonctionnement du mécanisme, poursuivez la consultation de ce diaporama.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66680" y="1522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éma technologique et modèle virtu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3352680"/>
            <a:ext cx="4257720" cy="307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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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Position verrouillé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Avion pris en cha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3352680"/>
            <a:ext cx="4181400" cy="307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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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Position déverrouillé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Avion li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50840" y="992160"/>
            <a:ext cx="4726080" cy="5672160"/>
            <a:chOff x="150840" y="992160"/>
            <a:chExt cx="4726080" cy="5672160"/>
          </a:xfrm>
        </p:grpSpPr>
        <p:pic>
          <p:nvPicPr>
            <p:cNvPr id="102" name="assemblage5" descr=""/>
            <p:cNvPicPr/>
            <p:nvPr/>
          </p:nvPicPr>
          <p:blipFill>
            <a:blip r:embed="rId2"/>
            <a:srcRect l="6864" t="34059" r="9116" b="20943"/>
            <a:stretch/>
          </p:blipFill>
          <p:spPr>
            <a:xfrm>
              <a:off x="150840" y="992160"/>
              <a:ext cx="4726080" cy="2282760"/>
            </a:xfrm>
            <a:prstGeom prst="rect">
              <a:avLst/>
            </a:prstGeom>
            <a:ln w="38160">
              <a:solidFill>
                <a:srgbClr val="919191"/>
              </a:solidFill>
              <a:miter/>
            </a:ln>
          </p:spPr>
        </p:pic>
        <p:pic>
          <p:nvPicPr>
            <p:cNvPr id="103" name="schém%20cin%20vérou" descr=""/>
            <p:cNvPicPr/>
            <p:nvPr/>
          </p:nvPicPr>
          <p:blipFill>
            <a:blip r:embed="rId3"/>
            <a:stretch/>
          </p:blipFill>
          <p:spPr>
            <a:xfrm>
              <a:off x="304920" y="3733920"/>
              <a:ext cx="4389480" cy="2930400"/>
            </a:xfrm>
            <a:prstGeom prst="rect">
              <a:avLst/>
            </a:prstGeom>
            <a:ln w="38160">
              <a:solidFill>
                <a:srgbClr val="919191"/>
              </a:solidFill>
              <a:miter/>
            </a:ln>
          </p:spPr>
        </p:pic>
      </p:grpSp>
      <p:grpSp>
        <p:nvGrpSpPr>
          <p:cNvPr id="104" name=""/>
          <p:cNvGrpSpPr/>
          <p:nvPr/>
        </p:nvGrpSpPr>
        <p:grpSpPr>
          <a:xfrm>
            <a:off x="5105520" y="992160"/>
            <a:ext cx="4646520" cy="5638680"/>
            <a:chOff x="5105520" y="992160"/>
            <a:chExt cx="4646520" cy="5638680"/>
          </a:xfrm>
        </p:grpSpPr>
        <p:pic>
          <p:nvPicPr>
            <p:cNvPr id="105" name="assem1" descr=""/>
            <p:cNvPicPr/>
            <p:nvPr/>
          </p:nvPicPr>
          <p:blipFill>
            <a:blip r:embed="rId4"/>
            <a:srcRect l="21795" t="26780" r="13216" b="17991"/>
            <a:stretch/>
          </p:blipFill>
          <p:spPr>
            <a:xfrm>
              <a:off x="5335560" y="3735360"/>
              <a:ext cx="4187880" cy="2895480"/>
            </a:xfrm>
            <a:prstGeom prst="rect">
              <a:avLst/>
            </a:prstGeom>
            <a:ln w="38160">
              <a:solidFill>
                <a:srgbClr val="919191"/>
              </a:solidFill>
              <a:miter/>
            </a:ln>
          </p:spPr>
        </p:pic>
        <p:pic>
          <p:nvPicPr>
            <p:cNvPr id="106" name="assemblage5-2" descr=""/>
            <p:cNvPicPr/>
            <p:nvPr/>
          </p:nvPicPr>
          <p:blipFill>
            <a:blip r:embed="rId5"/>
            <a:srcRect l="6810" t="31999" r="9223" b="21493"/>
            <a:stretch/>
          </p:blipFill>
          <p:spPr>
            <a:xfrm>
              <a:off x="5105520" y="992160"/>
              <a:ext cx="4646520" cy="2290680"/>
            </a:xfrm>
            <a:prstGeom prst="rect">
              <a:avLst/>
            </a:prstGeom>
            <a:ln w="38160">
              <a:solidFill>
                <a:srgbClr val="919191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52280" y="152280"/>
            <a:ext cx="9753840" cy="6561360"/>
            <a:chOff x="152280" y="152280"/>
            <a:chExt cx="9753840" cy="6561360"/>
          </a:xfrm>
        </p:grpSpPr>
        <p:sp>
          <p:nvSpPr>
            <p:cNvPr id="108" name=""/>
            <p:cNvSpPr/>
            <p:nvPr/>
          </p:nvSpPr>
          <p:spPr>
            <a:xfrm>
              <a:off x="6095880" y="228600"/>
              <a:ext cx="38102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P1010020-4" descr=""/>
            <p:cNvPicPr/>
            <p:nvPr/>
          </p:nvPicPr>
          <p:blipFill>
            <a:blip r:embed="rId2"/>
            <a:stretch/>
          </p:blipFill>
          <p:spPr>
            <a:xfrm>
              <a:off x="152280" y="152280"/>
              <a:ext cx="5943600" cy="314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1010021-2" descr=""/>
            <p:cNvPicPr/>
            <p:nvPr/>
          </p:nvPicPr>
          <p:blipFill>
            <a:blip r:embed="rId3"/>
            <a:stretch/>
          </p:blipFill>
          <p:spPr>
            <a:xfrm>
              <a:off x="4800600" y="3352680"/>
              <a:ext cx="4876920" cy="336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"/>
          <p:cNvSpPr/>
          <p:nvPr/>
        </p:nvSpPr>
        <p:spPr>
          <a:xfrm rot="21208800">
            <a:off x="461880" y="1141560"/>
            <a:ext cx="5786640" cy="190944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391800">
            <a:off x="4800600" y="4038480"/>
            <a:ext cx="4952880" cy="198144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80880" y="339840"/>
            <a:ext cx="9372600" cy="6415200"/>
            <a:chOff x="380880" y="339840"/>
            <a:chExt cx="9372600" cy="6415200"/>
          </a:xfrm>
        </p:grpSpPr>
        <p:sp>
          <p:nvSpPr>
            <p:cNvPr id="114" name=""/>
            <p:cNvSpPr/>
            <p:nvPr/>
          </p:nvSpPr>
          <p:spPr>
            <a:xfrm>
              <a:off x="380880" y="3505320"/>
              <a:ext cx="4114800" cy="324972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ffff"/>
                </a:gs>
                <a:gs pos="100000">
                  <a:srgbClr val="ffcc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000" spc="-1" strike="noStrike">
                  <a:solidFill>
                    <a:srgbClr val="000000"/>
                  </a:solidFill>
                  <a:latin typeface="Comic Sans MS"/>
                </a:rPr>
                <a:t>Pièce dont la cotation fonctionnelle est à définir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 u="sng">
                  <a:solidFill>
                    <a:srgbClr val="919191"/>
                  </a:solidFill>
                  <a:uFillTx/>
                  <a:latin typeface="Comic Sans MS"/>
                </a:rPr>
                <a:t>Plaque latérale droite Rep.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 u="sng">
                  <a:solidFill>
                    <a:srgbClr val="919191"/>
                  </a:solidFill>
                  <a:uFillTx/>
                  <a:latin typeface="Comic Sans MS"/>
                </a:rPr>
                <a:t>(avec indexag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5" name=""/>
            <p:cNvGraphicFramePr/>
            <p:nvPr/>
          </p:nvGraphicFramePr>
          <p:xfrm>
            <a:off x="6400800" y="339840"/>
            <a:ext cx="3352680" cy="2581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00800" y="339840"/>
                      <a:ext cx="3352680" cy="25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0"/>
            <a:ext cx="9906120" cy="6858720"/>
            <a:chOff x="0" y="0"/>
            <a:chExt cx="9906120" cy="6858720"/>
          </a:xfrm>
        </p:grpSpPr>
        <p:pic>
          <p:nvPicPr>
            <p:cNvPr id="118" name="P1010020-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77120" cy="34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1010021-2" descr=""/>
            <p:cNvPicPr/>
            <p:nvPr/>
          </p:nvPicPr>
          <p:blipFill>
            <a:blip r:embed="rId3"/>
            <a:stretch/>
          </p:blipFill>
          <p:spPr>
            <a:xfrm>
              <a:off x="4191120" y="2921040"/>
              <a:ext cx="5715000" cy="39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0" y="5484960"/>
              <a:ext cx="3276720" cy="1373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Énoncé des groupes fonctionnel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2720" y="380880"/>
            <a:ext cx="4038480" cy="1676520"/>
            <a:chOff x="5562720" y="380880"/>
            <a:chExt cx="4038480" cy="1676520"/>
          </a:xfrm>
        </p:grpSpPr>
        <p:sp>
          <p:nvSpPr>
            <p:cNvPr id="122" name=""/>
            <p:cNvSpPr/>
            <p:nvPr/>
          </p:nvSpPr>
          <p:spPr>
            <a:xfrm>
              <a:off x="5562720" y="1371600"/>
              <a:ext cx="761760" cy="685800"/>
            </a:xfrm>
            <a:prstGeom prst="ellipse">
              <a:avLst/>
            </a:prstGeom>
            <a:noFill/>
            <a:ln w="507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05720" y="380880"/>
              <a:ext cx="2895480" cy="398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19191"/>
                  </a:solidFill>
                  <a:latin typeface="Times New Roman"/>
                </a:rPr>
                <a:t>GF5 –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919191"/>
                  </a:solidFill>
                  <a:latin typeface="Times New Roman"/>
                </a:rPr>
                <a:t>Centrage du doig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324120" y="762120"/>
              <a:ext cx="685800" cy="761760"/>
            </a:xfrm>
            <a:prstGeom prst="line">
              <a:avLst/>
            </a:prstGeom>
            <a:ln w="5076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62120" y="844560"/>
            <a:ext cx="4663800" cy="3288240"/>
            <a:chOff x="762120" y="844560"/>
            <a:chExt cx="4663800" cy="3288240"/>
          </a:xfrm>
        </p:grpSpPr>
        <p:sp>
          <p:nvSpPr>
            <p:cNvPr id="126" name=""/>
            <p:cNvSpPr/>
            <p:nvPr/>
          </p:nvSpPr>
          <p:spPr>
            <a:xfrm>
              <a:off x="762120" y="3429000"/>
              <a:ext cx="2286000" cy="703800"/>
            </a:xfrm>
            <a:prstGeom prst="rect">
              <a:avLst/>
            </a:prstGeom>
            <a:solidFill>
              <a:srgbClr val="da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19191"/>
                  </a:solidFill>
                  <a:latin typeface="Times New Roman"/>
                </a:rPr>
                <a:t>GF4 – Prote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19191"/>
                  </a:solidFill>
                  <a:latin typeface="Times New Roman"/>
                </a:rPr>
                <a:t>du mécanis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905120" y="1904760"/>
              <a:ext cx="152280" cy="1523880"/>
            </a:xfrm>
            <a:prstGeom prst="line">
              <a:avLst/>
            </a:prstGeom>
            <a:ln w="50760">
              <a:solidFill>
                <a:srgbClr val="cc99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12960" y="844560"/>
              <a:ext cx="4512960" cy="1054080"/>
            </a:xfrm>
            <a:custGeom>
              <a:avLst/>
              <a:gdLst/>
              <a:ahLst/>
              <a:rect l="l" t="t" r="r" b="b"/>
              <a:pathLst>
                <a:path w="2843" h="664">
                  <a:moveTo>
                    <a:pt x="2356" y="183"/>
                  </a:moveTo>
                  <a:cubicBezTo>
                    <a:pt x="2390" y="172"/>
                    <a:pt x="2417" y="111"/>
                    <a:pt x="2451" y="88"/>
                  </a:cubicBezTo>
                  <a:cubicBezTo>
                    <a:pt x="2463" y="51"/>
                    <a:pt x="2448" y="85"/>
                    <a:pt x="2476" y="57"/>
                  </a:cubicBezTo>
                  <a:cubicBezTo>
                    <a:pt x="2503" y="31"/>
                    <a:pt x="2494" y="30"/>
                    <a:pt x="2533" y="19"/>
                  </a:cubicBezTo>
                  <a:cubicBezTo>
                    <a:pt x="2552" y="13"/>
                    <a:pt x="2590" y="0"/>
                    <a:pt x="2590" y="0"/>
                  </a:cubicBezTo>
                  <a:cubicBezTo>
                    <a:pt x="2687" y="4"/>
                    <a:pt x="2730" y="5"/>
                    <a:pt x="2811" y="31"/>
                  </a:cubicBezTo>
                  <a:cubicBezTo>
                    <a:pt x="2816" y="44"/>
                    <a:pt x="2827" y="55"/>
                    <a:pt x="2830" y="69"/>
                  </a:cubicBezTo>
                  <a:cubicBezTo>
                    <a:pt x="2835" y="88"/>
                    <a:pt x="2834" y="107"/>
                    <a:pt x="2837" y="126"/>
                  </a:cubicBezTo>
                  <a:cubicBezTo>
                    <a:pt x="2838" y="133"/>
                    <a:pt x="2841" y="139"/>
                    <a:pt x="2843" y="145"/>
                  </a:cubicBezTo>
                  <a:cubicBezTo>
                    <a:pt x="2840" y="177"/>
                    <a:pt x="2841" y="222"/>
                    <a:pt x="2824" y="253"/>
                  </a:cubicBezTo>
                  <a:cubicBezTo>
                    <a:pt x="2790" y="315"/>
                    <a:pt x="2740" y="346"/>
                    <a:pt x="2678" y="373"/>
                  </a:cubicBezTo>
                  <a:cubicBezTo>
                    <a:pt x="2655" y="383"/>
                    <a:pt x="2637" y="397"/>
                    <a:pt x="2615" y="411"/>
                  </a:cubicBezTo>
                  <a:cubicBezTo>
                    <a:pt x="2584" y="431"/>
                    <a:pt x="2524" y="436"/>
                    <a:pt x="2489" y="443"/>
                  </a:cubicBezTo>
                  <a:cubicBezTo>
                    <a:pt x="2413" y="458"/>
                    <a:pt x="2345" y="481"/>
                    <a:pt x="2267" y="487"/>
                  </a:cubicBezTo>
                  <a:cubicBezTo>
                    <a:pt x="2195" y="504"/>
                    <a:pt x="2118" y="517"/>
                    <a:pt x="2045" y="525"/>
                  </a:cubicBezTo>
                  <a:cubicBezTo>
                    <a:pt x="1960" y="545"/>
                    <a:pt x="1873" y="559"/>
                    <a:pt x="1786" y="569"/>
                  </a:cubicBezTo>
                  <a:cubicBezTo>
                    <a:pt x="1730" y="585"/>
                    <a:pt x="1679" y="590"/>
                    <a:pt x="1621" y="595"/>
                  </a:cubicBezTo>
                  <a:cubicBezTo>
                    <a:pt x="1435" y="640"/>
                    <a:pt x="1235" y="652"/>
                    <a:pt x="1045" y="664"/>
                  </a:cubicBezTo>
                  <a:cubicBezTo>
                    <a:pt x="833" y="659"/>
                    <a:pt x="624" y="644"/>
                    <a:pt x="412" y="639"/>
                  </a:cubicBezTo>
                  <a:cubicBezTo>
                    <a:pt x="354" y="628"/>
                    <a:pt x="319" y="624"/>
                    <a:pt x="254" y="620"/>
                  </a:cubicBezTo>
                  <a:cubicBezTo>
                    <a:pt x="217" y="608"/>
                    <a:pt x="178" y="605"/>
                    <a:pt x="140" y="595"/>
                  </a:cubicBezTo>
                  <a:cubicBezTo>
                    <a:pt x="106" y="586"/>
                    <a:pt x="73" y="574"/>
                    <a:pt x="39" y="563"/>
                  </a:cubicBezTo>
                  <a:cubicBezTo>
                    <a:pt x="19" y="543"/>
                    <a:pt x="16" y="532"/>
                    <a:pt x="7" y="506"/>
                  </a:cubicBezTo>
                  <a:cubicBezTo>
                    <a:pt x="5" y="483"/>
                    <a:pt x="1" y="459"/>
                    <a:pt x="1" y="436"/>
                  </a:cubicBezTo>
                  <a:cubicBezTo>
                    <a:pt x="1" y="404"/>
                    <a:pt x="0" y="372"/>
                    <a:pt x="7" y="341"/>
                  </a:cubicBezTo>
                  <a:cubicBezTo>
                    <a:pt x="23" y="275"/>
                    <a:pt x="111" y="251"/>
                    <a:pt x="166" y="234"/>
                  </a:cubicBezTo>
                  <a:cubicBezTo>
                    <a:pt x="265" y="239"/>
                    <a:pt x="266" y="233"/>
                    <a:pt x="330" y="253"/>
                  </a:cubicBezTo>
                  <a:cubicBezTo>
                    <a:pt x="343" y="272"/>
                    <a:pt x="359" y="287"/>
                    <a:pt x="374" y="304"/>
                  </a:cubicBezTo>
                  <a:cubicBezTo>
                    <a:pt x="386" y="317"/>
                    <a:pt x="412" y="341"/>
                    <a:pt x="412" y="341"/>
                  </a:cubicBezTo>
                  <a:cubicBezTo>
                    <a:pt x="420" y="356"/>
                    <a:pt x="431" y="370"/>
                    <a:pt x="438" y="386"/>
                  </a:cubicBezTo>
                  <a:cubicBezTo>
                    <a:pt x="458" y="431"/>
                    <a:pt x="452" y="489"/>
                    <a:pt x="507" y="506"/>
                  </a:cubicBezTo>
                  <a:cubicBezTo>
                    <a:pt x="600" y="567"/>
                    <a:pt x="679" y="580"/>
                    <a:pt x="792" y="588"/>
                  </a:cubicBezTo>
                  <a:cubicBezTo>
                    <a:pt x="938" y="586"/>
                    <a:pt x="1169" y="599"/>
                    <a:pt x="1349" y="576"/>
                  </a:cubicBezTo>
                  <a:cubicBezTo>
                    <a:pt x="1414" y="568"/>
                    <a:pt x="1479" y="557"/>
                    <a:pt x="1545" y="550"/>
                  </a:cubicBezTo>
                  <a:cubicBezTo>
                    <a:pt x="1583" y="546"/>
                    <a:pt x="1659" y="538"/>
                    <a:pt x="1659" y="538"/>
                  </a:cubicBezTo>
                  <a:cubicBezTo>
                    <a:pt x="1704" y="521"/>
                    <a:pt x="1757" y="521"/>
                    <a:pt x="1805" y="512"/>
                  </a:cubicBezTo>
                  <a:cubicBezTo>
                    <a:pt x="1910" y="492"/>
                    <a:pt x="2007" y="469"/>
                    <a:pt x="2115" y="462"/>
                  </a:cubicBezTo>
                  <a:cubicBezTo>
                    <a:pt x="2145" y="454"/>
                    <a:pt x="2175" y="446"/>
                    <a:pt x="2204" y="436"/>
                  </a:cubicBezTo>
                  <a:cubicBezTo>
                    <a:pt x="2217" y="432"/>
                    <a:pt x="2242" y="424"/>
                    <a:pt x="2242" y="424"/>
                  </a:cubicBezTo>
                  <a:cubicBezTo>
                    <a:pt x="2266" y="407"/>
                    <a:pt x="2299" y="391"/>
                    <a:pt x="2318" y="367"/>
                  </a:cubicBezTo>
                  <a:cubicBezTo>
                    <a:pt x="2327" y="355"/>
                    <a:pt x="2343" y="329"/>
                    <a:pt x="2343" y="329"/>
                  </a:cubicBezTo>
                  <a:cubicBezTo>
                    <a:pt x="2351" y="294"/>
                    <a:pt x="2347" y="256"/>
                    <a:pt x="2356" y="221"/>
                  </a:cubicBezTo>
                  <a:cubicBezTo>
                    <a:pt x="2360" y="206"/>
                    <a:pt x="2381" y="183"/>
                    <a:pt x="2381" y="183"/>
                  </a:cubicBezTo>
                  <a:cubicBezTo>
                    <a:pt x="2389" y="158"/>
                    <a:pt x="2393" y="147"/>
                    <a:pt x="2419" y="139"/>
                  </a:cubicBezTo>
                  <a:cubicBezTo>
                    <a:pt x="2421" y="133"/>
                    <a:pt x="2423" y="126"/>
                    <a:pt x="2425" y="120"/>
                  </a:cubicBezTo>
                  <a:cubicBezTo>
                    <a:pt x="2427" y="114"/>
                    <a:pt x="2432" y="101"/>
                    <a:pt x="2432" y="101"/>
                  </a:cubicBezTo>
                </a:path>
              </a:pathLst>
            </a:custGeom>
            <a:noFill/>
            <a:ln w="507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705720" y="1295280"/>
            <a:ext cx="3252240" cy="4930200"/>
            <a:chOff x="6705720" y="1295280"/>
            <a:chExt cx="3252240" cy="4930200"/>
          </a:xfrm>
        </p:grpSpPr>
        <p:sp>
          <p:nvSpPr>
            <p:cNvPr id="130" name=""/>
            <p:cNvSpPr/>
            <p:nvPr/>
          </p:nvSpPr>
          <p:spPr>
            <a:xfrm rot="20362200">
              <a:off x="8559720" y="5254560"/>
              <a:ext cx="1305000" cy="765360"/>
            </a:xfrm>
            <a:prstGeom prst="ellipse">
              <a:avLst/>
            </a:prstGeom>
            <a:noFill/>
            <a:ln w="507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05720" y="1295280"/>
              <a:ext cx="3200400" cy="703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19191"/>
                  </a:solidFill>
                  <a:latin typeface="Times New Roman"/>
                </a:rPr>
                <a:t>GF6 – Dégagement relatif à un encombrement du tr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9296280" y="1981080"/>
              <a:ext cx="152640" cy="3200400"/>
            </a:xfrm>
            <a:prstGeom prst="line">
              <a:avLst/>
            </a:prstGeom>
            <a:ln w="50760">
              <a:solidFill>
                <a:srgbClr val="ffff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838080" y="1143000"/>
            <a:ext cx="3200400" cy="3904200"/>
            <a:chOff x="838080" y="1143000"/>
            <a:chExt cx="3200400" cy="3904200"/>
          </a:xfrm>
        </p:grpSpPr>
        <p:sp>
          <p:nvSpPr>
            <p:cNvPr id="134" name=""/>
            <p:cNvSpPr/>
            <p:nvPr/>
          </p:nvSpPr>
          <p:spPr>
            <a:xfrm>
              <a:off x="2438280" y="1143000"/>
              <a:ext cx="1295640" cy="1905120"/>
            </a:xfrm>
            <a:prstGeom prst="ellipse">
              <a:avLst/>
            </a:prstGeom>
            <a:noFill/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080" y="4343400"/>
              <a:ext cx="3200400" cy="70380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F3 – Mise en mouvement des biellettes et M A 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3352320" y="2971800"/>
              <a:ext cx="228600" cy="13716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943600" y="2133720"/>
            <a:ext cx="3352680" cy="4108680"/>
            <a:chOff x="5943600" y="2133720"/>
            <a:chExt cx="3352680" cy="4108680"/>
          </a:xfrm>
        </p:grpSpPr>
        <p:sp>
          <p:nvSpPr>
            <p:cNvPr id="138" name=""/>
            <p:cNvSpPr/>
            <p:nvPr/>
          </p:nvSpPr>
          <p:spPr>
            <a:xfrm rot="363000">
              <a:off x="7542000" y="4346280"/>
              <a:ext cx="1371600" cy="1828800"/>
            </a:xfrm>
            <a:custGeom>
              <a:avLst/>
              <a:gdLst/>
              <a:ahLst/>
              <a:rect l="l" t="t" r="r" b="b"/>
              <a:pathLst>
                <a:path w="821" h="1088">
                  <a:moveTo>
                    <a:pt x="253" y="0"/>
                  </a:moveTo>
                  <a:cubicBezTo>
                    <a:pt x="189" y="19"/>
                    <a:pt x="145" y="64"/>
                    <a:pt x="79" y="78"/>
                  </a:cubicBezTo>
                  <a:cubicBezTo>
                    <a:pt x="38" y="99"/>
                    <a:pt x="15" y="122"/>
                    <a:pt x="0" y="165"/>
                  </a:cubicBezTo>
                  <a:cubicBezTo>
                    <a:pt x="6" y="229"/>
                    <a:pt x="0" y="253"/>
                    <a:pt x="32" y="299"/>
                  </a:cubicBezTo>
                  <a:cubicBezTo>
                    <a:pt x="45" y="338"/>
                    <a:pt x="62" y="364"/>
                    <a:pt x="95" y="386"/>
                  </a:cubicBezTo>
                  <a:cubicBezTo>
                    <a:pt x="143" y="458"/>
                    <a:pt x="221" y="470"/>
                    <a:pt x="300" y="481"/>
                  </a:cubicBezTo>
                  <a:cubicBezTo>
                    <a:pt x="365" y="503"/>
                    <a:pt x="334" y="488"/>
                    <a:pt x="395" y="528"/>
                  </a:cubicBezTo>
                  <a:cubicBezTo>
                    <a:pt x="403" y="533"/>
                    <a:pt x="419" y="544"/>
                    <a:pt x="419" y="544"/>
                  </a:cubicBezTo>
                  <a:cubicBezTo>
                    <a:pt x="457" y="605"/>
                    <a:pt x="408" y="534"/>
                    <a:pt x="458" y="583"/>
                  </a:cubicBezTo>
                  <a:cubicBezTo>
                    <a:pt x="484" y="608"/>
                    <a:pt x="506" y="653"/>
                    <a:pt x="521" y="686"/>
                  </a:cubicBezTo>
                  <a:cubicBezTo>
                    <a:pt x="522" y="689"/>
                    <a:pt x="541" y="744"/>
                    <a:pt x="545" y="757"/>
                  </a:cubicBezTo>
                  <a:cubicBezTo>
                    <a:pt x="548" y="765"/>
                    <a:pt x="553" y="781"/>
                    <a:pt x="553" y="781"/>
                  </a:cubicBezTo>
                  <a:cubicBezTo>
                    <a:pt x="548" y="865"/>
                    <a:pt x="495" y="1055"/>
                    <a:pt x="608" y="1088"/>
                  </a:cubicBezTo>
                  <a:cubicBezTo>
                    <a:pt x="619" y="1086"/>
                    <a:pt x="656" y="1082"/>
                    <a:pt x="663" y="1065"/>
                  </a:cubicBezTo>
                  <a:cubicBezTo>
                    <a:pt x="671" y="1045"/>
                    <a:pt x="667" y="1023"/>
                    <a:pt x="671" y="1002"/>
                  </a:cubicBezTo>
                  <a:cubicBezTo>
                    <a:pt x="676" y="973"/>
                    <a:pt x="688" y="944"/>
                    <a:pt x="695" y="915"/>
                  </a:cubicBezTo>
                  <a:cubicBezTo>
                    <a:pt x="707" y="798"/>
                    <a:pt x="720" y="680"/>
                    <a:pt x="758" y="568"/>
                  </a:cubicBezTo>
                  <a:cubicBezTo>
                    <a:pt x="769" y="535"/>
                    <a:pt x="786" y="507"/>
                    <a:pt x="797" y="473"/>
                  </a:cubicBezTo>
                  <a:cubicBezTo>
                    <a:pt x="802" y="457"/>
                    <a:pt x="808" y="442"/>
                    <a:pt x="813" y="426"/>
                  </a:cubicBezTo>
                  <a:cubicBezTo>
                    <a:pt x="816" y="418"/>
                    <a:pt x="821" y="402"/>
                    <a:pt x="821" y="402"/>
                  </a:cubicBezTo>
                  <a:cubicBezTo>
                    <a:pt x="818" y="349"/>
                    <a:pt x="818" y="297"/>
                    <a:pt x="813" y="244"/>
                  </a:cubicBezTo>
                  <a:cubicBezTo>
                    <a:pt x="805" y="153"/>
                    <a:pt x="749" y="86"/>
                    <a:pt x="671" y="47"/>
                  </a:cubicBezTo>
                  <a:cubicBezTo>
                    <a:pt x="642" y="33"/>
                    <a:pt x="610" y="9"/>
                    <a:pt x="576" y="7"/>
                  </a:cubicBezTo>
                  <a:cubicBezTo>
                    <a:pt x="531" y="5"/>
                    <a:pt x="487" y="2"/>
                    <a:pt x="442" y="0"/>
                  </a:cubicBezTo>
                  <a:cubicBezTo>
                    <a:pt x="274" y="7"/>
                    <a:pt x="336" y="18"/>
                    <a:pt x="253" y="0"/>
                  </a:cubicBezTo>
                  <a:close/>
                </a:path>
              </a:pathLst>
            </a:custGeom>
            <a:noFill/>
            <a:ln w="50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43600" y="2133720"/>
              <a:ext cx="3352680" cy="703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F2 – Guidage en translation des guides-doig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1000" y="2819520"/>
              <a:ext cx="228600" cy="152388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657600" y="3809880"/>
            <a:ext cx="4716360" cy="3050280"/>
            <a:chOff x="3657600" y="3809880"/>
            <a:chExt cx="4716360" cy="3050280"/>
          </a:xfrm>
        </p:grpSpPr>
        <p:sp>
          <p:nvSpPr>
            <p:cNvPr id="142" name=""/>
            <p:cNvSpPr/>
            <p:nvPr/>
          </p:nvSpPr>
          <p:spPr>
            <a:xfrm>
              <a:off x="3657600" y="6156360"/>
              <a:ext cx="4038480" cy="703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F1 – Assemblage plaque \ nez et écartement des plaques latér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5680" y="3809880"/>
              <a:ext cx="3878280" cy="2130480"/>
            </a:xfrm>
            <a:custGeom>
              <a:avLst/>
              <a:gdLst/>
              <a:ahLst/>
              <a:rect l="l" t="t" r="r" b="b"/>
              <a:pathLst>
                <a:path w="2443" h="1342">
                  <a:moveTo>
                    <a:pt x="835" y="284"/>
                  </a:moveTo>
                  <a:cubicBezTo>
                    <a:pt x="828" y="205"/>
                    <a:pt x="831" y="151"/>
                    <a:pt x="748" y="127"/>
                  </a:cubicBezTo>
                  <a:cubicBezTo>
                    <a:pt x="669" y="72"/>
                    <a:pt x="790" y="152"/>
                    <a:pt x="693" y="103"/>
                  </a:cubicBezTo>
                  <a:cubicBezTo>
                    <a:pt x="676" y="94"/>
                    <a:pt x="663" y="79"/>
                    <a:pt x="646" y="71"/>
                  </a:cubicBezTo>
                  <a:cubicBezTo>
                    <a:pt x="610" y="54"/>
                    <a:pt x="571" y="40"/>
                    <a:pt x="535" y="24"/>
                  </a:cubicBezTo>
                  <a:cubicBezTo>
                    <a:pt x="496" y="7"/>
                    <a:pt x="409" y="0"/>
                    <a:pt x="409" y="0"/>
                  </a:cubicBezTo>
                  <a:cubicBezTo>
                    <a:pt x="320" y="9"/>
                    <a:pt x="327" y="11"/>
                    <a:pt x="259" y="56"/>
                  </a:cubicBezTo>
                  <a:cubicBezTo>
                    <a:pt x="236" y="71"/>
                    <a:pt x="185" y="69"/>
                    <a:pt x="157" y="79"/>
                  </a:cubicBezTo>
                  <a:cubicBezTo>
                    <a:pt x="152" y="87"/>
                    <a:pt x="147" y="96"/>
                    <a:pt x="141" y="103"/>
                  </a:cubicBezTo>
                  <a:cubicBezTo>
                    <a:pt x="134" y="112"/>
                    <a:pt x="123" y="118"/>
                    <a:pt x="117" y="127"/>
                  </a:cubicBezTo>
                  <a:cubicBezTo>
                    <a:pt x="112" y="134"/>
                    <a:pt x="113" y="143"/>
                    <a:pt x="109" y="150"/>
                  </a:cubicBezTo>
                  <a:cubicBezTo>
                    <a:pt x="99" y="169"/>
                    <a:pt x="76" y="200"/>
                    <a:pt x="62" y="221"/>
                  </a:cubicBezTo>
                  <a:cubicBezTo>
                    <a:pt x="57" y="237"/>
                    <a:pt x="51" y="253"/>
                    <a:pt x="46" y="269"/>
                  </a:cubicBezTo>
                  <a:cubicBezTo>
                    <a:pt x="43" y="277"/>
                    <a:pt x="38" y="292"/>
                    <a:pt x="38" y="292"/>
                  </a:cubicBezTo>
                  <a:cubicBezTo>
                    <a:pt x="42" y="429"/>
                    <a:pt x="0" y="675"/>
                    <a:pt x="149" y="774"/>
                  </a:cubicBezTo>
                  <a:cubicBezTo>
                    <a:pt x="173" y="811"/>
                    <a:pt x="193" y="836"/>
                    <a:pt x="220" y="868"/>
                  </a:cubicBezTo>
                  <a:cubicBezTo>
                    <a:pt x="226" y="875"/>
                    <a:pt x="228" y="886"/>
                    <a:pt x="235" y="892"/>
                  </a:cubicBezTo>
                  <a:cubicBezTo>
                    <a:pt x="249" y="905"/>
                    <a:pt x="283" y="924"/>
                    <a:pt x="283" y="924"/>
                  </a:cubicBezTo>
                  <a:cubicBezTo>
                    <a:pt x="303" y="953"/>
                    <a:pt x="336" y="968"/>
                    <a:pt x="370" y="979"/>
                  </a:cubicBezTo>
                  <a:cubicBezTo>
                    <a:pt x="394" y="995"/>
                    <a:pt x="414" y="1009"/>
                    <a:pt x="441" y="1018"/>
                  </a:cubicBezTo>
                  <a:cubicBezTo>
                    <a:pt x="449" y="1023"/>
                    <a:pt x="455" y="1030"/>
                    <a:pt x="464" y="1034"/>
                  </a:cubicBezTo>
                  <a:cubicBezTo>
                    <a:pt x="479" y="1041"/>
                    <a:pt x="512" y="1050"/>
                    <a:pt x="512" y="1050"/>
                  </a:cubicBezTo>
                  <a:cubicBezTo>
                    <a:pt x="561" y="1084"/>
                    <a:pt x="627" y="1093"/>
                    <a:pt x="685" y="1105"/>
                  </a:cubicBezTo>
                  <a:cubicBezTo>
                    <a:pt x="784" y="1125"/>
                    <a:pt x="875" y="1159"/>
                    <a:pt x="977" y="1168"/>
                  </a:cubicBezTo>
                  <a:cubicBezTo>
                    <a:pt x="1040" y="1174"/>
                    <a:pt x="1167" y="1184"/>
                    <a:pt x="1167" y="1184"/>
                  </a:cubicBezTo>
                  <a:cubicBezTo>
                    <a:pt x="1233" y="1195"/>
                    <a:pt x="1301" y="1210"/>
                    <a:pt x="1364" y="1231"/>
                  </a:cubicBezTo>
                  <a:cubicBezTo>
                    <a:pt x="1415" y="1267"/>
                    <a:pt x="1470" y="1277"/>
                    <a:pt x="1530" y="1286"/>
                  </a:cubicBezTo>
                  <a:cubicBezTo>
                    <a:pt x="1642" y="1325"/>
                    <a:pt x="1782" y="1307"/>
                    <a:pt x="1900" y="1318"/>
                  </a:cubicBezTo>
                  <a:cubicBezTo>
                    <a:pt x="2020" y="1342"/>
                    <a:pt x="1996" y="1339"/>
                    <a:pt x="2216" y="1334"/>
                  </a:cubicBezTo>
                  <a:cubicBezTo>
                    <a:pt x="2233" y="1334"/>
                    <a:pt x="2263" y="1318"/>
                    <a:pt x="2263" y="1318"/>
                  </a:cubicBezTo>
                  <a:cubicBezTo>
                    <a:pt x="2301" y="1280"/>
                    <a:pt x="2347" y="1257"/>
                    <a:pt x="2397" y="1239"/>
                  </a:cubicBezTo>
                  <a:cubicBezTo>
                    <a:pt x="2414" y="1171"/>
                    <a:pt x="2443" y="1040"/>
                    <a:pt x="2374" y="995"/>
                  </a:cubicBezTo>
                  <a:cubicBezTo>
                    <a:pt x="2318" y="911"/>
                    <a:pt x="2216" y="884"/>
                    <a:pt x="2121" y="868"/>
                  </a:cubicBezTo>
                  <a:cubicBezTo>
                    <a:pt x="2082" y="871"/>
                    <a:pt x="2042" y="870"/>
                    <a:pt x="2003" y="876"/>
                  </a:cubicBezTo>
                  <a:cubicBezTo>
                    <a:pt x="1957" y="883"/>
                    <a:pt x="1927" y="911"/>
                    <a:pt x="1885" y="924"/>
                  </a:cubicBezTo>
                  <a:cubicBezTo>
                    <a:pt x="1779" y="958"/>
                    <a:pt x="1670" y="991"/>
                    <a:pt x="1569" y="1034"/>
                  </a:cubicBezTo>
                  <a:cubicBezTo>
                    <a:pt x="1519" y="1056"/>
                    <a:pt x="1448" y="1052"/>
                    <a:pt x="1395" y="1058"/>
                  </a:cubicBezTo>
                  <a:cubicBezTo>
                    <a:pt x="1326" y="1066"/>
                    <a:pt x="1258" y="1078"/>
                    <a:pt x="1190" y="1089"/>
                  </a:cubicBezTo>
                  <a:cubicBezTo>
                    <a:pt x="1077" y="1082"/>
                    <a:pt x="1083" y="1096"/>
                    <a:pt x="1017" y="1050"/>
                  </a:cubicBezTo>
                  <a:cubicBezTo>
                    <a:pt x="1008" y="1024"/>
                    <a:pt x="977" y="979"/>
                    <a:pt x="977" y="979"/>
                  </a:cubicBezTo>
                  <a:cubicBezTo>
                    <a:pt x="954" y="911"/>
                    <a:pt x="916" y="852"/>
                    <a:pt x="898" y="782"/>
                  </a:cubicBezTo>
                  <a:cubicBezTo>
                    <a:pt x="889" y="703"/>
                    <a:pt x="881" y="613"/>
                    <a:pt x="859" y="537"/>
                  </a:cubicBezTo>
                  <a:cubicBezTo>
                    <a:pt x="851" y="508"/>
                    <a:pt x="845" y="478"/>
                    <a:pt x="835" y="450"/>
                  </a:cubicBezTo>
                  <a:cubicBezTo>
                    <a:pt x="830" y="434"/>
                    <a:pt x="819" y="403"/>
                    <a:pt x="819" y="403"/>
                  </a:cubicBezTo>
                  <a:cubicBezTo>
                    <a:pt x="814" y="367"/>
                    <a:pt x="794" y="305"/>
                    <a:pt x="835" y="284"/>
                  </a:cubicBezTo>
                  <a:close/>
                </a:path>
              </a:pathLst>
            </a:custGeom>
            <a:noFill/>
            <a:ln w="507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724280" y="5409720"/>
              <a:ext cx="381240" cy="762120"/>
            </a:xfrm>
            <a:prstGeom prst="line">
              <a:avLst/>
            </a:prstGeom>
            <a:ln w="50760">
              <a:solidFill>
                <a:srgbClr val="00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838080" y="1143000"/>
            <a:ext cx="8458200" cy="5717160"/>
            <a:chOff x="838080" y="1143000"/>
            <a:chExt cx="8458200" cy="5717160"/>
          </a:xfrm>
        </p:grpSpPr>
        <p:grpSp>
          <p:nvGrpSpPr>
            <p:cNvPr id="146" name=""/>
            <p:cNvGrpSpPr/>
            <p:nvPr/>
          </p:nvGrpSpPr>
          <p:grpSpPr>
            <a:xfrm>
              <a:off x="838080" y="1143000"/>
              <a:ext cx="3200400" cy="3904200"/>
              <a:chOff x="838080" y="1143000"/>
              <a:chExt cx="3200400" cy="3904200"/>
            </a:xfrm>
          </p:grpSpPr>
          <p:sp>
            <p:nvSpPr>
              <p:cNvPr id="147" name=""/>
              <p:cNvSpPr/>
              <p:nvPr/>
            </p:nvSpPr>
            <p:spPr>
              <a:xfrm>
                <a:off x="2438280" y="1143000"/>
                <a:ext cx="1295640" cy="1905120"/>
              </a:xfrm>
              <a:prstGeom prst="ellipse">
                <a:avLst/>
              </a:prstGeom>
              <a:noFill/>
              <a:ln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38080" y="4343400"/>
                <a:ext cx="3200400" cy="70380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F3 – Mise en mouvement des biellettes et M A 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flipV="1">
                <a:off x="3352320" y="2971800"/>
                <a:ext cx="228600" cy="1371600"/>
              </a:xfrm>
              <a:prstGeom prst="line">
                <a:avLst/>
              </a:prstGeom>
              <a:ln w="50760">
                <a:solidFill>
                  <a:srgbClr val="fc012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943600" y="2133720"/>
              <a:ext cx="3352680" cy="4108680"/>
              <a:chOff x="5943600" y="2133720"/>
              <a:chExt cx="3352680" cy="4108680"/>
            </a:xfrm>
          </p:grpSpPr>
          <p:sp>
            <p:nvSpPr>
              <p:cNvPr id="151" name=""/>
              <p:cNvSpPr/>
              <p:nvPr/>
            </p:nvSpPr>
            <p:spPr>
              <a:xfrm rot="363000">
                <a:off x="7542000" y="4346280"/>
                <a:ext cx="1371600" cy="1828800"/>
              </a:xfrm>
              <a:custGeom>
                <a:avLst/>
                <a:gdLst/>
                <a:ahLst/>
                <a:rect l="l" t="t" r="r" b="b"/>
                <a:pathLst>
                  <a:path w="821" h="1088">
                    <a:moveTo>
                      <a:pt x="253" y="0"/>
                    </a:moveTo>
                    <a:cubicBezTo>
                      <a:pt x="189" y="19"/>
                      <a:pt x="145" y="64"/>
                      <a:pt x="79" y="78"/>
                    </a:cubicBezTo>
                    <a:cubicBezTo>
                      <a:pt x="38" y="99"/>
                      <a:pt x="15" y="122"/>
                      <a:pt x="0" y="165"/>
                    </a:cubicBezTo>
                    <a:cubicBezTo>
                      <a:pt x="6" y="229"/>
                      <a:pt x="0" y="253"/>
                      <a:pt x="32" y="299"/>
                    </a:cubicBezTo>
                    <a:cubicBezTo>
                      <a:pt x="45" y="338"/>
                      <a:pt x="62" y="364"/>
                      <a:pt x="95" y="386"/>
                    </a:cubicBezTo>
                    <a:cubicBezTo>
                      <a:pt x="143" y="458"/>
                      <a:pt x="221" y="470"/>
                      <a:pt x="300" y="481"/>
                    </a:cubicBezTo>
                    <a:cubicBezTo>
                      <a:pt x="365" y="503"/>
                      <a:pt x="334" y="488"/>
                      <a:pt x="395" y="528"/>
                    </a:cubicBezTo>
                    <a:cubicBezTo>
                      <a:pt x="403" y="533"/>
                      <a:pt x="419" y="544"/>
                      <a:pt x="419" y="544"/>
                    </a:cubicBezTo>
                    <a:cubicBezTo>
                      <a:pt x="457" y="605"/>
                      <a:pt x="408" y="534"/>
                      <a:pt x="458" y="583"/>
                    </a:cubicBezTo>
                    <a:cubicBezTo>
                      <a:pt x="484" y="608"/>
                      <a:pt x="506" y="653"/>
                      <a:pt x="521" y="686"/>
                    </a:cubicBezTo>
                    <a:cubicBezTo>
                      <a:pt x="522" y="689"/>
                      <a:pt x="541" y="744"/>
                      <a:pt x="545" y="757"/>
                    </a:cubicBezTo>
                    <a:cubicBezTo>
                      <a:pt x="548" y="765"/>
                      <a:pt x="553" y="781"/>
                      <a:pt x="553" y="781"/>
                    </a:cubicBezTo>
                    <a:cubicBezTo>
                      <a:pt x="548" y="865"/>
                      <a:pt x="495" y="1055"/>
                      <a:pt x="608" y="1088"/>
                    </a:cubicBezTo>
                    <a:cubicBezTo>
                      <a:pt x="619" y="1086"/>
                      <a:pt x="656" y="1082"/>
                      <a:pt x="663" y="1065"/>
                    </a:cubicBezTo>
                    <a:cubicBezTo>
                      <a:pt x="671" y="1045"/>
                      <a:pt x="667" y="1023"/>
                      <a:pt x="671" y="1002"/>
                    </a:cubicBezTo>
                    <a:cubicBezTo>
                      <a:pt x="676" y="973"/>
                      <a:pt x="688" y="944"/>
                      <a:pt x="695" y="915"/>
                    </a:cubicBezTo>
                    <a:cubicBezTo>
                      <a:pt x="707" y="798"/>
                      <a:pt x="720" y="680"/>
                      <a:pt x="758" y="568"/>
                    </a:cubicBezTo>
                    <a:cubicBezTo>
                      <a:pt x="769" y="535"/>
                      <a:pt x="786" y="507"/>
                      <a:pt x="797" y="473"/>
                    </a:cubicBezTo>
                    <a:cubicBezTo>
                      <a:pt x="802" y="457"/>
                      <a:pt x="808" y="442"/>
                      <a:pt x="813" y="426"/>
                    </a:cubicBezTo>
                    <a:cubicBezTo>
                      <a:pt x="816" y="418"/>
                      <a:pt x="821" y="402"/>
                      <a:pt x="821" y="402"/>
                    </a:cubicBezTo>
                    <a:cubicBezTo>
                      <a:pt x="818" y="349"/>
                      <a:pt x="818" y="297"/>
                      <a:pt x="813" y="244"/>
                    </a:cubicBezTo>
                    <a:cubicBezTo>
                      <a:pt x="805" y="153"/>
                      <a:pt x="749" y="86"/>
                      <a:pt x="671" y="47"/>
                    </a:cubicBezTo>
                    <a:cubicBezTo>
                      <a:pt x="642" y="33"/>
                      <a:pt x="610" y="9"/>
                      <a:pt x="576" y="7"/>
                    </a:cubicBezTo>
                    <a:cubicBezTo>
                      <a:pt x="531" y="5"/>
                      <a:pt x="487" y="2"/>
                      <a:pt x="442" y="0"/>
                    </a:cubicBezTo>
                    <a:cubicBezTo>
                      <a:pt x="274" y="7"/>
                      <a:pt x="336" y="18"/>
                      <a:pt x="253" y="0"/>
                    </a:cubicBezTo>
                    <a:close/>
                  </a:path>
                </a:pathLst>
              </a:custGeom>
              <a:noFill/>
              <a:ln w="507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2133720"/>
                <a:ext cx="3352680" cy="703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F2 – Guidage en translation des guides-doig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001000" y="2819520"/>
                <a:ext cx="228600" cy="152388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3657600" y="3809880"/>
              <a:ext cx="4716360" cy="3050280"/>
              <a:chOff x="3657600" y="3809880"/>
              <a:chExt cx="4716360" cy="3050280"/>
            </a:xfrm>
          </p:grpSpPr>
          <p:sp>
            <p:nvSpPr>
              <p:cNvPr id="155" name=""/>
              <p:cNvSpPr/>
              <p:nvPr/>
            </p:nvSpPr>
            <p:spPr>
              <a:xfrm>
                <a:off x="3657600" y="6156360"/>
                <a:ext cx="4038480" cy="703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F1 – Assemblage plaque \ nez et écartement des plaques latéra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95680" y="3809880"/>
                <a:ext cx="3878280" cy="2130480"/>
              </a:xfrm>
              <a:custGeom>
                <a:avLst/>
                <a:gdLst/>
                <a:ahLst/>
                <a:rect l="l" t="t" r="r" b="b"/>
                <a:pathLst>
                  <a:path w="2443" h="1342">
                    <a:moveTo>
                      <a:pt x="835" y="284"/>
                    </a:moveTo>
                    <a:cubicBezTo>
                      <a:pt x="828" y="205"/>
                      <a:pt x="831" y="151"/>
                      <a:pt x="748" y="127"/>
                    </a:cubicBezTo>
                    <a:cubicBezTo>
                      <a:pt x="669" y="72"/>
                      <a:pt x="790" y="152"/>
                      <a:pt x="693" y="103"/>
                    </a:cubicBezTo>
                    <a:cubicBezTo>
                      <a:pt x="676" y="94"/>
                      <a:pt x="663" y="79"/>
                      <a:pt x="646" y="71"/>
                    </a:cubicBezTo>
                    <a:cubicBezTo>
                      <a:pt x="610" y="54"/>
                      <a:pt x="571" y="40"/>
                      <a:pt x="535" y="24"/>
                    </a:cubicBezTo>
                    <a:cubicBezTo>
                      <a:pt x="496" y="7"/>
                      <a:pt x="409" y="0"/>
                      <a:pt x="409" y="0"/>
                    </a:cubicBezTo>
                    <a:cubicBezTo>
                      <a:pt x="320" y="9"/>
                      <a:pt x="327" y="11"/>
                      <a:pt x="259" y="56"/>
                    </a:cubicBezTo>
                    <a:cubicBezTo>
                      <a:pt x="236" y="71"/>
                      <a:pt x="185" y="69"/>
                      <a:pt x="157" y="79"/>
                    </a:cubicBezTo>
                    <a:cubicBezTo>
                      <a:pt x="152" y="87"/>
                      <a:pt x="147" y="96"/>
                      <a:pt x="141" y="103"/>
                    </a:cubicBezTo>
                    <a:cubicBezTo>
                      <a:pt x="134" y="112"/>
                      <a:pt x="123" y="118"/>
                      <a:pt x="117" y="127"/>
                    </a:cubicBezTo>
                    <a:cubicBezTo>
                      <a:pt x="112" y="134"/>
                      <a:pt x="113" y="143"/>
                      <a:pt x="109" y="150"/>
                    </a:cubicBezTo>
                    <a:cubicBezTo>
                      <a:pt x="99" y="169"/>
                      <a:pt x="76" y="200"/>
                      <a:pt x="62" y="221"/>
                    </a:cubicBezTo>
                    <a:cubicBezTo>
                      <a:pt x="57" y="237"/>
                      <a:pt x="51" y="253"/>
                      <a:pt x="46" y="269"/>
                    </a:cubicBezTo>
                    <a:cubicBezTo>
                      <a:pt x="43" y="277"/>
                      <a:pt x="38" y="292"/>
                      <a:pt x="38" y="292"/>
                    </a:cubicBezTo>
                    <a:cubicBezTo>
                      <a:pt x="42" y="429"/>
                      <a:pt x="0" y="675"/>
                      <a:pt x="149" y="774"/>
                    </a:cubicBezTo>
                    <a:cubicBezTo>
                      <a:pt x="173" y="811"/>
                      <a:pt x="193" y="836"/>
                      <a:pt x="220" y="868"/>
                    </a:cubicBezTo>
                    <a:cubicBezTo>
                      <a:pt x="226" y="875"/>
                      <a:pt x="228" y="886"/>
                      <a:pt x="235" y="892"/>
                    </a:cubicBezTo>
                    <a:cubicBezTo>
                      <a:pt x="249" y="905"/>
                      <a:pt x="283" y="924"/>
                      <a:pt x="283" y="924"/>
                    </a:cubicBezTo>
                    <a:cubicBezTo>
                      <a:pt x="303" y="953"/>
                      <a:pt x="336" y="968"/>
                      <a:pt x="370" y="979"/>
                    </a:cubicBezTo>
                    <a:cubicBezTo>
                      <a:pt x="394" y="995"/>
                      <a:pt x="414" y="1009"/>
                      <a:pt x="441" y="1018"/>
                    </a:cubicBezTo>
                    <a:cubicBezTo>
                      <a:pt x="449" y="1023"/>
                      <a:pt x="455" y="1030"/>
                      <a:pt x="464" y="1034"/>
                    </a:cubicBezTo>
                    <a:cubicBezTo>
                      <a:pt x="479" y="1041"/>
                      <a:pt x="512" y="1050"/>
                      <a:pt x="512" y="1050"/>
                    </a:cubicBezTo>
                    <a:cubicBezTo>
                      <a:pt x="561" y="1084"/>
                      <a:pt x="627" y="1093"/>
                      <a:pt x="685" y="1105"/>
                    </a:cubicBezTo>
                    <a:cubicBezTo>
                      <a:pt x="784" y="1125"/>
                      <a:pt x="875" y="1159"/>
                      <a:pt x="977" y="1168"/>
                    </a:cubicBezTo>
                    <a:cubicBezTo>
                      <a:pt x="1040" y="1174"/>
                      <a:pt x="1167" y="1184"/>
                      <a:pt x="1167" y="1184"/>
                    </a:cubicBezTo>
                    <a:cubicBezTo>
                      <a:pt x="1233" y="1195"/>
                      <a:pt x="1301" y="1210"/>
                      <a:pt x="1364" y="1231"/>
                    </a:cubicBezTo>
                    <a:cubicBezTo>
                      <a:pt x="1415" y="1267"/>
                      <a:pt x="1470" y="1277"/>
                      <a:pt x="1530" y="1286"/>
                    </a:cubicBezTo>
                    <a:cubicBezTo>
                      <a:pt x="1642" y="1325"/>
                      <a:pt x="1782" y="1307"/>
                      <a:pt x="1900" y="1318"/>
                    </a:cubicBezTo>
                    <a:cubicBezTo>
                      <a:pt x="2020" y="1342"/>
                      <a:pt x="1996" y="1339"/>
                      <a:pt x="2216" y="1334"/>
                    </a:cubicBezTo>
                    <a:cubicBezTo>
                      <a:pt x="2233" y="1334"/>
                      <a:pt x="2263" y="1318"/>
                      <a:pt x="2263" y="1318"/>
                    </a:cubicBezTo>
                    <a:cubicBezTo>
                      <a:pt x="2301" y="1280"/>
                      <a:pt x="2347" y="1257"/>
                      <a:pt x="2397" y="1239"/>
                    </a:cubicBezTo>
                    <a:cubicBezTo>
                      <a:pt x="2414" y="1171"/>
                      <a:pt x="2443" y="1040"/>
                      <a:pt x="2374" y="995"/>
                    </a:cubicBezTo>
                    <a:cubicBezTo>
                      <a:pt x="2318" y="911"/>
                      <a:pt x="2216" y="884"/>
                      <a:pt x="2121" y="868"/>
                    </a:cubicBezTo>
                    <a:cubicBezTo>
                      <a:pt x="2082" y="871"/>
                      <a:pt x="2042" y="870"/>
                      <a:pt x="2003" y="876"/>
                    </a:cubicBezTo>
                    <a:cubicBezTo>
                      <a:pt x="1957" y="883"/>
                      <a:pt x="1927" y="911"/>
                      <a:pt x="1885" y="924"/>
                    </a:cubicBezTo>
                    <a:cubicBezTo>
                      <a:pt x="1779" y="958"/>
                      <a:pt x="1670" y="991"/>
                      <a:pt x="1569" y="1034"/>
                    </a:cubicBezTo>
                    <a:cubicBezTo>
                      <a:pt x="1519" y="1056"/>
                      <a:pt x="1448" y="1052"/>
                      <a:pt x="1395" y="1058"/>
                    </a:cubicBezTo>
                    <a:cubicBezTo>
                      <a:pt x="1326" y="1066"/>
                      <a:pt x="1258" y="1078"/>
                      <a:pt x="1190" y="1089"/>
                    </a:cubicBezTo>
                    <a:cubicBezTo>
                      <a:pt x="1077" y="1082"/>
                      <a:pt x="1083" y="1096"/>
                      <a:pt x="1017" y="1050"/>
                    </a:cubicBezTo>
                    <a:cubicBezTo>
                      <a:pt x="1008" y="1024"/>
                      <a:pt x="977" y="979"/>
                      <a:pt x="977" y="979"/>
                    </a:cubicBezTo>
                    <a:cubicBezTo>
                      <a:pt x="954" y="911"/>
                      <a:pt x="916" y="852"/>
                      <a:pt x="898" y="782"/>
                    </a:cubicBezTo>
                    <a:cubicBezTo>
                      <a:pt x="889" y="703"/>
                      <a:pt x="881" y="613"/>
                      <a:pt x="859" y="537"/>
                    </a:cubicBezTo>
                    <a:cubicBezTo>
                      <a:pt x="851" y="508"/>
                      <a:pt x="845" y="478"/>
                      <a:pt x="835" y="450"/>
                    </a:cubicBezTo>
                    <a:cubicBezTo>
                      <a:pt x="830" y="434"/>
                      <a:pt x="819" y="403"/>
                      <a:pt x="819" y="403"/>
                    </a:cubicBezTo>
                    <a:cubicBezTo>
                      <a:pt x="814" y="367"/>
                      <a:pt x="794" y="305"/>
                      <a:pt x="835" y="284"/>
                    </a:cubicBezTo>
                    <a:close/>
                  </a:path>
                </a:pathLst>
              </a:custGeom>
              <a:noFill/>
              <a:ln w="50760">
                <a:solidFill>
                  <a:srgbClr val="00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4724280" y="5409720"/>
                <a:ext cx="381240" cy="762120"/>
              </a:xfrm>
              <a:prstGeom prst="line">
                <a:avLst/>
              </a:prstGeom>
              <a:ln w="50760">
                <a:solidFill>
                  <a:srgbClr val="00cc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0" y="5195880"/>
            <a:ext cx="3505320" cy="160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60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Groupes fonctionnels à exploit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ti</cp:lastModifiedBy>
  <dcterms:modified xsi:type="dcterms:W3CDTF">2003-02-06T21:05:56Z</dcterms:modified>
  <cp:revision>140</cp:revision>
  <dc:subject/>
  <dc:title>Présentation PowerPoint</dc:title>
</cp:coreProperties>
</file>