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0EE3-25AA-4573-8F7A-39F24954EF5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2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3732-0542-4260-92A3-5F0F808A0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4F8D-F365-4111-BC8E-7755A4E0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5E20-600C-4CE5-B9E6-6C98D2E19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3C12-055A-47B0-A2F6-7D11FE90D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3842-260C-4258-8567-36ECC0E2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A2CB-A8FE-4DA5-A07C-0C1A3D597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3991-55CA-424B-95C0-EE536F0E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1EA3-E044-4A40-AF79-837A2237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8D76-22CA-432E-A122-10854061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6608-50B6-409F-8806-AE66C612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4AA3-219B-4FA3-914D-42242477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A38A-BCDE-48D1-B3AD-71F93DE5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787C-947B-4815-92C9-9EDB97D3A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hyperlink" Target="file://Portable/yves/solidworks/pince%203%20doigts%20parrall&#232;le/ensemble%20pince.avi" TargetMode="External"/><Relationship Id="rId5" Type="http://schemas.openxmlformats.org/officeDocument/2006/relationships/hyperlink" Target="file://Portable/yves/solidworks/pince%203%20doigts%20parrall&#232;le/ensemble%20pince.avi" TargetMode="External"/><Relationship Id="rId6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640" y="1599840"/>
            <a:ext cx="7848720" cy="1523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PREUVE U-33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éfinition de produit industri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981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imes New Roman"/>
              </a:rPr>
              <a:t>PINCE 3 DOIGTS A SERRAGE /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oposition: Yves BOUV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ycée Charles Stoessel Mulho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1371600"/>
            <a:ext cx="7848720" cy="18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SSIER TRAVAIL: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INCE 3 DOIGTS A SERRAGE /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523520" y="4267080"/>
            <a:ext cx="6629400" cy="990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ions de travail au candidat : à réaliser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1371600"/>
            <a:ext cx="7848720" cy="18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SSIER RESSOURCES: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INCE 3 DOIGTS A SERRAGE /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7672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95600" y="-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msotw9_temp0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95600" y="-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msotw9_temp0" descr=""/>
          <p:cNvPicPr/>
          <p:nvPr/>
        </p:nvPicPr>
        <p:blipFill>
          <a:blip r:embed="rId2"/>
          <a:stretch/>
        </p:blipFill>
        <p:spPr>
          <a:xfrm>
            <a:off x="4572000" y="152280"/>
            <a:ext cx="4551480" cy="6705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276360" y="-360"/>
            <a:ext cx="2057400" cy="762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cienne pi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362320" y="34290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47242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743200" y="34290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362320" y="342900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10080" y="3809880"/>
            <a:ext cx="0" cy="2590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64008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715000" y="3809520"/>
            <a:ext cx="0" cy="2590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409720" y="38098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96080" y="3809880"/>
            <a:ext cx="0" cy="2590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640080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7924680" y="3809520"/>
            <a:ext cx="0" cy="2590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7695720" y="380988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695600" y="-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95600" y="-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-8668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msotw9_temp0" descr=""/>
          <p:cNvPicPr/>
          <p:nvPr/>
        </p:nvPicPr>
        <p:blipFill>
          <a:blip r:embed="rId1"/>
          <a:stretch/>
        </p:blipFill>
        <p:spPr>
          <a:xfrm>
            <a:off x="297000" y="0"/>
            <a:ext cx="4275000" cy="6810480"/>
          </a:xfrm>
          <a:prstGeom prst="rect">
            <a:avLst/>
          </a:prstGeom>
          <a:ln w="0">
            <a:noFill/>
          </a:ln>
        </p:spPr>
      </p:pic>
      <p:pic>
        <p:nvPicPr>
          <p:cNvPr id="127" name="msotw9_temp0" descr=""/>
          <p:cNvPicPr/>
          <p:nvPr/>
        </p:nvPicPr>
        <p:blipFill>
          <a:blip r:embed="rId2"/>
          <a:stretch/>
        </p:blipFill>
        <p:spPr>
          <a:xfrm>
            <a:off x="4572000" y="100080"/>
            <a:ext cx="4465800" cy="66578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447560" y="6095520"/>
            <a:ext cx="2057400" cy="762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uvelle pi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257800" y="4495680"/>
            <a:ext cx="0" cy="198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44956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38680" y="4495680"/>
            <a:ext cx="0" cy="198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257800" y="647712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467480" y="4495680"/>
            <a:ext cx="0" cy="198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67480" y="64771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7772400" y="4495680"/>
            <a:ext cx="0" cy="198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7467120" y="44956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3581280"/>
            <a:ext cx="0" cy="1828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541008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438280" y="3581280"/>
            <a:ext cx="0" cy="1828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904760" y="358128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msotw9_temp0" descr=""/>
          <p:cNvPicPr/>
          <p:nvPr/>
        </p:nvPicPr>
        <p:blipFill>
          <a:blip r:embed="rId1"/>
          <a:srcRect l="0" t="0" r="9630" b="21864"/>
          <a:stretch/>
        </p:blipFill>
        <p:spPr>
          <a:xfrm>
            <a:off x="4495680" y="838080"/>
            <a:ext cx="4648320" cy="6019920"/>
          </a:xfrm>
          <a:prstGeom prst="rect">
            <a:avLst/>
          </a:prstGeom>
          <a:ln w="0">
            <a:noFill/>
          </a:ln>
        </p:spPr>
      </p:pic>
      <p:pic>
        <p:nvPicPr>
          <p:cNvPr id="142" name="msotw9_temp0" descr=""/>
          <p:cNvPicPr/>
          <p:nvPr/>
        </p:nvPicPr>
        <p:blipFill>
          <a:blip r:embed="rId2"/>
          <a:srcRect l="0" t="7945" r="0" b="-922"/>
          <a:stretch/>
        </p:blipFill>
        <p:spPr>
          <a:xfrm>
            <a:off x="533520" y="152280"/>
            <a:ext cx="4349520" cy="5677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5562360" y="0"/>
            <a:ext cx="2438280" cy="838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cienne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5791320"/>
            <a:ext cx="2438640" cy="914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uvelle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848360" cy="18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ssier Technique: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INCE 3 DOIGTS A SERRAGE //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0" y="3428640"/>
            <a:ext cx="4114800" cy="2971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ociété 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M Manutention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aedersheim – 68) conçoit, fabrique et propose sur le marché de la manutention une gamme de produits, à savoir 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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 manipulateurs pneumat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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s manipulateurs électriqu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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s pinces de préh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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s vérins guides comp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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s unités de guid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msotw9_temp0" descr=""/>
          <p:cNvPicPr/>
          <p:nvPr/>
        </p:nvPicPr>
        <p:blipFill>
          <a:blip r:embed="rId1"/>
          <a:srcRect l="5535" t="27345" r="8490" b="6654"/>
          <a:stretch/>
        </p:blipFill>
        <p:spPr>
          <a:xfrm>
            <a:off x="152280" y="1981080"/>
            <a:ext cx="437364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419360" y="4495320"/>
            <a:ext cx="4724280" cy="2133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st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à commande pneumatique double effet -transmet l’ouverture ou la fermeture de la pince par l’intermédiaire du système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e en étoile – biellettes – moignon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utilisateur peut adapter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érents types de doigt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tails: voir documents ressour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msotw9_temp0" descr=""/>
          <p:cNvPicPr/>
          <p:nvPr/>
        </p:nvPicPr>
        <p:blipFill>
          <a:blip r:embed="rId1"/>
          <a:srcRect l="61261" t="11357" r="1324" b="60275"/>
          <a:stretch/>
        </p:blipFill>
        <p:spPr>
          <a:xfrm>
            <a:off x="5029200" y="914400"/>
            <a:ext cx="3059280" cy="3525840"/>
          </a:xfrm>
          <a:prstGeom prst="rect">
            <a:avLst/>
          </a:prstGeom>
          <a:ln w="0">
            <a:noFill/>
          </a:ln>
        </p:spPr>
      </p:pic>
      <p:pic>
        <p:nvPicPr>
          <p:cNvPr id="56" name="msotw9_temp0" descr=""/>
          <p:cNvPicPr/>
          <p:nvPr/>
        </p:nvPicPr>
        <p:blipFill>
          <a:blip r:embed="rId2"/>
          <a:srcRect l="23749" t="28514" r="39933" b="37955"/>
          <a:stretch/>
        </p:blipFill>
        <p:spPr>
          <a:xfrm>
            <a:off x="228600" y="876240"/>
            <a:ext cx="3797280" cy="5105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H="1">
            <a:off x="2033280" y="2617920"/>
            <a:ext cx="1090440" cy="82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2286000"/>
            <a:ext cx="93528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s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6172200"/>
            <a:ext cx="1494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ignon (3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1280" y="3048120"/>
            <a:ext cx="1495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ellette (3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6172200"/>
            <a:ext cx="898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447920" y="4800600"/>
            <a:ext cx="7617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971800" y="3429000"/>
            <a:ext cx="12952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3047760" y="556236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52280"/>
            <a:ext cx="8686800" cy="68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’étude proposée porte sur le développement d’une pince de préhension 3 doigts à serrage parallèle – de type 232-2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981080" y="151920"/>
            <a:ext cx="5486400" cy="685800"/>
          </a:xfrm>
          <a:prstGeom prst="rect">
            <a:avLst/>
          </a:prstGeom>
          <a:solidFill>
            <a:srgbClr val="ff33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BLEMATIQU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14300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’utilisation de cette pince –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ype 231-235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– a amené les constats suiva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8686800" cy="1066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te tenu de l’inertie des pièces  à déplacer et des grandes vitesses utilisées sur certains manipulateurs, la masse de la pince est trop import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3581280"/>
            <a:ext cx="8686800" cy="4572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iston Parker acheté trop onéreu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4191120"/>
            <a:ext cx="8686800" cy="7617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mission entre piston et doigts par chape en étoile et biellettes trop encombr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5105520"/>
            <a:ext cx="8686800" cy="5331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étection par détecteurs inductifs et butées encombr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5791320"/>
            <a:ext cx="8686800" cy="7617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écurité par ressort en cas de coupure d’air: augmente la longueur du cylind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828800" y="304560"/>
            <a:ext cx="5486400" cy="6858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1143000"/>
            <a:ext cx="8686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e Bureau d’Études propose une nouvelle version d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ince 3 doigts à serrage //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ype 242-246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– avec les améliorations suiv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590920"/>
            <a:ext cx="8686800" cy="10666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ur un effort de serrage comparable de 60 N et une course sensiblement égale de 4.5 au lieu de 5 mm, un gain de poids important (0.160 kg au lieu de 0.360 kg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962520"/>
            <a:ext cx="8686800" cy="7617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iston entièrement usiné avec aimant pour détecteurs magnétiq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952880"/>
            <a:ext cx="8686800" cy="5335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adjonction d’un clapet anti retour pour assurer la sécurit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638680"/>
            <a:ext cx="8686800" cy="76212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ception d’une chape cylindrique pour assurer la transmission et réduire l’encombr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5486400" cy="121932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NCTIONNEMENT nouvelle pince Type 242-24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1371600" y="1447920"/>
            <a:ext cx="5105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ue en coupe de l’ensem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5897" t="4604" r="8374" b="2912"/>
          <a:stretch/>
        </p:blipFill>
        <p:spPr>
          <a:xfrm>
            <a:off x="152280" y="1828800"/>
            <a:ext cx="4419720" cy="3951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rcRect l="17131" t="6631" r="18337" b="6713"/>
          <a:stretch/>
        </p:blipFill>
        <p:spPr>
          <a:xfrm>
            <a:off x="6019920" y="152280"/>
            <a:ext cx="2732040" cy="3033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rcRect l="14199" t="6036" r="18930" b="5997"/>
          <a:stretch/>
        </p:blipFill>
        <p:spPr>
          <a:xfrm>
            <a:off x="5867280" y="3429000"/>
            <a:ext cx="2876760" cy="313056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4572000" y="2590920"/>
            <a:ext cx="1371600" cy="652320"/>
            <a:chOff x="4572000" y="2590920"/>
            <a:chExt cx="1371600" cy="652320"/>
          </a:xfrm>
        </p:grpSpPr>
        <p:sp>
          <p:nvSpPr>
            <p:cNvPr id="85" name=""/>
            <p:cNvSpPr/>
            <p:nvPr/>
          </p:nvSpPr>
          <p:spPr>
            <a:xfrm>
              <a:off x="4572000" y="2590920"/>
              <a:ext cx="1371600" cy="652320"/>
            </a:xfrm>
            <a:prstGeom prst="rightArrow">
              <a:avLst>
                <a:gd name="adj1" fmla="val 50000"/>
                <a:gd name="adj2" fmla="val 52566"/>
              </a:avLst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10880" y="2772000"/>
              <a:ext cx="1059840" cy="28980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ince fermé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419720" y="6095880"/>
            <a:ext cx="1425600" cy="650880"/>
            <a:chOff x="4419720" y="6095880"/>
            <a:chExt cx="1425600" cy="650880"/>
          </a:xfrm>
        </p:grpSpPr>
        <p:sp>
          <p:nvSpPr>
            <p:cNvPr id="88" name=""/>
            <p:cNvSpPr/>
            <p:nvPr/>
          </p:nvSpPr>
          <p:spPr>
            <a:xfrm>
              <a:off x="4419720" y="6095880"/>
              <a:ext cx="1425600" cy="650880"/>
            </a:xfrm>
            <a:prstGeom prst="rightArrow">
              <a:avLst>
                <a:gd name="adj1" fmla="val 50000"/>
                <a:gd name="adj2" fmla="val 54757"/>
              </a:avLst>
            </a:prstGeom>
            <a:solidFill>
              <a:srgbClr val="ff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60040" y="6276600"/>
              <a:ext cx="1189440" cy="289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ince ouver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-1219320" y="5791320"/>
            <a:ext cx="6477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4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ur visionner le fonctionnement, cliquez sur:</a:t>
            </a:r>
            <a:r>
              <a:rPr b="0" lang="fr-FR" sz="20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ensemble pince.</a:t>
            </a:r>
            <a:r>
              <a:rPr b="0" lang="fr-FR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a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066680" y="0"/>
            <a:ext cx="6400800" cy="533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INCE 3 DOIGTS A SERRAGE /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msotw9_temp0" descr=""/>
          <p:cNvPicPr/>
          <p:nvPr/>
        </p:nvPicPr>
        <p:blipFill>
          <a:blip r:embed="rId1"/>
          <a:stretch/>
        </p:blipFill>
        <p:spPr>
          <a:xfrm>
            <a:off x="-12600" y="533520"/>
            <a:ext cx="9156600" cy="6629400"/>
          </a:xfrm>
          <a:prstGeom prst="rect">
            <a:avLst/>
          </a:prstGeom>
          <a:ln w="0">
            <a:noFill/>
          </a:ln>
        </p:spPr>
      </p:pic>
      <p:grpSp>
        <p:nvGrpSpPr>
          <p:cNvPr id="93" name=""/>
          <p:cNvGrpSpPr/>
          <p:nvPr/>
        </p:nvGrpSpPr>
        <p:grpSpPr>
          <a:xfrm>
            <a:off x="1295280" y="5638680"/>
            <a:ext cx="1981440" cy="652680"/>
            <a:chOff x="1295280" y="5638680"/>
            <a:chExt cx="1981440" cy="652680"/>
          </a:xfrm>
        </p:grpSpPr>
        <p:sp>
          <p:nvSpPr>
            <p:cNvPr id="94" name=""/>
            <p:cNvSpPr/>
            <p:nvPr/>
          </p:nvSpPr>
          <p:spPr>
            <a:xfrm>
              <a:off x="1295280" y="5638680"/>
              <a:ext cx="1981440" cy="652680"/>
            </a:xfrm>
            <a:prstGeom prst="rightArrow">
              <a:avLst>
                <a:gd name="adj1" fmla="val 50000"/>
                <a:gd name="adj2" fmla="val 75896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51440" y="5819760"/>
              <a:ext cx="1530720" cy="29016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RPS à défini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6400800" cy="12193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INCE 3 DOIGTS A SERRAGE /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MENCL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msotw9_temp0" descr=""/>
          <p:cNvPicPr/>
          <p:nvPr/>
        </p:nvPicPr>
        <p:blipFill>
          <a:blip r:embed="rId1"/>
          <a:srcRect l="0" t="-1217" r="0" b="34196"/>
          <a:stretch/>
        </p:blipFill>
        <p:spPr>
          <a:xfrm>
            <a:off x="2438280" y="1143000"/>
            <a:ext cx="5745240" cy="55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51920" y="1904760"/>
            <a:ext cx="3581640" cy="10666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 DE PROD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msotw9_temp0" descr=""/>
          <p:cNvPicPr/>
          <p:nvPr/>
        </p:nvPicPr>
        <p:blipFill>
          <a:blip r:embed="rId1"/>
          <a:stretch/>
        </p:blipFill>
        <p:spPr>
          <a:xfrm>
            <a:off x="3809880" y="152280"/>
            <a:ext cx="4903920" cy="6553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52280" y="3581280"/>
            <a:ext cx="3581640" cy="1828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’étude proposée porte sur la réalisation de la cotation fonctionnelle du Corps de la pince 242 en vue de sa fabrication en petite sé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17:30:17Z</dcterms:created>
  <dc:creator>BOUVIER YVES</dc:creator>
  <dc:description/>
  <dc:language>en-US</dc:language>
  <cp:lastModifiedBy>BOUVIER YVES</cp:lastModifiedBy>
  <dcterms:modified xsi:type="dcterms:W3CDTF">2004-05-04T15:18:27Z</dcterms:modified>
  <cp:revision>20</cp:revision>
  <dc:subject/>
  <dc:title>EPREUVE U-33: Définition de produit industriel</dc:title>
</cp:coreProperties>
</file>