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03BB-A116-46D6-BE1B-B314F555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5FC8-9853-409D-A282-3990BF94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1E77-CD62-47C3-B905-7462E743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003C-4A36-4281-9A5F-FB7604B2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01F2-BFB3-4F4E-948C-95B8FEAC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B3F2-5011-4635-8147-1ECB99DF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2583-7E14-431A-A71F-F7C2FFBF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F31C-F004-4406-A5A0-A4C9BEF0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8389-02BA-448E-8692-CDFD02B5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8770-8742-4ECE-8E0F-629EA0C1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2C23-F0F8-4B29-9DCA-C47F9FC2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3C33-B87C-43AD-BF93-04C242A1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EA17-6D3F-4479-8959-AFE51FBD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FDFB-6D17-4316-8D60-6FEAB538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5155-1407-463C-82BB-CDFE0439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D065-B489-46EF-B8B5-0D38871F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3F50-2073-42D1-B02C-5D851B08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CB8E-723E-4F82-A374-72D341C1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0944-8FCF-421F-97DA-82EC1536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0269-6B2A-444B-BB47-FEE4E0C1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0A19-BAA5-4649-89EA-F164D868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D783-1FF2-482E-BEE7-4595080E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2E12-104D-4A4B-826E-5B7C7533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5675-A65E-4353-BEEC-23AC8CD7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BE05-D627-48F4-8401-4C8D95172CE9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4F5C-FB03-4BC5-BB83-55ADCD02C73A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0" y="2286000"/>
            <a:ext cx="1981080" cy="736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5610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riv'up</a:t>
            </a:r>
            <a:endParaRPr b="0" lang="en-US" sz="2400" spc="1" strike="noStrike">
              <a:ln w="648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341460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DrivUp3_zoom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1538280" cy="1538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371600" y="762120"/>
            <a:ext cx="7056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accalauréat Professionnel E.D.P.I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81080" y="2057400"/>
            <a:ext cx="6477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2057400"/>
            <a:ext cx="731520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ne partie de l’activité de la société MECANROC est la  conception, le développement, la  fabrication et la commercialisation de chariots de manutention de kartings, les chariots </a:t>
            </a:r>
            <a:r>
              <a:rPr b="1" i="1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’up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 chariot lève-kart </a:t>
            </a:r>
            <a:r>
              <a:rPr b="1" i="1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’up 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 donc un chariot escamotable, qui permet de transporter des karts de compétition et de jouer le rôle d’ 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  <a:ea typeface="Arial"/>
              </a:rPr>
              <a:t>‘’</a:t>
            </a:r>
            <a:r>
              <a:rPr b="0" i="1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tabli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  <a:ea typeface="Arial"/>
              </a:rPr>
              <a:t>’’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Avant propo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5" name="DrivUp3_zoom" descr=""/>
          <p:cNvPicPr/>
          <p:nvPr/>
        </p:nvPicPr>
        <p:blipFill>
          <a:blip r:embed="rId1"/>
          <a:stretch/>
        </p:blipFill>
        <p:spPr>
          <a:xfrm>
            <a:off x="380880" y="47160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81080" y="2057400"/>
            <a:ext cx="6477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981080"/>
            <a:ext cx="2743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l doit permettre à une </a:t>
            </a:r>
            <a:r>
              <a:rPr b="1" lang="fr-FR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rsonne seule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d’installer le kart sur le chariot. Chose difficilement réalisable sans aide : un kart pèse jusqu'à 130 kg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A quoi sert-i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9" name="DrivUp3_zoom" descr=""/>
          <p:cNvPicPr/>
          <p:nvPr/>
        </p:nvPicPr>
        <p:blipFill>
          <a:blip r:embed="rId1"/>
          <a:stretch/>
        </p:blipFill>
        <p:spPr>
          <a:xfrm>
            <a:off x="380880" y="47160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7814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Du02" descr=""/>
          <p:cNvPicPr/>
          <p:nvPr/>
        </p:nvPicPr>
        <p:blipFill>
          <a:blip r:embed="rId2"/>
          <a:stretch/>
        </p:blipFill>
        <p:spPr>
          <a:xfrm>
            <a:off x="914400" y="3200400"/>
            <a:ext cx="2133720" cy="1773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05320" y="1981080"/>
            <a:ext cx="2514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Il doit garder le kart en position stable, à une 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hauteur d’environ 1m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. Hauteur idéale pour travailler sur le kart dans de bonnes condi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14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u03" descr=""/>
          <p:cNvPicPr/>
          <p:nvPr/>
        </p:nvPicPr>
        <p:blipFill>
          <a:blip r:embed="rId3"/>
          <a:stretch/>
        </p:blipFill>
        <p:spPr>
          <a:xfrm>
            <a:off x="3581280" y="3200400"/>
            <a:ext cx="2133720" cy="1773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172200" y="1981080"/>
            <a:ext cx="2514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Il doit permettre à l’utilisateur de 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déplacer facilement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 le kart, n’importe où sur-le-champ de cours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814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Du04" descr=""/>
          <p:cNvPicPr/>
          <p:nvPr/>
        </p:nvPicPr>
        <p:blipFill>
          <a:blip r:embed="rId4"/>
          <a:stretch/>
        </p:blipFill>
        <p:spPr>
          <a:xfrm>
            <a:off x="6324480" y="3200400"/>
            <a:ext cx="2133720" cy="1773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47920" y="5334120"/>
            <a:ext cx="3352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Il doit 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aciliter le chargement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 du kart sur une remorque ( moyen le plus utilisé ) et d’avoir un 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encombrement minimum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 pour le ranger facilemen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14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Du05" descr=""/>
          <p:cNvPicPr/>
          <p:nvPr/>
        </p:nvPicPr>
        <p:blipFill>
          <a:blip r:embed="rId5"/>
          <a:stretch/>
        </p:blipFill>
        <p:spPr>
          <a:xfrm>
            <a:off x="5029200" y="4876920"/>
            <a:ext cx="213372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981080" y="2057400"/>
            <a:ext cx="6477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2057400"/>
            <a:ext cx="6477120" cy="49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 modèle actuellement commercialisé est </a:t>
            </a: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nuel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on l’actionne en tirant sur une lanière fixée sur le bras arrière du chariot. Il est destiné aux karts les plus légers, comme les karts à moteurs 2 temps de 100cc et de 125cc. Ceux-ci peuvent peser de </a:t>
            </a: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0 à 100kg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 société MECANROC souhaite développer un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modèle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lectrique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, qui serait destiné aux modèles de karts plus lourds, comme 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Les karts de location 4T et électriqu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Les karts de 125cc lesté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Les superkart de 250cc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eux-ci peuvent peser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squ’à 130kg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Problématique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4" name="DrivUp3_zoom" descr=""/>
          <p:cNvPicPr/>
          <p:nvPr/>
        </p:nvPicPr>
        <p:blipFill>
          <a:blip r:embed="rId1"/>
          <a:stretch/>
        </p:blipFill>
        <p:spPr>
          <a:xfrm>
            <a:off x="380880" y="47160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0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Vue du Driv’up manuel 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6" name="DrivUp3_zoom" descr=""/>
          <p:cNvPicPr/>
          <p:nvPr/>
        </p:nvPicPr>
        <p:blipFill>
          <a:blip r:embed="rId1"/>
          <a:stretch/>
        </p:blipFill>
        <p:spPr>
          <a:xfrm>
            <a:off x="380880" y="47160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35772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DrivUp2_zoom" descr=""/>
          <p:cNvPicPr/>
          <p:nvPr/>
        </p:nvPicPr>
        <p:blipFill>
          <a:blip r:embed="rId2"/>
          <a:stretch/>
        </p:blipFill>
        <p:spPr>
          <a:xfrm>
            <a:off x="4800600" y="2057400"/>
            <a:ext cx="2590920" cy="1727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41460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DrivUp3_zoom" descr=""/>
          <p:cNvPicPr/>
          <p:nvPr/>
        </p:nvPicPr>
        <p:blipFill>
          <a:blip r:embed="rId3"/>
          <a:stretch/>
        </p:blipFill>
        <p:spPr>
          <a:xfrm>
            <a:off x="4800600" y="39625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32986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ariot </a:t>
            </a:r>
            <a:r>
              <a:rPr b="1" i="1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’up</a:t>
            </a:r>
            <a:r>
              <a:rPr b="0" i="1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nuel</a:t>
            </a:r>
            <a:r>
              <a:rPr b="0" i="1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en </a:t>
            </a:r>
            <a:r>
              <a:rPr b="1" i="1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sition basse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87692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ariot </a:t>
            </a:r>
            <a:r>
              <a:rPr b="1" i="1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’up</a:t>
            </a:r>
            <a:r>
              <a:rPr b="0" i="1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nuel</a:t>
            </a:r>
            <a:r>
              <a:rPr b="0" i="1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en position hau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70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Etude à réaliser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4" name="DrivUp3_zoom" descr=""/>
          <p:cNvPicPr/>
          <p:nvPr/>
        </p:nvPicPr>
        <p:blipFill>
          <a:blip r:embed="rId1"/>
          <a:stretch/>
        </p:blipFill>
        <p:spPr>
          <a:xfrm>
            <a:off x="380880" y="47160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35772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3864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1905120"/>
            <a:ext cx="746748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 société MECANROC à développer une maquette virtuelle de </a:t>
            </a:r>
            <a:r>
              <a:rPr b="1" i="1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’up  électrique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et souhaite vous faire réaliser les calculs de vérification qui permettront de dimensionner le vérin électrique, choisir les ressort à gaz  et de contrôler la cinématique de l’ensemble.</a:t>
            </a:r>
            <a:br>
              <a:rPr sz="2000"/>
            </a:br>
            <a:r>
              <a:rPr b="0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 cinématique du châssis a été légèrement modifié pour diminuer le nombre de manipul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3337200" cy="2689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19320" y="3809880"/>
            <a:ext cx="36655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70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Travail attendu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1" name="DrivUp3_zoom" descr=""/>
          <p:cNvPicPr/>
          <p:nvPr/>
        </p:nvPicPr>
        <p:blipFill>
          <a:blip r:embed="rId1"/>
          <a:stretch/>
        </p:blipFill>
        <p:spPr>
          <a:xfrm>
            <a:off x="380880" y="47160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35772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3864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182880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 but de l’étude sera de choisir, dans un extrait de catalogue, les ressorts à gaz et le vérin électriqu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781680" y="4952880"/>
            <a:ext cx="1886040" cy="1482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828800" y="2666880"/>
            <a:ext cx="464832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ur cela, le candidat devra déterminer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La course du vér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 vitesse de translation de la tige ( avoir un temps acceptable de mise en position du karting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’effort que doit fournir le véri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Un calcul de RDM sera effectué sur l’articulation du vérin avec le chassis pour vérifier sa résistance (Chassis tubulai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57040" y="3805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Prototype réalisé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8" name="DrivUp3_zoom" descr=""/>
          <p:cNvPicPr/>
          <p:nvPr/>
        </p:nvPicPr>
        <p:blipFill>
          <a:blip r:embed="rId1"/>
          <a:stretch/>
        </p:blipFill>
        <p:spPr>
          <a:xfrm>
            <a:off x="380880" y="47160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35772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osBasse_zoom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4267080" cy="2844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33864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osHaute_zoom" descr=""/>
          <p:cNvPicPr/>
          <p:nvPr/>
        </p:nvPicPr>
        <p:blipFill>
          <a:blip r:embed="rId3"/>
          <a:stretch/>
        </p:blipFill>
        <p:spPr>
          <a:xfrm>
            <a:off x="4724280" y="2743200"/>
            <a:ext cx="426744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12:53:43Z</dcterms:created>
  <dc:creator>LC</dc:creator>
  <dc:description/>
  <dc:language>en-US</dc:language>
  <cp:lastModifiedBy>pyoung</cp:lastModifiedBy>
  <dcterms:modified xsi:type="dcterms:W3CDTF">2005-12-12T10:58:16Z</dcterms:modified>
  <cp:revision>64</cp:revision>
  <dc:subject/>
  <dc:title>Présentation d’un projet U34</dc:title>
</cp:coreProperties>
</file>