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20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5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17.jpeg" ContentType="image/jpeg"/>
  <Override PartName="/ppt/media/image14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e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9000"/>
            <a:ext cx="9144000" cy="8636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-2718000" y="3357360"/>
            <a:ext cx="6858000" cy="1429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67676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549360"/>
            <a:ext cx="9180360" cy="14436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67676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8440" y="260280"/>
            <a:ext cx="1224000" cy="754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7640" y="260280"/>
            <a:ext cx="55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5ce95"/>
                </a:solidFill>
                <a:latin typeface="Arial"/>
              </a:rPr>
              <a:t>Bac STI ELTK 2006 - E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91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CB6F-7246-4C92-B60B-4C7392FBF32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8842320" y="6642000"/>
            <a:ext cx="289080" cy="21744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8705" h="21600">
                <a:moveTo>
                  <a:pt x="0" y="0"/>
                </a:moveTo>
                <a:lnTo>
                  <a:pt x="28705" y="0"/>
                </a:lnTo>
                <a:lnTo>
                  <a:pt x="28705" y="21600"/>
                </a:lnTo>
                <a:lnTo>
                  <a:pt x="0" y="21600"/>
                </a:lnTo>
                <a:close/>
              </a:path>
              <a:path fill="lightenLess" w="28705" h="21600">
                <a:moveTo>
                  <a:pt x="0" y="0"/>
                </a:moveTo>
                <a:lnTo>
                  <a:pt x="28705" y="0"/>
                </a:lnTo>
                <a:lnTo>
                  <a:pt x="27305" y="1400"/>
                </a:lnTo>
                <a:lnTo>
                  <a:pt x="1400" y="1400"/>
                </a:lnTo>
                <a:close/>
              </a:path>
              <a:path fill="darken" w="28705" h="21600">
                <a:moveTo>
                  <a:pt x="28705" y="0"/>
                </a:moveTo>
                <a:lnTo>
                  <a:pt x="28705" y="21600"/>
                </a:lnTo>
                <a:lnTo>
                  <a:pt x="27305" y="20200"/>
                </a:lnTo>
                <a:lnTo>
                  <a:pt x="27305" y="1400"/>
                </a:lnTo>
                <a:close/>
              </a:path>
              <a:path fill="darkenLess" w="28705" h="21600">
                <a:moveTo>
                  <a:pt x="28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05" y="20200"/>
                </a:lnTo>
                <a:close/>
              </a:path>
              <a:path fill="lighten" w="28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05" h="21600">
                <a:moveTo>
                  <a:pt x="7346" y="3794"/>
                </a:moveTo>
                <a:lnTo>
                  <a:pt x="21359" y="10800"/>
                </a:lnTo>
                <a:lnTo>
                  <a:pt x="7346" y="17806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flipH="1">
            <a:off x="8532000" y="6640560"/>
            <a:ext cx="289080" cy="21744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8705" h="21600">
                <a:moveTo>
                  <a:pt x="0" y="0"/>
                </a:moveTo>
                <a:lnTo>
                  <a:pt x="28705" y="0"/>
                </a:lnTo>
                <a:lnTo>
                  <a:pt x="28705" y="21600"/>
                </a:lnTo>
                <a:lnTo>
                  <a:pt x="0" y="21600"/>
                </a:lnTo>
                <a:close/>
              </a:path>
              <a:path fill="lightenLess" w="28705" h="21600">
                <a:moveTo>
                  <a:pt x="0" y="0"/>
                </a:moveTo>
                <a:lnTo>
                  <a:pt x="28705" y="0"/>
                </a:lnTo>
                <a:lnTo>
                  <a:pt x="27305" y="1400"/>
                </a:lnTo>
                <a:lnTo>
                  <a:pt x="1400" y="1400"/>
                </a:lnTo>
                <a:close/>
              </a:path>
              <a:path fill="darken" w="28705" h="21600">
                <a:moveTo>
                  <a:pt x="28705" y="0"/>
                </a:moveTo>
                <a:lnTo>
                  <a:pt x="28705" y="21600"/>
                </a:lnTo>
                <a:lnTo>
                  <a:pt x="27305" y="20200"/>
                </a:lnTo>
                <a:lnTo>
                  <a:pt x="27305" y="1400"/>
                </a:lnTo>
                <a:close/>
              </a:path>
              <a:path fill="darkenLess" w="28705" h="21600">
                <a:moveTo>
                  <a:pt x="28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05" y="20200"/>
                </a:lnTo>
                <a:close/>
              </a:path>
              <a:path fill="lighten" w="28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05" h="21600">
                <a:moveTo>
                  <a:pt x="7346" y="3794"/>
                </a:moveTo>
                <a:lnTo>
                  <a:pt x="21359" y="10800"/>
                </a:lnTo>
                <a:lnTo>
                  <a:pt x="7346" y="17806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380360" y="260280"/>
            <a:ext cx="1285920" cy="6256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e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1124280"/>
            <a:ext cx="8317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° Partie : Étude du fonctionnement de la fili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T31 : Inverser et augmenter la vitesse de rotation de la tête de filiè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0720" y="1914840"/>
            <a:ext cx="842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Question 1.1 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’aide du document DT4 et DT7, décrire la solution technologique pour réaliser la liaison entre la pièce (12) et l’axe (16)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242100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u moyen de cannelu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9280" y="2702880"/>
            <a:ext cx="37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Question 1.2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éciser le nom de la liaison entre ces deux piè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7640" y="321300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iaison glissière (voir DT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9280" y="3409200"/>
            <a:ext cx="486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Question 1.3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ier les surfaces en contact entre 13 et 12 en phase d’usinag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45484" t="42091" r="24390" b="12876"/>
          <a:stretch/>
        </p:blipFill>
        <p:spPr>
          <a:xfrm>
            <a:off x="1908000" y="3933720"/>
            <a:ext cx="2444760" cy="2924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16341" t="52217" r="63582" b="17513"/>
          <a:stretch/>
        </p:blipFill>
        <p:spPr>
          <a:xfrm>
            <a:off x="4356000" y="3905280"/>
            <a:ext cx="2448000" cy="2952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09760" y="4822920"/>
            <a:ext cx="142920" cy="93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307680" y="5369040"/>
            <a:ext cx="142920" cy="93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4869000"/>
            <a:ext cx="142920" cy="93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866560" y="5373720"/>
            <a:ext cx="14292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rot="16200000">
            <a:off x="1989000" y="5251320"/>
            <a:ext cx="1081080" cy="71280"/>
          </a:xfrm>
          <a:prstGeom prst="parallelogram">
            <a:avLst>
              <a:gd name="adj" fmla="val 45079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4628520" y="5436360"/>
            <a:ext cx="1800000" cy="503280"/>
          </a:xfrm>
          <a:prstGeom prst="blockArc">
            <a:avLst>
              <a:gd name="adj1" fmla="val 11142773"/>
              <a:gd name="adj2" fmla="val 21257227"/>
              <a:gd name="adj3" fmla="val 4005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e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826920" y="1077480"/>
            <a:ext cx="831708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Question 2.B.3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partir des courbes du document DT8 expliquer les différentes phases de la courbe en phase retour puis déterminer le couple maxi nécessaire C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nécessair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retour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nr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971640" y="1773360"/>
          <a:ext cx="7056360" cy="47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73360"/>
                    <a:ext cx="705636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"/>
          <p:cNvSpPr/>
          <p:nvPr/>
        </p:nvSpPr>
        <p:spPr>
          <a:xfrm rot="16200000">
            <a:off x="871560" y="3600720"/>
            <a:ext cx="3727440" cy="1800000"/>
          </a:xfrm>
          <a:prstGeom prst="rect">
            <a:avLst/>
          </a:prstGeom>
          <a:gradFill rotWithShape="0">
            <a:gsLst>
              <a:gs pos="0">
                <a:srgbClr val="bbe0e3">
                  <a:alpha val="70196"/>
                </a:srgbClr>
              </a:gs>
              <a:gs pos="50000">
                <a:srgbClr val="ffffff">
                  <a:alpha val="67058"/>
                </a:srgbClr>
              </a:gs>
              <a:gs pos="100000">
                <a:srgbClr val="bbe0e3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peignes sont dans la mat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rot="16200000">
            <a:off x="2303280" y="3968640"/>
            <a:ext cx="3744720" cy="1081080"/>
          </a:xfrm>
          <a:prstGeom prst="rect">
            <a:avLst/>
          </a:prstGeom>
          <a:gradFill rotWithShape="0">
            <a:gsLst>
              <a:gs pos="0">
                <a:srgbClr val="ff8989">
                  <a:alpha val="70196"/>
                </a:srgbClr>
              </a:gs>
              <a:gs pos="50000">
                <a:srgbClr val="ffffff">
                  <a:alpha val="67058"/>
                </a:srgbClr>
              </a:gs>
              <a:gs pos="100000">
                <a:srgbClr val="ff8989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peignes commencent à so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s la mat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716360" y="2637000"/>
            <a:ext cx="3024360" cy="3744720"/>
          </a:xfrm>
          <a:prstGeom prst="rect">
            <a:avLst/>
          </a:prstGeom>
          <a:gradFill rotWithShape="0">
            <a:gsLst>
              <a:gs pos="0">
                <a:srgbClr val="8bd000">
                  <a:alpha val="70196"/>
                </a:srgbClr>
              </a:gs>
              <a:gs pos="50000">
                <a:srgbClr val="ffffff">
                  <a:alpha val="67058"/>
                </a:srgbClr>
              </a:gs>
              <a:gs pos="100000">
                <a:srgbClr val="8bd00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intégr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 longu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pei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 sor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 mat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187280" y="5805360"/>
            <a:ext cx="79236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e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748080" y="1059840"/>
            <a:ext cx="494460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Question 2.B.4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 déduire la puissance nécessaire au niveau de la tête de filière P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nr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900000" y="1557360"/>
                <a:ext cx="453564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r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vec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retour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∗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65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443640" y="4357800"/>
                <a:ext cx="223200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,9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3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747720" y="3735000"/>
            <a:ext cx="576936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Question 2.B.5 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l’aide de la chaîne de transmission (page 2), déterminer le rendement global </a:t>
            </a: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gr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900000" y="4275000"/>
            <a:ext cx="5295960" cy="1523880"/>
            <a:chOff x="900000" y="4275000"/>
            <a:chExt cx="5295960" cy="1523880"/>
          </a:xfrm>
        </p:grpSpPr>
        <p:sp>
          <p:nvSpPr>
            <p:cNvPr id="632" name=""/>
            <p:cNvSpPr/>
            <p:nvPr/>
          </p:nvSpPr>
          <p:spPr>
            <a:xfrm flipH="1">
              <a:off x="1442520" y="4503600"/>
              <a:ext cx="47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03240" y="5614920"/>
              <a:ext cx="31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900000" y="4359240"/>
              <a:ext cx="7113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004840" y="4300560"/>
              <a:ext cx="990720" cy="48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grenage conique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503520" y="4275000"/>
              <a:ext cx="9907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grenage droit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755960" y="5443560"/>
              <a:ext cx="1130400" cy="35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ête de filiè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65240" y="5341680"/>
              <a:ext cx="9907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grenage droit 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971960" y="4287600"/>
              <a:ext cx="9907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grenage droit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03240" y="5151240"/>
              <a:ext cx="43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195960" y="4500360"/>
              <a:ext cx="0" cy="6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03240" y="5151240"/>
              <a:ext cx="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476520" y="5367240"/>
              <a:ext cx="9907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grenage droit 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185920" y="4795560"/>
              <a:ext cx="600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728880" y="4709880"/>
              <a:ext cx="600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51240" y="4776480"/>
              <a:ext cx="600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344680" y="4843440"/>
              <a:ext cx="6001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195640" y="47912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635280" y="47912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,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050920" y="57992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,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076720" y="47912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,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57992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,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e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840600" y="1109880"/>
            <a:ext cx="4007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Question 2.B.6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éterminer la puissance du moteur nécessaire P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mo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retour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900000" y="1628640"/>
                <a:ext cx="3240360" cy="171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o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tou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r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o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tou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65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3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71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822600" y="3448800"/>
            <a:ext cx="239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 2.C.1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moteur choisi est il suffisant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26920" y="3933720"/>
            <a:ext cx="83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ppel 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uissance moteur = 750 W ; vitesse = 33000 tr/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826920" y="4292640"/>
            <a:ext cx="831708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n phase d’usinage le moteur fournit une puissance de 560 W pour une vitesse de 32895 tr/min, on respecte le cahier des char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n phase retour le moteur fournit une puissance de 771,5 W pour une vitesse de 33066 tr/min. Le cahier des charges n’est plus respecté, cependant dans la pratique cela fonction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Conséquence :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le moteur ne fournit qu’une puissance de 750 W ce qui va se traduire par une vitesse en phase retour au niveau de la tête de la filière inférieure à 60 tr/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e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826920" y="1031040"/>
            <a:ext cx="8317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° Partie : Dimensionnement de l’axe du support (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T 31 : S’opposer au couple ré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– Détermination des forces radiales s’exerçant sur l’axe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55640" y="1936080"/>
            <a:ext cx="838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 3.A.1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éliser les actions mécaniques transmissibles par la liaison pivot en A entre 30 et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26920" y="2433600"/>
            <a:ext cx="83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Le problème est plan, dans le repère (O,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) ce qui fait que la liaison peut-être assimilée à une articulation d’axe 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900000" y="2708280"/>
                <a:ext cx="215928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745560" y="400464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 3.A.2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éliser l’action de la pesanteur sur l’ensemble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900000" y="4508640"/>
                <a:ext cx="4824360" cy="18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oids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vec P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g ;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6 kg et g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 m/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oids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e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" descr=""/>
          <p:cNvPicPr/>
          <p:nvPr/>
        </p:nvPicPr>
        <p:blipFill>
          <a:blip r:embed="rId1"/>
          <a:srcRect l="14122" t="34560" r="9543" b="22255"/>
          <a:stretch/>
        </p:blipFill>
        <p:spPr>
          <a:xfrm>
            <a:off x="2195640" y="2165400"/>
            <a:ext cx="6049800" cy="250200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826920" y="1052640"/>
            <a:ext cx="720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n des actions mécaniques extérieur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046320" y="3836880"/>
            <a:ext cx="488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3067200" y="1955520"/>
            <a:ext cx="0" cy="18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760840" y="3625920"/>
            <a:ext cx="455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364000" y="3933720"/>
            <a:ext cx="39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5281200" y="3774960"/>
            <a:ext cx="18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778200" y="3173400"/>
            <a:ext cx="3747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987720" y="3484440"/>
            <a:ext cx="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60720" y="5192640"/>
            <a:ext cx="992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065480" y="5187960"/>
            <a:ext cx="12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070080" y="3825720"/>
            <a:ext cx="0" cy="1309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283360" y="3843360"/>
            <a:ext cx="0" cy="1325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84640" y="4776840"/>
            <a:ext cx="6271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338720" y="4776840"/>
            <a:ext cx="8539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4041720" y="3475080"/>
            <a:ext cx="655200" cy="2689920"/>
            <a:chOff x="4041720" y="3475080"/>
            <a:chExt cx="655200" cy="2689920"/>
          </a:xfrm>
        </p:grpSpPr>
        <p:sp>
          <p:nvSpPr>
            <p:cNvPr id="682" name=""/>
            <p:cNvSpPr/>
            <p:nvPr/>
          </p:nvSpPr>
          <p:spPr>
            <a:xfrm>
              <a:off x="4041720" y="3475080"/>
              <a:ext cx="0" cy="2152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4150440" y="5287320"/>
                  <a:ext cx="546480" cy="87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4" name=""/>
          <p:cNvGrpSpPr/>
          <p:nvPr/>
        </p:nvGrpSpPr>
        <p:grpSpPr>
          <a:xfrm>
            <a:off x="5164200" y="1125360"/>
            <a:ext cx="1126440" cy="2694600"/>
            <a:chOff x="5164200" y="1125360"/>
            <a:chExt cx="1126440" cy="2694600"/>
          </a:xfrm>
        </p:grpSpPr>
        <p:sp>
          <p:nvSpPr>
            <p:cNvPr id="685" name=""/>
            <p:cNvSpPr/>
            <p:nvPr/>
          </p:nvSpPr>
          <p:spPr>
            <a:xfrm flipV="1">
              <a:off x="5286960" y="2265840"/>
              <a:ext cx="365040" cy="15541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652000" y="2266200"/>
              <a:ext cx="364680" cy="2077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6016680" y="1332720"/>
              <a:ext cx="273960" cy="11408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8" name=""/>
                <p:cNvSpPr txBox="1"/>
                <p:nvPr/>
              </p:nvSpPr>
              <p:spPr>
                <a:xfrm>
                  <a:off x="5164200" y="1125360"/>
                  <a:ext cx="824400" cy="72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num>
                                <m:den>
                                  <m:r>
                                    <m:t xml:space="preserve">S</m:t>
                                  </m:r>
                                </m:den>
                              </m:f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9" name=""/>
          <p:cNvGrpSpPr/>
          <p:nvPr/>
        </p:nvGrpSpPr>
        <p:grpSpPr>
          <a:xfrm>
            <a:off x="1884240" y="2316240"/>
            <a:ext cx="1180800" cy="1505520"/>
            <a:chOff x="1884240" y="2316240"/>
            <a:chExt cx="1180800" cy="1505520"/>
          </a:xfrm>
        </p:grpSpPr>
        <p:sp>
          <p:nvSpPr>
            <p:cNvPr id="690" name=""/>
            <p:cNvSpPr/>
            <p:nvPr/>
          </p:nvSpPr>
          <p:spPr>
            <a:xfrm flipV="1">
              <a:off x="3065040" y="2575800"/>
              <a:ext cx="0" cy="12459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1" name=""/>
                <p:cNvSpPr txBox="1"/>
                <p:nvPr/>
              </p:nvSpPr>
              <p:spPr>
                <a:xfrm>
                  <a:off x="1884240" y="2316240"/>
                  <a:ext cx="1080360" cy="77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ube</m:t>
                                  </m:r>
                                </m:num>
                                <m:den>
                                  <m:r>
                                    <m:t xml:space="preserve">S</m:t>
                                  </m:r>
                                </m:den>
                              </m:f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7715160" y="2990880"/>
                <a:ext cx="3650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3238560" y="1849320"/>
                <a:ext cx="3286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694" name=""/>
          <p:cNvGrpSpPr/>
          <p:nvPr/>
        </p:nvGrpSpPr>
        <p:grpSpPr>
          <a:xfrm>
            <a:off x="993240" y="3382200"/>
            <a:ext cx="2491920" cy="1367280"/>
            <a:chOff x="993240" y="3382200"/>
            <a:chExt cx="2491920" cy="1367280"/>
          </a:xfrm>
        </p:grpSpPr>
        <p:sp>
          <p:nvSpPr>
            <p:cNvPr id="695" name=""/>
            <p:cNvSpPr/>
            <p:nvPr/>
          </p:nvSpPr>
          <p:spPr>
            <a:xfrm rot="5223000">
              <a:off x="2762640" y="3202560"/>
              <a:ext cx="507240" cy="912600"/>
            </a:xfrm>
            <a:custGeom>
              <a:avLst/>
              <a:gdLst>
                <a:gd name="textAreaLeft" fmla="*/ 67680 w 507240"/>
                <a:gd name="textAreaRight" fmla="*/ 439560 w 507240"/>
                <a:gd name="textAreaTop" fmla="*/ 193680 h 912600"/>
                <a:gd name="textAreaBottom" fmla="*/ 627480 h 9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178" stAng="-5400000" swAng="-5400000"/>
                  <a:lnTo>
                    <a:pt x="0" y="10263"/>
                  </a:lnTo>
                  <a:arcTo wR="21600" hR="9178" stAng="10800000" swAng="-3755944"/>
                  <a:lnTo>
                    <a:pt x="16954" y="21385"/>
                  </a:lnTo>
                  <a:lnTo>
                    <a:pt x="21600" y="18898"/>
                  </a:lnTo>
                  <a:lnTo>
                    <a:pt x="16954" y="15980"/>
                  </a:lnTo>
                  <a:lnTo>
                    <a:pt x="16954" y="18140"/>
                  </a:lnTo>
                  <a:arcTo wR="21600" hR="9178" stAng="7044056" swAng="3669470"/>
                  <a:lnTo>
                    <a:pt x="38" y="9720"/>
                  </a:lnTo>
                  <a:arcTo wR="21600" hR="9178" stAng="-10713525" swAng="5313525"/>
                  <a:close/>
                </a:path>
                <a:path fill="darkenLess" w="21600" h="21600">
                  <a:moveTo>
                    <a:pt x="21600" y="0"/>
                  </a:moveTo>
                  <a:arcTo wR="21600" hR="9178" stAng="-5400000" swAng="-5400000"/>
                  <a:lnTo>
                    <a:pt x="0" y="9178"/>
                  </a:lnTo>
                  <a:arcTo wR="21600" hR="9178" stAng="10800000" swAng="-86475"/>
                  <a:lnTo>
                    <a:pt x="38" y="9720"/>
                  </a:lnTo>
                  <a:arcTo wR="21600" hR="9178" stAng="-10713525" swAng="5313525"/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993240" y="4081320"/>
              <a:ext cx="1656360" cy="668160"/>
              <a:chOff x="993240" y="4081320"/>
              <a:chExt cx="1656360" cy="668160"/>
            </a:xfrm>
          </p:grpSpPr>
          <p:sp>
            <p:nvSpPr>
              <p:cNvPr id="697" name=""/>
              <p:cNvSpPr/>
              <p:nvPr/>
            </p:nvSpPr>
            <p:spPr>
              <a:xfrm>
                <a:off x="1639800" y="4359960"/>
                <a:ext cx="1090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540520" y="4359960"/>
                <a:ext cx="1090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994320" y="4081320"/>
                <a:ext cx="1654200" cy="86400"/>
              </a:xfrm>
              <a:custGeom>
                <a:avLst/>
                <a:gdLst/>
                <a:ahLst/>
                <a:rect l="l" t="t" r="r" b="b"/>
                <a:pathLst>
                  <a:path w="1642" h="78">
                    <a:moveTo>
                      <a:pt x="0" y="49"/>
                    </a:moveTo>
                    <a:lnTo>
                      <a:pt x="0" y="29"/>
                    </a:lnTo>
                    <a:lnTo>
                      <a:pt x="1577" y="29"/>
                    </a:lnTo>
                    <a:lnTo>
                      <a:pt x="1565" y="0"/>
                    </a:lnTo>
                    <a:lnTo>
                      <a:pt x="1642" y="39"/>
                    </a:lnTo>
                    <a:lnTo>
                      <a:pt x="1565" y="78"/>
                    </a:lnTo>
                    <a:lnTo>
                      <a:pt x="1577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361240" y="4489920"/>
                <a:ext cx="109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738800" y="4489920"/>
                <a:ext cx="372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tube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429200" y="4489920"/>
                <a:ext cx="157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993240" y="4163760"/>
                <a:ext cx="30852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9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243880" y="448992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e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817920" y="1080360"/>
            <a:ext cx="324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 3.A.3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crire le principe fondamental de la statiqu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26920" y="155736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éorème de la résultant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900000" y="1844640"/>
                <a:ext cx="2664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tube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971640" y="2676600"/>
                <a:ext cx="6913440" cy="415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ube</m:t>
                                        </m:r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</m:den>
                                    </m:f>
                                  </m:e>
                                </m:d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f>
                                              <m:fPr>
                                                <m:type m:val="lin"/>
                                              </m:fPr>
                                              <m:num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30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S</m:t>
                                                </m:r>
                                              </m:den>
                                            </m:f>
                                          </m:sub>
                                        </m:sSub>
                                      </m:e>
                                    </m:acc>
                                  </m:e>
                                </m:d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</m:d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ube</m:t>
                                        </m:r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</m:den>
                                    </m:f>
                                  </m:e>
                                </m:d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9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f>
                                              <m:fPr>
                                                <m:type m:val="lin"/>
                                              </m:fPr>
                                              <m:num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30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S</m:t>
                                                </m:r>
                                              </m:den>
                                            </m:f>
                                          </m:sub>
                                        </m:sSub>
                                      </m:e>
                                    </m:acc>
                                  </m:e>
                                </m:d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0</m:t>
                                        </m:r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</m:den>
                                    </m:f>
                                  </m:e>
                                </m:d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∧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0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∧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7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</m:d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oids</m:t>
                                        </m:r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</m:den>
                                    </m:f>
                                  </m:e>
                                </m:d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G</m:t>
                            </m:r>
                          </m:e>
                        </m:acc>
                        <m:r>
                          <m:t xml:space="preserve">∧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87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OG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826920" y="24210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éorème du momen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3995640" y="1413000"/>
                <a:ext cx="496908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tube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e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" descr=""/>
          <p:cNvPicPr/>
          <p:nvPr/>
        </p:nvPicPr>
        <p:blipFill>
          <a:blip r:embed="rId1"/>
          <a:srcRect l="14122" t="42699" r="41373" b="22255"/>
          <a:stretch/>
        </p:blipFill>
        <p:spPr>
          <a:xfrm>
            <a:off x="826920" y="2349360"/>
            <a:ext cx="3527640" cy="203040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826920" y="1125360"/>
            <a:ext cx="831708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re façon de calculer les moment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Le produit vectoriel ne fait qu’exprimer le fait que le bras de levier est mesuré perpendiculairement au support de l’action mécanique avant de les multiplier entre e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Le moment en O est déjà connu, il faut trouver les moments générés par le poids et par la liaison pivot en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 flipV="1">
            <a:off x="1690560" y="2494080"/>
            <a:ext cx="7920" cy="103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392120" y="3338640"/>
            <a:ext cx="455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995640" y="3646440"/>
            <a:ext cx="39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3913200" y="3487680"/>
            <a:ext cx="144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409840" y="2886120"/>
            <a:ext cx="3747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619360" y="3197160"/>
            <a:ext cx="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701720" y="3538440"/>
            <a:ext cx="0" cy="1309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914640" y="3556080"/>
            <a:ext cx="0" cy="1325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7740720" y="3213000"/>
                <a:ext cx="122400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4356000" y="3500280"/>
                <a:ext cx="36540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1762200" y="1989000"/>
                <a:ext cx="3286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1690560" y="350676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692360" y="5013360"/>
            <a:ext cx="22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rot="5400000">
            <a:off x="1559160" y="4232880"/>
            <a:ext cx="2247840" cy="176040"/>
          </a:xfrm>
          <a:prstGeom prst="rightArrow">
            <a:avLst>
              <a:gd name="adj1" fmla="val 40546"/>
              <a:gd name="adj2" fmla="val 191179"/>
            </a:avLst>
          </a:prstGeom>
          <a:gradFill rotWithShape="0">
            <a:gsLst>
              <a:gs pos="0">
                <a:srgbClr val="5e9eff"/>
              </a:gs>
              <a:gs pos="50000">
                <a:srgbClr val="ffffff"/>
              </a:gs>
              <a:gs pos="100000">
                <a:srgbClr val="5e9e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619280" y="4508640"/>
            <a:ext cx="1224000" cy="396720"/>
            <a:chOff x="1619280" y="4508640"/>
            <a:chExt cx="1224000" cy="396720"/>
          </a:xfrm>
        </p:grpSpPr>
        <p:sp>
          <p:nvSpPr>
            <p:cNvPr id="728" name=""/>
            <p:cNvSpPr/>
            <p:nvPr/>
          </p:nvSpPr>
          <p:spPr>
            <a:xfrm>
              <a:off x="1619280" y="4508640"/>
              <a:ext cx="122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fr-FR" sz="1600" spc="-1" strike="noStrike" baseline="-25000">
                  <a:solidFill>
                    <a:srgbClr val="000000"/>
                  </a:solidFill>
                  <a:latin typeface="Arial"/>
                </a:rPr>
                <a:t>OGx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= 8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92360" y="4905360"/>
              <a:ext cx="9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2843280" y="5330880"/>
                <a:ext cx="298764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sub>
                                </m:sSub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Gx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87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1" name=""/>
          <p:cNvSpPr/>
          <p:nvPr/>
        </p:nvSpPr>
        <p:spPr>
          <a:xfrm>
            <a:off x="2700360" y="46530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OA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2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508720" y="2205000"/>
            <a:ext cx="2952720" cy="936720"/>
          </a:xfrm>
          <a:prstGeom prst="wedgeRoundRectCallout">
            <a:avLst>
              <a:gd name="adj1" fmla="val -61453"/>
              <a:gd name="adj2" fmla="val 56273"/>
              <a:gd name="adj3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support de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e par le point O, il n’y a pas de bras de lev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4427640" y="4221000"/>
                <a:ext cx="32400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A</m:t>
                                                </m:r>
                                              </m:e>
                                              <m:sub>
                                                <m:f>
                                                  <m:fPr>
                                                    <m:type m:val="lin"/>
                                                  </m:fPr>
                                                  <m:num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30</m:t>
                                                    </m:r>
                                                  </m:num>
                                                  <m:den>
                                                    <m:r>
                                                      <m:t xml:space="preserve">S</m:t>
                                                    </m:r>
                                                  </m:den>
                                                </m:f>
                                              </m:sub>
                                            </m:sSub>
                                          </m:e>
                                        </m:acc>
                                      </m:e>
                                    </m:d>
                                  </m:sub>
                                </m:sSub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0</m:t>
                                        </m:r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</m:den>
                                    </m:f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Ax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0</m:t>
                                        </m:r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</m:den>
                                    </m:f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27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34" name=""/>
          <p:cNvGrpSpPr/>
          <p:nvPr/>
        </p:nvGrpSpPr>
        <p:grpSpPr>
          <a:xfrm>
            <a:off x="2143080" y="5500800"/>
            <a:ext cx="387720" cy="842400"/>
            <a:chOff x="2143080" y="5500800"/>
            <a:chExt cx="387720" cy="842400"/>
          </a:xfrm>
        </p:grpSpPr>
        <p:sp>
          <p:nvSpPr>
            <p:cNvPr id="735" name=""/>
            <p:cNvSpPr/>
            <p:nvPr/>
          </p:nvSpPr>
          <p:spPr>
            <a:xfrm>
              <a:off x="2143080" y="5500800"/>
              <a:ext cx="330120" cy="103320"/>
            </a:xfrm>
            <a:custGeom>
              <a:avLst/>
              <a:gdLst/>
              <a:ahLst/>
              <a:rect l="l" t="t" r="r" b="b"/>
              <a:pathLst>
                <a:path w="416" h="65">
                  <a:moveTo>
                    <a:pt x="0" y="41"/>
                  </a:moveTo>
                  <a:lnTo>
                    <a:pt x="0" y="25"/>
                  </a:lnTo>
                  <a:lnTo>
                    <a:pt x="319" y="25"/>
                  </a:lnTo>
                  <a:lnTo>
                    <a:pt x="301" y="0"/>
                  </a:lnTo>
                  <a:lnTo>
                    <a:pt x="416" y="33"/>
                  </a:lnTo>
                  <a:lnTo>
                    <a:pt x="301" y="65"/>
                  </a:lnTo>
                  <a:lnTo>
                    <a:pt x="319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150640" y="5596200"/>
              <a:ext cx="38016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3851280" y="2263320"/>
            <a:ext cx="556200" cy="1238760"/>
            <a:chOff x="3851280" y="2263320"/>
            <a:chExt cx="556200" cy="1238760"/>
          </a:xfrm>
        </p:grpSpPr>
        <p:sp>
          <p:nvSpPr>
            <p:cNvPr id="738" name=""/>
            <p:cNvSpPr/>
            <p:nvPr/>
          </p:nvSpPr>
          <p:spPr>
            <a:xfrm rot="16200000">
              <a:off x="3310560" y="2817000"/>
              <a:ext cx="1225440" cy="144360"/>
            </a:xfrm>
            <a:prstGeom prst="rightArrow">
              <a:avLst>
                <a:gd name="adj1" fmla="val 50000"/>
                <a:gd name="adj2" fmla="val 212219"/>
              </a:avLst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4118040" y="2263320"/>
              <a:ext cx="289440" cy="433440"/>
              <a:chOff x="4118040" y="2263320"/>
              <a:chExt cx="289440" cy="433440"/>
            </a:xfrm>
          </p:grpSpPr>
          <p:sp>
            <p:nvSpPr>
              <p:cNvPr id="740" name=""/>
              <p:cNvSpPr/>
              <p:nvPr/>
            </p:nvSpPr>
            <p:spPr>
              <a:xfrm>
                <a:off x="4118040" y="2263320"/>
                <a:ext cx="268200" cy="47880"/>
              </a:xfrm>
              <a:custGeom>
                <a:avLst/>
                <a:gdLst/>
                <a:ahLst/>
                <a:rect l="l" t="t" r="r" b="b"/>
                <a:pathLst>
                  <a:path w="507" h="95">
                    <a:moveTo>
                      <a:pt x="0" y="60"/>
                    </a:moveTo>
                    <a:lnTo>
                      <a:pt x="0" y="36"/>
                    </a:lnTo>
                    <a:lnTo>
                      <a:pt x="427" y="36"/>
                    </a:lnTo>
                    <a:lnTo>
                      <a:pt x="412" y="0"/>
                    </a:lnTo>
                    <a:lnTo>
                      <a:pt x="507" y="48"/>
                    </a:lnTo>
                    <a:lnTo>
                      <a:pt x="412" y="95"/>
                    </a:lnTo>
                    <a:lnTo>
                      <a:pt x="427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298400" y="24832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55120" y="230796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3" name=""/>
          <p:cNvGrpSpPr/>
          <p:nvPr/>
        </p:nvGrpSpPr>
        <p:grpSpPr>
          <a:xfrm>
            <a:off x="3924360" y="2981520"/>
            <a:ext cx="1295280" cy="591840"/>
            <a:chOff x="3924360" y="2981520"/>
            <a:chExt cx="1295280" cy="591840"/>
          </a:xfrm>
        </p:grpSpPr>
        <p:sp>
          <p:nvSpPr>
            <p:cNvPr id="744" name=""/>
            <p:cNvSpPr/>
            <p:nvPr/>
          </p:nvSpPr>
          <p:spPr>
            <a:xfrm>
              <a:off x="3924360" y="3429000"/>
              <a:ext cx="1295280" cy="144360"/>
            </a:xfrm>
            <a:prstGeom prst="rightArrow">
              <a:avLst>
                <a:gd name="adj1" fmla="val 50000"/>
                <a:gd name="adj2" fmla="val 224314"/>
              </a:avLst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4691160" y="2981520"/>
              <a:ext cx="370440" cy="403560"/>
              <a:chOff x="4691160" y="2981520"/>
              <a:chExt cx="370440" cy="403560"/>
            </a:xfrm>
          </p:grpSpPr>
          <p:sp>
            <p:nvSpPr>
              <p:cNvPr id="746" name=""/>
              <p:cNvSpPr/>
              <p:nvPr/>
            </p:nvSpPr>
            <p:spPr>
              <a:xfrm>
                <a:off x="4691160" y="2981520"/>
                <a:ext cx="352440" cy="43560"/>
              </a:xfrm>
              <a:custGeom>
                <a:avLst/>
                <a:gdLst/>
                <a:ahLst/>
                <a:rect l="l" t="t" r="r" b="b"/>
                <a:pathLst>
                  <a:path w="665" h="88">
                    <a:moveTo>
                      <a:pt x="0" y="55"/>
                    </a:moveTo>
                    <a:lnTo>
                      <a:pt x="0" y="33"/>
                    </a:lnTo>
                    <a:lnTo>
                      <a:pt x="590" y="33"/>
                    </a:lnTo>
                    <a:lnTo>
                      <a:pt x="576" y="0"/>
                    </a:lnTo>
                    <a:lnTo>
                      <a:pt x="665" y="44"/>
                    </a:lnTo>
                    <a:lnTo>
                      <a:pt x="576" y="88"/>
                    </a:lnTo>
                    <a:lnTo>
                      <a:pt x="59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960440" y="3186720"/>
                <a:ext cx="10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770360" y="3022200"/>
                <a:ext cx="1713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e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749520" y="1124640"/>
            <a:ext cx="23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 3.A.4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crire les équations d’équilib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28720" y="1582560"/>
            <a:ext cx="2448000" cy="17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n projection sur 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0 + X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+ 0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n projection sur 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+ Y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– 60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n projection sur 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90 – 5,22 + 0,227.Y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276720" y="3029040"/>
            <a:ext cx="1439640" cy="14436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5003640" y="2781360"/>
                <a:ext cx="20894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0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7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14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900000" y="4292640"/>
                <a:ext cx="79200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tube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7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9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1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poids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4" name=""/>
          <p:cNvSpPr/>
          <p:nvPr/>
        </p:nvSpPr>
        <p:spPr>
          <a:xfrm>
            <a:off x="3276720" y="1916280"/>
            <a:ext cx="1439640" cy="14436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2492280"/>
            <a:ext cx="1439640" cy="14472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932360" y="1700280"/>
            <a:ext cx="201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932360" y="2276640"/>
            <a:ext cx="201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874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4880520" y="1123560"/>
            <a:ext cx="3443760" cy="619560"/>
            <a:chOff x="4880520" y="1123560"/>
            <a:chExt cx="3443760" cy="619560"/>
          </a:xfrm>
        </p:grpSpPr>
        <p:sp>
          <p:nvSpPr>
            <p:cNvPr id="759" name=""/>
            <p:cNvSpPr/>
            <p:nvPr/>
          </p:nvSpPr>
          <p:spPr>
            <a:xfrm>
              <a:off x="4880520" y="1123560"/>
              <a:ext cx="3443760" cy="6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Question 3.A.5 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Résoudre les équations puis déterminer </a:t>
              </a:r>
              <a:r>
                <a:rPr b="0" lang="he-IL" sz="1200" spc="-1" strike="noStrike">
                  <a:solidFill>
                    <a:srgbClr val="000000"/>
                  </a:solidFill>
                  <a:latin typeface="Arial"/>
                </a:rPr>
                <a:t>װ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fr-FR" sz="1200" spc="-1" strike="noStrike" baseline="-25000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0" lang="fr-FR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fr-FR" sz="12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he-IL" sz="1200" spc="-1" strike="noStrike">
                  <a:solidFill>
                    <a:srgbClr val="000000"/>
                  </a:solidFill>
                  <a:latin typeface="Arial"/>
                </a:rPr>
                <a:t>װ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790040" y="13604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6659640" y="1844640"/>
                <a:ext cx="2263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0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4</m:t>
                    </m:r>
                    <m:r>
                      <m:t xml:space="preserve"> 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 flipH="1" rot="10800000">
            <a:off x="6443640" y="2204640"/>
            <a:ext cx="1440000" cy="136836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1478" y="11201"/>
                </a:moveTo>
                <a:arcTo wR="-9331" hR="-9331" stAng="10652227" swAng="-5227581"/>
                <a:lnTo>
                  <a:pt x="10877" y="0"/>
                </a:lnTo>
                <a:arcTo wR="10800" hR="10800" stAng="-5375354" swAng="5227581"/>
                <a:lnTo>
                  <a:pt x="24288" y="10220"/>
                </a:lnTo>
                <a:lnTo>
                  <a:pt x="21004" y="13799"/>
                </a:lnTo>
                <a:lnTo>
                  <a:pt x="17425" y="1051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rot="17503800">
            <a:off x="5473080" y="1808640"/>
            <a:ext cx="1439640" cy="136836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1478" y="11201"/>
                </a:moveTo>
                <a:arcTo wR="-9331" hR="-9331" stAng="10652227" swAng="-2308640"/>
                <a:lnTo>
                  <a:pt x="18958" y="3723"/>
                </a:lnTo>
                <a:arcTo wR="10800" hR="10800" stAng="-2456413" swAng="2308640"/>
                <a:lnTo>
                  <a:pt x="24288" y="10220"/>
                </a:lnTo>
                <a:lnTo>
                  <a:pt x="21004" y="13799"/>
                </a:lnTo>
                <a:lnTo>
                  <a:pt x="17425" y="1051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e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" descr=""/>
          <p:cNvPicPr/>
          <p:nvPr/>
        </p:nvPicPr>
        <p:blipFill>
          <a:blip r:embed="rId1"/>
          <a:srcRect l="33971" t="8637" r="16223" b="18585"/>
          <a:stretch/>
        </p:blipFill>
        <p:spPr>
          <a:xfrm>
            <a:off x="4788000" y="1844640"/>
            <a:ext cx="3314520" cy="3530520"/>
          </a:xfrm>
          <a:prstGeom prst="rect">
            <a:avLst/>
          </a:prstGeom>
          <a:ln w="0">
            <a:noFill/>
          </a:ln>
        </p:spPr>
      </p:pic>
      <p:grpSp>
        <p:nvGrpSpPr>
          <p:cNvPr id="765" name=""/>
          <p:cNvGrpSpPr/>
          <p:nvPr/>
        </p:nvGrpSpPr>
        <p:grpSpPr>
          <a:xfrm>
            <a:off x="8370720" y="1989000"/>
            <a:ext cx="624960" cy="539640"/>
            <a:chOff x="8370720" y="1989000"/>
            <a:chExt cx="624960" cy="539640"/>
          </a:xfrm>
        </p:grpSpPr>
        <p:sp>
          <p:nvSpPr>
            <p:cNvPr id="766" name=""/>
            <p:cNvSpPr/>
            <p:nvPr/>
          </p:nvSpPr>
          <p:spPr>
            <a:xfrm flipV="1">
              <a:off x="8420040" y="2133360"/>
              <a:ext cx="37620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8370720" y="1989000"/>
              <a:ext cx="624960" cy="539640"/>
              <a:chOff x="8370720" y="1989000"/>
              <a:chExt cx="624960" cy="539640"/>
            </a:xfrm>
          </p:grpSpPr>
          <p:sp>
            <p:nvSpPr>
              <p:cNvPr id="768" name=""/>
              <p:cNvSpPr/>
              <p:nvPr/>
            </p:nvSpPr>
            <p:spPr>
              <a:xfrm>
                <a:off x="8683560" y="2348280"/>
                <a:ext cx="312120" cy="1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8370720" y="2347200"/>
                <a:ext cx="312480" cy="179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 flipV="1">
                <a:off x="8682480" y="1989000"/>
                <a:ext cx="720" cy="35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8202600" y="2349360"/>
                <a:ext cx="16812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8778960" y="2492280"/>
                <a:ext cx="18900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8707320" y="1989000"/>
                <a:ext cx="1825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74" name=""/>
          <p:cNvSpPr/>
          <p:nvPr/>
        </p:nvSpPr>
        <p:spPr>
          <a:xfrm>
            <a:off x="826920" y="1034280"/>
            <a:ext cx="831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 3.A.6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r            . On le placera à l’extrémité de l’axe 30. (Echelle des forces : 10N =&gt; 10 m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5021280" y="2565360"/>
                <a:ext cx="9190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den>
                            </m:f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76" name=""/>
          <p:cNvSpPr/>
          <p:nvPr/>
        </p:nvSpPr>
        <p:spPr>
          <a:xfrm>
            <a:off x="817200" y="5733360"/>
            <a:ext cx="396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 3.A.7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éciser à quel type de sollicitation l’axe 30 est soum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rot="16200000">
            <a:off x="3568680" y="3752640"/>
            <a:ext cx="2808360" cy="144360"/>
          </a:xfrm>
          <a:prstGeom prst="rightArrow">
            <a:avLst>
              <a:gd name="adj1" fmla="val 50000"/>
              <a:gd name="adj2" fmla="val 4863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1411200" y="1317600"/>
                <a:ext cx="4874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den>
                            </m:f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79" name=""/>
          <p:cNvSpPr/>
          <p:nvPr/>
        </p:nvSpPr>
        <p:spPr>
          <a:xfrm flipV="1">
            <a:off x="4211640" y="4797360"/>
            <a:ext cx="3529080" cy="5270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4284720" y="1989000"/>
            <a:ext cx="3529080" cy="5270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427640" y="249228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rot="16200000">
            <a:off x="3567600" y="37123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,4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826920" y="6249960"/>
            <a:ext cx="46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e la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e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756360" y="1051920"/>
            <a:ext cx="62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– Dimensionnement du diamètre de l’axe support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26920" y="1412280"/>
            <a:ext cx="831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 3.B.1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ésenter en position le tube ( 16 mm de diamètre extérieur et 12 mm de diamètre intérieur) sur le support de filière. Indiquer son centre par O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"/>
          <a:srcRect l="1577" t="36720" r="62995" b="37454"/>
          <a:stretch/>
        </p:blipFill>
        <p:spPr>
          <a:xfrm>
            <a:off x="900000" y="1989000"/>
            <a:ext cx="4319640" cy="251964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826920" y="4580640"/>
            <a:ext cx="831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 3.B.2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urer l’entraxe entre le centre du tube  (point O’) et l’origine de la filière (point A). Concl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826920" y="5084640"/>
            <a:ext cx="83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29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55640" y="5373000"/>
            <a:ext cx="838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 3.B.3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déduire le jeu nécessaire entre l’alésage de la filière et l’axe du support 3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826920" y="5805360"/>
            <a:ext cx="18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46640" y="6020640"/>
            <a:ext cx="42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 3.B.4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étermine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diamètre maximum de l’axe du support (3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826920" y="645336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8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581280" y="330048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851280" y="3492360"/>
            <a:ext cx="144360" cy="142920"/>
          </a:xfrm>
          <a:custGeom>
            <a:avLst/>
            <a:gdLst>
              <a:gd name="textAreaLeft" fmla="*/ 59400 w 144360"/>
              <a:gd name="textAreaRight" fmla="*/ 84960 w 144360"/>
              <a:gd name="textAreaTop" fmla="*/ 58680 h 142920"/>
              <a:gd name="textAreaBottom" fmla="*/ 842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e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62040" y="1034280"/>
            <a:ext cx="684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 1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éciser quelle liaison on obtient entre l’axe (16) et la roue (11) lorsque (12) est en position hau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148428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iaison complète ou encastrement (voir DT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200" y="1681920"/>
            <a:ext cx="860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 1.5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éter les schémas cinématiques, avec un code de couleur, du sous-ensemble d’inversion en phase d’usinage et ret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48360" y="2708280"/>
            <a:ext cx="115092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re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84520" y="2637000"/>
            <a:ext cx="127476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usin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5877000"/>
            <a:ext cx="1152720" cy="360360"/>
          </a:xfrm>
          <a:custGeom>
            <a:avLst/>
            <a:gdLst>
              <a:gd name="textAreaLeft" fmla="*/ 230760 w 1152720"/>
              <a:gd name="textAreaRight" fmla="*/ 793080 w 11527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658" hR="21600" stAng="10800000" swAng="-5400000"/>
                <a:lnTo>
                  <a:pt x="10532" y="21600"/>
                </a:lnTo>
                <a:arcTo wR="8658" hR="21600" stAng="5400000" swAng="-1186268"/>
                <a:lnTo>
                  <a:pt x="18722" y="16081"/>
                </a:lnTo>
                <a:lnTo>
                  <a:pt x="18253" y="0"/>
                </a:lnTo>
                <a:lnTo>
                  <a:pt x="12028" y="16081"/>
                </a:lnTo>
                <a:lnTo>
                  <a:pt x="14438" y="16081"/>
                </a:lnTo>
                <a:arcTo wR="8658" hR="21600" stAng="4213732" swAng="1036354"/>
                <a:lnTo>
                  <a:pt x="9595" y="21473"/>
                </a:lnTo>
                <a:arcTo wR="8658" hR="21600" stAng="5549914" swAng="5250086"/>
                <a:close/>
              </a:path>
              <a:path fill="darkenLess" w="21600" h="21600">
                <a:moveTo>
                  <a:pt x="0" y="0"/>
                </a:moveTo>
                <a:arcTo wR="8658" hR="21600" stAng="10800000" swAng="-5400000"/>
                <a:lnTo>
                  <a:pt x="10532" y="21600"/>
                </a:lnTo>
                <a:arcTo wR="8658" hR="21600" stAng="5400000" swAng="149914"/>
                <a:lnTo>
                  <a:pt x="9595" y="21473"/>
                </a:lnTo>
                <a:arcTo wR="8658" hR="21600" stAng="5549914" swAng="5250086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478320" y="4724280"/>
            <a:ext cx="2173320" cy="1884600"/>
            <a:chOff x="3478320" y="4724280"/>
            <a:chExt cx="2173320" cy="1884600"/>
          </a:xfrm>
        </p:grpSpPr>
        <p:sp>
          <p:nvSpPr>
            <p:cNvPr id="68" name=""/>
            <p:cNvSpPr/>
            <p:nvPr/>
          </p:nvSpPr>
          <p:spPr>
            <a:xfrm flipV="1" rot="10805400">
              <a:off x="4356000" y="5499000"/>
              <a:ext cx="90720" cy="82800"/>
            </a:xfrm>
            <a:prstGeom prst="rtTriangle">
              <a:avLst/>
            </a:prstGeom>
            <a:solidFill>
              <a:srgbClr val="008000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635280" y="5589720"/>
              <a:ext cx="73368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356000" y="5586480"/>
              <a:ext cx="936720" cy="3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5292720" y="5511600"/>
              <a:ext cx="0" cy="1364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80120" y="4849920"/>
              <a:ext cx="37152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089320" y="5173560"/>
              <a:ext cx="285480" cy="4003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78320" y="4724280"/>
              <a:ext cx="1944720" cy="129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56080" y="4797360"/>
              <a:ext cx="0" cy="11527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19640" y="6237360"/>
              <a:ext cx="37152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4500360" y="5876640"/>
              <a:ext cx="718920" cy="4316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 flipH="1" flipV="1">
            <a:off x="5650920" y="3067920"/>
            <a:ext cx="1152360" cy="360360"/>
          </a:xfrm>
          <a:custGeom>
            <a:avLst/>
            <a:gdLst>
              <a:gd name="textAreaLeft" fmla="*/ 230400 w 1152360"/>
              <a:gd name="textAreaRight" fmla="*/ 792720 w 1152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658" hR="21600" stAng="10800000" swAng="-5400000"/>
                <a:lnTo>
                  <a:pt x="10532" y="21600"/>
                </a:lnTo>
                <a:arcTo wR="8658" hR="21600" stAng="5400000" swAng="-1186268"/>
                <a:lnTo>
                  <a:pt x="18722" y="16081"/>
                </a:lnTo>
                <a:lnTo>
                  <a:pt x="18253" y="0"/>
                </a:lnTo>
                <a:lnTo>
                  <a:pt x="12028" y="16081"/>
                </a:lnTo>
                <a:lnTo>
                  <a:pt x="14438" y="16081"/>
                </a:lnTo>
                <a:arcTo wR="8658" hR="21600" stAng="4213732" swAng="1036354"/>
                <a:lnTo>
                  <a:pt x="9595" y="21473"/>
                </a:lnTo>
                <a:arcTo wR="8658" hR="21600" stAng="5549914" swAng="5250086"/>
                <a:close/>
              </a:path>
              <a:path fill="darkenLess" w="21600" h="21600">
                <a:moveTo>
                  <a:pt x="0" y="0"/>
                </a:moveTo>
                <a:arcTo wR="8658" hR="21600" stAng="10800000" swAng="-5400000"/>
                <a:lnTo>
                  <a:pt x="10532" y="21600"/>
                </a:lnTo>
                <a:arcTo wR="8658" hR="21600" stAng="5400000" swAng="149914"/>
                <a:lnTo>
                  <a:pt x="9595" y="21473"/>
                </a:lnTo>
                <a:arcTo wR="8658" hR="21600" stAng="5549914" swAng="5250086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851280" y="2708280"/>
            <a:ext cx="2316240" cy="1955880"/>
            <a:chOff x="3851280" y="2708280"/>
            <a:chExt cx="2316240" cy="1955880"/>
          </a:xfrm>
        </p:grpSpPr>
        <p:sp>
          <p:nvSpPr>
            <p:cNvPr id="80" name=""/>
            <p:cNvSpPr/>
            <p:nvPr/>
          </p:nvSpPr>
          <p:spPr>
            <a:xfrm flipV="1" rot="10805400">
              <a:off x="4859280" y="3559680"/>
              <a:ext cx="90720" cy="82440"/>
            </a:xfrm>
            <a:prstGeom prst="rtTriangl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4152600" y="3651120"/>
              <a:ext cx="733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873680" y="3648240"/>
              <a:ext cx="936720" cy="2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149720" y="3578040"/>
              <a:ext cx="0" cy="136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5810400" y="3573360"/>
              <a:ext cx="0" cy="136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96000" y="4292640"/>
              <a:ext cx="37152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5292720" y="3716280"/>
              <a:ext cx="503280" cy="72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95640" y="3200400"/>
              <a:ext cx="1944720" cy="129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73760" y="327348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51280" y="2708280"/>
              <a:ext cx="37152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11640" y="2924280"/>
              <a:ext cx="720720" cy="504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946840" y="2997360"/>
            <a:ext cx="2957400" cy="3768480"/>
            <a:chOff x="5946840" y="2997360"/>
            <a:chExt cx="2957400" cy="3768480"/>
          </a:xfrm>
        </p:grpSpPr>
        <p:sp>
          <p:nvSpPr>
            <p:cNvPr id="92" name=""/>
            <p:cNvSpPr/>
            <p:nvPr/>
          </p:nvSpPr>
          <p:spPr>
            <a:xfrm rot="5395200">
              <a:off x="7231320" y="3686760"/>
              <a:ext cx="487440" cy="190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7243920" y="3782880"/>
              <a:ext cx="14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0794600">
              <a:off x="7279920" y="3781080"/>
              <a:ext cx="92160" cy="82440"/>
            </a:xfrm>
            <a:prstGeom prst="rtTriangl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395200">
              <a:off x="7237440" y="3684600"/>
              <a:ext cx="487440" cy="195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652800" y="3781440"/>
              <a:ext cx="733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7570440" y="3790800"/>
              <a:ext cx="733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43800" y="3711600"/>
              <a:ext cx="0" cy="136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04120" y="3728880"/>
              <a:ext cx="0" cy="136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 rot="16204800">
              <a:off x="7233840" y="5400000"/>
              <a:ext cx="487440" cy="192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7240680" y="5495760"/>
              <a:ext cx="14112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 rot="10805400">
              <a:off x="7291080" y="5412240"/>
              <a:ext cx="90360" cy="82440"/>
            </a:xfrm>
            <a:prstGeom prst="rtTriangle">
              <a:avLst/>
            </a:prstGeom>
            <a:solidFill>
              <a:srgbClr val="008000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 rot="16204800">
              <a:off x="7234920" y="5398200"/>
              <a:ext cx="485640" cy="195120"/>
            </a:xfrm>
            <a:prstGeom prst="rect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654600" y="5492880"/>
              <a:ext cx="7333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7572240" y="5483160"/>
              <a:ext cx="73368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6645240" y="5425920"/>
              <a:ext cx="0" cy="1368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305920" y="5408280"/>
              <a:ext cx="0" cy="1364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5395200">
              <a:off x="7233840" y="6164280"/>
              <a:ext cx="485640" cy="190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7241040" y="6016320"/>
              <a:ext cx="334800" cy="487800"/>
              <a:chOff x="7241040" y="6016320"/>
              <a:chExt cx="334800" cy="487800"/>
            </a:xfrm>
          </p:grpSpPr>
          <p:sp>
            <p:nvSpPr>
              <p:cNvPr id="110" name=""/>
              <p:cNvSpPr/>
              <p:nvPr/>
            </p:nvSpPr>
            <p:spPr>
              <a:xfrm flipH="1">
                <a:off x="7241040" y="6260400"/>
                <a:ext cx="14112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0795200">
                <a:off x="7290720" y="6260040"/>
                <a:ext cx="91080" cy="81000"/>
              </a:xfrm>
              <a:prstGeom prst="rtTriangl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5395200">
                <a:off x="7234200" y="6162480"/>
                <a:ext cx="487440" cy="1947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 flipH="1">
              <a:off x="6065640" y="6262560"/>
              <a:ext cx="130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5946840" y="6411960"/>
              <a:ext cx="290520" cy="55440"/>
              <a:chOff x="5946840" y="6411960"/>
              <a:chExt cx="290520" cy="55440"/>
            </a:xfrm>
          </p:grpSpPr>
          <p:sp>
            <p:nvSpPr>
              <p:cNvPr id="115" name=""/>
              <p:cNvSpPr/>
              <p:nvPr/>
            </p:nvSpPr>
            <p:spPr>
              <a:xfrm>
                <a:off x="5946840" y="641196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5946840" y="6411960"/>
                <a:ext cx="30240" cy="5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007320" y="6411960"/>
                <a:ext cx="30240" cy="5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068160" y="6411960"/>
                <a:ext cx="30240" cy="5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131520" y="6411960"/>
                <a:ext cx="30240" cy="5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6194880" y="6411960"/>
                <a:ext cx="30240" cy="5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 flipV="1">
              <a:off x="6075360" y="6262560"/>
              <a:ext cx="0" cy="14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7476480" y="3363840"/>
              <a:ext cx="8280" cy="1706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380360" y="4068720"/>
              <a:ext cx="1936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7377120" y="3495600"/>
              <a:ext cx="1936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7380000" y="5064120"/>
              <a:ext cx="195840" cy="858960"/>
              <a:chOff x="7380000" y="5064120"/>
              <a:chExt cx="195840" cy="858960"/>
            </a:xfrm>
          </p:grpSpPr>
          <p:sp>
            <p:nvSpPr>
              <p:cNvPr id="126" name=""/>
              <p:cNvSpPr/>
              <p:nvPr/>
            </p:nvSpPr>
            <p:spPr>
              <a:xfrm flipV="1">
                <a:off x="7479000" y="5064120"/>
                <a:ext cx="1440" cy="8589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7383240" y="5209560"/>
                <a:ext cx="1926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7380000" y="5783040"/>
                <a:ext cx="1926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377840" y="5832360"/>
              <a:ext cx="197640" cy="860400"/>
              <a:chOff x="7377840" y="5832360"/>
              <a:chExt cx="197640" cy="860400"/>
            </a:xfrm>
          </p:grpSpPr>
          <p:sp>
            <p:nvSpPr>
              <p:cNvPr id="130" name=""/>
              <p:cNvSpPr/>
              <p:nvPr/>
            </p:nvSpPr>
            <p:spPr>
              <a:xfrm>
                <a:off x="7477560" y="5832360"/>
                <a:ext cx="1440" cy="8604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7381080" y="6547320"/>
                <a:ext cx="1944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7377840" y="5972760"/>
                <a:ext cx="1944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7130880" y="6689880"/>
              <a:ext cx="685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30880" y="6603840"/>
              <a:ext cx="0" cy="162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816680" y="6603840"/>
              <a:ext cx="0" cy="162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77200" y="2997360"/>
              <a:ext cx="371520" cy="37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92960" y="4746600"/>
              <a:ext cx="37152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8102520" y="5070600"/>
              <a:ext cx="285840" cy="3999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7511760" y="3141720"/>
              <a:ext cx="857160" cy="23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69200" y="4149720"/>
              <a:ext cx="216000" cy="504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7008480" y="4437000"/>
              <a:ext cx="36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24680" y="3789360"/>
              <a:ext cx="0" cy="287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951240" y="4076640"/>
              <a:ext cx="144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951240" y="4125960"/>
              <a:ext cx="144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20000" y="414180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16720" y="3284640"/>
              <a:ext cx="1944720" cy="1439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32720" y="4221000"/>
              <a:ext cx="37152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7956720" y="3789000"/>
              <a:ext cx="576000" cy="431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826920" y="2973240"/>
            <a:ext cx="2821320" cy="3768840"/>
            <a:chOff x="826920" y="2973240"/>
            <a:chExt cx="2821320" cy="3768840"/>
          </a:xfrm>
        </p:grpSpPr>
        <p:sp>
          <p:nvSpPr>
            <p:cNvPr id="150" name=""/>
            <p:cNvSpPr/>
            <p:nvPr/>
          </p:nvSpPr>
          <p:spPr>
            <a:xfrm rot="5395200">
              <a:off x="2112120" y="3663000"/>
              <a:ext cx="487440" cy="190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2123640" y="3759120"/>
              <a:ext cx="14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0794600">
              <a:off x="2160000" y="3757320"/>
              <a:ext cx="91800" cy="82440"/>
            </a:xfrm>
            <a:prstGeom prst="rtTriangl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395200">
              <a:off x="2117160" y="3660480"/>
              <a:ext cx="487440" cy="195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533240" y="3757680"/>
              <a:ext cx="733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450880" y="3767040"/>
              <a:ext cx="733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23880" y="3687840"/>
              <a:ext cx="0" cy="136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84560" y="3705120"/>
              <a:ext cx="0" cy="136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 rot="16204800">
              <a:off x="2113920" y="5376960"/>
              <a:ext cx="487080" cy="191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120400" y="5472000"/>
              <a:ext cx="14148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 rot="10805400">
              <a:off x="2171520" y="5388480"/>
              <a:ext cx="90360" cy="82440"/>
            </a:xfrm>
            <a:prstGeom prst="rtTriangle">
              <a:avLst/>
            </a:prstGeom>
            <a:solidFill>
              <a:srgbClr val="008000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16204800">
              <a:off x="2114640" y="5374440"/>
              <a:ext cx="485640" cy="195480"/>
            </a:xfrm>
            <a:prstGeom prst="rect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534680" y="5468760"/>
              <a:ext cx="7333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452320" y="5459400"/>
              <a:ext cx="7333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525680" y="5402160"/>
              <a:ext cx="0" cy="1368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186000" y="5384520"/>
              <a:ext cx="0" cy="1364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395200">
              <a:off x="2114280" y="6140520"/>
              <a:ext cx="485640" cy="190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120400" y="5992560"/>
              <a:ext cx="335520" cy="487440"/>
              <a:chOff x="2120400" y="5992560"/>
              <a:chExt cx="335520" cy="48744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120400" y="6236280"/>
                <a:ext cx="14148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0795200">
                <a:off x="2170440" y="6235920"/>
                <a:ext cx="91080" cy="81000"/>
              </a:xfrm>
              <a:prstGeom prst="rtTriangl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5395200">
                <a:off x="2114640" y="6138720"/>
                <a:ext cx="487080" cy="1947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 flipH="1">
              <a:off x="946080" y="6238800"/>
              <a:ext cx="130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826920" y="6388200"/>
              <a:ext cx="290520" cy="55440"/>
              <a:chOff x="826920" y="6388200"/>
              <a:chExt cx="290520" cy="55440"/>
            </a:xfrm>
          </p:grpSpPr>
          <p:sp>
            <p:nvSpPr>
              <p:cNvPr id="173" name=""/>
              <p:cNvSpPr/>
              <p:nvPr/>
            </p:nvSpPr>
            <p:spPr>
              <a:xfrm>
                <a:off x="826920" y="6388200"/>
                <a:ext cx="29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826920" y="6388200"/>
                <a:ext cx="30240" cy="5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887400" y="6388200"/>
                <a:ext cx="30240" cy="5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948240" y="6388200"/>
                <a:ext cx="30240" cy="5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1011600" y="6388200"/>
                <a:ext cx="30240" cy="5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1074960" y="6388200"/>
                <a:ext cx="30240" cy="5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 flipV="1">
              <a:off x="955800" y="6238800"/>
              <a:ext cx="0" cy="14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2356920" y="3340080"/>
              <a:ext cx="8280" cy="170676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260440" y="4044960"/>
              <a:ext cx="19368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2257560" y="3471840"/>
              <a:ext cx="19368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259720" y="5040360"/>
              <a:ext cx="196200" cy="858960"/>
              <a:chOff x="2259720" y="5040360"/>
              <a:chExt cx="196200" cy="858960"/>
            </a:xfrm>
          </p:grpSpPr>
          <p:sp>
            <p:nvSpPr>
              <p:cNvPr id="184" name=""/>
              <p:cNvSpPr/>
              <p:nvPr/>
            </p:nvSpPr>
            <p:spPr>
              <a:xfrm flipV="1">
                <a:off x="2358720" y="5040360"/>
                <a:ext cx="1440" cy="858960"/>
              </a:xfrm>
              <a:prstGeom prst="line">
                <a:avLst/>
              </a:prstGeom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2262960" y="5185800"/>
                <a:ext cx="192960" cy="0"/>
              </a:xfrm>
              <a:prstGeom prst="line">
                <a:avLst/>
              </a:prstGeom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2259720" y="5759280"/>
                <a:ext cx="192960" cy="0"/>
              </a:xfrm>
              <a:prstGeom prst="line">
                <a:avLst/>
              </a:prstGeom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58280" y="5808600"/>
              <a:ext cx="197640" cy="860400"/>
              <a:chOff x="2258280" y="5808600"/>
              <a:chExt cx="197640" cy="860400"/>
            </a:xfrm>
          </p:grpSpPr>
          <p:sp>
            <p:nvSpPr>
              <p:cNvPr id="188" name=""/>
              <p:cNvSpPr/>
              <p:nvPr/>
            </p:nvSpPr>
            <p:spPr>
              <a:xfrm>
                <a:off x="2358000" y="5808600"/>
                <a:ext cx="1440" cy="860400"/>
              </a:xfrm>
              <a:prstGeom prst="line">
                <a:avLst/>
              </a:prstGeom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2261520" y="6523560"/>
                <a:ext cx="194400" cy="0"/>
              </a:xfrm>
              <a:prstGeom prst="line">
                <a:avLst/>
              </a:prstGeom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2258280" y="5949000"/>
                <a:ext cx="194400" cy="0"/>
              </a:xfrm>
              <a:prstGeom prst="line">
                <a:avLst/>
              </a:prstGeom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2011320" y="6665760"/>
              <a:ext cx="68580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11320" y="6580080"/>
              <a:ext cx="0" cy="1620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97120" y="6580080"/>
              <a:ext cx="0" cy="1620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57640" y="2973240"/>
              <a:ext cx="37152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73400" y="4722840"/>
              <a:ext cx="37152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2982960" y="5046840"/>
              <a:ext cx="285840" cy="3999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392200" y="3117960"/>
              <a:ext cx="857520" cy="2379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49640" y="4629240"/>
              <a:ext cx="215640" cy="504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1888920" y="4981680"/>
              <a:ext cx="36036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1889280" y="5316120"/>
              <a:ext cx="0" cy="14436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89280" y="4981680"/>
              <a:ext cx="0" cy="2872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815840" y="5268960"/>
              <a:ext cx="1443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1815840" y="5318280"/>
              <a:ext cx="1443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71600" y="4597560"/>
              <a:ext cx="1944720" cy="129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3632040" y="5516280"/>
              <a:ext cx="0" cy="1364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76720" y="4221000"/>
              <a:ext cx="37152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2700000" y="3789000"/>
              <a:ext cx="576360" cy="431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76360" y="4292640"/>
              <a:ext cx="37152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35280" y="4581360"/>
              <a:ext cx="360360" cy="3603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979640" y="215748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a : les réponses à cette question sont données dans D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e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766080" y="1026360"/>
            <a:ext cx="229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 3.B.5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r en vert l’axe du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"/>
          <a:srcRect l="75392" t="39666" r="8659" b="39666"/>
          <a:stretch/>
        </p:blipFill>
        <p:spPr>
          <a:xfrm>
            <a:off x="971640" y="1484280"/>
            <a:ext cx="2638440" cy="27352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2268360" y="1700280"/>
            <a:ext cx="0" cy="2736720"/>
          </a:xfrm>
          <a:prstGeom prst="line">
            <a:avLst/>
          </a:prstGeom>
          <a:ln w="28440">
            <a:solidFill>
              <a:srgbClr val="8b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116000" y="2997360"/>
            <a:ext cx="2664000" cy="0"/>
          </a:xfrm>
          <a:prstGeom prst="line">
            <a:avLst/>
          </a:prstGeom>
          <a:ln w="38160">
            <a:solidFill>
              <a:srgbClr val="8b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rot="5400000">
            <a:off x="5219640" y="4221000"/>
            <a:ext cx="1440000" cy="14400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rot="5400000">
            <a:off x="2278080" y="2881440"/>
            <a:ext cx="108000" cy="1080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195640" y="2205000"/>
            <a:ext cx="3384360" cy="1008000"/>
          </a:xfrm>
          <a:custGeom>
            <a:avLst/>
            <a:gdLst>
              <a:gd name="textAreaLeft" fmla="*/ 0 w 3384360"/>
              <a:gd name="textAreaRight" fmla="*/ 3384720 w 3384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2067" y="10783"/>
                </a:moveTo>
                <a:arcTo wR="-8733" hR="-8733" stAng="-10793308" swAng="-10806692"/>
                <a:lnTo>
                  <a:pt x="0" y="10800"/>
                </a:lnTo>
                <a:arcTo wR="10800" hR="10800" stAng="10800000" swAng="10806692"/>
                <a:lnTo>
                  <a:pt x="24300" y="10826"/>
                </a:lnTo>
                <a:lnTo>
                  <a:pt x="20559" y="14553"/>
                </a:lnTo>
                <a:lnTo>
                  <a:pt x="16833" y="1081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796000" y="4869000"/>
            <a:ext cx="1425600" cy="1409400"/>
          </a:xfrm>
          <a:custGeom>
            <a:avLst/>
            <a:gdLst/>
            <a:ahLst/>
            <a:rect l="l" t="t" r="r" b="b"/>
            <a:pathLst>
              <a:path w="898" h="888">
                <a:moveTo>
                  <a:pt x="0" y="888"/>
                </a:moveTo>
                <a:lnTo>
                  <a:pt x="89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659640" y="4221000"/>
            <a:ext cx="57636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219640" y="566100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5219640" y="3645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6659640" y="3645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4500360" y="4221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4571640" y="5661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219640" y="3789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643280" y="4221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435640" y="342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42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rot="16200000">
            <a:off x="3855240" y="4721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41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rot="18950400">
            <a:off x="5868000" y="5157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9" dur="500" autoRev="1" fill="hold"/>
                                        <p:tgtEl>
                                          <p:spTgt spid="8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e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826920" y="105192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°Partie : Assemblage du support de fil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825480" y="1405800"/>
            <a:ext cx="66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T 11 : Positionner et maintenir la filière par rapport au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755640" y="1772640"/>
            <a:ext cx="838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 4.1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érer chaque surface par une flèche et un repère (par exemple : S1, S2, etc.) et colorier d’une même couleur les couples de surfaces concernées par une contrainte d’assembl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55640" y="2501280"/>
            <a:ext cx="838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 4.2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s le cadre d’un assemblage au sein d’une maquette numérique, indiquer les contraintes d’assemblage (coïncident, coaxial, tangent ….) associant ces couples de surf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1"/>
          <a:srcRect l="59819" t="0" r="0" b="0"/>
          <a:stretch/>
        </p:blipFill>
        <p:spPr>
          <a:xfrm>
            <a:off x="971640" y="3429000"/>
            <a:ext cx="3384360" cy="2597040"/>
          </a:xfrm>
          <a:prstGeom prst="rect">
            <a:avLst/>
          </a:prstGeom>
          <a:ln w="0">
            <a:noFill/>
          </a:ln>
        </p:spPr>
      </p:pic>
      <p:pic>
        <p:nvPicPr>
          <p:cNvPr id="819" name="" descr=""/>
          <p:cNvPicPr/>
          <p:nvPr/>
        </p:nvPicPr>
        <p:blipFill>
          <a:blip r:embed="rId2"/>
          <a:stretch/>
        </p:blipFill>
        <p:spPr>
          <a:xfrm>
            <a:off x="971640" y="3429000"/>
            <a:ext cx="3384360" cy="260352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4140360" y="602136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88023"/>
              <a:gd name="adj4" fmla="val -64930"/>
            </a:avLst>
          </a:prstGeom>
          <a:gradFill rotWithShape="0">
            <a:gsLst>
              <a:gs pos="0">
                <a:srgbClr val="ffffff"/>
              </a:gs>
              <a:gs pos="100000">
                <a:srgbClr val="8bd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195640" y="602136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70314"/>
              <a:gd name="adj4" fmla="val -64064"/>
            </a:avLst>
          </a:prstGeom>
          <a:gradFill rotWithShape="0">
            <a:gsLst>
              <a:gs pos="0">
                <a:srgbClr val="ffffff"/>
              </a:gs>
              <a:gs pos="100000">
                <a:srgbClr val="8bd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716360" y="522936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58333"/>
              <a:gd name="adj4" fmla="val -92189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50920" y="465300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11981"/>
              <a:gd name="adj4" fmla="val -48611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427640" y="3429000"/>
            <a:ext cx="4066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oaxialité : S5 - S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oïncidence : S7 - S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e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900000" y="4292640"/>
            <a:ext cx="5139000" cy="20667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826920" y="105192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°Partie : Assemblage du support de fil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25480" y="1405800"/>
            <a:ext cx="66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T 11 : Positionner et maintenir la filière par rapport au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55640" y="1772640"/>
            <a:ext cx="838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 4.1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érer chaque surface par une flèche et un repère (par exemple : S1, S2, etc.) et colorier d’une même couleur les couples de surfaces concernées par une contrainte d’assembl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55640" y="2501280"/>
            <a:ext cx="838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 4.2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s le cadre d’un assemblage au sein d’une maquette numérique, indiquer les contraintes d’assemblage (coïncident, coaxial, tangent ….) associant ces couples de surf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2"/>
          <a:stretch/>
        </p:blipFill>
        <p:spPr>
          <a:xfrm>
            <a:off x="900000" y="4292640"/>
            <a:ext cx="5112000" cy="205416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5369040" y="353052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231509"/>
              <a:gd name="adj4" fmla="val -94967"/>
            </a:avLst>
          </a:prstGeom>
          <a:gradFill rotWithShape="0">
            <a:gsLst>
              <a:gs pos="0">
                <a:srgbClr val="ffffff"/>
              </a:gs>
              <a:gs pos="100000">
                <a:srgbClr val="8bd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908000" y="321300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329949"/>
              <a:gd name="adj4" fmla="val -56773"/>
            </a:avLst>
          </a:prstGeom>
          <a:gradFill rotWithShape="0">
            <a:gsLst>
              <a:gs pos="0">
                <a:srgbClr val="ffffff"/>
              </a:gs>
              <a:gs pos="100000">
                <a:srgbClr val="8bd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084720" y="4437000"/>
            <a:ext cx="3059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oaxialité : S9 - S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oïncidence : origine des piè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e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" descr=""/>
          <p:cNvPicPr/>
          <p:nvPr/>
        </p:nvPicPr>
        <p:blipFill>
          <a:blip r:embed="rId1"/>
          <a:srcRect l="44543" t="5380" r="0" b="3368"/>
          <a:stretch/>
        </p:blipFill>
        <p:spPr>
          <a:xfrm>
            <a:off x="971640" y="3573360"/>
            <a:ext cx="3168720" cy="270216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826920" y="105192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°Partie : Assemblage du support de fil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825480" y="1405800"/>
            <a:ext cx="66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T 11 : Positionner et maintenir la filière par rapport au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55640" y="1772640"/>
            <a:ext cx="838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 4.1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érer chaque surface par une flèche et un repère (par exemple : S1, S2, etc.) et colorier d’une même couleur les couples de surfaces concernées par une contrainte d’assembl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55640" y="2501280"/>
            <a:ext cx="838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 4.2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s le cadre d’un assemblage au sein d’une maquette numérique, indiquer les contraintes d’assemblage (coïncident, coaxial, tangent ….) associant ces couples de surf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3168720" cy="270216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4284720" y="580536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-14064"/>
              <a:gd name="adj4" fmla="val -151041"/>
            </a:avLst>
          </a:prstGeom>
          <a:gradFill rotWithShape="0">
            <a:gsLst>
              <a:gs pos="0">
                <a:srgbClr val="ffffff"/>
              </a:gs>
              <a:gs pos="100000">
                <a:srgbClr val="8bd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050920" y="350028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170833"/>
              <a:gd name="adj4" fmla="val -48611"/>
            </a:avLst>
          </a:prstGeom>
          <a:gradFill rotWithShape="0">
            <a:gsLst>
              <a:gs pos="0">
                <a:srgbClr val="ffffff"/>
              </a:gs>
              <a:gs pos="100000">
                <a:srgbClr val="8bd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859280" y="479736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-59115"/>
              <a:gd name="adj4" fmla="val -12777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68360" y="3284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202606"/>
              <a:gd name="adj4" fmla="val 11527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211640" y="3429000"/>
            <a:ext cx="493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oaxialité : S11 - S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 distance (inclus un parallélisme) : S13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e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" descr=""/>
          <p:cNvPicPr/>
          <p:nvPr/>
        </p:nvPicPr>
        <p:blipFill>
          <a:blip r:embed="rId1"/>
          <a:srcRect l="0" t="0" r="0" b="44165"/>
          <a:stretch/>
        </p:blipFill>
        <p:spPr>
          <a:xfrm>
            <a:off x="826920" y="2421000"/>
            <a:ext cx="8317080" cy="316368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826920" y="98028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° Partie : Conception d’un adapt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25480" y="1267560"/>
            <a:ext cx="55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T 12: Positionner la filière par rapport à un étab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344760" y="1593360"/>
            <a:ext cx="48625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Fixation de l’adaptateur sur le suppor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ise en position : appui pla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aintien en position : par vis à tête cylindrique à six pans creu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997920" y="5590800"/>
            <a:ext cx="66020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Fixation de l’adaptateur sur le trépie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ise en position : Centrage long (surface cylindrique prépondérante) et appui pl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surface secondaire plane) entre l’extrémité du trépied et l’adaptateu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aintien en position : par une vis de blocage striée acier M8 x 25 (voir DR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48000" y="1932120"/>
            <a:ext cx="2519280" cy="21744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979640" y="4292640"/>
            <a:ext cx="1800360" cy="144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508720" y="4292640"/>
            <a:ext cx="2158920" cy="144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348000" y="2195640"/>
            <a:ext cx="4896000" cy="22536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948360" y="3573360"/>
            <a:ext cx="648000" cy="1440000"/>
          </a:xfrm>
          <a:custGeom>
            <a:avLst/>
            <a:gdLst>
              <a:gd name="textAreaLeft" fmla="*/ 31320 w 648000"/>
              <a:gd name="textAreaRight" fmla="*/ 616680 w 648000"/>
              <a:gd name="textAreaTop" fmla="*/ 31320 h 1440000"/>
              <a:gd name="textAreaBottom" fmla="*/ 1408680 h 1440000"/>
            </a:gdLst>
            <a:ahLst/>
            <a:rect l="textAreaLeft" t="textAreaTop" r="textAreaRight" b="textAreaBottom"/>
            <a:pathLst>
              <a:path w="21600" h="47985">
                <a:moveTo>
                  <a:pt x="3600" y="0"/>
                </a:moveTo>
                <a:arcTo wR="3600" hR="3600" stAng="16200000" swAng="-5400000"/>
                <a:lnTo>
                  <a:pt x="0" y="44385"/>
                </a:lnTo>
                <a:arcTo wR="3600" hR="3600" stAng="10800000" swAng="-5400000"/>
                <a:lnTo>
                  <a:pt x="18000" y="479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600280" y="5938920"/>
            <a:ext cx="1057320" cy="2268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323040" y="4448160"/>
            <a:ext cx="647640" cy="93672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936720"/>
              <a:gd name="textAreaBottom" fmla="*/ 905400 h 936720"/>
            </a:gdLst>
            <a:ahLst/>
            <a:rect l="textAreaLeft" t="textAreaTop" r="textAreaRight" b="textAreaBottom"/>
            <a:pathLst>
              <a:path w="21600" h="31236">
                <a:moveTo>
                  <a:pt x="3600" y="0"/>
                </a:moveTo>
                <a:arcTo wR="3600" hR="3600" stAng="16200000" swAng="-5400000"/>
                <a:lnTo>
                  <a:pt x="0" y="27636"/>
                </a:lnTo>
                <a:arcTo wR="3600" hR="3600" stAng="10800000" swAng="-5400000"/>
                <a:lnTo>
                  <a:pt x="18000" y="31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488280" y="5950080"/>
            <a:ext cx="880920" cy="21564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796000" y="5229360"/>
            <a:ext cx="1728720" cy="215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577960" y="4448160"/>
            <a:ext cx="648000" cy="936720"/>
          </a:xfrm>
          <a:custGeom>
            <a:avLst/>
            <a:gdLst>
              <a:gd name="textAreaLeft" fmla="*/ 31320 w 648000"/>
              <a:gd name="textAreaRight" fmla="*/ 616680 w 648000"/>
              <a:gd name="textAreaTop" fmla="*/ 31320 h 936720"/>
              <a:gd name="textAreaBottom" fmla="*/ 905400 h 936720"/>
            </a:gdLst>
            <a:ahLst/>
            <a:rect l="textAreaLeft" t="textAreaTop" r="textAreaRight" b="textAreaBottom"/>
            <a:pathLst>
              <a:path w="21600" h="31219">
                <a:moveTo>
                  <a:pt x="3600" y="0"/>
                </a:moveTo>
                <a:arcTo wR="3600" hR="3600" stAng="16200000" swAng="-5400000"/>
                <a:lnTo>
                  <a:pt x="0" y="27619"/>
                </a:lnTo>
                <a:arcTo wR="3600" hR="3600" stAng="10800000" swAng="-5400000"/>
                <a:lnTo>
                  <a:pt x="18000" y="312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050920" y="5229360"/>
            <a:ext cx="1729080" cy="215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76520" y="6453360"/>
            <a:ext cx="2519640" cy="215640"/>
          </a:xfrm>
          <a:prstGeom prst="rect">
            <a:avLst/>
          </a:prstGeom>
          <a:noFill/>
          <a:ln w="19080">
            <a:solidFill>
              <a:srgbClr val="ff89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932360" y="4365720"/>
            <a:ext cx="1511280" cy="1079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89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86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88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2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8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10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4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635" dur="1000" fill="hold"/>
                                        <p:tgtEl>
                                          <p:spTgt spid="8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638" dur="1000" fill="hold"/>
                                        <p:tgtEl>
                                          <p:spTgt spid="8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62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65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9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5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86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7" dur="500" autoRev="1" fill="hold"/>
                                        <p:tgtEl>
                                          <p:spTgt spid="8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e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" descr=""/>
          <p:cNvPicPr/>
          <p:nvPr/>
        </p:nvPicPr>
        <p:blipFill>
          <a:blip r:embed="rId1"/>
          <a:srcRect l="12500" t="12356" r="12500" b="10872"/>
          <a:stretch/>
        </p:blipFill>
        <p:spPr>
          <a:xfrm>
            <a:off x="900000" y="4869000"/>
            <a:ext cx="2266920" cy="185580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2"/>
          <a:srcRect l="5911" t="16977" r="6082" b="12160"/>
          <a:stretch/>
        </p:blipFill>
        <p:spPr>
          <a:xfrm>
            <a:off x="4859280" y="3933720"/>
            <a:ext cx="3745080" cy="241308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3"/>
          <a:srcRect l="15364" t="13086" r="15158" b="10418"/>
          <a:stretch/>
        </p:blipFill>
        <p:spPr>
          <a:xfrm>
            <a:off x="826920" y="1484280"/>
            <a:ext cx="3816360" cy="335916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/>
          <p:nvPr/>
        </p:nvSpPr>
        <p:spPr>
          <a:xfrm>
            <a:off x="4427640" y="1641600"/>
            <a:ext cx="47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Vues extérieurs et en coupe de la pièce à concevo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24000" y="1051920"/>
            <a:ext cx="838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 5.2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ésenter l’adaptateur en perspective en précisant le nom des usinages réalisé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406680" y="5254560"/>
            <a:ext cx="928800" cy="432000"/>
          </a:xfr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aud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404040" y="2954160"/>
            <a:ext cx="914400" cy="609840"/>
          </a:xfr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348000" y="6165720"/>
            <a:ext cx="928800" cy="432000"/>
          </a:xfr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ç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572160" y="6289560"/>
            <a:ext cx="928800" cy="432000"/>
          </a:xfr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fr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e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55640" y="1034280"/>
            <a:ext cx="8251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Question 1.6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éter le schéma cinématique en phase d’usinage en coloriant et en indiquant le sens de rotation des roues et des pignons dentés qui participent à la transmission du mou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265880" y="3246480"/>
            <a:ext cx="117720" cy="272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 rot="3600000">
            <a:off x="7730280" y="2797200"/>
            <a:ext cx="236520" cy="552600"/>
          </a:xfrm>
          <a:prstGeom prst="can">
            <a:avLst>
              <a:gd name="adj" fmla="val 3007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520400" y="3177360"/>
            <a:ext cx="15120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087040" y="2863800"/>
            <a:ext cx="128160" cy="7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7385040" y="3249360"/>
            <a:ext cx="16668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097760" y="2545920"/>
            <a:ext cx="0" cy="4446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 rot="10801800">
            <a:off x="6980040" y="1852560"/>
            <a:ext cx="236520" cy="550800"/>
          </a:xfrm>
          <a:prstGeom prst="can">
            <a:avLst>
              <a:gd name="adj" fmla="val 3007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980040" y="1749600"/>
            <a:ext cx="236520" cy="801360"/>
            <a:chOff x="6980040" y="1749600"/>
            <a:chExt cx="236520" cy="801360"/>
          </a:xfrm>
        </p:grpSpPr>
        <p:sp>
          <p:nvSpPr>
            <p:cNvPr id="220" name=""/>
            <p:cNvSpPr/>
            <p:nvPr/>
          </p:nvSpPr>
          <p:spPr>
            <a:xfrm flipV="1">
              <a:off x="7098480" y="1749600"/>
              <a:ext cx="0" cy="17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7098480" y="2403720"/>
              <a:ext cx="0" cy="14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980040" y="180756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980040" y="244440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Modèle_Méca_Pivot_3D_15"/>
          <p:cNvGrpSpPr/>
          <p:nvPr/>
        </p:nvGrpSpPr>
        <p:grpSpPr>
          <a:xfrm>
            <a:off x="6479280" y="1491840"/>
            <a:ext cx="235440" cy="801720"/>
            <a:chOff x="6479280" y="1491840"/>
            <a:chExt cx="235440" cy="801720"/>
          </a:xfrm>
        </p:grpSpPr>
        <p:sp>
          <p:nvSpPr>
            <p:cNvPr id="225" name=""/>
            <p:cNvSpPr/>
            <p:nvPr/>
          </p:nvSpPr>
          <p:spPr>
            <a:xfrm flipV="1" rot="10801200">
              <a:off x="6479280" y="1594440"/>
              <a:ext cx="235080" cy="552240"/>
            </a:xfrm>
            <a:prstGeom prst="can">
              <a:avLst>
                <a:gd name="adj" fmla="val 30074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6479640" y="1491840"/>
              <a:ext cx="235080" cy="801720"/>
              <a:chOff x="6479640" y="1491840"/>
              <a:chExt cx="235080" cy="801720"/>
            </a:xfrm>
          </p:grpSpPr>
          <p:sp>
            <p:nvSpPr>
              <p:cNvPr id="227" name=""/>
              <p:cNvSpPr/>
              <p:nvPr/>
            </p:nvSpPr>
            <p:spPr>
              <a:xfrm flipV="1">
                <a:off x="6597360" y="1491840"/>
                <a:ext cx="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6597360" y="2146320"/>
                <a:ext cx="0" cy="14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6479640" y="1549800"/>
                <a:ext cx="235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6479640" y="2187000"/>
                <a:ext cx="235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>
            <a:off x="6594480" y="223848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5155200" y="1936800"/>
            <a:ext cx="1381680" cy="79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56400" y="1940040"/>
            <a:ext cx="33012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883640" y="1793520"/>
            <a:ext cx="0" cy="11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7219800" y="1770120"/>
            <a:ext cx="66996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Modèle_Méca_Pivot_3D_15"/>
          <p:cNvGrpSpPr/>
          <p:nvPr/>
        </p:nvGrpSpPr>
        <p:grpSpPr>
          <a:xfrm>
            <a:off x="5627160" y="4750920"/>
            <a:ext cx="237240" cy="801720"/>
            <a:chOff x="5627160" y="4750920"/>
            <a:chExt cx="237240" cy="801720"/>
          </a:xfrm>
        </p:grpSpPr>
        <p:sp>
          <p:nvSpPr>
            <p:cNvPr id="237" name=""/>
            <p:cNvSpPr/>
            <p:nvPr/>
          </p:nvSpPr>
          <p:spPr>
            <a:xfrm flipV="1" rot="10801200">
              <a:off x="5627160" y="4853520"/>
              <a:ext cx="236880" cy="552240"/>
            </a:xfrm>
            <a:prstGeom prst="can">
              <a:avLst>
                <a:gd name="adj" fmla="val 30074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5627520" y="4750920"/>
              <a:ext cx="236880" cy="801720"/>
              <a:chOff x="5627520" y="4750920"/>
              <a:chExt cx="236880" cy="801720"/>
            </a:xfrm>
          </p:grpSpPr>
          <p:sp>
            <p:nvSpPr>
              <p:cNvPr id="239" name=""/>
              <p:cNvSpPr/>
              <p:nvPr/>
            </p:nvSpPr>
            <p:spPr>
              <a:xfrm flipV="1">
                <a:off x="5745960" y="4750920"/>
                <a:ext cx="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5745960" y="5405400"/>
                <a:ext cx="0" cy="14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5627520" y="4808880"/>
                <a:ext cx="23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5627520" y="5446080"/>
                <a:ext cx="23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3" name="Modèle_Méca_Pivot_3D_15"/>
          <p:cNvGrpSpPr/>
          <p:nvPr/>
        </p:nvGrpSpPr>
        <p:grpSpPr>
          <a:xfrm>
            <a:off x="4633200" y="5162040"/>
            <a:ext cx="236880" cy="801720"/>
            <a:chOff x="4633200" y="5162040"/>
            <a:chExt cx="236880" cy="801720"/>
          </a:xfrm>
        </p:grpSpPr>
        <p:sp>
          <p:nvSpPr>
            <p:cNvPr id="244" name=""/>
            <p:cNvSpPr/>
            <p:nvPr/>
          </p:nvSpPr>
          <p:spPr>
            <a:xfrm flipV="1" rot="10801200">
              <a:off x="4633200" y="5264640"/>
              <a:ext cx="236520" cy="552240"/>
            </a:xfrm>
            <a:prstGeom prst="can">
              <a:avLst>
                <a:gd name="adj" fmla="val 30074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4633560" y="5162040"/>
              <a:ext cx="236520" cy="801720"/>
              <a:chOff x="4633560" y="5162040"/>
              <a:chExt cx="236520" cy="80172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4752000" y="5162040"/>
                <a:ext cx="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4752000" y="5816520"/>
                <a:ext cx="0" cy="14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633560" y="5220000"/>
                <a:ext cx="236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4633560" y="5857200"/>
                <a:ext cx="236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"/>
          <p:cNvSpPr/>
          <p:nvPr/>
        </p:nvSpPr>
        <p:spPr>
          <a:xfrm flipV="1">
            <a:off x="4861080" y="5162040"/>
            <a:ext cx="782640" cy="45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149800" y="2734920"/>
            <a:ext cx="0" cy="27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91240" y="3262320"/>
            <a:ext cx="0" cy="641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248520" y="3684600"/>
            <a:ext cx="0" cy="17366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43760" y="2567160"/>
            <a:ext cx="911160" cy="46800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595920" y="2408400"/>
            <a:ext cx="0" cy="3664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93040" y="2797200"/>
            <a:ext cx="4572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907320" y="2922480"/>
            <a:ext cx="382320" cy="18756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94520" y="3014640"/>
            <a:ext cx="1951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00800" y="3086280"/>
            <a:ext cx="384120" cy="18540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81880" y="3033720"/>
            <a:ext cx="1440" cy="154080"/>
          </a:xfrm>
          <a:custGeom>
            <a:avLst/>
            <a:gdLst/>
            <a:ahLst/>
            <a:rect l="l" t="t" r="r" b="b"/>
            <a:pathLst>
              <a:path w="1" h="97">
                <a:moveTo>
                  <a:pt x="0" y="0"/>
                </a:moveTo>
                <a:lnTo>
                  <a:pt x="1" y="97"/>
                </a:lnTo>
              </a:path>
            </a:pathLst>
          </a:cu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80080" y="3179880"/>
            <a:ext cx="2034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00800" y="3833640"/>
            <a:ext cx="384120" cy="18576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93040" y="38336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595920" y="3925800"/>
            <a:ext cx="1875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61000" y="3230640"/>
            <a:ext cx="1171440" cy="60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245280" y="352584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240600" y="3532320"/>
            <a:ext cx="59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661000" y="4265640"/>
            <a:ext cx="1171440" cy="60156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64240" y="4567320"/>
            <a:ext cx="5731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73760" y="4611600"/>
            <a:ext cx="384120" cy="18756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966000" y="461160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62760" y="4703760"/>
            <a:ext cx="1936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77040" y="3970440"/>
            <a:ext cx="1170000" cy="601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964200" y="4270320"/>
            <a:ext cx="5842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964200" y="4268880"/>
            <a:ext cx="0" cy="7617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62440" y="5869080"/>
            <a:ext cx="1790640" cy="91908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62440" y="6329520"/>
            <a:ext cx="8906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54480" y="5464080"/>
            <a:ext cx="1171800" cy="60192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45240" y="5460840"/>
            <a:ext cx="0" cy="30672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42000" y="5764320"/>
            <a:ext cx="5842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13720" y="3174840"/>
            <a:ext cx="550800" cy="268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099200" y="322740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99200" y="3321000"/>
            <a:ext cx="2602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68880" y="5378400"/>
            <a:ext cx="382680" cy="18720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49960" y="5389560"/>
            <a:ext cx="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237360" y="5483160"/>
            <a:ext cx="2030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753080" y="5902200"/>
            <a:ext cx="0" cy="4287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753080" y="6245280"/>
            <a:ext cx="74520" cy="745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45240" y="5684760"/>
            <a:ext cx="74520" cy="745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48520" y="5403960"/>
            <a:ext cx="73080" cy="745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6848640" y="4862160"/>
            <a:ext cx="234720" cy="801720"/>
            <a:chOff x="6848640" y="4862160"/>
            <a:chExt cx="234720" cy="801720"/>
          </a:xfrm>
        </p:grpSpPr>
        <p:sp>
          <p:nvSpPr>
            <p:cNvPr id="292" name=""/>
            <p:cNvSpPr/>
            <p:nvPr/>
          </p:nvSpPr>
          <p:spPr>
            <a:xfrm flipV="1" rot="10801800">
              <a:off x="6848640" y="4957920"/>
              <a:ext cx="234720" cy="552240"/>
            </a:xfrm>
            <a:prstGeom prst="can">
              <a:avLst>
                <a:gd name="adj" fmla="val 28564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6848640" y="4862160"/>
              <a:ext cx="234720" cy="801720"/>
              <a:chOff x="6848640" y="4862160"/>
              <a:chExt cx="234720" cy="801720"/>
            </a:xfrm>
          </p:grpSpPr>
          <p:sp>
            <p:nvSpPr>
              <p:cNvPr id="294" name=""/>
              <p:cNvSpPr/>
              <p:nvPr/>
            </p:nvSpPr>
            <p:spPr>
              <a:xfrm flipV="1">
                <a:off x="6966000" y="4862160"/>
                <a:ext cx="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6966000" y="5516640"/>
                <a:ext cx="0" cy="14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6848640" y="4920120"/>
                <a:ext cx="23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6848640" y="5557320"/>
                <a:ext cx="23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"/>
          <p:cNvSpPr/>
          <p:nvPr/>
        </p:nvSpPr>
        <p:spPr>
          <a:xfrm flipV="1" rot="10801800">
            <a:off x="6132600" y="3297600"/>
            <a:ext cx="234720" cy="554040"/>
          </a:xfrm>
          <a:prstGeom prst="can">
            <a:avLst>
              <a:gd name="adj" fmla="val 3007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130800" y="3211200"/>
            <a:ext cx="236160" cy="800280"/>
            <a:chOff x="6130800" y="3211200"/>
            <a:chExt cx="236160" cy="800280"/>
          </a:xfrm>
        </p:grpSpPr>
        <p:sp>
          <p:nvSpPr>
            <p:cNvPr id="300" name=""/>
            <p:cNvSpPr/>
            <p:nvPr/>
          </p:nvSpPr>
          <p:spPr>
            <a:xfrm flipV="1">
              <a:off x="6249600" y="3211200"/>
              <a:ext cx="0" cy="1746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248160" y="3863880"/>
              <a:ext cx="0" cy="1476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131880" y="3270240"/>
              <a:ext cx="235080" cy="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6130800" y="3906720"/>
              <a:ext cx="234720" cy="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6130800" y="3459240"/>
            <a:ext cx="233640" cy="155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38720" y="3465360"/>
            <a:ext cx="222480" cy="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08840" y="3622680"/>
            <a:ext cx="27144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369120" y="3564000"/>
            <a:ext cx="0" cy="81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30800" y="3571920"/>
            <a:ext cx="0" cy="81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66000" y="3735360"/>
            <a:ext cx="365040" cy="96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972480" y="4626000"/>
            <a:ext cx="72720" cy="745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91240" y="3848040"/>
            <a:ext cx="74520" cy="730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6172920" y="4491000"/>
            <a:ext cx="73080" cy="745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91240" y="3098880"/>
            <a:ext cx="74520" cy="730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591240" y="2717640"/>
            <a:ext cx="74520" cy="730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099200" y="2936880"/>
            <a:ext cx="74880" cy="745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102440" y="3243240"/>
            <a:ext cx="73080" cy="745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7086600" y="4748040"/>
            <a:ext cx="833400" cy="47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907400" y="3178080"/>
            <a:ext cx="0" cy="15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378480" y="3448080"/>
            <a:ext cx="73080" cy="7452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6966000" y="4280040"/>
            <a:ext cx="77760" cy="792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131320" y="3841920"/>
            <a:ext cx="4950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7372080" y="3433320"/>
            <a:ext cx="91908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55080" y="2260440"/>
            <a:ext cx="493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18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7284600" y="2478240"/>
            <a:ext cx="1003320" cy="73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7224480" y="2008080"/>
            <a:ext cx="1066680" cy="93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46680" y="2065320"/>
            <a:ext cx="493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1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13520" y="2266920"/>
            <a:ext cx="96984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59200" y="2255760"/>
            <a:ext cx="493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7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235400" y="2479680"/>
            <a:ext cx="218124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30480" y="4138560"/>
            <a:ext cx="4939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17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294080" y="3990960"/>
            <a:ext cx="213696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92680" y="3051000"/>
            <a:ext cx="493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21000" y="3265560"/>
            <a:ext cx="145440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70440" y="4764240"/>
            <a:ext cx="493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294080" y="4557240"/>
            <a:ext cx="13525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126280" y="5388120"/>
            <a:ext cx="4939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3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7405560" y="4441680"/>
            <a:ext cx="828720" cy="11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67680" y="5950080"/>
            <a:ext cx="493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33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7115040" y="4732200"/>
            <a:ext cx="1162080" cy="142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802640" y="6370560"/>
            <a:ext cx="493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6402240" y="5546880"/>
            <a:ext cx="1555920" cy="103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657840" y="6399360"/>
            <a:ext cx="4939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6154200" y="5969160"/>
            <a:ext cx="698760" cy="63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24400" y="5589720"/>
            <a:ext cx="4950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11680" y="5805360"/>
            <a:ext cx="17784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651800" y="2900520"/>
            <a:ext cx="61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7095960" y="3106800"/>
            <a:ext cx="0" cy="2109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99400" y="3341520"/>
            <a:ext cx="401400" cy="51120"/>
          </a:xfrm>
          <a:custGeom>
            <a:avLst/>
            <a:gdLst/>
            <a:ahLst/>
            <a:rect l="l" t="t" r="r" b="b"/>
            <a:pathLst>
              <a:path w="697" h="148">
                <a:moveTo>
                  <a:pt x="697" y="0"/>
                </a:moveTo>
                <a:cubicBezTo>
                  <a:pt x="595" y="53"/>
                  <a:pt x="493" y="106"/>
                  <a:pt x="412" y="127"/>
                </a:cubicBezTo>
                <a:cubicBezTo>
                  <a:pt x="331" y="148"/>
                  <a:pt x="279" y="146"/>
                  <a:pt x="210" y="127"/>
                </a:cubicBezTo>
                <a:cubicBezTo>
                  <a:pt x="141" y="108"/>
                  <a:pt x="70" y="61"/>
                  <a:pt x="0" y="15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586560" y="3271680"/>
            <a:ext cx="0" cy="482760"/>
          </a:xfrm>
          <a:prstGeom prst="line">
            <a:avLst/>
          </a:prstGeom>
          <a:ln w="93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30600" y="1700280"/>
            <a:ext cx="153684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 : USIN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7827840" y="4954680"/>
            <a:ext cx="285840" cy="63360"/>
            <a:chOff x="7827840" y="4954680"/>
            <a:chExt cx="285840" cy="63360"/>
          </a:xfrm>
        </p:grpSpPr>
        <p:sp>
          <p:nvSpPr>
            <p:cNvPr id="352" name=""/>
            <p:cNvSpPr/>
            <p:nvPr/>
          </p:nvSpPr>
          <p:spPr>
            <a:xfrm>
              <a:off x="7827840" y="4954680"/>
              <a:ext cx="28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827840" y="4954680"/>
              <a:ext cx="29520" cy="63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886880" y="4954680"/>
              <a:ext cx="29880" cy="63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7947360" y="4954680"/>
              <a:ext cx="29520" cy="63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8009640" y="4954680"/>
              <a:ext cx="29520" cy="63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8071920" y="4954680"/>
              <a:ext cx="29520" cy="63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7904160" y="4732200"/>
            <a:ext cx="0" cy="24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174160" y="1785960"/>
            <a:ext cx="493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18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8370720" y="2997360"/>
            <a:ext cx="624960" cy="539640"/>
            <a:chOff x="8370720" y="2997360"/>
            <a:chExt cx="624960" cy="539640"/>
          </a:xfrm>
        </p:grpSpPr>
        <p:sp>
          <p:nvSpPr>
            <p:cNvPr id="361" name=""/>
            <p:cNvSpPr/>
            <p:nvPr/>
          </p:nvSpPr>
          <p:spPr>
            <a:xfrm flipV="1">
              <a:off x="8420040" y="3141720"/>
              <a:ext cx="37620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8370720" y="2997360"/>
              <a:ext cx="624960" cy="539640"/>
              <a:chOff x="8370720" y="2997360"/>
              <a:chExt cx="624960" cy="539640"/>
            </a:xfrm>
          </p:grpSpPr>
          <p:sp>
            <p:nvSpPr>
              <p:cNvPr id="363" name=""/>
              <p:cNvSpPr/>
              <p:nvPr/>
            </p:nvSpPr>
            <p:spPr>
              <a:xfrm>
                <a:off x="8683560" y="3356640"/>
                <a:ext cx="312120" cy="1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8370720" y="3355560"/>
                <a:ext cx="312480" cy="179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8682480" y="2997360"/>
                <a:ext cx="720" cy="35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8202600" y="3357720"/>
                <a:ext cx="168120" cy="23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8778960" y="3500280"/>
                <a:ext cx="18900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8707320" y="2997360"/>
                <a:ext cx="18252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6404040" y="2924280"/>
            <a:ext cx="401400" cy="55440"/>
          </a:xfrm>
          <a:custGeom>
            <a:avLst/>
            <a:gdLst/>
            <a:ahLst/>
            <a:rect l="l" t="t" r="r" b="b"/>
            <a:pathLst>
              <a:path w="253" h="35">
                <a:moveTo>
                  <a:pt x="0" y="0"/>
                </a:moveTo>
                <a:cubicBezTo>
                  <a:pt x="14" y="5"/>
                  <a:pt x="54" y="27"/>
                  <a:pt x="83" y="31"/>
                </a:cubicBezTo>
                <a:cubicBezTo>
                  <a:pt x="112" y="35"/>
                  <a:pt x="149" y="32"/>
                  <a:pt x="177" y="27"/>
                </a:cubicBezTo>
                <a:cubicBezTo>
                  <a:pt x="205" y="22"/>
                  <a:pt x="228" y="13"/>
                  <a:pt x="253" y="3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20040" y="4076640"/>
            <a:ext cx="361800" cy="114480"/>
          </a:xfrm>
          <a:custGeom>
            <a:avLst/>
            <a:gdLst/>
            <a:ahLst/>
            <a:rect l="l" t="t" r="r" b="b"/>
            <a:pathLst>
              <a:path w="228" h="72">
                <a:moveTo>
                  <a:pt x="0" y="72"/>
                </a:moveTo>
                <a:cubicBezTo>
                  <a:pt x="8" y="63"/>
                  <a:pt x="29" y="31"/>
                  <a:pt x="52" y="19"/>
                </a:cubicBezTo>
                <a:cubicBezTo>
                  <a:pt x="75" y="7"/>
                  <a:pt x="108" y="0"/>
                  <a:pt x="137" y="0"/>
                </a:cubicBezTo>
                <a:cubicBezTo>
                  <a:pt x="166" y="0"/>
                  <a:pt x="209" y="14"/>
                  <a:pt x="228" y="18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1998800">
            <a:off x="5538600" y="5876280"/>
            <a:ext cx="361800" cy="114120"/>
          </a:xfrm>
          <a:custGeom>
            <a:avLst/>
            <a:gdLst/>
            <a:ahLst/>
            <a:rect l="l" t="t" r="r" b="b"/>
            <a:pathLst>
              <a:path w="228" h="72">
                <a:moveTo>
                  <a:pt x="0" y="72"/>
                </a:moveTo>
                <a:cubicBezTo>
                  <a:pt x="8" y="63"/>
                  <a:pt x="29" y="31"/>
                  <a:pt x="52" y="19"/>
                </a:cubicBezTo>
                <a:cubicBezTo>
                  <a:pt x="75" y="7"/>
                  <a:pt x="108" y="0"/>
                  <a:pt x="137" y="0"/>
                </a:cubicBezTo>
                <a:cubicBezTo>
                  <a:pt x="166" y="0"/>
                  <a:pt x="209" y="14"/>
                  <a:pt x="228" y="18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14960" y="4724280"/>
            <a:ext cx="401760" cy="55800"/>
          </a:xfrm>
          <a:custGeom>
            <a:avLst/>
            <a:gdLst/>
            <a:ahLst/>
            <a:rect l="l" t="t" r="r" b="b"/>
            <a:pathLst>
              <a:path w="253" h="35">
                <a:moveTo>
                  <a:pt x="0" y="0"/>
                </a:moveTo>
                <a:cubicBezTo>
                  <a:pt x="14" y="5"/>
                  <a:pt x="54" y="27"/>
                  <a:pt x="83" y="31"/>
                </a:cubicBezTo>
                <a:cubicBezTo>
                  <a:pt x="112" y="35"/>
                  <a:pt x="149" y="32"/>
                  <a:pt x="177" y="27"/>
                </a:cubicBezTo>
                <a:cubicBezTo>
                  <a:pt x="205" y="22"/>
                  <a:pt x="228" y="13"/>
                  <a:pt x="253" y="3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 rot="1300800">
            <a:off x="4961880" y="6021360"/>
            <a:ext cx="361800" cy="114120"/>
          </a:xfrm>
          <a:custGeom>
            <a:avLst/>
            <a:gdLst/>
            <a:ahLst/>
            <a:rect l="l" t="t" r="r" b="b"/>
            <a:pathLst>
              <a:path w="228" h="72">
                <a:moveTo>
                  <a:pt x="0" y="72"/>
                </a:moveTo>
                <a:cubicBezTo>
                  <a:pt x="8" y="63"/>
                  <a:pt x="29" y="31"/>
                  <a:pt x="52" y="19"/>
                </a:cubicBezTo>
                <a:cubicBezTo>
                  <a:pt x="75" y="7"/>
                  <a:pt x="108" y="0"/>
                  <a:pt x="137" y="0"/>
                </a:cubicBezTo>
                <a:cubicBezTo>
                  <a:pt x="166" y="0"/>
                  <a:pt x="209" y="14"/>
                  <a:pt x="228" y="18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26920" y="1773360"/>
            <a:ext cx="38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2 tourne dans le sens trigonométrique : de x vers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6920" y="2617200"/>
            <a:ext cx="364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Question 1.7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éaliser la chaîne de transmission de puissance entre 34 et 2 en phase d’usin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35000" y="3645000"/>
            <a:ext cx="792360" cy="360360"/>
          </a:xfrm>
          <a:prstGeom prst="rightArrowCallout">
            <a:avLst>
              <a:gd name="adj1" fmla="val 25002"/>
              <a:gd name="adj2" fmla="val 25000"/>
              <a:gd name="adj3" fmla="val 36647"/>
              <a:gd name="adj4" fmla="val 66667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27360" y="3645000"/>
            <a:ext cx="792000" cy="360360"/>
          </a:xfrm>
          <a:prstGeom prst="rightArrowCallout">
            <a:avLst>
              <a:gd name="adj1" fmla="val 25002"/>
              <a:gd name="adj2" fmla="val 25000"/>
              <a:gd name="adj3" fmla="val 36630"/>
              <a:gd name="adj4" fmla="val 66667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619360" y="3645000"/>
            <a:ext cx="792000" cy="360360"/>
          </a:xfrm>
          <a:prstGeom prst="rightArrowCallout">
            <a:avLst>
              <a:gd name="adj1" fmla="val 25002"/>
              <a:gd name="adj2" fmla="val 25000"/>
              <a:gd name="adj3" fmla="val 36630"/>
              <a:gd name="adj4" fmla="val 66667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11360" y="3645000"/>
            <a:ext cx="792360" cy="360360"/>
          </a:xfrm>
          <a:prstGeom prst="rightArrowCallout">
            <a:avLst>
              <a:gd name="adj1" fmla="val 25002"/>
              <a:gd name="adj2" fmla="val 25000"/>
              <a:gd name="adj3" fmla="val 36647"/>
              <a:gd name="adj4" fmla="val 66667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35000" y="4363920"/>
            <a:ext cx="792360" cy="360360"/>
          </a:xfrm>
          <a:prstGeom prst="rightArrowCallout">
            <a:avLst>
              <a:gd name="adj1" fmla="val 25002"/>
              <a:gd name="adj2" fmla="val 25000"/>
              <a:gd name="adj3" fmla="val 36647"/>
              <a:gd name="adj4" fmla="val 66667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827360" y="4363920"/>
            <a:ext cx="792000" cy="360360"/>
          </a:xfrm>
          <a:prstGeom prst="rightArrowCallout">
            <a:avLst>
              <a:gd name="adj1" fmla="val 25002"/>
              <a:gd name="adj2" fmla="val 25000"/>
              <a:gd name="adj3" fmla="val 36630"/>
              <a:gd name="adj4" fmla="val 66667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19360" y="4363920"/>
            <a:ext cx="792000" cy="360360"/>
          </a:xfrm>
          <a:prstGeom prst="rightArrowCallout">
            <a:avLst>
              <a:gd name="adj1" fmla="val 25002"/>
              <a:gd name="adj2" fmla="val 25000"/>
              <a:gd name="adj3" fmla="val 36630"/>
              <a:gd name="adj4" fmla="val 66667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411360" y="4363920"/>
            <a:ext cx="792360" cy="360360"/>
          </a:xfrm>
          <a:prstGeom prst="rightArrowCallout">
            <a:avLst>
              <a:gd name="adj1" fmla="val 25002"/>
              <a:gd name="adj2" fmla="val 25000"/>
              <a:gd name="adj3" fmla="val 36647"/>
              <a:gd name="adj4" fmla="val 66667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035000" y="5084640"/>
            <a:ext cx="792360" cy="360360"/>
          </a:xfrm>
          <a:prstGeom prst="rightArrowCallout">
            <a:avLst>
              <a:gd name="adj1" fmla="val 25002"/>
              <a:gd name="adj2" fmla="val 25000"/>
              <a:gd name="adj3" fmla="val 36647"/>
              <a:gd name="adj4" fmla="val 66667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27360" y="5084640"/>
            <a:ext cx="792000" cy="360360"/>
          </a:xfrm>
          <a:prstGeom prst="rightArrowCallout">
            <a:avLst>
              <a:gd name="adj1" fmla="val 25002"/>
              <a:gd name="adj2" fmla="val 25000"/>
              <a:gd name="adj3" fmla="val 36630"/>
              <a:gd name="adj4" fmla="val 66667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619360" y="5084640"/>
            <a:ext cx="792000" cy="360360"/>
          </a:xfrm>
          <a:prstGeom prst="rightArrowCallout">
            <a:avLst>
              <a:gd name="adj1" fmla="val 25002"/>
              <a:gd name="adj2" fmla="val 25000"/>
              <a:gd name="adj3" fmla="val 36630"/>
              <a:gd name="adj4" fmla="val 66667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"/>
          <p:cNvCxnSpPr>
            <a:stCxn id="379" idx="0"/>
            <a:endCxn id="380" idx="0"/>
          </p:cNvCxnSpPr>
          <p:nvPr/>
        </p:nvCxnSpPr>
        <p:spPr>
          <a:xfrm flipH="1">
            <a:off x="1034640" y="3825720"/>
            <a:ext cx="3169440" cy="720000"/>
          </a:xfrm>
          <a:prstGeom prst="curvedConnector5">
            <a:avLst>
              <a:gd name="adj1" fmla="val -7156"/>
              <a:gd name="adj2" fmla="val 24812"/>
              <a:gd name="adj3" fmla="val -7156"/>
            </a:avLst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88" name=""/>
          <p:cNvCxnSpPr>
            <a:stCxn id="383" idx="0"/>
            <a:endCxn id="384" idx="0"/>
          </p:cNvCxnSpPr>
          <p:nvPr/>
        </p:nvCxnSpPr>
        <p:spPr>
          <a:xfrm flipH="1">
            <a:off x="1034640" y="4545000"/>
            <a:ext cx="3169440" cy="721440"/>
          </a:xfrm>
          <a:prstGeom prst="curvedConnector5">
            <a:avLst>
              <a:gd name="adj1" fmla="val -7156"/>
              <a:gd name="adj2" fmla="val 24862"/>
              <a:gd name="adj3" fmla="val -7156"/>
            </a:avLst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e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755640" y="1034280"/>
            <a:ext cx="8251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Question 1.8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éter le schéma cinématique en phase retour en coloriant et en indiquant le sens de rotation des roues et des pignons dentés qui participent à la transmission du mou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0" y="1700280"/>
            <a:ext cx="153684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 : RE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55640" y="200196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2 tourne dans le sens anti-trigonométrique : de y vers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81720" y="3246480"/>
            <a:ext cx="117720" cy="272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 rot="3600000">
            <a:off x="7746120" y="2797200"/>
            <a:ext cx="236520" cy="552600"/>
          </a:xfrm>
          <a:prstGeom prst="can">
            <a:avLst>
              <a:gd name="adj" fmla="val 3007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7536240" y="3177360"/>
            <a:ext cx="15120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8102880" y="2863800"/>
            <a:ext cx="128160" cy="7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7400880" y="3249360"/>
            <a:ext cx="16668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7113600" y="2545920"/>
            <a:ext cx="0" cy="444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 rot="10801800">
            <a:off x="6995880" y="1852560"/>
            <a:ext cx="236520" cy="550800"/>
          </a:xfrm>
          <a:prstGeom prst="can">
            <a:avLst>
              <a:gd name="adj" fmla="val 3007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995880" y="1749600"/>
            <a:ext cx="236520" cy="801360"/>
            <a:chOff x="6995880" y="1749600"/>
            <a:chExt cx="236520" cy="801360"/>
          </a:xfrm>
        </p:grpSpPr>
        <p:sp>
          <p:nvSpPr>
            <p:cNvPr id="400" name=""/>
            <p:cNvSpPr/>
            <p:nvPr/>
          </p:nvSpPr>
          <p:spPr>
            <a:xfrm flipV="1">
              <a:off x="7114320" y="1749600"/>
              <a:ext cx="0" cy="17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7114320" y="2403720"/>
              <a:ext cx="0" cy="14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995880" y="180756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6995880" y="244440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Modèle_Méca_Pivot_3D_15"/>
          <p:cNvGrpSpPr/>
          <p:nvPr/>
        </p:nvGrpSpPr>
        <p:grpSpPr>
          <a:xfrm>
            <a:off x="6495840" y="1491840"/>
            <a:ext cx="235080" cy="801720"/>
            <a:chOff x="6495840" y="1491840"/>
            <a:chExt cx="235080" cy="801720"/>
          </a:xfrm>
        </p:grpSpPr>
        <p:sp>
          <p:nvSpPr>
            <p:cNvPr id="405" name=""/>
            <p:cNvSpPr/>
            <p:nvPr/>
          </p:nvSpPr>
          <p:spPr>
            <a:xfrm flipV="1" rot="10801200">
              <a:off x="6495840" y="1594440"/>
              <a:ext cx="234720" cy="552240"/>
            </a:xfrm>
            <a:prstGeom prst="can">
              <a:avLst>
                <a:gd name="adj" fmla="val 30074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6496200" y="1491840"/>
              <a:ext cx="234720" cy="801720"/>
              <a:chOff x="6496200" y="1491840"/>
              <a:chExt cx="234720" cy="801720"/>
            </a:xfrm>
          </p:grpSpPr>
          <p:sp>
            <p:nvSpPr>
              <p:cNvPr id="407" name=""/>
              <p:cNvSpPr/>
              <p:nvPr/>
            </p:nvSpPr>
            <p:spPr>
              <a:xfrm flipV="1">
                <a:off x="6613560" y="1491840"/>
                <a:ext cx="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6613560" y="2146320"/>
                <a:ext cx="0" cy="14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6496200" y="1549800"/>
                <a:ext cx="23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6496200" y="2187000"/>
                <a:ext cx="23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"/>
          <p:cNvSpPr/>
          <p:nvPr/>
        </p:nvSpPr>
        <p:spPr>
          <a:xfrm>
            <a:off x="6610320" y="223848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5171040" y="1936800"/>
            <a:ext cx="1381680" cy="79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72240" y="1940040"/>
            <a:ext cx="33012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7899480" y="1793520"/>
            <a:ext cx="0" cy="11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7236000" y="1770120"/>
            <a:ext cx="66960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Modèle_Méca_Pivot_3D_15"/>
          <p:cNvGrpSpPr/>
          <p:nvPr/>
        </p:nvGrpSpPr>
        <p:grpSpPr>
          <a:xfrm>
            <a:off x="5643000" y="4750920"/>
            <a:ext cx="236880" cy="801720"/>
            <a:chOff x="5643000" y="4750920"/>
            <a:chExt cx="236880" cy="801720"/>
          </a:xfrm>
        </p:grpSpPr>
        <p:sp>
          <p:nvSpPr>
            <p:cNvPr id="417" name=""/>
            <p:cNvSpPr/>
            <p:nvPr/>
          </p:nvSpPr>
          <p:spPr>
            <a:xfrm flipV="1" rot="10801200">
              <a:off x="5643000" y="4853520"/>
              <a:ext cx="236520" cy="552240"/>
            </a:xfrm>
            <a:prstGeom prst="can">
              <a:avLst>
                <a:gd name="adj" fmla="val 30074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5643360" y="4750920"/>
              <a:ext cx="236520" cy="801720"/>
              <a:chOff x="5643360" y="4750920"/>
              <a:chExt cx="236520" cy="801720"/>
            </a:xfrm>
          </p:grpSpPr>
          <p:sp>
            <p:nvSpPr>
              <p:cNvPr id="419" name=""/>
              <p:cNvSpPr/>
              <p:nvPr/>
            </p:nvSpPr>
            <p:spPr>
              <a:xfrm flipV="1">
                <a:off x="5761800" y="4750920"/>
                <a:ext cx="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5761800" y="5405400"/>
                <a:ext cx="0" cy="14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5643360" y="4808880"/>
                <a:ext cx="236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5643360" y="5446080"/>
                <a:ext cx="236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Modèle_Méca_Pivot_3D_15"/>
          <p:cNvGrpSpPr/>
          <p:nvPr/>
        </p:nvGrpSpPr>
        <p:grpSpPr>
          <a:xfrm>
            <a:off x="4649040" y="5162040"/>
            <a:ext cx="236880" cy="801720"/>
            <a:chOff x="4649040" y="5162040"/>
            <a:chExt cx="236880" cy="801720"/>
          </a:xfrm>
        </p:grpSpPr>
        <p:sp>
          <p:nvSpPr>
            <p:cNvPr id="424" name=""/>
            <p:cNvSpPr/>
            <p:nvPr/>
          </p:nvSpPr>
          <p:spPr>
            <a:xfrm flipV="1" rot="10801200">
              <a:off x="4649040" y="5264640"/>
              <a:ext cx="236520" cy="552240"/>
            </a:xfrm>
            <a:prstGeom prst="can">
              <a:avLst>
                <a:gd name="adj" fmla="val 30074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4649400" y="5162040"/>
              <a:ext cx="236520" cy="801720"/>
              <a:chOff x="4649400" y="5162040"/>
              <a:chExt cx="236520" cy="801720"/>
            </a:xfrm>
          </p:grpSpPr>
          <p:sp>
            <p:nvSpPr>
              <p:cNvPr id="426" name=""/>
              <p:cNvSpPr/>
              <p:nvPr/>
            </p:nvSpPr>
            <p:spPr>
              <a:xfrm flipV="1">
                <a:off x="4767840" y="5162040"/>
                <a:ext cx="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4767840" y="5816520"/>
                <a:ext cx="0" cy="14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4649400" y="5220000"/>
                <a:ext cx="236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4649400" y="5857200"/>
                <a:ext cx="236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"/>
          <p:cNvSpPr/>
          <p:nvPr/>
        </p:nvSpPr>
        <p:spPr>
          <a:xfrm flipV="1">
            <a:off x="4876920" y="5162040"/>
            <a:ext cx="782640" cy="45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165640" y="2734920"/>
            <a:ext cx="0" cy="27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07080" y="3262320"/>
            <a:ext cx="0" cy="641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6264360" y="3627360"/>
            <a:ext cx="0" cy="1736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59600" y="2567160"/>
            <a:ext cx="911160" cy="468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611760" y="2408400"/>
            <a:ext cx="0" cy="366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608880" y="279720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923160" y="2922480"/>
            <a:ext cx="382680" cy="187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110360" y="3014640"/>
            <a:ext cx="1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416640" y="3086280"/>
            <a:ext cx="384120" cy="185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597720" y="3033720"/>
            <a:ext cx="1440" cy="154080"/>
          </a:xfrm>
          <a:custGeom>
            <a:avLst/>
            <a:gdLst/>
            <a:ahLst/>
            <a:rect l="l" t="t" r="r" b="b"/>
            <a:pathLst>
              <a:path w="1" h="97">
                <a:moveTo>
                  <a:pt x="0" y="0"/>
                </a:moveTo>
                <a:lnTo>
                  <a:pt x="1" y="97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416640" y="3833640"/>
            <a:ext cx="384120" cy="185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608880" y="38336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611760" y="3925800"/>
            <a:ext cx="18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673600" y="4243320"/>
            <a:ext cx="1171800" cy="60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686560" y="4543560"/>
            <a:ext cx="59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676840" y="3235320"/>
            <a:ext cx="1171800" cy="601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683320" y="3543480"/>
            <a:ext cx="573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789600" y="4611600"/>
            <a:ext cx="384480" cy="187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981840" y="461160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978600" y="47037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392880" y="3970440"/>
            <a:ext cx="1170000" cy="601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980400" y="4270320"/>
            <a:ext cx="58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980400" y="42688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878280" y="5869080"/>
            <a:ext cx="1790640" cy="91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778280" y="6329520"/>
            <a:ext cx="890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170320" y="5464080"/>
            <a:ext cx="1171800" cy="601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761080" y="5460840"/>
            <a:ext cx="0" cy="306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757840" y="576432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29560" y="3174840"/>
            <a:ext cx="550800" cy="268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115040" y="322740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115040" y="3321000"/>
            <a:ext cx="260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84720" y="5378400"/>
            <a:ext cx="382680" cy="18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265800" y="5380200"/>
            <a:ext cx="0" cy="77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59680" y="5473800"/>
            <a:ext cx="2030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768920" y="5902200"/>
            <a:ext cx="0" cy="428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768920" y="6245280"/>
            <a:ext cx="74520" cy="745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761080" y="5684760"/>
            <a:ext cx="74520" cy="745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267600" y="5400720"/>
            <a:ext cx="72720" cy="745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6864480" y="4862160"/>
            <a:ext cx="234720" cy="801720"/>
            <a:chOff x="6864480" y="4862160"/>
            <a:chExt cx="234720" cy="801720"/>
          </a:xfrm>
        </p:grpSpPr>
        <p:sp>
          <p:nvSpPr>
            <p:cNvPr id="470" name=""/>
            <p:cNvSpPr/>
            <p:nvPr/>
          </p:nvSpPr>
          <p:spPr>
            <a:xfrm flipV="1" rot="10801800">
              <a:off x="6864480" y="4957920"/>
              <a:ext cx="234720" cy="552240"/>
            </a:xfrm>
            <a:prstGeom prst="can">
              <a:avLst>
                <a:gd name="adj" fmla="val 28564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6864480" y="4862160"/>
              <a:ext cx="234720" cy="801720"/>
              <a:chOff x="6864480" y="4862160"/>
              <a:chExt cx="234720" cy="801720"/>
            </a:xfrm>
          </p:grpSpPr>
          <p:sp>
            <p:nvSpPr>
              <p:cNvPr id="472" name=""/>
              <p:cNvSpPr/>
              <p:nvPr/>
            </p:nvSpPr>
            <p:spPr>
              <a:xfrm flipV="1">
                <a:off x="6981840" y="4862160"/>
                <a:ext cx="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6981840" y="5516640"/>
                <a:ext cx="0" cy="14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6864480" y="4920120"/>
                <a:ext cx="23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6864480" y="5557320"/>
                <a:ext cx="23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"/>
          <p:cNvSpPr/>
          <p:nvPr/>
        </p:nvSpPr>
        <p:spPr>
          <a:xfrm flipV="1" rot="10801800">
            <a:off x="6143760" y="4271040"/>
            <a:ext cx="234720" cy="554040"/>
          </a:xfrm>
          <a:prstGeom prst="can">
            <a:avLst>
              <a:gd name="adj" fmla="val 3007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40520" y="4476600"/>
            <a:ext cx="233280" cy="155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149880" y="4456080"/>
            <a:ext cx="222480" cy="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378480" y="4578480"/>
            <a:ext cx="3240" cy="177840"/>
          </a:xfrm>
          <a:custGeom>
            <a:avLst/>
            <a:gdLst/>
            <a:ahLst/>
            <a:rect l="l" t="t" r="r" b="b"/>
            <a:pathLst>
              <a:path w="2" h="112">
                <a:moveTo>
                  <a:pt x="0" y="0"/>
                </a:moveTo>
                <a:lnTo>
                  <a:pt x="2" y="11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43760" y="4591080"/>
            <a:ext cx="1440" cy="146160"/>
          </a:xfrm>
          <a:custGeom>
            <a:avLst/>
            <a:gdLst/>
            <a:ahLst/>
            <a:rect l="l" t="t" r="r" b="b"/>
            <a:pathLst>
              <a:path w="1" h="92">
                <a:moveTo>
                  <a:pt x="0" y="0"/>
                </a:moveTo>
                <a:lnTo>
                  <a:pt x="0" y="92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081840" y="4734000"/>
            <a:ext cx="365040" cy="96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988320" y="4626000"/>
            <a:ext cx="72720" cy="7452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07080" y="3848040"/>
            <a:ext cx="74880" cy="7308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6189840" y="3547440"/>
            <a:ext cx="72720" cy="745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07080" y="3111480"/>
            <a:ext cx="74880" cy="730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07080" y="2717640"/>
            <a:ext cx="74880" cy="730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115040" y="2936880"/>
            <a:ext cx="74880" cy="745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118280" y="3243240"/>
            <a:ext cx="73080" cy="745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7102440" y="4748040"/>
            <a:ext cx="833400" cy="47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923240" y="3178080"/>
            <a:ext cx="0" cy="15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6058800" y="4465800"/>
            <a:ext cx="73080" cy="7452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6981840" y="4280040"/>
            <a:ext cx="77760" cy="7920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147160" y="3841920"/>
            <a:ext cx="4953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7387920" y="3433320"/>
            <a:ext cx="91908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170920" y="2276640"/>
            <a:ext cx="493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8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7300440" y="2478240"/>
            <a:ext cx="1003320" cy="73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7240320" y="2008080"/>
            <a:ext cx="1066680" cy="93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862520" y="2065320"/>
            <a:ext cx="493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29360" y="2266920"/>
            <a:ext cx="96984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875040" y="2255760"/>
            <a:ext cx="4939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7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51240" y="2479680"/>
            <a:ext cx="218124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46680" y="4138560"/>
            <a:ext cx="493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7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4309920" y="3990960"/>
            <a:ext cx="213696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08520" y="3051000"/>
            <a:ext cx="493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237200" y="3265560"/>
            <a:ext cx="145404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86280" y="4764240"/>
            <a:ext cx="493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309920" y="4557240"/>
            <a:ext cx="13525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142120" y="5388120"/>
            <a:ext cx="4939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7421400" y="4441680"/>
            <a:ext cx="828720" cy="11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183520" y="5950080"/>
            <a:ext cx="4939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3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7130880" y="4732200"/>
            <a:ext cx="1162080" cy="142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818480" y="6370560"/>
            <a:ext cx="493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6418080" y="5546880"/>
            <a:ext cx="1555560" cy="103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673680" y="6391440"/>
            <a:ext cx="4939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6170760" y="5969160"/>
            <a:ext cx="698400" cy="63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38440" y="5589720"/>
            <a:ext cx="4953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827520" y="5805360"/>
            <a:ext cx="17784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667640" y="2900520"/>
            <a:ext cx="61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7112160" y="3106800"/>
            <a:ext cx="0" cy="210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948360" y="3481560"/>
            <a:ext cx="401760" cy="50760"/>
          </a:xfrm>
          <a:custGeom>
            <a:avLst/>
            <a:gdLst/>
            <a:ahLst/>
            <a:rect l="l" t="t" r="r" b="b"/>
            <a:pathLst>
              <a:path w="697" h="148">
                <a:moveTo>
                  <a:pt x="697" y="0"/>
                </a:moveTo>
                <a:cubicBezTo>
                  <a:pt x="595" y="53"/>
                  <a:pt x="493" y="106"/>
                  <a:pt x="412" y="127"/>
                </a:cubicBezTo>
                <a:cubicBezTo>
                  <a:pt x="331" y="148"/>
                  <a:pt x="279" y="146"/>
                  <a:pt x="210" y="127"/>
                </a:cubicBezTo>
                <a:cubicBezTo>
                  <a:pt x="141" y="108"/>
                  <a:pt x="70" y="61"/>
                  <a:pt x="0" y="15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7843680" y="4954680"/>
            <a:ext cx="285840" cy="63360"/>
            <a:chOff x="7843680" y="4954680"/>
            <a:chExt cx="285840" cy="63360"/>
          </a:xfrm>
        </p:grpSpPr>
        <p:sp>
          <p:nvSpPr>
            <p:cNvPr id="522" name=""/>
            <p:cNvSpPr/>
            <p:nvPr/>
          </p:nvSpPr>
          <p:spPr>
            <a:xfrm>
              <a:off x="7843680" y="4954680"/>
              <a:ext cx="28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7843680" y="4954680"/>
              <a:ext cx="29520" cy="63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7902720" y="4954680"/>
              <a:ext cx="29880" cy="63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7963200" y="4954680"/>
              <a:ext cx="29520" cy="63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8025480" y="4954680"/>
              <a:ext cx="29520" cy="63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8087760" y="4954680"/>
              <a:ext cx="29520" cy="63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7920000" y="4732200"/>
            <a:ext cx="0" cy="24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190000" y="1785960"/>
            <a:ext cx="493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8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8386560" y="2997360"/>
            <a:ext cx="624960" cy="539640"/>
            <a:chOff x="8386560" y="2997360"/>
            <a:chExt cx="624960" cy="539640"/>
          </a:xfrm>
        </p:grpSpPr>
        <p:sp>
          <p:nvSpPr>
            <p:cNvPr id="531" name=""/>
            <p:cNvSpPr/>
            <p:nvPr/>
          </p:nvSpPr>
          <p:spPr>
            <a:xfrm flipV="1">
              <a:off x="8435880" y="3141720"/>
              <a:ext cx="37620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8386560" y="2997360"/>
              <a:ext cx="624960" cy="539640"/>
              <a:chOff x="8386560" y="2997360"/>
              <a:chExt cx="624960" cy="539640"/>
            </a:xfrm>
          </p:grpSpPr>
          <p:sp>
            <p:nvSpPr>
              <p:cNvPr id="533" name=""/>
              <p:cNvSpPr/>
              <p:nvPr/>
            </p:nvSpPr>
            <p:spPr>
              <a:xfrm>
                <a:off x="8699400" y="3356640"/>
                <a:ext cx="312120" cy="1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8386560" y="3355560"/>
                <a:ext cx="312480" cy="179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 flipV="1">
                <a:off x="8698320" y="2997360"/>
                <a:ext cx="720" cy="35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8218440" y="3357720"/>
                <a:ext cx="168480" cy="23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8794800" y="3500280"/>
                <a:ext cx="18900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8723160" y="2997360"/>
                <a:ext cx="18288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39" name=""/>
          <p:cNvSpPr/>
          <p:nvPr/>
        </p:nvSpPr>
        <p:spPr>
          <a:xfrm>
            <a:off x="6419880" y="2924280"/>
            <a:ext cx="401760" cy="55440"/>
          </a:xfrm>
          <a:custGeom>
            <a:avLst/>
            <a:gdLst/>
            <a:ahLst/>
            <a:rect l="l" t="t" r="r" b="b"/>
            <a:pathLst>
              <a:path w="253" h="35">
                <a:moveTo>
                  <a:pt x="0" y="0"/>
                </a:moveTo>
                <a:cubicBezTo>
                  <a:pt x="14" y="5"/>
                  <a:pt x="54" y="27"/>
                  <a:pt x="83" y="31"/>
                </a:cubicBezTo>
                <a:cubicBezTo>
                  <a:pt x="112" y="35"/>
                  <a:pt x="149" y="32"/>
                  <a:pt x="177" y="27"/>
                </a:cubicBezTo>
                <a:cubicBezTo>
                  <a:pt x="205" y="22"/>
                  <a:pt x="228" y="13"/>
                  <a:pt x="253" y="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rot="9601200">
            <a:off x="5553720" y="5876640"/>
            <a:ext cx="361800" cy="114120"/>
          </a:xfrm>
          <a:custGeom>
            <a:avLst/>
            <a:gdLst/>
            <a:ahLst/>
            <a:rect l="l" t="t" r="r" b="b"/>
            <a:pathLst>
              <a:path w="228" h="72">
                <a:moveTo>
                  <a:pt x="0" y="72"/>
                </a:moveTo>
                <a:cubicBezTo>
                  <a:pt x="8" y="63"/>
                  <a:pt x="29" y="31"/>
                  <a:pt x="52" y="19"/>
                </a:cubicBezTo>
                <a:cubicBezTo>
                  <a:pt x="75" y="7"/>
                  <a:pt x="108" y="0"/>
                  <a:pt x="137" y="0"/>
                </a:cubicBezTo>
                <a:cubicBezTo>
                  <a:pt x="166" y="0"/>
                  <a:pt x="209" y="14"/>
                  <a:pt x="228" y="1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rot="11974200">
            <a:off x="5076360" y="6093000"/>
            <a:ext cx="402120" cy="55440"/>
          </a:xfrm>
          <a:custGeom>
            <a:avLst/>
            <a:gdLst/>
            <a:ahLst/>
            <a:rect l="l" t="t" r="r" b="b"/>
            <a:pathLst>
              <a:path w="253" h="35">
                <a:moveTo>
                  <a:pt x="0" y="0"/>
                </a:moveTo>
                <a:cubicBezTo>
                  <a:pt x="14" y="5"/>
                  <a:pt x="54" y="27"/>
                  <a:pt x="83" y="31"/>
                </a:cubicBezTo>
                <a:cubicBezTo>
                  <a:pt x="112" y="35"/>
                  <a:pt x="149" y="32"/>
                  <a:pt x="177" y="27"/>
                </a:cubicBezTo>
                <a:cubicBezTo>
                  <a:pt x="205" y="22"/>
                  <a:pt x="228" y="13"/>
                  <a:pt x="253" y="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2632200">
            <a:off x="6227280" y="3357720"/>
            <a:ext cx="362160" cy="114120"/>
          </a:xfrm>
          <a:custGeom>
            <a:avLst/>
            <a:gdLst/>
            <a:ahLst/>
            <a:rect l="l" t="t" r="r" b="b"/>
            <a:pathLst>
              <a:path w="228" h="72">
                <a:moveTo>
                  <a:pt x="0" y="72"/>
                </a:moveTo>
                <a:cubicBezTo>
                  <a:pt x="8" y="63"/>
                  <a:pt x="29" y="31"/>
                  <a:pt x="52" y="19"/>
                </a:cubicBezTo>
                <a:cubicBezTo>
                  <a:pt x="75" y="7"/>
                  <a:pt x="108" y="0"/>
                  <a:pt x="137" y="0"/>
                </a:cubicBezTo>
                <a:cubicBezTo>
                  <a:pt x="166" y="0"/>
                  <a:pt x="209" y="14"/>
                  <a:pt x="228" y="1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65800" y="4040280"/>
            <a:ext cx="0" cy="306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588000" y="318456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5640" y="2564640"/>
            <a:ext cx="364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Question 1.9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éaliser la chaîne de transmission de puissance entre 34 et 2 en phase reto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035000" y="3645000"/>
            <a:ext cx="792360" cy="360360"/>
          </a:xfrm>
          <a:prstGeom prst="rightArrowCallout">
            <a:avLst>
              <a:gd name="adj1" fmla="val 25002"/>
              <a:gd name="adj2" fmla="val 25000"/>
              <a:gd name="adj3" fmla="val 36647"/>
              <a:gd name="adj4" fmla="val 66667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827360" y="3645000"/>
            <a:ext cx="792000" cy="360360"/>
          </a:xfrm>
          <a:prstGeom prst="rightArrowCallout">
            <a:avLst>
              <a:gd name="adj1" fmla="val 25002"/>
              <a:gd name="adj2" fmla="val 25000"/>
              <a:gd name="adj3" fmla="val 36630"/>
              <a:gd name="adj4" fmla="val 66667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619360" y="3645000"/>
            <a:ext cx="792000" cy="360360"/>
          </a:xfrm>
          <a:prstGeom prst="rightArrowCallout">
            <a:avLst>
              <a:gd name="adj1" fmla="val 25002"/>
              <a:gd name="adj2" fmla="val 25000"/>
              <a:gd name="adj3" fmla="val 36630"/>
              <a:gd name="adj4" fmla="val 66667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411360" y="3645000"/>
            <a:ext cx="792360" cy="360360"/>
          </a:xfrm>
          <a:prstGeom prst="rightArrowCallout">
            <a:avLst>
              <a:gd name="adj1" fmla="val 25002"/>
              <a:gd name="adj2" fmla="val 25000"/>
              <a:gd name="adj3" fmla="val 36647"/>
              <a:gd name="adj4" fmla="val 66667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035000" y="4363920"/>
            <a:ext cx="792360" cy="360360"/>
          </a:xfrm>
          <a:prstGeom prst="rightArrowCallout">
            <a:avLst>
              <a:gd name="adj1" fmla="val 25002"/>
              <a:gd name="adj2" fmla="val 25000"/>
              <a:gd name="adj3" fmla="val 36647"/>
              <a:gd name="adj4" fmla="val 66667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827360" y="4363920"/>
            <a:ext cx="792000" cy="360360"/>
          </a:xfrm>
          <a:prstGeom prst="rightArrowCallout">
            <a:avLst>
              <a:gd name="adj1" fmla="val 25002"/>
              <a:gd name="adj2" fmla="val 25000"/>
              <a:gd name="adj3" fmla="val 36630"/>
              <a:gd name="adj4" fmla="val 66667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619360" y="4363920"/>
            <a:ext cx="792000" cy="360360"/>
          </a:xfrm>
          <a:prstGeom prst="rightArrowCallout">
            <a:avLst>
              <a:gd name="adj1" fmla="val 25002"/>
              <a:gd name="adj2" fmla="val 25000"/>
              <a:gd name="adj3" fmla="val 36630"/>
              <a:gd name="adj4" fmla="val 66667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411360" y="4363920"/>
            <a:ext cx="792360" cy="360360"/>
          </a:xfrm>
          <a:prstGeom prst="rightArrowCallout">
            <a:avLst>
              <a:gd name="adj1" fmla="val 25002"/>
              <a:gd name="adj2" fmla="val 25000"/>
              <a:gd name="adj3" fmla="val 36647"/>
              <a:gd name="adj4" fmla="val 66667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035000" y="5084640"/>
            <a:ext cx="792360" cy="360360"/>
          </a:xfrm>
          <a:prstGeom prst="rightArrowCallout">
            <a:avLst>
              <a:gd name="adj1" fmla="val 25002"/>
              <a:gd name="adj2" fmla="val 25000"/>
              <a:gd name="adj3" fmla="val 36647"/>
              <a:gd name="adj4" fmla="val 66667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5" name=""/>
          <p:cNvCxnSpPr>
            <a:stCxn id="549" idx="0"/>
            <a:endCxn id="550" idx="0"/>
          </p:cNvCxnSpPr>
          <p:nvPr/>
        </p:nvCxnSpPr>
        <p:spPr>
          <a:xfrm flipH="1">
            <a:off x="1034640" y="3825720"/>
            <a:ext cx="3169440" cy="720000"/>
          </a:xfrm>
          <a:prstGeom prst="curvedConnector5">
            <a:avLst>
              <a:gd name="adj1" fmla="val -7156"/>
              <a:gd name="adj2" fmla="val 24812"/>
              <a:gd name="adj3" fmla="val -715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56" name=""/>
          <p:cNvCxnSpPr>
            <a:stCxn id="553" idx="0"/>
            <a:endCxn id="554" idx="0"/>
          </p:cNvCxnSpPr>
          <p:nvPr/>
        </p:nvCxnSpPr>
        <p:spPr>
          <a:xfrm flipH="1">
            <a:off x="1034640" y="4545000"/>
            <a:ext cx="3169440" cy="721440"/>
          </a:xfrm>
          <a:prstGeom prst="curvedConnector5">
            <a:avLst>
              <a:gd name="adj1" fmla="val -7156"/>
              <a:gd name="adj2" fmla="val 24862"/>
              <a:gd name="adj3" fmla="val -715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e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826920" y="949680"/>
            <a:ext cx="831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° Partie : Vérification de la puissance du mo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T2112 : Adapter l’énergie mécanique de ro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54200" y="2012760"/>
            <a:ext cx="838980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 2.A.1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crire la relation littérale du rapport de réduction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en fonction du nombre de dents des roues et pignons dentés. Faire l’application numér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2556000" y="2808360"/>
                <a:ext cx="345600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t xml:space="preserve">u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t xml:space="preserve">u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t xml:space="preserve">u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7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0" name=""/>
          <p:cNvSpPr/>
          <p:nvPr/>
        </p:nvSpPr>
        <p:spPr>
          <a:xfrm>
            <a:off x="792000" y="4515840"/>
            <a:ext cx="824400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 2.A.2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aissant la vitesse de rotation de la tête de filière, déterminer la vitesse de rotation du moteur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Concl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2627280" y="5013360"/>
                <a:ext cx="230508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t xml:space="preserve">u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76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76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89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r>
                          <m:rPr>
                            <m:lit/>
                            <m:nor/>
                          </m:rPr>
                          <m:t xml:space="preserve">/m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2" name=""/>
          <p:cNvSpPr/>
          <p:nvPr/>
        </p:nvSpPr>
        <p:spPr>
          <a:xfrm>
            <a:off x="1547640" y="6453360"/>
            <a:ext cx="568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La vitesse de rotation correspond bien aux données fournies par le constructe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27640" y="14835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A : Phase d’usinag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68240" y="1773360"/>
            <a:ext cx="27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érification de la vitesse de r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e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2082960" cy="84456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748440" y="1081440"/>
            <a:ext cx="25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érification de la puiss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26920" y="1399680"/>
            <a:ext cx="831708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Question 2.A.3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partir des courbes du document DT8 expliquer les différentes phases de la courbe en phase d’usinage puis déterminer le couple maxi nécessaire C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nécéssair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usinag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n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755640" y="1957320"/>
          <a:ext cx="8209080" cy="4900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957320"/>
                    <a:ext cx="820908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"/>
          <p:cNvSpPr/>
          <p:nvPr/>
        </p:nvSpPr>
        <p:spPr>
          <a:xfrm rot="16200000">
            <a:off x="260280" y="4068360"/>
            <a:ext cx="3655800" cy="792000"/>
          </a:xfrm>
          <a:prstGeom prst="rect">
            <a:avLst/>
          </a:prstGeom>
          <a:gradFill rotWithShape="0">
            <a:gsLst>
              <a:gs pos="0">
                <a:srgbClr val="bbe0e3">
                  <a:alpha val="70196"/>
                </a:srgbClr>
              </a:gs>
              <a:gs pos="50000">
                <a:srgbClr val="ffffff">
                  <a:alpha val="67058"/>
                </a:srgbClr>
              </a:gs>
              <a:gs pos="100000">
                <a:srgbClr val="bbe0e3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peignes sont hors de la mat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484360" y="2637000"/>
            <a:ext cx="4248360" cy="3600360"/>
          </a:xfrm>
          <a:prstGeom prst="rect">
            <a:avLst/>
          </a:prstGeom>
          <a:gradFill rotWithShape="0">
            <a:gsLst>
              <a:gs pos="0">
                <a:srgbClr val="ff8989">
                  <a:alpha val="70196"/>
                </a:srgbClr>
              </a:gs>
              <a:gs pos="50000">
                <a:srgbClr val="ffffff">
                  <a:alpha val="67058"/>
                </a:srgbClr>
              </a:gs>
              <a:gs pos="100000">
                <a:srgbClr val="ff8989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peignes commencent à rent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s la mat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732720" y="2637000"/>
            <a:ext cx="1871640" cy="3600360"/>
          </a:xfrm>
          <a:prstGeom prst="rect">
            <a:avLst/>
          </a:prstGeom>
          <a:gradFill rotWithShape="0">
            <a:gsLst>
              <a:gs pos="0">
                <a:srgbClr val="8bd000">
                  <a:alpha val="70196"/>
                </a:srgbClr>
              </a:gs>
              <a:gs pos="50000">
                <a:srgbClr val="ffffff">
                  <a:alpha val="67058"/>
                </a:srgbClr>
              </a:gs>
              <a:gs pos="100000">
                <a:srgbClr val="8bd00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intégr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 longu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pei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 rent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s la mat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e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2082960" cy="844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748440" y="1081440"/>
            <a:ext cx="25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érification de la puiss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1399680"/>
            <a:ext cx="831708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Question 2.A.3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partir des courbes du document DT8 expliquer les différentes phases de la courbe en phase d’usinage puis déterminer le couple maxi nécessaire C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nécéssair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usinag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n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755640" y="1957320"/>
          <a:ext cx="8209080" cy="4900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957320"/>
                    <a:ext cx="820908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"/>
          <p:cNvSpPr/>
          <p:nvPr/>
        </p:nvSpPr>
        <p:spPr>
          <a:xfrm flipH="1">
            <a:off x="1116000" y="2955960"/>
            <a:ext cx="5904000" cy="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050920" y="2557440"/>
            <a:ext cx="19447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fr-FR" sz="1800" spc="-1" strike="noStrike" baseline="-25000">
                <a:solidFill>
                  <a:srgbClr val="ff0000"/>
                </a:solidFill>
                <a:latin typeface="Arial"/>
              </a:rPr>
              <a:t>nu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 =  150 N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e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748440" y="1081440"/>
            <a:ext cx="25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érification de la puiss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51680" y="1365120"/>
            <a:ext cx="495828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Question 2.A.4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 déduire la puissance nécessaire au niveau de la tête de filière P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n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771640" y="1844640"/>
                <a:ext cx="35290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vec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∗</m:t>
                        </m:r>
                        <m:r>
                          <m:t xml:space="preserve">2,6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90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6516720" y="4292640"/>
                <a:ext cx="26272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,9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9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>
            <a:off x="755640" y="328356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Question 2.A.5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l’aide de la chaîne de transmission de puissance ci-dessous, déterminer le rendement global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826920" y="4149720"/>
            <a:ext cx="5562360" cy="1712520"/>
            <a:chOff x="826920" y="4149720"/>
            <a:chExt cx="5562360" cy="1712520"/>
          </a:xfrm>
        </p:grpSpPr>
        <p:sp>
          <p:nvSpPr>
            <p:cNvPr id="586" name=""/>
            <p:cNvSpPr/>
            <p:nvPr/>
          </p:nvSpPr>
          <p:spPr>
            <a:xfrm>
              <a:off x="1163160" y="5338440"/>
              <a:ext cx="42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392120" y="4347000"/>
              <a:ext cx="493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26920" y="4200480"/>
              <a:ext cx="7110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teu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56960" y="4149720"/>
              <a:ext cx="990720" cy="46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grenage conique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19360" y="4149720"/>
              <a:ext cx="9903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grenage droit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94000" y="4162320"/>
              <a:ext cx="9907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grenage droit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259240" y="5153040"/>
              <a:ext cx="1130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ête de filiè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487160" y="5140440"/>
              <a:ext cx="990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grenage droit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744640" y="5127840"/>
              <a:ext cx="9907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grenage droit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172880" y="4937760"/>
              <a:ext cx="516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35640" y="434700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72880" y="4928400"/>
              <a:ext cx="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201760" y="4585320"/>
              <a:ext cx="5997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87320" y="5576760"/>
              <a:ext cx="5997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240160" y="4509000"/>
              <a:ext cx="5997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706560" y="4594680"/>
              <a:ext cx="5997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966760" y="5573520"/>
              <a:ext cx="5997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014720" y="5127840"/>
              <a:ext cx="990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grenage droit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73480" y="5567400"/>
              <a:ext cx="5997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2251080" y="3859920"/>
            <a:ext cx="42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dement : engrenage droit 0,95 – engrenage conique 0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19640" y="458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,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193840" y="458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635280" y="458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,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619280" y="558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,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43280" y="558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,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138560" y="558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,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84440" y="5846400"/>
            <a:ext cx="4152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Question 2.A.6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éterminer la puissance du moteur nécessaire P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mot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usinag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075280" y="5568840"/>
                <a:ext cx="237636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o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usinag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u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u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ot usinag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90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9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60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e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828720" y="10519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B : Phase ret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26920" y="1365120"/>
            <a:ext cx="831708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Question 2.B.1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crire la relation littérale du rapport de réduction r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(N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34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) en fonction du nombre de dents des roues et pignons dentés. Faire l’application numériqu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3492360" y="1916280"/>
                <a:ext cx="39592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826920" y="3933000"/>
            <a:ext cx="814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 2.B.2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aissant la vitesse de rotation de la tête de filière, déterminer la vitesse de rotation du moteur N34r. Concl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3419640" y="4437000"/>
                <a:ext cx="2625480" cy="22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18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06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r>
                          <m:rPr>
                            <m:lit/>
                            <m:nor/>
                          </m:rPr>
                          <m:t xml:space="preserve">/m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9" name=""/>
          <p:cNvSpPr/>
          <p:nvPr/>
        </p:nvSpPr>
        <p:spPr>
          <a:xfrm>
            <a:off x="5940360" y="443700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a vitesse est quasiment équivalente au données constructe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0:46:49Z</dcterms:created>
  <dc:creator>Educ nat</dc:creator>
  <dc:description/>
  <dc:language>en-US</dc:language>
  <cp:lastModifiedBy> Salle 111</cp:lastModifiedBy>
  <dcterms:modified xsi:type="dcterms:W3CDTF">2007-05-04T08:45:40Z</dcterms:modified>
  <cp:revision>102</cp:revision>
  <dc:subject/>
  <dc:title>Diapositive 1</dc:title>
</cp:coreProperties>
</file>